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8A7-4669-49D6-94A7-1F4EFF91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76D-F8FC-48D8-B5F1-06D627A8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D8C-AD3F-46B6-9153-D30A48A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B9E-8A62-496A-AA94-4F83F62E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45E3-1FFE-4545-99C2-544341B0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9139-8E73-4290-A218-7BE2D93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AB78-45F1-4E6F-A9FD-144274FB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33F8-D475-461A-BB7E-6F426411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7832-FF7B-4CE2-91C2-EE4278E7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3303-7358-44C3-9AF5-6A9EB770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5DA-F4D7-4C85-95A7-6E8B3C4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E51-66F7-419D-B640-A35F4400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17ED-D045-47EE-A118-E504B64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6304-AB47-4CC0-A826-2D33B9E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F6ED-5296-4C8B-8463-24D44568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AE07-681F-4297-9ADA-E72812ED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D1C3-900E-46F8-8256-AF7E8EC4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A6B-FCF0-4B3E-9037-E4AB6416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A36-C702-4906-951A-38993858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C7A-F7BC-43FC-92FD-2466E67E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A6A-C7B2-42A9-878D-223AFF09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5A8-2253-49B5-9D37-B1605C8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388-65E4-4C30-AECE-655BF01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EAA-13B5-4D02-B69E-C8374B1B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7BCE-5599-479D-9708-990A308D95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F52-2FAF-4A49-BB5E-1AFF5A0084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9640" y="3573360"/>
          <a:ext cx="7704360" cy="736560"/>
        </p:xfrm>
        <a:graphic>
          <a:graphicData uri="http://schemas.openxmlformats.org/drawingml/2006/table">
            <a:tbl>
              <a:tblPr/>
              <a:tblGrid>
                <a:gridCol w="1656000"/>
                <a:gridCol w="936360"/>
                <a:gridCol w="1944720"/>
                <a:gridCol w="3167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prostředníka z hlediska výrob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řístup k cílovému tr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držuje optimální stav zásob výrob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kutečňuje vlastní stimulaci, která je v souladu se stimulací výrob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uje zákazníkům služby na odpovídající úrov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 dodané výrobky platí řádně a vč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Intenzita prodej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Intenzita prodeje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= počet jednotlivých samostatných článků na prodejní cestě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Z hlediska intenzity prodeje rozlišujem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nzívní prodej – snaha prodávat výrobek v co největším počtu prodejních jednotek při zapojení co nejvíce článků do prodeje, používá se u zboží denní potřeby (potraviny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elektivní prodej – distribuce prostřednictvím maloobchodních jednotek, zboží je náročnější na prodej, vyžaduje proškolený personál (oděvy, elektronika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ýhradní prodej – distribuční článek má výhradní právo na prodej na určitém území, výrobky mají mimořádné postavení na trhu, je drahé, značkové, prodejce musí poskytnou maximum informací (drahá auta, nemovitosti, …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Velkoobchod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Firmy zabývající se velkoobchodní činností kupují výrobky za účelem jejich dalšího prodeje maloobchodním nebo jiným organizací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Funkce V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tváření úzkého výrobního sortimentu na široký obchodní sorti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klenutí časového nesouladu mezi výrobou a spotřebo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ytváření zásob k pružnému zásobování odběratelů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obchodního úvěru odběratelů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bírá riziko spojené s nákupem, dopravou a skladováním zbož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stimulaci prode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dohotovení zboží, jeho balení a úpravá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jištění dopravy M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informací o poptávkách, cenách, konkurenci,… výrobců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V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tradiční velkoobchodní podniky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– poskytuje všechny nebo většinu uvedených funk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velkoobchodní podniky s omezenými funkcem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sh-and-carry – maloobchodník platí v hotovosti a sám si zboží musí odvé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rop shipper – velkoobchod nakupuje a prodává zboží, ale neskladuje ho (hlavně uhlí, dřevo, stavební materiál, 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licový velkoobchodník – nabízí své zboží konečným spotřebitelům v pronajatých místech maloobchodních jednotek (např. noviny, knihy, kosmetika, hračky ,… prodávané v supermarketech apod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jízdný velkoobchodník – nabízí a prodává zboží maloobchodníkům podle jejich potřeby přímo u svého dodávkového auta (koření, textil, zelenina a ovoce,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 u="sng">
                <a:solidFill>
                  <a:srgbClr val="000000"/>
                </a:solidFill>
                <a:uFillTx/>
                <a:latin typeface="Verdana"/>
              </a:rPr>
              <a:t>agenti a komisionáři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– nepřebírají zboží do svého vlastnictví, vykonávají omezené množství funkcí, zprostředkovávají nákup a prodej určitého zboží, pracují za provizi, nesou minimální rizik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isionář – kontaktuje prodávající a kupující, pomáhá při jejich obchodním jednání, provizi dostává od toho, kdo ho najím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chodní zástupci – nezávislí zástupci výrobního podniku v určité oblasti, s výrobci mají uzavřenou smlouvu o místě působnosti, cenách, službách, provizi. Nevlastní zboží, pouze zprostředkovávají nákup a prod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kční společnosti – umožňují kontakt prodávajícího a kupujícího, vystavení a prohlédnutí zboží, cena se stanovuje podle nabídky a poptávky (např. umělecké předměty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kupní agent – pracuje pro určitou firmu na základě dlouhodobé smlouvy. Pro firmu nakupuje zboží, kontroluje kvalitu a organizuje přepravu ke kupující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Maloobchod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ou veškeré činnosti, které jsou spojené s prodejem zboží a poskytováním služeb konečnému spotřebitel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ování velkého množství služe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álé přizpůsobování se potřebám zákazní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ilná konku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M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pecializované prodejn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hlavně u nepotravinářského zboží, profesionální personál (oděvy, sportovní potřeby, elektronika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prodejny se zbožím denní potřeb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ákladní potravinářský a nepotravinářský sortiment, otevřeno 24 hodin denně, např. u benzínových pu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u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velké samoobslužné prodejny se sortimentem potravinářským a nepotravinářským, rozlehlá prodejní plocha, prodlužují prodejní dobu, velká konkure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hy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obrovské samoobslužné prodejny na okrajích měst, široký sortiment, nízké ceny, dostupné au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obchodní dom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nabízejí velmi široký sortiment zboží pod jednou střechou, snaží se zvýšit přitažlivost, provozují nové služby (cestovní kanceláře, půjčovny aut, realitní kanceláře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diskontní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ývají členy řetězců obchodů, velký obrat, omezené služby, výprodeje zásob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obchodní středisk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ozsáhlé obchodní komplexy, především na okrajích měst, seskupují řadu nezávislých specializovaných obchodních firem a obchodních domů, široký sortiment zboží, široká nabídka služeb (opravny, restaurace, holičství, CK, bankovní služby,…), občerstvení a odpočinek (dětské koutky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katalogové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zákazníci si vyberou ve výstavní místnosti podle katalogů nebo podle vystaveného zboží, vyplní objednávku a při zaplacení je jim zboží vydáno přímo ze skladu, omezené služ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Ve kterých MO nakupujete nejčastěji, které zboží a proč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VARCOVÁ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Ekonomie – stručný přehled,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dání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rok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012/2013 Zlín : Nakladatelství a vydavatelství Ing. Jena Švarcová, Ph. D., CEED, 2012. ISBN 987-80-87301-16-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ĚTLÍK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Marketing – cesta k trhu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Zlín: EKKA, 1994. ISBN 80-900015-8-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850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57200" y="1905120"/>
          <a:ext cx="8229600" cy="458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tická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ový mix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 a manag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ižný popis způsobu využití, případně metodické pokyny:</a:t>
                      </a: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i se seznamují se způsoby distribuce, s funkcemi a druhy VO a M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líčová slova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ce, prodejní cesty, velkoobchod, maloobch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uh učebního materiálu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zenta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cc"/>
                </a:solidFill>
                <a:latin typeface="Arial"/>
              </a:rPr>
              <a:t>Marketingový mix - distribu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Distribuce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istribuce řeší problé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u a kde se budou výrobky prodá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zajistit, aby byl výrobek nabízen na správném místě ve správném okamži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3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Prodejní cesty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83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rodejní ces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souhrn prostředníků a zprostředkovatelských článků, jejichž prostřednictvím přechází zboží od výrobce ke kupující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Prodejní ces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m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přímé – zahrnují jeden nebo více mezičlánků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Jaký typ prodejní cesty a z jakých důvodů byste navrhli 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a/ peč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b/ elektron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Funkce prodejních ce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chodní – zahrnuje nákup zboží od výrobců, prodej zboží a převzetí riz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ogistická  - zahrnuje dopravu od výrobce, skladování, přizpůsobení zboží požadavkům zákaz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půrná – zahrnuje finanční pomoc v podobě obchodního úvěru, marketingový výzkum, propagaci, poskytování služ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313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výrobce, aby s ním prostředníci (VO, MO)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výrobce z hlediska prostřední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ává včas, ve sjednaném množství, ceně, kvalitě, balení a desig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imuluje poptávku po výrobcích vhodnou reklam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nástrojů podpory prodeje ve vztahu k prostředníků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ržuje záruční lhůty, poskytuje opravy, instalaci a další služ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prostředník (VO, MO), aby s ním výrobci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53:23Z</dcterms:created>
  <dc:creator>kabek</dc:creator>
  <dc:description/>
  <dc:language>en-US</dc:language>
  <cp:lastModifiedBy>Igor</cp:lastModifiedBy>
  <dcterms:modified xsi:type="dcterms:W3CDTF">2014-09-13T15:03:29Z</dcterms:modified>
  <cp:revision>17</cp:revision>
  <dc:subject/>
  <dc:title>Marketingový mix - distribuce</dc:title>
</cp:coreProperties>
</file>