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E9FDD-4E51-49DE-9066-AB0E28917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CA2F1-5249-42B1-A0F8-E12E2424C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98006-C380-4C18-89A6-5052D1B6D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2D4E9-0CDA-401B-8EAD-87E97B4BB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A7C1F-DCF1-4C1D-B451-5EDB094A3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8ED89-3064-4E65-A1D3-02695099A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E877D-6154-4880-8ECB-D00DD1EC2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57E07-359D-4DE2-BB18-2E54CD40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444B0-F9CA-4152-A9E2-81A985124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9F8A5-D19F-4960-A64A-28D8D7754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F452A-E095-4272-9CF5-00D4DC7A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5C4AE-7177-4999-BA0D-935E8D50C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147F0-EB88-4B7C-98E7-4349BAE1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09291-FFD0-4F1D-91DB-D8580D4E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080E7-E5E7-4DE5-830A-692D14191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40DC7-B8B5-4CA4-9E53-F206960E8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7EBA1-AF47-4000-BB57-FFA6D82C4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FB206-8E53-4ECE-97E9-F6D389271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D5B4C-0548-416E-A453-A41BE1562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A31BF-A838-4E37-9CEA-B0382C2E3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64EB7-64DD-4511-A8E6-BCB09A7D5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3A795-B493-41D1-8E14-2FB082DC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9279F-2E5A-4FC5-A565-0F9C2907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ED1BF-CC23-4CBB-AB29-BF03BB0C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E6FAD-9D68-40ED-B1A4-C56F7C355DD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A97C3-EAC1-4387-9B98-25E1A2B8DAF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aramond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aramond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aramond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7. 3. 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53964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ŠVARCOVÁ, J. </a:t>
            </a:r>
            <a:r>
              <a:rPr b="0" i="1" lang="cs-CZ" sz="3200" spc="-1" strike="noStrike">
                <a:solidFill>
                  <a:srgbClr val="000000"/>
                </a:solidFill>
                <a:latin typeface="Garamond"/>
              </a:rPr>
              <a:t>Ekonomie – stručný přehled, </a:t>
            </a: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vydání</a:t>
            </a:r>
            <a:r>
              <a:rPr b="0" i="1" lang="cs-CZ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pro rok</a:t>
            </a:r>
            <a:r>
              <a:rPr b="0" i="1" lang="cs-CZ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2012/2013 Zlín : Nakladatelství a vydavatelství Ing. Jena Švarcová, Ph. D., CEED, 2012. ISBN 987-80-87301-16-6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SVĚTLÍK, J. </a:t>
            </a:r>
            <a:r>
              <a:rPr b="0" i="1" lang="cs-CZ" sz="3200" spc="-1" strike="noStrike">
                <a:solidFill>
                  <a:srgbClr val="000000"/>
                </a:solidFill>
                <a:latin typeface="Garamond"/>
              </a:rPr>
              <a:t>Marketing – cesta k trhu</a:t>
            </a: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, Zlín: EKKA, 1994. ISBN 80-900015-8-0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468360" y="1413000"/>
          <a:ext cx="7991280" cy="41274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odnikání a podnikové čin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arketingový mi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arketing a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osobním prodej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roky v osobním prodeji, personální řízení osobního prode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7280" y="2349000"/>
            <a:ext cx="7239240" cy="195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 u="sng">
                <a:solidFill>
                  <a:srgbClr val="000000"/>
                </a:solidFill>
                <a:uFillTx/>
                <a:latin typeface="Garamond"/>
              </a:rPr>
              <a:t>Osobní prodej</a:t>
            </a:r>
            <a:br>
              <a:rPr sz="6600"/>
            </a:br>
            <a:endParaRPr b="1" lang="en-US" sz="6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75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aramond"/>
              </a:rPr>
              <a:t>jde o osobní formu komunikace s jedním nebo více zákazníky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marL="3326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spcBef>
                <a:spcPts val="675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aramond"/>
              </a:rPr>
              <a:t>cíl: dosažení prodeje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00ff"/>
                </a:solidFill>
                <a:latin typeface="Garamond"/>
              </a:rPr>
              <a:t>Jaké funkce  mají osobní prodejci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26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 u="sng">
                <a:solidFill>
                  <a:srgbClr val="000000"/>
                </a:solidFill>
                <a:uFillTx/>
                <a:latin typeface="Garamond"/>
              </a:rPr>
              <a:t>Pracovníci, kteří provádějí osobní prodej, mají tyto funkce: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aramond"/>
              </a:rPr>
              <a:t>ovlivňují kupujícího v procesu rozhodování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aramond"/>
              </a:rPr>
              <a:t>zprostředkovávají informac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aramond"/>
              </a:rPr>
              <a:t>poskytují servis, zajišťují dodání zboží, …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539640" y="1196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6600ff"/>
                </a:solidFill>
                <a:latin typeface="Garamond"/>
              </a:rPr>
              <a:t>Jaké vlastnosti by měl mít pracovník v osobním prodeji?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75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 u="sng">
                <a:solidFill>
                  <a:srgbClr val="000000"/>
                </a:solidFill>
                <a:uFillTx/>
                <a:latin typeface="Garamond"/>
              </a:rPr>
              <a:t>Požadavky na pracovníky v osobním prodeji: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aramond"/>
              </a:rPr>
              <a:t>schopnost vcítění se do myšlení zákazníků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aramond"/>
              </a:rPr>
              <a:t>nadšení a důvěra ve výrobek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aramond"/>
              </a:rPr>
              <a:t>pružnost, schopnost adaptovat se na požadavky zákazníků, komunikační schopnosti, dobrá organizace času,…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Garamond"/>
              </a:rPr>
              <a:t>Kroky v osobním prodeji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26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900" spc="-1" strike="noStrike">
                <a:solidFill>
                  <a:srgbClr val="000000"/>
                </a:solidFill>
                <a:latin typeface="Garamond"/>
              </a:rPr>
              <a:t>průzkum</a:t>
            </a:r>
            <a:r>
              <a:rPr b="0" lang="cs-CZ" sz="2900" spc="-1" strike="noStrike">
                <a:solidFill>
                  <a:srgbClr val="000000"/>
                </a:solidFill>
                <a:latin typeface="Garamond"/>
              </a:rPr>
              <a:t> – prodejce hledá vhodné potenciální zákazníky, na které se pak zaměří. Zdroje informací: dopisy, telefonáty, informace od prodejců, databáze zákazníků,…</a:t>
            </a: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26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900" spc="-1" strike="noStrike">
                <a:solidFill>
                  <a:srgbClr val="000000"/>
                </a:solidFill>
                <a:latin typeface="Garamond"/>
              </a:rPr>
              <a:t>kontakt</a:t>
            </a:r>
            <a:r>
              <a:rPr b="0" lang="cs-CZ" sz="2900" spc="-1" strike="noStrike">
                <a:solidFill>
                  <a:srgbClr val="000000"/>
                </a:solidFill>
                <a:latin typeface="Garamond"/>
              </a:rPr>
              <a:t> – na základě průzkumu se prodejce musí rozhodnout, jak zákazníky kontaktovat. Nejčastější postup – úvodní dopis, telefonát, osobní schůzka</a:t>
            </a: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26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900" spc="-1" strike="noStrike">
                <a:solidFill>
                  <a:srgbClr val="000000"/>
                </a:solidFill>
                <a:latin typeface="Garamond"/>
              </a:rPr>
              <a:t>prezentace </a:t>
            </a:r>
            <a:r>
              <a:rPr b="0" lang="cs-CZ" sz="2900" spc="-1" strike="noStrike">
                <a:solidFill>
                  <a:srgbClr val="000000"/>
                </a:solidFill>
                <a:latin typeface="Garamond"/>
              </a:rPr>
              <a:t>– prodejce sděluje zákazníkovi potřebné informace o výrobku včetně jeho předvedení. Zdůrazňuje při tom vlastnosti výrobku, které jsou pro zákazníka nejdůležitější</a:t>
            </a: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26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900" spc="-1" strike="noStrike">
                <a:solidFill>
                  <a:srgbClr val="000000"/>
                </a:solidFill>
                <a:latin typeface="Garamond"/>
              </a:rPr>
              <a:t>řešení připomínek</a:t>
            </a:r>
            <a:r>
              <a:rPr b="0" lang="cs-CZ" sz="2900" spc="-1" strike="noStrike">
                <a:solidFill>
                  <a:srgbClr val="000000"/>
                </a:solidFill>
                <a:latin typeface="Garamond"/>
              </a:rPr>
              <a:t> – odpovědi na otázky zákazníka</a:t>
            </a: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lvl="1" marL="6832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26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900" spc="-1" strike="noStrike">
                <a:solidFill>
                  <a:srgbClr val="000000"/>
                </a:solidFill>
                <a:latin typeface="Garamond"/>
              </a:rPr>
              <a:t>závěr</a:t>
            </a:r>
            <a:r>
              <a:rPr b="0" lang="cs-CZ" sz="2900" spc="-1" strike="noStrike">
                <a:solidFill>
                  <a:srgbClr val="000000"/>
                </a:solidFill>
                <a:latin typeface="Garamond"/>
              </a:rPr>
              <a:t> – dohoda o všech náležitostech kupní smlouvy</a:t>
            </a: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26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900" spc="-1" strike="noStrike">
                <a:solidFill>
                  <a:srgbClr val="000000"/>
                </a:solidFill>
                <a:latin typeface="Garamond"/>
              </a:rPr>
              <a:t>další kontakt</a:t>
            </a:r>
            <a:r>
              <a:rPr b="0" lang="cs-CZ" sz="2900" spc="-1" strike="noStrike">
                <a:solidFill>
                  <a:srgbClr val="000000"/>
                </a:solidFill>
                <a:latin typeface="Garamond"/>
              </a:rPr>
              <a:t> – nezbytný pro plné uspokojení zákazníka, jde o poskytování služeb spojených s užíváním. Tím roste spokojenost zákazníka a roste image firmy</a:t>
            </a: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6600ff"/>
                </a:solidFill>
                <a:latin typeface="Garamond"/>
              </a:rPr>
              <a:t>Máte nějaké zkušenosti s osobním prodejem? </a:t>
            </a: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6600ff"/>
                </a:solidFill>
                <a:latin typeface="Garamond"/>
              </a:rPr>
              <a:t>U jakých výrobků se s tímto způsobem prodeje můžeme setkat?</a:t>
            </a: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lvl="1" marL="6832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Garamond"/>
              </a:rPr>
              <a:t>Personální řízení osobního prodeje 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300" spc="-1" strike="noStrike">
                <a:solidFill>
                  <a:srgbClr val="000000"/>
                </a:solidFill>
                <a:latin typeface="Garamond"/>
              </a:rPr>
              <a:t>Výběr osob</a:t>
            </a:r>
            <a:r>
              <a:rPr b="0" lang="cs-CZ" sz="2300" spc="-1" strike="noStrike">
                <a:solidFill>
                  <a:srgbClr val="000000"/>
                </a:solidFill>
                <a:latin typeface="Garamond"/>
              </a:rPr>
              <a:t> – z odpovědí na inzeráty, z Úřadu práce, studenti končící školu,…</a:t>
            </a:r>
            <a:endParaRPr b="0" lang="en-US" sz="23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kritéria pro výběr: dotazník a životopis, ústní pohovor, písemné testy. Kritéria vychází z požadavků na osobního prodejce (komunikativnost, schopnost organizovat čas, řešit problémy, kreativita,…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300" spc="-1" strike="noStrike">
                <a:solidFill>
                  <a:srgbClr val="000000"/>
                </a:solidFill>
                <a:latin typeface="Garamond"/>
              </a:rPr>
              <a:t>Příprava</a:t>
            </a:r>
            <a:r>
              <a:rPr b="0" lang="cs-CZ" sz="2300" spc="-1" strike="noStrike">
                <a:solidFill>
                  <a:srgbClr val="000000"/>
                </a:solidFill>
                <a:latin typeface="Garamond"/>
              </a:rPr>
              <a:t> – má splnit tyto úkoly:</a:t>
            </a:r>
            <a:endParaRPr b="0" lang="en-US" sz="23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dobrá znalost firmy a její histori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dobrá znalost výrobků firmy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dobrá znalost konkurenčních výrobků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dobrá znalost trhu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Garamond"/>
              </a:rPr>
              <a:t>V přípravě by se měl prodejce naučit zvládnout celý proces osobního prodeje.</a:t>
            </a:r>
            <a:endParaRPr b="0" lang="en-US" sz="23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Garamond"/>
              </a:rPr>
              <a:t>Motivace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Morální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Finanční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Výhody – služební auto, mobil,…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Soutěže mezi prodejci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00ff"/>
                </a:solidFill>
                <a:latin typeface="Garamond"/>
              </a:rPr>
              <a:t>Pokud byste byli osobní prodejci, jaké motivační faktory by pro Vás byly nejsilnější?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Garamond"/>
              </a:rPr>
              <a:t>Vyhodnocení</a:t>
            </a: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 – základem jsou prodejní kvóty – ty se stanovují na základě konkrétních podmínek, ve kterých prodejce působí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Další podklady – zprávy ze služebních cest, informace od zákazníků,…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Prodejci by měli znát kritéria, podle kterých budou hodnoceni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07:04:56Z</dcterms:created>
  <dc:creator>Guest</dc:creator>
  <dc:description/>
  <dc:language>en-US</dc:language>
  <cp:lastModifiedBy>Igor</cp:lastModifiedBy>
  <dcterms:modified xsi:type="dcterms:W3CDTF">2014-09-13T15:05:50Z</dcterms:modified>
  <cp:revision>13</cp:revision>
  <dc:subject/>
  <dc:title>Osobní prodej</dc:title>
</cp:coreProperties>
</file>