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982E-10BB-4604-A970-6805B9C01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B63B-B797-4605-96CD-18116D32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3898-337A-4750-AAB4-85376BDB5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59B9-DD6E-4613-841F-0C910259A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C3EC-E174-42F0-9516-762136E2E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5C6F-191A-4017-A725-0033F068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DFEB-B889-485F-99F9-16AA5DCE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82BA-BCD3-4D48-99B1-6254FE5C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CCC6-98BF-47B2-B62E-2C27AAD4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F1F8-64AD-44D0-BD55-4196B5FC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7CE1-E413-45D0-94CA-46E36B3F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4CAC-B7FA-4E74-9761-A1385C57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CF6F-BA73-49BE-A3B4-6AF55559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8611-5A25-4ADF-8915-4CDB6E1E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8B75-9527-4D10-BEC2-308944B8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08FE-250E-4B21-B842-59D9844C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0966-148F-43D0-9E94-31C68C8F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F30A-7667-4C9B-BBA1-AE30F7FA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814D-2D32-4D32-BECE-5B7C33DB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E2BA-6D6B-488E-B62A-93DEBDDF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15EC-D850-463F-A5E4-6A98E4EB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9760-EF58-44ED-BF57-907BB737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A813-912F-44EF-ABA9-7B2D7DF0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4D37-4653-4BA3-8FC9-E5F2B697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F5B4-67B3-441E-AF10-8A6CDBB08978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4F62-3340-4E65-A5E1-3015F083B50D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2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 2.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eklamní plán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64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novení cílů reklam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íle s informativní funk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íle s přesvědčovací funk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íle s připomínací funk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vorbu rozpoč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stavení rozpočtu zdola – pomocí kalku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stavení rozpočtu shora – určení celkové částky na reklamu, tato částka se pak rozpočítá na jednotlivé projek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vorbu reklamního sděl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vlastnosti sdělení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účeln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ůvěryhodn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istink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tvorbě reklamního sdělení je třeba správně zvolit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lov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slogany by měly být snadno zapamatovatelné),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formá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y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vý harmonogram – kdy bude reklama zveřejňová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běr méd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99"/>
                </a:solidFill>
                <a:latin typeface="Arial"/>
              </a:rPr>
              <a:t>Jaká znáte reklamní méd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99"/>
                </a:solidFill>
                <a:latin typeface="Arial"/>
              </a:rPr>
              <a:t>Která z nich na vás působí nejvíce a proč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klamní mé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Telev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dno z nejmladších, nejsledovanější a vysoce účinné mé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nutné věnovat pozornost typu programu, jeho sledovanosti a struktuře divá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na je závislá na času vysílání a sledovanosti progr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99"/>
                </a:solidFill>
                <a:latin typeface="Arial"/>
              </a:rPr>
              <a:t>Zhodnoťte výhody a nevýhody telev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+ televize je vizuální médium – vhodné pro demonstraci výrob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+působí na zrak i sl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+široké pokrytí tr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velká část diváků při reklamě přepíná na jiný program nebo odchází od telev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informační zmat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vysoké ná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Rozh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ždá stanice má svůj okruh posluchačů – proto je důležitá správná volba stanice a doby vysíl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Jaké vidíte výhody a nevýhody rozhlasu jako reklamního méd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relativně nižší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pruž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velká sledova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možnost demografického i geografického zam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ůsobí jen na sl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Exteriérová mé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iremní štíty, billboardy, poutače, reklamy na dopravních prostředcích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duchý, snadno zapamatovatelný text doplněný atraktivní fotografií, obrázk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Jaké jsou výhody a nevýhody jednotlivých exteriérových médi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pohotový nástroj rekla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nízk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vysoká pruž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oskytují málo inform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je obtížné provést segmentaci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někteří lidé je zcela odmítají (např. kvůli ekologii, bezpečnosti na silnicích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T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ov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černobílém provedení, na levnějším novinovém papíře, jsou většinou vydávány den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na reklamy je závislá na popularitě novin, počtu výtisků, na velikosti a umístění reklamy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široký do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pruž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neobvyklé velikosti reklamy, barevné proved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lidé čtou noviny rychle a pak je vyhazu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nepřehlednost reklam v případě, že jich je na stránce mno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rší kvalita fotografií a tis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91520" cy="63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asopi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ou určeny pro volný čas, lidé je čtou pomale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ou mít všeobecné nebo úzce specializované zam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lepší tisk i kvalita papíru, barevné proved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mohou být využívány pro distribuci nástrojů podpory prodeje (např. vzor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dobrý image časopisu může působit na image výrob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mezená pruž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šší náklady vzhledem k novin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Vymyslete příklad reklamy, kterou byste otiskli v novinách a příklad reklamy, kterou by bylo vhodné otisknout v časop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Publicit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íl: vytvoření příznivých představ o firmě na veřej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hody: - důvěryhodnost, nižší náklady, delší sděl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ástroje public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prá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isk,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iskový mluvč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iskové materiá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ční zprá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nzor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stroje publicity vytváří tzv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korporativní identitu podnik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je vytvářena např. firemním logem, nápisy, vizitkami zaměstnanců, firemními uniformami,… Při jejich zhlédnutí jsou vyvolány asociace spojené s firmou. Jde o snahu podniku se jednotně prezentovat na veřejn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Přímý marketing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 komunikace se zákazníky zaměřená na prodej zboží a založený na reklam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ástroje přímého marketing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rodej pošto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uskutečňuje se na základě zaslané nabídky, obsahuje všechny údaje k uskutečnění prodeje, výhodou je přesné zacílení. Forma – obálka s jednoduchým nabídkovým listem, brožurou, katalogem, videokazetou, disketou a s objednávk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elevize a rozhlas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vysílání  reklamy s uvedením podmínek pro nákup zboží (nejčastěji potřeby pro domácnost, CD,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elemarketing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jde o využívání telefonu. Výhodou je osobní kontakt, možnost zodpovědět otázky, přesvědčování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99"/>
                </a:solidFill>
                <a:latin typeface="Arial"/>
              </a:rPr>
              <a:t>Nakupovali jste už někdy prostřednictvím přímého marketing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99"/>
                </a:solidFill>
                <a:latin typeface="Arial"/>
              </a:rPr>
              <a:t>Jaký výrobek to by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VARCOVÁ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Ekonomie – stručný přehled,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dání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rok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ĚTLÍK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Marketing – cesta k tr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Zlín: EKKA, 1994. ISBN 80-900015-8-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741320" y="277920"/>
            <a:ext cx="5661360" cy="113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468360" y="1413000"/>
          <a:ext cx="8229600" cy="5319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nikání a podnikové činnosti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ový m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 a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 k seznámení studentů s marketingovou komunikací a nástroji propagace, s reklamou a reklamními médii, publicitou a přímým marketing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munikace, komunikační model, reklama, publicita, přímý market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206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pag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9640" y="213336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99"/>
                </a:solidFill>
                <a:latin typeface="Arial"/>
              </a:rPr>
              <a:t>Co je to komunik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99"/>
                </a:solidFill>
                <a:latin typeface="Arial"/>
              </a:rPr>
              <a:t>V čem je podle vás podstata marketingové komunik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Komunikace podnik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informování konečných spotřebitelů, odběratelů, veřejnosti,… o existenci podniku a o jeho výrobc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odstata marketingové komunik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přenos sdělení mezi zdrojem a příjemcem. Charakter sdělení závisí 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i sdě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íli sdě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ormě komun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Základní model komunikačního proce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31"/>
          <p:cNvGrpSpPr/>
          <p:nvPr/>
        </p:nvGrpSpPr>
        <p:grpSpPr>
          <a:xfrm>
            <a:off x="360360" y="333360"/>
            <a:ext cx="8388360" cy="6524640"/>
            <a:chOff x="360360" y="333360"/>
            <a:chExt cx="8388360" cy="6524640"/>
          </a:xfrm>
        </p:grpSpPr>
        <p:sp>
          <p:nvSpPr>
            <p:cNvPr id="110" name="AutoShape 32"/>
            <p:cNvSpPr/>
            <p:nvPr/>
          </p:nvSpPr>
          <p:spPr>
            <a:xfrm>
              <a:off x="360360" y="333360"/>
              <a:ext cx="8388360" cy="652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33"/>
            <p:cNvSpPr/>
            <p:nvPr/>
          </p:nvSpPr>
          <p:spPr>
            <a:xfrm>
              <a:off x="528120" y="3377880"/>
              <a:ext cx="1342080" cy="652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Zdro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34"/>
            <p:cNvSpPr/>
            <p:nvPr/>
          </p:nvSpPr>
          <p:spPr>
            <a:xfrm>
              <a:off x="7238880" y="3369240"/>
              <a:ext cx="1509840" cy="6415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Příjem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5"/>
            <p:cNvSpPr/>
            <p:nvPr/>
          </p:nvSpPr>
          <p:spPr>
            <a:xfrm>
              <a:off x="863640" y="1855440"/>
              <a:ext cx="1342080" cy="652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Sdělen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36"/>
            <p:cNvSpPr/>
            <p:nvPr/>
          </p:nvSpPr>
          <p:spPr>
            <a:xfrm>
              <a:off x="2541240" y="1855440"/>
              <a:ext cx="1845360" cy="652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Zakódován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37"/>
            <p:cNvSpPr/>
            <p:nvPr/>
          </p:nvSpPr>
          <p:spPr>
            <a:xfrm>
              <a:off x="4722120" y="1855440"/>
              <a:ext cx="1342080" cy="652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Přen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38"/>
            <p:cNvSpPr/>
            <p:nvPr/>
          </p:nvSpPr>
          <p:spPr>
            <a:xfrm>
              <a:off x="6399720" y="1855440"/>
              <a:ext cx="1845360" cy="652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Dekódován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39"/>
            <p:cNvSpPr/>
            <p:nvPr/>
          </p:nvSpPr>
          <p:spPr>
            <a:xfrm>
              <a:off x="3883320" y="3377880"/>
              <a:ext cx="1342080" cy="86976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Šum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40"/>
            <p:cNvSpPr/>
            <p:nvPr/>
          </p:nvSpPr>
          <p:spPr>
            <a:xfrm>
              <a:off x="3547800" y="5326560"/>
              <a:ext cx="2180880" cy="859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Zpětná vazb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41"/>
            <p:cNvSpPr/>
            <p:nvPr/>
          </p:nvSpPr>
          <p:spPr>
            <a:xfrm flipV="1">
              <a:off x="1199160" y="2508120"/>
              <a:ext cx="335520" cy="86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42"/>
            <p:cNvSpPr/>
            <p:nvPr/>
          </p:nvSpPr>
          <p:spPr>
            <a:xfrm>
              <a:off x="2205720" y="22906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43"/>
            <p:cNvSpPr/>
            <p:nvPr/>
          </p:nvSpPr>
          <p:spPr>
            <a:xfrm>
              <a:off x="2205720" y="2073240"/>
              <a:ext cx="335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44"/>
            <p:cNvSpPr/>
            <p:nvPr/>
          </p:nvSpPr>
          <p:spPr>
            <a:xfrm>
              <a:off x="4386600" y="2073240"/>
              <a:ext cx="33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45"/>
            <p:cNvSpPr/>
            <p:nvPr/>
          </p:nvSpPr>
          <p:spPr>
            <a:xfrm>
              <a:off x="6064200" y="2073240"/>
              <a:ext cx="33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46"/>
            <p:cNvSpPr/>
            <p:nvPr/>
          </p:nvSpPr>
          <p:spPr>
            <a:xfrm>
              <a:off x="7238880" y="2508120"/>
              <a:ext cx="671040" cy="86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47"/>
            <p:cNvSpPr/>
            <p:nvPr/>
          </p:nvSpPr>
          <p:spPr>
            <a:xfrm flipH="1">
              <a:off x="5728680" y="4030560"/>
              <a:ext cx="2180880" cy="173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48"/>
            <p:cNvSpPr/>
            <p:nvPr/>
          </p:nvSpPr>
          <p:spPr>
            <a:xfrm flipH="1" flipV="1">
              <a:off x="1199160" y="4030200"/>
              <a:ext cx="2348640" cy="173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49"/>
            <p:cNvSpPr/>
            <p:nvPr/>
          </p:nvSpPr>
          <p:spPr>
            <a:xfrm flipH="1">
              <a:off x="1870200" y="3813120"/>
              <a:ext cx="201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50"/>
            <p:cNvSpPr/>
            <p:nvPr/>
          </p:nvSpPr>
          <p:spPr>
            <a:xfrm flipH="1" flipV="1">
              <a:off x="1870200" y="2508120"/>
              <a:ext cx="2180880" cy="86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51"/>
            <p:cNvSpPr/>
            <p:nvPr/>
          </p:nvSpPr>
          <p:spPr>
            <a:xfrm flipV="1">
              <a:off x="4218840" y="2508120"/>
              <a:ext cx="0" cy="86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52"/>
            <p:cNvSpPr/>
            <p:nvPr/>
          </p:nvSpPr>
          <p:spPr>
            <a:xfrm flipV="1">
              <a:off x="4889880" y="2508120"/>
              <a:ext cx="0" cy="86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53"/>
            <p:cNvSpPr/>
            <p:nvPr/>
          </p:nvSpPr>
          <p:spPr>
            <a:xfrm flipV="1">
              <a:off x="5057640" y="2508120"/>
              <a:ext cx="1509840" cy="86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54"/>
            <p:cNvSpPr/>
            <p:nvPr/>
          </p:nvSpPr>
          <p:spPr>
            <a:xfrm>
              <a:off x="5225400" y="3813120"/>
              <a:ext cx="201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55"/>
            <p:cNvSpPr/>
            <p:nvPr/>
          </p:nvSpPr>
          <p:spPr>
            <a:xfrm>
              <a:off x="5057640" y="4248000"/>
              <a:ext cx="0" cy="10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56"/>
            <p:cNvSpPr/>
            <p:nvPr/>
          </p:nvSpPr>
          <p:spPr>
            <a:xfrm>
              <a:off x="4554360" y="4248000"/>
              <a:ext cx="0" cy="10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57"/>
            <p:cNvSpPr/>
            <p:nvPr/>
          </p:nvSpPr>
          <p:spPr>
            <a:xfrm>
              <a:off x="4051080" y="4248000"/>
              <a:ext cx="0" cy="10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Účinnost sděl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Účinné sděl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má vyjadřovat cíle podniku a informace, která je sdělována, by měla mít na příjemce očekávaný efe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99"/>
                </a:solidFill>
                <a:latin typeface="Arial"/>
              </a:rPr>
              <a:t>Jakými způsoby lze zvýšit účinnost sdělení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99"/>
                </a:solidFill>
                <a:latin typeface="Arial"/>
              </a:rPr>
              <a:t>Jakými argumenty můžeme působit na příjem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Na příjemce lze působ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Arial"/>
              </a:rPr>
              <a:t>racionálními motiv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Arial"/>
              </a:rPr>
              <a:t>emocionálními motiv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Arial"/>
              </a:rPr>
              <a:t>morálními motiv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Arial"/>
              </a:rPr>
              <a:t>Nástroje propagac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Reklam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placená forma neosobní, masové komun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íl: informování spotřebitelů a ovlivnění jejich ch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irma, která se rozhodne pro reklamu, by měla zpracovat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reklamní plá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0:04:14Z</dcterms:created>
  <dc:creator>kabek</dc:creator>
  <dc:description/>
  <dc:language>en-US</dc:language>
  <cp:lastModifiedBy>Igor</cp:lastModifiedBy>
  <dcterms:modified xsi:type="dcterms:W3CDTF">2014-09-13T15:03:52Z</dcterms:modified>
  <cp:revision>28</cp:revision>
  <dc:subject/>
  <dc:title>Propagace</dc:title>
</cp:coreProperties>
</file>