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9CF-5209-42BE-85F2-BC98C0A4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859-210E-4E5F-BC49-E38B0BD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A95-9A6C-4B57-9FFD-99892926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B51-6080-492D-AF3B-EA4E1D95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4EEB-E880-4168-BBEC-1B8E3CD9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EC19-11D4-4956-9630-5EC5D31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687E-CF47-4958-9231-BB604DD9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0CD6-0838-4C1B-B198-50AA76A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1B39-B642-488C-8CE5-A49350A7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1E56-C1CE-4DB7-AFD0-5733BEB7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3677-8F8F-49D9-8A59-0840FE88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130-81BD-4D59-9C52-8D44C303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2EFE-F12D-4706-B486-2B1E8EB9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A4C7-8B58-4171-9FBD-26720A7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7836-73C6-4C54-A073-B1CD88C2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1603-068A-477A-A851-F1563A33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9B34-DC7D-4B81-90CF-5D9E4A6D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AA6-1848-4A98-9654-6216E127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624-F43F-4E4B-9970-0A0328CA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013-D77D-46B5-96FF-ED70C85B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723-AC95-4688-9C4F-463F0B3F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C0F-494D-48CD-87CF-9501C10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915-5DC6-4342-8ED1-B55C895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C21-27A3-44B2-9413-E617591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0F7-B5A2-4805-AF3B-3C40B0FB0AC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9F27-AB2A-4005-B227-88DEF4FD8A9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 3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8360" y="1413000"/>
          <a:ext cx="7991280" cy="54086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seznámení studentů s podporou prodeje a jejími nástro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orky, cenové stimuly, prémie, kupony, vystavení zboží, soutěže a loterie, dárky, věrnostní prémie, společná rekl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ccccff"/>
                </a:solidFill>
                <a:uFillTx/>
                <a:latin typeface="Arial"/>
              </a:rPr>
              <a:t>Podpora prodeje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íl: stimulovat prodej výrobků a služeb prostřednictvím dodatečných podnětů, je zaměřená 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ečné spotřebi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ční čl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Jaké znáte nástroje podpory prodeje u konečných spotřebite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spotřebitelům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zor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ákazník dostává zdarma, a to prostřednictvím pošty, v časopisech, v obchodech, jako součást jiného výrobk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Cenové stimul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cenově výhodná balení, akce 2+1 zda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vyšují atraktivnost výrobku, např. vkládání drobných hraček do obalu, kupony na obalu, drobný dárek při náku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upon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oukázky, které umožňují zákazníkům získat při nákupu určitého zboží výhodu – slevu, dárek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stavení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 pokladen, na konci regálů, upoutání pozornosti zákazníků plakátem, neobvyklým dekorativním předmětem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outěže a loter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těže – zákazníci odpovídají na určitou otázku a při úspěšné odpovědi mohou vyhrát cenu, loterie – slosování s možností vý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ár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reklamní dárky jsou předměty se jménem firmy, které zákazník dostává zdarma (propisky, tašky, trička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ěrnostní 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forma peněžité nebo nepeněžité odměny, kterou získává stálý zákaz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S jakými nástroji podpory prodeje jste se setkali a u jakých výrobků to by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v distribuční síti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polečná reklam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 základě vzájemné dohody poskytne výrobce prostředky a informace k reklamě a právo prodeje jeho výrobků v MO. Maloobchodník odebere výrobky a jejich prodej podporuje. Výrobce maloobchodníkovi část nákladů na reklamu uhradí nebo poskytne funkční slev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bchodní sle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obchodníkům, kteří nakoupí větší množství, zboží vystaví na výhodném místě, ap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eletrhy a výsta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možňují výrobky předvést, poskytnout informace, zodpovědět otázky, porovnávat s konkurencí, získat informace o konkurenci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6:52Z</dcterms:created>
  <dc:creator>Guest</dc:creator>
  <dc:description/>
  <dc:language>en-US</dc:language>
  <cp:lastModifiedBy>Igor</cp:lastModifiedBy>
  <dcterms:modified xsi:type="dcterms:W3CDTF">2014-09-13T15:08:17Z</dcterms:modified>
  <cp:revision>15</cp:revision>
  <dc:subject/>
  <dc:title>Podpora prodeje</dc:title>
</cp:coreProperties>
</file>