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57A-F954-41A4-B2FA-BBE0E94C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15B-47A2-4241-881F-B31A6A74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6D1-C17D-4ACC-A425-DE626BED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7FF-5C93-48BC-8C98-FEFCD61C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EF91-DB5B-4448-8510-9D13E096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3449-07FC-4B76-ACF4-87CD555E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4D8C-277F-4C1C-BE7C-159C43E2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CD78-6962-4527-B9AA-F5D0DF28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507D-8901-4578-AE80-DCC4A6D3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279E-82DE-4B5F-B0A4-C2B48C97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BF06-EE4C-4781-896B-8967CC72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74A-D6B6-4177-9991-8E61E71E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F138-2A02-4241-8A77-B39C7B30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70F2-C907-4EE0-8928-BF677937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4EF9-20B9-46FC-ADC1-486AB909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CA7A-DCFD-41D5-89B5-FD995EFB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4A73-F554-4570-9A48-999F53DE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70B-BE74-4C47-A56C-AA607B26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B97-7E30-4E28-A3FA-7A58288B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369-0FF9-4245-96F7-E95D8115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4F9-3806-4988-B616-F87195F4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850-1C7B-4A56-A963-DC12D8C0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4D0-9256-41E1-BE5E-5479AD7C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879-8243-4AC0-9350-12A18E77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636B-96BA-48E5-9CDC-89E8BE922416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3268-CF34-4FD0-9F67-6C796635130E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062000"/>
                <a:gridCol w="180036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 1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Zařaďte do správné položky typového kalkulačního vzorce tyto náklad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Prémie děl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světlení ve výrobních hal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Reklama v televi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Kancelářské potře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dměny pracovníků ve správ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světlení v kanceláří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oba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dměny pracovníků zásob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energie výrobních li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pomocného materiá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57200" y="190512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e shrnutí a zopakování kalkulací, poukázání na návaznost učiva ekonomiky a marketing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lkulace, kalkulační jednice, typový kalkulační vzor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b2b2b2"/>
                </a:solidFill>
                <a:latin typeface="Arial"/>
              </a:rPr>
              <a:t>Kalkula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– výsledek kalkulování, rozpočet nákladů na jednici výkon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Kalkulační jedn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např. jeden výrob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Cíle kalkulací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 správnou c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, o kolik můžeme cenu snižovat nebo zvyšovat, aniž bychom měli ztrá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 možné úspory v náklad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K čemu se využívají kalkul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yužití kalkulací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stanovení ceny výrobků a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kontrole hospodaření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 porovnání plnění plán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zjištění ziskovosti jednotlivých odděl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Členění kalkulac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le doby sestaven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dběžná – sestavuje se před zahájením výroby, sestavuje se na základě plán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sledná – sestavuje se po dokončení výroby, sestavuje se na základě skutečných nákladů zjištěných v účetnic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le struktu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ůběžná – všechny výkony se započítávají průběžně včetně nedokončené výroby a polotovar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á – polotovary a nedokončená výroba se započítávají zvláš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Metody výpočtu kalkul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lkulace dělení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 poměrovými čí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irážk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ýpočet kalkul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áklady rozdělíme na přímé a nepřím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řím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dají se určit na 1 jednici (ks, kg,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Nepřím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edají se určit na jednici, jsou to tzv. režijní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Uveďte příklady přímých a nepřímých náklad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2b2b2"/>
                </a:solidFill>
                <a:latin typeface="Arial"/>
              </a:rPr>
              <a:t>Typový kalkulační vzorec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Přímý materiál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eškerý materiál, který se stává součástí výrobku, dá se stanovit na jednici. Např.: spotřeba základního materiálu, pomocného materiálu, obalů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Přímé mz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mzdy lidí, kteří přímo souvisí s výrobou, např. mzdy výrobních dělníků, jejich prémie, odměny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Ostatní přímé nákla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souvisí s výrobou a dají se určit na jednici. Např.: spotřeba provozní energie, náklady na opravy a udržování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ýrobn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výrobu, které se nedají určit na jednici. Např.: nájemné, mzdy THP pracovníků ve výrobě, odpisy, cestovné, náklady na osvětlení výrobní haly, daně, pojištění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 položek: 1+2+3+4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lastní náklady výrob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zásobovac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zásobování podniku, např. mzdy zásobovačů, skladníků, nájemné skladů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rávn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řízení a vedení podniku, např. platy THP pracovníků ve správě, nájem kancelářských prostor, telefonní poplatky, kancelářské potřeby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vlastních nákladů výroby + 5+6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lastní náklady výk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odbytová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šechny náklady spojené s odbytem, např. reklama, mzdy a odměny pracovníků v odbytu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vlastní náklady výkonu + 7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úplné vlastní náklady výk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úplné vlastní náklady výkonu + zisk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cen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bez 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5:55:32Z</dcterms:created>
  <dc:creator>Administrator</dc:creator>
  <dc:description/>
  <dc:language>en-US</dc:language>
  <cp:lastModifiedBy>Igor</cp:lastModifiedBy>
  <dcterms:modified xsi:type="dcterms:W3CDTF">2014-09-13T15:01:59Z</dcterms:modified>
  <cp:revision>12</cp:revision>
  <dc:subject/>
  <dc:title>Kalkulace</dc:title>
</cp:coreProperties>
</file>