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559EC-1158-47D8-A023-5B9BCA2C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8CC0-86BF-4FF0-857A-43DCFEF9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11F3B-F54C-4ABB-8556-55381636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80667-72CE-43A1-93D8-69AC182C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F8DB-292C-4136-82A3-30195F99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60C4-1A4B-4EFD-BAD0-2818082D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5335-FC22-43C3-809A-7ADEAE6E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CE49-0A31-4923-A6C8-5A27C1B0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8357-7A0D-4FEC-85DB-ECD53394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859B-6CEB-4891-95D9-ECF0680A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D029-3A30-4831-BB28-BBA03C30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C84C-865C-409B-A5C8-398278CF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1294-62CB-498C-8A1C-66290F8D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24D9-4A7F-4AAD-828A-59A1B05F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86CE-8F69-48B0-8470-A6A5AB70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CCF8-B896-45F1-A304-FD9AC149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EDFE-0FC7-4CD0-ABDE-046360FA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E49C9-1375-42D5-AABF-A66ACA96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4798A-7A69-4FCA-B499-26A5AC66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E669C-C981-45A8-9637-D06C571F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0A59B-2029-48BD-9B40-31BA6BB1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3212A-6216-4B42-95E9-539A2501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70C17-472B-472C-88C4-60552490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64714-0808-4020-A367-AAE789C3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D1A4D-4666-4668-886D-7593E890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5838A-60DC-4330-85DF-A17D3BEF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74EE9-E3B6-4A2A-BA3D-7C95C6FA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26BBB-BA66-41B6-BED9-1FD0B62E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EFA6F-E5D2-4107-BD9B-2E4925FB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C5E36-7250-4DDA-8117-4620530B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62AFF-B7A2-4861-A590-669C7CAB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2217-B079-4477-9A5E-82CDC5E2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808F8-FC3D-4270-A859-96F8A972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B5322-201C-4CA4-B37B-ADAF3D15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476FB-F199-4E17-BD01-6A2F0948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4E9A4-E93D-4C06-BF49-D2445D2D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D2DA-723B-40F3-9214-70B94DDC11F6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CB54-1BE8-46AA-9841-A108CA2549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024C-6E0A-4204-BF50-7E0379EC491D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1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Jakou metodu stanovení ceny byste použili 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Nealkoholického náp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Počíta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Značkové sportovní obu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ategie stanovení c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trategie u nových výrob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kimming price (smetánková cena) – jde o stanovení vysoké ceny, jejím cílem je vytvoření image kvality a ojedinělosti výrobku, po vstupu konkurence na trh se cena snižuje. Zisk je dosahován okamžitě. Uplatňuje se v případě, že výrobek je na trhu jedinečný, kvalitní a zákazník je ochotný ho za vysokou cenu koup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netration price (cena proniknutí) – jde o stanovení nízké ceny, jejím cílem je získat co nejvíce zákazníků a odradit konkurenci. Později se cena zvyšuje. Zisk je dosahován později. Uplatňuje se v případě, že na trhu existují podobné výrobky a zákazník je citlivý na ce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sychologický přístup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ťovské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cena vyvolává dojem vysoké kv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ístění běžných výrobků mezi výrobky luxus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dej některých výrobků za velmi snížené ceny přiláká do obchodu zákazníky, kteří pak nakupují i zboží s vyšší cen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ělé sle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Diskriminační stanovení ceny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de o stanovení různé ceny pro různé tržní segmenty (ceny jízdného, vstupné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Jakou cenovou strategii byste použili 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Vstupného do Z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Nové příchuti čokolá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Nového mobilního telefo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U zakázky na zavedení nové firemní počítačové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měny c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Hlavní příčiny změ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ování konku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pší využití výrobní kapacity, růst objemu výr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nížení tržního podí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soulad mezi nabídkou a poptáv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st nákladů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Druhy sle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ážka při platbě – při dřívějším proplacení fa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tativní sráž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zónní sl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unkční srážka – poskytuje se obchodním článk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é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dej na protiúče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520f0"/>
                </a:solidFill>
                <a:latin typeface="Arial"/>
              </a:rPr>
              <a:t>S jakými sleva se nejčastěji setkáváte při svých nákupe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457200" y="1905120"/>
          <a:ext cx="8229600" cy="4449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se seznamují s metodami a strategiemi stanovení ceny a s důvody změn c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a, metody stanovení ceny, strategie stanovení c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8560" y="2349360"/>
            <a:ext cx="734544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ff"/>
                </a:solidFill>
                <a:latin typeface="Arial"/>
              </a:rPr>
              <a:t>Marketingový mix - cen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Cen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7991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520f0"/>
                </a:solidFill>
                <a:latin typeface="Arial"/>
              </a:rPr>
              <a:t>Pokuste se definovat co je to 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to výše peněžní úhrady zaplacená na trhu za prodávaný výrobek nebo poskytovanou služ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Cíle podniku při stanovení ce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ximalizace zi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žní podí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st objemu prode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atnosti inv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pičková kvalita výrob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né cíle – udržení dosavadního postavení, získání nových zákazníků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stanovení c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ákladově orientovaná metoda (cena stanovená kalkula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a = náklady + z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hody: - jasná pravidla pro stanovení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dnik má zaručenu určitou míru zisku u výrob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výhody: - cena neodráží reálnou situaci na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etoda orientovaná na konkure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nik stanovuje cenu podle konkurence (nejčastěji nižší než konkurence), používá se, pokud je výrobek podobný konkurenčním výrob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 - jednoduc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 - nepřihlíží se ke skutečným nákladům na výro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může dojít k cenové vál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ignorování skutečné ceny výr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musí se brát v úvahu i značka, kvalita, styl, servis,…kterými se výrobek může lišit od konkurenčn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etoda orientovaná na zákaz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chází se z marketingového výzkumu, kterým se zjistí potřeby, přání a představy zákazníka o výrobku i o ceně a podle toho se pak podnik řídí při stanovení c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a: - reá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a: - časová a finanční náročnost při provedení výzku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neberou se v úvahu náklady na výrobu výr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etoda orientovaná na poptáv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chází z cenové elasticity poptá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enová elasticita =  % změna poptávaného množství / % změna ceny zbo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cenově elastická poptáv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malá změna ceny vyvolá velkou změnu poptávaného množství, E je menší než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cenově málo elastická poptáv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velká změna ceny vyvolá jen malou změnu poptávaného množství, E je větší než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 - v praxi zajišťuje velký z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 - složit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onkurzní a smluvní 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onkurzní c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kupující vyhlašuje konkurz a vybírá si firmu, která nejlépe vyhovuje jeho požadav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Smluvní c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dohoda prodávajícího a kupujícího o ceně (např. aukce, prodej nemovitostí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a – velice výhodné pro kupujícího (může si vybír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2:29:03Z</dcterms:created>
  <dc:creator>kabek</dc:creator>
  <dc:description/>
  <dc:language>en-US</dc:language>
  <cp:lastModifiedBy>Igor</cp:lastModifiedBy>
  <dcterms:modified xsi:type="dcterms:W3CDTF">2014-09-13T15:03:10Z</dcterms:modified>
  <cp:revision>18</cp:revision>
  <dc:subject/>
  <dc:title>Marketingový mix - cena</dc:title>
</cp:coreProperties>
</file>