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F55-AE80-4D3F-8908-0A064027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2A9D-2959-455B-A160-F20167AD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E04-4B71-4963-8A0C-197166A1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E661-5EFF-4401-B8AA-AD2A2374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0DA3-CFFD-4CFA-BD0F-EA154221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C262-F8BB-4C20-ADE6-AFD89CBD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DF8C-B845-49F5-8AF8-07B582D3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A76C-53DF-4430-A05E-1E3876F2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B452-A86E-4EE9-B662-2EA28371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E10A-CE88-46A0-926D-66191073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658A-D57C-4326-86DC-C7005B33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71C-5530-40E6-9F23-405A9917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28D0-925D-42A7-8198-A079824C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9A78-E3A0-44A0-A479-15C8D206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55ED-5FD3-4FD0-9D89-6BC446CA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B03D-9527-47FC-9757-3D6BED63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0A6B-282C-49C6-BCDD-48D25AC3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70E1-5E0F-4BA6-9079-DEF343CF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4526-8A08-4B7D-A1D1-A7164CD1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121-CBA3-4B5B-A647-34328AA3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3728-4BF2-4E12-8E39-021F0714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04B-B139-4CE5-BF15-35070DBB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2CC2-8701-4FC0-99DD-E57D78D8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6CA-BCF6-4BAC-A7A0-66BE4CE9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32DE-16B9-4D90-AEDF-F1882AAFEF8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509F-CB7E-4E50-B9C4-446A2C9091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133640"/>
                <a:gridCol w="165564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12.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k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kuste najít další silné a slabé stránky, příležitosti i hrozby pro ZOO Krále Jelim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457200" y="1905120"/>
          <a:ext cx="8229600" cy="4830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 hledají silné a slabé stránky, příležitosti a hrozby dané firmy, navrhují jak využít příležitosti v konkurenčním bo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né stránky, slabé stránky, příležitosti, hroz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1915920"/>
            <a:ext cx="8217000" cy="155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500" spc="-1" strike="noStrike">
                <a:solidFill>
                  <a:srgbClr val="000000"/>
                </a:solidFill>
                <a:latin typeface="Century Gothic"/>
              </a:rPr>
              <a:t>Zoo Krále Jelimán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4824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Základní inform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še Zoo je zaměřená na africký kontinent, tamní faunu a flóru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štěvníci mohou vidět speciálně upravené obrovské výběhy pro všechna zvířata, přizpůsobené jejich přírodnímu prostředí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zde několik vysokých rozhleden a každý návštěvník dostane při vstupu dalekohled, aby mu ze světa zvířat neunikl ani jeden moment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zájemce jsou zde zařízeny přednášky našich zoologů z cest do Afriky, případně se mohou zapojit do akcí jako jsou Den africké kuchyně, Festival africké hudby apod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d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omovka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eské Budějo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927 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2060640"/>
            <a:ext cx="828828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500" spc="-1" strike="noStrike">
                <a:solidFill>
                  <a:srgbClr val="000000"/>
                </a:solidFill>
                <a:latin typeface="Century Gothic"/>
              </a:rPr>
              <a:t>SWOT analýz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Silné strán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iginalita v zaměře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me jedinou Zoo v České republice, která je dopodrobna zaměřena na jeden kontinent, milovníci Afriky ocení, že se mohou plně soustředit jen na toto prostředí, nejsou rozptylováni a pleteni jinými kontinen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ajímavos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jišťujeme různé zájmové kurzy a přednášky, na které mohou přijít všichni zájemci, o všech akcích jsou předem informováni letáky a informacemi na našich internetových stránk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klam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še firma je dobře reprezentována v zahraničí, naše jméno se objevuje na seznamech mezinárodních organizacích,  z masmédií využíváme reklamu v rádiích, TV, internetu, máme billboardy, letáky, brožury, vizitky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mag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ký důraz klademe na image celého areálu, výběhu jsou vystaveny co nejpřirozeněji, nacházejí se zde vodopády, vodotrysky, jezírka, bambusové ploty, chatrč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stup k zákazníků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nažíme se, aby zákazníci měli přístup k veškerým informacím, což řešíme pomocí informačních počítačů s dotykovou obrazovkou rozmístěných v areálu a také naši zaměstnanci jsou pověřeni vždy pomoci a poradit, budou-li požádá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mezené zaměření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ím, že jsme zaměřeni pouze na Afriku, lidem zajímajícím se o Asii, Ameriku, Evropu, nemáme v podstatě co nabídnout a připravujeme se o potenciální zákazní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soké provozní náklad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hledem ke snaze zajistit co nejpřirozenější prostředí pro zvířata a zkrášlení celého areálu, musíme vynakládat vysoké náklady, a přesto vstupné necháváme s poměrně nízkou cenou, takže hrozí, že při menším množství zákazníků se dostane naše firma do ztrá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klady na vzdělání zaměstnanců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še zaměstnance se snažíme motivovat vzdělávacími kurzy z oblasti zoologie. Při výjezdech do Afriky si hradí co možná nejmenší náklady, což je velkou finanční zátěží pro naši fir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Slabé strán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46195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Příležito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ové technologie, poznatk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sme vybavení moderními technologiemi pro snadný přístup zákazníků k informacím. Moderní techniku využíváme také například ve Vodním světě nebo Světě rostlin, kde máme speciální zavlažovací systémy a klimatizace nastavované k přesné simulaci přirozeného prostředí. Speciální zaměstnanci se také věnují vědě a výzkumu o chování zvířat, jejich prostředí, úspěšném rozmnožování v zajetí apod. Úspěšné práce mohou předkládat mezinárodním organizacím a získat případné paten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žnost zachraňovat ohrožené druh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ky vědě dokážeme odchovat mláďata ohroženým druhům zvíř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eloživotní vzdělávání zajišťuje pracovité a snažící se zaměstnan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hledem k nabízeným možnostem je poptávka po práci v naší Zoo vysoká, máme tedy možnost výběru vhodných uchazečů, kteří se chtějí vzdělávat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Hroz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557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rozba úhynu a šíření nemocí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ní možné zajistit, aby se zvířata nedostala do kontaktu s nemocnou osobou nebo úplně zamezit krmení zvířat nežádoucí potravou. Může to vést k onemocnění či dokonce úhynu zvíř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padek v technické oblasti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ane-li se, že budeme dočasně odloučeni z důvodů závady od elektřiny, hrozí velké nebezpečí narušení normální chodu Zoo a ohrožení života některých zvířat (například vysazení filtrů ve Vodním světě). Snažíme se proto zajistit alternativní řešení v nouzových situacích, ale nemůžeme být zabezpečeni na 100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ychle se měnící potřeby zákazníků, jejich stálost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k jsme již zmínili, zaměření naší firmy je výhodou i nevýhodou. Hrozbou se stává v tom případě, že návštěvník nemá k africkému kontinentu natolik vyvinutý vztah, aby byl ochoten naši Zoo vícekrát navštívit. Jelikož není možné každý den upoutávat jejich pozornost akcemi, návštěvnost může být ohrožena nedostatečným zájm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kurence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še Zoo sice sídlí ve velkém městě, ale blízkost Prahy je ohrožující, vezmeme-li v úvahu, že je hlavním městem a má široké zaměření. Také Zoo Dvůr Králové je velmi konkurence schopná, jejich Africké safari je celorepublikově znám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17:23:15Z</dcterms:created>
  <dc:creator>morcinkova</dc:creator>
  <dc:description/>
  <dc:language>en-US</dc:language>
  <cp:lastModifiedBy>Igor</cp:lastModifiedBy>
  <dcterms:modified xsi:type="dcterms:W3CDTF">2014-09-13T15:26:00Z</dcterms:modified>
  <cp:revision>22</cp:revision>
  <dc:subject/>
  <dc:title>Zoo Krále Jelimána</dc:title>
</cp:coreProperties>
</file>