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288-868E-4A58-A31C-04B125A5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C7C-3915-40DE-A58D-5673D786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203-75BB-4C26-B6A6-05C14F5C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1E3-1892-4FC1-BE81-28CADD68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AC4-9DB5-4913-95DD-17AD0408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D0BE-8AF8-47D1-A1DC-597AC45D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AC19-7EED-4828-8D13-E3F857FD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C4F0-B3C8-4161-B417-020104FB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A158-C457-4A09-AA71-DC5B128E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3D0B-F0B4-46F4-A0AA-B102EDAB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D45C-8319-42AE-903D-FB1E0AB3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6C8-4D77-4590-B87A-1A0435A0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1E78-B368-42D1-8B70-467B8DD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9251-3635-45CC-AB0B-806A7DC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BBE-5669-4C44-8B76-CE46E568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242C-F4C3-4107-86A5-D930C869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4803-54F3-4F30-A66F-F8DEA7CC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D9C-5856-416E-9C3D-1B6E61F8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174-5B16-46B9-BC96-BC8A5E5A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7BA-CA11-44EC-9B0B-F96E3254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DF7-05E4-45E2-ADAA-A9E478BE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963-DA21-42A6-977A-EA2E43A3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B59-6337-468D-AAC7-916D6AE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999-A5C3-4C50-9312-9A7C60FD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C7B0-DB0A-4E9A-B252-2F0D0F402C1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4182-B26E-42F7-BFF3-59582FE627E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11280"/>
                <a:gridCol w="1441440"/>
                <a:gridCol w="1656000"/>
                <a:gridCol w="295272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814716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Daňové odpis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řídí se zákonem o dani z příj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jadřují opotřebení majetku v průměrných podmínká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yto odpisy ovlivňují daň z příjmu, metody výpočtu jsou závazně stanoveny stá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metod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rovnoměr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zrychle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 případě technického zhodnocení (přestavba, rekonstrukce, modernizace, …) dražšího než 40 000,- Kč ročně se zvyšuje hodnota dlouhodobého majetku a odpisy se provádí ze zvýšené ce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89080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je to technické zhodnocení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daje na nástavby, přístavby, stavební úpravy, rekonstrukce a modernizace majetku, pokud převýšily u jednotlivého DHM nebo DNM v úhrnu za rok částku 40 000,- Kč. 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Z zvyšuje PC majetku, při odepisování je nutné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Zvýšit PC (V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užít sazby (koeficienty) pro zvýšenou 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rniza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rozšíření vybavenosti nebo použitelnosti majetk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konstruk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zásahy do majetku, které mají za následek změnu jeho účelu nebo technických parametr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yšuje PC majetku, projeví se v nákladech postupně pomocí vyšších odpis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y na odpis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 lednu 2008 si firma koupila auto, PC 200 000,- Kč. Odpisujte rovnoměr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irma koupila v únoru 2008 traktor, jehož PC je 1 600 000,- Kč. Odpisujte zrychle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2492280"/>
          <a:ext cx="8964720" cy="3819600"/>
        </p:xfrm>
        <a:graphic>
          <a:graphicData uri="http://schemas.openxmlformats.org/drawingml/2006/table">
            <a:tbl>
              <a:tblPr/>
              <a:tblGrid>
                <a:gridCol w="1793880"/>
                <a:gridCol w="1792440"/>
                <a:gridCol w="1792080"/>
                <a:gridCol w="1893960"/>
                <a:gridCol w="169236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76280"/>
            <a:ext cx="380988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rak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484280"/>
          <a:ext cx="8785440" cy="475128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8960"/>
                <a:gridCol w="1755720"/>
                <a:gridCol w="175752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1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7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na odpisy s technickým zhodnocení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pořídila v roce 2008 budovu v PC 1 300 000,- Kč, v roce 2009 provedla technické zhodnocení za 900 000,- Kč. Odpisová skupina 6, vypočítejte odpisy v prvních 5 letech rovnoměr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koupila v lednu 2008 stroj, PC 700 000,- Kč. V roce 2010 byla provedena modernizace v hodnotě 100 000,- Kč. Odpisová skupina 2, odpisujte zrychle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udov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65360"/>
          <a:ext cx="9144000" cy="40147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3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6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142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98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54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9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0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o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413000"/>
          <a:ext cx="8748720" cy="4800600"/>
        </p:xfrm>
        <a:graphic>
          <a:graphicData uri="http://schemas.openxmlformats.org/drawingml/2006/table">
            <a:tbl>
              <a:tblPr/>
              <a:tblGrid>
                <a:gridCol w="1749600"/>
                <a:gridCol w="1749240"/>
                <a:gridCol w="1751040"/>
                <a:gridCol w="1749600"/>
                <a:gridCol w="1749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8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6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*)ŠTOHL, P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Učebnice účetnictví pro střední školy a veřejnost II. Dí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ojmo 2009. ISBN 978-80-87237-13-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98640" y="609480"/>
            <a:ext cx="53467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7200" y="1905120"/>
          <a:ext cx="8229600" cy="4906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 dlouhodobého majet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, oprávky, zůstatková cena, technické zhodnoc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bcbcb"/>
                </a:solidFill>
                <a:latin typeface="Times New Roman"/>
              </a:rPr>
              <a:t>Odpisy dlouhodobého majetku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5562000"/>
            <a:ext cx="64008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to jsou odpisy a proč majetek odpisujem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275400"/>
            <a:ext cx="6870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louhodobý majetek se opotřebovává postupně, a proto se jeho hodnota postupně přenáší do nákladů firm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otřebení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Fyzické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opotřebení používání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oráln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majetek technicky zaostáv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Definujte základní pojmy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dpis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právk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Z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peněžní vyjádření opotřebení majetku za určité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rávk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souhrn všech odpisů za dobu užívání majet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ůstatková cena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= pořizovací cena – opráv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973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696080" cy="18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Jaké znáte druhy odpisů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Druhy odpi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Účetní 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jsou upraveny zákonem 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yto odpisy vyjadřují skutečné opotřebení dlouhodobého majetku v konkrétních podmínká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etoda výpočtu odpisu závisí na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7:21:45Z</dcterms:created>
  <dc:creator>klapuchova</dc:creator>
  <dc:description/>
  <dc:language>en-US</dc:language>
  <cp:lastModifiedBy>Igor</cp:lastModifiedBy>
  <dcterms:modified xsi:type="dcterms:W3CDTF">2014-09-13T15:05:14Z</dcterms:modified>
  <cp:revision>23</cp:revision>
  <dc:subject/>
  <dc:title>Odpisy dlouhodobého majetku</dc:title>
</cp:coreProperties>
</file>