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2245-EA01-411C-99B5-CEFBDCB4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125E3-2455-4F9C-9D18-CFC35111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D427-2D0C-410E-A48A-0EE67D98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53F6-DF38-4848-B60D-795494C5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42A5-F550-401D-A210-F49A24C8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58D0-2EBA-4ABE-83CE-E7450591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0848-6113-4A96-A074-5ACC6EDD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CF2B-6918-445E-B830-47FBD8AE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6D47-ABBE-44E6-925B-8716ED85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1E29-3576-478E-BD8A-265947FA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4BA4-1405-404E-BDC1-34857F13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9838-1E90-4CFD-B04B-809F4CE7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D146-B673-4E9A-B6E1-0CD1AC78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C95F-7764-40E6-A6FB-B6D32DF7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3532-8BF4-4058-86F2-7A8F6ED8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95E3-7A67-480A-8332-EDB40B84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22DF-5AFB-46F7-9B1B-12384216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7F22F-8BE5-40F9-B3F1-F1E10BA7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DECC-F6BB-48E4-BDCF-197C7852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9877A-3C77-430E-930D-60A83CA1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DA9C7-21ED-4150-9C6E-1EF84FB6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94ED-96F7-4E8B-9AFC-25687A4A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9DC2F-3BA8-40D1-9AED-02DB75E3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DAC05-280E-4F6D-8226-696C1E22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1E1F-97BF-448D-A691-24F029E7FA2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0ED2-0F2A-42AA-BA0E-A8935E1457C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727280"/>
                <a:gridCol w="1512720"/>
                <a:gridCol w="273708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1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4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Dotazov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V jakých případech byste dotazování použil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ými způsoby můžete kontaktovat dotazované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é jsou výhody a nevýhod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otazování se uskutečňuje prostřednictvím dotazní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Respondenty můžeme kontaktovat 3 způsob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Garamond"/>
              </a:rPr>
              <a:t>Písemně</a:t>
            </a: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 – poštou nebo vhazováním do schránek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+ nízké náklad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alá návratnost – je nutné ji zvyšovat např. soutěžemi, dárky, urgenčními dopisy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Garamond"/>
              </a:rPr>
              <a:t>Telefonicky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+ vyšší návratn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vyšší náklady, nutnost klást jednoduché otáz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Garamond"/>
              </a:rPr>
              <a:t>Osobně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+ velká návratnost dotazní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vysoké náklady, nutnost vyškolit tazate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Druhy dotazování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strukturované – dotazník je pro všechny respondenty stejný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polostrukturované – v dotazníku se připouští odchylky podle reakcí respondentů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nestrukturované – je stanoven pouze cíl dotazování a tazatel se může ptát každého respondenta jinak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Dotazník – nástroj marketingového výzkumu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Části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slovení, vysvětlení výzkum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ázky k témat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Klasifikační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oděková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42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Uzavře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ichotonick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ícevýběrov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yjadřující stupeň souhlasu nebo nesouhla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yjadřující stupeň důležit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ycházející ze slovního rozliše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Bodové hodno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evře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Úplně otevře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lovní asoci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stupní 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evřený příbě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bráz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olně komentovaný obráz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Ke každému typu otázky vytvořte příkl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e5e5ff"/>
                </a:solidFill>
                <a:uFillTx/>
                <a:latin typeface="Garamond"/>
              </a:rPr>
              <a:t>Pravidla při sestavování dotazníku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Uvádět všechny možnosti odpověd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ázky musí být jednoduch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používat cizí slo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klást otázky do daleké budoucn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pokládat vícenásob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klást otázky na prestižní a intimní tém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používat slova denně, pravidelně, nyní,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rovést pilotáž dotazník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57200" y="1905120"/>
          <a:ext cx="8229600" cy="4816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udenti poznávají důležitost informací a způsoby jejich získávání, diskutují o svých zkušenostech s marketingovými výzkumy, kterých se zúčastni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S, marketingový výzkum, dotaz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e5e5ff"/>
                </a:solidFill>
                <a:latin typeface="Garamond"/>
              </a:rPr>
              <a:t>Marketingový výzkum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5153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Proč jsou v podnikání důležité inform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Jaké požadavky na informace kladem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Z jakých zdrojů informace můžeme získa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Marketingový informační systé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362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MIS</a:t>
            </a: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 – zahrnuje pracovníky, zařízení a informační technologie pro sběr, třídění, analýzy, vyhodnocování a distribuci informací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ffffff"/>
                </a:solidFill>
                <a:uFillTx/>
                <a:latin typeface="Garamond"/>
              </a:rPr>
              <a:t>Požadavky na informace:</a:t>
            </a: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 potřebné, včasné, přesné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ffffff"/>
                </a:solidFill>
                <a:uFillTx/>
                <a:latin typeface="Garamond"/>
              </a:rPr>
              <a:t>Zdroje informací MI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interní podnikové zdroje – informace z účetnictví, podnikových statistik, databází,… Poskytují informace o nákladech, výnosech, výsledku hospodaření,…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marketingová inteligence – poskytuje informace o marketingovém prostředí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vlastní zaměstnanci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prodejní článk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konkure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specializované agentu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marketingový výzkum – poskytuje informace o trhu, konkurenci, prostředí a hlavně o zákaznících, o jejich potřebách a reakcích na marketingový mix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Marketingový výzkumný proces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Etap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říprava výzkum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efinování problému a orientační analýza situace včetně stanovení hypotéz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lán výzkumu – obsahuje druh a zdroje informací, výběr vzorku (náhodný, výběrový, typický), stanovení metody výzkumu, způsob analýzy, rozpočet, časový harmon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Realizace výzkum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Sběr informac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Zpracování a analýza informací (úprava, klasifikování, kódování, technické zpracování informací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Interpretace výsledků, závěry (potvrzení nebo vyvrácení hypotézy), doporuč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Metody marketingového výzkumu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29600" cy="27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Základní metod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Pozorov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V jakých případech byste pozorování použil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é jsou výhody a nevýhody pozorování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ři pozorování se zaznamenává, jak se spotřebitelé chovají při nákupu, a to buď osobně, nebo prostřednictvím kamer. Používá se, pokud nám zákazník nechce nebo nemůže poskytnout požadované informace. Musí být nenápadné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ruhy pozorování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Standardizované – pozorovatel má přesně určeno co, jak, kdy, kde má pozorovat a jak má zaznamenat výsledk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Nestandardizované – pozorovatel má stanoven pouze cíl pozorování a všechno ostatní si určuje sá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+ nezávislost na ochotě zákazníků spolupracov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- velmi vysoké nároky na pozorovatele, časově náročn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4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Experi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Informace jsou čerpány ze skutečností, které jsou z důvodů výzkumu schválně přichystá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ruhy experimentů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Laboratorní – test párového srovnává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 terénu – v prodejnách změníme např. umístění výrobků a sledujeme reakci zákazník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0:11:23Z</dcterms:created>
  <dc:creator>kabek</dc:creator>
  <dc:description/>
  <dc:language>en-US</dc:language>
  <cp:lastModifiedBy>Igor</cp:lastModifiedBy>
  <dcterms:modified xsi:type="dcterms:W3CDTF">2014-09-13T15:04:41Z</dcterms:modified>
  <cp:revision>19</cp:revision>
  <dc:subject/>
  <dc:title>Marketingový výzkum a segmentace trhu</dc:title>
</cp:coreProperties>
</file>