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E734-D62F-4D4B-9BBB-4F15BD46C32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7042-20B2-44F4-9052-7FF7AF040C0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15E-99B9-4959-8A21-F3EDCF03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AC5-FB6B-4E34-91B3-7FAE1F6B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C53-649B-435D-A65D-3A61D6FD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D2F-8391-4E71-88E1-BC9D9EA3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0E35-60AC-43EC-959B-F148B28D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3965-4480-4675-BBCD-9E3D8D91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E17C-C907-421B-BE74-E40A3FAF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D925-C543-4CFE-AF23-73168318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E58B-5258-4D5F-8AD3-061F3FCB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400D-1731-47EA-86F1-A0CDDAA4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EA90-28F8-4215-B674-49409056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A74-A663-49E4-AA0F-B5E65B2A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75C4-68F5-455A-8323-C005DC38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6B5F-AB01-4269-AEED-5B49C027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9512-2833-4B9B-95E9-4C9C5D60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6DF6-B618-46D7-BFFC-04AEFDF4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640D-5C2D-484E-9A73-BCD41D2C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253-D73F-4489-9737-304F1E4F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1DD-952B-4719-8D80-E4B1EF06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F72-BC49-425A-8CDE-7261971A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C3D-0588-479B-A45F-0FFD855D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E13-B263-470E-8D18-AC283D17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E7E-723E-46FF-AD20-844CDD39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D77-CE9E-4D04-8B62-8A054C13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30B2-6FCA-4AA2-BD5E-F2438B1D0EF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061C-BC6C-484A-985D-2D4BE9507AC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ýukový materiál zpracován v rámci projektu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U peníze školá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gistrační číslo projektu: CZ.1.07/1.5.00/34.02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39640" y="3573360"/>
          <a:ext cx="7488360" cy="736560"/>
        </p:xfrm>
        <a:graphic>
          <a:graphicData uri="http://schemas.openxmlformats.org/drawingml/2006/table">
            <a:tbl>
              <a:tblPr/>
              <a:tblGrid>
                <a:gridCol w="2071800"/>
                <a:gridCol w="1312920"/>
                <a:gridCol w="1655640"/>
                <a:gridCol w="24480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INOVACE_1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 10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Umístění firmy a její ima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345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Naši Zoo jsme umístili na okraji Českých Budějovic z důvodů potřeby velkých pozemků a přírod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Adresa: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Stromovka 9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927 05 České Budějovice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ýběhy jsou speciálně přizpůsobené přirozenému prostředí jednotlivých druhů zvířat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Pro neomezené možnosti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 pozorování zvířat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jsme postavili vysoké rozhledn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 areálu jsou rozmístěny automaty na horké nápoje a studené nápoje, obchody se suvenýry a občerstvením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49016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</a:t>
            </a:r>
            <a:br>
              <a:rPr sz="6600"/>
            </a:b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ez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11280" y="18864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artneř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11280" y="1125360"/>
            <a:ext cx="6400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B České Budějovice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vedení běžného účt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skytnutí bankovního úvěr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Pojišťovna Kooperativa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majetk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osob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odpovědnosti za škody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cestovní pojištění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rokodýlí ZOO Protivín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 (krokodýlů)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idepo Valley National Park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Caprivi Game Park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 (ptáci) a flór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Cestovní kancelář Nomád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zprostředkování pracovních cest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artner při odměnách zaměstnanc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4360" y="333360"/>
            <a:ext cx="64008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Nejsilnější konkurent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11280" y="177300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Century Gothic"/>
              </a:rPr>
              <a:t>DVŮR KRÁLOVÉ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je jedna z největších ZOO v České republice. Nebezpečnější je fakt, že nabízí zajímavou podívanou v podobě Afrického safari. Je to v podstatě jediná větší ZOO, která je z velké části zaměřená na Afriku a tudíž má z části podobné nabídky pro návštěvníky jako m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Arial"/>
              </a:rPr>
              <a:t>ZOO ZLÍN LEŠNÁ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se nachází na Moravě. Svůj areál rozdělili na kontinenty, takže návštěvníci si v této ZOO přijdou na své - i Afrika je zde dostatečně zastoupena. Výběhy jsou vymyšlené velice hezky a podobně jako u nás, žádné klece, ale přírodně oplocené části, oddělované říčkou a vodními příkop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Century Gothic"/>
              </a:rPr>
              <a:t>ZOO PRAHA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ysoce moderní zahrada ukazující zvířata v podmínkách, které se co nejvíce blíží jejich přirozenému prostředí. Nabízí také mnoho vzdělávacích programů pro školy i širokou veřejnost, v čemž je pro nás velkou konkurencí. V budoucnu tedy zaměříme větší pozornost právě do vzdělávacích programů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bcbcb"/>
                </a:solidFill>
                <a:latin typeface="Times New Roman"/>
              </a:rPr>
              <a:t>Veřejnost – sdělovací prostředky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10920" y="1557000"/>
            <a:ext cx="642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Největší vlivy v rámci sdělovacích prostředků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cbcbcb"/>
                </a:solidFill>
                <a:latin typeface="Century Gothic"/>
              </a:rPr>
              <a:t>TV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– pořady na stanicích Nova, Prima, Prima COOL, ČT1, ČT2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cbcbcb"/>
                </a:solidFill>
                <a:latin typeface="Century Gothic"/>
              </a:rPr>
              <a:t>Časopisy</a:t>
            </a:r>
            <a:r>
              <a:rPr b="1" lang="cs-CZ" sz="2400" spc="-1" strike="noStrike">
                <a:solidFill>
                  <a:srgbClr val="cbcbcb"/>
                </a:solidFill>
                <a:latin typeface="Century Gothic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– zveřejňování reportáží z cest do Afriky od našich zoologů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bcbcb"/>
                </a:solidFill>
                <a:latin typeface="Times New Roman"/>
              </a:rPr>
              <a:t>Zákazníc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entury Gothic"/>
              </a:rPr>
              <a:t>Šíří všeobecně známé informace o Zoo, na žádnou z námi poskytovaných služeb si v dotaznících nestěžují, preferují naši Zoo před jinými, šíří dobré jméno firmy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565000"/>
            <a:ext cx="762012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makr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é ekonomické ukazatel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Picture 645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1912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546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115320" cy="27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bcbcb"/>
                </a:solidFill>
                <a:latin typeface="Times New Roman"/>
              </a:rPr>
              <a:t>Vybrané demografické vlivy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7" name="Picture 441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485040" cy="31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897200" y="609480"/>
            <a:ext cx="5349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611280" y="1743120"/>
          <a:ext cx="7488000" cy="5075280"/>
        </p:xfrm>
        <a:graphic>
          <a:graphicData uri="http://schemas.openxmlformats.org/drawingml/2006/table">
            <a:tbl>
              <a:tblPr/>
              <a:tblGrid>
                <a:gridCol w="3746520"/>
                <a:gridCol w="374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ázev učebního materiá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é prostředí - ukáz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ázka analýzy marketingového prostředí, dokazuje nutnost návaznosti učiva ekonomiky, účetnictví, statistiky, práva a marketingu a vede ke zopakování základních znalostí z těchto předmět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vaha, výsledovka, partnerské firmy, konkurence, politické prostřed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20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64824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řírodní podmín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438280" y="134100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Ochrana životního prostředí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Naše Zoo se samozřejmě účastní spousty akcí, pomáhajících životnímu prostředí v našem okolí, ale také zahraničí. Jsme v několika Evropských organizací, pomáhajících proti vymírání ohrožených druhů zvířat, pro lepší péči o lesy, atd.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Názvy vybraných organizací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TA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People for the Ethical Treatment of Animals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) organizace na ochranu zvířat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WWF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World Wide Fund for Nature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) – celosvětový fond pro přírodu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NESCO 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Europarc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- Evropská federace pro národní park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olitické prostřed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411280" y="1196640"/>
            <a:ext cx="6400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Zákony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563/1991 Sb. Zákon o účetnictví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100/1988 Sb. Zákon o sociálním zabezpečení </a:t>
            </a:r>
            <a:br>
              <a:rPr sz="1800"/>
            </a:b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Century Gothic"/>
              </a:rPr>
              <a:t>586/1992 Sb. Zákon o dani z příjmů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411/2008 Sb. Vyhláška o stanovení druhů zvířat vyžadujících zvláštní péči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215/2008 Sb. Vyhláška o opatřeních proti zavlékání a rozšiřování škodlivých organismů rostlin a rostlinných produktů 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296/2003 Sb. vyhláška o zdraví zvířat a jeho ochraně, o přemísťování a přepravě zvířat a o oprávnění a odborné způsobilosti k výkonu některých odborných veterinárních činností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ulturní prostřed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170028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elmi dbáme na oblast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zdělávání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. Kromě obvyklého pohledu na svět zvířat se zákazníci díky přednáškám mohou rozvíjet své znalosti v oblasti živočišné a rostlinné říši. Pro studenty veterinárních středních (popř. vysokých) škol a také pro studenty botaniky, nabízíme speciální programy pro celé třídy, ale i pro jedince, je možná domluva s profesorem a v rámci možností zařídit přednášky s právě probíraných učivem ve škole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Navštívit Zoo může kdokoliv, má-li zájem o faunu a flóru afrického kontinentu, je to vhodné trávení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olného času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, výborné pro děti, je třeba v nich pěstovat dobrý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ztah k přírodě.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ké další informace byste zařadili do analýzy marketingového prostřed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ké ukazatele finanční analýzy znáte? Z uvedené rozvahy a výsledovky zkuste vybrané ukazatele vypočíta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teré další ekonomické a demografické vlivy působí na tuto firmu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droj tabule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vdb.czso.cz/vdbvo/tabparam.jsp?voa=tabulka&amp;cislotab=DEM0040PU_KR&amp;vo=tabulka&amp;kapitola_id=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vdb.czso.cz/vdbvo/tabparam.jsp?voa=tabulka&amp;cislotab=DEM0030PU_KR&amp;vo=tabulka&amp;kapitola_id=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www.czso.cz/csu/dyngrafy.nsf/graf/inflace_1994_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www.czso.cz/csu/redakce.nsf/i/prace_a_mzdy_pr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2565000"/>
            <a:ext cx="749016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491920"/>
            <a:ext cx="7129440" cy="201636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mikr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4360" y="188640"/>
            <a:ext cx="6400800" cy="11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Návrh organizační struktu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5" name="Organization Chart 11"/>
          <p:cNvGrpSpPr/>
          <p:nvPr/>
        </p:nvGrpSpPr>
        <p:grpSpPr>
          <a:xfrm>
            <a:off x="685800" y="1981080"/>
            <a:ext cx="7771680" cy="4114440"/>
            <a:chOff x="685800" y="1981080"/>
            <a:chExt cx="7771680" cy="4114440"/>
          </a:xfrm>
        </p:grpSpPr>
        <p:cxnSp>
          <p:nvCxnSpPr>
            <p:cNvPr id="106" name="_s1028"/>
            <p:cNvCxnSpPr>
              <a:stCxn id="107" idx="1"/>
              <a:endCxn id="108" idx="2"/>
            </p:cNvCxnSpPr>
            <p:nvPr/>
          </p:nvCxnSpPr>
          <p:spPr>
            <a:xfrm rot="10800000">
              <a:off x="1913760" y="4332600"/>
              <a:ext cx="199080" cy="1470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11" idx="2"/>
            </p:cNvCxnSpPr>
            <p:nvPr/>
          </p:nvCxnSpPr>
          <p:spPr>
            <a:xfrm flipV="1">
              <a:off x="4571280" y="3450600"/>
              <a:ext cx="3600" cy="29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08" idx="2"/>
            </p:cNvCxnSpPr>
            <p:nvPr/>
          </p:nvCxnSpPr>
          <p:spPr>
            <a:xfrm rot="10800000">
              <a:off x="1913760" y="4332600"/>
              <a:ext cx="199080" cy="588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1"/>
            <p:cNvCxnSpPr>
              <a:stCxn id="115" idx="0"/>
              <a:endCxn id="111" idx="2"/>
            </p:cNvCxnSpPr>
            <p:nvPr/>
          </p:nvCxnSpPr>
          <p:spPr>
            <a:xfrm flipV="1" rot="16200000">
              <a:off x="5752440" y="2268720"/>
              <a:ext cx="294480" cy="265788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2"/>
            <p:cNvCxnSpPr>
              <a:stCxn id="108" idx="0"/>
              <a:endCxn id="111" idx="2"/>
            </p:cNvCxnSpPr>
            <p:nvPr/>
          </p:nvCxnSpPr>
          <p:spPr>
            <a:xfrm flipH="1" flipV="1" rot="5400000">
              <a:off x="3095280" y="2269080"/>
              <a:ext cx="294480" cy="265716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3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752440" y="1386720"/>
              <a:ext cx="294480" cy="265788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4"/>
            <p:cNvCxnSpPr>
              <a:stCxn id="111" idx="0"/>
              <a:endCxn id="119" idx="2"/>
            </p:cNvCxnSpPr>
            <p:nvPr/>
          </p:nvCxnSpPr>
          <p:spPr>
            <a:xfrm flipV="1">
              <a:off x="4571280" y="2568600"/>
              <a:ext cx="3600" cy="29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5"/>
            <p:cNvCxnSpPr>
              <a:stCxn id="122" idx="0"/>
              <a:endCxn id="119" idx="2"/>
            </p:cNvCxnSpPr>
            <p:nvPr/>
          </p:nvCxnSpPr>
          <p:spPr>
            <a:xfrm flipH="1" flipV="1" rot="5400000">
              <a:off x="3095280" y="1387080"/>
              <a:ext cx="294480" cy="265716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9" name="_s1036"/>
            <p:cNvSpPr/>
            <p:nvPr/>
          </p:nvSpPr>
          <p:spPr>
            <a:xfrm>
              <a:off x="3342240" y="1981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Ředitel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37"/>
            <p:cNvSpPr/>
            <p:nvPr/>
          </p:nvSpPr>
          <p:spPr>
            <a:xfrm>
              <a:off x="68580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konomické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38"/>
            <p:cNvSpPr/>
            <p:nvPr/>
          </p:nvSpPr>
          <p:spPr>
            <a:xfrm>
              <a:off x="334224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ersonální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039"/>
            <p:cNvSpPr/>
            <p:nvPr/>
          </p:nvSpPr>
          <p:spPr>
            <a:xfrm>
              <a:off x="599976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kologické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040"/>
            <p:cNvSpPr/>
            <p:nvPr/>
          </p:nvSpPr>
          <p:spPr>
            <a:xfrm>
              <a:off x="685800" y="3745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Zoologov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1"/>
            <p:cNvSpPr/>
            <p:nvPr/>
          </p:nvSpPr>
          <p:spPr>
            <a:xfrm>
              <a:off x="5999760" y="3745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Údržba, úkli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2"/>
            <p:cNvSpPr/>
            <p:nvPr/>
          </p:nvSpPr>
          <p:spPr>
            <a:xfrm>
              <a:off x="2113200" y="4627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Ošetřovatel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43"/>
            <p:cNvSpPr/>
            <p:nvPr/>
          </p:nvSpPr>
          <p:spPr>
            <a:xfrm>
              <a:off x="3342240" y="3745080"/>
              <a:ext cx="2457720" cy="5860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Veterináři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044"/>
            <p:cNvSpPr/>
            <p:nvPr/>
          </p:nvSpPr>
          <p:spPr>
            <a:xfrm>
              <a:off x="2113200" y="5509440"/>
              <a:ext cx="2457720" cy="5860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řednášejíc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56000" y="260280"/>
            <a:ext cx="64008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Motivace zaměstnanců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11280" y="1052280"/>
            <a:ext cx="64008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šichni naši zaměstnanci mají vstupné do našeho areálu i mimo pracovní dobu zdarma. Pro jejich blízké příbuzné poskytujeme karty s 50% slevou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Údržba (elektrikáři, IT technici,…) mají k dispozici služební auta s logem Zoo. Mohou jej využívat i v osobním čase, avšak pohonné hmoty a škody způsobené vlastní vinou si hradí sami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Zoologové i veterináři mají možnost účastnit se dvakrát za rok konkurzů a vycestovat na speciální zoologické kurzy do afrických rezervací. Při této příležitosti se vzdělají v oblasti tamějších metod ošetřování, léče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zvířat</a:t>
            </a: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a vedení těchto zařízeních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šichni zoologové i veterináři se během roku účastní vzdělávacích kurzů, jak z oblasti fauny, tak flóry, podle zaměření práce a podle zájmů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echnologické vliv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Vybavení:</a:t>
            </a:r>
            <a:br>
              <a:rPr sz="24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Klimatizační systémy v paviló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estavěné vodotrysky ve všech externích i interních (mořský pavilon) vodních plochá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Filtry na okysličení vody (5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3x automat na horké nápoje, 2x automat na studené nápoje, 2x automat s občerstvení pro návště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Automaty na vodu pro zaměstnance (4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Informační počítače s dotykovou obrazovkou v pavilonech (5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Rozvah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411280" y="1773360"/>
          <a:ext cx="6400800" cy="3670200"/>
        </p:xfrm>
        <a:graphic>
          <a:graphicData uri="http://schemas.openxmlformats.org/drawingml/2006/table">
            <a:tbl>
              <a:tblPr/>
              <a:tblGrid>
                <a:gridCol w="1989360"/>
                <a:gridCol w="1211040"/>
                <a:gridCol w="2028960"/>
                <a:gridCol w="11714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em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udov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ovitý majet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w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víř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klad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ěžný úč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raven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hledávky odb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hledávky zam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0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300 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120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 6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8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56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6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kladní kapitá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zervní fo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i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louhodobý úvě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vazky dodav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vazky k F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lužné mzd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068 0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 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 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 2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CELKEM                       7 373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CELKEM                       7 373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Účet zisků a ztrá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484360" y="1268280"/>
          <a:ext cx="6400800" cy="4888080"/>
        </p:xfrm>
        <a:graphic>
          <a:graphicData uri="http://schemas.openxmlformats.org/drawingml/2006/table">
            <a:tbl>
              <a:tblPr/>
              <a:tblGrid>
                <a:gridCol w="1917720"/>
                <a:gridCol w="1282680"/>
                <a:gridCol w="1886040"/>
                <a:gridCol w="131436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MÁ DÁ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D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46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4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5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4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39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6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39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9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2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OB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1 163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OB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2 133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D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7</a:t>
                      </a: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Arial"/>
                        </a:rPr>
                        <a:t>85 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2:03:50Z</dcterms:created>
  <dc:creator>morcinkova</dc:creator>
  <dc:description/>
  <dc:language>en-US</dc:language>
  <cp:lastModifiedBy>Igor</cp:lastModifiedBy>
  <dcterms:modified xsi:type="dcterms:W3CDTF">2014-09-13T15:02:51Z</dcterms:modified>
  <cp:revision>41</cp:revision>
  <dc:subject/>
  <dc:title>MARKETING A MANAGEMENT</dc:title>
</cp:coreProperties>
</file>