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D2DD5-FAA7-400B-A80A-33F160E17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CB77A-29DB-447A-A63D-47D6FFF9E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3549B-BE16-4A64-B460-88914AC87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FB212-59D4-41ED-8F88-21A56E018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F20D5-4D42-45AC-A66C-C904A1E07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6382B-D609-47C9-9C8A-2BF4EC0B5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5E156-95CF-41B1-86F0-6FD3DBB15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77F57-4EA6-4DD8-8CF4-01278DC4F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273B3-817C-4820-B586-E41F160BA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40B2D-73E3-4946-9F81-C737089B1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1CB07-A5F9-4890-94EA-F75CEF80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F03C6-D319-441A-8448-4F0EBC70D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BAF7C-9A75-45D0-B7F1-7E4B7A4D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AFD88-AB8F-44B9-899B-1D7C1A84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98BFF-6915-4091-ADC5-FE94B6C48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71391-443C-4685-B222-3822ED02B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2D26B-6C7B-4A78-A14C-3F64C595E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D1322-3FE2-4797-8F64-4AAB6A2D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1B87D-6BE7-4C42-9043-9F49B45D0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61F3A-E0EF-4B49-A46A-4B1B16972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CFCC5-6D79-4649-8AC2-FE20EA231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2477A-C0F9-42AE-9D20-EE48683F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ACA35-9CE6-4815-B792-56F03293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C0D8F-A925-4062-B5EC-65FFFAEB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D9A45-0282-4C01-BB5D-213D271307F3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3CA2E-B700-4F8E-A6FA-46301FC74FD2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Výukový materiál zpracován v rámci projektu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EU peníze školá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1420920"/>
                <a:gridCol w="1584360"/>
                <a:gridCol w="2665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Y_32_INOVACE_19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0. 11. 20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e5e5ff"/>
                </a:solidFill>
                <a:latin typeface="Garamond"/>
              </a:rPr>
              <a:t>Rozhodovací proc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1280" y="980640"/>
            <a:ext cx="800712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Garamond"/>
              </a:rPr>
              <a:t>Poznání potřeb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– potřeby mohou být vyvolány vnitřním prostředím (poruchové stroje, nekvalitní materiál,…) nebo vnějším prostředím (změněné potřeby zákazníků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Garamond"/>
              </a:rPr>
              <a:t>Specifikace výrobku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– u opakovaného nákupu jsou podmínky známé, u nových nákupů je třeba určit požadovanou kvalitu, spolehlivost, cenu, množství,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Garamond"/>
              </a:rPr>
              <a:t>Poznání dodavatelů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– firma zjišťuje, jaké výrobky a služby a za jakých podmínek na trhu existují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00"/>
                </a:solidFill>
                <a:latin typeface="Garamond"/>
              </a:rPr>
              <a:t>Jaké informace o dodavateli vás musí zajímat a kde je můžete získat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Garamond"/>
              </a:rPr>
              <a:t>Vyhodnocení a výběr dodavatele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 – podle zvolených kritérií vybíráme nejvhodnějšího dodavatele a uzavíráme s ním kupní smlouv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00"/>
                </a:solidFill>
                <a:latin typeface="Garamond"/>
              </a:rPr>
              <a:t>Jaká kritéria jsou podle vás rozhodující při výběru dodavatel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Garamond"/>
              </a:rPr>
              <a:t>Vyhodnocení nákupu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 – zhodnocení spokojenosti s nákup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e5e5ff"/>
                </a:solidFill>
                <a:latin typeface="Garamond"/>
              </a:rPr>
              <a:t>Typy nákupního chování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Garamond"/>
              </a:rPr>
              <a:t>Nový nákup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– firma nakupuje výrobek poprvé, chce maximum informací, zvažuje rizik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Garamond"/>
              </a:rPr>
              <a:t>Modifikovaný nákup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– firma už jednou nebo vícekrát výrobek koupila, při dalším nákupu už nepotřebuje tolik informací. Zvažuje riziko spojené s vyšší cenou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Garamond"/>
              </a:rPr>
              <a:t>Přímý nákup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– firma už dodavatele zná, nakupuje často, riziko je minimální, nežádá už proto nové informa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Garamond"/>
              </a:rPr>
              <a:t>Zkuste najít konkrétní případy nového nákupu, modifikovaného nákupu i přímého nákupu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Zdroj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ŠVARCOVÁ, J. 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Ekonomie – stručný přehled,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vydání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ro rok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2012/2013 Zlín : Nakladatelství a vydavatelství Ing. Jena Švarcová, Ph. D., CEED, 2012. ISBN 987-80-87301-16-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VĚTLÍK, J. 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Marketing – cesta k trhu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, Zlín: EKKA, 1994. ISBN 80-900015-8-0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1739880" y="274680"/>
            <a:ext cx="566424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468360" y="1495440"/>
          <a:ext cx="8229600" cy="4948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odnikání a podnikové činnost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ostředí podnik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rketing a manage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ázev učebního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hování spotřebitele na trh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26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ezentace k seznámení studentů s chováním domácností a firem na trhu, s jejich rozhodovacím procesem. Možná diskuze o rozhodovacím procesu při různých nákupech v jejich domácnostech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ozhodovací proces, typy nákupního chován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e5e5ff"/>
                </a:solidFill>
                <a:latin typeface="Garamond"/>
              </a:rPr>
              <a:t>Chování spotřebitele na trhu</a:t>
            </a:r>
            <a:r>
              <a:rPr b="1" lang="cs-CZ" sz="6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5224320"/>
            <a:ext cx="640080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e5e5ff"/>
                </a:solidFill>
                <a:uFillTx/>
                <a:latin typeface="Garamond"/>
              </a:rPr>
              <a:t>Chování individuálních kupujících a domácností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8208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Garamond"/>
              </a:rPr>
              <a:t>Spotřebitel může při rozhodování o koupi vystupovat v 5 rolích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Iniciátor – ten, kdo dává podnět k nákup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Ovlivňovatel – ten, kdo svými připomínkami, návrhy,… koupi ovlivňuj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Rozhodovatel – ten, kdo rozhodne o nákup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Kupující – ten, kdo uskuteční náku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Uživatel, spotřebitel – ten, kdo předmět užívá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00"/>
                </a:solidFill>
                <a:latin typeface="Garamond"/>
              </a:rPr>
              <a:t>V jaké roli vystupujete doma Vy při nákupu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00"/>
                </a:solidFill>
                <a:latin typeface="Garamond"/>
              </a:rPr>
              <a:t>a/ potrav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00"/>
                </a:solidFill>
                <a:latin typeface="Garamond"/>
              </a:rPr>
              <a:t>b/ elektronik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38512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e5e5ff"/>
                </a:solidFill>
                <a:latin typeface="Garamond"/>
              </a:rPr>
              <a:t>Rozhodovací proce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4920" y="549360"/>
            <a:ext cx="800748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Garamond"/>
              </a:rPr>
              <a:t>Poznání problému</a:t>
            </a:r>
            <a:r>
              <a:rPr b="0" i="1" lang="cs-CZ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– člověk si uvědomuje potřebu, která může vycházet z vnitřních nebo vnějších pohnute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Garamond"/>
              </a:rPr>
              <a:t>Zjišťování informací</a:t>
            </a: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 – kupující může zjišťovat informace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Aktivně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Pasivně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Zdroje informací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lnSpc>
                <a:spcPct val="8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Sdělovací prostředk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lnSpc>
                <a:spcPct val="8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Osobní zdroj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lnSpc>
                <a:spcPct val="8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Jiné zdroj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00"/>
                </a:solidFill>
                <a:latin typeface="Garamond"/>
              </a:rPr>
              <a:t>Které zdroje informací jsou pro vás nejdůvěryhodnější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00"/>
                </a:solidFill>
                <a:latin typeface="Garamond"/>
              </a:rPr>
              <a:t>Jaké zdroje informací doma používáte při nákupu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00"/>
                </a:solidFill>
                <a:latin typeface="Garamond"/>
              </a:rPr>
              <a:t>a/ potrav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00"/>
                </a:solidFill>
                <a:latin typeface="Garamond"/>
              </a:rPr>
              <a:t>b/ elektronik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4" marL="1974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Garamond"/>
              </a:rPr>
              <a:t>Zhodnocení alternativ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– kupující hodnotí informace, které získal a rozhoduje se o druhu a značce výrobk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Garamond"/>
              </a:rPr>
              <a:t>Rozhodnutí o nákupu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– rozhodnutí  také o tom, kdy a kde výrobek koupí. V této fázi ještě může kupující od svého rozhodnutí o nákupu ustoupi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Garamond"/>
              </a:rPr>
              <a:t>Vyhodnocení nákupu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– chování spojené s činnostmi po nákupu, má 2 etapy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pokupní uspokojen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pokupní činnos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Garamond"/>
              </a:rPr>
              <a:t>Jak se chováte v případě, ž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Garamond"/>
              </a:rPr>
              <a:t>Jste s výrobkem spokojeni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Garamond"/>
              </a:rPr>
              <a:t>Nejste s výrobkem spokojeni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e5e5ff"/>
                </a:solidFill>
                <a:latin typeface="Garamond"/>
              </a:rPr>
              <a:t>Typy nákupního chování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5280" y="1312560"/>
            <a:ext cx="80074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Garamond"/>
              </a:rPr>
              <a:t>Automatické chování</a:t>
            </a: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 – jedná se o častý nákup, kupující výrobek dobře zná, věnuje nákupu méně času a pozornosti, nepotřebuje hledat další informace. Např. potravin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Garamond"/>
              </a:rPr>
              <a:t>Řešení omezeného problému</a:t>
            </a: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 – jedná se o nákup, kdy zákazník je celkem dobře obeznámen se sortimentem, nezná ale všechny značky, podmínky koupě atd. Nákup provádí občas, např. oblečení, kosmetik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Garamond"/>
              </a:rPr>
              <a:t>Řešení extenzivního problému</a:t>
            </a: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 – jedná se o nákup neznámého zboží, výrobek je drahý, zákazník potřebuje mnoho informací, čas na rozmyšlení, zhodnocení alternativ a rozhodnutí o nákupu, např. auto, byt, vybavení domácnost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e5e5ff"/>
                </a:solidFill>
                <a:uFillTx/>
                <a:latin typeface="Garamond"/>
              </a:rPr>
              <a:t>Chování firem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5280" y="1844280"/>
            <a:ext cx="80074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Chování firem jako kupujících je složitější než u individuálního kupujícíh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00"/>
                </a:solidFill>
                <a:latin typeface="Garamond"/>
              </a:rPr>
              <a:t>Zkuste najít důvod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4920" y="549360"/>
            <a:ext cx="82803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Hlavní důvod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Do procesu nákupu je zapojeno více osob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Rozhodnutí o nákupu trvá delší dob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Osoby, které o nákupu rozhodují, jsou ovlivňovány různými motivy (racionálními, emocionálními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Nakupované výrobky jsou často technicky náročné a osoby, které je nakupují, musí mít určité technické a obchodní znalost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7:14:57Z</dcterms:created>
  <dc:creator>kabek</dc:creator>
  <dc:description/>
  <dc:language>en-US</dc:language>
  <cp:lastModifiedBy>Igor</cp:lastModifiedBy>
  <dcterms:modified xsi:type="dcterms:W3CDTF">2014-09-13T14:55:23Z</dcterms:modified>
  <cp:revision>17</cp:revision>
  <dc:subject/>
  <dc:title>Chování spotřebitele na trhu</dc:title>
</cp:coreProperties>
</file>