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24B-7525-466B-8381-577C9629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189-DA6C-4B95-917D-16BC1C18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811-6617-4017-8ED1-F5E23DA8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5A7-D24A-4C17-9721-6394E030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F98E-4759-46AE-975D-5E75D3E5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0F9-A12A-4184-85A2-623E3B91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75A6-ED40-4F63-996E-F2B6B003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A942-3C3E-4AFB-A002-91210FB3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1546-0A34-47B7-9419-DC041B20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BFB3-CCE9-425F-A1CF-39CFCDAA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C029-4BB0-46DA-A7C9-5DF3CAE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75C-1426-4D73-AF85-23BB9FE1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B3A-027F-4D73-8495-5E88BC5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DDB1-CCA9-4973-8660-C159B2D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1E64-B5BE-4884-842F-2FEC0D32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9B2A-5A76-408E-91FE-E949F72B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518C-B450-4A11-92B6-5CE83863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7F7-F9EB-4EB6-9C3F-C3545549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96C-4C85-4458-8F3D-F2026158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4A6-4261-42EB-81F4-C999DFC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47E-6742-4765-A49B-2925F9A7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555-C49C-4032-A020-5B0CB426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84D-E878-4D7C-A99F-121BE49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81E-2DF4-41D4-9A3A-AFE4A9B2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96F1-9E51-4692-B42A-ACC7B9E56B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D6AA-89B8-4714-B045-199114ACFD1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Příležit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ískávání nových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nových trh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stranění bariér na zahraničních trz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užití nových technologií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Hroz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stup nové konkurence na tr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kr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ychle se měnící potřeby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tabilní politická situace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00000" y="530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Charakterizujte silné stránky, slabé stránky, příležitosti a hrozby vaší ško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39640" y="1495440"/>
          <a:ext cx="8229600" cy="5321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lýza prostředí z pohledu managemen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i se seznamují s nutností zkoumat prostředí z různých úhlů pohledů, nalézat tržní výhody a způsoby jejich využití, odhalovat své silné a slabé stránky, příležitosti a hrozby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kurence, tržní výhody, SWOT analý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2818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Analýza prostředí z pohledu managementu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8720" y="4964040"/>
            <a:ext cx="6993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Prostředí zkoumáme podle těchto vybraných analýz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terova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ST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tržních vý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WOT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Porterova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grpSp>
        <p:nvGrpSpPr>
          <p:cNvPr id="99" name="Zástupný symbol pro obsah 5122"/>
          <p:cNvGrpSpPr/>
          <p:nvPr/>
        </p:nvGrpSpPr>
        <p:grpSpPr>
          <a:xfrm>
            <a:off x="1288440" y="1299240"/>
            <a:ext cx="6585480" cy="2097000"/>
            <a:chOff x="1288440" y="1299240"/>
            <a:chExt cx="6585480" cy="2097000"/>
          </a:xfrm>
        </p:grpSpPr>
        <p:sp>
          <p:nvSpPr>
            <p:cNvPr id="100" name="_s1028"/>
            <p:cNvSpPr/>
            <p:nvPr/>
          </p:nvSpPr>
          <p:spPr>
            <a:xfrm flipH="1">
              <a:off x="1576800" y="2344320"/>
              <a:ext cx="302292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1288440" y="2090160"/>
              <a:ext cx="179964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Dodav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671720" y="2344320"/>
              <a:ext cx="2735640" cy="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111000" y="2126160"/>
              <a:ext cx="176292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Odběr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 flipV="1">
              <a:off x="4600440" y="1834200"/>
              <a:ext cx="1080" cy="26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3448080" y="1299240"/>
              <a:ext cx="230256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Nové vstupy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213000" y="2056320"/>
              <a:ext cx="2645280" cy="60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Podniky v odvětví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(i náš podnik)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3448080" y="2841840"/>
              <a:ext cx="2302560" cy="55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ožné substitut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 flipH="1" flipV="1">
              <a:off x="4581000" y="2643480"/>
              <a:ext cx="1080" cy="21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860640"/>
            <a:ext cx="88930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může být novým vstupem v odvětví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to jsou substitu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Podle jakých kritérií volíme dodavatele a z jakých zdrojů o nich získáváme informa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nás bude zajímat u našich odběratelů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Nové v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vé firmy, které vstupují do odvětví, nové výrobky, služby, nové technologie, postupy suroviny atp. Pro vstup nových prvků na trh jsou důležité tyto faktory – náklady na výroby, značka, situace ekonomik, rozdíly výrobků vlastních a konkurenčních, vládní politika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Odběr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odběrateli, jejich počet, síla, odebírané množství, podmínky jejich nákupu at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Dodav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dodavateli, jejich dodací podmínky, možnost dodávek od jiných dodavatelů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Možné substitu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sou výrobky, které mohou funkčně nahradit výrobky podniku na trhu (gramofon.desky x CD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STE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00"/>
                </a:solidFill>
                <a:latin typeface="Tahoma"/>
              </a:rPr>
              <a:t>Tato analýza hodnotí silné a slabé stránky podniku z těchto hledisek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Tato analýza se v poslední době velmi často doplňuje ještě o jedno hledisko – vzniká analýza SWTE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00"/>
                </a:solidFill>
                <a:latin typeface="Tahoma"/>
              </a:rPr>
              <a:t>W – poča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 hledisk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U jakých firem nás bude zajímat hledisko počasí a proč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tržních výhod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Cíl: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600" spc="-1" strike="noStrike">
                <a:solidFill>
                  <a:srgbClr val="ffff00"/>
                </a:solidFill>
                <a:latin typeface="Tahoma"/>
              </a:rPr>
              <a:t>Nalezení a vybudování tržních konkurenčních výh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stup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tění potřeb cílové skupiny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hodnocení potřeb zákazníků podle důležito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aždé dílčí potřebě přiřazujeme očekávání zákazníka, porovnáváme ho s vlastní nabídkou a specifikujeme výhody a nevýhody vůči konkuren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potřeby zákazníků lze uspokojit lépe a stanovujeme nutná opatře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zda realizace těchto opatření bude mít vliv na rozhodovací proces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nové konkurenční výhody můžeme vybudov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tanovujeme opatření nutná k uchování současných výhod a k vybudování nových výh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Proč je pro firmu důležité analyzovat tržní výhod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SWOT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iln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inanční sí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íz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é jmé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ovační schop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zilidské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á organizač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derní technické vybavení 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lab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vyjasněná strate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staralé zaříz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ruchovost vybav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patná dostup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dostatečný výzkum a vývoj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1:25:29Z</dcterms:created>
  <dc:creator>klapuchova</dc:creator>
  <dc:description/>
  <dc:language>en-US</dc:language>
  <cp:lastModifiedBy>Igor</cp:lastModifiedBy>
  <dcterms:modified xsi:type="dcterms:W3CDTF">2014-09-13T14:55:06Z</dcterms:modified>
  <cp:revision>20</cp:revision>
  <dc:subject/>
  <dc:title>Analýza prostředí z pohledu managementu</dc:title>
</cp:coreProperties>
</file>