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9A373-D0DC-42C8-A79B-B5643200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45019-07AD-4437-A788-15D29919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1B890-2A7A-45BD-9E42-1D891571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401F4-5E8D-4BB6-9E25-320B47B3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B80F-394F-4D16-A0FE-2C3B6DE6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6D38-D994-42C1-9CD6-C537AF0D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ABC2-63E1-4F48-B20F-2FC1803C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F52E-8CEF-4D0F-8E61-2492C859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7430-B28A-4081-AA76-3F4E0DE5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06DD-8E84-4636-83F2-68E361C9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21C9-5995-4224-95BB-1FBE56B1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F73F5-DF48-41B7-9D23-E3E82AF3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ADFC-1B42-4984-8360-E5360449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08C0-7171-4F4F-8058-D7C1FBED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CCD8-23F4-44A1-A01F-1C32B72E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21BD-7AB1-431E-9EBA-D974EF68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DE91-8D39-4C57-83A8-11C7B88B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2C4FC-B422-488B-9B25-BD23D189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E68FE-89BE-48BA-8E53-BD818F8D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627FB-8D05-488D-96CB-980FD6E0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5EF41-E2E6-4F66-B233-6C0402AC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ACF5-551E-474A-9C41-4F4F54A5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C2FCB-A076-47F2-99CA-BA9245E6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5B398-41C0-41B8-B5D7-6ED59449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5CD9-7D99-4ADF-A675-7B62F208566B}" type="slidenum">
              <a:rPr b="0" lang="cs-CZ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8225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857B-8769-471F-A774-D1650279DD6A}" type="slidenum">
              <a:rPr b="0" lang="cs-CZ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204920"/>
                <a:gridCol w="1657440"/>
                <a:gridCol w="2808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1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739880" y="457200"/>
            <a:ext cx="566424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457200" y="1905120"/>
          <a:ext cx="8229600" cy="4511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i se seznamují s dotazníkem a hledají chyby v jeho sestave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ázky otevřené, uzavřen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Arial"/>
              </a:rPr>
              <a:t>Dotazník - ukázk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2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žení občané, ke dn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3.1.2009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ro Vás otevíráme nové nákupní centrum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DD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které bude zaměřené na oblečení pro všechny věkové kategorie. Proto by nás zajímalo, co Vám zde v nákupním centru chybí, co byste si zde přáli najít a další připomínk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Co byste si přáli najít v oddělení pro kojence a batolat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větší výběr obleč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rozšíření sortimentu o obu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dětskou kosmetiku a jiné doplňky ( hračky, vaničky, chodítka, chrastítka apo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Jiné …………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Jakého druhu zboží byste uvítali v dětském oddělení ví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oblečení pro volný č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oblečení zaměřené na určitou tématiku (sportovní, kulturní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Jiné …………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7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3. Co byste si přáli mít v dámském a pánském oddělení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oblečení pro volný č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společenské obleč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Jiné 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4. Dáváte přednost obuvi vysoké kva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5. V módních doplňcích chcete převážně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opasky, šper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kabelky, kožená galanter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kravaty, manžetové knoflíčky (pánské doplňk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Jiné 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6. Přejete si mít v našem nákupním centru malou kavárnu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7. Přejete si v našem nákupním centru mít dětský koutek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8. Jaké oddělení byste zde ještě chtěli najít?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. Uvítali byste kvalitu služeb jakou je například asistentka nebo poradkyně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0. Jak byste naše nákupní centrum ohodnotili na stupnici 1 –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 zakroužkujte )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jlepší –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jhorší –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 – 2 – 3 – 4 –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1. Jak často nakupujete oblečení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Maximálně 1 x v měsí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2 – 4 x  měsíčn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5 x a více  v měsí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2. Js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mu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ž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3. Váš vě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0 – 18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19 – 29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30 – 50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51 a více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3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4. Ve Vaší rodině se nacház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______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ětí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5. Váš měsíční příjem 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0 – 10 000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11 000 – 24 000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25 000 – 40 000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41 000 Kč a ví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ěkujeme za vyplnění našeho dotazníku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hodnoťte, zda dotazník obsahuje všechny čá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teré otázky jsou otevřené a které uzavřené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 každé otázky určete druh (dichotonická, vícevýběrová, vstupní věta,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sou splněny všechny požadavky kladené na sestavení dotazníku? Najděte případné chyby a zkuste je odstra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07:30:40Z</dcterms:created>
  <dc:creator>Administrator</dc:creator>
  <dc:description/>
  <dc:language>en-US</dc:language>
  <cp:lastModifiedBy>Igor</cp:lastModifiedBy>
  <dcterms:modified xsi:type="dcterms:W3CDTF">2014-09-13T15:24:47Z</dcterms:modified>
  <cp:revision>13</cp:revision>
  <dc:subject/>
  <dc:title>Snímek 1</dc:title>
</cp:coreProperties>
</file>