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889A-A2D5-45A0-9BCC-75C640218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1DD4-DED2-4EC0-98BA-814787C2F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1281-3565-4C47-8402-F88135B91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0843-4C36-4742-A608-06F93A823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A345-62AA-46DB-83F7-C6252893A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3D48-7103-4F81-93F0-7A168471E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F2ED-8D7C-417E-A296-D08F8E3C9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1990-8070-4367-A5D9-DFD407CF6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6E91-4BC1-4FC6-B101-1B56E672D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3621-09C9-4841-BBE1-8450AB9B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BA4B-0DB2-4B51-B837-C070629B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A316-8E40-48F7-868A-B904677B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A91B5-EB11-49F1-9042-1DB66E5DDC1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1278000"/>
                <a:gridCol w="1584360"/>
                <a:gridCol w="280836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_32_INOVACE_1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 9. 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Členění oběžného majetk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soby – věcná forma oběžného majet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teriál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ákladní materiál a surovi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mocný materi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ba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honné hmo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robné nářad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ancelářské potřeb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istící prostřed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dokončená výroba – nedokončené výrobky v takovém stupni zpracování, že nejsou prodej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lotovary – rozpracované výrobky, které by se už daly prodáv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otové výrobky – určeny k prode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boží – vše, co je zakoupeno za účelem dalšího prode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vířata – zásoby pro zemědělskou výrob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eněžní forma oběžného majet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rátkodobý finanční maje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eníze v pokladn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eníze na běžném úč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eni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rátkodobé cenné papí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hledáv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7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7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7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7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7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7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7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7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7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7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7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7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7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7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7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7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Drobný majet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435880" cy="50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000000"/>
                </a:solidFill>
                <a:uFillTx/>
                <a:latin typeface="Arial"/>
              </a:rPr>
              <a:t>Charakteristik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oužívá se déle než 1 ro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Má pořizovací cenu menší než 40 000,-, popř. 60 000,- Kč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000000"/>
                </a:solidFill>
                <a:uFillTx/>
                <a:latin typeface="Arial"/>
              </a:rPr>
              <a:t>Členění drobného majetku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Hmotn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Nehmotn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3366ff"/>
                </a:solidFill>
                <a:latin typeface="Arial"/>
              </a:rPr>
              <a:t>Uveďte příklady drobného hmotného a nehmotného majetk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Zdroje krytí majet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5949720"/>
            <a:ext cx="8229600" cy="1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11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2565360"/>
            <a:ext cx="822960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3366ff"/>
                </a:solidFill>
                <a:latin typeface="Arial"/>
              </a:rPr>
              <a:t>Jaké znáte zdroje krytí majetku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3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3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lastní zdr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kladní kapitá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ondy tvořené ze zi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ff"/>
                </a:solidFill>
                <a:latin typeface="Arial"/>
              </a:rPr>
              <a:t>Jak můžeme použít disponibilní zis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Cizí zdro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Bankovní úvě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Ostatní závazk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ůči dodavatelů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ůči F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ůči zaměstnanců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ůči OSS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ůči zdravotním pojišťovnám,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3366ff"/>
                </a:solidFill>
                <a:latin typeface="Arial"/>
              </a:rPr>
              <a:t>S jakými hospodářskými operacemi je spjat vznik závazků vůči uvedeným institucím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5280" y="2637000"/>
            <a:ext cx="8229600" cy="26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66ff"/>
                </a:solidFill>
                <a:latin typeface="Arial"/>
              </a:rPr>
              <a:t>Co je to rozvaha a kdy ji sestavuje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3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3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3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3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Rozvaha k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ajetek = Aktiva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Zdroje krytí = Pas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. Dlouhodobý majetek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. Vlastní zd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Hmotný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Základní kapitá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Nehmotný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Fon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Finanč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Z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. Oběžný majetek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. Cizí zd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Zásob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Bankovní úvě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KFM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Ostatní závaz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Pohledáv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oučet aktiv = součet pas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 u="sng">
                <a:solidFill>
                  <a:srgbClr val="000000"/>
                </a:solidFill>
                <a:uFillTx/>
                <a:latin typeface="Arial"/>
              </a:rPr>
              <a:t>Příklad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Sestavte přehled aktiv a pasiv, pokud víte, že podnik měl k 31. 12. tento stav majetku a zdrojů krytí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1. závazky vůči dodavatelům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110 000,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2. pohledávky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  30 000,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3. dlouhodobý majetek celkem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       3 500 000,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4. peníze v pokladně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    5 000,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5. materiál na skladě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215 000,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6. krátkodobý bankovní úvěr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  45 000,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7. výrobky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  38 000,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8. peníze na BÚ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  62 000,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9. závazky vůči zaměstnancům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  76 000,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10. ZK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       3 619 000,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ešení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20"/>
          <p:cNvGrpSpPr/>
          <p:nvPr/>
        </p:nvGrpSpPr>
        <p:grpSpPr>
          <a:xfrm>
            <a:off x="395280" y="0"/>
            <a:ext cx="8066160" cy="12528360"/>
            <a:chOff x="395280" y="0"/>
            <a:chExt cx="8066160" cy="12528360"/>
          </a:xfrm>
        </p:grpSpPr>
        <p:sp>
          <p:nvSpPr>
            <p:cNvPr id="91" name="AutoShape 21"/>
            <p:cNvSpPr/>
            <p:nvPr/>
          </p:nvSpPr>
          <p:spPr>
            <a:xfrm>
              <a:off x="395280" y="0"/>
              <a:ext cx="8066160" cy="1252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22"/>
            <p:cNvSpPr/>
            <p:nvPr/>
          </p:nvSpPr>
          <p:spPr>
            <a:xfrm>
              <a:off x="556560" y="835200"/>
              <a:ext cx="1290600" cy="125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Aktiv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23"/>
            <p:cNvSpPr/>
            <p:nvPr/>
          </p:nvSpPr>
          <p:spPr>
            <a:xfrm>
              <a:off x="3299040" y="835200"/>
              <a:ext cx="2097000" cy="125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Rozvaha k 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24"/>
            <p:cNvSpPr/>
            <p:nvPr/>
          </p:nvSpPr>
          <p:spPr>
            <a:xfrm>
              <a:off x="7009560" y="835200"/>
              <a:ext cx="1290600" cy="125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Pasiv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25"/>
            <p:cNvSpPr/>
            <p:nvPr/>
          </p:nvSpPr>
          <p:spPr>
            <a:xfrm>
              <a:off x="556560" y="2088000"/>
              <a:ext cx="774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26"/>
            <p:cNvSpPr/>
            <p:nvPr/>
          </p:nvSpPr>
          <p:spPr>
            <a:xfrm>
              <a:off x="395280" y="2505600"/>
              <a:ext cx="4033080" cy="167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DM celkem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    3 500 000,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OM – materiál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       215 000,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- výrobky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         38 000,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- peníze v pokl.          5 000,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- BÚ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         62 000,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- pohledávky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         30 000,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27"/>
            <p:cNvSpPr/>
            <p:nvPr/>
          </p:nvSpPr>
          <p:spPr>
            <a:xfrm>
              <a:off x="4267080" y="2505600"/>
              <a:ext cx="4033080" cy="167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VK – ZK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      3 619 000,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CK – bank. Úvěr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           45 000,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- dodavatelé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         110 000,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- zaměstnanci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           76 000,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28"/>
            <p:cNvSpPr/>
            <p:nvPr/>
          </p:nvSpPr>
          <p:spPr>
            <a:xfrm>
              <a:off x="556560" y="4176000"/>
              <a:ext cx="774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29"/>
            <p:cNvSpPr/>
            <p:nvPr/>
          </p:nvSpPr>
          <p:spPr>
            <a:xfrm>
              <a:off x="395280" y="4593600"/>
              <a:ext cx="4033080" cy="167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Celkem A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       3 850 000,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30"/>
            <p:cNvSpPr/>
            <p:nvPr/>
          </p:nvSpPr>
          <p:spPr>
            <a:xfrm>
              <a:off x="4267080" y="4593600"/>
              <a:ext cx="4033080" cy="125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Celkem P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      3 850 000,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31"/>
            <p:cNvSpPr/>
            <p:nvPr/>
          </p:nvSpPr>
          <p:spPr>
            <a:xfrm>
              <a:off x="4267080" y="2088000"/>
              <a:ext cx="0" cy="375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1739880" y="274680"/>
            <a:ext cx="56642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nikání a podnikové čin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středí podni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ing a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zentace k zopakování a shrnutí učiva ekonomi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louhodobý majetek, oběžný majetek, vlastní zdroje krytí, cizí zdroje krytí, rozva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ŠVARCOVÁ, J.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Ekonomie – stručný přehled,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dání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 rok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012/2013 Zlín : Nakladatelství a vydavatelství Ing. Jena Švarcová, Ph. D., CEED, 2012. ISBN 987-80-87301-16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Majetek podni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2781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66ff"/>
                </a:solidFill>
                <a:latin typeface="Arial"/>
              </a:rPr>
              <a:t>Definujte majetek podnik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3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jetek, který podnikatel vloží do podnikání se nazývá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obchodní maje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4"/>
          <p:cNvGrpSpPr/>
          <p:nvPr/>
        </p:nvGrpSpPr>
        <p:grpSpPr>
          <a:xfrm>
            <a:off x="1476360" y="1844640"/>
            <a:ext cx="7201080" cy="4321080"/>
            <a:chOff x="1476360" y="1844640"/>
            <a:chExt cx="7201080" cy="4321080"/>
          </a:xfrm>
        </p:grpSpPr>
        <p:sp>
          <p:nvSpPr>
            <p:cNvPr id="54" name="AutoShape 5"/>
            <p:cNvSpPr/>
            <p:nvPr/>
          </p:nvSpPr>
          <p:spPr>
            <a:xfrm>
              <a:off x="1476360" y="1844640"/>
              <a:ext cx="7201080" cy="432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6"/>
            <p:cNvSpPr/>
            <p:nvPr/>
          </p:nvSpPr>
          <p:spPr>
            <a:xfrm>
              <a:off x="3924720" y="2420640"/>
              <a:ext cx="1440000" cy="72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Obchodní majete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7"/>
            <p:cNvSpPr/>
            <p:nvPr/>
          </p:nvSpPr>
          <p:spPr>
            <a:xfrm>
              <a:off x="1476360" y="4293000"/>
              <a:ext cx="1584000" cy="72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Dlouhodobý majete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8"/>
            <p:cNvSpPr/>
            <p:nvPr/>
          </p:nvSpPr>
          <p:spPr>
            <a:xfrm>
              <a:off x="6229080" y="4293000"/>
              <a:ext cx="1728000" cy="72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Oběžný majete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9"/>
            <p:cNvSpPr/>
            <p:nvPr/>
          </p:nvSpPr>
          <p:spPr>
            <a:xfrm>
              <a:off x="4068720" y="4293000"/>
              <a:ext cx="1152000" cy="72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Drobný majete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10"/>
            <p:cNvSpPr/>
            <p:nvPr/>
          </p:nvSpPr>
          <p:spPr>
            <a:xfrm flipH="1">
              <a:off x="2052360" y="3141000"/>
              <a:ext cx="2016000" cy="115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11"/>
            <p:cNvSpPr/>
            <p:nvPr/>
          </p:nvSpPr>
          <p:spPr>
            <a:xfrm>
              <a:off x="5220720" y="3141000"/>
              <a:ext cx="1872000" cy="115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2"/>
            <p:cNvSpPr/>
            <p:nvPr/>
          </p:nvSpPr>
          <p:spPr>
            <a:xfrm>
              <a:off x="4644720" y="3141000"/>
              <a:ext cx="0" cy="115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249192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66ff"/>
                </a:solidFill>
                <a:latin typeface="Arial"/>
              </a:rPr>
              <a:t>Čím se liší majetek dlouhodobý a oběžný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3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Dlouhodobý majet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Charakteristik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ba použitelnosti je delší než 1 r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 stál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spotřebovává se ve výrobě najednou, ale opotřebovává 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000000"/>
                </a:solidFill>
                <a:uFillTx/>
                <a:latin typeface="Arial"/>
              </a:rPr>
              <a:t>Členění dlouhodobého majetku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Dlouhodobý hmotný majetek (DH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emovitý majetek – pozemky a budovy bez ohledu na jejich pořizovací ce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Movitý majetek – majetek, který má dobu použitelnosti nejméně 1 rok a pořizovací cenu větší než 40 000,-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Dlouhodobý nehmotný majetek (DNM) – doba použitelnosti je delší než 1 rok a pořizovací cena větší než 60 000,- (licence, autorská práva, software,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Dlouhodobý finanční majetek (DFM) – na dobu delší než 1 rok (dlouhodobé cenné papíry, dlouhodobé půjčky poskytnuté jiným podnikatelům, 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Oběžný majet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Charakteristik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ba použitelnosti kratší než 1 r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ění svoji podsta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e výrobě se spotřebováv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05:54:33Z</dcterms:created>
  <dc:creator>klapuchova</dc:creator>
  <dc:description/>
  <dc:language>en-US</dc:language>
  <cp:lastModifiedBy>Igor</cp:lastModifiedBy>
  <dcterms:modified xsi:type="dcterms:W3CDTF">2014-09-13T15:02:16Z</dcterms:modified>
  <cp:revision>19</cp:revision>
  <dc:subject/>
  <dc:title>Majetek podniku</dc:title>
</cp:coreProperties>
</file>