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890C-BAD7-4998-A42C-B73E2559589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5BD0-A33E-4EAF-9956-3496DD39BD1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E24C-631B-472C-BD48-73EAC48F7BB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9F5B-4BFB-42CE-993D-B833BAD18E9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F341-3B55-4927-9BF3-B05C09E202A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B407-2377-4B62-B751-09E081DB6FC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86F7-E1B1-4F81-A400-A518ABF3E7A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BA44-52A2-4233-B838-8437BA52085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9E4-33F6-464E-BED0-A0F33AB2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2CD-8286-4973-86D3-4AC3BD6A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831-9375-4F37-914C-E6EF2548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172-E4FE-4951-85E3-F74FB14E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202D-2821-4319-A8A3-572436AD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14A1-0C1D-4612-A1EB-101412B7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752C-BAD2-4ED0-B23A-081FCC90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5556-E077-41D5-AC2B-D3B59A19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2FBE-70D5-44FD-840C-A0E3D57B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B826-B675-4466-AB2A-7107449E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DC66-B2F4-4F0C-8650-13B87CBE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D4D-23C9-4EDC-801D-E5AB1CED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87ED-73D6-4479-84BC-CFE5C1CF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76BF-EF7B-457B-86B3-85DD7FDB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561B-3A4A-497F-BB1C-91ECCEF1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E285-1636-4EA6-8882-5B4E42E0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34DB-016A-42F4-9ED1-E86620C6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3DDDD-177B-4A56-A5A4-BFB85B99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72E4A-E18A-4426-90C6-4CFE44F4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4C235-CA0F-4021-A519-00BEF7D1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E20C-9A0B-4DAA-B513-B2E0678A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61207-BE73-4476-8B86-3C54B71C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340-FAD3-4BDC-BE92-CB732ADC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8E310-E0B6-4FE9-AA3E-5B5E371C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BA837-C7E1-457C-9745-A7BC802E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59B8F-EF28-46D2-ADF1-8965FAB7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BD23C-FF17-4622-AED5-CA07BBDB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285A5-E0B0-48E5-A004-86D1B018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7686F-A6FF-45A7-BC8D-835A9CFE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88440-A6B9-4195-BB97-E8766AD0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BB587-8F0F-4776-B0C0-1041ED85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58ABF-384B-4109-8312-62642435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A2439-806A-496A-8F11-69B4CD19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62F-2B5A-4793-BA95-583A0F43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956AC-ECF7-4335-9663-0447F3DA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029FF-BEC7-402B-A85C-F4BC3250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C5EF0-DE3E-424D-89D0-B93CD74B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BC85D-14AF-4CEA-9B43-CF4896B9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EE84-C6AE-43A0-AF24-59176259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34286-0F16-4957-9A06-F0252256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02E3E-1DF8-4B8A-AB7A-421A7A60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2C9F4-8AAA-430C-B505-409001A1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E3F00-E5A1-4475-93C3-25C6D6A4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410EF-BE27-4F6E-AD60-E253B32D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20C-1FD9-4AB8-B103-5298C1F1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86DFC-3B9E-4061-AD0F-5A4BF6A7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D53E7-054C-43DA-8CA9-216F2E7E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75373-D53C-41FE-BEDD-FEB7367A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D1FAD-18FE-4D6C-B19F-016F76BD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3A968-4F84-4C59-B59B-C9514A57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4CB7C-14AE-428F-BCBE-B59D41F8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D808A-2724-4783-8505-8FF73803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0681F-51AD-4CE6-A839-CCD35448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39D9B-57CD-420A-A01E-DD615383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EA3B8-EA50-4A05-9DEF-CCE51219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44D-4CAB-462B-B054-D2BF33FD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6CB34-1E92-4B9B-8C2F-2F5408EF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00A52-A806-4998-B11C-558D0C8B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CC93A-7AB4-4196-8F8A-A18B9C83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7851A-B45E-4486-8B1F-29BAFDFF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28BA4-0108-4677-AA76-0746E69E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0C5BB-7741-42B1-95AF-6886F24B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A8ADE-DA88-448F-834E-280B7733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4E6BA-9B94-4522-94AC-03E4E1C9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C03BB-190C-476E-9D83-21398483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8A9C2-B571-4CBD-954B-F2A65A8C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AD5-2D82-4EFA-BA08-BC28D19D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468E7-7324-4EDA-81FA-E3F537F3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9FA17-4F10-4870-A1C9-BA0FC78A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31A5F-5A16-46FF-A9D9-C118D0B5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3CF-427C-423C-9E61-211EDA31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706-945D-4D0C-A2BE-3DC126A8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2195-07FE-466E-83FE-59B638704A9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C702-51F5-4A26-A50E-CEA0090B34E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D91D-96AE-4DEA-9F2F-70289D5F87CC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BD63-DD51-4449-95A0-F4D4B683899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8CEB-BF0C-4DFB-9E8D-DA3CF949F1A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5B8F-0DD1-46A3-A889-63D38F18076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AY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6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ay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park my car her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ay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spend all his mone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OPISNÉ  TVARY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68000" y="2781000"/>
            <a:ext cx="83516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can                   be abl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us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hav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ay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e allowed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Šipka doprava 4"/>
          <p:cNvSpPr/>
          <p:nvPr/>
        </p:nvSpPr>
        <p:spPr>
          <a:xfrm>
            <a:off x="3564000" y="2948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Šipka doprava 5"/>
          <p:cNvSpPr/>
          <p:nvPr/>
        </p:nvSpPr>
        <p:spPr>
          <a:xfrm>
            <a:off x="3564000" y="3546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6"/>
          <p:cNvSpPr/>
          <p:nvPr/>
        </p:nvSpPr>
        <p:spPr>
          <a:xfrm>
            <a:off x="3557520" y="424332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INULÝ  ČA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250560" y="2781000"/>
            <a:ext cx="8569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can walk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as abl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ust wai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a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ay leave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as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Šipka doprava 4"/>
          <p:cNvSpPr/>
          <p:nvPr/>
        </p:nvSpPr>
        <p:spPr>
          <a:xfrm>
            <a:off x="2843280" y="2894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Šipka doprava 5"/>
          <p:cNvSpPr/>
          <p:nvPr/>
        </p:nvSpPr>
        <p:spPr>
          <a:xfrm>
            <a:off x="2843280" y="3573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Šipka doprava 6"/>
          <p:cNvSpPr/>
          <p:nvPr/>
        </p:nvSpPr>
        <p:spPr>
          <a:xfrm>
            <a:off x="2843280" y="421308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INULÝ  ČA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50920" y="2781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can walk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asn´t abl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ust wai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idn´t hav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ay leave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asn´t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Šipka doprava 4"/>
          <p:cNvSpPr/>
          <p:nvPr/>
        </p:nvSpPr>
        <p:spPr>
          <a:xfrm>
            <a:off x="2843280" y="2894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Šipka doprava 5"/>
          <p:cNvSpPr/>
          <p:nvPr/>
        </p:nvSpPr>
        <p:spPr>
          <a:xfrm>
            <a:off x="2843280" y="3573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Šipka doprava 6"/>
          <p:cNvSpPr/>
          <p:nvPr/>
        </p:nvSpPr>
        <p:spPr>
          <a:xfrm>
            <a:off x="2843280" y="421308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BUDOUCÍ  ČA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50920" y="2781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can walk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be abl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ust wai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hav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ay leave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be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Šipka doprava 4"/>
          <p:cNvSpPr/>
          <p:nvPr/>
        </p:nvSpPr>
        <p:spPr>
          <a:xfrm>
            <a:off x="2843280" y="2894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Šipka doprava 5"/>
          <p:cNvSpPr/>
          <p:nvPr/>
        </p:nvSpPr>
        <p:spPr>
          <a:xfrm>
            <a:off x="2843280" y="3579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Šipka doprava 6"/>
          <p:cNvSpPr/>
          <p:nvPr/>
        </p:nvSpPr>
        <p:spPr>
          <a:xfrm>
            <a:off x="2843280" y="422100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BUDOUCÍ  ČA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250920" y="2781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can walk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be abl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ust wai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hav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ay leave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be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Šipka doprava 4"/>
          <p:cNvSpPr/>
          <p:nvPr/>
        </p:nvSpPr>
        <p:spPr>
          <a:xfrm>
            <a:off x="2627280" y="2894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Šipka doprava 5"/>
          <p:cNvSpPr/>
          <p:nvPr/>
        </p:nvSpPr>
        <p:spPr>
          <a:xfrm>
            <a:off x="2627280" y="3579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Šipka doprava 6"/>
          <p:cNvSpPr/>
          <p:nvPr/>
        </p:nvSpPr>
        <p:spPr>
          <a:xfrm>
            <a:off x="2627280" y="422100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odální slov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modálních sloves a jejich opisné tvary pro minulý a budoucí č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odální slovesa, can, may, must, opisný 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vlastnosti, opisné tv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689040" y="196848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26560" y="3573000"/>
            <a:ext cx="74170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jí stejný tvar ve všech osobách čísla jednotného i množnéh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can, you can, he can, we can, you can, they 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26560" y="3573000"/>
            <a:ext cx="74170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) Následuje po nich sloveso bez „t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must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g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must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av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hey ma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ere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must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wai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26560" y="3573360"/>
            <a:ext cx="7417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) Do minulosti, budoucnosti apod. používáme opisné tv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must            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I will </a:t>
            </a:r>
            <a:r>
              <a:rPr b="0" i="1" lang="cs-CZ" sz="3200" spc="-1" strike="noStrike">
                <a:solidFill>
                  <a:srgbClr val="7a7a90"/>
                </a:solidFill>
                <a:latin typeface="Times New Roman"/>
              </a:rPr>
              <a:t>must?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will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have t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cs-CZ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Šipka doprava 6"/>
          <p:cNvSpPr/>
          <p:nvPr/>
        </p:nvSpPr>
        <p:spPr>
          <a:xfrm>
            <a:off x="2411280" y="511956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CA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6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ca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speak Englis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ca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stay there overnigh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US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6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tidy my roo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help his mu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6:30Z</dcterms:modified>
  <cp:revision>39</cp:revision>
  <dc:subject/>
  <dc:title>PRESENT  CONTINUOUS</dc:title>
</cp:coreProperties>
</file>