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3FE9-0015-4AA5-8BB1-C09A1848A44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B200-0BA5-4C00-92E7-10166D7A825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61D-9827-451E-B5B0-B663159DAF0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DFF5-C1EF-419B-93C8-AEF86BFB4C9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73FC-DE74-42C3-9D8B-E68FB458377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4618-F0EC-4740-B1B9-36EA96674E1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2A00-00D4-4FBE-82F0-E2B7DD22D10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B3E-3BA8-4B94-BD54-4B619EDA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89C-73A5-41B3-BEBC-2AD42FA3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DCB-8084-42A7-B472-E9B076D6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747-9FF9-4277-B5E7-6945EEC3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60DE-7B7F-4608-A6D2-ADF71902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21E1-67BF-4A6C-84B0-E650E874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032B-B8E8-4E57-92E5-5D3B4111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EC6F-664A-47D2-973D-9A9FDEC2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14AE-D31A-4884-BEC3-32F9D7FC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223D-F21D-4477-B512-52A7E98F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3C2B-F64C-42D8-8D39-1456EDA1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5CB-3DB8-4F4E-A54C-0852053F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539F-4113-47D2-B411-C16795B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813F-824F-4943-B81E-8E328B77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89C1-B0F4-46EA-BA55-A2A963A7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C618-4B90-4BE9-8258-DB9AA777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687B-12C3-4796-AAB0-72EBCCC0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CDDB-E038-4607-B23B-92F5DDAB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508A-226C-4D5A-989E-1D028956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E96F-95C2-450E-B787-D47A9E35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D6C8-1E39-4B45-A61B-53099E42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67B0D-4696-4D2B-A7F2-A1569810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761-DF5F-433B-9456-DB1BAFE3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AADE2-6A92-4A35-B2E3-98535749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C855-984F-43FC-83DB-21604AA6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3F01-B517-497D-9577-180D38F1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C8D5-AF45-4721-8C56-68732DC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343E-53D5-4C0F-9915-59BE2C9A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7885-962B-495E-95D5-AA16C764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2FC5-D081-4497-A9EB-E4BA13AE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A76E6-9F85-4A59-B07C-FF965BDC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11F9-C275-4422-8B3E-DA663DD4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428DD-BEF6-4AD6-983A-7AE1BE64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641-6B82-4615-ABD5-D5D500BA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010F-30C8-47CE-AE7F-2D839AEF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FC43-97D2-4BC9-91D4-53DC0395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6A68-7ED7-442D-ABCD-77638FE2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FF0A-A37C-4126-9F01-40909AEB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107A-840C-4949-A352-8BCC4EBD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E327-31BB-4F97-8010-97C5A49F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04F6E-6B47-41C8-9A80-D84CB4A9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1CA0-3180-4180-A32D-70B60B44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8847-9C5D-4D88-B106-AEABD5FB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DCB13-BFC2-4BEF-9ABB-FDAB806A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542-6654-4B2B-A069-6E327962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38D0C-75D2-47F6-B131-D42999E4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5395F-132E-4B14-BD95-F5154774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DE7B1-00A1-4633-8B23-DB1959A3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B3164-E3C1-4FCD-8A42-8F8ED255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BFA2-8EC4-445A-9120-584CF4EE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A67AB-8404-4E64-A5D1-38994C9A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AD607-3484-41A6-AF4D-A61B76C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61454-1A3D-4B5E-B9C9-9B40FAEC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ACD04-77AA-4FC5-84DE-A1ED7E6D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20C6-6DC9-4B7C-94BA-01497C7B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545-87F8-412D-8D94-4388F41A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28417-BD35-47EB-85A7-06B5D355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8C14B-9B82-474C-94F2-C33F1E29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8E8F6-DF02-4E8F-849D-FDF41800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88FDC-CF7C-4000-A104-4D5288E9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ADF68-E679-416B-84D1-38F5E52E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9F690-03C2-46B1-9357-885B4D93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42241-6F5D-46C5-9C70-589B2DA2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72F5A-66E4-4DE3-999F-EA65D84A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FD1F-4AB0-4671-8F97-B80F941A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2E00-2BFF-46F8-91A0-2D9F350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8E2-717C-481A-BC9D-67D49038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04FED-E0A4-440C-9701-0697A25E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E7065-ED26-402C-A5E5-5E80D6C7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00271-5CCF-45B8-A29D-24E017B3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DDF-0E84-4C86-9115-91BAA1C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746-026D-4E26-BCD1-97813E25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ED80-132F-4521-8A44-28E808ABC2A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C926-61B7-4C81-9433-D7A4D8812EA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BB9F-67B4-4806-85FE-749F7A7B0B5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E0B-9AAD-4DF2-8098-ACE40BA6C6C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D330-2592-45DC-9A6C-AB02D3AC52C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276B-A45F-448E-AE93-B43CDDCC401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edminul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jiným děj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určitým časovým bod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se při vyprávění vracíme v č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budoucí čas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avděpodobně proběhne v budoucn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okamžité rozhodnut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vrzen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lib, nabídka pomoc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GOING TO“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budoucí čas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stoprocentně proběhne v budoucnu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naplánovaný do budoucna (hodlám, mám v úmyslu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8355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časů v angličtin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časů používaných v anglickém jazyce (upraveno pro studenty středních ško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, minulý čas, předpřítomný čas, předminulý čas, budoucí čas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ostý čas, průběhový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ČASY  -  PŘEHLED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Přehled časů v angličtin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(přítomný prostý)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se opaku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becně platná pravid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tav osob nebo věc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ítomný průběhov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ávě probíh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časný nebo přechod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ne v blízké budoucnosti, plánování v diář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pojení s příslovci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minulý prost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proběhl a skončil v minulosti a do současnosti nemá následe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zpravidla je udána doba, kdy děj proběh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minulý průběhov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probíhal po určitou dobu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barvení jiného děje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vyjadřuje nedokonavý děj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PERFECT SIMPLE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edpřítomný prost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oběhl v minulosti, ale do současnosti má 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ávě proběh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íslovci času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ever, never, already, so far, yet, just a st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0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(předpřítomný průběhový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spojený s otázkou, jak dlouho něco probíhá (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how long?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18:16Z</dcterms:modified>
  <cp:revision>12</cp:revision>
  <dc:subject/>
  <dc:title>PRESENT  CONTINUOUS</dc:title>
</cp:coreProperties>
</file>