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FA1F1-F5DA-4A7F-A1D2-B389182AEDE3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CB9CA-7BA2-4CBA-ADE8-05ACD21BF53A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D46F3-1DC7-4855-8A47-56AC8E4F522D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541AD-1940-480E-A422-5FA4C2F7575A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14F94-749B-41AD-9995-97C2EE191420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E764F-9F90-419E-82F7-991C55012E69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0359A-9DD6-4D89-B929-95FD91E30354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CAFA8-710C-4D94-BE77-2ECF1B50B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D5AA5-5F4A-4D56-BF17-14F13219E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3279B-DED8-493B-AD98-3A9E59C09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1D09F-ACA1-4B89-86D7-3384DCB8F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260E6-A092-4355-88C7-EB51237AE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9A395-C7DD-4CB3-BB8E-0B54582EB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0B73A-5949-4FBF-8CC8-A04A4C005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9731D-2CFD-4BEB-BAC3-56B139F3E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A08F2-03CB-4CC6-9BC8-D262BB514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10E11-F3D6-43F9-AAA1-A8A71933D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15966-7A71-48CA-AA24-206216989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FCC3F-3182-453B-B8A9-0D950AC4E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2E1D6-2187-47D7-AEF5-3FC4C49E1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1F797-FDEF-431D-88A5-63DA605B3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33D51-3D19-484F-84EE-B6120A458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FF408-ECCD-4FF1-A4F6-9782E00F8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52342-DBB5-4A89-8A22-3492893CB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D5D50B-B310-4ADA-9AE9-825D81E61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A109F0-25E3-46C8-A8C0-B54EC3EAB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2E247A-EF16-4557-A696-7893EFB31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7E35E4-ED86-4F99-9768-37CFD036E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D9D345-D3CF-4363-8700-0BC26AAD7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3AB1E-EFAD-47EA-A983-915EE9D01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32AEC5-17F1-4C85-B178-D40B3836D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26B66F-8017-4E5A-8ECC-3CA368A3C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DC9298-5677-42F3-8C8D-7C617A429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B07B98-B0BC-40C3-A0D6-AEDD1F8FA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888A14-4161-4665-A92C-8AE193D8E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E19D91-DB44-4CAB-8DC7-F1E533086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817FA1-981D-4456-84EF-1DD3C14E3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728FE6-7FA6-4D7C-A071-13E6C5E45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FA0259-46DA-40A7-8917-0C4078BB9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036636-7236-4896-9416-856B622A4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1DF3F-0B43-4317-8339-0D8588723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779F22-EF55-44EA-B2B5-4E19F2DC9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9C0F96-04D5-42ED-9FB7-1B1C34686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8D6EBA-5E2E-4CCA-AB0C-733A31FA8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93A3C0-3032-4AD3-9682-4C08F6385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6E4705-3F5C-401E-ABED-19CD05E4F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5332D9-0404-4BD3-9780-881C64ED3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21535B-2D6D-4249-B1A8-9C1E49B48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C714EA-DB86-4928-B172-9C826EB72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2C692B-0C7E-44F0-BA03-E3CABDFE4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529C63-96B9-4E5D-948C-7593475B0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FB5A7-ABEE-4133-9C5E-236EA49FE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99BAEC-3937-44BA-B5B7-C191CE2B4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2D332B-8D31-4178-9640-620A6E6FB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8890D0-6AEB-4697-9EC6-B6C7E36A9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8A1171-89F1-4BAB-BE07-0A22757FD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55B3EB-169B-42B6-8BBD-C3ED763D0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09E47D-E6F6-4989-B802-09D321B73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86A597-E549-47CD-8709-29A9BC599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EB92EF-403D-4C2C-BFD1-32A31CB18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C55B4F-1965-4E00-8BF1-962147061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04D17F-FB32-44BA-89EA-C32CF5890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198D0-3CAB-457B-A543-04A6BDF43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01944E-9E0F-44CE-955E-352308ACC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C5EFC9-FDA3-45E0-9E60-B8B352B7E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2A02DA-148D-4CE6-8096-790A43CE2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C215DC-27C2-4B54-AAA3-B296126A4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568967-08B0-4FD3-8FED-7767027A6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183378-3FEF-4F38-A8B0-02C3D0FCF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007489-20EB-4012-9C01-3226BD51E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3E23F3-E6B8-4910-938B-3EB62CD09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89D628-6904-44B7-996E-BDF351438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550D7D-E9B2-4BAF-90AD-506EF8410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15C6D-C9B8-4C88-AC12-13F7F492A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8501D2-3239-43F6-BB34-C6685F354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46403B-555B-4C5E-8930-A83A6376B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825DA9-3C44-40EC-9668-D289EE935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F814E-A091-4FC8-BC47-34C03A20F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E46ED-5F83-40FE-82F9-CDC68A5DF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49.xml"/><Relationship Id="rId10" Type="http://schemas.openxmlformats.org/officeDocument/2006/relationships/slideLayout" Target="../slideLayouts/slideLayout50.xml"/><Relationship Id="rId11" Type="http://schemas.openxmlformats.org/officeDocument/2006/relationships/slideLayout" Target="../slideLayouts/slideLayout51.xml"/><Relationship Id="rId12" Type="http://schemas.openxmlformats.org/officeDocument/2006/relationships/slideLayout" Target="../slideLayouts/slideLayout52.xml"/><Relationship Id="rId13" Type="http://schemas.openxmlformats.org/officeDocument/2006/relationships/slideLayout" Target="../slideLayouts/slideLayout53.xml"/><Relationship Id="rId14" Type="http://schemas.openxmlformats.org/officeDocument/2006/relationships/slideLayout" Target="../slideLayouts/slideLayout54.xml"/><Relationship Id="rId15" Type="http://schemas.openxmlformats.org/officeDocument/2006/relationships/slideLayout" Target="../slideLayouts/slideLayout55.xml"/><Relationship Id="rId16" Type="http://schemas.openxmlformats.org/officeDocument/2006/relationships/slideLayout" Target="../slideLayouts/slideLayout56.xml"/><Relationship Id="rId17" Type="http://schemas.openxmlformats.org/officeDocument/2006/relationships/slideLayout" Target="../slideLayouts/slideLayout57.xml"/><Relationship Id="rId18" Type="http://schemas.openxmlformats.org/officeDocument/2006/relationships/slideLayout" Target="../slideLayouts/slideLayout58.xml"/><Relationship Id="rId19" Type="http://schemas.openxmlformats.org/officeDocument/2006/relationships/slideLayout" Target="../slideLayouts/slideLayout59.xml"/><Relationship Id="rId20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Freeform 5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Freeform 6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Freeform 10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FF4A5-947A-41EF-9725-DDD3F769C878}" type="slidenum">
              <a:rPr b="0" lang="en-C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5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5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63F11-EDDB-4644-BD83-48753184BE49}" type="slidenum">
              <a:rPr b="1" lang="en-CA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2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Freeform 3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Freeform 4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Freeform 5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Freeform 6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Freeform 7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Freeform 8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Freeform 9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Freeform 10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9E56F-C97F-4973-BE0F-0EE8A758AE9E}" type="slidenum">
              <a:rPr b="0" lang="en-C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5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5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5421C-B7F3-4066-9338-354BBA9EB84D}" type="slidenum">
              <a:rPr b="1" lang="en-CA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2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2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2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2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213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5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216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220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F2DB0-CDEC-40E1-91DA-77668779D579}" type="slidenum">
              <a:rPr b="1" lang="en-CA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9"/>
    <p:sldLayoutId id="2147483702" r:id="rId10"/>
    <p:sldLayoutId id="2147483703" r:id="rId11"/>
    <p:sldLayoutId id="2147483704" r:id="rId12"/>
    <p:sldLayoutId id="2147483705" r:id="rId13"/>
    <p:sldLayoutId id="2147483706" r:id="rId14"/>
    <p:sldLayoutId id="2147483707" r:id="rId15"/>
    <p:sldLayoutId id="2147483708" r:id="rId16"/>
    <p:sldLayoutId id="2147483709" r:id="rId17"/>
    <p:sldLayoutId id="2147483710" r:id="rId18"/>
    <p:sldLayoutId id="2147483711" r:id="rId19"/>
    <p:sldLayoutId id="2147483712" r:id="rId20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3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26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66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267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0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271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16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ftr" idx="17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sldNum" idx="18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B3028-4D37-472E-8FB7-EB172EB425A2}" type="slidenum">
              <a:rPr b="1" lang="en-CA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2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ační číslo projektu: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Z.1.07/1.5.00/34.0208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22" name=""/>
          <p:cNvGraphicFramePr/>
          <p:nvPr/>
        </p:nvGraphicFramePr>
        <p:xfrm>
          <a:off x="1332000" y="4172040"/>
          <a:ext cx="7415280" cy="36504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639720"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5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23" name=""/>
          <p:cNvGraphicFramePr/>
          <p:nvPr/>
        </p:nvGraphicFramePr>
        <p:xfrm>
          <a:off x="1332000" y="4751280"/>
          <a:ext cx="7416720" cy="109692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gr. Martin Frolí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3</a:t>
                      </a: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.A/ třetí roční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1 / 201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24" name="Picture 3" descr=""/>
          <p:cNvPicPr/>
          <p:nvPr/>
        </p:nvPicPr>
        <p:blipFill>
          <a:blip r:embed="rId1"/>
          <a:stretch/>
        </p:blipFill>
        <p:spPr>
          <a:xfrm>
            <a:off x="2354400" y="333360"/>
            <a:ext cx="5297400" cy="1295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5" name=""/>
          <p:cNvGraphicFramePr/>
          <p:nvPr/>
        </p:nvGraphicFramePr>
        <p:xfrm>
          <a:off x="1258920" y="1700280"/>
          <a:ext cx="7416720" cy="4835520"/>
        </p:xfrm>
        <a:graphic>
          <a:graphicData uri="http://schemas.openxmlformats.org/drawingml/2006/table">
            <a:tbl>
              <a:tblPr/>
              <a:tblGrid>
                <a:gridCol w="3184560"/>
                <a:gridCol w="4232160"/>
              </a:tblGrid>
              <a:tr h="422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Cizí jazyk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Anglická gramatik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Anglický jazy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Budoucí čas pomocí „to be going to“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37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rezentace k zopakování znalostí a procvičení gramatiky. Prezentace podává přehled základních pravidel pro tvoření budoucího času s použitím vazby „to be going to“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14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Budoucí ča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Future tens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26" name="Picture 3" descr=""/>
          <p:cNvPicPr/>
          <p:nvPr/>
        </p:nvPicPr>
        <p:blipFill>
          <a:blip r:embed="rId1"/>
          <a:stretch/>
        </p:blipFill>
        <p:spPr>
          <a:xfrm>
            <a:off x="2195640" y="189000"/>
            <a:ext cx="5297400" cy="1295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323640" y="2057400"/>
            <a:ext cx="856908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ffff00"/>
                </a:solidFill>
                <a:latin typeface="Times New Roman"/>
              </a:rPr>
              <a:t>FUTURE TENSE – VAZBA </a:t>
            </a:r>
            <a:br>
              <a:rPr sz="4800"/>
            </a:br>
            <a:r>
              <a:rPr b="0" lang="cs-CZ" sz="4800" spc="-1" strike="noStrike">
                <a:solidFill>
                  <a:srgbClr val="ffff00"/>
                </a:solidFill>
                <a:latin typeface="Times New Roman"/>
              </a:rPr>
              <a:t>„TO BE GOING TO“</a:t>
            </a:r>
            <a:endParaRPr b="0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Introduc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ffff00"/>
                </a:solidFill>
                <a:latin typeface="Times New Roman"/>
              </a:rPr>
              <a:t>FUTURE TENSE – VAZBA </a:t>
            </a:r>
            <a:br>
              <a:rPr sz="4800"/>
            </a:br>
            <a:r>
              <a:rPr b="0" lang="cs-CZ" sz="4800" spc="-1" strike="noStrike">
                <a:solidFill>
                  <a:srgbClr val="ffff00"/>
                </a:solidFill>
                <a:latin typeface="Times New Roman"/>
              </a:rPr>
              <a:t>„TO BE GOING TO“</a:t>
            </a:r>
            <a:endParaRPr b="0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2421000"/>
            <a:ext cx="7772400" cy="367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děj, který stoprocentně proběhne v budoucnu a již teď je to zřejmé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děj naplánovaný do budoucna (hodlám, mám v úmyslu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4360" y="112536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ffff00"/>
                </a:solidFill>
                <a:latin typeface="Times New Roman"/>
              </a:rPr>
              <a:t>FUTURE TENSE – VAZBA </a:t>
            </a:r>
            <a:br>
              <a:rPr sz="4800"/>
            </a:br>
            <a:r>
              <a:rPr b="0" lang="cs-CZ" sz="4800" spc="-1" strike="noStrike">
                <a:solidFill>
                  <a:srgbClr val="ffff00"/>
                </a:solidFill>
                <a:latin typeface="Times New Roman"/>
              </a:rPr>
              <a:t>„TO BE GOING TO“</a:t>
            </a:r>
            <a:endParaRPr b="0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subTitle"/>
          </p:nvPr>
        </p:nvSpPr>
        <p:spPr>
          <a:xfrm>
            <a:off x="394920" y="3499920"/>
            <a:ext cx="8209080" cy="24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4400" spc="-1" strike="noStrike" u="sng">
                <a:solidFill>
                  <a:srgbClr val="ffff00"/>
                </a:solidFill>
                <a:uFillTx/>
                <a:latin typeface="Times New Roman"/>
              </a:rPr>
              <a:t>Kladné vět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podmět + </a:t>
            </a: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TO BE GOING TO 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+ sloveso + ..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4360" y="105228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ffff00"/>
                </a:solidFill>
                <a:latin typeface="Times New Roman"/>
              </a:rPr>
              <a:t>FUTURE TENSE – VAZBA </a:t>
            </a:r>
            <a:br>
              <a:rPr sz="4800"/>
            </a:br>
            <a:r>
              <a:rPr b="0" lang="cs-CZ" sz="4800" spc="-1" strike="noStrike">
                <a:solidFill>
                  <a:srgbClr val="ffff00"/>
                </a:solidFill>
                <a:latin typeface="Times New Roman"/>
              </a:rPr>
              <a:t>„TO BE GOING TO“</a:t>
            </a:r>
            <a:endParaRPr b="0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900000" y="3428640"/>
            <a:ext cx="7848720" cy="23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 u="sng">
                <a:solidFill>
                  <a:srgbClr val="ffff00"/>
                </a:solidFill>
                <a:uFillTx/>
                <a:latin typeface="Times New Roman"/>
              </a:rPr>
              <a:t>Záporné vět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Podmět + </a:t>
            </a: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TO BE NOT GOING TO 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+ sloveso + …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1371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ffff00"/>
                </a:solidFill>
                <a:latin typeface="Times New Roman"/>
              </a:rPr>
              <a:t>FUTURE TENSE – VAZBA </a:t>
            </a:r>
            <a:br>
              <a:rPr sz="4800"/>
            </a:br>
            <a:r>
              <a:rPr b="0" lang="cs-CZ" sz="4800" spc="-1" strike="noStrike">
                <a:solidFill>
                  <a:srgbClr val="ffff00"/>
                </a:solidFill>
                <a:latin typeface="Times New Roman"/>
              </a:rPr>
              <a:t>„TO BE GOING TO“</a:t>
            </a:r>
            <a:endParaRPr b="0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323640" y="3573360"/>
            <a:ext cx="835164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 u="sng">
                <a:solidFill>
                  <a:srgbClr val="ffff00"/>
                </a:solidFill>
                <a:uFillTx/>
                <a:latin typeface="Times New Roman"/>
              </a:rPr>
              <a:t>Otázk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TO BE 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+ podmět + </a:t>
            </a: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GOING TO 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+ sloveso + ... 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ffff00"/>
                </a:solidFill>
                <a:latin typeface="Times New Roman"/>
              </a:rPr>
              <a:t>FUTURE TENSE – VAZBA </a:t>
            </a:r>
            <a:br>
              <a:rPr sz="4800"/>
            </a:br>
            <a:r>
              <a:rPr b="0" lang="cs-CZ" sz="4800" spc="-1" strike="noStrike">
                <a:solidFill>
                  <a:srgbClr val="ffff00"/>
                </a:solidFill>
                <a:latin typeface="Times New Roman"/>
              </a:rPr>
              <a:t>„TO BE GOING TO“</a:t>
            </a:r>
            <a:endParaRPr b="0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68000" y="198108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 u="sng">
                <a:solidFill>
                  <a:srgbClr val="ffff00"/>
                </a:solidFill>
                <a:uFillTx/>
                <a:latin typeface="Times New Roman"/>
              </a:rPr>
              <a:t>Děj, který stoprocentně nastane a již teď je to zřejmé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It is so dark outside! It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 is going to rain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Look at the boy, he 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is going to fall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off his bik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She 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is going to have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a baby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ffff00"/>
                </a:solidFill>
                <a:latin typeface="Times New Roman"/>
              </a:rPr>
              <a:t>FUTURE TENSE – VAZBA </a:t>
            </a:r>
            <a:br>
              <a:rPr sz="4800"/>
            </a:br>
            <a:r>
              <a:rPr b="0" lang="cs-CZ" sz="4800" spc="-1" strike="noStrike">
                <a:solidFill>
                  <a:srgbClr val="ffff00"/>
                </a:solidFill>
                <a:latin typeface="Times New Roman"/>
              </a:rPr>
              <a:t>„TO BE GOING TO“</a:t>
            </a:r>
            <a:endParaRPr b="0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 u="sng">
                <a:solidFill>
                  <a:srgbClr val="ffff00"/>
                </a:solidFill>
                <a:uFillTx/>
                <a:latin typeface="Times New Roman"/>
              </a:rPr>
              <a:t>Děj naplánovaný do budoucn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We </a:t>
            </a:r>
            <a:r>
              <a:rPr b="0" lang="cs-CZ" sz="3600" spc="-1" strike="noStrike">
                <a:solidFill>
                  <a:srgbClr val="ffff00"/>
                </a:solidFill>
                <a:latin typeface="Times New Roman"/>
              </a:rPr>
              <a:t>are going to move 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to Prague next year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00"/>
                </a:solidFill>
                <a:latin typeface="Times New Roman"/>
              </a:rPr>
              <a:t>I am going to stay 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in London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She </a:t>
            </a:r>
            <a:r>
              <a:rPr b="0" lang="cs-CZ" sz="3600" spc="-1" strike="noStrike">
                <a:solidFill>
                  <a:srgbClr val="ffff00"/>
                </a:solidFill>
                <a:latin typeface="Times New Roman"/>
              </a:rPr>
              <a:t>is not going to sell 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her car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1T18:42:49Z</dcterms:created>
  <dc:creator>Martin</dc:creator>
  <dc:description/>
  <dc:language>en-US</dc:language>
  <cp:lastModifiedBy>Igor</cp:lastModifiedBy>
  <dcterms:modified xsi:type="dcterms:W3CDTF">2013-12-28T12:26:08Z</dcterms:modified>
  <cp:revision>12</cp:revision>
  <dc:subject/>
  <dc:title>PRESENT  CONTINUOUS</dc:title>
</cp:coreProperties>
</file>