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A769-6B25-490C-A8F7-74559960D82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21F2-BCD5-4835-96E6-5D8A16DA956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D076-4613-490A-9BCC-0A1D3D0478F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CF16-2798-46A7-8034-B5495B3B219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1A9E-8BD0-41CD-B474-17C7383640A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22A6-D438-4B33-AFD4-FE5254A718F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593D-409E-4797-B161-D84BAF8A143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0A64-4FF3-4493-8928-68B6FC7F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563-C11A-44BB-B2A2-6C624199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375-F141-471B-A38D-0A238503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9501-EFFC-49DF-BD70-A6376238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09B1-EFE2-46EC-8335-0B3BBC44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E12D-2280-489F-A2B0-4D02F838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93A5-5F1A-4D98-9B99-0F45007C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9804-DF6C-42F5-8B8D-861E3FE3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6959-4ABE-42C1-AD4E-A8406885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DEEA-06CE-406D-B3A6-19EC30C4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5301-B52A-4E7C-B865-CABD2F46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4BAC-1F05-4BAD-BABB-5AE9C32D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0C70-F672-414E-ACD5-FF2E3333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670E-392D-437A-BCE5-9D93FE79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579B-B3DE-42AB-8055-3C5F9B69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E314-E039-40FB-A522-AE66A201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08C9-B72B-48B4-B33A-4A759240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2613E-9FF3-4275-993D-F11852C4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48AE7-6B5D-4191-9709-20401A75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38B7B-213A-4B7F-9A8B-59ACA2F0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12803-ACCA-44B2-8C29-694FEB0A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D18D7-EBA0-40CD-A577-159E2606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874-DF87-4A0A-BB2C-DD602595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D9C4C-9E1D-43FE-854C-519F1867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80EFA-9912-4ED6-ACA1-7E885033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C4F25-EAED-423C-A7B1-D597D17F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C5623-AFEF-4B67-B25B-30A7D5CE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D267D-0463-4546-85FB-A114BC5F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A4BFE-4DB8-405C-8A29-8BDFAEF3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1D8FE-0C76-48BB-8A87-E6F94971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23F80-F16F-4687-990A-B9C53F68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B4FD6-0EA1-4E3F-BA70-402C966E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1F7F2-F55F-4B9A-AA86-FE88E460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E528-972A-4150-B09E-9FF5D88E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A2A5D-15B5-4F58-8F40-CA64B291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1F99D-8F43-468D-8BF3-A98E7F47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1F1EE-36D4-4A92-87A4-FB94B518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ABA85-9226-4929-8C54-D6D2C450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F24EA-DC58-4860-9638-ACD06246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615D5-C8E5-4A00-BFF9-85F6E58D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2D3C0-7F1C-4776-AE30-A0E9F26A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37C19-7A3A-4AE8-9FA0-DBB0CE42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28369-7A2E-447E-B3A9-07DE5256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86F9A-5664-41F7-89E2-9EED89D6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370-2B34-4F62-B8B4-F101D7CB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1B280-F894-4E80-AD22-668D62E5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5CAF7-F1E8-4F78-A7B7-A1FF2774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DFAEA-4C3D-4C3D-8519-370A3C1B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8334F-36F8-4FAF-84FE-72DC8282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2BC47-59BC-4536-A693-1957D34C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6BC55-7999-4968-B982-CC8D8C57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A39FD-E43F-4B44-81F0-6466528B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7C9B5-1F9F-4148-B200-60AB570B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CBB36-6AE2-48C4-993A-8D2AF3BF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CAE51-C64A-4B50-95C0-C6F9A5FF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7DC-F52E-4018-A73D-BFB14686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F865E-2661-47AD-8EBE-14330FEA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7EC99-04EF-4C55-AA9F-2BBF4942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688A0-D7E7-4360-A4BE-01B51979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CBA52-2C1A-40EE-8844-4CFFA29D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5B62A-56F3-4332-805E-358C008D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9CC8F-2C01-4387-86C5-B5474387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D9B4E-991E-4647-9A70-1131F68D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37582-55E1-4516-84B4-7CEEDAAF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D581D-3DEC-4EC7-9F65-0E220A38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255C1-AA4A-46AC-AD98-BAEC1BC8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9EF-9BF5-4C54-A24B-3745FC61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023D6-EC5A-4DBA-A5A0-D1D6FA5F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742A9-3175-4ED0-800C-79A322E4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09D15-C589-4F35-8717-7B1FE609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6468-F47B-4EB7-A6AF-82727B85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9A9D-B877-4C80-A789-7655D76A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8D45-633D-4257-BCAD-EF702B8B967C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A552-5002-4F0E-A787-C1B1401D6F4E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575F-F36F-44EB-A138-FA62A1F71BE5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2F99-83AF-4FE6-967B-D44E1F143382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2373-F2FB-4E29-BC00-9FC7EDA77396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F16F-AE46-4D44-9F3C-C38D30EE5DBE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258560"/>
            <a:ext cx="7772400" cy="15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ČÍSLOVKY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71640" y="3213000"/>
            <a:ext cx="7416720" cy="21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How to read the time? </a:t>
            </a:r>
            <a:r>
              <a:rPr b="0" lang="cs-CZ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4:45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7:55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8:40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1:3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5:15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6:25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8:50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9:0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258560"/>
            <a:ext cx="7772400" cy="17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ČÍSLOVKY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71640" y="36450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w to read these dates?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3.8.197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4.6.1999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8.1.19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1.5.1333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2.4.1564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9.11.20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hled druhů číslov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druhů číslovek používaných v anglickém jazy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Číslovky, základní číslovky, řadové číslovky, násobné číslovky, desetinná čísla, zlom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92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ČÍSLOVKY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6450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ehled číslove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ŘADOVÉ  ČÍSLOV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85800" y="1981080"/>
          <a:ext cx="7772400" cy="3962520"/>
        </p:xfrm>
        <a:graphic>
          <a:graphicData uri="http://schemas.openxmlformats.org/drawingml/2006/table">
            <a:tbl>
              <a:tblPr/>
              <a:tblGrid>
                <a:gridCol w="3598920"/>
                <a:gridCol w="574560"/>
                <a:gridCol w="3598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ÁKLADNÍ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ŘADOVÉ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r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r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f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NÁSOBNÉ  ČÍSLOV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85800" y="1981080"/>
          <a:ext cx="7772400" cy="3962520"/>
        </p:xfrm>
        <a:graphic>
          <a:graphicData uri="http://schemas.openxmlformats.org/drawingml/2006/table">
            <a:tbl>
              <a:tblPr/>
              <a:tblGrid>
                <a:gridCol w="3598920"/>
                <a:gridCol w="574560"/>
                <a:gridCol w="3598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ÁKLADNÍ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ÁSOBNÉ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i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ee tim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r tim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ve tim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ESETINNÁ ČÍS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684360" y="1773360"/>
          <a:ext cx="7191360" cy="4668840"/>
        </p:xfrm>
        <a:graphic>
          <a:graphicData uri="http://schemas.openxmlformats.org/drawingml/2006/table">
            <a:tbl>
              <a:tblPr/>
              <a:tblGrid>
                <a:gridCol w="2661120"/>
                <a:gridCol w="218880"/>
                <a:gridCol w="43113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.ČÍS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CIMAL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4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4 = three point one f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,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.4 = one hundred and twenty three point f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9 = six point oh ni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75 = zero point three seven f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…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LOM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684360" y="1557360"/>
          <a:ext cx="7772400" cy="4363920"/>
        </p:xfrm>
        <a:graphic>
          <a:graphicData uri="http://schemas.openxmlformats.org/drawingml/2006/table">
            <a:tbl>
              <a:tblPr/>
              <a:tblGrid>
                <a:gridCol w="3598560"/>
                <a:gridCol w="574920"/>
                <a:gridCol w="3598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LOMK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ACTION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hal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thir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ee fif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…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VYJADŘOVÁNÍ  ČAS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85800" y="1981080"/>
          <a:ext cx="7772400" cy="3475080"/>
        </p:xfrm>
        <a:graphic>
          <a:graphicData uri="http://schemas.openxmlformats.org/drawingml/2006/table">
            <a:tbl>
              <a:tblPr/>
              <a:tblGrid>
                <a:gridCol w="3598920"/>
                <a:gridCol w="574560"/>
                <a:gridCol w="3598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Č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: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er PAST sev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: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f PAST ni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: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er TO elev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: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ten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: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…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VYJADŘOVÁNÍ  D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685800" y="1981080"/>
          <a:ext cx="7772400" cy="3814920"/>
        </p:xfrm>
        <a:graphic>
          <a:graphicData uri="http://schemas.openxmlformats.org/drawingml/2006/table">
            <a:tbl>
              <a:tblPr/>
              <a:tblGrid>
                <a:gridCol w="2014560"/>
                <a:gridCol w="216000"/>
                <a:gridCol w="5541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U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 1st   /the first of January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2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 23  or February 23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2.199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 6, 19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February the sixth, nineteen ninety-sev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…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5:31Z</dcterms:modified>
  <cp:revision>50</cp:revision>
  <dc:subject/>
  <dc:title>PRESENT  CONTINUOUS</dc:title>
</cp:coreProperties>
</file>