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A1C4-B280-470F-AD43-33657051F8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84D9-F697-48F9-9D85-D16DAEC8835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A294-75AB-4AAB-ABEB-54E3F236E3F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DFF9-B58A-482A-BD24-296765890E5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A6C4-F430-4AF1-B9A4-AB82194AE5C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EE6B-EC34-4600-809E-17F72D80F63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E8C-F5F6-4B5C-A4EE-DE8B496517D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58A-86AA-481F-A956-738A3F10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6EC-F8CC-4959-87A5-98959B99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F74-57AC-434B-9938-B015D7B7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8A3-5F43-4BF1-A87D-7747A9B2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0C37-2C84-4709-92EB-B6BF8FAB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8964-7B84-42AC-A05E-31A1CFAA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B916-C421-4536-912E-67536EDB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CEDF-FE59-4BE9-B2C6-E7CF6392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D944-5E30-464E-9D5F-C2C0E5BF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FFEE-CDD8-4013-8F24-63455377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4A43-DA6B-4046-9430-AA8B4F3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9CF-ACFB-48D6-99BE-0E70EC52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7021-F359-45E3-84E2-A0455301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3D0E-D283-47E5-94D8-2771C1F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DDA8-F3DF-41BC-B73E-A1739D87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D658-68EE-494B-8785-FD8E1E24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6639-39FD-41CB-87C4-DF5BD378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91EBB-2C91-420A-8F24-36AF0757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96238-A0A9-4C81-8DEB-A34C99EE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796B-A362-4E0B-AB70-BE40BE69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874C4-54B1-4609-8939-B421E233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50E0-3F90-4031-BDEA-C5D73D2F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B6D-281E-47B5-8A62-E3EE0973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23E4-506A-4787-B278-C8623AE1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371EE-7FB7-4E48-B33C-DC51224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61D7-7DDC-497C-AA0B-42C3CB96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E6BF-067B-4E09-906A-9484B003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D2D9-C544-4A42-AD10-CDDE749A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E69FE-7E5A-4493-9889-66CE1623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6783-90AD-47EB-A0E5-D0CF6C82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4AEC-313B-4A7A-AEFF-C8689F6D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E6896-C180-4ADE-A48A-1524F0F6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4563-EBFC-4835-A7C7-42E21B0A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65A-2591-4CDC-B121-B603B04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78A5-D7C5-4A5D-8805-C358FE30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4232-210A-47F6-B8C9-2B49242A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F97A8-338D-4A84-800F-6C9C0D55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32DFF-D8CC-44CC-B701-FC765DFC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0CF6-3446-43D2-915C-F7FCC97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32D64-94F8-477E-9041-FAB0923D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A519-CBB4-4223-A779-E1B9DE70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BEAE-186B-4F73-A3FB-5FA5D5A7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63944-FD40-4219-8E7F-BFE526F0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8A68D-1361-4532-8740-C8822908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29F-5BF2-4071-8D67-838D7668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72092-48E9-4087-8C9E-0A42D2FA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1FB94-0B87-4F5F-BAB3-E2692EDE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2586C-CED0-4374-B4BA-E236F5E7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7FDEA-BB25-4067-8899-98D4F49F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36242-5CF2-4460-877E-E10D269F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F0A4-DBF0-4431-BD98-06D992A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C0D6-4799-4B5E-B5F6-D4AABD8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C69C7-2C4E-4AE0-A285-8F4EF65C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4FD0-7461-4BF3-8E4E-0A71F385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88E6-2451-4A22-BA02-DD3CB346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CFE-E8BF-4077-BC9D-13781389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8919B-C856-47A7-9503-86D427A4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5DF3-D5F6-4AB9-BCBF-415F41B3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DDEFB-417E-4C2A-9A61-99EE9599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17D2A-DE48-4886-A103-80F0EC88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E0C3-E47F-4EDE-8298-99A6B6F1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FC864-2A57-42D1-9201-439CB10F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EC8B-01C5-4842-8F4E-550CB44B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8462B-2898-4684-9AD8-9B8CEDF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0CF54-235E-4C16-806E-B06F678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FE48A-2B18-4E54-8FDB-CBEFF2B8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938-A964-4FD4-B960-35E2B88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983E6-6262-4155-BEBA-849FAB45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FD27-AE09-4327-93E6-590549BE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18858-8AC6-448A-B3EC-3CBB992C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272-F484-4C92-8577-A21EC28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E92-0B80-4D5F-9015-4D130749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4AB3-07BB-4D79-A84A-707A8E15C53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7A9F-999F-4C68-AB22-0D00CA47B71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9436-2B68-4428-801D-B0A803751F5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5DCD-B304-4FDC-9398-881BF94B198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AA15-6FA5-4A4F-BF89-10D79B238B4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225-CCF3-4076-B688-81E9207F0BE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ake opposites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83800" y="218448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pula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ssibl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cisiv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4167360" y="24494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4167360" y="32688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4167360" y="400536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7"/>
          <p:cNvSpPr/>
          <p:nvPr/>
        </p:nvSpPr>
        <p:spPr>
          <a:xfrm>
            <a:off x="4145040" y="48848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ony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nejčastějších předpon přídav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davná jména, předpo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pposi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dpony u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ŘEDPONY    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m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349000"/>
            <a:ext cx="7488360" cy="30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tient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ature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4067280" y="2513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406728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406728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n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42100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ormal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lerant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ler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pendent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211640" y="26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4211640" y="3441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r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liable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li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gular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sponsible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sponsi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4067280" y="25336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4067280" y="33512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4081320" y="414972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un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83800" y="2313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ucky 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uc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appy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dy  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098960" y="2490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4098960" y="3305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4140360" y="40813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dis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3097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thful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th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oyal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oy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nest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n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4238640" y="2514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4210200" y="33019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4210200" y="407664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2:53Z</dcterms:modified>
  <cp:revision>41</cp:revision>
  <dc:subject/>
  <dc:title>PRESENT  CONTINUOUS</dc:title>
</cp:coreProperties>
</file>