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3453-E068-495B-9495-20609A80FF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4603-1BFB-44F4-AD63-3F3AA484335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771A-1C1C-4BB5-A09C-C187ED1E4C4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36AC-4F60-4B27-98F0-C8BECFF8C5C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12A9-8878-4D25-9908-6CF2703F02C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89A0-8326-4502-B49B-B81DCF51EBF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715C-E16F-4E8B-A12E-E2004C6B43E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131-F2FC-47E8-87DE-9FE41BF9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733-C228-4551-B5E3-9FFFA52F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F2C-FDCC-4EE5-9CA7-9DE27290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6AF-7B0A-4C8C-A339-148AF1C7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F59D-0936-41F7-8A27-FE6278B0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E55D-3CDA-4268-8AB1-AA3ECFDD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AD41-A09B-475F-8F3B-3E696BFE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5301-EC04-4789-B9C2-8081C09A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92BA-DB6C-4BA8-9005-15C92973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2384-74E7-47AC-8FA6-F64B3AF8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FF01-5893-4E6B-A61F-60EC27B7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A56-79A4-48D1-A73B-7A44AB55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5067-FDD3-42A8-A2AF-5F17FB51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BAC6-0F67-47C8-AAD3-50FCBDCC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0E1A-8EC4-4E35-82E1-77B14A2B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A261-CCE0-4922-A982-8E447D92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3E8E-C761-4233-99A0-0307F3EA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66CD-848A-4E38-B691-670FE522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BF7C-E84C-4027-8A6D-79806FC4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A0C1-629A-4361-A4FA-AC800F73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DB69-64FD-4088-A156-B9EFB8C0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4B22-875C-4706-9A10-EC5F8158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03B-EC1D-477C-862A-6B4144A6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48D6-0793-4A9B-88B6-04CA1F83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75DB6-CC51-456B-B06C-1E79E02B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3317E-A3FE-47EA-B563-E962C60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5F98-F9E7-464A-A85D-3C759D7B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F628-04A4-4620-A705-8962E2C3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E032-2F80-4DE3-B0FE-C71FF961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8795-DBCA-4965-AC9F-B9883ED4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9A96-431D-4884-B509-A04978E3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D6A1-2D9D-41A9-8B8F-E53E9C4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9EC7F-4829-4241-B4F4-531339DA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593-4D0E-4F10-B73A-4623904C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D30F3-76C1-4BAC-9FB0-C558FC5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21A6-5726-4E66-B999-3A848BFE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14C84-3B02-49B8-807D-494C40B3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7842-9FC0-45C9-81FB-A88EA05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F49E5-2CB4-45D9-BBDF-531D6B6A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672C1-0FB3-4ABB-92E5-13ADF908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9B26-148B-404A-A149-3CEE9538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B157-347C-48AB-AB75-7DF8D6A4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AA3C-A4E9-48B9-BDFE-0314DB1C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9CD0B-5CC7-4741-B233-27DCDBD5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F72-6A5B-4FD6-8D4D-A9537AD4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9851-E44C-4823-9992-CD06C33F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6156-4BED-424B-B9E7-3E61559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B7373-CEFC-43D6-A915-5796BF40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08377-84E7-40E2-AC68-42D452E3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82EA6-8FF4-4D2C-A6C4-EAA7F845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1714-D9BB-4784-BDF3-2A439CF0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236C-A139-47C4-9889-D7C7757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B07B-A196-479B-8BF5-6EDE33FC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2632D-8267-450F-A439-0A5CFB5C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CEC72-77F0-43BF-9DA1-48851C92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699-A330-4ED9-91DA-86AA0B18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A1A3-C3B2-473A-8918-CF41FFB6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167D-7A76-48FD-84FD-D3791F53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9E088-4E41-47C8-87E3-F8499695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856D3-60B4-420B-B274-592A8968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882B5-085E-48FF-BF83-D629E3AF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5807-D300-4056-9797-D3D9CCC8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78C9C-5F86-46A2-B87B-EB2BC67E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CC1FA-1568-4E94-A40E-388EA87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7C9DF-D7B3-4157-AAD4-D7E1B37F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70854-0F8F-4D73-B56D-F88F8ED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05F-7A79-4861-8B13-DD26F5A6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D7C62-E216-4702-B3D6-CDBFF3A0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F058-B08C-465F-A741-AA939A5D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E8A49-8E50-46BC-BCA9-B0795E97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0AA-20B6-49F8-838D-176D134A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5ED-8D17-45BF-AC78-B4F29ECB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69B0-A977-4C01-83D8-2AC347CE856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2521-84AA-4DBC-A387-6FA894041BD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563D-AA13-449A-82AD-6333DA7B785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2E21-0394-4E8A-9A83-3CACD3CEAB8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EA11-55DF-4538-8A02-BD920D66AF3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ED8E-4B83-4D26-8F23-0587A39E6A1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24912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sloveso „to be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t home at the week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in Italy last summ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n´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t school yeste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y in the cinema, to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minul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24768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a skončil v minulosti a do současnosti nemá násled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je udána doba, kdy děj proběh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000" y="3357360"/>
            <a:ext cx="784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minulý infinitiv (2.tvar slovesa nebo koncovka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-ed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)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26560" y="3428640"/>
            <a:ext cx="7417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didn´t + sloveso + 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55280" y="3573000"/>
            <a:ext cx="748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id + podmět + sloveso + ...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pravidelná slov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ope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door and enter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pla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nnis last Satu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didn´t like the fil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did you arri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nepravidelná slov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o the cinema an hour a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 in front of the ho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idn´t  bu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 yeste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a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1:29Z</dcterms:modified>
  <cp:revision>10</cp:revision>
  <dc:subject/>
  <dc:title>PRESENT  CONTINUOUS</dc:title>
</cp:coreProperties>
</file>