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A4DA-EECB-4A77-86DE-DAE379DAB2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0308-EFC1-45A7-B949-A0375C905F3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33CA-A4B6-4B95-8AFE-C6DCCBA5359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D31C-BDCE-4A8E-8AF3-E2FFD364ABB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6E4-3FE1-4ED4-84A6-A4D3AEBD740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D8E2-65DC-4455-87B6-89446079FB0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3C3-B1F8-4A39-8F52-2F6CD4E6BA5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917-6084-41D2-B7F2-95208E0F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166-0829-4064-9B5A-166A274D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7FE-D93E-49CF-B4DD-6D421B84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251-72E2-4F9D-8359-695F22D0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127-ACDF-4FE1-AC37-ADD56CC3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78E8-F14C-4817-AEA0-C5C54575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8C36-68EE-424D-BBBC-954138C6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DC63-5769-4DD5-8A63-ED854F4D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F8D5-A3CA-42D2-A169-50DB739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F30F-8542-43D7-BFDC-FAC912C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B537-0F4E-4655-8FD6-0F07A23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982-09E0-4B12-892B-31D0B78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4AE1-5E40-407B-BD5C-94DFEF7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5486-786A-46B2-A767-D70C221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911A-DB07-4414-B933-9E1CA7B0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6D57-B104-4424-8EB8-42CBF579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690A-516C-4AC0-9AED-5B3E4740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A0C5-6299-42E1-AEF7-48E7822A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DD1D-D06D-45AE-BBDE-38D0008A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80BA0-3DF8-43D5-9BE4-8929D260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B856-A42F-487C-AEC2-7C4E2CF0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8FF2C-B7D4-428B-A4C9-D0836E6F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C92-2AB4-4F30-895C-36CD35B1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37DD-CBF2-4A39-923A-E9F3A50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6296-8D2B-429C-A8D0-9FA3172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C761-85CE-4DFC-88AC-CD2B6E8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89E1-75F0-4E95-B7D3-18F8439A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1788-9199-496A-8531-D041687F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498CE-3A26-4DB0-9D3F-DB505DF9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2B07-295F-4B3B-86FD-4220FC17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B504-A4FD-47CF-A2E3-3C34875E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8A4D-7FF6-4087-89C9-441BB84D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B29F-C9D1-4875-9C81-05F1B5DB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7C9-C0E5-46B2-ABAE-FF27741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CE436-1147-4AD1-A927-0A4DAA0D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0882-6D88-4382-8E2E-21AC812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8748C-98B6-4BA3-B6D3-9E19F11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44A07-1D0E-48F4-9AE1-FBE0A8D5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7FAE-5ED8-47AA-8726-95D618C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1951-590C-4BF9-B571-0107430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43A3-FB96-47AE-9B41-B0466301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F161-5D8B-4276-BE23-03F5FE4D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14E7-CCA6-40D9-A435-320A75CE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18456-910A-4A8F-B37A-986F1178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907-CE50-46D3-B1DF-3E0296A0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D422-F3ED-447C-9443-0E7956A6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853B-C9EA-4B6D-BE55-8993EC0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A5DF-6467-472A-A8A5-F921878E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C458-EFF0-409A-AE06-EA0AFE9C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2B737-58FD-413E-9A86-9BAAFA1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FC59-755D-4B8B-A107-8C27D923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C5A5-C758-4BE2-BC5E-B21322A4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7670-A82F-4784-904C-40D227FB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F88E-6DFA-4821-9284-E76B5D1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E57F-C186-4CD8-8EA2-39B13BF0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5AD-A447-4758-9D73-D195F736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1AF17-7587-4619-86B1-CE20C8F0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748B4-DAC2-460D-BE89-E857E6C8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89E1E-FD34-49C5-86B9-6648A1E4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89861-FBDB-4D6F-9205-45CA93B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B317-99BD-4E32-8476-28524525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409D-E7CD-4946-A605-2F4255D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0270-30B3-4024-B742-FEC7C682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8E27-CF52-4F6A-AE05-687A1642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5A42-09FA-42AC-AE1F-5A2FDCBA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E4EA-AA21-4FA7-B5BC-133EBCF5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D1C-73AE-4EDB-88DB-F2CC287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9356-F6EE-4AE0-89AC-58BE069B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5AF1D-0611-4E06-9D85-3923D97D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C393-83ED-428E-8793-62595AE4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91F-BA7D-4CC1-8BFA-B2679F9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87D-C508-4604-9EE0-E2A3B981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0FB5-1FD3-4C15-9126-58276D7463D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023D-CE6C-46DB-91EE-B003ED6DFF8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7B27-5E3D-465A-88B4-77C0145BFAE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D3DC-DC2F-4610-8DB1-4D7270F0751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BF7-25FD-4F7C-BAA0-3D3191B33B9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A6D7-62CF-4BB9-9C92-9F68CF6F0F2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uggag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ffic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us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cener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tertainmen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UCH, MANY, A BIT OF, A F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000" y="2492280"/>
            <a:ext cx="381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Times New Roman"/>
              </a:rPr>
              <a:t>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1640" y="2491920"/>
            <a:ext cx="432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00"/>
                </a:solidFill>
                <a:latin typeface="Times New Roman"/>
              </a:rPr>
              <a:t>NE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LITT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NY   x   MU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ir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FEW   x   A BIT 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tato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al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he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co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policem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ugg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informat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hot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eache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cof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mone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ollu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ap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gam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ost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ravidla pro počitatelnost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á podstatná jména, nepočitatelná podstatná jména, much, many, few, littl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 few, a bit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čitatelno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3" descr=""/>
          <p:cNvPicPr/>
          <p:nvPr/>
        </p:nvPicPr>
        <p:blipFill>
          <a:blip r:embed="rId1"/>
          <a:stretch/>
        </p:blipFill>
        <p:spPr>
          <a:xfrm>
            <a:off x="676440" y="2425680"/>
            <a:ext cx="7887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42560" y="3573000"/>
            <a:ext cx="74898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me počítat po jedn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voří množné čís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 před nimi stát neurčitý č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76327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y             two boys            thre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ok             two books            three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ed             two beds            three b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se zářezem 1"/>
          <p:cNvSpPr/>
          <p:nvPr/>
        </p:nvSpPr>
        <p:spPr>
          <a:xfrm>
            <a:off x="2411280" y="3681360"/>
            <a:ext cx="720720" cy="3668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se zářezem 4"/>
          <p:cNvSpPr/>
          <p:nvPr/>
        </p:nvSpPr>
        <p:spPr>
          <a:xfrm>
            <a:off x="5211720" y="3732120"/>
            <a:ext cx="719280" cy="3668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se zářezem 5"/>
          <p:cNvSpPr/>
          <p:nvPr/>
        </p:nvSpPr>
        <p:spPr>
          <a:xfrm>
            <a:off x="5637240" y="4535640"/>
            <a:ext cx="719280" cy="3650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se zářezem 6"/>
          <p:cNvSpPr/>
          <p:nvPr/>
        </p:nvSpPr>
        <p:spPr>
          <a:xfrm>
            <a:off x="2627280" y="4535640"/>
            <a:ext cx="720720" cy="3650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se zářezem 7"/>
          <p:cNvSpPr/>
          <p:nvPr/>
        </p:nvSpPr>
        <p:spPr>
          <a:xfrm>
            <a:off x="237960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se zářezem 8"/>
          <p:cNvSpPr/>
          <p:nvPr/>
        </p:nvSpPr>
        <p:spPr>
          <a:xfrm>
            <a:off x="521172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8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me počítat po jed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tvoří množné čís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 před nimi stát neurčitý č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water ??      one water ??    two water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snow ??       one snow ??   two snow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SN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Veselý obličej 2"/>
          <p:cNvSpPr/>
          <p:nvPr/>
        </p:nvSpPr>
        <p:spPr>
          <a:xfrm>
            <a:off x="3944880" y="510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i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ees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la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ffe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emo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ilk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0:32Z</dcterms:modified>
  <cp:revision>36</cp:revision>
  <dc:subject/>
  <dc:title>PRESENT  CONTINUOUS</dc:title>
</cp:coreProperties>
</file>