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E52-2367-47D0-87A1-E76EA04BB4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288-5324-4405-B6AD-C8DD66C4D81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167-EEC9-4D4D-AF13-217EA14F2AB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872-FD83-40B7-93A9-04FFC9040E8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FAC-3BE2-40FC-B091-552BC9D7772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7D1C-5E42-4A08-9DBE-CD2FCA78F4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384-AAB0-4D25-A5E3-DB0376A84EB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E8B-DA5F-4041-B98E-E5DE1AAF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4C-04A5-4AD9-BB79-C4EE966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2A2-E64C-43D8-BE55-7DCAC487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5E3-EA38-4505-BC90-7533E19C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DCBB-AAAC-48F7-8BB9-51C1693B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F276-EEE6-4AC5-9A7C-2365828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42DA-5BED-44F0-B2E3-6CB28AD4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FB7-810F-4191-9B30-FF88CE7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2091-4FCB-46C9-9903-3859CD24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379C-2164-4B56-8095-6F85D7E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494A-CC65-44FD-B02E-A9F8330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462-0CA7-466A-89C1-35D3323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070F-B300-46A5-9BE9-F70C6748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AD2F-FD90-455E-A1DA-D9AAD39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F52-6870-4155-9EB7-257C82E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CBA0-E8B1-4C70-A77C-F8761BEA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F5FA-0A78-474E-AF9E-1298E94C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3971-AC17-4FFA-880A-EE3980BE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85CDE-D106-4E96-B105-EF47E513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0700-4B07-4AE1-84F1-918AF3B4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113B-1FA8-41E4-B791-09F07E3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5D72-795E-4301-B6C8-2DC50A00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241-AD0C-4304-8B1C-03DFAEED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3046C-FCC1-4ADF-A267-F4AEE87E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B4CC-A0F4-4EFA-8D87-6EDAC48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4D678-F5D0-4706-8650-B7B765D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7C16-BC4D-4902-AB8A-E13A398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944A-3934-4180-BB85-73AFC5A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FD541-8A1D-4B7C-8C8B-57879611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8606-C401-4B9F-B9A1-53C7333C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CE0F-2253-40A0-B73C-23B059FD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BBBA-C717-4878-8C3A-3E2C2DD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959E-FBFC-455D-9294-1A98875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083-9655-4319-8269-67EC6325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F287-1E81-4AD6-9182-029C62C6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886A-BD6C-4E1E-A9CD-212BFAB6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CA836-26C7-45AB-B03A-5FC9E0B7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6E4B2-63E5-44D9-9B0D-74C7EB5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0407-1CC1-4581-91E8-469EAB1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C0FE-6DE7-4339-8D3D-24FBDE9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E710-AB52-44B4-9FBB-B0971578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502AE-C5AC-445C-B52C-F479D2BA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862A-6A46-400B-BE0F-3FEB1748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6A79-2C23-4335-A4D9-661C14B5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79C-9743-4551-A5E6-631B961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5BEE-C749-4BD2-9B55-7B6C6F5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3C5E6-8945-435D-AA74-40FE0B9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A4D27-0D7D-4A00-BEBF-6FECF6B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1514-E134-4DC3-A66F-13406A57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FAE1-D309-4B73-B928-C09F1270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6CA3-F1BF-4D8D-A244-90A7547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34B0-D3F5-4271-BDB4-91F7033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E06F-08BF-4350-BAE4-4F84E23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86471-AF6F-4955-BDF9-58E98F7E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5B9E8-AB14-4BC2-AEE5-F6F52E30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CE5-1B91-4A33-8CB2-47112077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48E76-C455-4ABF-8BD9-3565BD57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29D9-013B-498F-8BF4-A1809C11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FDE35-54B0-4B62-A07E-0BECB13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ECCB-3F73-4948-878A-C3AAB275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9460-6B26-4FA6-AA1D-85FD469D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2E73-AE19-4F9E-82D6-4E452808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9BEA5-DFDE-4226-BC72-40C5B398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26F44-165D-4AC5-B3C4-A5BC764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2CAF-E04E-4EF4-82C9-346D4BB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1741-3A5C-4F3E-9DB7-2CB399C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503-9A75-482A-A579-D53FE603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891E9-E08F-4B61-8734-ACEDD2E4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744A-8FF3-4F38-9347-177DD653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DB5D-524B-4BAA-962A-767BDCEB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B12-B3A8-4BEF-BE2A-E518621F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F20-572D-4443-940B-3781C96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8CBF-CFD6-495C-A930-8830D6AA7DA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C6A-1B9A-441C-A5B3-B236B522DCC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2FD9-D476-4102-A7E2-FBC7C8D9D3A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03D-934B-4413-A396-EEE08B3F949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1A76-4D7B-4C40-A0E7-F4CED99CB3C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499-8051-4BA3-8812-FBA89E8F7D0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2480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books </a:t>
            </a:r>
            <a:r>
              <a:rPr b="0" lang="cs-CZ" sz="4000" spc="-1" strike="noStrike">
                <a:solidFill>
                  <a:srgbClr val="ffc000"/>
                </a:solidFill>
                <a:latin typeface="Times New Roman"/>
              </a:rPr>
              <a:t>have you re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 f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1640" y="2349000"/>
            <a:ext cx="4032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tinu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you 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71628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have / has + been + sloveso (-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733560"/>
            <a:ext cx="84978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been + sloveso (-ing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been + sloveso (-ing)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been study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glish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swimm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been wait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ůsledek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průbě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3:41Z</dcterms:modified>
  <cp:revision>17</cp:revision>
  <dc:subject/>
  <dc:title>PRESENT  CONTINUOUS</dc:title>
</cp:coreProperties>
</file>