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3067-70BD-4E09-8FD1-BF7E9BE987B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CE05-89B5-42CC-9CA4-E83AB6A96B5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7504-FBB6-4FA2-9D30-E07C5493621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BC54-DA3E-4A3C-B6F0-DDB749AAD97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46E2-B534-4967-ABB1-9B8262F4139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A64F-FE9F-44F0-A44A-52A8BA8C53D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0BD6-0A9D-4C4E-A490-4D6BFD7FBBE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3F4-9971-434C-A776-FF1F02CB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203-B13B-4377-8A39-46D5EA0E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C46-CEBD-460B-BAA8-A31328A3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A50-B378-4F5C-8A16-20A4439C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5DA2-4155-4A49-8D4F-AA0173DA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2547-4E5E-4A59-BB83-0855C10C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C992-CEB3-42BA-9974-DD1EDD3F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F079-0485-46FF-975A-E490F146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5E4D-9D23-4225-A6F6-E62CFDC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3EC7-F9F3-48F2-AB4B-FDE71677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B014-9178-4BCB-AD23-A248650B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930-A9AF-4C64-81A8-C7FFD7FB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6192-5C49-46FB-A702-8833255D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761C-8EBF-41E1-950F-9C0B4F4B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801E-63F3-4E75-9625-B8B8B8E3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A5BE-7C07-44FE-918A-74387721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84E1-138A-477A-A337-29CAF1B0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2D77-2047-4CD7-A263-A38E02BF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D75A-CF30-4E7E-8B5D-83918E9A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EAD68-5B69-4609-AC5A-1A8C68EF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14B76-6571-4E66-88C4-B6689193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26AB5-1D5F-41EA-ABB2-F928CBBD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C8A-4A6C-4632-BC0F-01082E5F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937F-AACC-43F8-A9F8-DF9616AB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21E8B-B0E5-49AC-B43D-4B8BD88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6A1F-87D6-403E-B2D6-60A1BA64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FA72-4B69-4F29-9C2E-0A6D7D6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FBB5-E3B1-4D9A-8B1D-6828B099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29EAD-1C5E-4DC0-BB41-23FB7FF0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69DA-9949-4F47-A181-B17B2C6F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4FF83-4E0B-47D6-8B79-3A218D78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4FAF-B054-41F1-AD1B-1705A3CF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26746-C5F9-4CC4-8B72-80D381A0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62D-F6D1-4491-8746-D1C5A4F9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50C9-9A27-4E22-B8E4-5A4E2594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C05A-22D4-4C88-BB89-333F942E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89A0-C686-444B-BBB4-BFD6AE53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D59B1-F269-4E7E-B09E-49080913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75EA8-AED4-449B-931C-34ACE861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6890-46ED-4A63-85B7-23E42532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5166-7131-4B3A-ABCE-A817F6E9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AB403-4274-483D-96EC-66F055D2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8636-752C-43D5-981E-63CA7E9C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3AABB-A065-46DD-8960-78F95097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D9D-AC06-44B5-A58D-06A4D32E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FE235-CDBC-4FCA-A717-4F4C05EA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656FC-BA46-4398-BFD6-B5FA5B01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56012-32EA-4B13-AEF9-3AB035B2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2E00C-3CF8-44FC-9E5F-1083EDE9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E1D28-D45D-42AC-B6A5-89962905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900D5-79AE-40FC-8823-C6FE9B8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ACFEC-74F3-49E0-887F-43301C35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A19D9-7820-47C4-9FC3-2A968A32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26FD6-230E-4AC7-8074-364A366C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6C9E0-C063-497C-9306-700D9741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98B-7B54-4B9B-B32D-B80B6E2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BAEB-5CBC-4B60-8E90-EB20B494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7E72F-CC31-44CC-BB04-8A9BC511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87BF8-80A1-4F5D-8120-27F412E3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FCD97-0815-45F6-8BEF-F71BA56A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F2975-D493-4CED-8FB0-5CFFB65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8D594-422C-43BA-AA5F-31CE7261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0DC54-49FC-4FB2-8232-215CA44F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F2BB4-740A-4A3F-A63A-B99D63D1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1378F-BB5C-4E4C-A48A-5D014950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42579-4BC1-4C2B-A2FD-23B159C9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B4F-741C-48C3-807A-8E074829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3DB0-9FEC-441A-882D-19AB40C1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1702-A712-4A2D-B059-C3E43662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D030A-9994-4195-8522-5CBD923F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2B8-1E14-48B5-B988-0B7AD223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9A2-FECB-42C7-A4DF-EE91FFB9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1811-2A64-4F83-8F22-BDE7DF7F732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ED22-7F1A-4D37-8C71-9B5565BE2A7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27D0-7CDA-456B-A963-5820923D059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D925-528A-48A9-875E-DB28492F940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6B59-CAAD-4A46-B3DC-6E95BC1C829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FD9B-F6E0-4B44-9E67-05D282D5398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ne v blízké budoucnos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leaving tonigh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going to the cinema this eve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´re moving next we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4247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lánování v diář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am having a meeting on Tuesda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e are going to the theatre on Sunda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hat are you doing on Frida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Spojení s příslovci času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is writing homework no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just going to the c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 are you doing at the momen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opakova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trvá stá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probíhající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trvá pouze přechodnou dob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lway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e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ometi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very d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go to school every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live in Karviná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plays footb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do not read boo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do you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going to the supermark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living in Sp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is playing squa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not reading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are you d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ítomn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116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80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Times New Roman"/>
              </a:rPr>
              <a:t>PRESENT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ávě probíh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časný nebo přechod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ne v blízké budoucnosti, plánování v diář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pojení s příslovci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26920" y="3573360"/>
            <a:ext cx="7632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to be + sloveso (-ing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000" y="3733560"/>
            <a:ext cx="8351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to be not + sloveso (-ing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4920" y="357300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 be + podmět + sloveso (-ing)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ávě probíh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working in the gard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is watching TV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not writing to hi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 are you do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očasný nebo přechodný děj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is living in London.  (only this month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aren´t staying at the Hilton hot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having a part time job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0:44Z</dcterms:modified>
  <cp:revision>9</cp:revision>
  <dc:subject/>
  <dc:title>PRESENT  CONTINUOUS</dc:title>
</cp:coreProperties>
</file>