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F2A5-E888-4931-9D3E-C54D4675E8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9BF5-6F13-4DC6-AD49-02387426E56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795-7A9D-4F37-AE77-525B5353B03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C18-466F-42CF-8E81-C5376934221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CF9D-EDDA-4B87-A669-6C37C08D5AD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AB55-55B8-4CCA-8196-8AB8D80B00E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0C15-C572-4E55-AF17-8692167902B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A15-3C7D-40B2-A7B8-5CE28DAD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449-1B52-4351-8A28-B224B91A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C78-1D03-462A-9326-8B922684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D19-B9C8-4BF7-8A7E-62A73E09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9BD1-F414-40A0-A898-7BA54D9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371B-DCBA-46C0-ACA5-90B097D6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E8E1-DBBB-4173-BC3A-513AB83A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02B9-9EC9-40A0-A914-A3EFD8C9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EE48-21C3-4519-B3A5-19CB7DAB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C75F-08FA-4052-A8F4-C3C9FAA6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C776-A82E-46C6-A71D-7985D78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AAD-E28E-4271-B640-D53B5842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E251-5ECA-4129-BBFF-042DD7EA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88E9-D44F-4007-87D8-6A1E8A9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844-737C-42DE-9C16-5F6D2A38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8A2A-BD8C-41D0-99AE-81987522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66DF-5C78-4ACA-BB7A-CF345436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10BC-064F-405E-B90C-48447012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FEAB2-1D6E-44BC-B326-7BD1C4B0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6604-8AB8-439F-9612-9AC0B350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B6E7-575F-4ECC-A6C6-7242E5A7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9496-9456-44FA-B1CA-661DBB8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62C-BB9D-43DF-BB12-B590A600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3A02-D791-46AB-A213-5A2ECEBD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820C-1C71-4516-B7A7-1FE543D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6467-44B9-4D21-87D5-BCAB4491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D215-2847-41CF-BEAD-85B87D4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035E-A5F3-4836-B21B-1F69097B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B1D5-F50E-44EC-B790-3A865754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957E-6B13-475E-A719-649A036A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263A-4C97-4817-8E4A-1FE0D7B9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294E-57CC-4912-819B-63E31933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FF18-D53B-45B7-A8D8-A3C8A543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384-E70D-455F-A06F-88619FFF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70F6-5369-41E5-9409-62DB67A2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B945-A192-433D-A554-6BFC09E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9A4E-CBCB-49FF-A872-063279A3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1AE4F-678C-4D4B-A398-7E6A95E1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2864-A420-466E-B51C-D8D6317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3241-6A6E-42B5-BCC8-1FC45480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F4B1-71FE-4C25-B802-9011237B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F636-C9D5-4F0D-A384-3585D7B3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6D18-2440-4367-AEBE-8007152B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72A6D-0C37-4E56-A791-C2BAC4C7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508-B4F8-4037-9741-DB37B8A8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87F19-A44F-4A0B-B59B-9A41414F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2D904-C444-4EDB-B275-B3B2113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A51B-9308-48DD-B0B7-FFA1E43B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AF90C-AC39-49BC-88B9-69BAE6DD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B913E-0D98-477C-8758-E897356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6AE9-5FB8-40C1-9DCD-B25ED62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FC39A-0D5B-4504-BD39-FBC9F8F2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1CC1F-D182-4821-B3DB-3408071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1CD12-5A4A-467E-A2E6-109B72FF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FE69-9901-4B7A-B0A6-BFAD5256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4C6-31A3-465A-949B-BF2729FB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457C-C929-4334-95B2-C917BAE1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24CBA-2531-42A8-9574-5C7E8C3B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312BD-FFBE-45C9-8C70-86D034C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7BEB-B07C-4A87-A867-93F42DCA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412A2-66E3-4029-AF1E-3E73EB4A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C061C-3A71-4865-AD12-04431EA3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032E2-8987-4F8F-8DB0-47CD3699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24C68-4770-4870-ADA5-AD55D8F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7FBF-3596-4470-9E7B-27A7A6C5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6DAC-5B03-4A6E-8260-BCF1054B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FE5-A91D-436B-BD65-05CD7CDA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E3553-6C9E-4345-8476-6CBE4D9C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A49D9-64F4-4615-A8A2-6FF6F0CF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A28D-13E4-4827-9633-88C201C5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6DD-5835-48BC-B43C-8849CBC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F84-C58B-48D6-89EC-74F467C6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4365-B1AC-474B-A4A2-F0CABCD6662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5B89-968E-486F-BE66-99F58F1D572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D89D-8E3A-4B52-A31B-248A847A6DC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0AF1-0ADC-4DA3-A9A7-4302685064E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975-5CD5-4058-96F2-A8E614B0D54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7A2-E5C2-4955-AF78-7A3C5CEDDBA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oes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learn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pa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m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1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podmínková věta, spojka if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bs, if clause, main cl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budoucn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ínka skutečná (může nasta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= jestliže, poku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lea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on´t wa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13Z</dcterms:modified>
  <cp:revision>41</cp:revision>
  <dc:subject/>
  <dc:title>PRESENT  CONTINUOUS</dc:title>
</cp:coreProperties>
</file>