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2EA-4A97-4EB8-810D-67B2892A4F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A7B-9DF5-426B-90EC-FEA938B65A8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91F-F37D-42ED-98C1-828EC209260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DFBD-A9C5-4AA3-827D-A252222948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C52-50EB-4AC7-A15A-52A1417EAEB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E413-1798-40E5-B2BE-196B651DDFC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EC99-7BAF-40F5-BFFA-43ED1E76EA6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9CB-973A-4FDA-A195-1261FA7D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6EC-7A9F-462E-BA72-661E72C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C09-B7B1-43D8-8C9D-5086CF47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867-04B1-4EE7-BFE0-A9579496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C6E-4A32-4278-B82F-05EE574D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BDFC-1B87-4AE3-A7C1-7D07317C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7AF2-AD01-4D26-8AFF-6AA1C089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93AF-0F96-4CE2-982E-F562E35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1216-3FCE-4210-939D-3D044F0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9116-C851-4F8A-907E-B5CB800E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D5E2-1F20-4EAC-A511-166C407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000-EDD4-43B2-826B-5A931D84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3A61-BD66-4988-B1C7-28E3E5C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2427-5691-43AD-8418-620B814B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ED4-4A9B-4C76-9A81-0D568C7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5F4A-6A84-434E-AFD9-598739F4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BD8B-81C0-4A17-9DF3-E8A915EE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6CEF-D7B1-4515-8DB7-67E88B1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C282-D7C3-440A-9A14-4BC7D15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5C54-F837-4DA6-986D-D8BE4B88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9C91-FAA8-4438-AA2E-7C243DA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32C7-D52A-4957-B783-0721561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AAF-67FD-4DFC-8CA6-8012210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2E2F-7B13-4E4D-A3E4-8C752F48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BBFDD-C580-4130-B423-DC00A3D7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C6F3-D07D-4BD1-A7C9-99E25B6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EC0B-B310-437D-836D-282E5A4B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52AC-6CC0-4204-9814-B8370C2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7C01-9EC4-4192-B82B-8FFCFA4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4D64-88FC-43F5-AACA-F2F415E0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A756-8578-4374-85C9-5C5BEDB4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D596-9C5F-4E2C-97B4-148F9AC4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1D457-55E0-413C-A921-CED9B35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DA4-224E-45E3-AF0B-BB4D187B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4A16-8E17-40C8-A3AA-27B161A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CA8B-9D21-43B6-96BF-967946D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46A5-DBF6-401A-86F5-F31A0E2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C4D8-A651-49BD-8FC9-52974EF9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C8D0-58DC-4CB6-A4FA-20241C43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655A-AF1F-4402-8967-01A29E5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3D8B-0D3D-440E-89AB-564B3DD7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BBBD-6388-4A62-9E10-63DC67DD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2F08-DDD6-4C8D-A2DD-C35A9BD3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DC65-6CAD-4AE7-87E6-2E30FEA7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822-A6B4-490F-A796-1B567E34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E666-1401-473A-8A84-096EFCC0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039C-BA99-4DDC-9A6F-CF4A5691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6BC9-14D1-4C40-AEDD-6CA8EB55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0EAC-50EE-4B95-B372-2BA635E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B6F6-537F-4F58-A0CA-EB517A45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BE40-12FB-4AD5-9DE0-A0F95F6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8342E-934E-4592-B36F-84E0367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B935-0FE3-47EC-B176-37B007E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3357B-66BE-4CD9-B66A-887F073A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B95C-EC45-438D-A115-8AC85367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96F-41A4-4813-BBD5-627F56F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5569-9361-4DB3-9D2B-6DD63843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90EB-AB5A-4F6D-91F2-6DBF8D03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B3B8-4AAB-4807-B83D-F5A61758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7243-9E27-4A8E-86FA-601F1B6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7ED3-059F-485B-9030-AB40BBEB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F1AF-D1FC-4095-8696-39B863E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64CD-86FD-4FE2-BCD1-499469C7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3294-DB5A-4A7F-9BB7-E2D26CDD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2B265-13DB-45ED-892C-71918EF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8C1E-7CEA-4E72-8820-797E9F7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00B-7EFC-4075-B0AA-0724B9D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CA82A-B2FB-420B-A183-6B20C740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CBC6B-4074-4680-8EB9-2C539765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B16B-975C-43C1-BE9F-3BDB5A82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9EF-4E5F-4A7A-B3C7-FBE94DF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A6B-91AB-43CC-83AE-D0904C07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D011-8915-4B7E-82CA-7DB09F45EED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64AD-9A04-41FB-85F9-F9AF092E6E6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050-9F83-4EF1-BD62-B0AE23FB636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374-546A-4AE2-8A06-BC3DC3DBFEE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639F-22F0-4F88-8E15-1B4041E544E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6B6C-16C4-4D79-89F2-E4906643918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58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ěhl a skonč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ětšinou je 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íhal po určit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odbarvení jiného děje v minulost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388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l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rot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not rea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you d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walk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writ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not read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 when she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you do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si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t up and went to the bath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me home and cooked my 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shouted and ran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ile I was waiting at the traffic lights, someone shouted at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sitting in the armchair when he c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working in the garden when we arri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continuous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playing the piano and she was dan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shopping and she was waiting for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3640" y="3499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was / were + sloveso (-ing) 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wasn´t / weren´t + sloveso (-ing) +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s / were + podmět + sloveso (-ing)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íhal po určitou dobu v minu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reading magaz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listening to the ra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n´t waiting for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were you doing at five o´clo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came ho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saw him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ross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watch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 when the telephone r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10Z</dcterms:modified>
  <cp:revision>11</cp:revision>
  <dc:subject/>
  <dc:title>PRESENT  CONTINUOUS</dc:title>
</cp:coreProperties>
</file>