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4B0-A99C-472C-9803-A58C080A3C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8288-98DD-4003-A8B9-5D9EB62B575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7313-78A7-4B49-9591-658BD3AFCF9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A1CA-AEE2-4472-90CE-7CF85945600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1A30-AF8F-4A4F-B1BE-8EA3E2A3DAA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F5F1-E49C-4822-B0BC-FEE2D184DC3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E9AD-0A78-4392-9CA4-305B9A94727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E06-6D8C-4FB2-834C-152CACE0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04A-57D3-4953-BCF7-0D233EEA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482-807B-45DA-83AE-8E38AC25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B9E-F9BE-492D-9FF7-7CD75412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4D41-8B3A-4398-B086-D610E1FF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B60C-4724-41CC-AF04-E732967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2174-B87A-443A-8B00-B14AB28B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5BB7-63C9-4959-AE44-99E3A04B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BC5C-16BB-4631-83CA-47E541D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AB74-67ED-466D-8059-6D926D3B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D720-C3E3-4117-A3E2-3B9D2D2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FF8-293D-4D63-A91C-EDAFCE23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EB4E-0C51-44CD-A0C9-0D2759EB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9637-C3F6-445A-A2F5-643823E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ACAD-53CB-440C-9238-6826B13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6D1F-3C70-4163-A960-F3FD34E4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2688-EF60-4E02-8C9A-2F12F9E1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D59C-31B9-4A84-844D-9416BA8C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2DDEE-1AE8-4B09-81F3-2C532207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560C-3FD5-4C34-9D45-226A31E0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3BE0-9A88-4EEE-A8DA-1816095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F6CE-87AD-4407-A539-921B12EF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302-7586-46C9-B1F8-CF9FA29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8734-D054-4E76-9E9D-43615BEF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934D-A3ED-45EB-AE75-D9671058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7C52-4F27-4EF9-8D2F-60F5AFC4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F827-6AD2-4590-96AF-DF7541C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B61F-C0A9-4404-A90A-1BD1D9AE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1BEF-C559-4B0A-8885-B03DD90E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83C6-2E0E-4DD5-BE80-0D6B7738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7C152-774C-44AD-97D0-C482F12A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F204-CA9A-4105-8332-DDA971A1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5427-7A54-4978-888F-EB0066BF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4D6-2419-41D7-AA5F-0398D21A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2D54-24C7-4136-A541-B9CC7E19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4AD8-AECC-4BEE-B79F-307BAC2A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ABFBE-93CA-42FC-B552-B9121C73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443B-753F-4D40-9840-D581EF27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5A1F-C2BF-44D6-8CF3-3DAB7513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8321-F209-4B23-9A54-F0601DB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97B58-F240-4F0A-8764-83FC172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A50D-941A-4D43-A576-DC387F90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898F-691D-4B0C-9E58-F9A2A71F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33505-1D83-4B8E-AD00-64AA62D5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A79-8448-406E-917B-C0729DA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80F6-1699-410E-A1D2-EDA57631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C45F6-1D08-4711-9B9B-829CD21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AD4C0-EA62-47BA-8EC6-F2FF00B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ED8B-1EFB-4386-953F-6B0E8C2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80AD-25C6-48BA-B4B7-962D5DC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1ADB8-FC27-4AAD-AC9D-6AE1FA0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45C6-BA25-48A9-999A-4D94BE4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1E73-6A1A-422B-85DD-CCB60A7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367D2-73EA-49A3-AE02-A2E67B2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4FA6-2467-4B3C-90D3-670F9998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7E8-B74A-49E5-8790-E909945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7D87-6627-4D7B-A167-48971734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7A08-5D8B-400B-B32B-67D20510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43DC3-D47C-4DAB-B020-F87A5ACC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71AD-17CE-4601-AE3D-C7F1609F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9507-79AF-4A50-A8B9-D92900E6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9D273-64FE-4DCE-9281-95500FBE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9BE9C-E207-4855-BF42-31A5AEDC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D0CB-CF40-412C-97F2-EF20B40F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DB57-EDD1-484F-BD8E-B5775D6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5A8F-DA53-4D0D-9DEF-2040BA3C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B8C-581E-4D4A-9A8B-A87A8FB9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2060-E39A-4345-B3FB-30A5E33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5C93D-E369-4AE8-99F1-9CD87360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D342-EE6B-48DA-8022-A5436447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673-7B7A-4762-BCB8-605807C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4C0-45B5-49EE-B3DF-ECDC3997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378A-1B46-4360-ABEF-E25AF503C65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B44-C757-4F03-82AC-E3FA04C50EB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59B6-0F03-439C-B1BC-016FFB41D2A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A8EF-C2F4-4332-A5AF-BA98C99F258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B467-356A-4059-BD5C-49694F71F13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3597-A46B-4309-AC61-B6490C7AF44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l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in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p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ar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fea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us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us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211640" y="2565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nder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ois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had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larity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4067280" y="2522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4027320" y="3357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4027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7"/>
          <p:cNvSpPr/>
          <p:nvPr/>
        </p:nvSpPr>
        <p:spPr>
          <a:xfrm>
            <a:off x="4027320" y="490536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koncovek přídavných jmen včetně pří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koncov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80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445840"/>
            <a:ext cx="748836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97160" y="34862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265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v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ttractivity              attrac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aivity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na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egativity                neg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2604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26040" y="37767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26040" y="458136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c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m              orga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husiasm               enthusia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story                histo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4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08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60800" y="40338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244240"/>
            <a:ext cx="748836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dvantage            advantag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oton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monoto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121280" y="2438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121280" y="31924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21280" y="39337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ful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aning            meaning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11640" y="2548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3:56Z</dcterms:modified>
  <cp:revision>38</cp:revision>
  <dc:subject/>
  <dc:title>PRESENT  CONTINUOUS</dc:title>
</cp:coreProperties>
</file>