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48DD-07C6-42AB-86EA-A54A7CFF29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BB45-8C19-403F-A141-45E9C6AEE74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34C-1E19-4D07-8D35-CBC16872A4F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93CF-575F-4C8C-9306-87037D4BED1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F3C1-4076-41FF-A422-5923449E9C1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D408-880E-43E9-B6B6-A93CAFE37AD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714F-86FA-4B59-9CE6-1D7821A4EA0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862-2848-4FE5-9B93-12A2FE75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3B9-8BB2-40C1-9268-D3D5DE2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CFE-FB61-4082-9953-34F5D7FF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922-9D60-424E-B9D7-1B74EB5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83B0-9944-4ECF-A809-D64457F5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561A-D485-4783-812A-DABEFD8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CC6-3057-476F-976E-6D3C661B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BFC6-5A50-43C8-A96C-06BF63F5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A50-6A3E-4D4E-835A-E732BC58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0BB1-01D0-4CB1-A018-DD1704E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22F-A8BA-44E3-BD4E-B0A799F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061-F2E3-401C-805C-677FC4E2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4176-CFED-446B-8A4E-9B75492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11A6-0B99-4F5D-B55A-9DA44D1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4557-F41B-484C-A763-043BBB0D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785F-713C-40A7-B51D-A604E47A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4D8-3F88-491A-881E-D6810EF7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B7225-869A-4E65-8DC6-0CB13DE8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787F-B9A8-4BA2-B47D-ABA02DF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8A6A-9558-4230-BBE6-53264FD3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20B5-3E5A-4170-AAA1-5CC98FD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04DF-3109-4FAB-BF1B-EBCE2C9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E9E-3354-49B9-AA7C-C974FDC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55ED-2CC0-4DC7-B77D-8DE029EB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3EEE-C9BC-42CC-9C36-24AD9FA6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294A-2AB0-4556-BE7A-9538474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8D16-B9A9-4AA4-9CC8-041CC860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40F9-10FF-4857-A986-2CFEA0D6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2F66-D59F-49A1-8F58-E8040788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7A10-F93C-45E8-9D3C-EBE810C4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63FA4-E223-465B-AD38-2B695021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3992-5421-4FDE-B7B2-5427D49B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6F7D-C90A-47CE-9352-5736B5AA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884-F63F-4B69-BEE7-B47DFE2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FBA7-43ED-4515-8FA7-C529905A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D43EE-DC2A-4320-9E67-416B93CC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9262-3CB6-4EBF-A5A9-AEE87D8B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DDA3-589F-4ED5-AEF3-8ECB820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910A-6197-4E24-ABE0-44AC07A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2DFD-DCB6-4B49-8194-85637B1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A7E24-FE73-4AD6-AFA6-4FB458E8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CCF9-CA71-4CF4-B9C9-0C1DBACC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C7E12-8A5D-4DE9-934F-4C6811E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95AE-0E0E-4BCD-B8EA-288BF15C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9B3-FFA0-4136-B4B8-485DD8BA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DF7AC-E7AA-4B11-A37D-520E5C2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6473-2F6B-4E01-9A67-29BF895F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11428-346E-44AB-9B40-B22BA9EA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C1E7E-587D-47AA-8C20-4CC1118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B857-314A-47FF-9CC1-DF297BC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AA2F-C836-4843-8468-CBB32A5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75FEC-3943-43FC-8016-F8479B1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9182-48C9-4E4E-8C02-A6257F8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8675-C22A-4124-8730-F626D7B3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D525-A4E7-4638-A1F3-E7B57CC3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FD2-FF66-4D85-AA2E-D8CCAC1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D6C4-22DA-4CAE-89DA-B8F6F5ED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FDC7A-8DE0-4B80-B35F-BF4E1116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7290E-B4E1-4579-8789-0ABBAF3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B623-A01C-4BBA-B8C5-8F238815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2680-8B78-4749-819C-4583956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678C-B84A-4031-9EF6-2DBA84C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716C-0D93-4EA5-A967-9BF956F8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4581-15E5-49C8-A456-102167E3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82B2-7A16-4495-838A-07F958A7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99E1-A2C6-47C0-B54F-332E6EC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4F4-9929-4DB0-BAE5-AB8CC2B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9DDA-276A-4E4F-A03A-87F8063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B9F2-FD67-47B5-8CDB-F4AC851C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5698-5AB7-4EE8-B36D-AAF6C048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8F3-7B7F-408D-9014-1E7C30D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A60-27F7-4559-B0C2-763050F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4D2C-9A4A-4CE6-AE0A-1797BCFDAD9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4054-57C6-43CE-BCDA-D0BCB1208D4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3F4-7675-4984-A046-A9E09B53F06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93C-C133-48E7-9721-DD4C133949D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97B-A849-4254-815B-AC37AA93953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58E-E87E-4E66-9AC1-4FBBF598C0B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2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4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NEURČIT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6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ÁZACÍ  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ICH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N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Y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SE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WHI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colour d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ol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ou like?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do you lik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ed or gr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……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….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..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……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zá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zájmen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Zájmena, osobní zájmena, přivlastňovací zájmena, ukazovací zájmena, vztažná zájmena, zvratná zájmena, tázací zájm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zá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4.pá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er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0920" y="38088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stojící samostatně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s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VRAT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4360" y="2276640"/>
          <a:ext cx="7772400" cy="365760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self, herself, it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UKAZ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se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4:34Z</dcterms:modified>
  <cp:revision>43</cp:revision>
  <dc:subject/>
  <dc:title>PRESENT  CONTINUOUS</dc:title>
</cp:coreProperties>
</file>