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DCF3-F6F7-4816-9066-33F571586BC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9F96-B0EE-4E90-A2B2-1A1ADF5A4DC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6D3A-F706-44C8-A039-2A92CD95FFB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57E5-0611-417C-9807-DDAA502F920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C422-C884-407C-A871-2354632896A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D486-15ED-44C9-8EAD-925FDBE1124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F713-625B-4688-B2D5-9C4E7FFA6C4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8622-189E-4201-A4A7-53D871FF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31A-3907-4ED1-8156-5677F9D5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279A-6137-4EE0-9E37-DD3B15A0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10DE-A693-4343-A80E-E98EB622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E006-0C66-4F6B-9672-284D8CB4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E335-B0BE-4795-AECE-17D99FE6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FFBD-EACF-4478-B4AA-7268070F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5B34-FCAA-4973-A5A9-0B8AE570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74B8-3272-4275-B6A3-5AF03FF1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2CA7-98D4-46D9-88C4-BF28F64A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4205-ADB4-4C58-8027-BD204AAF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67E2-386B-474D-8BBA-15F729C9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092C-0B2F-40FC-8A6B-473D8127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C649-A541-498B-957F-903A473E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5EA6-09BE-4921-99E6-C50DA7AD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7D90-CA98-4AE0-AB30-82B50F52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87A7-F989-4791-BD4F-E3A816DA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602C6-31FD-4322-87A7-910931F3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85A8A-3254-4913-8BFF-6B03B971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D0F06-2C8E-4282-AEDC-874BEDE0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3F886-F936-400A-B7D5-2C64A0B8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46BF9-4845-45F4-896A-39562663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F40E-9C3B-4245-B031-D6920BB6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34666-D9C7-4921-B416-3DED0C6B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775D1-2C23-4F55-AB4D-F4E23938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9311B-7EF0-4EB0-98BE-B5797C86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D8E5D-8711-4A43-88EF-D997B3AC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04069-5F18-4097-BDCA-7878EA3C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9A77C-A434-4E58-85F8-1A6D8E72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EAE93-6A7C-412F-ABB7-B46A4FA2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B0A28-E6B5-418D-AB70-16CE1B74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583E4-F4AB-4C95-B79D-8C8D5DEF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295FC-E82A-443D-AE84-2C18E2CF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24DE-400B-4343-BBE8-ABCC6D2B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4955C-B133-4C6F-AC5C-F1890216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1A3DC-0018-4835-8849-B2E82F38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6126E-3E21-484C-9C3E-5E4EAB0B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BD307-CC75-4850-8DF7-A71BF93C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FD0C3-8F5B-4897-AA05-413586DE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5A94C-2FAC-438E-9BAE-0183761D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02CE1-9F32-4CEF-9D5A-7689C7EB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E9973-DBD7-4E16-8FEA-4FA0179A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FA564-962F-4822-AF46-602BD4F7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F9BE2-691F-4EA6-BEDB-1D53900C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C18-6260-4A0D-A754-D6059F96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3281F-E1EE-479D-905A-0B35AF95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FBE48-FD36-4C2C-A603-2690B1CB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B6B36-0CAA-4EEC-B080-E7179A3C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53533-C7E9-4FA4-927F-A9EFF7BE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E6D24-EA67-4187-8A68-C1C6E45D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07174-78C5-42EA-A592-8856E8E1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CC6FB-4247-4EDF-BF9F-53B38AF0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BAEE2-6693-4B0D-BCA4-32CBBE28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96EFE-F829-43D4-9A2C-9D4ED33A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1FB68-E3CF-49DB-B129-FC4BE95A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3092-EEB9-426F-A133-8D1B0173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D2FE2-EC20-46C5-8C39-CF4A272A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B19A5-7AA6-4729-AEA9-B433E818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FBD91-FC4A-4772-87F3-3F492CE2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C7728-88F6-49AC-93D5-BCDF762D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EE5EA-F8F8-47CF-96CD-D0550F01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AA127-1C9F-4AF5-8089-57AAFF20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C0D46-2550-47A2-A0E8-70081CC8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52EF2-AE72-43CD-B9AF-D6A27F71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DDFF7-8CAA-4E9C-B1E8-869BB062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C0175-928D-4471-84C3-EC07C81E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4455-373D-4007-AEA2-8EF4A623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AE269-386D-49F0-8BBE-02C1A1DD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6C23F-A9D6-4919-8280-149613E1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94C13-16F8-4B21-8C3B-8CB31799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3D86-A098-4B25-AE16-19E77FBA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664F-AE18-4A02-B713-BFD8BA74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330B-1544-4815-A3A8-2F98B2CBC468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6511-76E9-45B6-A8F4-FB5C1D9D35A9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0E2F-C3B5-415B-81DB-A7233D6D71C8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DE25-0658-43CF-8F50-83DB7CE4B8C6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CC9D-0CF2-40A7-A3CB-D152E53F5828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B39B-8A83-49F0-A4AA-67365AA3E74D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920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ut in the correct ending: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rive                .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ance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......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lite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istribute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Šipka doprava 4"/>
          <p:cNvSpPr/>
          <p:nvPr/>
        </p:nvSpPr>
        <p:spPr>
          <a:xfrm>
            <a:off x="378000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Šipka doprava 5"/>
          <p:cNvSpPr/>
          <p:nvPr/>
        </p:nvSpPr>
        <p:spPr>
          <a:xfrm>
            <a:off x="3780000" y="3789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Šipka doprava 6"/>
          <p:cNvSpPr/>
          <p:nvPr/>
        </p:nvSpPr>
        <p:spPr>
          <a:xfrm>
            <a:off x="3780000" y="4508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Šipka doprava 7"/>
          <p:cNvSpPr/>
          <p:nvPr/>
        </p:nvSpPr>
        <p:spPr>
          <a:xfrm>
            <a:off x="3780000" y="539100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Koncovky podstatných 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tvoření koncovek podstatných jmen včetně příkladů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Koncovky podstatných 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258920"/>
            <a:ext cx="7772400" cy="21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PODSTATNÁ JMÉNA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71640" y="38862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Koncovky podstatných j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KONCOVKY PODSTATNÝCH JM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0" name="Zástupný symbol pro obsah 5" descr=""/>
          <p:cNvPicPr/>
          <p:nvPr/>
        </p:nvPicPr>
        <p:blipFill>
          <a:blip r:embed="rId1"/>
          <a:stretch/>
        </p:blipFill>
        <p:spPr>
          <a:xfrm>
            <a:off x="469800" y="1981080"/>
            <a:ext cx="8004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men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entertain            entertai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employ            employ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excite              excite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Šipka doprava 4"/>
          <p:cNvSpPr/>
          <p:nvPr/>
        </p:nvSpPr>
        <p:spPr>
          <a:xfrm>
            <a:off x="378000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Šipka doprava 5"/>
          <p:cNvSpPr/>
          <p:nvPr/>
        </p:nvSpPr>
        <p:spPr>
          <a:xfrm>
            <a:off x="3780000" y="3789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Šipka doprava 6"/>
          <p:cNvSpPr/>
          <p:nvPr/>
        </p:nvSpPr>
        <p:spPr>
          <a:xfrm>
            <a:off x="3780000" y="4508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ion / -a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form              informa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suggest              sugges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organise              organisa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Šipka doprava 4"/>
          <p:cNvSpPr/>
          <p:nvPr/>
        </p:nvSpPr>
        <p:spPr>
          <a:xfrm>
            <a:off x="378000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Šipka doprava 5"/>
          <p:cNvSpPr/>
          <p:nvPr/>
        </p:nvSpPr>
        <p:spPr>
          <a:xfrm>
            <a:off x="3780000" y="3789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Šipka doprava 6"/>
          <p:cNvSpPr/>
          <p:nvPr/>
        </p:nvSpPr>
        <p:spPr>
          <a:xfrm>
            <a:off x="3780000" y="4508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er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work                 work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lay                  play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each                teach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Šipka doprava 4"/>
          <p:cNvSpPr/>
          <p:nvPr/>
        </p:nvSpPr>
        <p:spPr>
          <a:xfrm>
            <a:off x="378000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Šipka doprava 5"/>
          <p:cNvSpPr/>
          <p:nvPr/>
        </p:nvSpPr>
        <p:spPr>
          <a:xfrm>
            <a:off x="3780000" y="3789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Šipka doprava 6"/>
          <p:cNvSpPr/>
          <p:nvPr/>
        </p:nvSpPr>
        <p:spPr>
          <a:xfrm>
            <a:off x="3780000" y="4508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nes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ired                 tired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omeless               homeless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lazy                lazi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Šipka doprava 4"/>
          <p:cNvSpPr/>
          <p:nvPr/>
        </p:nvSpPr>
        <p:spPr>
          <a:xfrm>
            <a:off x="378000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Šipka doprava 5"/>
          <p:cNvSpPr/>
          <p:nvPr/>
        </p:nvSpPr>
        <p:spPr>
          <a:xfrm>
            <a:off x="3780000" y="3789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Šipka doprava 6"/>
          <p:cNvSpPr/>
          <p:nvPr/>
        </p:nvSpPr>
        <p:spPr>
          <a:xfrm>
            <a:off x="3780000" y="4508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ing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eel                 feel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ad                read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swim              swimm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Šipka doprava 4"/>
          <p:cNvSpPr/>
          <p:nvPr/>
        </p:nvSpPr>
        <p:spPr>
          <a:xfrm>
            <a:off x="378000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Šipka doprava 5"/>
          <p:cNvSpPr/>
          <p:nvPr/>
        </p:nvSpPr>
        <p:spPr>
          <a:xfrm>
            <a:off x="3780000" y="3789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Šipka doprava 6"/>
          <p:cNvSpPr/>
          <p:nvPr/>
        </p:nvSpPr>
        <p:spPr>
          <a:xfrm>
            <a:off x="3780000" y="4508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1:07Z</dcterms:modified>
  <cp:revision>34</cp:revision>
  <dc:subject/>
  <dc:title>PRESENT  CONTINUOUS</dc:title>
</cp:coreProperties>
</file>