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A609-75E4-457E-992D-1FD5D814491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358-EC1C-4B43-B215-C16B5E2C87F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2FE-69B2-4435-A462-F3885D35AC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CBFD-9525-4AEF-ACCF-CB9DE0C3664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FF55-DD68-4EEF-B484-1F6C638B8E9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79C-C031-4752-B264-5EEFC200CAE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F05-3F17-42FF-84C8-7087D7F202F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90A-561B-471A-88BC-22A100E4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D06-518E-4361-92C4-33F037F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547-428F-42E1-9CB4-A6AB4747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E0A-8A62-48A2-9278-DA2B6BCF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034C-3DC9-4E0B-9591-9E218CF8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4B3-CC83-45FD-8745-0BAF3C81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AFBE-EAB9-472E-B72A-66C7838F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364-90D6-4D84-89B1-EE7CE22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414-0234-4B27-AD1C-E286B5B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5FB7-8862-441F-85FE-556A8A42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4B9-8B21-40A8-A581-BE86635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663-2A38-47A0-AEF9-A497081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710A-F965-4347-8EAE-F225E5D4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9B20-7939-4E97-B173-814AF10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C46-116A-4A75-BEB6-FA323D9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994-D057-4321-AA9A-DE446FCD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2C5-5833-465E-954E-7B6656D6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931D-64C9-4AA3-BE38-CB30741E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4D18-AC0A-4F18-B38B-1F339C54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81D5-58A5-4AF5-AF27-51E0198F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77FA5-55E5-4BA4-B78E-10728FA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FC84-D673-48D4-8447-B540E84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E99-F94A-4534-96B6-8B91B992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E3A7-E48C-44ED-956A-681C840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A012-C297-4FE8-AE44-9F33AED9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EA81-4F2F-4279-88F8-4EB67F05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F088-77A1-4F11-A268-08A67BE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97BB-49D1-4A48-AC1F-6AF1F848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B618-690A-4D01-B021-B67841C1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1D53-B330-4732-AE62-5F09483E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B37E-2D62-4CDF-BCCE-A597F422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9DD8-98B2-4688-963B-6A75735C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D733-A9CC-41AD-9459-CC757ED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4A8-A0DB-4CDC-A978-81ED2B4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326A-676C-43D5-9C76-D314761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ED48-C011-45BE-B27D-12BBC7D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ACA3-87DE-4492-B967-EE0E60B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3F6D-BFA5-40AB-992D-CB3057E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77DD2-5363-47F7-895B-993B2301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1B41A-1366-46BB-87DC-B48FB8D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E6C6-4352-4093-862A-452D429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0653-DB73-4283-9D54-87CD9F4D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44C6-22B9-465D-8007-02BCAB80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B378-826A-4EB2-9C8D-EA67772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DE-9B27-450C-BD60-3A009B2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D034-D7C6-4321-AC29-3F5790D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433E-F5FB-4582-93C5-CEF3F374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CDA7F-6852-4B48-9353-6223E980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E8DE8-67ED-442D-A672-573656B7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5816-6AC0-4E33-9639-632767F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B6411-FF17-4D25-937E-7479A81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768C-2407-4B71-BBF4-3BA8291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903BA-E7E1-43B7-AAF6-721F89E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DD6E-F5EC-4B7C-A84F-DB72560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C42E-52F2-4BC5-8134-66719434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A30-7E2D-4CFB-B398-9DD9947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1F3F-00FF-4D54-924A-1558031D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9D1A3-19FF-42B3-97EE-915D359D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E2C84-81DE-40A2-99B6-376F53F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7980-8098-417E-BAFF-7B21CB93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68BE-C02F-46AD-BDBE-2B59D6A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5D174-8EBE-4F99-9A0C-9839374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AB56-C414-418A-A1BA-3B0F9470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5DE8-F9BD-47D3-9E43-0B7482A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FEC36-4171-4D23-8D3A-03022B0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65ACC-7175-447B-8894-61E1CC87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98F-5C9F-4CFC-8B51-E4CCFD9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60AC1-8EB3-4CC2-BB4C-CFE365E0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273A-059C-4A09-BCD7-A0292E5E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D4126-9A07-42F1-9F8D-EF1FD139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487-2FA5-4BD0-9FAE-5D74EAC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15F-5F40-46E2-9CBF-823AB76F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3CB-CD34-4FC0-BA71-F9B4BEC963F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64F8-8FCA-4C3C-9608-C7AC31A651B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D7B0-5507-4D8C-BA9E-168652C696E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1196-1C50-4B50-B259-D91037E581F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CEE-7DE6-4613-B5A5-0F3E55660FF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A81D-972B-49E0-BD74-14D2DDA757A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Tvrzení o budoucím dě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7 billion people in 20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re countries in the European Union in the fu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lib, nabídka pomo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it a minut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help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n´t worry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window, pleas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pisy způsobových s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 much lon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bl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lay squash ton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 the ca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U časových a podmínkových vě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you come round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watch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win in a lottery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new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I get to Paris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will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„will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6028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opisu způsobových s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 časových a podmínkových vě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sloveso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7920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NOT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+ sloveso 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57300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avděpodobně nasta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ate, I thin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pass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exam, I suppo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not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ime at the week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´s ill?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nd see her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´ll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chicken steak with potato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5:23Z</dcterms:modified>
  <cp:revision>11</cp:revision>
  <dc:subject/>
  <dc:title>PRESENT  CONTINUOUS</dc:title>
</cp:coreProperties>
</file>