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5AFA-2C97-4D06-AD0B-30402E37B6C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2E6D-F086-4A70-8675-30F7E94D05F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61E1-CEEA-4B50-A636-4F06062D443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C609-52EE-41B4-9C5F-E351F196C8F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9268-F5D0-4E78-ABE0-0643E51151F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B91B-3B4B-44C6-8DD2-6419F78608C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D574-1A57-412E-AE4A-1966994D7C5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1AE7-1C47-4973-BFF7-6C9AA9A0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901-3FBE-4C91-B704-BFD7F511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93C8-3CA1-48E1-93F3-BE68D600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1DE4-8645-4C94-9C09-9064FC27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D0BE-DEF5-4169-A81D-D4E62864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87B7-025B-42B6-AEC6-7120030A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2A05-44AB-4478-AD13-F5B2A615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8BE4-D090-4FD1-9E6F-1AEE037E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8227-FC1A-413D-AF97-37230884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C59E-8DEA-4743-A6E4-237DD54B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E34E-3AEE-4497-B593-576DD973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C8B0-7FC1-4824-A8F9-4759714E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9466-D157-44DD-8519-CF6FDE77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281E-CDB8-41F2-94F1-4D78DDE3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7129-79BB-4A47-ABA0-EFF54F3F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D67D-63FD-4073-A82E-8C9B439E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7B23-158F-4420-870D-61052C87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1FADA-F277-42B6-8FAE-BE0E923F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777EA-44B3-49CB-80EC-E70C17C0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B191C-1203-45E5-834B-7F669C21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BCA66-FFD3-450D-BF30-F5F4E874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AAB85-FA84-4192-B3AF-DE87DE4F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3D3-BBAA-4DF9-BC3E-12EFD4D3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40A67-16C7-4309-837B-7FC5425C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CB7A8-28A8-4B82-B364-30857AD1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00841-39AC-44E3-BF62-23E45876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013AC-1B41-405A-97CE-BDB1F6B8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9ECAD-76BF-4E24-B8E6-9B4B2640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823DA-D130-40BF-B471-6B8F1053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B8D67-3FF0-4E77-8736-5C3E5E19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35E71-B1C5-4E8D-B36E-869E7D3D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9D064-AC93-4E6B-84FD-9A11451B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627A8-22D5-49CC-B934-B22CA8A1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CA70-19D8-43E4-97F1-48F930D7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27F99-ACB0-4EF9-8BC2-3064182E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A2C64-5C2D-4401-BD20-DC1464DA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801E1-6478-4B79-A51A-19A0DBA5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A2924-63C3-46D9-9E0E-5E9EF563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0C0BF-D5D2-4F20-9F3F-52AD1475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0DCD8-C03B-4E68-B744-E7E02286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736F0-87E3-4D52-BECE-3DF0E2DA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DA008-EF46-4ACA-BE49-006886D1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6E50F-243E-4F94-B927-F63BFB2C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93197-C7B0-4D89-B72B-7D5330F5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B64E-3E5F-49CC-84F0-5DD2F62D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4DE92-7836-4356-A696-56656256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73584-1FCD-4744-AAC5-CDE5E831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587E9-3576-449C-9B45-A473969A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3504D-9F18-4384-A863-723CAA7D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C7AA2-4871-4142-A1F4-0E06BC4A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70820-5E27-4233-8166-6A945A9C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503B4-DCE4-4116-8880-13932FD8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C81F5-4E3B-4534-99D9-208876AB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08209-2F56-4C30-968F-ABD99AD7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55CB4-D707-44DA-823F-EA524D7E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1EA6-2B8A-4BA5-9ABA-351811C9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58F47-1FA6-4CC4-B34F-0F894B55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43ED8-494F-4735-8C09-F613E7BC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1BA47-65B4-4467-AA88-1DBDFCAE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89C95-42EE-4B53-BDAC-DC30FF05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2CAAB-FBD1-4372-BF1E-6141DB21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F663D-8674-4A40-9B67-34FCA890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097E3-1575-4856-9667-CB6D8B5B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BB03E-8815-4722-A167-9C900C56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46D5B-11B2-43A4-B7F1-2CA78E47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63A2A-4D65-479F-A8DB-29886EE2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AC4F-1F05-4805-A873-91412D02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2B734-C2A8-4774-AC9A-4C0F2F57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05F54-DAFB-4900-BCA6-F9C39EB0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1A37E-8F73-4A0C-9C25-5244A9A3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B31E-CBA3-416F-B4B7-B9758C3A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A670-3EB5-495D-A57C-F7C55184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6F90-7A93-4777-A29E-E2F3EC7BF3DD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9A34-C186-432B-8CC0-B7439148529B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5C33-CEC1-4B65-B05D-3EB38DA288CF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A254-B693-41C8-99C2-EB721838BF15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E254-6520-45ED-85AB-F8B52D1213E6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24C3-3EA1-4AD9-9E5F-67BBAC6DB5E1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Víceslabičná přídavná jména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899640" y="2781000"/>
            <a:ext cx="7488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b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r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the wor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Víceslabičná přídavná jména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99640" y="2781000"/>
            <a:ext cx="7488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f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fur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the furth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ake comparatives and superlative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68000" y="2781360"/>
            <a:ext cx="8351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mportant                  …….                 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fat                             …….                 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noisy                        …….                 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all                            …….                 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Šipka doprava 4"/>
          <p:cNvSpPr/>
          <p:nvPr/>
        </p:nvSpPr>
        <p:spPr>
          <a:xfrm>
            <a:off x="2916360" y="29480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Šipka doprava 5"/>
          <p:cNvSpPr/>
          <p:nvPr/>
        </p:nvSpPr>
        <p:spPr>
          <a:xfrm>
            <a:off x="2916360" y="3546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Šipka doprava 6"/>
          <p:cNvSpPr/>
          <p:nvPr/>
        </p:nvSpPr>
        <p:spPr>
          <a:xfrm>
            <a:off x="2886120" y="424332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Šipka doprava 4"/>
          <p:cNvSpPr/>
          <p:nvPr/>
        </p:nvSpPr>
        <p:spPr>
          <a:xfrm>
            <a:off x="6012000" y="29336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Šipka doprava 4"/>
          <p:cNvSpPr/>
          <p:nvPr/>
        </p:nvSpPr>
        <p:spPr>
          <a:xfrm>
            <a:off x="6012000" y="35528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Šipka doprava 4"/>
          <p:cNvSpPr/>
          <p:nvPr/>
        </p:nvSpPr>
        <p:spPr>
          <a:xfrm>
            <a:off x="5979960" y="427032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Šipka doprava 6"/>
          <p:cNvSpPr/>
          <p:nvPr/>
        </p:nvSpPr>
        <p:spPr>
          <a:xfrm>
            <a:off x="2867040" y="488160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Šipka doprava 6"/>
          <p:cNvSpPr/>
          <p:nvPr/>
        </p:nvSpPr>
        <p:spPr>
          <a:xfrm>
            <a:off x="5951520" y="488160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tupňování přídavných j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pravidel pro stupňování přídavných jmen včetně příkladů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tupňování, přídavná jména, comparatives, superlatives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258920"/>
            <a:ext cx="7772400" cy="21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PŘÍDAVNÁ JMÉNA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971640" y="38862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Stupňování přídavných jm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STUPŇOVÁNÍ PŘÍDAVNÝCH JM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0" name="Zástupný symbol pro obsah 5" descr=""/>
          <p:cNvPicPr/>
          <p:nvPr/>
        </p:nvPicPr>
        <p:blipFill>
          <a:blip r:embed="rId1"/>
          <a:stretch/>
        </p:blipFill>
        <p:spPr>
          <a:xfrm>
            <a:off x="689040" y="1968480"/>
            <a:ext cx="77724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Krátká přídavná jména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68000" y="2781360"/>
            <a:ext cx="8351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strong             strong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r             th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strong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fast                 fast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r                   th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fast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ong                long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r                th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ong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ight                light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r                th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ight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Šipka doprava 4"/>
          <p:cNvSpPr/>
          <p:nvPr/>
        </p:nvSpPr>
        <p:spPr>
          <a:xfrm>
            <a:off x="2050920" y="294804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Šipka doprava 5"/>
          <p:cNvSpPr/>
          <p:nvPr/>
        </p:nvSpPr>
        <p:spPr>
          <a:xfrm>
            <a:off x="2050920" y="354636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Šipka doprava 6"/>
          <p:cNvSpPr/>
          <p:nvPr/>
        </p:nvSpPr>
        <p:spPr>
          <a:xfrm>
            <a:off x="2050920" y="4243320"/>
            <a:ext cx="978120" cy="48600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Šipka doprava 4"/>
          <p:cNvSpPr/>
          <p:nvPr/>
        </p:nvSpPr>
        <p:spPr>
          <a:xfrm>
            <a:off x="4932360" y="29336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Šipka doprava 4"/>
          <p:cNvSpPr/>
          <p:nvPr/>
        </p:nvSpPr>
        <p:spPr>
          <a:xfrm>
            <a:off x="4897440" y="3546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Šipka doprava 4"/>
          <p:cNvSpPr/>
          <p:nvPr/>
        </p:nvSpPr>
        <p:spPr>
          <a:xfrm>
            <a:off x="4897440" y="4221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Šipka doprava 6"/>
          <p:cNvSpPr/>
          <p:nvPr/>
        </p:nvSpPr>
        <p:spPr>
          <a:xfrm>
            <a:off x="2050920" y="4881600"/>
            <a:ext cx="978120" cy="485640"/>
          </a:xfrm>
          <a:prstGeom prst="rightArrow">
            <a:avLst>
              <a:gd name="adj1" fmla="val 50000"/>
              <a:gd name="adj2" fmla="val 4988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Šipka doprava 6"/>
          <p:cNvSpPr/>
          <p:nvPr/>
        </p:nvSpPr>
        <p:spPr>
          <a:xfrm>
            <a:off x="4897440" y="48974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Krátká přídavná jména</a:t>
            </a:r>
            <a:br>
              <a:rPr sz="6000"/>
            </a:b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(pravopisné změny)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899640" y="278136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arge              larg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e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r             th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arge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big                 big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ger            th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big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g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ea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y              eas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i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r              th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eas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i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gr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e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y              gre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y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r             th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gre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y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Šipka doprava 4"/>
          <p:cNvSpPr/>
          <p:nvPr/>
        </p:nvSpPr>
        <p:spPr>
          <a:xfrm>
            <a:off x="2268360" y="29242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Šipka doprava 5"/>
          <p:cNvSpPr/>
          <p:nvPr/>
        </p:nvSpPr>
        <p:spPr>
          <a:xfrm>
            <a:off x="2268360" y="3548160"/>
            <a:ext cx="978120" cy="482400"/>
          </a:xfrm>
          <a:prstGeom prst="rightArrow">
            <a:avLst>
              <a:gd name="adj1" fmla="val 50000"/>
              <a:gd name="adj2" fmla="val 5022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Šipka doprava 6"/>
          <p:cNvSpPr/>
          <p:nvPr/>
        </p:nvSpPr>
        <p:spPr>
          <a:xfrm>
            <a:off x="2268360" y="4265640"/>
            <a:ext cx="978120" cy="485640"/>
          </a:xfrm>
          <a:prstGeom prst="rightArrow">
            <a:avLst>
              <a:gd name="adj1" fmla="val 50000"/>
              <a:gd name="adj2" fmla="val 4988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Šipka doprava 6"/>
          <p:cNvSpPr/>
          <p:nvPr/>
        </p:nvSpPr>
        <p:spPr>
          <a:xfrm>
            <a:off x="4908600" y="420372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Šipka doprava 4"/>
          <p:cNvSpPr/>
          <p:nvPr/>
        </p:nvSpPr>
        <p:spPr>
          <a:xfrm>
            <a:off x="4908600" y="29242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Šipka doprava 4"/>
          <p:cNvSpPr/>
          <p:nvPr/>
        </p:nvSpPr>
        <p:spPr>
          <a:xfrm>
            <a:off x="4908600" y="35481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Šipka doprava 4"/>
          <p:cNvSpPr/>
          <p:nvPr/>
        </p:nvSpPr>
        <p:spPr>
          <a:xfrm>
            <a:off x="4908600" y="486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Šipka doprava 4"/>
          <p:cNvSpPr/>
          <p:nvPr/>
        </p:nvSpPr>
        <p:spPr>
          <a:xfrm>
            <a:off x="2268360" y="489276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Víceslabičná přídavná jména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99640" y="2781000"/>
            <a:ext cx="7488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nteres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more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interes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the most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nteres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Víceslabičná přídavná jména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899640" y="2781000"/>
            <a:ext cx="7488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beautifu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more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beautifu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the most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beautifu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Nepravidelné stupňování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899640" y="2781000"/>
            <a:ext cx="7488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g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be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the b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1:36Z</dcterms:modified>
  <cp:revision>38</cp:revision>
  <dc:subject/>
  <dc:title>PRESENT  CONTINUOUS</dc:title>
</cp:coreProperties>
</file>