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E7EE-3CEB-4B61-A7B7-EC365384DC4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8597-FE87-4D7F-B1F8-2C13D62CC8A9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90B4-3A61-42AC-92D4-7F426952E2FE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B488-EEE2-4E22-BD85-73083FAB9ACE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CEAF-060F-4930-B5B4-0D1D5188DD81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A063-1EAB-4D18-A776-C22B6DF83D6B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9B7A-39B0-4F30-8807-2B4F5D60204D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BD31-BA80-405A-8266-C17198DB1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7401-D22B-40EE-904F-46CEBBE4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05D2-EB63-4DCA-9455-E63975AD7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5935-909D-4BD7-A62E-E8BD1B079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E1CB7-5947-421D-A7C4-49852EF83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78614-6D53-4508-AF6B-03D10392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47AA-E4C0-4FCF-906C-7BC49801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E47F9-25A3-43D3-9FC7-5078B147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E6CBD-269D-45BF-BEB4-B7115135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C6451-FF56-45D4-928B-8DD815CA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69B6-E594-4C15-9153-FD24B41D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2D40-EACD-491C-B04F-48DA7346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679F-6327-41E0-98A3-D84E7B13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2526-24AF-4B74-989E-ECA16C07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9C2C-FC4C-41AF-AF82-47F4A877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8A67-93AF-48F8-9F07-86761CF6B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C12F-949E-4667-B52A-A6D233960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C3494-5648-4417-AC8B-94ECFE54C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C223A-C8B5-4C3B-B2AC-B5104C01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724AB-F464-49AB-BA56-77B94961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646DE-E3A2-43FF-95AC-69769B5C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2C923-B885-4938-8457-4EB6823E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5F68-69A0-4A76-A8DC-B8CFC129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4A0EB-4177-4A23-9605-7692820D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FCB13-3864-46CA-BC49-23811EA6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75241-83FD-4E81-8D99-C338DE54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5F26B-56F3-47D4-9365-236A6641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3BA95-CBE0-4A7C-801E-6FC0874B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495FA-CBA6-4E90-8FC7-77E743A63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DEEFA-81AA-4B8B-A1DD-9BB2BCF0F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C4E18-26AF-4742-8757-02690062F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B09C3-1BF1-42B6-A849-809B5523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BD84E-5B3D-417A-BC79-E26F3DF7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1136-FB79-4164-B836-FFA3A0B0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195A9-46DE-4CBF-BAEB-22963534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2DEB9-3CB7-42AA-9DDE-1C16FCBE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4E51A-AEE7-4FAC-B7E7-DB546811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E9267-1AB5-4C07-82D8-92207991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6849F-D78D-4AA1-A034-723FE116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AE4A7-FCA4-4D04-82C0-741B13DE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29B59-2A37-4603-959E-01E9062D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07640-CAD1-4828-8B15-FC1E08E5A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5A620-B041-49EE-A7CD-AE2C3F593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252BF-1C0F-4708-956B-EA2E8F3A0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0377-E79F-4DD5-84AD-C53BDF37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1A196-2FFD-4690-B775-DD3CE8D8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771D9-0000-448F-9A86-B5FF2EE9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BD80A-06DB-43A4-9064-257F6622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2E45F-5F86-4337-809B-273DCE84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769B8-1A4F-4ACC-A137-B504ABBD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D4CFB-F6E3-443D-B229-5B4F36FC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15196-10A4-438A-90F4-57E1F7DC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96AC6-264F-442A-8BD6-019DE88B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D5F94-F469-42BA-8410-5B90881C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95140-F942-44D4-9F64-064C5EC3A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9884-EEAE-4C9E-9183-F5E8D605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36E3A-F241-49DC-A61A-614FD15D0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4902D-E56A-4519-BA56-7DB2D835E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2214A-5411-40D6-ACDC-0559FCB1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42A1D-E7A2-4ABD-82C8-E98F936B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0F0D5-EABD-45D7-844B-FF6FA736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E3C1F-0C57-4643-BDC3-66C56558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03A76-E8B3-468D-8D81-F9FC0D8E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A3B34-A089-49B5-84AE-84F4109F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14CFC-0123-40B6-9807-E1F9D055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8A09E-7100-4AC4-9624-D42241E5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B2CD-0381-4F9F-A989-C72119E5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FCF0A-FA50-4CC4-A47D-AC875667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6098E-C4B6-40FD-B23A-9630056C0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9F3E9-1E74-4CD6-A3E1-260431F78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ACC9-4C99-45AE-A242-837D60A6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A479-0D94-4098-8594-1E97500C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7F2C-5911-4C99-96C8-3EA3E0D9E9A0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FAB4-755F-4E2C-9BF5-8DA5F5EE7F33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BDAC-4BA1-4151-9F95-59FFA94164CF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92FE-0D95-4A42-93BB-64D8D20F053E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1B27-1150-4810-A289-682CF2930D5B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2AE6-18FF-43C3-B649-DBA4155F4E96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6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33336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edminulý ča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základních pravidel pro tvoření předminulého času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edminulý č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ast perfec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54400" y="1890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, který proběhl před jiným dějem v minulost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, který proběhl před určitým časovým bodem v minulost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zpravidla se při vyprávění vracíme v čas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394920" y="3573360"/>
            <a:ext cx="8497800" cy="22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Kladné vě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odmět + had + příčestí minulé (-ed / 3.tvar) + 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94920" y="3573360"/>
            <a:ext cx="8497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Záporné vě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odmět + hadn´t + příčestí minulé (-ed / 3.tvar)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395280" y="3645000"/>
            <a:ext cx="8137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Otázk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Had + podmět + příčestí minulé + 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8360" y="1980720"/>
            <a:ext cx="81360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Děj, který proběhl před jiným dějem v minulosti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efore she came, she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had called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read the magazine I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had bought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ast wee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he train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had already left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hen we arrived at the st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24:30Z</dcterms:modified>
  <cp:revision>15</cp:revision>
  <dc:subject/>
  <dc:title>PRESENT  CONTINUOUS</dc:title>
</cp:coreProperties>
</file>