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2DA6-4925-473B-A1A1-9FFA22C296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AFC7-25D6-4FBD-9B15-C29E36D2AA6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5C27-E5DB-4159-911A-9C648CBFDFE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F6D1-A853-4736-96BB-2CB82B9BB55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0594-1B6D-48E8-9632-B8171777F64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D4B0-354F-4E73-9B7E-41D8CC66342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CBA9-3DBA-48A1-9F1E-5DC4CEE41F2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45C-8012-4255-BCA9-802E51C2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804-E294-46E7-B433-5697C226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747-6974-4204-B9D1-9852C68A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32B-9BF8-4D12-A64F-B7710FB5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0F32-79BF-42BC-9586-EDFDB206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AF5D-1EFA-4ABF-892F-DC05DB94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53C9-BE13-4BFF-8A83-93495A3E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77CE-DBF4-452D-BC43-B0519023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36D0-F3E7-42A4-8D3D-6657BF2F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5ABD-5683-4EA6-8F9A-0DD31B01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1596-0A81-45FE-8E72-CE16B2CE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A41-EA4D-4745-B460-4A06B98F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FE68-BF4D-4C46-8621-755B8B8A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C320-AA78-49CF-81C0-147E22DC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81DF-8020-458E-9E74-92035E9C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55CD-042D-4A3A-BF04-BDBDEE60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7670-7106-4B6B-869A-D8980258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9D59-DCCE-45B1-892C-4661EC80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F8395-4F8A-41CA-BB4E-E6757BB4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8C13-5AFB-4BF7-8F1F-8639F543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5035-0F54-4AB9-83FC-DFF2BE80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E966-5112-4C9F-90B7-25823539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34F-ECDC-430D-9B9E-E6AC810D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98C7-0EE8-40B4-9AB3-49F743C3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890E2-2C8E-49B3-A810-635C45C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A70E-CB14-44D6-ADEB-5CB2AC0D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9B7B-2998-436F-B8C4-82C2516E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80907-F02D-4317-99A4-4A2FC21D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0275-4E8B-403C-B63A-9A08F6B6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511D-4560-4E91-9A7A-F32545AD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8E3AB-DB8B-42D8-9835-2D88299D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6B1EA-66D7-462E-9EEE-AD34E02E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62012-C1D5-42E8-B3BF-AECEB2B3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F20-391F-43BF-8D16-2175DA3F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51BA9-39BF-48F9-ADF3-2F3407DB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B5D2-30B5-4B8B-9007-8AC5CBBD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56AE-C35B-4108-815D-F31B8DB6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E4DD9-E429-4305-834C-17399A48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3737-60C4-4914-B518-11464E18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6A18-8683-4E80-8E48-54EE35C2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18CB-137C-4D95-8628-DC4291D7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44293-26DB-4386-99F7-8F5A1945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1C654-29BA-4206-B39C-BB517012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7B8A-0613-43A1-9005-9A08D3FF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39A-443F-4B55-B2F6-0C253288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A0A5-7155-40B8-BB99-FBED2782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998EE-08A6-49E8-AC84-22DCC801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C4725-B34C-4DCC-86DA-D221F514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8E697-354F-45CB-848C-04DA67BF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3BC2B-BF99-4637-957A-E96EB546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E08FE-DED0-4474-9960-98B60C95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31899-DF90-43AA-A8C2-154E5CEB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3C97-348D-447A-A629-56B69BEE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5C41-DC9F-4AA4-A64E-CDC6D011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76E21-4989-4694-AC72-A719289E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A7B-5C89-4441-B654-15101626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6650F-D7C4-4463-BE1C-007C54B8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661BD-2FB8-4D4B-BC36-034F2B5C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74FC5-FBF8-4A61-BBFA-41393437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80CC5-D1FB-4E30-BD8E-3B7E8783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4313F-B7F6-488E-B215-17B74B1B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A04A8-C277-4923-BE90-6D63641A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D4414-04DB-4AA2-B806-6C0EABD3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0CFE5-1CD1-44AD-89CE-17F170CA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00E9-435C-4D89-82DC-ECF84D5C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1C6AD-C323-4404-B69D-11C5146A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0FC-CA56-42DB-8FB1-65558A37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B58EA-0E68-4F9C-B391-A0E670FC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9BB06-7CBB-44D1-89A7-BCBB1253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16D3-8560-42BE-A8D9-92295076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B0E-06F6-41BA-9EBF-D047739F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7F9-99A5-4568-A9D7-BDD4DE8C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388C-AA62-436C-8C27-08284154789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C783-A2CA-4347-83C0-B4A72CDCCE9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A4EA-5FC1-4741-91A7-0F812DD28A1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4345-8147-4657-80B6-BF424E201E8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6E95-6945-4FE6-A234-5EDB3914000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18BE-6B51-484D-A11D-E4C8EA98FB1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tav osob nebo věc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live in Lond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works as 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pojení s příslovci času often, sometimes, usually, every day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travel to the sea every summ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usually stay in this hot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often go to bed lat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ítomn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Times New Roman"/>
              </a:rPr>
              <a:t>PRESENT 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děj, který se opakuj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obecně platná pravidl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stav osob nebo věc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360" y="3885840"/>
            <a:ext cx="79200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sloveso (3.os.č.j   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-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10920" y="3733560"/>
            <a:ext cx="8064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don´t (doesn´t) + sloveso 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885840"/>
            <a:ext cx="799308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 (does) + podmět + sloveso + ...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se opaku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goes to school every d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sometimes plays footb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don´ t watch horrors very oft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en do you usually get u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becně platná pravid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ur and five make ni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sun rises in the ea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19:47Z</dcterms:modified>
  <cp:revision>11</cp:revision>
  <dc:subject/>
  <dc:title>PRESENT  CONTINUOUS</dc:title>
</cp:coreProperties>
</file>