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86F9-09EE-47B7-8F54-1964D6EA260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478E-1698-465C-A916-02E9427FBEB2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4E05-C1F0-40A7-AFA2-1F7EF6A49ABF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4CB0-5604-4586-B5E9-C6240DDFDC9C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4B42-43B4-46BE-99F0-2C8AF10911CF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6874-5006-46C0-8694-6BA7DAE13CF6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FADA-6F11-459A-AFE9-B69CC5ABAB0C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C4A0-E7B7-4FBB-B939-BF781DE92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F754-FC8F-4B0A-8E43-D1BBEC0E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C6D2-02E0-4763-9284-CB94CCF1B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4DD6-BC5A-4685-9C80-E4108BA4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F607-93A5-4530-B73E-E28C15DD7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89C5-5288-476E-8088-37CC6D97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B86A-2A00-4BC7-BDF9-AB3341C4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D98F-16E7-4C39-8E02-127E9D61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BA97-D922-41BC-B3FB-7C79A130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EA6C-C441-498C-BF68-05217781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ECFE-304B-4727-8702-5782C727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711B-FCEC-4EFC-A6E3-B293163D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974A-FE0A-45D7-8BA7-0198FAB4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F41E-632B-4300-8E20-9D2875EE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506E-7B7C-47C8-918D-46FF690A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107F-03EB-475D-B36D-ECFDEFE88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F25D-B1EF-4A1D-88CA-143976C24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3B6A6-D73B-48A9-A5FF-038DBC4D0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0B6BF-8CBC-4AB1-80A8-A6130F92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48AEC-AFD0-4837-BA54-BBC86932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57444-F654-4E33-90CD-B1CC1192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3F035-18D2-4D45-AACA-60D02E64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FC6A-A2B8-4002-BD3C-75586342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D65BD-6E59-4ED5-8AD6-C32DC77F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A30A3-CB80-4BD3-9F94-3A073171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DD2C2-8ECF-4071-9433-B65B4C4F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06BFF-49BF-4E67-9FB1-2D36BE5D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9F6B5-AF57-46C6-BAD9-5D96D7FA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04C51-512B-4462-B262-F12DA865B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7F37F-170A-4B1F-9576-04BC03D89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BDE62-005F-4D58-BD3A-57BB95C70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8DC39-A62C-4D42-8126-B26ABB9B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DD594-FD1F-46E6-9BA0-8A6C36C0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F39B-D835-4613-A778-80989E00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1CE19-447D-458E-AC41-FEAA739F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DA056-1967-4FF1-AB7B-FED6F57C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BB8DA-0A2D-4993-9CF0-FF14A082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BCFC2-E045-4C66-97A1-75910C9F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27AEE-0A92-4959-A06C-44E94CFA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0DCFB-E48C-49D0-9D59-05079CD6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72E4A-EC96-4CB2-981C-78CE2B54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112DA-3F9A-49AD-AC3E-DCE44C87A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8F1C1-F472-4C15-BF79-247FA845C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647A9-A7B3-4444-94F9-372180646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2426-1BF9-4BE2-81E4-A7CC40C4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8989F-5620-42C9-9D65-CFA39E5B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B89D8-C0A7-4BA1-8C59-CE8CA5EE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875D0-34C1-42D3-83ED-7A82503B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D80C2-A0C3-414B-81C9-65A0E5E9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0C80B-018D-4966-BD6E-1DBA7253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ED3F0-8266-4579-8741-3CB9674D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D5EC4-8173-4752-B46B-6BA0B400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5BC50-56DD-4B29-94E9-EF7F7FCA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B6ABC-6D6D-41D4-A3A8-011A7B9C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2F343-FF9E-46AE-92B0-6345CE373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AE27-927F-454D-9F88-44165A91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5D7EC-3C05-4EAA-A83F-38B3FD4B9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C9AD1-EB04-49CB-BFB7-31FD49B07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6A84C-17C0-4FAA-ABE2-459B6B98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1F922-7265-4075-A9CB-57EF9405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16A43-9172-484F-BFB0-C4B1423F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334CC-6DEF-4442-8DCF-AA241494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78F41-8364-4D42-8735-9B59ED55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9B1D3-D96C-4CA8-9D9A-8E249576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49127-21DC-4C1E-9522-7F8B3BF2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EE368-02CD-4102-8382-CBA427B5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588B-0A6A-424D-8C29-5F6780F3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A5937-1F4C-4DDA-A6B3-5CED94AA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C6BFA-2A03-4CE6-BAC1-AB33FB8FB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86D3A-0898-49D3-A51A-D2EAC7DFA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A989-972C-4B61-8C63-26B593F6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1799-4C73-44C8-84FC-C4C33D4F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4461-AADD-49CE-9D74-EF64848CF4BB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292B-60F9-42FF-B829-6E454E3A5301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0214-D3E5-4DA5-B5C6-777759178559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AA88-589D-453A-B643-BE8E0FDFF60B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108F-2D6F-4F95-88E8-6FA1EEB40FA7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3BCB-4C4F-4864-9562-3B68EB2A9CAC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Put in the correct forms of the verbs.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539640" y="2565000"/>
            <a:ext cx="806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met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him, 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ould give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him your let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h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didn´t know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t, h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ouldn´t help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yo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f they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learne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hard, they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would pass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he ex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w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hurried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, w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ouldn´t miss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the trai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BE  CAREFUL !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539280" y="3645000"/>
            <a:ext cx="8209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+ minulý čas ….. podmiňovací způso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ERE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you, 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ould go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there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2.podmínková vě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pravidel pro tvoření 2.podmínkové věty a správné použití slov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Slovesa, 2.podmínkoá věta, spojka i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main clause, if clause, verb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256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2.PODMÍNKOVÁ  VĚTA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10920" y="3645000"/>
            <a:ext cx="7848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-571680">
              <a:spcBef>
                <a:spcPts val="10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ýká se minulost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spcBef>
                <a:spcPts val="9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podmínka neskutečná (nemůže nastat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IF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= kdyb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1.PODMÍNKOVÁ  VĚTA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39640" y="3645000"/>
            <a:ext cx="8064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F + minulý čas ….podmiň.způsob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(if clause)    ….  (main clause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2.PODMÍNKOVÁ  VĚTA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539640" y="3645000"/>
            <a:ext cx="8064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+ minulý čas ….. podmiňovací způso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d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time, 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ould call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you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2.PODMÍNKOVÁ  VĚTA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94920" y="3645000"/>
            <a:ext cx="8209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+ minulý čas ….. podmiňovací způso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f s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d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oney, s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ould buy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2.PODMÍNKOVÁ  VĚTA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39640" y="3645000"/>
            <a:ext cx="8064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+ minulý čas ….. podmiňovací způso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f 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didn´t come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, w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ould leav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2.PODMÍNKOVÁ  VĚTA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539640" y="3645000"/>
            <a:ext cx="8064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+ minulý čas ….. podmiňovací způso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f 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didn´t come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, w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ouldn´t wai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Put in the correct forms of the verbs.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539640" y="2565000"/>
            <a:ext cx="806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meet)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him, 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give)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him your let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h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not know)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t, h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not help)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yo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they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learn)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hard, they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pass)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the exa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w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hurry)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, w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not miss)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the trai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37:55Z</dcterms:modified>
  <cp:revision>42</cp:revision>
  <dc:subject/>
  <dc:title>PRESENT  CONTINUOUS</dc:title>
</cp:coreProperties>
</file>