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DFDF-4A69-4905-868F-49B126B3EEE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303E-664B-4797-AB4F-276709953BE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8737-3ADB-417B-9CA0-99F6E4FC555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0A62-8ADD-4A45-AB3B-22744ADB88F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1592-B7EC-4D4F-86B1-BB68906241D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0758-A8CB-409C-9FF8-C90EA1B6BEF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B6F1-49A2-41A3-90A1-21B0CBF1863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F75-9854-4BD8-9BDB-405820C2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6C6-BDAD-4767-A911-1A687EB1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730-D5D6-40B8-812D-D2A5903D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F1CF-993D-4D14-8161-8CDB4687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B7AC-751B-423D-B985-A2CE981B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14C5-3DCF-4A07-97A6-7ACCF1AF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E787-F981-474A-8309-F7F006CC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698A-AC49-4DEE-BCE8-2CFF634A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34C0-A562-4544-8B3F-1BEA86A6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61EF-C79D-4996-9307-DAB47F24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E943-C3A0-467C-9BC5-4487CD12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7172-ED08-4B6A-8C9F-C741E89C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DB33-0E2F-42CD-AC53-75D22A1D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D1DC-3C2B-4FF0-8F37-F999577E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7A30-0DB2-47EB-B5BC-2FE410F7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3539-E758-453B-8AA1-9630BEE9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287A-B939-46D8-B641-A89C029B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B7B73-726B-4B2B-A06B-2C3C4013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CC738-311F-477E-ACD0-F647BB96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BA5F9-5043-4C4B-83BC-CCE6B2C0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EDF4A-3014-4791-8711-03858E83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A8915-96BB-443E-932C-6F833E02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E28-5A23-40E1-A804-7FDCEBD3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CD1C1-B644-4AEE-A568-579EE964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5EA03-336C-4190-A0F8-F77FAAFE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59C98-FF9D-4F7E-BE23-D6126CFB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EC076-AF61-4C85-873C-A64DF6C5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26C47-0710-46A7-9069-2A182168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0AEB6-77AB-44C5-9A75-7C186477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C745C-45E5-46CD-8394-672048B5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56E88-98E7-49E4-BF4E-F70B0ED7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0CAE7-305A-4401-8B88-7F1566FD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74A8E-D6B2-4C75-8A5A-9E5FEA51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978-5583-499D-86E6-23A8F6D3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EA912-2F0C-4293-9969-53420F0E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10381-C959-426B-8567-68781CAF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459CD-230D-40FD-BB3F-BC3FC7E5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7A126-2C64-48A7-8041-9A55FED5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B64DA-9800-45D3-BD8C-DADC68D9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DD861-0E74-494B-8D59-88A7A767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D4B42-CB24-42BE-9ECD-A27BC27D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40BA9-730D-4298-B9C4-16B65EE2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E8FD2-395D-4D9A-A863-0CF8C84B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0AAF1-8A92-44E4-B49A-60C82FF4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E8A-C62B-4A3A-91D1-82D2A0D1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61A16-DF0F-45B9-A96B-20196B77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3B2FE-9899-4381-A00B-00A88695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3C14A-EB50-4F2F-8E7F-23F60E45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66A6C-63F5-4C20-A0CC-0118B951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4A765-9517-478D-9AA0-ADA36794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85D9A-BE93-4D14-B4EB-70AE3B25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9FAE8-D224-46E7-9327-90AD907E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56AAB-AB41-4506-90A9-E988BF94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26A21-CB74-45AA-ADEF-44001AC6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40575-8C1F-44FA-ABFE-048FBA59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E103-E4AB-4C6A-BCF7-B364C068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B08EE-5765-41CE-8B94-4B85E9FA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3D465-331C-46AB-84C8-DF984F15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8E9F0-39FC-4498-B0A9-70D417A3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9BD4B-4E16-477D-81EA-FDED637D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D29F3-0599-4817-AA3D-98C03E0D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98C8D-5A5F-49F3-896D-E464FDF0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22B5B-E704-4C9C-A296-830EADB9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1223D-5589-466A-8705-21F0C6AB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D2265-D1C4-4231-9D63-DF8CD2F2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C86DC-D65C-4A55-85A8-9F7A1995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3435-A325-46C1-9636-2BB81CFE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BBD61-69E6-4311-9E57-8DE4EA22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6D872-7475-4F08-B16A-8EC8B228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8E39C-0BEF-430B-B388-7D174391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3F52-9742-4E9D-AF62-140D885F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DCA8-50F2-464F-8D54-A29F71EE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CF59-4D4A-4775-9E66-7F4BC421C8EE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277A-B511-436E-8857-52800B11FBF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91F6-7357-496D-974B-EEEC8A8F1DBB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7DDB-B063-48F6-B9AE-2D81B66CA98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6817-016A-4FC8-B36C-BDAA52B0FF71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CE90-F295-4DAA-B58E-813D7DF51E1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404640"/>
            <a:ext cx="5297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ávě proběh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ust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arrived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ust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called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Děj spojený s předložkami since a f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 be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t hom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inc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the mor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live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 this street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or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a ye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Děj spojený s příslovci času ever, never, already, so far, yet, just a sti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</a:t>
            </a: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</a:t>
            </a: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ever be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o Lond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 never hear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bout u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already sent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 spojený s příslovci času </a:t>
            </a: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ever, never, already, so far, yet, just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</a:t>
            </a: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sti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n´t writt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er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o f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n´t pai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or her dinner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y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till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n´t answered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96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Past simple  x  Present perfect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PAST 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proběhl a skonč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nemá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začal v minulost a teď již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nepokraču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95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PRESENT PERF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proběhl a skončil, al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má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začal v minulosti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dodnes tr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4920" y="38088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Past simple  x  Present perfect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431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Past sim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brok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y hand last y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it is not broken now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cooked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inn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pened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he wind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perf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ave broken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y h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it is still broken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ave cooked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inn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so here it is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as opened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he do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it is still op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9900"/>
                </a:solidFill>
                <a:uFillTx/>
                <a:latin typeface="Times New Roman"/>
              </a:rPr>
              <a:t>BE CAREFUL 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is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t home since the mor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WRONG!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has been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t home since the mor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CORRECT! </a:t>
            </a:r>
            <a:r>
              <a:rPr b="0" lang="cs-CZ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přítomný čas prost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předpřítomného času prost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přítomný čas prost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esent perfect 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začal v minulosti a dodnes tr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proběhl v minulosti, ale do současnosti má násled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právě proběh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spojený s předložkam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sin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spojený s příslovci času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ever, never, already, so far, yet, just a st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9640" y="3499920"/>
            <a:ext cx="8136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have / has + příčestí minulé (-ed / 3.tvar)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4920" y="3357720"/>
            <a:ext cx="84978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haven´t / hasn´t + příčestí minulé (-ed / 3.tvar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4360" y="3429000"/>
            <a:ext cx="7775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ave / has + podmět + příčestí minulé (-ed / 3.tvar)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začal v minulosti a stále trv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live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 London for five ye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 be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re for an hou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n´t se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im since the last wee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w many Spielberg´s films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ee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oběhl v minulost, ale do současnosti má následe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 brok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er ar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close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 doo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2:53Z</dcterms:modified>
  <cp:revision>18</cp:revision>
  <dc:subject/>
  <dc:title>PRESENT  CONTINUOUS</dc:title>
</cp:coreProperties>
</file>