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AB11-2489-463A-9AE1-CF4114DE9F6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C7D3-BCFA-4B11-B2F8-5997138C8DA2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0087-E087-48F7-B20A-56814A9C2A4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3C29-D1A1-432C-B4BF-53585F46DB60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9C03-CACB-4FA2-833F-1F042B16A91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88E5-C358-4B81-B927-5D114CDA339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E905-DF98-4EAD-8FF4-3A9EF81B6099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F4D0-1D85-4B68-8D5E-2DF274842696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63F1-A03D-4829-8805-B5776AEF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B4E9-F48F-49FD-8BF0-AF4F43E0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984A-B5E9-4BE6-A61A-D80C4C39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03F2-1325-42D0-8827-DD2BA130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56E3-96DA-4486-9F86-DAA355E9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9030-B703-4CE9-B09B-26259ADF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A09C-3E13-428A-B991-BB2EA093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1CE8-BC62-4D2D-AF9A-739BA490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2145-64CA-428F-AB60-119A61DE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46B1-4303-4B1A-9E2D-FC8B62EA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A25A-65E5-4679-A8A7-FC57C178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767C-BD23-4273-9DEF-2899D76C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803E-ABB0-4996-BF15-04A9AEEA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E29B-5AFF-48E5-BC1D-846B0D80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551E-5F00-485B-A3B8-50BB8E36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0C6D-0D47-4B06-97C5-48285DC5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6DE4-3FC6-4BEA-85AC-780DB184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018DB-76FA-4C0D-A64B-E1AAA0BB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95D49-48E6-41FD-AEE2-14EAA160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43F85-F5D1-40FE-B00D-099292DE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51D0A-9013-4F7F-92A2-3ACF68C9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1BFDD-0328-4E7B-B05F-DA49E74D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130C-1EC0-42AB-9565-6C17D2C0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E63C7-5FD4-4D2E-A443-784B872C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D9E29-4FF4-4FA7-A9D9-C69C0090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5482A-1DD7-477B-B074-1C4227CD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073C8-607B-4D31-823E-E670C914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7E11A-5D14-439B-B0E8-B0C9E00F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42CD9-EB55-4A82-8C87-D87C5A20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1BA85-FACF-465E-B16E-F9255AD0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CFCE5-F9B8-4AA1-9D9B-065179F1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49947-D23B-42CF-B551-03CF0E6A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20689-1ED7-43EF-B94A-410D3638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135D-FF33-45CD-BD88-3BF22C39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61360-614D-4A82-A225-BF0AC8D7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2814A-A387-4FB9-B8CD-0000D161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F3D81-DB8A-47E3-AF78-C0868AEC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011F8-36FD-4115-9694-3E6C85A9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6C300-E447-490C-A2DB-7AE4CA55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465A2-18B0-4EF3-95EE-D20B449A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903AD-1C0A-43C4-A806-ABF2C8CF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FB996-EE14-4831-98D6-7D5BAE65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96309-9FFE-4CC3-A358-891F6FE9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1F4D1-D2B2-44B5-9005-DB6D9E6E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4C1-C0E3-4BCC-96CF-2B40058A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17014-DA51-4309-AC3D-D422DCFB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FA39D-29B7-4DA9-82D0-3AC0A94C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9E2CA-928E-47CB-B3FD-56DE80F1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809ED-3C17-4BC1-B749-F12D4737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EEF5F-2458-46DB-BBC2-1788F407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F9802-1CFC-47E1-B274-A667527E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E16B3-482C-4D0D-BABD-0FE10CD7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813FD-E53A-49E1-B7D4-5A4F33A6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F74AF-29D1-4B95-B061-B4558E61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3F7F3-539D-43D9-9E7F-22059B15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740A-6A24-4C94-9D66-CCF8AB4F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146FF-6446-4F7D-9FD3-5D429912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30D6F-4D4D-461C-9199-7E789FA7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E67FA-774A-4950-BFE8-AFA8063F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24B05-BD6D-4481-86D0-AE1E9DCF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8E2B0-30B9-485C-9CF8-13F6AE39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8DF26-5F52-4D83-99BF-57E4D242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833A0-CE32-4CED-BD83-4759CCC3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F74F9-5C8C-439A-9EC2-61C88A34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0B3E9-9D1E-4B3D-BEF1-4AA05082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9C8B8-C5CF-4E57-87FC-2749D2CD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43F-E0D6-4798-B97F-0A4DA4FD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EF869-B85B-4AD5-A339-20ACC72C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9FB79-375C-4D1F-8DAB-1B4782E6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C393B-C107-4CF0-B4AC-EAFB9D29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3B7E6-C61E-4359-BF47-CE5E768B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5266D-345E-45E5-9ADE-DA3EB513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D98F0-31B0-42AA-A2FA-1F327BAC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D86D5-0970-4377-81EB-C55C0269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7ABD2-58B7-46F5-A45E-F3762AA9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BF9B1-E3E4-4BAE-80B9-5DFCF648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EFBD1-6B0E-40F7-B76D-7F8CF8A0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8B6-00D0-4467-8321-9AABD9C3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E09C5-9A02-4051-9A48-29CB0D62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6CF2E-3C1B-4F95-980A-0F19B7DE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005D3-E1AB-4CD4-96F0-EE291749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CADB1-1448-4BEE-9C40-27AB0E42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700FA-3E5D-46E3-AA03-34B31D29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BD4FE-2CEC-4A50-B806-32B3D176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8CBF4-2D6A-4226-98E8-E706739D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CB014-6185-423E-B3D1-6D0F5A12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6A6B1-1440-4969-8230-1B0FFBFD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28750-18AB-4333-8DEC-F98691B8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BAB6-DB77-45D0-BDD8-4D3C27F0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933B6-43EA-4C31-91AC-A62B26E7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5AC81-FCFD-42A2-916E-CD806ACB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7E27D-2DCF-4A6E-98B8-E3689457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96962-7938-4A7B-99CA-5D43E366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7601F-CEBA-406C-A38C-230A198C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6A396-1564-4A61-AE60-91DA8FEF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A1E59-E43C-4C4E-8476-728DC848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15F4-1CEC-45BC-937D-243EB19439B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CF96-B058-403C-B493-0638BB9FEB1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B24A-0734-42DD-BC99-FABFEC5BA3DA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2912-DA7F-47B8-AB7F-3C2285E7867A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EC3D-30AC-4E55-9DB7-90BB970AD25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0995-52F5-4F38-AAF7-FF71BA9628A1}" type="slidenum"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9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DED4-A54B-405C-B15A-69AC3FB24870}" type="slidenum"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C5B9-EC41-4419-8DC1-2119A9E790F8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2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LINCOLN MEMOR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6" name="Zástupný symbol pro obsah 2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LINCOLN MEMOR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8" name="Zástupný symbol pro obsah 2" descr=""/>
          <p:cNvPicPr/>
          <p:nvPr/>
        </p:nvPicPr>
        <p:blipFill>
          <a:blip r:embed="rId1"/>
          <a:stretch/>
        </p:blipFill>
        <p:spPr>
          <a:xfrm>
            <a:off x="1994040" y="2421000"/>
            <a:ext cx="5025960" cy="333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THE CAPITO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0" name="Zástupný symbol pro obsah 2" descr=""/>
          <p:cNvPicPr/>
          <p:nvPr/>
        </p:nvPicPr>
        <p:blipFill>
          <a:blip r:embed="rId1"/>
          <a:stretch/>
        </p:blipFill>
        <p:spPr>
          <a:xfrm>
            <a:off x="1278000" y="1935000"/>
            <a:ext cx="658800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JEFFERSON MEMOR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Zástupný symbol pro obsah 3" descr=""/>
          <p:cNvPicPr/>
          <p:nvPr/>
        </p:nvPicPr>
        <p:blipFill>
          <a:blip r:embed="rId1"/>
          <a:stretch/>
        </p:blipFill>
        <p:spPr>
          <a:xfrm>
            <a:off x="2257560" y="2276640"/>
            <a:ext cx="4906800" cy="39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ARLINGTON CEMET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4" name="Zástupný symbol pro obsah 2" descr=""/>
          <p:cNvPicPr/>
          <p:nvPr/>
        </p:nvPicPr>
        <p:blipFill>
          <a:blip r:embed="rId1"/>
          <a:stretch/>
        </p:blipFill>
        <p:spPr>
          <a:xfrm>
            <a:off x="1944720" y="2205000"/>
            <a:ext cx="5291280" cy="38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Washington,_D.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Fotografie z Washington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M.Frolí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1258920" y="1700280"/>
          <a:ext cx="7416720" cy="49672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Washingt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Washingtonu, nejzajímavější místa a památky. Prezentace slouží jako podpůrný materiál při výkladu učiva o amerických reáliích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Washington, sightseeing, D.C., capit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Arial"/>
              </a:rPr>
              <a:t>WASHINGTON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INF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4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600,000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.C. = District of Columb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 the Potomac ri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04" name="Zástupný symbol pro obsah 2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376360" cy="1251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THE CENTRE OF THE C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6" name="Zástupný symbol pro obsah 2" descr=""/>
          <p:cNvPicPr/>
          <p:nvPr/>
        </p:nvPicPr>
        <p:blipFill>
          <a:blip r:embed="rId1"/>
          <a:stretch/>
        </p:blipFill>
        <p:spPr>
          <a:xfrm>
            <a:off x="1278000" y="1935000"/>
            <a:ext cx="658800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THE CENTRE OF THE C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8" name="Zástupný symbol pro obsah 2" descr=""/>
          <p:cNvPicPr/>
          <p:nvPr/>
        </p:nvPicPr>
        <p:blipFill>
          <a:blip r:embed="rId1"/>
          <a:stretch/>
        </p:blipFill>
        <p:spPr>
          <a:xfrm>
            <a:off x="1278000" y="1935000"/>
            <a:ext cx="658800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WHITE HOU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0" name="Zástupný symbol pro obsah 5" descr=""/>
          <p:cNvPicPr/>
          <p:nvPr/>
        </p:nvPicPr>
        <p:blipFill>
          <a:blip r:embed="rId1"/>
          <a:stretch/>
        </p:blipFill>
        <p:spPr>
          <a:xfrm>
            <a:off x="1871640" y="2133720"/>
            <a:ext cx="5437080" cy="401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WHITE HOUSE - TREAS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2" name="Zástupný symbol pro obsah 2" descr=""/>
          <p:cNvPicPr/>
          <p:nvPr/>
        </p:nvPicPr>
        <p:blipFill>
          <a:blip r:embed="rId1"/>
          <a:stretch/>
        </p:blipFill>
        <p:spPr>
          <a:xfrm>
            <a:off x="1278000" y="1935000"/>
            <a:ext cx="658800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WASHINGTON MONU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4" name="Zástupný symbol pro obsah 2" descr=""/>
          <p:cNvPicPr/>
          <p:nvPr/>
        </p:nvPicPr>
        <p:blipFill>
          <a:blip r:embed="rId1"/>
          <a:stretch/>
        </p:blipFill>
        <p:spPr>
          <a:xfrm>
            <a:off x="1278000" y="1935000"/>
            <a:ext cx="658800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6:47Z</dcterms:modified>
  <cp:revision>43</cp:revision>
  <dc:subject/>
  <dc:title>EUROPEAN UNION</dc:title>
</cp:coreProperties>
</file>