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28A5-CAD8-431C-A5FD-57AC8D1A0E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5FBA-B9A7-4F89-B8E6-692E9E12E36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106-7022-41DA-ADDB-1555B667F7C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4804-A28D-4D7D-B0DB-54E9A406D27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57E7-0D42-483D-AA89-4ED4BA9D211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F8CF-DE0F-46D4-97E9-FCC209DC29B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1D73-1AC8-4A05-AA46-DD0C7ADCCA5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C60D-7776-4376-A8C4-F11986D5273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E5A-A08B-47CA-8EC6-F951642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881-FC35-4C0B-871C-6CA4A8C3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266-D601-47CB-A5DA-FF139C49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B83-88FF-4A79-816A-7CD49F59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A2C1-02EC-4A16-8C11-E449020E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00D9-2A88-4DCB-96CF-54B179A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A2DB-D5B9-40EA-9749-2A53A48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4163-E4BD-4905-B4A5-C850588E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E1C-DFF8-4CD5-88B0-1F101D47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A20-85E1-444C-8B96-8E8B0799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8FC4-8BD4-4A4C-91CD-0640E6E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43D-DC44-4CE6-983F-A1B188A9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3AE2-073F-481D-8B29-186D0D15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D165-736E-4D4E-8D42-3498CA5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5593-31A0-46BA-BECE-A2DF33D3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E31F-BEEE-40D2-969B-8DBA506D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6B4-793B-47E0-89C2-E0322046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EFD2-32F7-4D0A-B331-676C6AE6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C7C4-A4D6-412C-8A0E-64787608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D87E-E352-47A7-B521-CFB79807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622A-0941-4F23-BB4B-C900C4B0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948E-18B4-4963-B32A-538B2FFD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6E1-4446-4C99-A2A4-7C22E04C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1280-6916-49B5-A116-0B22CC6C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F88E-48A3-42F1-91A7-1842809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637D-0C2D-4F32-88D7-514265F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1EAA-436B-47F9-985A-8BE2967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2ABB-0B00-494C-8C0B-D90C125B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FAFD-832D-46BB-B2C5-0FD5B056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427A-3201-4D32-AE5A-87706CD7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0216-4375-4B82-A42F-1E6FDB99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072D-A0A5-4728-95A1-E606206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CB166-B09E-4C61-A0E8-A28A8C7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10F-06DB-4876-A85F-14EA8386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33D0-7AB2-4616-9E39-237E1C0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DA71-CBC7-45C1-9CE8-1B0ED4E7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9C1D-84A9-4D29-AFB8-A033CCD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9079-4616-490A-A21A-37FD8D4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870B-2A34-4D49-940B-4110928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8B5C-D492-4C64-AACF-464BB63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78F4-986B-42BA-9C8D-F8ECE3B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4CD0-9969-4333-A9F9-044697E8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4DEF-7BCF-4F5D-95F8-F4BE28FB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602-795B-4D36-B880-00E84D6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CA3-4825-4DE4-BB7B-0F27CF96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DD8-3951-40DB-8C72-ACF8266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F98-29A1-4DBC-99B1-C38F794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85E-259B-4910-BDAD-E8B62FB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18D-185F-4750-88D9-1C89BCAB063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A887-9DE5-4C71-857C-654A0F1A7C6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0B4-4A68-4A82-9CE5-514212FEE66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BF7-3D06-4F55-A7F2-B4679654F2E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IGH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kes (loch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leys (gle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Nevis (1344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unning 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arely sett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4794120" y="2997360"/>
            <a:ext cx="358488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LOMO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Laomain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of Glasg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2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Lomond mou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ost beautiful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22720" y="3213000"/>
            <a:ext cx="3467160" cy="2160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igh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6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30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mysterious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ess Mon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122800" y="3008160"/>
            <a:ext cx="3152880" cy="2360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34" name="Obrázek 4" descr=""/>
          <p:cNvPicPr/>
          <p:nvPr/>
        </p:nvPicPr>
        <p:blipFill>
          <a:blip r:embed="rId2"/>
          <a:stretch/>
        </p:blipFill>
        <p:spPr>
          <a:xfrm>
            <a:off x="2597040" y="3008160"/>
            <a:ext cx="2175120" cy="14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kot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berdeen_(Skotsk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nd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Lom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Skotsku, nejdůležitější místa a památky. Prezentace slouží jako podpůrný materiál při výkladu učiva o sko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, area, population, capital, sightseeing, city, town, lak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COT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8 772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DIN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094120" cy="1257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IN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inburg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rood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 Mon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4721400" y="3068640"/>
            <a:ext cx="3450960" cy="2071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ASG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Scottish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th of Clyde and Firth of F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ghthouse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14172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ERD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ird biggest Scottish 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0,42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319 Old and New Aberdeen were united by R.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314028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ND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ùn Dèa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0 years old (Alec-tu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ish Danc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shart G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021120" cy="2261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R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High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d Gaelig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Loch 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17800"/>
            <a:ext cx="2936880" cy="2239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29Z</dcterms:modified>
  <cp:revision>24</cp:revision>
  <dc:subject/>
  <dc:title>EUROPEAN UNION</dc:title>
</cp:coreProperties>
</file>