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E8C2-3A92-45E6-8BF1-D2AC2AB04D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9FA7-C52B-4650-87CC-A0F701D7C81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6843-AAAF-4DF6-8101-D03866DAE40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8AA9-D4D5-49BD-BC7F-EF784FD9E80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29B3-DC22-43FF-B64A-4475E6AE94E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A220-DF05-4604-ADA9-C7FC3F98760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56D1-6B26-48A1-A94D-6EF2EE6140D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1E9A-1D79-4054-99D4-39697A4F231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E99-2DED-431B-B4AB-3AE34B6A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728-C6FC-4363-ADF1-297D70A8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46F-0EB3-4B76-A892-85EC229C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5AC-3E33-4161-840A-761A632D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173D-532D-4944-9D6B-1EB9CA80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9CE-2343-4A19-81AC-782F87FC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D5A-2234-47EE-AD9E-CEC9CF36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1F2C-1AA8-42B0-B81F-BCC64564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EE9E-4C30-4572-B0CC-F1E293D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BC07-BC62-4CA0-A9B6-E58839E6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0E59-7EE8-4882-BB49-F0166681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2F1-59B5-40F9-AE88-040C0492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AA06-F8F7-4046-8225-22227398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9E9F-488E-49D4-8E07-87382EA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8FE-69D6-4E58-9268-97375381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ED9C-1961-40BA-87D0-2BCF790F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CD7F-ED7B-40A6-B3E6-F40D964F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ED81-53A9-4969-B462-5B6E394A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A29B-51D3-4EF8-A208-21D78D76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CA6A-D5B7-4F87-8A4C-6F1267D5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786A-4C83-44FC-8F77-B3592541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7B32-DA1E-412A-B26F-93983CF9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024-AD6E-4936-9CC9-FDA8D36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BB2C-7341-4554-ACFA-7FB41D09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6F05-62ED-44C9-AB15-6CF7DA6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52F8-4A95-4BAC-8E0A-5AEA093A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84A2-CA17-4AD4-A903-684FF52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5BB05-9C9D-48D7-92C1-D6AFEA3D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2132-6570-4704-B4DA-25B088D5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9D34-C381-4AC3-A500-087205E4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C2451-B18F-4BBE-B6F9-DC1D5271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88F2-D526-439B-8878-C6ECEF1D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501F-D460-44E1-A232-9904262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A25-C362-4C5C-B348-998F859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C1E1-4C52-4BC1-B4D9-36E9EBB3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6FF8-02C7-4BDA-BCF5-1DB321B1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048F-D24D-4C70-BA0E-1F00AE54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ACEC-550A-4D81-8607-A63B1D6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85AAD-4136-4643-B982-63EE7FF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FC22-F904-4398-9BEE-2E63025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D80F-11C1-4C60-9130-9063E9DC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08AB-83AF-4A44-9D8A-7E05FCB3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82FB-40DC-4E37-B107-BB13A119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847-FBE2-47E8-9B4E-3D8F6DE2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6E2-C5FD-4B30-A459-8AD39E65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706-D550-49CE-AB1C-2E55E36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5CC-146C-4D4D-AFC5-879173F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EF6-BD1F-4050-AE19-3E65F71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15C3-22C7-47F3-A9F4-FB768C33A37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EF2C-530B-4CF4-8F09-2EBA81A8317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030C-F415-4EEC-920E-A157B68B738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45D4-8343-4549-958C-C90F0003C3E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.PATRICK´S CATHED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760640" cy="3168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RISTCHURCH CATHED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5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698920"/>
            <a:ext cx="4681800" cy="314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INITY COLLE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7" name="Zástupný symbol pro obsah 2" descr=""/>
          <p:cNvPicPr/>
          <p:nvPr/>
        </p:nvPicPr>
        <p:blipFill>
          <a:blip r:embed="rId1"/>
          <a:stretch/>
        </p:blipFill>
        <p:spPr>
          <a:xfrm>
            <a:off x="2298600" y="2637000"/>
            <a:ext cx="4762440" cy="3168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TATUE OF MOLLY MAL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2843280" y="2517840"/>
            <a:ext cx="3701880" cy="34322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UI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Zástupný symbol pro obsah 2" descr=""/>
          <p:cNvPicPr/>
          <p:nvPr/>
        </p:nvPicPr>
        <p:blipFill>
          <a:blip r:embed="rId1"/>
          <a:stretch/>
        </p:blipFill>
        <p:spPr>
          <a:xfrm>
            <a:off x="1403280" y="2495520"/>
            <a:ext cx="3998880" cy="29955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2" name="Obrázek 3" descr=""/>
          <p:cNvPicPr/>
          <p:nvPr/>
        </p:nvPicPr>
        <p:blipFill>
          <a:blip r:embed="rId2"/>
          <a:stretch/>
        </p:blipFill>
        <p:spPr>
          <a:xfrm>
            <a:off x="5772240" y="2924280"/>
            <a:ext cx="2851200" cy="2136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MPLE 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2576520"/>
            <a:ext cx="4608720" cy="345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TOW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ALW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TERF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MER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9" name="Zástupný symbol pro obsah 2" descr=""/>
          <p:cNvPicPr/>
          <p:nvPr/>
        </p:nvPicPr>
        <p:blipFill>
          <a:blip r:embed="rId1"/>
          <a:stretch/>
        </p:blipFill>
        <p:spPr>
          <a:xfrm>
            <a:off x="2732040" y="2781360"/>
            <a:ext cx="3895920" cy="2879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ALW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2565360" y="2637000"/>
            <a:ext cx="4326120" cy="3240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TERFO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Zástupný symbol pro obsah 2" descr=""/>
          <p:cNvPicPr/>
          <p:nvPr/>
        </p:nvPicPr>
        <p:blipFill>
          <a:blip r:embed="rId1"/>
          <a:stretch/>
        </p:blipFill>
        <p:spPr>
          <a:xfrm>
            <a:off x="1603440" y="2852640"/>
            <a:ext cx="5921280" cy="2635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Irsku, nejzajímavější místa a města země. Prezentace slouží jako podpůrný materiál při výkladu učiva o reáliích anglicky mluvících zemí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reland, geography, population, cities, cultu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MERI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5" name="Zástupný symbol pro obsah 3" descr=""/>
          <p:cNvPicPr/>
          <p:nvPr/>
        </p:nvPicPr>
        <p:blipFill>
          <a:blip r:embed="rId1"/>
          <a:stretch/>
        </p:blipFill>
        <p:spPr>
          <a:xfrm>
            <a:off x="2487600" y="2781360"/>
            <a:ext cx="438480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CKLOW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Zástupný symbol pro obsah 2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213440" cy="31575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CKLOW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3" descr=""/>
          <p:cNvPicPr/>
          <p:nvPr/>
        </p:nvPicPr>
        <p:blipFill>
          <a:blip r:embed="rId1"/>
          <a:stretch/>
        </p:blipFill>
        <p:spPr>
          <a:xfrm>
            <a:off x="1978200" y="2708280"/>
            <a:ext cx="5473440" cy="3065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LENDALOU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2" descr=""/>
          <p:cNvPicPr/>
          <p:nvPr/>
        </p:nvPicPr>
        <p:blipFill>
          <a:blip r:embed="rId1"/>
          <a:stretch/>
        </p:blipFill>
        <p:spPr>
          <a:xfrm>
            <a:off x="2565360" y="2637000"/>
            <a:ext cx="4238640" cy="3174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NEMA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2" descr=""/>
          <p:cNvPicPr/>
          <p:nvPr/>
        </p:nvPicPr>
        <p:blipFill>
          <a:blip r:embed="rId1"/>
          <a:stretch/>
        </p:blipFill>
        <p:spPr>
          <a:xfrm>
            <a:off x="2627280" y="2682720"/>
            <a:ext cx="4264200" cy="3194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NEMA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Zástupný symbol pro obsah 3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229280" cy="3168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HER CLIFF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Zástupný symbol pro obsah 2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037040" cy="3024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RAN ISLA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9" name="Zástupný symbol pro obsah 3" descr=""/>
          <p:cNvPicPr/>
          <p:nvPr/>
        </p:nvPicPr>
        <p:blipFill>
          <a:blip r:embed="rId1"/>
          <a:stretch/>
        </p:blipFill>
        <p:spPr>
          <a:xfrm>
            <a:off x="2556000" y="2629080"/>
            <a:ext cx="4143240" cy="3105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b050"/>
                </a:solidFill>
                <a:latin typeface="Arial"/>
              </a:rPr>
              <a:t>IRISH SYMBOLS</a:t>
            </a: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MROCK - LEPRECHAU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Zástupný symbol pro obsah 4" descr=""/>
          <p:cNvPicPr/>
          <p:nvPr/>
        </p:nvPicPr>
        <p:blipFill>
          <a:blip r:embed="rId1"/>
          <a:stretch/>
        </p:blipFill>
        <p:spPr>
          <a:xfrm>
            <a:off x="1690560" y="3119400"/>
            <a:ext cx="206712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Zástupný symbol pro obsah 5" descr=""/>
          <p:cNvPicPr/>
          <p:nvPr/>
        </p:nvPicPr>
        <p:blipFill>
          <a:blip r:embed="rId2"/>
          <a:stretch/>
        </p:blipFill>
        <p:spPr>
          <a:xfrm>
            <a:off x="5722920" y="2990880"/>
            <a:ext cx="1847880" cy="2467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RISH SYMBOLS – CELTIC CRO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Zástupný symbol pro obsah 4" descr=""/>
          <p:cNvPicPr/>
          <p:nvPr/>
        </p:nvPicPr>
        <p:blipFill>
          <a:blip r:embed="rId1"/>
          <a:stretch/>
        </p:blipFill>
        <p:spPr>
          <a:xfrm>
            <a:off x="2556000" y="2629080"/>
            <a:ext cx="4248000" cy="31827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IRE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Irsk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ubl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RISH NAME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É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0,273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UBL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hole Irish island is the 2nd biggest Britis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tlantic Ocean, Celtic Sea, Irish S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ickname: Emerald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IRE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Zástupný symbol pro obsah 2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952720" cy="375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BL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Ire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ish name: Báile Átha Cli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3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173400" cy="2376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AFTON STR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Zástupný symbol pro obsah 2" descr=""/>
          <p:cNvPicPr/>
          <p:nvPr/>
        </p:nvPicPr>
        <p:blipFill>
          <a:blip r:embed="rId1"/>
          <a:stretch/>
        </p:blipFill>
        <p:spPr>
          <a:xfrm>
            <a:off x="2757600" y="2781360"/>
            <a:ext cx="4190760" cy="3138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BLIN CAS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Zástupný symbol pro obsah 3" descr=""/>
          <p:cNvPicPr/>
          <p:nvPr/>
        </p:nvPicPr>
        <p:blipFill>
          <a:blip r:embed="rId1"/>
          <a:stretch/>
        </p:blipFill>
        <p:spPr>
          <a:xfrm>
            <a:off x="2757600" y="2781360"/>
            <a:ext cx="3975120" cy="2976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49Z</dcterms:modified>
  <cp:revision>39</cp:revision>
  <dc:subject/>
  <dc:title>EUROPEAN UNION</dc:title>
</cp:coreProperties>
</file>