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3AA5-F91C-4884-ACF2-B4998D3F6B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FC04-4D40-4C4F-B145-1A160426DAA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19E1-2EC0-440D-A065-46B6F3A48FB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3E86-A417-43A1-97A9-C71D098733C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6558-1DF6-43F9-BEC4-41387BA4F0DE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7577-6A2E-4913-8988-697F2898E39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2C8A-D26D-44B3-9A84-1B877AF83A2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F442-6DE2-44F1-9F77-00AF9CB50C0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098-91EC-4A27-BBC4-B58B6457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9B4-4BBD-4140-A57D-58984BB7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540-8DD1-4173-9AD3-CA245138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71B-1DA6-42A1-BDDF-C90B6720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F588-F771-4846-895C-5A36C224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A611-E7E8-47B0-AF36-C5D29EFC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47DD-FFFD-4166-AF3F-DD994AEC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647C-6462-40D7-B442-344C65FF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B549-5B3E-4AB2-9135-88E10713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ECA5-79C4-48DC-879B-5EA798B8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68C0-1193-416E-9480-9DE56182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F94-AC19-4A0F-AF08-34EEFF4C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D9A2-7509-494B-A0A7-1C7B1D41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91F1-1C68-4D54-856D-E74E5450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38C1-3587-4CAF-A01D-834DCE48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B03E-FDA1-4560-81B0-6215D0E3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BCE1-55D6-46B4-9412-4C4DA06B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AFB7-3DB7-4E88-AE2F-26FB84BB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21C96-17C9-4E8E-ADE3-A54B334B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63A5-A346-432B-A08C-B086E7CB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AFB9-E148-42C3-B3FE-CDB2E134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F7F23-F17E-49A3-9EB6-E31E77CF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B7E-76B1-4833-841E-CF933E90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8EAE-4F72-4C9F-A317-DCCD83BB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2B432-E0F0-49BC-996A-982968B8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4D33-9F2D-4329-927C-6B4E8D67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D34AC-6FB5-42F1-BBB6-CDAD9856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BC43A-AC8D-4F8E-8D63-91D81DE7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01E82-4C21-4FD7-8E36-A37B9C63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69BD1-2C2C-4839-9C4F-512DBCE6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4A02E-CC21-443C-A4A6-72B2EBB9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C79E9-7A03-4DD6-B8C9-3FABC64C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29A00-5103-47D9-8395-173936E9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9D1-3873-4443-9176-51ADB404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0769C-BBA0-4817-A22E-F20AE2FC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CD494-F624-45AD-92BD-953BD749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89F67-21F6-4BB3-B4A4-8F3316A8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AC642-0253-4770-A269-25983BBB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19779-E1BD-4A54-8A45-406011BE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096FD-0F33-4F62-8946-808B4398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E1ABE-6CE9-4AC4-AF8B-41877C93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93865-CE0F-45E5-AAB5-63792BBF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02FE2-E22B-42C2-811C-6BC4D945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272-98D9-42D2-9F4E-E3465731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073-4FD4-449E-9FCB-B5039A45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CB0-2CBD-48EB-9457-0A3C9B08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ACA-11CB-47D3-8414-9BF40793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3F6-712A-420A-821B-0592E9D9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6B6A-E555-48D6-B194-C68637556174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968E-D000-43BC-BAD5-311FB4A50C9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27E3-E2E0-45D1-9A11-093737A0C1E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E727-CE6B-48BF-912F-0A64BC94D7A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T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stern Austr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Zástupný symbol pro obsah 5" descr=""/>
          <p:cNvPicPr/>
          <p:nvPr/>
        </p:nvPicPr>
        <p:blipFill>
          <a:blip r:embed="rId1"/>
          <a:stretch/>
        </p:blipFill>
        <p:spPr>
          <a:xfrm>
            <a:off x="4438800" y="3141720"/>
            <a:ext cx="4108320" cy="2016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DELA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th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thern Austr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,5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Zástupný symbol pro obsah 2" descr=""/>
          <p:cNvPicPr/>
          <p:nvPr/>
        </p:nvPicPr>
        <p:blipFill>
          <a:blip r:embed="rId1"/>
          <a:stretch/>
        </p:blipFill>
        <p:spPr>
          <a:xfrm>
            <a:off x="5003640" y="2994120"/>
            <a:ext cx="307656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ARW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869 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lmerst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ern Terri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00,000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Zástupný symbol pro obsah 3" descr=""/>
          <p:cNvPicPr/>
          <p:nvPr/>
        </p:nvPicPr>
        <p:blipFill>
          <a:blip r:embed="rId1"/>
          <a:stretch/>
        </p:blipFill>
        <p:spPr>
          <a:xfrm>
            <a:off x="5103720" y="3068640"/>
            <a:ext cx="2997360" cy="2244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YERS RO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Uluru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 the Outbac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600 mil. years ol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3,6 km lo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2,4 km wi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348 m high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Zástupný symbol pro obsah 3" descr=""/>
          <p:cNvPicPr/>
          <p:nvPr/>
        </p:nvPicPr>
        <p:blipFill>
          <a:blip r:embed="rId1"/>
          <a:stretch/>
        </p:blipFill>
        <p:spPr>
          <a:xfrm>
            <a:off x="4888080" y="3068640"/>
            <a:ext cx="350676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ASMAN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island and an Australian st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40 km from the southern co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8,401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0,5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bart (the capit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Zástupný symbol pro obsah 2" descr=""/>
          <p:cNvPicPr/>
          <p:nvPr/>
        </p:nvPicPr>
        <p:blipFill>
          <a:blip r:embed="rId1"/>
          <a:stretch/>
        </p:blipFill>
        <p:spPr>
          <a:xfrm>
            <a:off x="4718160" y="2924280"/>
            <a:ext cx="3632040" cy="2449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REAT BARRIER REE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coral reef in the wor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,000 km lo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00 isl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ich eco-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50 types of corals, 4,000 fish spe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Zástupný symbol pro obsah 3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268440" cy="2449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KANGARO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3" name="Zástupný symbol pro obsah 3" descr=""/>
          <p:cNvPicPr/>
          <p:nvPr/>
        </p:nvPicPr>
        <p:blipFill>
          <a:blip r:embed="rId1"/>
          <a:stretch/>
        </p:blipFill>
        <p:spPr>
          <a:xfrm>
            <a:off x="2268360" y="2622600"/>
            <a:ext cx="5040360" cy="33415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PLATYP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5" name="Zástupný symbol pro obsah 4" descr=""/>
          <p:cNvPicPr/>
          <p:nvPr/>
        </p:nvPicPr>
        <p:blipFill>
          <a:blip r:embed="rId1"/>
          <a:stretch/>
        </p:blipFill>
        <p:spPr>
          <a:xfrm>
            <a:off x="2252520" y="2708280"/>
            <a:ext cx="5127840" cy="3195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</a:t>
            </a:r>
            <a:br>
              <a:rPr sz="3600"/>
            </a:b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ASMANIAN DEV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Zástupný symbol pro obsah 3" descr=""/>
          <p:cNvPicPr/>
          <p:nvPr/>
        </p:nvPicPr>
        <p:blipFill>
          <a:blip r:embed="rId1"/>
          <a:stretch/>
        </p:blipFill>
        <p:spPr>
          <a:xfrm>
            <a:off x="2190600" y="2565360"/>
            <a:ext cx="5118120" cy="34052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DIN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Zástupný symbol pro obsah 3" descr=""/>
          <p:cNvPicPr/>
          <p:nvPr/>
        </p:nvPicPr>
        <p:blipFill>
          <a:blip r:embed="rId1"/>
          <a:stretch/>
        </p:blipFill>
        <p:spPr>
          <a:xfrm>
            <a:off x="2408400" y="2708280"/>
            <a:ext cx="4971960" cy="33098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967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Austrálii, nejzajímavější místa a jedinečné druhy fauny. Prezentace slouží jako podpůrný materiál při výkladu učiva o reáliích anglicky mluvících zemí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tralia, outback, geography, unique animal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WOMB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1" name="Zástupný symbol pro obsah 4" descr=""/>
          <p:cNvPicPr/>
          <p:nvPr/>
        </p:nvPicPr>
        <p:blipFill>
          <a:blip r:embed="rId1"/>
          <a:stretch/>
        </p:blipFill>
        <p:spPr>
          <a:xfrm>
            <a:off x="2340000" y="2468520"/>
            <a:ext cx="5040360" cy="37749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KOA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3" name="Zástupný symbol pro obsah 3" descr=""/>
          <p:cNvPicPr/>
          <p:nvPr/>
        </p:nvPicPr>
        <p:blipFill>
          <a:blip r:embed="rId1"/>
          <a:stretch/>
        </p:blipFill>
        <p:spPr>
          <a:xfrm>
            <a:off x="2268360" y="2616120"/>
            <a:ext cx="5008680" cy="33339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258920" y="1557360"/>
            <a:ext cx="77007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ustral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ydne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Melbour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Brisba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dela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arwin_(Austr%C3%A1li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yers_Roc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Velký_bariérový_ú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Tasmán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AUSTR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7 747 400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3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ANBER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429000"/>
            <a:ext cx="2448000" cy="12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AUSTR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1" name="Zástupný symbol pro obsah 5" descr=""/>
          <p:cNvPicPr/>
          <p:nvPr/>
        </p:nvPicPr>
        <p:blipFill>
          <a:blip r:embed="rId1"/>
          <a:stretch/>
        </p:blipFill>
        <p:spPr>
          <a:xfrm>
            <a:off x="2422440" y="2362320"/>
            <a:ext cx="4524480" cy="37242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YDN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largest city of Austr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New South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Zástupný symbol pro obsah 2" descr=""/>
          <p:cNvPicPr/>
          <p:nvPr/>
        </p:nvPicPr>
        <p:blipFill>
          <a:blip r:embed="rId1"/>
          <a:stretch/>
        </p:blipFill>
        <p:spPr>
          <a:xfrm>
            <a:off x="4708440" y="2852640"/>
            <a:ext cx="36622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YDN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era Ho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rbour Bri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i B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ydney T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lympic Ga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Zástupný symbol pro obsah 3" descr=""/>
          <p:cNvPicPr/>
          <p:nvPr/>
        </p:nvPicPr>
        <p:blipFill>
          <a:blip r:embed="rId1"/>
          <a:stretch/>
        </p:blipFill>
        <p:spPr>
          <a:xfrm>
            <a:off x="4759200" y="3141720"/>
            <a:ext cx="3629160" cy="2082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ELBOUR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state of Vict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4 million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0" name="Zástupný symbol pro obsah 2" descr=""/>
          <p:cNvPicPr/>
          <p:nvPr/>
        </p:nvPicPr>
        <p:blipFill>
          <a:blip r:embed="rId1"/>
          <a:stretch/>
        </p:blipFill>
        <p:spPr>
          <a:xfrm>
            <a:off x="4802040" y="2997360"/>
            <a:ext cx="3462480" cy="2303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RISB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Queensl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ustrial, financial and transport cen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Zástupný symbol pro obsah 3" descr=""/>
          <p:cNvPicPr/>
          <p:nvPr/>
        </p:nvPicPr>
        <p:blipFill>
          <a:blip r:embed="rId1"/>
          <a:stretch/>
        </p:blipFill>
        <p:spPr>
          <a:xfrm>
            <a:off x="4827600" y="2924280"/>
            <a:ext cx="322416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7:00Z</dcterms:modified>
  <cp:revision>26</cp:revision>
  <dc:subject/>
  <dc:title>EUROPEAN UNION</dc:title>
</cp:coreProperties>
</file>