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862B-1F30-4278-AD4C-BC464E3423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F26F-1D21-4D6C-AEB5-FC9D0E4DE12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89E3-9AC5-4EBA-8B87-0F6A1AF444A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5CEE-21DF-4410-BA3B-CB85C0450F0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3690-1158-43E0-B0C3-98C7E74EB37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D417-4938-43A1-958B-2C2F1A70472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23FA-5A9F-48DD-ADB8-AE2709624B1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D9E2-CBEE-4D86-AF4C-B3FC56222ED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73D-2D05-40E7-8176-4BAC5123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BC3-88EA-450B-A0AC-599C5BAA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719-8FA5-4A92-AFA0-691C5D36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CCC-7ED0-4042-A0A6-D6D210F1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A6D-313B-4ED1-B698-9CB75926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476-9CB5-4489-8D93-51B3D0C9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B14C-9E35-48BC-B101-62DB6C29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6BD8-28CD-4065-A6F5-62BAEB46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9204-EC68-4575-960F-8DB67059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C2C6-B34B-43E0-B0E6-E61FE708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1775-0561-49A5-B8D3-DBEF12F4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E1C-56F2-4556-A8D6-5E192653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6B61-C762-42F6-8AC9-529006D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D8FA-20F1-442F-A57E-912A43A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327A-2AD6-4D0A-A09D-23C3674D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DF89-4F20-4F0B-BBE9-07DFDC3E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73AF-061F-43E5-A9CC-B03171BD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6087-CE8E-495D-8A24-2F73866A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0A52-7353-4615-8571-5BD718CD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5F65B-90BC-4D50-9493-2921CA89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0EFF-D14B-42B9-82E2-F93C7D6E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AE46-4548-410B-A528-54ACB53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C10-981E-4877-85D4-97B3A799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5740-67A9-4997-87A1-8CDAF47B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FD2B-0118-41C8-8D32-E1463CF5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4D29-48FC-4900-A24A-5434D4FD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6B51-7A6C-4722-99C7-2DBBB2C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EFB02-0972-43C0-8C0A-1D2FB60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0383-6EB6-4497-8003-F2BEB22F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2B81-C78B-4039-AC66-C7A3A414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3DA72-58F6-45AD-885F-083C02CB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EE29-2275-49E4-B66B-A369E992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3E15-5F42-4A93-A07F-4C5BB000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ADB-4138-4D55-8810-AAD6A620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0DA94-720B-42DE-9403-4A0B93D6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D41F-FED8-4619-8FE4-AE15B51C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71D9-F20F-4533-957D-547DCD02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D0517-6793-49D3-B735-CA7680F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75F72-BA78-4586-BC26-0731534F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B2631-C222-4162-A1D5-14DBB6A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CA26-DD24-425C-81BC-950BEF5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5405-F305-4D4C-8A55-A0D6F3CC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0DB13-A514-4175-8333-2C22FB66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576-1EB7-4246-80FE-DC37F986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AD9-E5C8-4D16-B96C-6E9B5B9F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1DD-399B-4242-A4D8-72892F1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C70-333F-4F46-B0BD-80CFB72F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4B5-DE1D-4B22-9CE8-E245A274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C9AB-B38E-4E3B-9C01-3B0E5173D4C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DE12-84D3-4951-B872-42062333BCF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E19A-A630-49CC-8D1F-B14EA97647A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7336-7163-4505-9326-1D404A5D3D3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7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Nixon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- Watergate Affai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(Nixon had to resig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(in 2002 awar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obel Prize for Peace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2" descr=""/>
          <p:cNvPicPr/>
          <p:nvPr/>
        </p:nvPicPr>
        <p:blipFill>
          <a:blip r:embed="rId1"/>
          <a:stretch/>
        </p:blipFill>
        <p:spPr>
          <a:xfrm>
            <a:off x="5468760" y="2781360"/>
            <a:ext cx="234792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8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ld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oviet Union proclaimed the Empire of Ev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nce 1989 G.Bu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3" descr=""/>
          <p:cNvPicPr/>
          <p:nvPr/>
        </p:nvPicPr>
        <p:blipFill>
          <a:blip r:embed="rId1"/>
          <a:stretch/>
        </p:blipFill>
        <p:spPr>
          <a:xfrm>
            <a:off x="5435640" y="2712960"/>
            <a:ext cx="2449440" cy="3057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9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Bush S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anama Inva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Gulf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end of Cold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ill Clin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ATO operations in Yugoslav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435640" y="2712960"/>
            <a:ext cx="2449440" cy="3057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00 - n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264d"/>
                </a:solidFill>
                <a:latin typeface="Arial"/>
              </a:rPr>
              <a:t>What do you know about the US history in the last 15 years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5375160" y="2637000"/>
            <a:ext cx="2421000" cy="30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Nevis A., Steele Commaner H. 1994. Dějiny Spojených Států. AMLYN Klato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Tindall G.B., Shi D.E., 2008. Dějiny Spojených Států Amerických, Nakladatelství Lidové Novi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jiny_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rican history – 20th centu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Spojených států 20.století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history, presi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AMERICAN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LD WAR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oodrow Wilson proclaimed neutr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nce 1917 USA involved in the World War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son helped to establish Czechoslovak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510160" y="2708280"/>
            <a:ext cx="2301840" cy="3073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TWEEN THE WA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fter the war prohib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29 – Black Thursday (started on October 24 at the Stock Exchange, big economic crises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ew Deal – economic plan 1933-193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5251320" y="3141720"/>
            <a:ext cx="296712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LD WAR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41 – Japanese attacked Pearl Harb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USA involved in the World War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orma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iroshima, Nagasa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iberation of Plze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113440" y="2997360"/>
            <a:ext cx="31478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RSHALL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670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48 – European Recovery Program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nnounced by the minister of foreign affairs Marshall in 194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48-1952 (13 bil.dolla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oslovakia refu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665680" y="3062160"/>
            <a:ext cx="196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5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50 – 1953 Korean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33,000 American soldiers d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General MacArth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5" descr=""/>
          <p:cNvPicPr/>
          <p:nvPr/>
        </p:nvPicPr>
        <p:blipFill>
          <a:blip r:embed="rId1"/>
          <a:stretch/>
        </p:blipFill>
        <p:spPr>
          <a:xfrm>
            <a:off x="4986360" y="2997360"/>
            <a:ext cx="311616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6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670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Fitzgerald Kenne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61 – Cuba (an attempt to capture Castr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62 – Cuba cri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rtin Luther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etnam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3" descr=""/>
          <p:cNvPicPr/>
          <p:nvPr/>
        </p:nvPicPr>
        <p:blipFill>
          <a:blip r:embed="rId1"/>
          <a:stretch/>
        </p:blipFill>
        <p:spPr>
          <a:xfrm>
            <a:off x="5627520" y="2924280"/>
            <a:ext cx="2184480" cy="278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20Z</dcterms:modified>
  <cp:revision>57</cp:revision>
  <dc:subject/>
  <dc:title>EUROPEAN UNION</dc:title>
</cp:coreProperties>
</file>