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D631-8F0A-41E7-A210-90FEE1D8FCB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A1F0-2705-40FB-B243-0C1E5AAA9F2F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EC6F-25A3-4A71-97AC-6B06CA667A6E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E552-DEC7-4F4F-8BEB-CC0CC99B995B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4137-40D0-462A-BFFA-49EC4E02A637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EE83-D818-4841-A89C-D6460A9DF954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582D-6FE2-4AE4-A70B-58F77F4926D4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425B-6E4A-4319-9D7D-F5ADC51BF3D0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335-D516-4E19-AED2-E2EA3DAA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56D1-2AC1-4CE8-8115-764DF7A5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CFC6-37C4-4B38-9A74-822A4E65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6211-8C34-4F9C-8DBE-794FEEC8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F9BB-9BD2-4E2F-BD10-E82F7C01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CC95-3CA4-4951-970A-764918AB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4AA3-B8B7-4681-82A9-189CB04B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529C-07E9-48E4-AA49-88094FA3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8B13-FF4B-4973-A3C1-169CB67D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112C-BF2C-4488-8D30-AE60BFE6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CE6E-11AB-4152-A622-D98910BF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466F-E1EA-43C1-A287-6C3C1A97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C936-7D56-4702-AB50-968BDE8F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99AE-9C74-40CC-A60D-4B5B6DD1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662B-5F0D-424F-86CB-090E09B0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D94A-D7DE-4B6C-958F-F7F793E2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DF1E-0B19-4D46-A4AC-16A50217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37096-9108-435C-80EA-203CF736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F1E9C-8D28-4D04-B7C5-4D6CE370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0CEAD-0EA7-4300-B74F-6510F4C3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E0E5F-89E8-48FC-AB8E-B06C1E75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0870E-015F-4AC6-9550-BEF917F7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5104-5BC4-4204-8764-DB99390B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F12F5-1AAF-45F1-AC10-BD499324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FABFE-4330-403F-9056-F60F3E12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733E4-288D-4CFD-85A7-29B61282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D62D6-4F56-4D73-BD62-CA7A1674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00216-1218-4C80-B741-C0D38646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7C092-7EC2-4E6B-8CC3-66E40ED5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6FA57-4CE6-4889-9289-923AC7CA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DC011-F924-4274-8592-BC089CAC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361D0-01E8-42A1-A013-BE07A678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FDBBE-0C9A-453C-A71A-F825D46F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F848-E46C-4C84-91E0-899CEE8B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A0C6C-3751-4C5E-BB4B-AFD925A6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E8E55-343B-412F-8499-2B4E0CC7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7AD5B-0C2A-4228-A612-C40B8B87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08F92-844D-4B77-A610-10E69938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CFC15-9C77-4C48-8CFE-7123045C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4F65A-6CD4-4BB6-BF32-A90B1D52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57167-C94D-47D4-83D7-647F5608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A5B49-9EAF-4B89-BAB1-BC58B799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B8200-BEBC-4575-AD03-BC4BEFF1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E6B0-BB12-4E36-A826-E0403922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249-9956-4CA3-9AA1-46B8CBC8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3F8-50CD-4DB9-9D96-AC0449EC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9DE7-0F92-4523-9BFE-ECFC555A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6F9E-3C9D-4EB0-BB95-D3FB6B74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3516-CB68-4E78-ADA4-72CCB3CFD4B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23E0-9192-4066-82E0-67CB1E95CDC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84C8-CFC1-4242-B84C-9A2B198F383A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EFBF-41B8-458C-9B8F-88895D7F505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26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OSTON TEA PAR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773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Americans dressed as Indians emptied chests of British tea to the oce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test against big taxes on t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England George I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Zástupný symbol pro obsah 3" descr=""/>
          <p:cNvPicPr/>
          <p:nvPr/>
        </p:nvPicPr>
        <p:blipFill>
          <a:blip r:embed="rId1"/>
          <a:stretch/>
        </p:blipFill>
        <p:spPr>
          <a:xfrm>
            <a:off x="5268960" y="3395520"/>
            <a:ext cx="3046320" cy="18338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AR OF INDEPEND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775 - 1783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war of independence on Engla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775 – The battle of Lexington, Concor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une 1775 – the battle of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Bunker H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Zástupný symbol pro obsah 2" descr=""/>
          <p:cNvPicPr/>
          <p:nvPr/>
        </p:nvPicPr>
        <p:blipFill>
          <a:blip r:embed="rId1"/>
          <a:stretch/>
        </p:blipFill>
        <p:spPr>
          <a:xfrm>
            <a:off x="5011560" y="3141720"/>
            <a:ext cx="32594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CLARATION OF INDEPEND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uly 4th, 1776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the Declaration of Independ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hiladelph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stablishing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Zástupný symbol pro obsah 5" descr=""/>
          <p:cNvPicPr/>
          <p:nvPr/>
        </p:nvPicPr>
        <p:blipFill>
          <a:blip r:embed="rId1"/>
          <a:stretch/>
        </p:blipFill>
        <p:spPr>
          <a:xfrm>
            <a:off x="4761000" y="2968560"/>
            <a:ext cx="3770280" cy="2511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CLARATION OF INDEPEND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5" name="Zástupný symbol pro obsah 5" descr=""/>
          <p:cNvPicPr/>
          <p:nvPr/>
        </p:nvPicPr>
        <p:blipFill>
          <a:blip r:embed="rId1"/>
          <a:stretch/>
        </p:blipFill>
        <p:spPr>
          <a:xfrm>
            <a:off x="1890720" y="2362320"/>
            <a:ext cx="5587920" cy="37242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END OF THE WAR OF INDEPEND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783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Paris Trea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SA recognised as a free and independent coun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nglish King and his heirs gave up any dem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Zástupný symbol pro obsah 2" descr=""/>
          <p:cNvPicPr/>
          <p:nvPr/>
        </p:nvPicPr>
        <p:blipFill>
          <a:blip r:embed="rId1"/>
          <a:stretch/>
        </p:blipFill>
        <p:spPr>
          <a:xfrm>
            <a:off x="5018040" y="3141720"/>
            <a:ext cx="34624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EORGE WASHING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789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George Washington elected the 1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793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re-elected ag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esident until 1797, then returned to Virginia. Died in 179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Zástupný symbol pro obsah 3" descr=""/>
          <p:cNvPicPr/>
          <p:nvPr/>
        </p:nvPicPr>
        <p:blipFill>
          <a:blip r:embed="rId1"/>
          <a:stretch/>
        </p:blipFill>
        <p:spPr>
          <a:xfrm>
            <a:off x="5464080" y="2781360"/>
            <a:ext cx="2421000" cy="29559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THER IMPORTANT LEAD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ohn Adams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2nd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Thomas Jefferson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3rd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Benjamin Frankli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4" name="Zástupný symbol pro obsah 2" descr=""/>
          <p:cNvPicPr/>
          <p:nvPr/>
        </p:nvPicPr>
        <p:blipFill>
          <a:blip r:embed="rId1"/>
          <a:stretch/>
        </p:blipFill>
        <p:spPr>
          <a:xfrm>
            <a:off x="5052960" y="3141720"/>
            <a:ext cx="3282840" cy="2232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OUISIANA PURCHA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03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USA bought from France the territory of 2,140,000 km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for 15 million doll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Lousiana 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ncluded 15 today´s US and 2 Canadian sta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7" name="Zástupný symbol pro obsah 3" descr=""/>
          <p:cNvPicPr/>
          <p:nvPr/>
        </p:nvPicPr>
        <p:blipFill>
          <a:blip r:embed="rId1"/>
          <a:stretch/>
        </p:blipFill>
        <p:spPr>
          <a:xfrm>
            <a:off x="4879800" y="3141720"/>
            <a:ext cx="37576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IVIL W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1 - 1865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Civil War between North and South (Union x Confedera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lavery in the Sou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dustry in the No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0" name="Zástupný symbol pro obsah 2" descr=""/>
          <p:cNvPicPr/>
          <p:nvPr/>
        </p:nvPicPr>
        <p:blipFill>
          <a:blip r:embed="rId1"/>
          <a:stretch/>
        </p:blipFill>
        <p:spPr>
          <a:xfrm>
            <a:off x="5114880" y="3284640"/>
            <a:ext cx="29862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IVIL W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59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John Brown´s upri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0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Abraham Lincoln elected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0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South Carolina left Un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3" name="Zástupný symbol pro obsah 3" descr=""/>
          <p:cNvPicPr/>
          <p:nvPr/>
        </p:nvPicPr>
        <p:blipFill>
          <a:blip r:embed="rId1"/>
          <a:stretch/>
        </p:blipFill>
        <p:spPr>
          <a:xfrm>
            <a:off x="5086440" y="3213000"/>
            <a:ext cx="3219480" cy="2087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merican histo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data z historie Spojených států až do 20.století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USA, history, battle, presid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IVIL W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Confederation establish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President Jefferson Dav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 capital Montgomery, then Richmo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6" name="Zástupný symbol pro obsah 2" descr=""/>
          <p:cNvPicPr/>
          <p:nvPr/>
        </p:nvPicPr>
        <p:blipFill>
          <a:blip r:embed="rId1"/>
          <a:stretch/>
        </p:blipFill>
        <p:spPr>
          <a:xfrm>
            <a:off x="5297400" y="3376440"/>
            <a:ext cx="2695680" cy="1695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IVIL W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1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Confederation troops attacked Fort Sum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3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the Battle of Gettysburg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5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end of the war, the North w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9" name="Zástupný symbol pro obsah 3" descr=""/>
          <p:cNvPicPr/>
          <p:nvPr/>
        </p:nvPicPr>
        <p:blipFill>
          <a:blip r:embed="rId1"/>
          <a:stretch/>
        </p:blipFill>
        <p:spPr>
          <a:xfrm>
            <a:off x="5086440" y="3213000"/>
            <a:ext cx="3219480" cy="2087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BRAHAM LINCOL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6</a:t>
            </a:r>
            <a:r>
              <a:rPr b="0" lang="cs-CZ" sz="2800" spc="-1" strike="noStrike" baseline="30000">
                <a:solidFill>
                  <a:srgbClr val="00264d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President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Leader of the No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bolished slave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ssasinated in 1865 in the Ford thea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2" name="Zástupný symbol pro obsah 3" descr=""/>
          <p:cNvPicPr/>
          <p:nvPr/>
        </p:nvPicPr>
        <p:blipFill>
          <a:blip r:embed="rId1"/>
          <a:stretch/>
        </p:blipFill>
        <p:spPr>
          <a:xfrm>
            <a:off x="5508720" y="2820960"/>
            <a:ext cx="2361960" cy="2911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Nevis A., Steele Commaner H. 1994. Dějiny Spojených Států. AMLYN Klatov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Tindall G.B., Shi D.E., 2008. Dějiny Spojených Států Amerických, Nakladatelství Lidové Novi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ějiny_US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AMERICAN HIS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IMPORTANT EV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EUROPE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94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st Europeans came to North America from Green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ric the Red Head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a settlement in 98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1001 his son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Lei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tretch/>
        </p:blipFill>
        <p:spPr>
          <a:xfrm>
            <a:off x="5435640" y="2514600"/>
            <a:ext cx="2305080" cy="32558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EUROPE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94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492 –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hristopher Columb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ailor from Ven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e thought he had landed in India and called native people the Indi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3" descr=""/>
          <p:cNvPicPr/>
          <p:nvPr/>
        </p:nvPicPr>
        <p:blipFill>
          <a:blip r:embed="rId1"/>
          <a:stretch/>
        </p:blipFill>
        <p:spPr>
          <a:xfrm>
            <a:off x="5464080" y="2708280"/>
            <a:ext cx="2276640" cy="2919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EUROPE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94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ohn Cabot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Giovanni Cabott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1497 he landed in today´s Newfound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e spent a few weeks sailing along the coa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2" descr=""/>
          <p:cNvPicPr/>
          <p:nvPr/>
        </p:nvPicPr>
        <p:blipFill>
          <a:blip r:embed="rId1"/>
          <a:stretch/>
        </p:blipFill>
        <p:spPr>
          <a:xfrm>
            <a:off x="5510160" y="2781360"/>
            <a:ext cx="2301840" cy="2925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COLON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238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amestown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the first English colony (in Virginia) - 16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ptain John Smi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ohn Rolfe - tobac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cahontas, Powhat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3" descr=""/>
          <p:cNvPicPr/>
          <p:nvPr/>
        </p:nvPicPr>
        <p:blipFill>
          <a:blip r:embed="rId1"/>
          <a:stretch/>
        </p:blipFill>
        <p:spPr>
          <a:xfrm>
            <a:off x="5295960" y="3213000"/>
            <a:ext cx="3076560" cy="2303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ILGRIM FATH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620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a group of 102 people landed in Plymou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yfl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ly half of them survived (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Thanksgiving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w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Zástupný symbol pro obsah 4" descr=""/>
          <p:cNvPicPr/>
          <p:nvPr/>
        </p:nvPicPr>
        <p:blipFill>
          <a:blip r:embed="rId1"/>
          <a:stretch/>
        </p:blipFill>
        <p:spPr>
          <a:xfrm>
            <a:off x="5246640" y="3068640"/>
            <a:ext cx="2878200" cy="2376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8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3 colonie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long the Atlantic coast under the British ru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rench territories to the w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uth-north from Louisiana to Can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Zástupný symbol pro obsah 2" descr=""/>
          <p:cNvPicPr/>
          <p:nvPr/>
        </p:nvPicPr>
        <p:blipFill>
          <a:blip r:embed="rId1"/>
          <a:stretch/>
        </p:blipFill>
        <p:spPr>
          <a:xfrm>
            <a:off x="5378400" y="3324240"/>
            <a:ext cx="2884680" cy="2049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8:17Z</dcterms:modified>
  <cp:revision>58</cp:revision>
  <dc:subject/>
  <dc:title>EUROPEAN UNION</dc:title>
</cp:coreProperties>
</file>