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3B4B-67C5-46DC-B284-0985C39EBB5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D20B-A634-477E-9DD3-3C3FFEE00A5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213B-420C-476B-B8C6-66827BCF9E7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B723-3F7F-4CFD-801E-6957F67FBB7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8BEA-BDD8-42E4-BABE-05E938BDE91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FEB0-427E-43A3-92B6-AC81B8BEA53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B1CC-F318-4905-B4F9-8BD0A22DF9A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9EF7-089B-4E3D-9BF2-829F2B55B3F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343E-2D8F-4569-9BC1-011B6D74C68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347F-77D6-481F-AA0F-1A17D68E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FD36-1371-47E3-9857-A9EB2F44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A018-0EC9-41B1-92AC-0F5858AE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123C-88E6-47D8-AF1B-51D98DA1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0CE5-2464-4CD9-AA02-8385935C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DFB0-4116-4FDE-961C-EA258E1C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B691-6909-41E2-B69A-387532DE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5401-8C2C-4437-A9D8-D86851A5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E6F7-CE95-49B2-B070-6262FBAB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4722-87BF-443F-9B1D-AAA9AD5C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8D78-DE02-4C3B-AB15-760DB8FD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9F47-8894-45AD-AAF7-E433DF6E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F5C1-4C9A-49FF-83DE-87A31EAB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95AB-1F96-4750-ABC6-AC4BCF22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30F6-AF00-4A29-BABC-F07EA275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CEC7-8785-402D-AFDD-CECD3408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A12B-DB13-4E06-A6F0-14AA9DE7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B6BD2-0866-45A8-9235-039EC4CF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68C69-ED37-419E-A4B0-AEBE67AF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F67EA-EE0C-434F-B213-18247731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A1719-80D1-4ED4-AD19-EB985877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351BA-7C10-4E69-A2B3-6E0E71AA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3478-1325-4307-8111-B5710CD0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68D56-5456-4F27-818E-62DEF58A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A7C30-EEB8-4CEC-9846-B2937A6F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0D8F0-0541-4B6B-8B0A-BF1E2935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1393E-5FBE-4AA1-A3FB-96E9A003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8B6B0-93FA-4D45-A31C-58FE77F3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B2F47-5CFD-4649-A291-E30A2802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5C583-8C13-47E7-B02D-E2BC2CF8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E29FC-9347-4C03-B768-8FF00E96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7A41D-A9F1-49D5-88F2-8190C840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C33F0-CF99-45BF-9966-6D9FB8E4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5AFB-F115-4090-BFFE-D9A888BF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F02C9-EB39-4BC2-B3D4-1923DCF6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6C08D-803D-4D10-B2A8-2101C44C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3AB5E-8CAA-44C2-A4B1-80C1EB74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BCFA4-C515-4850-8EEE-032E6046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C912E-B428-4F4F-9C5A-FF650D51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B58B1-C43E-4DB3-B09F-0A1CEDF9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78B4D-C571-4D6D-B6D4-6F747EBD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FEDD8-F567-441C-A852-961C1F42C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1A935-1843-4530-994E-8D45342F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781C-75BA-43AD-9326-129536DB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65D7-203F-41DF-95B7-2DA55DC5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CB1A-D923-450D-AC0F-B00625F0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C815-3EC9-4CFE-AEDB-F66F8FA3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9048-58B0-481B-B336-3D840117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6E80-06A1-4F91-A3BD-01C0B2843382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B949-08C4-4ACB-8C33-3A9A29B8FFD4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6217-EBF4-433A-8F7C-21994ACACAAB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3052-9A08-4F63-9830-D42D56A3E988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Treaty of Amsterd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Union shall respect fundamental rights, as guaranteed by the European Convention for the Protection of Human Rights and Fundamental Freedoms signed in Rome on 4 November 1950 and as they result from the constitutional traditions common to the Member States, as general principles of Community law…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Treaty of Nice - 200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reform institutions of EU to be able to accept 10 new count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hanging the way of vo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roducing the principle of double majo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me into force on February 1, 200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 members - 2004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ZECH REPUBLIC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LOVAKI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UNGA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LOVENIA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9" name="Picture 7" descr="ceska_republika"/>
          <p:cNvPicPr/>
          <p:nvPr/>
        </p:nvPicPr>
        <p:blipFill>
          <a:blip r:embed="rId1"/>
          <a:stretch/>
        </p:blipFill>
        <p:spPr>
          <a:xfrm>
            <a:off x="5508720" y="2924280"/>
            <a:ext cx="57132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0" name="Picture 8" descr="polsko"/>
          <p:cNvPicPr/>
          <p:nvPr/>
        </p:nvPicPr>
        <p:blipFill>
          <a:blip r:embed="rId2"/>
          <a:stretch/>
        </p:blipFill>
        <p:spPr>
          <a:xfrm>
            <a:off x="5508720" y="3429000"/>
            <a:ext cx="57600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1" name="Picture 9" descr="slovensko"/>
          <p:cNvPicPr/>
          <p:nvPr/>
        </p:nvPicPr>
        <p:blipFill>
          <a:blip r:embed="rId3"/>
          <a:stretch/>
        </p:blipFill>
        <p:spPr>
          <a:xfrm>
            <a:off x="5508720" y="3933720"/>
            <a:ext cx="57132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2" name="Picture 10" descr="madarsko"/>
          <p:cNvPicPr/>
          <p:nvPr/>
        </p:nvPicPr>
        <p:blipFill>
          <a:blip r:embed="rId4"/>
          <a:stretch/>
        </p:blipFill>
        <p:spPr>
          <a:xfrm>
            <a:off x="5508720" y="4437000"/>
            <a:ext cx="57600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3" name="Picture 11" descr="slovinsko"/>
          <p:cNvPicPr/>
          <p:nvPr/>
        </p:nvPicPr>
        <p:blipFill>
          <a:blip r:embed="rId5"/>
          <a:stretch/>
        </p:blipFill>
        <p:spPr>
          <a:xfrm>
            <a:off x="5508720" y="4941720"/>
            <a:ext cx="57600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 members - 2004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STONIA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THUANIA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ATVIA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YPRUS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LTA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6" name="Picture 7" descr="estonsko"/>
          <p:cNvPicPr/>
          <p:nvPr/>
        </p:nvPicPr>
        <p:blipFill>
          <a:blip r:embed="rId1"/>
          <a:stretch/>
        </p:blipFill>
        <p:spPr>
          <a:xfrm>
            <a:off x="5580000" y="2924280"/>
            <a:ext cx="59076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7" name="Picture 8" descr="litva"/>
          <p:cNvPicPr/>
          <p:nvPr/>
        </p:nvPicPr>
        <p:blipFill>
          <a:blip r:embed="rId2"/>
          <a:stretch/>
        </p:blipFill>
        <p:spPr>
          <a:xfrm>
            <a:off x="5580000" y="3429000"/>
            <a:ext cx="57456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8" name="Picture 9" descr="lotyssko"/>
          <p:cNvPicPr/>
          <p:nvPr/>
        </p:nvPicPr>
        <p:blipFill>
          <a:blip r:embed="rId3"/>
          <a:stretch/>
        </p:blipFill>
        <p:spPr>
          <a:xfrm>
            <a:off x="5580000" y="3933720"/>
            <a:ext cx="57456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9" name="Picture 10" descr="kypr"/>
          <p:cNvPicPr/>
          <p:nvPr/>
        </p:nvPicPr>
        <p:blipFill>
          <a:blip r:embed="rId4"/>
          <a:stretch/>
        </p:blipFill>
        <p:spPr>
          <a:xfrm>
            <a:off x="5580000" y="4437000"/>
            <a:ext cx="57456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0" name="Picture 11" descr="malta"/>
          <p:cNvPicPr/>
          <p:nvPr/>
        </p:nvPicPr>
        <p:blipFill>
          <a:blip r:embed="rId5"/>
          <a:stretch/>
        </p:blipFill>
        <p:spPr>
          <a:xfrm>
            <a:off x="5580000" y="4941720"/>
            <a:ext cx="57168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uropean Constit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ed in April 200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ed democratic decision-ma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reated a post of a European Foreign Minis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3" name="Picture 7" descr="Single act"/>
          <p:cNvPicPr/>
          <p:nvPr/>
        </p:nvPicPr>
        <p:blipFill>
          <a:blip r:embed="rId1"/>
          <a:stretch/>
        </p:blipFill>
        <p:spPr>
          <a:xfrm>
            <a:off x="5867280" y="3141720"/>
            <a:ext cx="2087640" cy="135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uropean Constit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52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rance and the Netherlands voted „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NO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U leaders declared a period of ref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6" name="Picture 9" descr="book"/>
          <p:cNvPicPr/>
          <p:nvPr/>
        </p:nvPicPr>
        <p:blipFill>
          <a:blip r:embed="rId1"/>
          <a:stretch/>
        </p:blipFill>
        <p:spPr>
          <a:xfrm>
            <a:off x="5600880" y="3546360"/>
            <a:ext cx="2090520" cy="135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 members – 2007-2013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MANIA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ULGA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ROATIA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9" name="Picture 4" descr="rumunsko"/>
          <p:cNvPicPr/>
          <p:nvPr/>
        </p:nvPicPr>
        <p:blipFill>
          <a:blip r:embed="rId1"/>
          <a:stretch/>
        </p:blipFill>
        <p:spPr>
          <a:xfrm>
            <a:off x="5148360" y="2924280"/>
            <a:ext cx="57132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0" name="Picture 5" descr="bulharsko"/>
          <p:cNvPicPr/>
          <p:nvPr/>
        </p:nvPicPr>
        <p:blipFill>
          <a:blip r:embed="rId2"/>
          <a:stretch/>
        </p:blipFill>
        <p:spPr>
          <a:xfrm>
            <a:off x="5148360" y="3429000"/>
            <a:ext cx="57132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1" name="Obrázek 1" descr=""/>
          <p:cNvPicPr/>
          <p:nvPr/>
        </p:nvPicPr>
        <p:blipFill>
          <a:blip r:embed="rId3"/>
          <a:stretch/>
        </p:blipFill>
        <p:spPr>
          <a:xfrm>
            <a:off x="5148360" y="3941640"/>
            <a:ext cx="573120" cy="38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isbon Trea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hanges previous treaties adopted so f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ed on December 13, 2007 in Lisb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as recently come into forc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All 27 countries ratified the trea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reland voted „NO“ in the first referendu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zech republic was the last to sig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Reálie anglicky mluvících zemí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Historie Evropské Unie po roce 199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dějiny Evropské Unie po roce 1993. Prezentace slouží jako podpůrný materiál při výkladu vyučujícíh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uropean Union, Euro, trea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EUROPEAN UN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HISTORY OF EU AFTER MAASTRIC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Picture 4" descr="eu vlajka"/>
          <p:cNvPicPr/>
          <p:nvPr/>
        </p:nvPicPr>
        <p:blipFill>
          <a:blip r:embed="rId1"/>
          <a:stretch/>
        </p:blipFill>
        <p:spPr>
          <a:xfrm>
            <a:off x="755640" y="4005360"/>
            <a:ext cx="237636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4 freedoms of „Single Market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goo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ervic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one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990s – important da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993 Maastricht Trea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995 Schengen agreement (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7 countri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997 The treaty of Amsterda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997 Agenda 2000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999 introdution of Euro for commercial and financial transac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 member countries in 199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USTRIA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INLAND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WEDEN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Picture 15" descr="rakousko"/>
          <p:cNvPicPr/>
          <p:nvPr/>
        </p:nvPicPr>
        <p:blipFill>
          <a:blip r:embed="rId1"/>
          <a:stretch/>
        </p:blipFill>
        <p:spPr>
          <a:xfrm>
            <a:off x="4716360" y="2997360"/>
            <a:ext cx="57168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5" name="Picture 16" descr="2"/>
          <p:cNvPicPr/>
          <p:nvPr/>
        </p:nvPicPr>
        <p:blipFill>
          <a:blip r:embed="rId2"/>
          <a:stretch/>
        </p:blipFill>
        <p:spPr>
          <a:xfrm>
            <a:off x="4716360" y="3573360"/>
            <a:ext cx="57636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6" name="Picture 17" descr="svedsko"/>
          <p:cNvPicPr/>
          <p:nvPr/>
        </p:nvPicPr>
        <p:blipFill>
          <a:blip r:embed="rId3"/>
          <a:stretch/>
        </p:blipFill>
        <p:spPr>
          <a:xfrm>
            <a:off x="4716360" y="4149720"/>
            <a:ext cx="60984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chengen agreement - 1995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ed people to travel without having their passports check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ed people to study in other countries with EU sup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ok effect in 7 countries (GER, FRA, SPA, POR, BEL, LUX, N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Treaty of Amsterd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9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reform EU instit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make Europe more power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concentrate more resources on employment and the rights of citize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Treaty of Amsterd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Union is founded on the principles of liberty, democracy, respect for human rights and fundamental freedoms, and the rule of law, principles which are common to the member states“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9:45Z</dcterms:modified>
  <cp:revision>15</cp:revision>
  <dc:subject/>
  <dc:title>EUROPEAN UNION</dc:title>
</cp:coreProperties>
</file>