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434-12A2-46F7-8455-0FE4B00804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B5D-1B24-4EEA-8E6C-DFA70D33E1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5A51-B7B7-46A0-9AF2-EE167E8103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BDA2-F8EC-4C5D-ABF9-F048039EF49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CA11-6496-4338-B267-C674FB9DCBA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3E8-5A8B-4699-94FA-DAC0EC93EC4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A9C-B878-4B3A-8AC2-4D3F263683E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A74-07B0-40D5-92B6-E44A3E26AEA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E711-6E18-4436-9EC5-3F7E2D0B283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4DB-0EB9-4C09-9DA6-19E410B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495-98D6-4946-A3F8-5A9B712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3AF-6935-445E-91F4-D81EE640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89C-32C1-4004-877E-B16C8AB2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620E-A22C-4FCA-98DC-C6D62DE0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FF31-B6B6-4401-B03E-F283642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377-E50E-4EF6-BBAA-53E7D925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82B-0E27-4D3D-9D17-AF6EF401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EF97-8E4D-4CCC-9928-25C74ABE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893-6D2F-4F73-9B4B-4E14C643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B04F-D54B-4E47-99F3-7A497AB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18F-A3FE-408A-8A69-DECC115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D23-D31B-4A31-9255-EEC9BA0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6CE-01E1-4F02-A64F-66281E5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2F81-3BFF-4992-B934-95E2E47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5D99-E120-4705-AA48-5C22D74B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2E52-469C-4133-A0DE-B9A53A59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296C-FBF5-47AE-A110-AE0D062E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D3FD-C7F0-485E-BB6A-82FA546D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4E3E-4DCD-4470-B678-8E5F64F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48FE-589F-4B5A-A6FB-64CE33AB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29EE-B7F1-470F-8465-02C0830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DBF-98EF-4593-B19F-6939A700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D0E8-50BE-4ED1-A005-0EE0CBF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644E-D0B5-46E3-8EBA-2FE91D3A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A530-6B35-4C25-B894-48BF85B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00EB-780E-4F99-B6F0-8832314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BDAC-54D5-4A26-91E7-9A18D6A4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E240-5FA1-48BC-B1D5-EAF0963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60F7-887D-4529-B5CB-7676A1AB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0EB5-3E07-4668-AAE0-45122ECA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F817-C40A-4030-836A-E8766B74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CF9D-587B-4664-892E-4B7B2E2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407-11E1-4439-A15C-D144333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05611-D94B-4484-B5FD-D344C2A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5FE9-55BA-4FC4-8169-FB98001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F41A-F5AE-46EC-B208-4ED6952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50C7-0CCB-49E2-B61D-04CF245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A3A3-C864-4595-9E65-C7DA0DAD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81FC6-ACBC-49E1-BDE8-694616F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C21D5-8C92-4CF5-A09F-9F030E8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2ABA-D239-49F7-ADE8-E5D7133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352D-3143-483B-A5B9-8D258633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F07-9853-4158-93D9-C9D3E3F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662-6774-4EC4-BF7C-FF99543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E25-4957-4CE4-9494-1477138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D08-3BE0-4522-B873-3061D31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E58-9749-4027-9C96-4D17885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12ED-F92E-486E-97CE-D2A9015CFE8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3F1C-3E97-4450-9403-55F43AC9921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129-B546-47E3-BA51-535499B460E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EF0-7999-4747-AD38-18721E9D77D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als of the EEC Trea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liminate trade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a common tariff for im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reate a common policy for managing and supporting agri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Establishing European Community</a:t>
            </a:r>
            <a:br>
              <a:rPr sz="3200"/>
            </a:b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196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2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8" name="_s1030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35" name="_s1031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_s1032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E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_s1033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al and Steel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CS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_s1034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Atomic Energ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uratom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197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nmark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ted Kingd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Picture 4" descr="dansko"/>
          <p:cNvPicPr/>
          <p:nvPr/>
        </p:nvPicPr>
        <p:blipFill>
          <a:blip r:embed="rId1"/>
          <a:stretch/>
        </p:blipFill>
        <p:spPr>
          <a:xfrm>
            <a:off x="471636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irsko"/>
          <p:cNvPicPr/>
          <p:nvPr/>
        </p:nvPicPr>
        <p:blipFill>
          <a:blip r:embed="rId2"/>
          <a:stretch/>
        </p:blipFill>
        <p:spPr>
          <a:xfrm>
            <a:off x="4716360" y="342900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6" descr="spojene_kralovstvi"/>
          <p:cNvPicPr/>
          <p:nvPr/>
        </p:nvPicPr>
        <p:blipFill>
          <a:blip r:embed="rId3"/>
          <a:stretch/>
        </p:blipFill>
        <p:spPr>
          <a:xfrm>
            <a:off x="471636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eece   (1981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ain     (1986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rtugal (1986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4" descr="recko"/>
          <p:cNvPicPr/>
          <p:nvPr/>
        </p:nvPicPr>
        <p:blipFill>
          <a:blip r:embed="rId1"/>
          <a:stretch/>
        </p:blipFill>
        <p:spPr>
          <a:xfrm>
            <a:off x="4643280" y="292428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5" descr="spanelsko"/>
          <p:cNvPicPr/>
          <p:nvPr/>
        </p:nvPicPr>
        <p:blipFill>
          <a:blip r:embed="rId2"/>
          <a:stretch/>
        </p:blipFill>
        <p:spPr>
          <a:xfrm>
            <a:off x="464328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6" descr="portugalsko"/>
          <p:cNvPicPr/>
          <p:nvPr/>
        </p:nvPicPr>
        <p:blipFill>
          <a:blip r:embed="rId3"/>
          <a:stretch/>
        </p:blipFill>
        <p:spPr>
          <a:xfrm>
            <a:off x="4643280" y="3933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ngle European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19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1st January 1993 as the date of establishing a full internal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7" descr="Single act"/>
          <p:cNvPicPr/>
          <p:nvPr/>
        </p:nvPicPr>
        <p:blipFill>
          <a:blip r:embed="rId1"/>
          <a:stretch/>
        </p:blipFill>
        <p:spPr>
          <a:xfrm>
            <a:off x="5580000" y="3141720"/>
            <a:ext cx="2087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 - 199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55" name="_s205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58" name="_s2053"/>
            <p:cNvCxnSpPr>
              <a:stCxn id="259" idx="0"/>
              <a:endCxn id="257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60" name="_s2054"/>
            <p:cNvCxnSpPr>
              <a:stCxn id="261" idx="0"/>
              <a:endCxn id="257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57" name="_s2055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MAASTRICH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_s2056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AR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_s2057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IES O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ROM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SING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AC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th February 19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EC into EUROPEAN UNION       since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7" descr="eu vlajka"/>
          <p:cNvPicPr/>
          <p:nvPr/>
        </p:nvPicPr>
        <p:blipFill>
          <a:blip r:embed="rId1"/>
          <a:stretch/>
        </p:blipFill>
        <p:spPr>
          <a:xfrm>
            <a:off x="6300720" y="350028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ed rule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jus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EXISTENCE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6" descr="eu vlajka"/>
          <p:cNvPicPr/>
          <p:nvPr/>
        </p:nvPicPr>
        <p:blipFill>
          <a:blip r:embed="rId1"/>
          <a:stretch/>
        </p:blipFill>
        <p:spPr>
          <a:xfrm>
            <a:off x="5796000" y="4149720"/>
            <a:ext cx="1625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MBER COUNTRIES -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2362320"/>
          <a:ext cx="7693200" cy="39304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NETHERLA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UXEMBOUR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Dějiny Evropské Unie do roku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do roku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Coal and Steel Community, Euratom, European Union, foundation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ST YOUR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6 countries that founded ECS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ther common organ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did UK enter the European Communi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know about Maastricht Trea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12 member countries of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1. ESTABLISHING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XPLAINING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Reasons for European integration after the World War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y was destroy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 lost its leading r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cessity to avoid any other f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desire to create free and more prosperous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6 Winston Churchil at the Zurich Universit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dea of a European family living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Churchil"/>
          <p:cNvPicPr/>
          <p:nvPr/>
        </p:nvPicPr>
        <p:blipFill>
          <a:blip r:embed="rId1"/>
          <a:stretch/>
        </p:blipFill>
        <p:spPr>
          <a:xfrm>
            <a:off x="5688000" y="2565360"/>
            <a:ext cx="274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bert Sc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ay 9, 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chuman´s plan of creation of a common authority in coal and steel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10" descr="schuman"/>
          <p:cNvPicPr/>
          <p:nvPr/>
        </p:nvPicPr>
        <p:blipFill>
          <a:blip r:embed="rId1"/>
          <a:stretch/>
        </p:blipFill>
        <p:spPr>
          <a:xfrm>
            <a:off x="6054840" y="2441520"/>
            <a:ext cx="1181160" cy="1625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ECSC"/>
          <p:cNvPicPr/>
          <p:nvPr/>
        </p:nvPicPr>
        <p:blipFill>
          <a:blip r:embed="rId2"/>
          <a:stretch/>
        </p:blipFill>
        <p:spPr>
          <a:xfrm>
            <a:off x="6012000" y="4762440"/>
            <a:ext cx="1224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is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ril 19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European Coal and Steel Community (EC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2 – the Treaty entered into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 appointed President of the High Auth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SC levy - the first European tax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CSC – member count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GERMA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A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LGIU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ETHERLAND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UXEMBOUR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Picture 9" descr="francie"/>
          <p:cNvPicPr/>
          <p:nvPr/>
        </p:nvPicPr>
        <p:blipFill>
          <a:blip r:embed="rId1"/>
          <a:stretch/>
        </p:blipFill>
        <p:spPr>
          <a:xfrm>
            <a:off x="5076720" y="2421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10" descr="nemecko"/>
          <p:cNvPicPr/>
          <p:nvPr/>
        </p:nvPicPr>
        <p:blipFill>
          <a:blip r:embed="rId2"/>
          <a:stretch/>
        </p:blipFill>
        <p:spPr>
          <a:xfrm>
            <a:off x="507672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Picture 11" descr="italie"/>
          <p:cNvPicPr/>
          <p:nvPr/>
        </p:nvPicPr>
        <p:blipFill>
          <a:blip r:embed="rId3"/>
          <a:stretch/>
        </p:blipFill>
        <p:spPr>
          <a:xfrm>
            <a:off x="507672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2" descr="belgie"/>
          <p:cNvPicPr/>
          <p:nvPr/>
        </p:nvPicPr>
        <p:blipFill>
          <a:blip r:embed="rId4"/>
          <a:stretch/>
        </p:blipFill>
        <p:spPr>
          <a:xfrm>
            <a:off x="507672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13" descr="nizozemsko"/>
          <p:cNvPicPr/>
          <p:nvPr/>
        </p:nvPicPr>
        <p:blipFill>
          <a:blip r:embed="rId5"/>
          <a:stretch/>
        </p:blipFill>
        <p:spPr>
          <a:xfrm>
            <a:off x="5076720" y="443700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14" descr="lucembursko"/>
          <p:cNvPicPr/>
          <p:nvPr/>
        </p:nvPicPr>
        <p:blipFill>
          <a:blip r:embed="rId6"/>
          <a:stretch/>
        </p:blipFill>
        <p:spPr>
          <a:xfrm>
            <a:off x="5076720" y="4941720"/>
            <a:ext cx="5749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x member countries signed treaties establish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ic Community (EE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Atomic Energy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Eurat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33Z</dcterms:modified>
  <cp:revision>13</cp:revision>
  <dc:subject/>
  <dc:title>EUROPEAN UNION</dc:title>
</cp:coreProperties>
</file>