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A189-8064-4951-9EB3-FC8D4FA1ABD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3DA3-56EC-449A-AC8C-123DFADB891A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4C22-EA5E-42EF-B71D-A2A0AA83A6FC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B9D2-0550-46E9-A208-E6868B77651F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2789-D9B6-4B59-BF70-9C491E0A1318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BB45-5A55-43A6-AC45-0B8237F56D33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FAD3-F9AA-4DAD-8D7B-B9A62C8002A1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4256-5CEF-4ADB-96DA-3A24C2EAEAAA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392-1EE4-47FF-8D49-4A1E9A5B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35E6-3132-44A6-8730-EE7747ED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B9B6-0713-4D22-BDC4-F857866E3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44D8-6142-41FA-BCD1-E02F12F1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9935-689E-4C08-8ECF-7399ED5F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A56C-FD8E-4970-9ABA-602BBE9A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91D9-A774-4810-BE1A-B4E2A361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7894-B018-4A6E-8CB2-3AE44A8E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D71C-B0C3-4979-9DA0-CDF73912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03EF-417A-4A8B-81A6-D9421FC3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4FDF-320B-4FE8-9060-5CC6A925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197F-34B4-4B86-903B-B88E999F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78FA-0C7D-4B51-A746-3F23420B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8343-396E-4851-AFD3-24305EF0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1E20-02D3-4B62-A4D7-265860EA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0A42-B237-494E-B35D-60AE79D9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B46C-4E62-4C26-A591-C8931A3A7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3DCF2-5483-4BA0-9660-8F25977C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7D848-7EEB-4095-99E9-182E606B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09557-A8D1-449E-A08F-418B7A01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D68A8-4CFB-4287-824B-7950E3A1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7F4A0-9190-4D2D-A54E-6A3D1474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3C2A-BA1C-4442-B609-DC1F2BD4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5D4F1-8A85-49D4-8CB7-0BD04995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B78B3-FF02-4F59-9431-08339C21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CB846-EE4A-415D-9A63-22B07B71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55DCE-A7C9-48D7-B31F-972A439E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0F901-8A39-4DBF-886B-141A891D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1FA81-2BA9-4EE4-AC64-51F7FECF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4FA92-E6F8-4275-A91B-23E66CD4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3F56B-00D4-489C-A7A9-2262644C8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AF7B9-043F-4C65-90A6-CDE160CA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47D7D-33E8-45EC-9963-133578E0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6BF5-8F61-4736-BDDC-AA2C9398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DE899-6BF8-411F-848A-60D03E39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D4AAE-2821-4E4C-9C30-2A8886DC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C3867-6942-4AA0-86F2-FB63ADB4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F04E5-61F5-46B2-9805-B73D732E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A6901-BA9C-40B8-8CED-CA4F14D7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14DB8-E0A1-440B-9F38-27B91EE3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E32D1-F08D-4C27-B2B6-2DBC3B63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D9CC6-923C-4C23-85CB-F68F3CA5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E95E7-3481-4860-822D-F85E0D50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C1FB-5699-457B-BAF6-DADCBB67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918-3558-4A31-B07B-B86F2687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14F7-B533-4434-A465-3DCBD22F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F382-1D65-49DF-8B28-CCFB08F0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C919-03FF-4631-8987-BDEE8EEE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EDFE-CC63-430F-A6D4-D43B4B3C98C3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52FA-A953-465C-B740-94042ABC644E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CA83-B962-45B3-AEFB-1EF4C328B663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5F96-187B-4834-9C1B-3D4FE30F6F80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2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1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116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Y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rksh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rk minster (gothic cathedra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lifford´s To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Sham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0" name="Zástupný symbol pro obsah 2" descr=""/>
          <p:cNvPicPr/>
          <p:nvPr/>
        </p:nvPicPr>
        <p:blipFill>
          <a:blip r:embed="rId1"/>
          <a:stretch/>
        </p:blipFill>
        <p:spPr>
          <a:xfrm>
            <a:off x="4932360" y="2997360"/>
            <a:ext cx="3556080" cy="2663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CASTLE UPON TY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021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rth-east Eng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by the Roman emperor Hadri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adrian wa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3" name="Zástupný symbol pro obsah 3" descr=""/>
          <p:cNvPicPr/>
          <p:nvPr/>
        </p:nvPicPr>
        <p:blipFill>
          <a:blip r:embed="rId1"/>
          <a:stretch/>
        </p:blipFill>
        <p:spPr>
          <a:xfrm>
            <a:off x="4911840" y="2924280"/>
            <a:ext cx="3555720" cy="26654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  <p:pic>
        <p:nvPicPr>
          <p:cNvPr id="234" name="Picture 2" descr="http://upload.wikimedia.org/wikipedia/commons/thumb/b/b7/Hadrian%27s_wall_at_Greenhead_Lough.jpg/220px-Hadrian%27s_wall_at_Greenhead_Lough.jpg"/>
          <p:cNvPicPr/>
          <p:nvPr/>
        </p:nvPicPr>
        <p:blipFill>
          <a:blip r:embed="rId2"/>
          <a:stretch/>
        </p:blipFill>
        <p:spPr>
          <a:xfrm>
            <a:off x="2050920" y="4508640"/>
            <a:ext cx="2095560" cy="15714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RIGHT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outhern coast of Eng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righton Pi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vill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.Nicholas´ Chu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7" name="Zástupný symbol pro obsah 2" descr=""/>
          <p:cNvPicPr/>
          <p:nvPr/>
        </p:nvPicPr>
        <p:blipFill>
          <a:blip r:embed="rId1"/>
          <a:stretch/>
        </p:blipFill>
        <p:spPr>
          <a:xfrm>
            <a:off x="5364000" y="4292640"/>
            <a:ext cx="2552760" cy="1790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  <p:pic>
        <p:nvPicPr>
          <p:cNvPr id="238" name="Obrázek 4" descr=""/>
          <p:cNvPicPr/>
          <p:nvPr/>
        </p:nvPicPr>
        <p:blipFill>
          <a:blip r:embed="rId2"/>
          <a:stretch/>
        </p:blipFill>
        <p:spPr>
          <a:xfrm>
            <a:off x="5364000" y="2276640"/>
            <a:ext cx="2538720" cy="19015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TRATFORD UPON AV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arwicksh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ar Birmingha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hakespeare´s birthpl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oly Trinity Chu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yal Shakespeare theat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1" name="Zástupný symbol pro obsah 3" descr=""/>
          <p:cNvPicPr/>
          <p:nvPr/>
        </p:nvPicPr>
        <p:blipFill>
          <a:blip r:embed="rId1"/>
          <a:stretch/>
        </p:blipFill>
        <p:spPr>
          <a:xfrm>
            <a:off x="4911840" y="2924280"/>
            <a:ext cx="3555720" cy="26654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Angl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Yor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Bright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nglan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fakta o Anglii, nejdůležitější města a památky. Prezentace slouží jako podpůrný materiál při výkladu učiva o anglických reáliích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ngland, area, population, capital, sightseeing, c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684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ENG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A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130 395 km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PULATION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53 m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LOND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4" descr=""/>
          <p:cNvPicPr/>
          <p:nvPr/>
        </p:nvPicPr>
        <p:blipFill>
          <a:blip r:embed="rId1"/>
          <a:stretch/>
        </p:blipFill>
        <p:spPr>
          <a:xfrm>
            <a:off x="5940360" y="3500280"/>
            <a:ext cx="2095560" cy="1257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OND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Eng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uckingham Pal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stminster Abb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wer Brid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iver Tha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4" descr=""/>
          <p:cNvPicPr/>
          <p:nvPr/>
        </p:nvPicPr>
        <p:blipFill>
          <a:blip r:embed="rId1"/>
          <a:stretch/>
        </p:blipFill>
        <p:spPr>
          <a:xfrm>
            <a:off x="4761000" y="2968560"/>
            <a:ext cx="3998880" cy="2664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IRMINGH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st Midla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ver 1 million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ull 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elfridg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Zástupný symbol pro obsah 6" descr=""/>
          <p:cNvPicPr/>
          <p:nvPr/>
        </p:nvPicPr>
        <p:blipFill>
          <a:blip r:embed="rId1"/>
          <a:stretch/>
        </p:blipFill>
        <p:spPr>
          <a:xfrm>
            <a:off x="4761000" y="2968560"/>
            <a:ext cx="3998880" cy="2664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IVERPO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ity of Beat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bert Do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verpool cathedr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Zástupný symbol pro obsah 2" descr=""/>
          <p:cNvPicPr/>
          <p:nvPr/>
        </p:nvPicPr>
        <p:blipFill>
          <a:blip r:embed="rId1"/>
          <a:stretch/>
        </p:blipFill>
        <p:spPr>
          <a:xfrm>
            <a:off x="4859280" y="3716280"/>
            <a:ext cx="3043440" cy="22813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  <p:pic>
        <p:nvPicPr>
          <p:cNvPr id="219" name="Obrázek 3" descr=""/>
          <p:cNvPicPr/>
          <p:nvPr/>
        </p:nvPicPr>
        <p:blipFill>
          <a:blip r:embed="rId2"/>
          <a:stretch/>
        </p:blipFill>
        <p:spPr>
          <a:xfrm>
            <a:off x="6156360" y="2386080"/>
            <a:ext cx="1584360" cy="1576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http://upload.wikimedia.org/wikipedia/commons/thumb/9/91/Liverpool_Anglican_Cathedral_North_elevation.jpg/220px-Liverpool_Anglican_Cathedral_North_elevation.jpg"/>
          <p:cNvPicPr/>
          <p:nvPr/>
        </p:nvPicPr>
        <p:blipFill>
          <a:blip r:embed="rId3"/>
          <a:stretch/>
        </p:blipFill>
        <p:spPr>
          <a:xfrm>
            <a:off x="1619280" y="4149720"/>
            <a:ext cx="2949480" cy="20368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O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ite cliff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34 km from F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ent cou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3" name="Zástupný symbol pro obsah 2" descr=""/>
          <p:cNvPicPr/>
          <p:nvPr/>
        </p:nvPicPr>
        <p:blipFill>
          <a:blip r:embed="rId1"/>
          <a:stretch/>
        </p:blipFill>
        <p:spPr>
          <a:xfrm>
            <a:off x="4911840" y="2924280"/>
            <a:ext cx="3555720" cy="26654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NCHES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rth-west Eng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500,000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otba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6" name="Zástupný symbol pro obsah 3" descr=""/>
          <p:cNvPicPr/>
          <p:nvPr/>
        </p:nvPicPr>
        <p:blipFill>
          <a:blip r:embed="rId1"/>
          <a:stretch/>
        </p:blipFill>
        <p:spPr>
          <a:xfrm>
            <a:off x="4932360" y="2997360"/>
            <a:ext cx="3649680" cy="2663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  <p:pic>
        <p:nvPicPr>
          <p:cNvPr id="227" name="Picture 6" descr=" "/>
          <p:cNvPicPr/>
          <p:nvPr/>
        </p:nvPicPr>
        <p:blipFill>
          <a:blip r:embed="rId2"/>
          <a:stretch/>
        </p:blipFill>
        <p:spPr>
          <a:xfrm>
            <a:off x="2484360" y="4724280"/>
            <a:ext cx="119088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7-16T14:35:28Z</dcterms:modified>
  <cp:revision>20</cp:revision>
  <dc:subject/>
  <dc:title>EUROPEAN UNION</dc:title>
</cp:coreProperties>
</file>