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5BD-995D-4ECE-9EBA-E61752E5DF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C39F-7508-4C4C-8BD4-23C6137BA37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62F6-7FF7-42EC-8515-ECAD017090A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A5B-242F-4267-8595-9391A33F2F3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AC3-C43F-4B36-86EC-2BE8088B87F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5B92-24A3-4AC9-B684-B2DE8386B9C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F1E-DEA5-4251-850F-9669C38B5FB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4E8-6F80-47E1-A3BB-A771D2D7B07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EB4-B0F3-4EA5-AD58-9367597C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19F-D42F-4B21-BC67-D9B99A9E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40C-F52C-43A4-86C4-D00D6206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C82-A97B-435C-B403-3B6CB0AF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105-BA8D-40B5-AF1D-31D936A3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B6CB-D94D-4F27-A879-AD87E5D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806-3E05-415D-B693-C2507A3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4468-F3BD-4429-965A-490DB21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FE74-F1E8-43EA-A5F2-CD30C41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76E6-F44C-4587-99AF-28F6EE01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5223-D184-464D-A045-97B5694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112-AA53-4174-87B9-2AC83CC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94D9-5DC9-4A59-BBF2-834700E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EB5-83A5-435B-BE38-7F4D2A5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4FAC-CAA9-4A05-9AAB-1D1711F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B7E-FBB1-4559-9DF0-B55C2041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BEF-7B3D-48FD-9FF5-B6935529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60D3-8FAF-4CDF-B8B8-D5885F55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8820-DD57-45E8-8E23-F6DE6B4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DBB9-3279-419E-B3C7-4342118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CC69-2A57-48E0-9EC0-C4B3449A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C406-7682-4443-A31C-9AF4F83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D34-B58F-48A7-9BB0-24AC9E1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F702-A160-48CE-826A-1961761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A5D3-314E-48BB-8805-B864452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F28F-38C3-414D-AB40-4993719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1B4D-18D1-46D2-9416-29711C4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4913-B767-41C3-AE21-4C6540E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AF10-927D-4DDD-B007-33FA3447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8739-3B33-4EBE-9917-AB49989E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12C0-526C-4E7F-9732-5395A10A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C135-4941-4D75-B102-702C6E1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0FAC-5C10-49CE-947D-A8AC6DE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108-01E0-4389-895F-E69BDE8A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DBF4-4B54-4EAA-BA1C-23556A8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C6D1-F4EA-45D1-B7E7-581720D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D894-198F-460F-BE68-89D01028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08C8-F320-4701-9714-BAD11FB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4337-EC60-4CA9-9E5F-A149A77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4D6F-A596-40DA-9729-FA2620D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04EF-A500-4A48-BE62-C4F58815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DCE6-69CD-46AC-BA84-919E85A4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74F7-EF73-43A0-A4A7-69518B85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8F5-8F8A-40BF-A2F9-4707872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C71-1670-4AAF-BE8C-CB3CCB9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681-5322-4763-97C0-B68B109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34-76BE-4CA6-A6D8-4BD7A2C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C4E-F3B3-434A-9462-A8DA920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B8AD-C5FC-48F0-B034-E371A29240E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A6E-7928-4D7A-A97A-837B77921B2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292-2D4F-4B2C-AE4A-0CA0327E121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5FC-BA0D-4955-93A5-79D8FDD7E45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4792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NES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ISSIP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BR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HAMP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JERS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ERM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YO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–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ity in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 mil. inhabitants 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centre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S ANG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8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4476600" y="2781360"/>
            <a:ext cx="389592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IC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is Tower (formerly Sears Tow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FRANCIS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en Gate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catr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mo Sq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4902120" y="2997360"/>
            <a:ext cx="3478320" cy="244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DIE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in 15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USA-Mexico border (Tijua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lboa P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116160" cy="233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e U.S.A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USA, nejzajímavější místa a města země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geography, population, cities, sightsee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S VEG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e of gam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ight life, high crimin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tr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5121360" y="2637000"/>
            <a:ext cx="304308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ssachuset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5th biggest c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unded in 163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ston Tea Party (17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HILADELPH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90-1800 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ce H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berty b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TTS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ed to be known as the „steel capital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William Pi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363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am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iday res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137040"/>
            <a:ext cx="3409920" cy="2163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yndon B.Johnson Spa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3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46392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LL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4791240" y="2852640"/>
            <a:ext cx="3311280" cy="2448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ORL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raddle of jaz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2005 hit by hurric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N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ile high city (approx. 1600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Rocky Mount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Queen city of pl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063600" cy="229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LT LAKE 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Europeans there lived Shoshone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mon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2 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263760"/>
            <a:ext cx="3384720" cy="1895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THE UNITED STATES OF AME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LOU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63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the French king Louis 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teway 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338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CHOR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sk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tled 5,000 years ago by Eskim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964 enormous earthqu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2" descr=""/>
          <p:cNvPicPr/>
          <p:nvPr/>
        </p:nvPicPr>
        <p:blipFill>
          <a:blip r:embed="rId1"/>
          <a:stretch/>
        </p:blipFill>
        <p:spPr>
          <a:xfrm>
            <a:off x="4816440" y="3213000"/>
            <a:ext cx="377676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NOLU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ahu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4910040" y="3068640"/>
            <a:ext cx="346248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3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ELLOWST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5" name="Zástupný symbol pro obsah 2" descr=""/>
          <p:cNvPicPr/>
          <p:nvPr/>
        </p:nvPicPr>
        <p:blipFill>
          <a:blip r:embed="rId1"/>
          <a:stretch/>
        </p:blipFill>
        <p:spPr>
          <a:xfrm>
            <a:off x="2257560" y="2565360"/>
            <a:ext cx="4906800" cy="3354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VERGL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1835280" y="2533680"/>
            <a:ext cx="42894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98" name="Obrázek 4" descr=""/>
          <p:cNvPicPr/>
          <p:nvPr/>
        </p:nvPicPr>
        <p:blipFill>
          <a:blip r:embed="rId2"/>
          <a:stretch/>
        </p:blipFill>
        <p:spPr>
          <a:xfrm>
            <a:off x="5796000" y="4581360"/>
            <a:ext cx="265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SEM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Zástupný symbol pro obsah 3" descr=""/>
          <p:cNvPicPr/>
          <p:nvPr/>
        </p:nvPicPr>
        <p:blipFill>
          <a:blip r:embed="rId1"/>
          <a:stretch/>
        </p:blipFill>
        <p:spPr>
          <a:xfrm>
            <a:off x="2398680" y="2708280"/>
            <a:ext cx="4452840" cy="2952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ND CANY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Zástupný symbol pro obsah 3" descr=""/>
          <p:cNvPicPr/>
          <p:nvPr/>
        </p:nvPicPr>
        <p:blipFill>
          <a:blip r:embed="rId1"/>
          <a:stretch/>
        </p:blipFill>
        <p:spPr>
          <a:xfrm>
            <a:off x="1743120" y="2781360"/>
            <a:ext cx="58705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RUSHM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4" name="Zástupný symbol pro obsah 2" descr=""/>
          <p:cNvPicPr/>
          <p:nvPr/>
        </p:nvPicPr>
        <p:blipFill>
          <a:blip r:embed="rId1"/>
          <a:stretch/>
        </p:blipFill>
        <p:spPr>
          <a:xfrm>
            <a:off x="2505240" y="2708280"/>
            <a:ext cx="4349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258920" y="1557360"/>
            <a:ext cx="7700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_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s_Ange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hica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Francis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Diego_(Kaliforn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l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en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74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631 214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0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3590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3" descr=""/>
          <p:cNvPicPr/>
          <p:nvPr/>
        </p:nvPicPr>
        <p:blipFill>
          <a:blip r:embed="rId1"/>
          <a:stretch/>
        </p:blipFill>
        <p:spPr>
          <a:xfrm>
            <a:off x="2360520" y="2781360"/>
            <a:ext cx="4659480" cy="28940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Zástupný symbol pro obsah 2" descr=""/>
          <p:cNvPicPr/>
          <p:nvPr/>
        </p:nvPicPr>
        <p:blipFill>
          <a:blip r:embed="rId1"/>
          <a:stretch/>
        </p:blipFill>
        <p:spPr>
          <a:xfrm>
            <a:off x="2556000" y="2697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B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IZ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ELA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DA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D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SSACHUSE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05Z</dcterms:modified>
  <cp:revision>42</cp:revision>
  <dc:subject/>
  <dc:title>EUROPEAN UNION</dc:title>
</cp:coreProperties>
</file>