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E12B-74BC-4AEB-B051-FBD469BB54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DCD1-153C-4170-9D91-4E0CF2F333B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1083-1A72-4294-A679-5BAB67E4B40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AE75-4676-4769-9518-81B7F4A4E54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F0DB-550D-49C7-AD8C-4584C257E95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6943-F440-49D8-B8F7-E28402D96A3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BF28-0DA3-4B08-A365-0C5FDF5DE9F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A728-DFB3-4AFF-9BF1-F3E334AD464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C203-8BB7-41C9-9D46-9C2FD7E069D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7B9-8849-4499-824C-A3B8F5F5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622-C660-4D81-8E8B-0D5AB1CF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033-3D1B-49F0-81ED-94444D2B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745-25D9-4F5B-9D2E-F948C01C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CBFD-39B2-471F-988D-DFAB236D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27C1-8146-465C-B27D-1F16FBAA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1E03-DB58-4472-88EC-3D82684D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E2FD-12F2-493B-B413-8296DAF2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EDCE-529D-4E60-890B-D9A3BFCB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C8F7-0253-4C71-BE18-3F4A27CD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176B-9B9A-408C-A487-A566A34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823-2995-449B-968F-B3656F4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1173-D2F7-48ED-AA6A-AC590C23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C1BB-507B-4070-A44F-538F938D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9B8B-B9D0-4A72-9977-4CDD0BFF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0FD3-9855-4C18-8E52-33610902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6310-5DEB-4BC5-B9B0-0952552F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6C7E-6AFA-4770-8D9D-1A0A82FE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42B2-1754-4E49-8158-E9B728FD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4C25-A911-47D0-B755-3780D30A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7D94-A054-4EA7-8155-A2CC3108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5635-2EFB-49E0-8229-1E427E86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61D-A701-4DCD-BE3F-5B1D6E6B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4C2F-0816-47E6-BD46-7F80A57F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0C2F-05A7-4FE5-9AF7-374ECE8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6D2E-A4BF-4D86-8224-54676A37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626A-B089-43FC-A4F3-0EF3B2D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7938-F9B4-48BB-8DC5-FAFC61C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F42B-2F5E-48B5-A0FD-78B7B673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A58F-8981-481F-A6BE-66418AA5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BB53-4F36-4CC0-AB03-204CD019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1D9B-3BAF-45C8-97FA-6F569B8D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F2DE4-8D7C-446C-915D-110A6D68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EDC-4A3B-44DE-87A6-85AE1E23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5DBF-4341-429D-8305-ECCD3368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4E06-D2A2-4870-A0BF-940D6080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D92F-38C2-4A01-B683-1518BAEA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61A1-7B91-4B00-BA9C-0890B9B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567D-E565-4727-9275-D3FBEBAB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B47F-1EA9-468A-8DF8-56414F89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E109D-272E-4CA8-889A-AFD4A39A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8A83-246C-45F5-8BA9-51EA47A6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EC76-540B-4F74-AA5F-EA340960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DE6-E1CD-42B5-A2EA-7A8A7359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DBD-39AA-464E-B7E7-9E89D353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949-DC42-492B-AA1B-3B4F550A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D60-4D19-4D87-9B6A-786BFFD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89A-9361-4756-BFA5-7EB4D5D9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1916-1157-4569-9E5A-AEDA94F7A13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5666-035D-4675-BDC2-FC317E8B770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BA79-BEB6-4E6C-9126-8A3B7E1E136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4F40-F04F-4C2F-BD4E-8B053921B73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4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pass European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ordinate economic policies in member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nclude international agreements between the EU and other countries and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approve the EU´s budget together with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develop common foreign affairs and securit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ordinate cooperation between the national courts and police forc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nfigurations in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neral affairs and external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onomic and financial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ustice and home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mployment, social policy, health and consumer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petit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nfigurations in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ansport, telecommunications and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riculture and fishe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ucation, youth and 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COM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pendent on national government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presents the interests of EU as a wh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ecutive EU´s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plements the decision of Parliament and the Counc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COM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dquarters in 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ices in 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ppointed for 5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sé Manuel Barroso –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Štefan Fül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Czech commissio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13" descr="fule"/>
          <p:cNvPicPr/>
          <p:nvPr/>
        </p:nvPicPr>
        <p:blipFill>
          <a:blip r:embed="rId1"/>
          <a:stretch/>
        </p:blipFill>
        <p:spPr>
          <a:xfrm>
            <a:off x="5076720" y="2781360"/>
            <a:ext cx="34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 of the Commiss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propose legislation to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nage and implement EU policies and the budg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enforce European la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present the EU on the international s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JUS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judge for each member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7 judges and 8 general attorn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sure that EU legislation is interpreted and applied in the same way in all EU member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JUS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ssilios Skouris – the chairm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ří Malenovský – the Czech ju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 up in 1975, has its seat in 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heck that EU funds are properly collected and spent legally, economically and for the intended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800 staff including translators and administrators and aud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rganizace Evropské Uni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jak funguje Evropská Unie, jaké má organizace a jaká je jejich role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Union, organisation, Parliament, council, committee, law, budg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uditors are divided into audit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pare draft reports, the Court takes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uditors go on tours of inspections to the other EU institutions, the member states and any country receiving EU ai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itor Manuel da Silva Caldeira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n Kinšt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Czech audi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CHANGES AFTER LISBON TREA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isbon Treaty established two new important position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Minister of Foreign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SIDENT OF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187280" y="37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Herman van Rompu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Picture 9" descr="rompuy 2"/>
          <p:cNvPicPr/>
          <p:nvPr/>
        </p:nvPicPr>
        <p:blipFill>
          <a:blip r:embed="rId1"/>
          <a:stretch/>
        </p:blipFill>
        <p:spPr>
          <a:xfrm>
            <a:off x="5508720" y="2708280"/>
            <a:ext cx="2736720" cy="2373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INISTER OF FOREIGN AFFAI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187280" y="37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atherine ASH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5" name="Picture 6" descr="ashton"/>
          <p:cNvPicPr/>
          <p:nvPr/>
        </p:nvPicPr>
        <p:blipFill>
          <a:blip r:embed="rId1"/>
          <a:stretch/>
        </p:blipFill>
        <p:spPr>
          <a:xfrm>
            <a:off x="5508720" y="3095640"/>
            <a:ext cx="2808360" cy="2133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4. ORGANISING THE </a:t>
            </a:r>
            <a:br>
              <a:rPr sz="3600"/>
            </a:b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RGANISING T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EUROPEAN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ganising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9" name="Organization Chart 7"/>
          <p:cNvGrpSpPr/>
          <p:nvPr/>
        </p:nvGrpSpPr>
        <p:grpSpPr>
          <a:xfrm>
            <a:off x="833400" y="2637000"/>
            <a:ext cx="7632360" cy="3376800"/>
            <a:chOff x="833400" y="2637000"/>
            <a:chExt cx="7632360" cy="3376800"/>
          </a:xfrm>
        </p:grpSpPr>
        <p:cxnSp>
          <p:nvCxnSpPr>
            <p:cNvPr id="210" name="_s1028"/>
            <p:cNvCxnSpPr>
              <a:stCxn id="211" idx="0"/>
              <a:endCxn id="212" idx="2"/>
            </p:cNvCxnSpPr>
            <p:nvPr/>
          </p:nvCxnSpPr>
          <p:spPr>
            <a:xfrm flipH="1" flipV="1" rot="5400000">
              <a:off x="3525480" y="3539160"/>
              <a:ext cx="676080" cy="15721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3" name="_s1029"/>
            <p:cNvCxnSpPr>
              <a:stCxn id="214" idx="0"/>
              <a:endCxn id="212" idx="2"/>
            </p:cNvCxnSpPr>
            <p:nvPr/>
          </p:nvCxnSpPr>
          <p:spPr>
            <a:xfrm flipV="1">
              <a:off x="4649760" y="3987360"/>
              <a:ext cx="2160" cy="67608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5" name="_s1030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5883120" y="2753280"/>
              <a:ext cx="676080" cy="31435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7" name="_s1031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5097240" y="3539160"/>
              <a:ext cx="676080" cy="15721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9" name="_s1032"/>
            <p:cNvCxnSpPr>
              <a:stCxn id="220" idx="0"/>
              <a:endCxn id="212" idx="2"/>
            </p:cNvCxnSpPr>
            <p:nvPr/>
          </p:nvCxnSpPr>
          <p:spPr>
            <a:xfrm flipH="1" flipV="1" rot="5400000">
              <a:off x="2739960" y="2753640"/>
              <a:ext cx="676080" cy="31435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12" name="_s1033"/>
            <p:cNvSpPr/>
            <p:nvPr/>
          </p:nvSpPr>
          <p:spPr>
            <a:xfrm>
              <a:off x="3976200" y="263700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TITU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_s1034"/>
            <p:cNvSpPr/>
            <p:nvPr/>
          </p:nvSpPr>
          <p:spPr>
            <a:xfrm>
              <a:off x="8334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RLIAME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_s1035"/>
            <p:cNvSpPr/>
            <p:nvPr/>
          </p:nvSpPr>
          <p:spPr>
            <a:xfrm>
              <a:off x="55476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HE COURT OF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>
              <a:off x="71190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THE COURT OF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AUDITORS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_s1037"/>
            <p:cNvSpPr/>
            <p:nvPr/>
          </p:nvSpPr>
          <p:spPr>
            <a:xfrm>
              <a:off x="39762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THE EUROPEAN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COMMISSION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_s1038"/>
            <p:cNvSpPr/>
            <p:nvPr/>
          </p:nvSpPr>
          <p:spPr>
            <a:xfrm>
              <a:off x="24048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HE COUNCIL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F EU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ce 1979 the members are elected directly for five-year te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54 members from 27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2 Czech memb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umbers was slightly changed according to the Lisbon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t national but political bl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uxembourg (administrative offices - the General Secretaria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russels and Strasbourg (meeting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Jerzy Buzek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– the Presid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ssing European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mocratic supervision over the EU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al power (shares together with the Council the authority over the budg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NCIL OF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ain decision-making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presents member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etings are attended by one minister from each EU nation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NCIL OF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rmanent national teams in 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 has 12 votes out of 34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ower of veto / qualified maj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residency rotates every 6 mon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orbjørn Jagla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(Secretary-General of the Counc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59Z</dcterms:modified>
  <cp:revision>20</cp:revision>
  <dc:subject/>
  <dc:title>EUROPEAN UNION</dc:title>
</cp:coreProperties>
</file>