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F9ED-2AD7-4E97-90DF-DECCB1BD713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E2D8-3064-4313-93DD-6C2799491155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73EC-2CF1-4AF4-AD95-A366E49D9126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6F7A-0240-4221-9817-58B8A213E485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50AD-BD6E-47AC-8BDA-CA78747820D0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7D05-BC64-4AA1-8034-72A31E5258E1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E4E4-4434-4330-9AE6-7A25F9194F9B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EFC8-9510-4C92-91BA-C7D2679BDACA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58DD-C05B-461B-8601-4B1327129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14FC-9A63-4F38-98BF-589591CD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3646-C3E2-417B-A499-2BD6F4448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8BDB-2202-4563-80C2-DE86D0F04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A628-DB36-4122-9EF1-2FD5F6412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7C0F-7E59-4918-80D4-08599763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B398-F47C-4AF8-87BA-BAC298E3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7D3B-24AB-44C5-9870-D323DE4B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228E-D981-4056-B46D-F234E1B0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0D18-78F7-4686-A1CA-43D1B942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05F6-0B2B-49DA-BCA0-D8EF078D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F466-A297-466E-91DF-4DE6976B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406C-C6DE-45D9-931E-6D4DA305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FB16-0707-4C68-AFDC-FE731BCD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921C-484D-4770-98D1-F511EDF1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8E74-A74B-41C4-A022-0FECEC190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CCF1-E187-4CAE-BE34-FA2A73034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2E2E8-904B-4EA6-BCB9-7D07A74EF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38883-C57E-4304-8F31-7D1B6B2B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35EE8-EFE0-47A3-919F-50241374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B5CEA-F111-41E1-925A-D3CBD655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A7BEB-F908-4541-B28D-FA9CF2AE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D9FF-BAC5-417D-91C2-02C72810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22460-AB2E-4160-8AFD-EE1C40B0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9C95E-0C62-4B54-88CB-887FEF6A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66CF0-FDDE-4746-B5B2-6C72FBF8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0FE36-446F-4D32-8E5A-079554DC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E5E35-B4E2-4600-8B02-81BD04C0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FC0F4-A900-4EAE-8CA3-7533FEFE3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3EE00-CB91-4FAD-BD7D-39DA8454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13E23-97B1-4D37-BD5F-A35AD208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C5EAC-FBA0-4C15-9849-03D4335A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2EC4E-2A5F-4F94-9011-4F39D384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AD96-6DD5-433B-83BD-63368824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05C30-73E2-4E31-8544-3D8877DE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9BF65-7AAF-40CC-8B6E-29333391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21264-9085-4458-AA12-2F870FA4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70557-179C-4360-92A0-5AC91F5F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73A7E-DE60-4AE2-95B2-AC6A2137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E2C4F-0462-41F2-AD23-E617050A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73181-2EA2-4F6E-9C97-35E3905C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819D4-96BF-4ECC-B922-F14A3C167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F0E9B-D722-4642-BC59-1D81D24DE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6DE9-BBA6-48E8-ABC5-F4EC7321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C8EE-B9A6-4B3E-9D70-0D3A76BC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5E64-C054-429F-BD09-3F99D29F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C452-0AB1-4D95-B952-9257B370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88AA-E6F8-4984-95DA-8BD59B94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CF81-6824-4CCA-B014-E206029DD1E7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94DF-6981-40D2-B7F8-80A40F750EA1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6006-F7D0-4191-8215-BEF450A6E59E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D5CE-C64C-4C71-8292-73092F641615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3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3 / 20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ROTORU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4" name="Zástupný symbol pro obsah 2" descr=""/>
          <p:cNvPicPr/>
          <p:nvPr/>
        </p:nvPicPr>
        <p:blipFill>
          <a:blip r:embed="rId1"/>
          <a:stretch/>
        </p:blipFill>
        <p:spPr>
          <a:xfrm>
            <a:off x="1805040" y="3068640"/>
            <a:ext cx="5923080" cy="2376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LAKE TAUP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6" name="Zástupný symbol pro obsah 3" descr=""/>
          <p:cNvPicPr/>
          <p:nvPr/>
        </p:nvPicPr>
        <p:blipFill>
          <a:blip r:embed="rId1"/>
          <a:stretch/>
        </p:blipFill>
        <p:spPr>
          <a:xfrm>
            <a:off x="2627280" y="2682720"/>
            <a:ext cx="4608720" cy="34531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RUAPEHU VOLCAN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8" name="Zástupný symbol pro obsah 3" descr=""/>
          <p:cNvPicPr/>
          <p:nvPr/>
        </p:nvPicPr>
        <p:blipFill>
          <a:blip r:embed="rId1"/>
          <a:stretch/>
        </p:blipFill>
        <p:spPr>
          <a:xfrm>
            <a:off x="2484360" y="2765520"/>
            <a:ext cx="4608720" cy="30556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OUNT COO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0" name="Zástupný symbol pro obsah 3" descr=""/>
          <p:cNvPicPr/>
          <p:nvPr/>
        </p:nvPicPr>
        <p:blipFill>
          <a:blip r:embed="rId1"/>
          <a:stretch/>
        </p:blipFill>
        <p:spPr>
          <a:xfrm>
            <a:off x="2616120" y="2852640"/>
            <a:ext cx="4403880" cy="29196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ONGARIRO NATIONAL PAR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2" name="Zástupný symbol pro obsah 2" descr=""/>
          <p:cNvPicPr/>
          <p:nvPr/>
        </p:nvPicPr>
        <p:blipFill>
          <a:blip r:embed="rId1"/>
          <a:stretch/>
        </p:blipFill>
        <p:spPr>
          <a:xfrm>
            <a:off x="2182680" y="2997360"/>
            <a:ext cx="526896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UNIQUE ANIMALS - KIW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4" name="Zástupný symbol pro obsah 3" descr=""/>
          <p:cNvPicPr/>
          <p:nvPr/>
        </p:nvPicPr>
        <p:blipFill>
          <a:blip r:embed="rId1"/>
          <a:stretch/>
        </p:blipFill>
        <p:spPr>
          <a:xfrm>
            <a:off x="2516040" y="2781360"/>
            <a:ext cx="4143600" cy="27576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ORI CUL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6" name="Zástupný symbol pro obsah 2" descr=""/>
          <p:cNvPicPr/>
          <p:nvPr/>
        </p:nvPicPr>
        <p:blipFill>
          <a:blip r:embed="rId1"/>
          <a:stretch/>
        </p:blipFill>
        <p:spPr>
          <a:xfrm>
            <a:off x="2408400" y="2708280"/>
            <a:ext cx="4755960" cy="31654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ORI CUL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8" name="Zástupný symbol pro obsah 3" descr=""/>
          <p:cNvPicPr/>
          <p:nvPr/>
        </p:nvPicPr>
        <p:blipFill>
          <a:blip r:embed="rId1"/>
          <a:stretch/>
        </p:blipFill>
        <p:spPr>
          <a:xfrm>
            <a:off x="2368440" y="2781360"/>
            <a:ext cx="4737240" cy="29512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  <a:ea typeface="Arial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Nový_Zéla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Wellingt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Auckla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694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onverzace z anglického jazy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ew Zealan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informace o Novém Zélandu, nejzajímavější místa a města země. Prezentace slouží jako podpůrný materiál při výkladu učiva o reáliích anglicky mluvících zemí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ew Zealand, geography, population, cities, culture, Maor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Arial"/>
              </a:rPr>
              <a:t>NEW ZEAL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SIGHTSEE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462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A: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268,680 km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PULATION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 4,5 mi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WELLINGT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MAORI NAME: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AOTEARO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Zástupný symbol pro obsah 2" descr=""/>
          <p:cNvPicPr/>
          <p:nvPr/>
        </p:nvPicPr>
        <p:blipFill>
          <a:blip r:embed="rId1"/>
          <a:stretch/>
        </p:blipFill>
        <p:spPr>
          <a:xfrm>
            <a:off x="5867280" y="2852640"/>
            <a:ext cx="2756160" cy="13780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462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PACIFIC OCE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ORTH IS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OUTH IS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Zástupný symbol pro obsah 2" descr=""/>
          <p:cNvPicPr/>
          <p:nvPr/>
        </p:nvPicPr>
        <p:blipFill>
          <a:blip r:embed="rId1"/>
          <a:stretch/>
        </p:blipFill>
        <p:spPr>
          <a:xfrm>
            <a:off x="5867280" y="3284640"/>
            <a:ext cx="2756160" cy="13777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P OF NEW ZEAL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4" name="Zástupný symbol pro obsah 3" descr=""/>
          <p:cNvPicPr/>
          <p:nvPr/>
        </p:nvPicPr>
        <p:blipFill>
          <a:blip r:embed="rId1"/>
          <a:stretch/>
        </p:blipFill>
        <p:spPr>
          <a:xfrm>
            <a:off x="3203640" y="2492280"/>
            <a:ext cx="2952720" cy="37213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ELLINGT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New Zea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ori name: Te Whanganui-á-Ta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tuated on the North Is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7" name="Zástupný symbol pro obsah 2" descr=""/>
          <p:cNvPicPr/>
          <p:nvPr/>
        </p:nvPicPr>
        <p:blipFill>
          <a:blip r:embed="rId1"/>
          <a:stretch/>
        </p:blipFill>
        <p:spPr>
          <a:xfrm>
            <a:off x="4815000" y="2852640"/>
            <a:ext cx="3460680" cy="2592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UCKL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biggest town in New Zea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tuated on the North Is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ounded in 1840 by the Britis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0" name="Zástupný symbol pro obsah 3" descr=""/>
          <p:cNvPicPr/>
          <p:nvPr/>
        </p:nvPicPr>
        <p:blipFill>
          <a:blip r:embed="rId1"/>
          <a:stretch/>
        </p:blipFill>
        <p:spPr>
          <a:xfrm>
            <a:off x="4519440" y="3141720"/>
            <a:ext cx="3957840" cy="2016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HRISTCHUR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2" name="Zástupný symbol pro obsah 3" descr=""/>
          <p:cNvPicPr/>
          <p:nvPr/>
        </p:nvPicPr>
        <p:blipFill>
          <a:blip r:embed="rId1"/>
          <a:stretch/>
        </p:blipFill>
        <p:spPr>
          <a:xfrm>
            <a:off x="1332000" y="3068640"/>
            <a:ext cx="6624720" cy="21528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7:32Z</dcterms:modified>
  <cp:revision>34</cp:revision>
  <dc:subject/>
  <dc:title>EUROPEAN UNION</dc:title>
</cp:coreProperties>
</file>