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FA3D-586B-4966-BE0D-38CA97FE71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4254-ADF7-4D24-9F6F-7B90B18589D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8011-1966-4CC7-9BE1-4BA8A230909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436-E814-4DFD-84DE-1009F65BB68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FCE4-3863-4619-94F1-C7A8971D0DC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1E5-17D5-4757-90B4-1AE0A3DA0B8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8843-D72B-4D1C-A5A7-6EC519F0074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AF10-2909-49F8-A558-C0B3E9FA749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894-3C37-4598-8065-5A0C9E95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087-BD29-4D40-AF7A-9E7C2509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88C-966B-44D1-A2B1-58A77FFD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431-3998-4847-91D6-187B7211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E47D-50AA-4DF9-938F-150D4CC1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0D33-8F66-475C-857E-FAEE7AB7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746-B2F0-418B-ADA0-0259E46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E8C5-0241-4D55-9D6F-63794530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C5C2-50F5-42B2-8102-8B717261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61FA-451F-4775-BB8A-E39BA50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849C-42B0-4CB7-AF69-B45E862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2A3-910B-48FF-B134-1EB52F95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B62-87AB-4820-ABEF-4D8DB3E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12F6-5A00-48EE-B1FF-34FB6EB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B97E-CB77-4079-AB2F-7E52BC94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D55-E5C2-4F1D-86D1-B5131151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11D-E3C5-4F7D-A51F-0753675B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A10E-B478-4F70-8220-4B269448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271B-ABE1-419B-8B1A-99D4FAAB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0A0F-9736-46E9-A94A-2ADE75B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1D10-7A6E-470B-A150-F79BF41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8F54-D9E8-4600-86AB-25D092A9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C88-90F8-4E8E-92BC-93477DA4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F6C5-2168-4077-A37F-49F48ED7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11E0-DEA4-4C2D-8056-A81DDBA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EFAB-5F01-42EF-AEE3-32D4F54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5524-E33A-404F-B31D-60D837E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E678-89CE-411C-A926-EE918355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F5F0-79CC-4AC7-9C09-66D15B74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55A6-3C56-4C7C-8194-8F37DE21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148B-8140-4777-89F6-3CA927DC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8E40-1557-45D5-87B3-4DFB92C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E5F9-91E1-492B-AC5B-598E84EB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D4A-39FD-4D40-B600-27A7E8EC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6B07-D22E-4F92-A6EA-D6C9421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A72D-3FED-4B42-86B6-3B3B641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6EB8-6A34-4062-AD8B-DADE93B7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0ADB-B675-4302-9D3D-6FBB2A1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9342-C32B-4EDC-92C9-10E8EF69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2232-5E6F-4407-A9E4-93BDB279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63DE-022F-4058-A736-46F8CE7B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ADEC-0441-4D51-ACF1-00796521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51187-903B-4DB9-925D-60C929BB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229-78BD-4EA0-8633-F9DC0E6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94B-9AFF-400A-84A2-AE9034A7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4E6-2F33-4BC8-A306-9075019C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C35-1B92-4D51-81DE-68F5FE7B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B18-7FAE-467E-9691-1A268696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0928-1C62-4B56-9437-6854FA15C7A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C2B9-276A-4556-8F62-A226E8CA1B1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F4AF-B22F-4291-990D-E683CF3A434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710-3352-41CA-81B6-1DCE9C20833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9080" y="61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RO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banks of Ontario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N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2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787920" cy="2520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NTRE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O 196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QUEB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85 on the UNESCO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4716360" y="2940120"/>
            <a:ext cx="3764160" cy="2504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ANCOU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raser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4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3656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LG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a-ghearraidh (the town on a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365280" cy="2521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MON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ICTO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apital of British Columb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tuated on the Vancouver Is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town of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338472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NNIPE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fortress in 1738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orks (the Red and Assiniboine riv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987640"/>
            <a:ext cx="3584520" cy="2386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JASPER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504360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Kanadě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, geography, population, cit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EAR LAK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195640" y="2568600"/>
            <a:ext cx="5297400" cy="3524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UKON TERRI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5226120" cy="3476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NADIAN ANIMALS - GRIZZ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736720"/>
            <a:ext cx="5018400" cy="3284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258920" y="1557360"/>
            <a:ext cx="77007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Kan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Otta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oro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ontr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Quebe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ancou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lg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Edmon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ictoria_(Britská_Kolumb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innipe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984 67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3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TT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75580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FOUNDLAND AND LABRA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WEST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YUK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2878200" y="2550960"/>
            <a:ext cx="3638520" cy="318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TA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4th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286080" cy="2460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19Z</dcterms:modified>
  <cp:revision>31</cp:revision>
  <dc:subject/>
  <dc:title>EUROPEAN UNION</dc:title>
</cp:coreProperties>
</file>