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06BE0-30FF-4C9F-92CB-E663D1F0D0C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B3885-B417-4539-A09F-C46BFC12C610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D9303-B24F-449D-ABAD-64E7902CBA5C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EAD31-281C-4F01-9349-7370F780C343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4949A-B67B-4119-B524-E178F41CECDD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3CDA9-7D37-4CA7-B284-6151A33C37EA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247E2-F6B1-44A4-8FAC-BC1E1CAF2706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5D0A7-0F4F-4FA2-A47E-42654222190F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1562-31B4-4704-8999-BD32945CA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4FD4-A3B2-4031-8968-CA3211FFB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4085-9FC4-40AB-84D4-CB44FB2C1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94B6-4ABC-4CF3-8587-750C50FFF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D4B1B-832E-4D94-ACE7-15D81069B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87F90-B523-4531-8846-96A83B4D4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A8EEC-3B8A-4E91-9749-BFE92C8B1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A0084-A25D-42A6-BFA3-78A1625A8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472EC-A4F6-4E5C-A620-A53AB1845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98E31-E0F6-4419-916D-41F1EF4A5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6CB11-281E-4A6B-A111-F2481EAE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22CA-273C-458A-A466-FC9332025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C063C-6B32-4B80-8A9D-EC8E5B87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25772-56E0-40C9-BBBE-47AFE00E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B8F32-36E9-4209-9E2E-0D786ED73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B93E3-5431-4337-A560-AE87524C4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8E6DA-6894-4DFF-9EA7-305A6503F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36B82-B795-449D-A3F7-B826B9E30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BF84C-DB23-4B71-ACCE-150044557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BC7D4-F9CA-4166-91F0-23685E96A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C64FB-05D2-4323-96DF-67C2D5EE7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74B75-7737-435F-8303-FA92B0CFD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6970-A80C-4BBD-A831-D8EE88C90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88AB7-12A7-480F-8C43-8AAF83FA2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52DCC-A4E0-43F4-80C7-E3D9C542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3C024-624C-4284-9ADD-6475B8E3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0B4FD-844A-428B-BFD6-3F9682BB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F6E2F-4E53-407C-866A-5F046A520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4B85B-3CFB-402A-B056-731CA537A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6FDED-F011-42E9-84E6-5D319FEC0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248B7-FFC5-40D8-AF8C-C016F5595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405E8-1DD8-4A9A-AABE-0D03FE0A5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F0811-3487-4B7D-9068-025596990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624A-D7EF-4428-BB42-4E0FBDBF3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3ECB1-3AF2-4893-8F33-2C0DED3B1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8500A-502E-4AA0-BB5C-DD0381309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9B635-C4A0-477D-8818-8DE325BE7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CF150-04D9-40C8-8621-63CE43E5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105A3-5257-483E-A0E5-ECB08284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BA7F2-80AD-401E-A518-6F9A9652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16E32-7731-4D86-BC41-BA2C0A5FB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F5F80-6F6A-47F9-B3BA-89DFC6620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9DE52-9B54-4403-AA82-BD5D98AB0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1054-70C5-42F8-8FF4-22514C68F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9B20-DC86-449F-BAD7-64FB407A7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116A-EF7F-40B6-9334-EA3DA74C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B2CF-4746-4845-94CF-94279DC3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A176-6155-4BC6-9095-A534B44F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8167D-7936-421B-A21A-F4EA2AD96831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C092A-B1BF-429D-B3C7-6F03DD2E055B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EBA29-8F6A-4C3A-9939-B362A754D601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4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4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4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DC5FD-929E-4060-989D-DFF47ADBB841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3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čtvrtý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3 / 201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23544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3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88628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John Lackland (1199-1216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In 1204 he lost control of Normand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Mocking name „soft sword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Magna Carta (king´s rights were limited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7" name="Zástupný symbol pro obsah 3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2928960" cy="19476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3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88628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Henry III (1216-1272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Henry III became king at the age of 9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A lot of uprising and civil wars during his reig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0" name="Zástupný symbol pro obsah 2" descr=""/>
          <p:cNvPicPr/>
          <p:nvPr/>
        </p:nvPicPr>
        <p:blipFill>
          <a:blip r:embed="rId1"/>
          <a:stretch/>
        </p:blipFill>
        <p:spPr>
          <a:xfrm>
            <a:off x="5421240" y="3290760"/>
            <a:ext cx="2679840" cy="20433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3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88628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Edward I (1272-1307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Hammer of the Sco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Called first Parlia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1298 defeated the Scots at the Battle of Falkir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William Wallace, Robert Bru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3" name="Zástupný symbol pro obsah 3" descr=""/>
          <p:cNvPicPr/>
          <p:nvPr/>
        </p:nvPicPr>
        <p:blipFill>
          <a:blip r:embed="rId1"/>
          <a:stretch/>
        </p:blipFill>
        <p:spPr>
          <a:xfrm>
            <a:off x="5724360" y="2781360"/>
            <a:ext cx="2160720" cy="30240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4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510228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Edward II (1307-1327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He married Isabela, the daughter of King Philip IV of Fr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Affected for Gavestone, a Gascon knigh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1314 Robert Bruce crushed English arm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6" name="Zástupný symbol pro obsah 2" descr=""/>
          <p:cNvPicPr/>
          <p:nvPr/>
        </p:nvPicPr>
        <p:blipFill>
          <a:blip r:embed="rId1"/>
          <a:stretch/>
        </p:blipFill>
        <p:spPr>
          <a:xfrm>
            <a:off x="6012000" y="2852640"/>
            <a:ext cx="2411280" cy="29196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4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510228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Edward III (1327-1377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1340 he proclaimed himself King of France which started Hundred Years´ Wa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1346 – the Battle of Crécy (Calais      English colony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1348 – 1349 Black Dea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9" name="Zástupný symbol pro obsah 2" descr=""/>
          <p:cNvPicPr/>
          <p:nvPr/>
        </p:nvPicPr>
        <p:blipFill>
          <a:blip r:embed="rId1"/>
          <a:stretch/>
        </p:blipFill>
        <p:spPr>
          <a:xfrm>
            <a:off x="6084720" y="2924280"/>
            <a:ext cx="2232360" cy="29271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240" name="Šipka doprava 4"/>
          <p:cNvSpPr/>
          <p:nvPr/>
        </p:nvSpPr>
        <p:spPr>
          <a:xfrm>
            <a:off x="2411280" y="5133960"/>
            <a:ext cx="505080" cy="243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4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24664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Richard II (1377-1399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The youngest son of Edward the Black Prince and Joan of K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1382 – Ann of Bohem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Fights against the Lancast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Imprisoned, died in 140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3" name="Zástupný symbol pro obsah 3" descr=""/>
          <p:cNvPicPr/>
          <p:nvPr/>
        </p:nvPicPr>
        <p:blipFill>
          <a:blip r:embed="rId1"/>
          <a:stretch/>
        </p:blipFill>
        <p:spPr>
          <a:xfrm>
            <a:off x="6443640" y="3068640"/>
            <a:ext cx="2016000" cy="26686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4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24664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Henry IV (1399-1413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Debatable claim to the thr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1405 – uprising in Wa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Fearful of assasination, ill and troubled but rather successfu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6" name="Zástupný symbol pro obsah 3" descr=""/>
          <p:cNvPicPr/>
          <p:nvPr/>
        </p:nvPicPr>
        <p:blipFill>
          <a:blip r:embed="rId1"/>
          <a:stretch/>
        </p:blipFill>
        <p:spPr>
          <a:xfrm>
            <a:off x="6300720" y="2637000"/>
            <a:ext cx="2032200" cy="26636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5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24664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Henry V (1413-1422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Inteligent, musical, able to read and write in Englis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He led two great expeditions to Fr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1420 – the Treaty of Troyes recognised him as King of Fr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9" name="Zástupný symbol pro obsah 2" descr=""/>
          <p:cNvPicPr/>
          <p:nvPr/>
        </p:nvPicPr>
        <p:blipFill>
          <a:blip r:embed="rId1"/>
          <a:stretch/>
        </p:blipFill>
        <p:spPr>
          <a:xfrm>
            <a:off x="6156360" y="2924280"/>
            <a:ext cx="2087640" cy="29131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5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24664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Henry VI (1422-1461 and 1470-1471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Founded Eton College and King´s College in Cambrid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Lost his father´s conquests in Fr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Wars of Ro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2" name="Zástupný symbol pro obsah 3" descr=""/>
          <p:cNvPicPr/>
          <p:nvPr/>
        </p:nvPicPr>
        <p:blipFill>
          <a:blip r:embed="rId1"/>
          <a:stretch/>
        </p:blipFill>
        <p:spPr>
          <a:xfrm>
            <a:off x="6156360" y="2924280"/>
            <a:ext cx="2200320" cy="28083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ARS OF RO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5389560" cy="20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House of Yor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House of 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Lancast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455 – 1485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485 - The Battle of Boswor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5" name="Zástupný symbol pro obsah 2" descr=""/>
          <p:cNvPicPr/>
          <p:nvPr/>
        </p:nvPicPr>
        <p:blipFill>
          <a:blip r:embed="rId1"/>
          <a:stretch/>
        </p:blipFill>
        <p:spPr>
          <a:xfrm>
            <a:off x="2916360" y="4653000"/>
            <a:ext cx="307656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Reálie anglicky mluvících zemí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Konverzace z anglického jazyk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British histor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 základní data z historie Británie. Prezentace slouží jako podpůrný materiál při výkladu vyučujícího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ngland, history, king, queen, bat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2349360" y="115920"/>
            <a:ext cx="529776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5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24664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Edward IV (1461-1470 and 1471-1483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Supported by Richard Neville, the Earl of Warwic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1470 – flee to Burgund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1471 – The Battle of Tewkesbury (Bloody Meadow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8" name="Zástupný symbol pro obsah 3" descr=""/>
          <p:cNvPicPr/>
          <p:nvPr/>
        </p:nvPicPr>
        <p:blipFill>
          <a:blip r:embed="rId1"/>
          <a:stretch/>
        </p:blipFill>
        <p:spPr>
          <a:xfrm>
            <a:off x="6156360" y="2924280"/>
            <a:ext cx="2200320" cy="28083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5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24664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Edward V (1483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Never crowned, is remembered as one of the two „Princes in the Tower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Richard III (1483-1485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1485 – The Battle of Boswor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1" name="Zástupný symbol pro obsah 2" descr=""/>
          <p:cNvPicPr/>
          <p:nvPr/>
        </p:nvPicPr>
        <p:blipFill>
          <a:blip r:embed="rId1"/>
          <a:stretch/>
        </p:blipFill>
        <p:spPr>
          <a:xfrm>
            <a:off x="5580000" y="3357720"/>
            <a:ext cx="2840040" cy="18730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5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24664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Henry VII (1485-1509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Henry Tud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No adventures in foreign polic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24 years of pea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4" name="Zástupný symbol pro obsah 3" descr=""/>
          <p:cNvPicPr/>
          <p:nvPr/>
        </p:nvPicPr>
        <p:blipFill>
          <a:blip r:embed="rId1"/>
          <a:stretch/>
        </p:blipFill>
        <p:spPr>
          <a:xfrm>
            <a:off x="5773680" y="2781360"/>
            <a:ext cx="2327400" cy="30114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6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24664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Henry VIII (1509-1547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Six wiv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His break with Rome paved the way for England to become a Protestant count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Sir Thomas Moo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7" name="Zástupný symbol pro obsah 2" descr=""/>
          <p:cNvPicPr/>
          <p:nvPr/>
        </p:nvPicPr>
        <p:blipFill>
          <a:blip r:embed="rId1"/>
          <a:stretch/>
        </p:blipFill>
        <p:spPr>
          <a:xfrm>
            <a:off x="5985000" y="2781360"/>
            <a:ext cx="2333520" cy="29512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IX WIVES OF HENRY VII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24664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Catherine of Arag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Anne Boley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Jane Seymou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Anne of Clev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Catherine Howar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Catherine Par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0" name="Zástupný symbol pro obsah 2" descr=""/>
          <p:cNvPicPr/>
          <p:nvPr/>
        </p:nvPicPr>
        <p:blipFill>
          <a:blip r:embed="rId1"/>
          <a:stretch/>
        </p:blipFill>
        <p:spPr>
          <a:xfrm>
            <a:off x="5464080" y="2708280"/>
            <a:ext cx="2421000" cy="31050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6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8135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Edward VI (1547-1553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Became King at the age of 10, died of tuberculousis in 155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Lady Jane Grey (1553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nine-days´queen, the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behead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3" name="Zástupný symbol pro obsah 3" descr=""/>
          <p:cNvPicPr/>
          <p:nvPr/>
        </p:nvPicPr>
        <p:blipFill>
          <a:blip r:embed="rId1"/>
          <a:stretch/>
        </p:blipFill>
        <p:spPr>
          <a:xfrm>
            <a:off x="6227640" y="2924280"/>
            <a:ext cx="2163960" cy="29527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6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8135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Mary I (1553-1558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The most severe Catholic ruler called „Bloody Mary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She believed her task was to restore England to Catholic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6" name="Zástupný symbol pro obsah 2" descr=""/>
          <p:cNvPicPr/>
          <p:nvPr/>
        </p:nvPicPr>
        <p:blipFill>
          <a:blip r:embed="rId1"/>
          <a:stretch/>
        </p:blipFill>
        <p:spPr>
          <a:xfrm>
            <a:off x="5940360" y="2708280"/>
            <a:ext cx="2274840" cy="30099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6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8135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Elizabeth I (1558-1603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Virgin Queen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Overseas explor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1587 Mary Stuart behead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Francis Drake, Robert Cecil, the Arma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9" name="Zástupný symbol pro obsah 3" descr=""/>
          <p:cNvPicPr/>
          <p:nvPr/>
        </p:nvPicPr>
        <p:blipFill>
          <a:blip r:embed="rId1"/>
          <a:stretch/>
        </p:blipFill>
        <p:spPr>
          <a:xfrm>
            <a:off x="5761080" y="2938320"/>
            <a:ext cx="2195640" cy="31878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7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8135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James I (1603-1625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Son of Henry Stuart and Mary, Queen of Sco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He became King of England and Scot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1605 Guy Fawk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82" name="Zástupný symbol pro obsah 2" descr=""/>
          <p:cNvPicPr/>
          <p:nvPr/>
        </p:nvPicPr>
        <p:blipFill>
          <a:blip r:embed="rId1"/>
          <a:stretch/>
        </p:blipFill>
        <p:spPr>
          <a:xfrm>
            <a:off x="5651640" y="2708280"/>
            <a:ext cx="2401920" cy="31780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7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8135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Charles I (1625-1649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Fights with the parlia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Expensive wars with France and Spa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Civil war in Eng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1649 beheaded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85" name="Zástupný symbol pro obsah 2" descr=""/>
          <p:cNvPicPr/>
          <p:nvPr/>
        </p:nvPicPr>
        <p:blipFill>
          <a:blip r:embed="rId1"/>
          <a:stretch/>
        </p:blipFill>
        <p:spPr>
          <a:xfrm>
            <a:off x="5600880" y="2924280"/>
            <a:ext cx="2355840" cy="29304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Arial"/>
              </a:rPr>
              <a:t>BRITISH HISTO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BASIC FAC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IMPORTANT EV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7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8135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Oliver Cromwe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1649 – Execution of Charles 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1653 – Cromwell becam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Lord Protect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1660 – Monarchy was restor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88" name="Zástupný symbol pro obsah 3" descr=""/>
          <p:cNvPicPr/>
          <p:nvPr/>
        </p:nvPicPr>
        <p:blipFill>
          <a:blip r:embed="rId1"/>
          <a:stretch/>
        </p:blipFill>
        <p:spPr>
          <a:xfrm>
            <a:off x="5796000" y="2781360"/>
            <a:ext cx="2176560" cy="33256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7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8135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Charles II (1660-1685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Founded Greenwich Observatory and Royal Socie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1665 – Great Plague (100,000 people died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1666 – Great Fire of Lond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91" name="Zástupný symbol pro obsah 3" descr=""/>
          <p:cNvPicPr/>
          <p:nvPr/>
        </p:nvPicPr>
        <p:blipFill>
          <a:blip r:embed="rId1"/>
          <a:stretch/>
        </p:blipFill>
        <p:spPr>
          <a:xfrm>
            <a:off x="5796000" y="2781360"/>
            <a:ext cx="2176560" cy="33256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7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8135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James II (1685-1688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During Civil War, in 1648 he escaped to Holland dressed as a gir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Neither English people nor the Parliament liked hi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The throne offered to William of Oran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94" name="Zástupný symbol pro obsah 2" descr=""/>
          <p:cNvPicPr/>
          <p:nvPr/>
        </p:nvPicPr>
        <p:blipFill>
          <a:blip r:embed="rId1"/>
          <a:stretch/>
        </p:blipFill>
        <p:spPr>
          <a:xfrm>
            <a:off x="5678640" y="3038400"/>
            <a:ext cx="2349360" cy="28814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7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8135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William III (1689-1702) </a:t>
            </a:r>
            <a:r>
              <a:rPr b="0" i="1" lang="cs-CZ" sz="2400" spc="-1" strike="noStrike">
                <a:solidFill>
                  <a:srgbClr val="002060"/>
                </a:solidFill>
                <a:latin typeface="Arial"/>
              </a:rPr>
              <a:t>(jointly Mary II (1689-1694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Son of William II, Prince of Orange and Mary, daughter of Charles 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Dutch rul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Glorious Revolu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97" name="Zástupný symbol pro obsah 3" descr=""/>
          <p:cNvPicPr/>
          <p:nvPr/>
        </p:nvPicPr>
        <p:blipFill>
          <a:blip r:embed="rId1"/>
          <a:stretch/>
        </p:blipFill>
        <p:spPr>
          <a:xfrm>
            <a:off x="5796000" y="2781360"/>
            <a:ext cx="2351160" cy="29350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8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8135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Anne (1702-1714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duly inherited throne at the age of 36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married Prince George of Denmar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had 17 children, all died in infancy or early childhoo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00" name="Zástupný symbol pro obsah 2" descr=""/>
          <p:cNvPicPr/>
          <p:nvPr/>
        </p:nvPicPr>
        <p:blipFill>
          <a:blip r:embed="rId1"/>
          <a:stretch/>
        </p:blipFill>
        <p:spPr>
          <a:xfrm>
            <a:off x="5867280" y="2852640"/>
            <a:ext cx="2306880" cy="30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8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8135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George I (1714-1727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Protestant of German orig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Hannover dynas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put his trust in Walpole´s Whig Par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03" name="Zástupný symbol pro obsah 3" descr=""/>
          <p:cNvPicPr/>
          <p:nvPr/>
        </p:nvPicPr>
        <p:blipFill>
          <a:blip r:embed="rId1"/>
          <a:stretch/>
        </p:blipFill>
        <p:spPr>
          <a:xfrm>
            <a:off x="5724360" y="2781360"/>
            <a:ext cx="2310120" cy="30574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8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8135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George II (1727-1760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Called self-important, fussy, hardworking, skirt-chas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1743 – the Battle of Detting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1745 - Jacobite rebell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06" name="Zástupný symbol pro obsah 2" descr=""/>
          <p:cNvPicPr/>
          <p:nvPr/>
        </p:nvPicPr>
        <p:blipFill>
          <a:blip r:embed="rId1"/>
          <a:stretch/>
        </p:blipFill>
        <p:spPr>
          <a:xfrm>
            <a:off x="5651640" y="2924280"/>
            <a:ext cx="2344680" cy="28908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8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8135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George III (1760-1820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1776 – Declaration of Independence (US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1789 – French revolu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1805 – The Battle of Trafalga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1815 – The Battle of Waterlo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09" name="Zástupný symbol pro obsah 3" descr=""/>
          <p:cNvPicPr/>
          <p:nvPr/>
        </p:nvPicPr>
        <p:blipFill>
          <a:blip r:embed="rId1"/>
          <a:stretch/>
        </p:blipFill>
        <p:spPr>
          <a:xfrm>
            <a:off x="5533920" y="2852640"/>
            <a:ext cx="2422800" cy="29862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9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8135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George IV (1821-1830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Liked fashionable clothes and compan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Made Brighton and Bath places to see and be se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William IV (1830-1837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Silly Billy“, the sailor K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12" name="Zástupný symbol pro obsah 2" descr=""/>
          <p:cNvPicPr/>
          <p:nvPr/>
        </p:nvPicPr>
        <p:blipFill>
          <a:blip r:embed="rId1"/>
          <a:stretch/>
        </p:blipFill>
        <p:spPr>
          <a:xfrm>
            <a:off x="5796000" y="2924280"/>
            <a:ext cx="2430360" cy="29178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9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8135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Victoria (1837-1901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Victorian er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Big political and economical role of Brita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Australia, Egypt, South Africa, Cyprus, Hongko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Prince Alber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15" name="Zástupný symbol pro obsah 3" descr=""/>
          <p:cNvPicPr/>
          <p:nvPr/>
        </p:nvPicPr>
        <p:blipFill>
          <a:blip r:embed="rId1"/>
          <a:stretch/>
        </p:blipFill>
        <p:spPr>
          <a:xfrm>
            <a:off x="5724360" y="2708280"/>
            <a:ext cx="2354400" cy="33274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FIRST SETTL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31028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3,000 BC settlers from Europ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They introduced farming, pottery and stone too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Stonehen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Avebu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9" name="Zástupný symbol pro obsah 3" descr=""/>
          <p:cNvPicPr/>
          <p:nvPr/>
        </p:nvPicPr>
        <p:blipFill>
          <a:blip r:embed="rId1"/>
          <a:stretch/>
        </p:blipFill>
        <p:spPr>
          <a:xfrm>
            <a:off x="5199120" y="3141720"/>
            <a:ext cx="3076560" cy="23032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20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8135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Edward VII (1901-1910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had to wait almost 60 years to become K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first old-age pensions and National Insurance Syste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got the title „Peacemaker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18" name="Zástupný symbol pro obsah 2" descr=""/>
          <p:cNvPicPr/>
          <p:nvPr/>
        </p:nvPicPr>
        <p:blipFill>
          <a:blip r:embed="rId1"/>
          <a:stretch/>
        </p:blipFill>
        <p:spPr>
          <a:xfrm>
            <a:off x="5867280" y="2637000"/>
            <a:ext cx="2138400" cy="30207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20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8135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George V (1910-1936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his reign was overshadowed by World War 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1911 - first British emperor to visit Ind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1912 - Titani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21" name="Zástupný symbol pro obsah 3" descr=""/>
          <p:cNvPicPr/>
          <p:nvPr/>
        </p:nvPicPr>
        <p:blipFill>
          <a:blip r:embed="rId1"/>
          <a:stretch/>
        </p:blipFill>
        <p:spPr>
          <a:xfrm>
            <a:off x="5724360" y="2924280"/>
            <a:ext cx="2286000" cy="27446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20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8135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Edward VIII (1936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the only British sovereign to resign the throne of his own will (he decided for twice-divorced Mrs Wallis Simpso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he was made Duke of Windsor and lived abro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24" name="Zástupný symbol pro obsah 2" descr=""/>
          <p:cNvPicPr/>
          <p:nvPr/>
        </p:nvPicPr>
        <p:blipFill>
          <a:blip r:embed="rId1"/>
          <a:stretch/>
        </p:blipFill>
        <p:spPr>
          <a:xfrm>
            <a:off x="5867280" y="2637000"/>
            <a:ext cx="2149560" cy="35035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20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8135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George VI (1936-1952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George V´s second son Albert („Bertie“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World War I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Stayed in London during Blitz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a trusted ally for Churchi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27" name="Zástupný symbol pro obsah 3" descr=""/>
          <p:cNvPicPr/>
          <p:nvPr/>
        </p:nvPicPr>
        <p:blipFill>
          <a:blip r:embed="rId1"/>
          <a:stretch/>
        </p:blipFill>
        <p:spPr>
          <a:xfrm>
            <a:off x="5370480" y="3328920"/>
            <a:ext cx="2913120" cy="20448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20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445464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Elizabeth II (1952-   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born in 1926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in the World War I she joined the Auxiliary Transport Serv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married Philip in 194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first son Prince Char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30" name="Zástupný symbol pro obsah 2" descr=""/>
          <p:cNvPicPr/>
          <p:nvPr/>
        </p:nvPicPr>
        <p:blipFill>
          <a:blip r:embed="rId1"/>
          <a:stretch/>
        </p:blipFill>
        <p:spPr>
          <a:xfrm>
            <a:off x="5724360" y="2724120"/>
            <a:ext cx="2511720" cy="30812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  <a:ea typeface="Arial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1258920" y="1557360"/>
            <a:ext cx="77007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Williams B., Williams B. 2004. Kings and Queens, Pitkin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Děijny_Angli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search.creativecommons.org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FIRST SETTL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31028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10</a:t>
            </a:r>
            <a:r>
              <a:rPr b="0" lang="cs-CZ" sz="2800" spc="-1" strike="noStrike" baseline="30000">
                <a:solidFill>
                  <a:srgbClr val="00264d"/>
                </a:solidFill>
                <a:latin typeface="Arial"/>
              </a:rPr>
              <a:t>th</a:t>
            </a: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 century BC the Cel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One of their tribes was called Brit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55 BC – 5</a:t>
            </a:r>
            <a:r>
              <a:rPr b="0" lang="cs-CZ" sz="2800" spc="-1" strike="noStrike" baseline="30000">
                <a:solidFill>
                  <a:srgbClr val="00264d"/>
                </a:solidFill>
                <a:latin typeface="Arial"/>
              </a:rPr>
              <a:t>th</a:t>
            </a: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 century AD the Roma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Britann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2" name="Zástupný symbol pro obsah 2" descr=""/>
          <p:cNvPicPr/>
          <p:nvPr/>
        </p:nvPicPr>
        <p:blipFill>
          <a:blip r:embed="rId1"/>
          <a:stretch/>
        </p:blipFill>
        <p:spPr>
          <a:xfrm>
            <a:off x="5508720" y="2705040"/>
            <a:ext cx="2448000" cy="32688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ANGLES AND SAX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31028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5</a:t>
            </a:r>
            <a:r>
              <a:rPr b="0" lang="cs-CZ" sz="2800" spc="-1" strike="noStrike" baseline="30000">
                <a:solidFill>
                  <a:srgbClr val="00264d"/>
                </a:solidFill>
                <a:latin typeface="Arial"/>
              </a:rPr>
              <a:t>th</a:t>
            </a: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 century AD – the Angles and Sax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They came from Germany, Denmark and the Netherlan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Angle - 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5" name="Zástupný symbol pro obsah 3" descr=""/>
          <p:cNvPicPr/>
          <p:nvPr/>
        </p:nvPicPr>
        <p:blipFill>
          <a:blip r:embed="rId1"/>
          <a:stretch/>
        </p:blipFill>
        <p:spPr>
          <a:xfrm>
            <a:off x="5413320" y="2637000"/>
            <a:ext cx="2405160" cy="30956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NORMA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31028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9</a:t>
            </a:r>
            <a:r>
              <a:rPr b="0" lang="cs-CZ" sz="2800" spc="-1" strike="noStrike" baseline="30000">
                <a:solidFill>
                  <a:srgbClr val="00264d"/>
                </a:solidFill>
                <a:latin typeface="Arial"/>
              </a:rPr>
              <a:t>th</a:t>
            </a: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 century AD – the Viking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The Normans invaded from Fr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1066 The battle of Hasting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William the Conquer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8" name="Zástupný symbol pro obsah 2" descr=""/>
          <p:cNvPicPr/>
          <p:nvPr/>
        </p:nvPicPr>
        <p:blipFill>
          <a:blip r:embed="rId1"/>
          <a:stretch/>
        </p:blipFill>
        <p:spPr>
          <a:xfrm>
            <a:off x="5364000" y="2685960"/>
            <a:ext cx="2664000" cy="31971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ILLIAM THE CONQUERO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31028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Only four visits to England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Domesday Boo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andholdings were listed, described and assessed for tax and valu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1" name="Zástupný symbol pro obsah 2" descr=""/>
          <p:cNvPicPr/>
          <p:nvPr/>
        </p:nvPicPr>
        <p:blipFill>
          <a:blip r:embed="rId1"/>
          <a:stretch/>
        </p:blipFill>
        <p:spPr>
          <a:xfrm>
            <a:off x="5364000" y="2685960"/>
            <a:ext cx="2664000" cy="31971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EDIEVAL ENGLA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31028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Civil wa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International conflic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Political plots between nobles and king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Richard I (the Lion heart) - Crusad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4" name="Zástupný symbol pro obsah 2" descr=""/>
          <p:cNvPicPr/>
          <p:nvPr/>
        </p:nvPicPr>
        <p:blipFill>
          <a:blip r:embed="rId1"/>
          <a:stretch/>
        </p:blipFill>
        <p:spPr>
          <a:xfrm>
            <a:off x="4941720" y="2924280"/>
            <a:ext cx="3210120" cy="24494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20:36:03Z</dcterms:created>
  <dc:creator>Mgr.Martin Frolík</dc:creator>
  <dc:description/>
  <dc:language>en-US</dc:language>
  <cp:lastModifiedBy>Igor</cp:lastModifiedBy>
  <dcterms:modified xsi:type="dcterms:W3CDTF">2014-09-13T14:18:03Z</dcterms:modified>
  <cp:revision>79</cp:revision>
  <dc:subject/>
  <dc:title>EUROPEAN UNION</dc:title>
</cp:coreProperties>
</file>