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0627-558F-4BE8-A59A-3D3F5EBDC7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D0F3-7ADC-4589-B54D-0F9E1DB20D5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B46C-55EF-48ED-A2F2-7300E840427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B997-7C06-47B3-A1A0-E462B07266D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9479-B86B-407A-83DB-37425DF3347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32F-2690-4236-9CE3-6967A5AA619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EE7F-6664-4B84-9C9A-088D8903A5C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25B1-F703-4408-8A97-42E33FCC268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841-1C6B-4A93-A521-ED7401A1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72A-D363-401B-B79C-705CAD26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297-D3F6-4ADD-866B-6B454DAD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3BB-046A-4858-85FF-296FC9A5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8ABD-3303-4853-8CFB-FDC5EDBB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7FCD-05EF-412D-B324-EF4D7D3E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152A-2BA8-424B-B9EB-A1658004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3357-279F-435C-A0CB-E6DB5477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505A-4071-420B-8FE0-71BE7AF4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13E1-D003-4E8F-B42A-9028EA3B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546C-14C1-4379-BCC8-FBF13325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5C7-80EC-403C-AA82-573CD7BA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60AB-4343-442C-BEAB-5716A65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FA6B-F888-484F-A55B-3B5456CA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1890-052A-4E18-9634-0463BAB4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58B3-4F07-4918-A27D-96B9C4D7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DECE-5B1E-4130-A409-33BD3E03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D635-8670-4FBD-BB47-2038CE09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18AC-08D1-431C-A4CD-FA5F564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3E73-84CE-41F7-B709-B59B433B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EEB5-8BB5-4160-BAB4-BE6A2A2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9D13-3212-4987-B74A-113B148D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7EE-9D3C-4F55-A2F3-01AB0C79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2A56-D65E-4569-817C-26EE0910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A096-6B65-4B45-AB0A-652AA546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9985E-3577-4C1E-BCB7-737713B4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36165-91B2-4B65-BAAB-038666B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FD74-D628-42A0-9E52-AE6E6B4F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846E-8DB8-4774-B9E4-0DFE1F23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6AE8-397E-496D-9D98-322BB46C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D92A-8CDD-4C97-B330-A8758702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92AE-C3D7-4FA3-80EB-168FA747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9866-9D01-415F-AE3F-4FA0E7B5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0BA-56D5-434C-9456-97C44B4B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7F2A2-6352-494E-85F3-38D467F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7610-B8FA-4159-9BD6-0D0E3563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64087-44BA-4D06-968A-A1F68BD3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0C2E2-8612-4DD8-B459-4C50C88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75A5-D67A-4958-BCC2-C904C034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75F6D-A93B-4912-A676-D7EBFE0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A9EB-7E9B-4E8F-A20B-03AE231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52B34-1D05-4A10-AB5F-D4E9CBED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3E00-5245-4A81-BC41-18F20FB2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24B-F810-40E9-B520-6E12EAEE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46B-3632-4F0E-AB25-3751D9FD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8F2-C944-4735-B50B-2B81E077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DB6-878E-4B9A-9818-5B4C1D6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D11-6803-48EF-BA7D-A26B2E1A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FF3B-E827-4865-8DE8-D21EC699D66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B0C3-B4BE-4592-BC2B-AC592517509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A1CC-AC33-4823-BA28-5364B6E5044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6943-17F9-48E8-BE0C-361ED88EB83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8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lot of old neolit gra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written reports from the Roma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10 AD German trib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ward I  (13th centu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536 united with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308268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sp>
        <p:nvSpPr>
          <p:cNvPr id="229" name="TextovéPole 3"/>
          <p:cNvSpPr/>
          <p:nvPr/>
        </p:nvSpPr>
        <p:spPr>
          <a:xfrm>
            <a:off x="5796000" y="5183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yn Celli D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NOWDO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tional park in the North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170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nowdon (1085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6,000 people (63% speak Wels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313704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ard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wans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ewpo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ngles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angor_(W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nowdo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Walesu, nejdůležitější místa a přírodní zajímavosti. Prezentace slouží jako podpůrný materiál při výkladu učiva o brits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les, area, population,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WALES</a:t>
            </a:r>
            <a:br>
              <a:rPr sz="4400"/>
            </a:br>
            <a:br>
              <a:rPr sz="1000"/>
            </a:b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(Tywysogaeth Cymru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0 779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ARDI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rcRect l="1316" t="1281" r="1316" b="1281"/>
          <a:stretch/>
        </p:blipFill>
        <p:spPr>
          <a:xfrm>
            <a:off x="5651640" y="3141720"/>
            <a:ext cx="2881080" cy="1727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RDI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Caerdy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2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stel Caerdy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.John´s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435640" y="2997360"/>
            <a:ext cx="3124080" cy="233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WANSE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Aberta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weyn´s 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Gower penins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ystermouth cas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2787480" cy="2087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P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Casnewydd-ar-Wys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5,736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portant 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283536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GLES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sland in the nor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Ynys Mô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langefni, Holyh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lanfairpwllgwyngyllgogerychwyrndrobwllllantysiliogogogoch </a:t>
            </a: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283536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G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Gwynedd county in the North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,998 inhabi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1/3 speaks Wel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thedral        c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gor Univers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78748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sp>
        <p:nvSpPr>
          <p:cNvPr id="225" name="Šipka doprava 4"/>
          <p:cNvSpPr/>
          <p:nvPr/>
        </p:nvSpPr>
        <p:spPr>
          <a:xfrm>
            <a:off x="2984400" y="501336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4:41Z</dcterms:modified>
  <cp:revision>29</cp:revision>
  <dc:subject/>
  <dc:title>EUROPEAN UNION</dc:title>
</cp:coreProperties>
</file>