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388D-3394-4C36-817F-DAFA7493BD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05E1-606E-455A-8782-BB5D3F91439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2107-65B8-4A0D-8821-8ED2F8CA69E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4B74-1E99-4FFF-930A-E303871C9BE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B5AF-9F6A-4ADE-B566-654AD8BB68C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A615-2259-43C9-9E04-ED62BFD184D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D723-842D-4EC3-A8B1-28FE29BC202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1BA6-F62D-4B82-A986-D5BEC7C6778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43B8-AF11-4794-9A91-0F64DA8DED9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27B-C647-495D-8D14-2DDDD2C3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E92-62F2-4138-B92E-480B0B17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46C73-2ED6-4503-878B-3E71156B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03FB3-1F17-4CE4-855D-E183C238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7B8A2-AF67-4E42-8940-FA08E58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D0D0A-38B3-46E2-BB47-838D9DCF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8E87C-ED0C-4EA8-9256-C63BDAB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A0CD5-D212-42E6-9012-8A4A41F4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7F546-8835-417C-A866-97BE342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2879A-CF5F-4A70-A212-85FD8B6B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57BB1-4FDE-4404-998F-789993CA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E63AE-1F97-465D-B520-75A8250C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A03-5217-4EDB-93FA-F70490D6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F5A2E-2729-49B0-B1F6-DEBCA869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47410-217D-43B9-B39C-373F923D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67241-1004-48A7-A57E-A1E42A11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68C97-6A14-4BE1-9B9D-795EB5F6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A3D1C-BBFB-42E7-9672-1BBC5B48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FFAC2-E28B-4308-9758-91A2FDF7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4FB00-5C02-452C-981A-53C1B149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286DA-FAF1-4DC8-83E7-4099F856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EDD69-5BAB-4760-A7C3-71354199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7E837-7C51-4102-86FF-537695C8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A99-33E5-4343-8A25-D009560E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8DA79-6DFE-4827-ABC2-EB6EDBC7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9BE69-1E2A-485A-A12D-25820BDF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4A31B-CE8F-401C-B99A-24DBC51F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B6184-6FCE-4173-B56E-FC092120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374EE-A54F-439D-8EA4-1D6E573A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C2795-D0B1-4116-B1E7-34FF269E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D34F9-8909-4409-8B09-26B19F06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93E23-161D-4CB4-9EDE-048F99C3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B1347-B17B-4A44-A1E5-B7C63C9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4012F-29DE-4B27-828D-D4E1BB6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3FC4-58D2-4F13-AAC8-A5F7F76E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4F587-8643-43BE-A3DF-9EC59BCC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88BE8-4E5C-4322-9428-04BFF3F7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DF91D-0524-4633-8A65-4E419081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B2956-BB68-4EA4-9202-0FFF0CF9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061D7-D22B-48D1-ADB6-A741F31D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D8C6E-D924-4FCD-AAB4-7DAE9CBB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41E73-E766-4425-A66F-965304A1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FCFB0-E3F1-4DC8-94AC-647B1819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0288A-D42E-4AFB-A210-F3DB6D7A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D483D-BCDF-4757-8C1B-82F6762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C446-F46D-4515-9109-7040FA5D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68320-BA90-4FF6-903B-38AFBB1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CBB8A-B9A8-4B61-84C9-496D4CCF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7391C-BACC-4DD5-B7A4-D7ED08AD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D18A7-6F25-4BC5-B1F8-B31F59DB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6E9C6-F30A-42E8-964A-BE3EAE67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78A2A-E7A6-4CF1-9165-C9BBC823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45279-AA8E-4AC4-A310-6BFEE6E0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BA853-5690-4449-980A-7008585F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912CE-E2C8-40BC-87BC-8B11C015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05C30-9000-479A-8C2F-4BA69D15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9038-9D91-4354-ABED-F152FEFA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54F1B-CF9B-4B55-8766-54C7FBE9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BB7AE-39EE-4264-BAC1-71DD3E88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72CF6-9E4A-4358-8399-3615695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64936-90B0-4FC4-8B07-8376DB44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C6CC1-B72A-4589-B473-FDE5FA2F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3D9DD-3173-47B4-A28A-C6B6DF3B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F87E8-9BB0-4F1F-88C7-44E07A5F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93C38-076E-40E3-80EF-1D6937BC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8E5CD-D2E6-4CF6-A6DA-4F22AE02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7717F-4ED8-482C-8CAB-464B2B10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0479-2332-4857-ACF8-D2604D47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60215-5D75-48C7-A150-576474AB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7DFAA-3685-43E3-AD63-A980A850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E5EF0-2661-4524-8D31-277B0F44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5998E-0C83-4990-AE35-A96AA6E1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BFE75-BD31-446F-8B57-2036459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665AD-112E-47BB-B15F-EC36AE5A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C29E2-F058-4A30-8CD8-221D4A51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1AAFE-8E7A-4211-9926-D5870FEB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15377-4826-4023-BF19-A8A9B1A2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7227E-4E86-485C-BAF7-27C838B2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C9E8-851C-4806-93F4-6A1AF0F2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49506-524A-4005-AEAB-BD9FE0D6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5DB1B-9FFD-42EF-9374-F91597E9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D4560-7B70-427C-86D3-D464942F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98FC8-67AE-4469-B1EA-D4728AF0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49804-3E8F-4FE3-901B-BF13F62B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94DDD-CF7E-4586-BCCB-20316B4D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883C1-91B6-437A-95DF-38E4BB93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E08B7-D965-4E7C-BE81-370A67B5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D4579-AD7B-4B6D-BB4A-2478A382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F07EC-D045-4FED-B470-F820DD0C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4F1D-3278-4B8C-B2AE-25A574E1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1541C-2AC0-42A3-8CAA-D6EEDA71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6494C-4913-4FBF-9026-68F564DC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93335-4329-4DF3-B1DF-64A55AE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156AB8-102C-4AA2-BFB9-8726A9D6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728F5-B023-41E4-BA19-3E9AB043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EAA34-1CF7-4204-86C4-95F6FE5C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EF3FD-5FD0-4E6D-91CC-2761F8F9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7BE29-5A7C-447F-9D18-FCE22EE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C0677-A109-494C-A79C-739462D6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A11D4-8CBF-43C2-BBED-8913237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272D-D572-4FB9-9542-A47E2D0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CD308-EFB1-4333-9D68-00D4E68C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83EC8-BB34-489D-9ABA-3214CE30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4CD74C-7D81-47C3-93D6-94D9C20F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32B-A3DD-43E7-98F7-CA24B67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F014-CB2D-4848-9829-63CC9B9E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AD16-344E-4912-A9B9-C484E4E5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454-8C90-49D8-B9AD-84CF3294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1264-3BAA-4CF3-B0A6-DADCA40D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9630-DD9A-46A7-AB55-D2843F74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EF73-F531-415D-A746-8AB7A138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466B-357E-4F1B-A3AF-4765F01E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62D3-A8C1-4465-9F8D-99B28FBF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F661-8E51-495C-8690-8D4CF5CC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0B09-F580-4860-A2E2-0CBEAF59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24C-DCFA-442D-8512-F73CA257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954D-E33B-4C86-8998-FC8BF394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7EA0-E539-46B6-870C-25111371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E6F6-F2A2-4EA4-B9F0-CA141C42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FAD6-D710-484E-A292-1AC38DA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8CD2-F43D-469C-8101-31A13C8C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1B8A-8F83-4ADB-BC6B-4D3F8B55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CF0A-CDA5-4588-8BA1-3F8756ED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74BE5-E783-4088-ADD2-89C791AA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642C-0796-4618-9672-8BAF1A4C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D204-9CB0-4C94-BE62-CAB5E20B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B75-976F-44F6-AABF-8266028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69DA-01A1-42FF-A9D4-9FE231BB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A0B9-D5CF-4B19-BDA5-F1DC588C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AB40-E4C2-47FF-A985-EF508E0D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00732-789F-4899-8B3D-BBAA9029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9640-6B82-4499-BDCA-21C5296D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E387-61D9-473D-96B8-DA57201A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2730-49A6-4764-8343-BCD4E147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097A-7886-4377-A4D6-1D375E0B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718B-B5B0-4140-8AD5-A1217BB4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C6ED-4468-4203-BA3A-3F6F2977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AA2-EEB5-4D1B-89F6-20CA742C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6F500-DD5B-495C-B79E-5BCEB5A0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9582-2E64-4D95-909E-CC3D24EC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BC93D-DB7F-48DE-A713-8CB98621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A18B-4835-4030-AB3C-E21EE8DB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306D-296B-4822-BE37-3ED0D6A8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ACDE-A577-4D18-AD8F-91C32197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7A60B-B654-491A-AF20-D6B98622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55C47-1334-4390-817C-8EC833AB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22E12-8BC1-4BFC-A7EB-26B75E37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0849-6FAE-4A31-ACBF-F63E5472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166-F119-4E87-BAF8-BC67144C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5DBB-491E-4FA5-8E94-F28C942A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AD22-1BD2-42F6-907E-388D97F5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C87B6-00D4-43F9-9374-07138A03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73689-3552-4215-B30C-4B5DBA47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A6BC4-9C81-4120-924A-9217A21C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83C49-9D63-4791-AD2C-E38CD130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9503D-39F5-46E8-AAA3-535A1536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DC833-11B8-46E7-A954-58E58C79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00998-3452-448C-A51B-E3C34B26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7505C-8EDD-47E9-8815-4429E91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4D8-C77F-4FB0-9E18-C62FBDFE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90DB9-7EDE-4433-9E13-96A4EE86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543ED-BAA9-4D98-AB34-66B1879E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23912-B0E3-4FC3-86B3-430F4D3A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79157-D502-4F04-8D1D-E0F6A27D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9488F-6E56-4132-8AE2-7754BA41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18E1F-DDF0-4CAF-B4C8-11785A65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7226C-728D-4239-B0B3-87E2B81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910E-6023-4574-A4F3-F23D7EA4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0523D-FC97-4166-A78C-ECEDEF68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DB44-99E7-4225-8A35-C5EFE84A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449-D607-4A9B-B6D5-E7593294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DC69E-3911-4C07-845D-74E00FE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B2660-0C92-4EB8-AC65-9DB5B3F8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3E4A-D527-4493-9D4E-E90A9A17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F75B-BB04-4D84-B782-E666FDFB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03F3-DE8B-4748-8068-98608FC3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18F9-2528-4337-BA85-0F9FE0E8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F9AE4-BC24-4B91-B47C-02465A8C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C294C-5449-4D98-8806-31E465CF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17FB7-DAFF-47B8-B3C3-6B806C88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BBC30-D1BB-43E4-BE02-16283480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3E4-F95A-4845-991B-E55D3AA9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34481-60C1-4245-8738-063A7774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E5078-3A77-4192-BA30-860A2492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8DAFB-9974-4338-B1B1-B8D55A4C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18F14-ED1B-4E88-B2FE-D3DA9A1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C333-C554-4633-9930-4D97D48C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9A66F-E1BE-4C15-9471-C9835FF3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E089C-BB1E-4413-9E9A-0DB64712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62F72-DF9E-4F08-BBAE-90AB864A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5AEFC-9FED-4062-8198-B528552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C28D5-B5EC-43E3-9C2E-89CF9D60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9E39-339C-4793-BB96-240EB3F642C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FF0B-8E1B-4F88-BCA6-6F01BAC9389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9922-B40F-4DC6-A6C1-D965B08799A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A3C3-4D00-4A49-A799-CDAAA8845EF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1198-0EE8-4ECE-8EB9-050850B6D2E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4716-A8B0-4161-AFD0-D2D12FE439D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81AA-3991-449A-81F8-D6CE8EAC3E3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AB2F-1CEC-48CF-968B-F29CF7EF9A6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CF4B-7BD7-4B1B-838C-5F7445F65A4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996A-457B-42E7-B33A-EB2BE2BC106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F415-7A8A-46C3-8571-0A95A7D8A0F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4E27-D813-4CB7-B823-E86B9EE1C8F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255C-3166-4495-BA97-3F6CE8F07ED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A93-60A7-4BD9-ADB3-A2D68E8ADC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C179-2680-4D7B-8FE9-3ADDE159D87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32E4-141C-429B-91CC-DCA31FD07E3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would appreciate your sending us your catalogue and price lis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should be grateful if you let us know what you have to offer in the way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interested in the products you adverti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ll you please send us a sample of items listed above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like to know if you are ready to to give us a special discount in bulk orders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could place large orders with you if your patterns and prices are suit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r demand for these products i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quite consider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s we have a big turnover, we hope to be given special term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ease let us know if you have the goods in stock and when you can deliver the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shall compare your prices and if satisfied, we will send you the ord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you will shortly be able to furnish us with the information request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ope that you will shortly be able to make us an off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re looking forward to hearing from you so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should be very pleased to make business with you and we look forward to hearing from you in the near fu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ssure you that once we are satisfied with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lier we do not change the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trust your prices will be competitive enough for us to conclude this business to mutual advantag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f you can give us any further assistance, do not hesitate to contact u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poptáv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poptáv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quest, refer, turnover, satisfy, price list, catalogue, sample, discount, goo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REQUE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900000" y="3435480"/>
            <a:ext cx="2247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ur letter should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short introducti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f your compa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opening part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an explanation where you get their address or other contac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quest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some information about what you would like to get from th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closing pa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) Introduction of the compa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a leading steelworks in the region of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 am writing in reference to my company, Ocean Steelworks Corp.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an importer of .....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ur company deals with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refer to our conversation at the Milano Trade Fair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Your name has been given us by the Chamber of Commerce in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have obtained your name and address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m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have seen your stall with your products at the Frankfurt Fair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heard you are exporters of 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 have recently talked with your representative, Mr.George Black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r business partner Mr.Thomas Ward has recommended your firm to u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r.Thomas Ward from Luton was kind enough to give m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your name and address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 have been referred to you by Mr.Jones from Whitefridges, Lt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ave seen your advertisement in the local newspaper and we would like to ask 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r your new catalogue and a price lis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seen your advertisement in our newspaper and should be pleased to make business with you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ave been informed by ... that your firm is one of the leading importers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16Z</dcterms:modified>
  <cp:revision>32</cp:revision>
  <dc:subject/>
  <dc:title>BUSINESS ENGLISH</dc:title>
</cp:coreProperties>
</file>