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65B-4F08-46A7-AB47-13C9C944FC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4E72-FD11-4EA2-9430-7A1433FEF95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07B9-2D6A-4DDB-9C10-528052E541B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6BCB-4338-48A7-AA5C-E7BED52F5EB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1D5-D88B-4D29-A2A1-219114FFFAE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9F08-F71F-469C-A6BA-FE8D20B69AB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9409-805E-410F-8D5F-A46C5D30AD9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BD9A-2F16-4C43-971E-759A6967FA8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28D-C344-4D4E-A022-4E678F2D4C6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3DC-8832-492E-976B-9465D1D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D8C-D161-47C5-8FEF-DBFD298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B7671-D3C4-49B3-86AD-03D806F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89FC0-9A77-4B7D-A155-B8A16B5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CC2C4-A7E7-4E0F-BA12-FA503820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415F6-1513-4CEB-87C0-EC596E65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A888-3441-4D29-97C4-06B9AA5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7A8B1-D178-4AAE-B24D-C711912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043A2-C83F-411A-B610-D1A6E8B5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66928-3CE3-4BC0-87EF-854AB624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F256E-5FED-4B70-84ED-4EB86220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37210-F890-4C8B-A4B7-C64F39C9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FBB-2FB2-4089-BBF4-C25F8F31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204AD-84CA-4187-852D-0AB7573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9377-CD3A-4418-ABAA-4F65B979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C88A-CC85-4EAF-8BEE-3AEE8B9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C743B-8A37-4A47-8C5B-6B39DA1D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733CA-FF49-442C-9BE7-4B962F0C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7424-1ACF-4B4F-A792-0A737105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E7AC2-3A88-459B-980E-A3229174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EB953-490C-4F26-8F95-813909F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780FC-2850-4792-B709-6A08E53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00368-6F99-480A-BF87-CA4B9A4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FDC-DABF-44FF-9B1D-8B3B5BDE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83528-C372-4576-BBD1-CF9BFA91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F1C14-1CDE-4E2F-836B-FBF2B315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E4DE4-494F-4D85-9224-6C4197C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354E1-04D1-46D1-BEB2-5FFEBDA2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ADD2-64B4-49D0-840C-F9A0E8B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C1E63-3950-4A91-A834-95D64ACC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9250-6BBD-4276-BF19-B41CB662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64B11-63E1-4325-9997-529F8B9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D7A16-0C0B-44BE-8E47-2588183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DE094-B689-4420-9A3C-BC5F75E6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9B4F-A3EF-4619-9014-0713C7DB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15452-AB9F-4FF7-91EF-A4B4076E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C94BE-BABD-420E-B255-E5700D46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D81B-9EA9-4FE9-BC10-7394D29A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7E551-675B-4B06-9398-9D7379C2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00C7E-2488-451D-8EF3-AAC1A5D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D3CB4-B478-40F4-8F46-77FC91C5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FD26A-A181-4672-9DA4-3F69BC1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4FE19-A664-421D-B56F-501ACA1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05765-5596-4EF4-AAB4-9625F293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0C438-82E1-42F0-8510-9427C6F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5A3-4A86-4A1D-88F6-890B0165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A275B-E857-4AE1-83E4-099180AF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FF0DD-DD9C-4164-9AF7-E00AA1B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96B36-5C15-491C-9835-375E43C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BD86E-A1EB-480E-A5F4-0B93C49A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3CF3D-CD03-4639-A36D-673D8DBE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FA97A-CBB5-424F-8267-D4439CCD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818DE-B679-40A8-8C4B-E52BC70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9AD21-6341-4BFE-889F-F32E13E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E2FA9-2262-4230-8150-0B0AE577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38186-ACDD-4AF9-B990-D651AE7C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9F0-F578-4F5C-985F-E3234151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64875-8A32-441F-A8F7-ADB37C3A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CBBAF-BE5A-4386-A0FB-232A03F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524A4-EDD7-490D-AF1B-B52A473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AF36B-BEFF-420B-9958-FB50BC3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5691B-3B0B-4743-89BF-AA4931F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7CA16-BE85-4330-8B59-B72CB152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45553-0C10-4B31-A7F4-49243ED8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4E627-5148-4AE8-B86D-947C6222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2751A-F214-45B4-9B73-AA2DC71B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7708B-DB21-473E-8F97-9C193D1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5260-A5CE-40DE-9E83-E831F871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8F19D-8B67-4E20-B936-DE32E6A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707E9-8B54-4CDA-9D73-EF7A3726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8BEB9-A94C-4541-BC63-5782D1F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D6796-5193-4170-85D1-CF78F13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09827-AE34-4CB8-BD77-C50AEA59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30685-6D6A-4614-8BA6-32C53A2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3A4CC-A2D3-4FB7-B2CC-20714C5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8FF5E-6931-4F5A-A08C-4AD3796D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D898B-5AD6-429E-86FD-5052BBB5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D80F6-0B81-4989-8CC2-0827AD99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B410-3D99-4A3B-9727-4CA89E42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99A9B-A739-4C12-88DC-C0CAC8DA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EC8B9-F644-4418-9351-E7482A1F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67E72-52CD-4217-83BD-6649430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65EAE-EFD4-4661-B86A-950BA997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459DE-23D7-4B55-8674-9CF97CF4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716B1-6768-4ECA-8A28-84D8DD9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983A9-938D-43CB-B9E0-FABD286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BCD7E-96E1-47D9-ABD5-B73DEE7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656EC-2532-49AB-80F9-265E018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2F4C1-55E8-41A6-97E8-D35BED5D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4498-02BC-47B6-8D2F-BC5F1E94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E3A82-627E-4E02-81D0-E5AFC4D3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683DC-C899-4664-BCF9-5EC1998D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415D8-9ED5-4071-B44D-49425DA8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9CB28-5282-4F22-B26A-6E1836C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9CC1E-4FBA-47B5-A3E6-0EE4831C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9298F-CD45-4E1D-A973-345DDCBE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D5BCD-7D44-4A5D-AC56-33D346A3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343D8-A74F-4C9D-9976-4894EA7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DBE99-BAC8-4C2F-B712-A233C00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040E0-1B47-4E8B-9672-035DA3C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7DCF-09B9-4D56-8734-CE9F4D0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7359E-227E-4A5E-9E45-9F745FE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DD7DA-E4D0-4EA5-B913-B481B36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88CDB-60A9-4CD4-9715-B98D1787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A5D-8F94-46A5-89D3-D571F23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7956-8BAC-4B9F-9EC3-B64C723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C01E-AB34-4DED-9BA5-E5E7685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E20A-6D82-4477-9F96-5AEED420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1B5-F3E7-4ECE-BB28-EB1B8F65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EA92-1635-4CA7-85AA-FB7775BF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2E5D-2747-4B1F-8FC0-82A24CE8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0169-0028-44DE-93A0-4048DF2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40F8-FBDC-468E-AD88-847317A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D21E-483B-43C6-BECA-D1EAF96D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DA13-3600-4A72-BF2F-72C3FD1A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06C-C591-4997-A787-CD182C7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67F9-8F53-415F-90C2-3A7EA2FD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B2F1-E9D9-4387-9C8E-3C06548D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C195-6DC9-42F4-9F74-94B325C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3A39-7E57-4648-A1C7-B63E667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42C0-0BBD-40B7-A6B8-D38145F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F2F2-70A1-4B3C-9D14-FF54C1CC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935B-8609-4385-B5E9-E6239518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5ADB-4512-4A7C-A750-2F2734F4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2FC7-1FEE-451F-B252-9CE7B0A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1448-017B-47DA-A50E-315C701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792-FC7C-4CFF-BC93-CC48433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B808-9CD5-4300-81B3-E8DC8B20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C720-C32C-45A4-BA6F-9130325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EF38-6285-4088-ACC1-5707ED8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C254-D327-4D4C-963C-6141DB41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DEA9-454A-4F3D-95B5-6AC52C9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88C1-0315-4B1B-AC3E-B3D1FF7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75C3-C60C-4D64-A6AA-6E664C1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026F-9783-48CF-83A1-65727A0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BDFC-124C-4ACD-B6F6-C449E7B1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DFF4-DE58-4293-8C70-E9E5F263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A2D-2122-41E7-BBAD-988FB90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A873-1A3C-466F-886C-7908088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3B84-8F18-466A-99B4-75F99B3D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FE33-2741-412E-B85B-32E4E633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1FEAC-0CD3-47FE-94D8-D694BD12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9844-A364-49BF-9961-B92F656D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B55E-85CC-470E-BF86-02380F2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6412-DEB6-481B-86BC-A4E3C2E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2A91-CA35-4C06-9DE5-577BC49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1C14-C3DE-49C0-A362-1B29DC6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8D4D-D791-45A9-B233-B1F133EF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17A-5FDE-4C79-84B3-7898FC41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21C5-0080-4470-A4B8-40FCFEC6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AB94-D1F0-4D64-B60D-22E71B78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E4C1-E4DA-4AFE-8E30-A0E48E3B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8B62-347C-41D3-971D-EE61FD4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062D7-261A-4E96-9F2D-28264802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415E4-B0D0-4FC5-B85C-B873CE2B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F164-52CC-44D7-A277-7DCB2DF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17F6-CA31-477A-9A4A-61DA0CF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BB3A6-55C9-4402-AB05-DB6098E9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DE2C8-1223-4834-A7DE-061FAAF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45D-AB00-49AF-ACA8-89694F2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2C09-BEB1-4D8C-B07B-3D7D0DA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C56A-7C65-4B4D-AF13-4F61DAFB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A0B9-480E-4419-AB1E-47A6EA89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0B8B8-7446-4550-B41F-43A7840D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B905-5FDC-4F87-A208-61A0E031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8A0C6-83F2-40A7-A541-A5CBACE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28819-E58F-40F2-8879-2DABF41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5ED7E-92A5-4C41-BE53-EA73AE34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406D-BE45-447B-8625-005C6AC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1DCF-1E97-4D46-9B89-AE4C7A0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953-C5E2-493F-B3A7-E4596E3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5225-FDF4-4E44-84C7-9E492A8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794AA-4156-4F62-BFDC-B3617F6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FCA91-419D-4204-8F07-738D93A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E1FEA-8BEA-42D2-9DF4-5C0864F4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DBAAC-A056-4685-928A-517377ED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C22B-D96C-4D28-B696-91BD128E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BE4C-D007-4534-9C70-B76DC8E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95811-1563-40B8-86B5-40FEA70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7DE6-D38E-4EC3-AF76-4CAE6A56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EBAAE-DB98-4D3B-AFAE-0B74023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D79-EACE-40E2-BEFD-6D539B49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BD345-CF5F-462A-88FE-60167F5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35BAF-6254-4591-874A-654C0B3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AF5F-50B0-4411-9309-F10F712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DB64-17F7-4900-85AA-367FFB5E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DA52-195F-42D1-A9C1-632645D9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9725-4C72-4096-A6C7-A91508D9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ADEB-2943-438E-97CE-9FCDF8A6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F704D-6B09-4F89-83E3-24B9C897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C281A-1B69-4D7A-82A4-8552727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89754-67E9-49AA-8340-F6C99DF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B86A-6BDE-4B87-885A-14DC961468E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5EF-7B44-45F5-A5E9-D91E59FC366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090-45A9-415E-A0AE-AB517A4578F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839-4711-4D0A-BD3D-12107E8FD05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BEBE-7296-47A3-9D48-3C94D99379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D05D-5CD5-46A9-B20D-CA4AFA5E9DC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984-4051-4E27-8875-9285F22642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0D2-148F-4DA5-957B-3056229BA0B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0926-CD9A-4CDB-ACB2-4D485F10B06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EBEA-A9EB-495A-985A-E44459C22A1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563-A293-4CF9-B46F-A96B7590A6C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9FEB-A10E-4851-9383-09C0FB4BCC8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A7EE-8AA9-4EB7-850A-53140FCD5D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5FD2-9434-408B-937F-9E33816B61D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71B5-A6A5-4877-81E2-DCC468B1D18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00FF-E972-4B36-B240-57431E722B7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directly to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ultiple store group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arker → wholesalers → retailer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ys how customers can learn about the produ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olves packiging, presentation of the product, image, brand name, advertising, slogans, brochures, literature, price lists, after-sales service, training, trade fairs, trade exhibitions and public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que selling pro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atures and benefits must make it unlike any other product in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P → 4 C 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duct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tomer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e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st to the Custo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ce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oti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mmun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O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eng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reat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definice pojmu marketing, vysvětluje jednotlivé části marketingového mixu a SWOT analýz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, marketing mix, product, place, price, promotion, SWOT analys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marke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ocess through which goods and services move from concept to the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ct or process of selling and buying in a mar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have to produce what customers want not what we want to prod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have customers focused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carry marketing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produce and supply exactly what customers w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keting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766120" y="2693520"/>
              <a:ext cx="734760" cy="29685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4776480" y="3683160"/>
              <a:ext cx="734760" cy="98928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H="1" flipV="1" rot="5400000">
              <a:off x="3787560" y="3683160"/>
              <a:ext cx="734760" cy="99000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2797920" y="2693520"/>
              <a:ext cx="734760" cy="2968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2"/>
            <p:cNvSpPr/>
            <p:nvPr/>
          </p:nvSpPr>
          <p:spPr>
            <a:xfrm>
              <a:off x="3801600" y="234324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3366"/>
                  </a:solidFill>
                  <a:latin typeface="Arial"/>
                </a:rPr>
                <a:t>4 P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3"/>
            <p:cNvSpPr/>
            <p:nvPr/>
          </p:nvSpPr>
          <p:spPr>
            <a:xfrm>
              <a:off x="8334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4"/>
            <p:cNvSpPr/>
            <p:nvPr/>
          </p:nvSpPr>
          <p:spPr>
            <a:xfrm>
              <a:off x="281196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5"/>
            <p:cNvSpPr/>
            <p:nvPr/>
          </p:nvSpPr>
          <p:spPr>
            <a:xfrm>
              <a:off x="479088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LA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6"/>
            <p:cNvSpPr/>
            <p:nvPr/>
          </p:nvSpPr>
          <p:spPr>
            <a:xfrm>
              <a:off x="67698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MOTIO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ods or service you are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age, design, quality, reliability, featur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t be presented and packaged attra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products must replace unattractive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Should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value of the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ustomer´s ability to buy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ces of compet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and how the product will be s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ys of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vailability of the distributio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plying and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9:57Z</dcterms:modified>
  <cp:revision>28</cp:revision>
  <dc:subject/>
  <dc:title>BUSINESS ENGLISH</dc:title>
</cp:coreProperties>
</file>