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E800-CCB8-49E2-BFC5-5456AD7F07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309-7FB7-460C-AEF9-46E24A8B29F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3B05-1EC9-4B2D-8404-971BE0AB4D1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751-8CD6-482E-A36F-BA0407DA484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5988-BCA8-48F5-9637-6338D182753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141-1594-479E-A6D5-1CFCCF034A2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F72D-23E8-4BE8-9631-C475368B198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2D6-3787-4238-8E51-61626EBF995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283-3073-4958-9A9D-CB9817C63D0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E13-05BE-4F8E-AA45-8DDA0301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82A-A4ED-4457-8A27-4E13920F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AF1C-4C3D-4C50-BA86-204F1D3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40880-CFBB-4FDE-8F6B-1D273C8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DA7CB-7609-49F0-825E-2045556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C1AD2-6760-4CCA-8F29-CA30852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D59C-BE09-4B3D-B4CC-12B157F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AE20F-9CA4-4E4E-B64B-23A5E47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B62B-0AAF-438A-83EC-23BC034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08A37-B01A-472A-A559-BE30E616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B2A45-82D8-4C57-9384-BAAAAE5A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28327-7EB4-428D-8EF0-343DE2F5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D69-4253-40F1-859B-C5442BC4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AB26A-A0F4-4447-92A9-D3994A8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3C98A-7963-4840-82DB-811C151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A3E7F-36D2-4F60-AB14-43A9A10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B5A86-7C65-4B58-B8B2-5127C665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D7F1-AACF-4A65-9CA3-B5AAAF21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9840-958A-4C40-90D5-3E7329F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625B-4A80-4272-B62A-16B87E2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19299-BB18-4932-93CB-1A6D23D0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A2752-A8AD-4F1B-832E-D56EDCC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993DE-5677-4442-8E3D-C9B7C42F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514-67E7-44FA-A50F-D24D02F4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02569-EACB-447B-A276-CD16D518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C98D-15FF-4469-B73A-7EBE29E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92D98-53B7-44AB-A1E6-EB09C1A8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F20AC-D2A8-4C7C-B5A6-F54545D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69F1-E1BC-49A3-AEC8-B3743FA7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4CEF-4FAD-43B7-9BC0-AB296FB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EF7A6-C76E-4BB5-BD5F-49DE8466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D8A8A-E324-4B91-ABC1-3575CAA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F817-487B-4940-9D0A-B03C05B0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D3E6-9F27-4977-A0AA-6FBAABC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6D4A-417E-4A40-9CBE-93368828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81EC-90B4-4890-9F6C-0D03DA9A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EBD5-2981-4891-9802-78DD1772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1150-8EEF-44E3-9CEE-19737B5D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CE748-22C4-4716-8496-DD8349AB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DFE76-2315-4EE5-BD0D-DF666152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B1B44-A318-49D4-8B89-91552CE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8EA3C-5EDF-4EB8-A6D7-416BA2F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47901-A311-4895-8F8A-AE0ED74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17D31-AEEC-4081-89DD-B55C00A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825B5-4BEC-4DB5-9C0F-13B6321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AB28-8F0D-4EFE-9F85-A7F0B48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D7997-EB44-4082-8F7A-3B38D43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66770-2C0A-4C24-A9C0-E663BFE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988D1-CC70-4F95-BABE-EF0CDA0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85053-08B0-45EF-9B5E-4716B249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35CC7-3726-4D34-9102-BA3232FC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3322C-7ED6-464B-BB61-BB9D0FF9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ADBED-8146-48F7-B2DA-086E664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67B72-638F-43AB-8679-B1A1B7E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DC650-4F5B-4002-86E7-10F109F1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9D1D1-3F63-4ED4-A198-C80D860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47EB-324A-4F62-8E57-5916208D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0F1E9-C017-4AE4-A8E1-78D5076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3EDD9-27F3-4F96-AD22-BC1ED33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9D8AB-1AEA-42C7-82C5-ACF5B90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C7CCA-D8E9-4930-9348-5669243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DF1AC-677C-451B-AFD3-B65BA95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3E837-C1B7-45E3-89FE-8212C96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91D83-E1AD-4507-9B4A-ACD8AB21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935E5-1AC1-42BC-98F8-61A97B1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CDE51-D3E2-4145-BC89-9AA97061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683C8-67DF-4ADD-A007-DFD432A3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42E-B15C-4A9C-B4B6-60CAD0D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D8CD8-3C26-466C-9512-C62E75C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9B3D4-597E-4C36-8BBC-7467A68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569CA-8C96-4509-B42A-57D3248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21FB6-4E66-4B88-8194-E87E8CF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7C930-DF80-44FA-9BD3-CE35B0C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97853-B2AD-46DC-A19B-C93896E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F5FF7-B9EB-4521-BBBE-FF07A6A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F82BD-5BE1-4C86-BD06-A74498B0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E912B-80A0-4199-870D-CAB16440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AF782-1BC4-436C-97FC-A2382DAD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257-721C-4A3D-88F1-F7EA46F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97FF6-33FC-4BD7-91F9-70A973C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38168-0086-4CFE-BB41-7DDF51C6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F4F02-A247-405B-B2F2-B03E5DF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56146-F827-48F4-846B-ECE013B3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23214-9E14-43AC-91FB-4B7FC35D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68537-4F8E-4024-AA83-14C45E22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88A81-CD9C-4FD3-B91C-4BA2510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8A095-5334-46CC-AA7E-621BDD5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39C5B-B2EA-494F-9DA8-C4199058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40527-6D1F-4538-BFC9-3A72FE15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C5B5-3E41-4D16-B6EE-D54B2817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52117-2583-4F6D-97E3-7D78A6D7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045AC-8F85-4E83-8FBA-3D4183F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57EBC-4D3C-44E0-8C46-5246137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F18E3-3903-4E4B-B662-18CEE3B8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5D588-0839-4510-B356-F1A8A78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0A55A-5C2B-48ED-9CE7-A89EFCC7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32257-0D21-4948-9A16-D0CF9BEC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04F62-68AC-425A-B09A-282A08B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CC88F-AE19-49B3-84BE-465DC19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F22D9-2E9B-427C-B91F-498DF20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8B8-0E88-4B5B-AD0C-E5FBD0B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925FA-5745-40B5-975A-8D992D7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0BE85-C956-4FAE-BDF1-E215431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7D3FE-DC1C-4626-BA27-B3E3C056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259-8D51-44C6-A4DF-7963D31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D22-96AE-4DD8-9996-60B72D5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CE2-FC64-40F0-BDA7-6AA85BD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3C56-7DBA-4F8B-9C99-7ED62D41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4ED-2CDE-4F11-ACE5-EE896E4C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9B80-3FF1-4656-9F36-33A72254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E02D-FC8F-4E88-8F28-17507C7D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87D3-1510-484F-8E7C-E0CC5A3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214D-C1B1-4D3F-8EF8-54F6A23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FFBE-3C9B-4D4D-B197-B0A25FE5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C757-DB6C-4C0B-AE09-3E5A7D9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FC6-AA96-471D-88FA-5CC796EB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2332-693B-4BA5-BD82-3275AEF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700C-4A6C-4F7F-AD9E-8F01227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E96A-6AF0-462E-BE78-43C25D5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8414-17A7-4F58-902E-6C6332D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AB96-2905-4673-A89F-799DBA54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4E31-3A2D-4551-80F0-50BC8B62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5350-AE74-4B6F-B4B7-412AB62F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0F98-109F-46D1-98C5-F87B4D78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2446-DAA7-4E8E-B687-7FD66E1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BA90-0389-4334-B48D-6B52B5EC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D3F-31F7-4AD3-A351-F21946E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765B-4739-41AD-B13E-E84B6124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E4B0-4EBA-4893-9AFC-DD7E781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844E-59C5-4097-B234-BB7695D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65A3-2E68-4291-AAEF-4DB0A01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E51C-5F7F-4409-8547-AECA927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9F75-95E1-4A8A-8A01-206B8BC9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4667-5ABF-43D5-8614-57624CEB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3E41-EE5D-4165-AB53-6B188DA5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3FF2-CA5F-49CB-BCC5-5F20A33D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F610-34DD-4FDA-A9E4-EDFA0AAA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4CC-D4D4-4E93-B852-52DCF0E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45FC-4A83-46FD-B038-63EB9A0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9EE5-31B4-4556-88B8-4C32032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43543-28CA-4875-9115-2757742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A29E-5116-4A68-9F74-F4DFDD06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B077-64BA-43F7-BD96-63341180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DBF2-B84D-4F92-BB31-EC7ED8F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EBA8-031E-4C15-A69D-411B5A8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E1A6-633D-4214-8F56-591DE90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C8003-FEF8-4EBA-B4EF-E254C15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9DD3-1B60-4214-A7D1-04D95F00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D8F-FF4D-471D-BC07-0E26109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C590-2B05-42EA-88C9-79B658FB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B945C-4AA3-4AF4-A39C-FE069A27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85F3-F8D3-4153-90AA-F1C0AC03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5AB2F-42CB-43A0-B3F3-01DC34A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96C9-0189-4117-BF1F-5C98696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9DE8-C7E3-4E1B-85AE-3220E8A9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81DEC-F9CF-4FC2-97A3-7BA930B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23819-E5F2-41D9-8AFA-800E578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78DD-3918-4C38-A735-30F1BA9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C6EC-1DB8-467C-9FEB-AAFB7D4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09F-53FB-4D61-833F-04638A5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25A2-C9FB-4CF7-81CB-0E17AF44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1CD0-1403-4C3A-9638-E6F165D1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69E7-E163-40B8-A815-7A75AC98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0A81-CF58-467E-8A55-A92EB279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2CAD-BC88-4C18-9F54-FCDA1A2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0BB6-35ED-40CE-AAEC-826169A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35C9-1324-4777-98DC-6E506D2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E87B-96E2-4D64-B049-AA11EE24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524F-950D-43DB-BA15-F4C527D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519A-C03C-45A3-B9F4-8BE4C17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42B-A7DD-49F2-B095-A79437A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C904-420C-429A-AA52-6385033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8EC6-1126-423C-8CA9-9FC3AF02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600D-CAE8-471B-BDCB-D61E334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BF5D-8C8F-4BAE-AA8F-1E426257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CE2C-CC46-4101-B269-80E58513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2879-B8ED-4A8D-A51C-24DC9A8F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BFB5-BF02-42F5-AF77-BCD61505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1437-57FF-48A9-AAF4-0B2ADFDA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3E644-61AF-46DD-9645-16BF2CC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BECC8-9E19-4FEE-80EC-23D2C35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323-8745-4F41-B137-4C3E5272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B0F1-8339-4F4C-AC57-EDC06A90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8CA71-CEBE-489F-BE85-4A0354C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B3AE-5D00-48F1-944C-44BAD82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6875-5AB4-4FA6-9522-9E038C3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5B95D-7EDC-4232-93A7-0E1579A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6CBF2-16EE-4D37-8D05-8575FD5E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D1D0-B9C7-4C42-B177-4B0DB8EB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2DB9F-8A6E-4F24-BA7B-A6BF55E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88096-DE25-46FD-AF99-565B91D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C3F8E-317A-49BC-A5B3-4ACB571B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4642-9CCD-4AEA-9A17-C9F91C7C909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54E-494B-473B-A284-9D02FF7D876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58A-051A-42BF-9097-FC1FBFB06A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338-B4F7-4C96-8927-7E3436D51C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B00-2163-445D-ADEE-E03F4E416A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253B-E142-43F3-926C-8B1FC724C29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CD5-9AA3-49B8-8A15-1F0BF85801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2E92-BEB4-478A-A683-9B2FC8157E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16D-9262-473B-98CD-7BAE0006764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FA3E-57B9-483B-BEF0-5E6CCDDC6D4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03B4-95EB-4DC9-89A5-59A3F9D9DF5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588-F47C-4CDD-8EBA-9CD95F187B4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FB9-051D-4F13-AFE3-2B5541255B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663C-F765-4C71-8274-3DE84AD1EAD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0356-7B7E-4259-A00F-6E7518EFA5C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F79-6E13-4921-99E4-542D348CDEC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, pictures, videos, n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nd receiving e-m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tting with other people via messenger, skype, icq and other ways of commun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uying goods or flight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oking hotel accommodation, sport or culture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sentation of a fi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rsonal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3" name="Obrázek 1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dy of an em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sing li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6" name="Obrázek 1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791160" cy="223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should 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RTEO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9" name="Obrázek 2" descr=""/>
          <p:cNvPicPr/>
          <p:nvPr/>
        </p:nvPicPr>
        <p:blipFill>
          <a:blip r:embed="rId1"/>
          <a:stretch/>
        </p:blipFill>
        <p:spPr>
          <a:xfrm>
            <a:off x="5940360" y="3411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působy firemní komunikace prostřednictvím emailů, telefonních hovorů apod. a představuje základní fráze pro komunikaci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, telephone call, email, communic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ELEPHONE, FAX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Telephon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Diagram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68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ood ideas for telephon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Make sure you know the name of the person you are talking 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ke some notes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peat any important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firm the mai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ound interested, helpful and ale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ginning of a phone c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morning, this is .... spea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n I speak to Mr.Smith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d like to .......... please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afternoon, this is .... from Whitefridges company, can I talk to someone from your  customer servic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ssible 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es, of course, I will put you through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not in at the moment, could you call later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away, would you like to leave a messag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busy at the moment, would you like me to.....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eaving a mess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ell him I called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please ask him to call me back? My extension is 231. He can reach me there until seven o´clock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ake a messag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ll try to call later again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…..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elephone receiv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dialing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engaged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ransferred charge ca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international 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hoo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Obrázek 1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18Z</dcterms:modified>
  <cp:revision>23</cp:revision>
  <dc:subject/>
  <dc:title>BUSINESS ENGLISH</dc:title>
</cp:coreProperties>
</file>