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28D8-A80A-4650-B85F-DC732815A2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750-593E-47C8-B752-465D25B8F80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8F4-FB37-4C9C-9F93-CD65854B7AA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C36F-6C23-45FA-9302-2B1E01336BA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84E3-1028-4B7D-986E-4AE60E5E198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E33-AF11-4422-AC68-7E90FF3BC6A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717C-CC0D-4D99-84B6-EA32376D6AD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E548-CD58-45B7-B9B9-719275ADB10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8B69-BE65-466B-A2DF-41EDDCC96D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7F-947D-440C-A502-E6FBE9A0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4DF-1030-496F-ABAD-3F9E24EF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0CE77-5D01-46A6-8FF6-3AEB9312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B9656-1E0A-4853-A4A2-49D1657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25A7F-AE95-4FF9-AB5E-F4F90CDE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5AA4F-4696-4577-885C-E93518F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205A7-047E-4875-867F-F695FFAE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FA080-85D1-433B-AF63-22FFC94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FC4C3-C255-416A-8F38-36AE04B8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6E497-0004-4219-9A9B-350BCCCA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75B0E-D042-4B8C-B316-6363697B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C9396-A123-4530-97F1-A368C537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BE3-1A48-4B34-B2FD-11C4CB50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7C111-832E-4E31-8479-D421AF49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3A0C0-536A-42C5-8D16-BD39F8F4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CBB68-B143-48F9-9C81-B08141A4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8D56A-AFF3-4892-BD71-F5658CF1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0E58B-D697-4278-A00B-FAF27340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6E09D-C758-4F83-BEA5-055F6D87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07174-048B-4B7C-B962-C06B6ED3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20E7F-83D4-49C8-989A-04A72E0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F6870-816C-4F78-9231-AE8F6F66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FA678-AEE0-46C2-A104-920B4DF7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93F-1036-4724-ADF2-1F07DDD0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6B043-6F31-4BAF-AA09-90ECD30D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42B28-32CD-4289-A073-345149B6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A0519-FE7E-408C-B49B-779C37AF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83A73-02F0-4F2A-82D4-884B0CDA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48C0B-1825-452A-A07B-463361B8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3CC17-AC29-4820-8928-61D72271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62A77-99C1-4B29-B93E-223D4EE6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7934A-15AC-41B4-81B0-D9F9362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5A4EB-E979-42E6-95FB-B0E3D67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FAA1E-BC60-47A6-A906-134C468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AF7E-4396-4572-94AC-9056E6CF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0FEEE-744F-4954-8168-EAFCD442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36C05-E749-4541-A87D-4A58A734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B7E3D-B60A-4324-9A62-4E70ACFF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43DB9-EBDF-4A2A-838D-ED0975DE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F685B-E0B3-47AD-B12D-4A6643C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06DA9-0530-46FA-A6DA-C7F78C4E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394E3-4ED5-4C0C-A553-A16C4B15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077BF-1A5B-4D71-B471-82BCD876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F040E-9BA4-4087-9F17-AF1B601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B78DA-B372-4A0E-8661-4281E62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7797-5D1D-4542-BBA7-78D18E53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9169F-A13E-47AC-A93E-A215608D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DA7CA-86A7-4205-A6A0-985A89A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41DA1-0CB8-4C81-B77B-219B6524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B9BF6-49B1-4D0E-A85E-4A61C409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A99D3-6074-4348-A955-A576DF45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63A85-5979-419B-8F04-643625C7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01C8A-8F87-467A-82CD-6F64A139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7EAE4-9CE9-4EF0-B536-A72E3ED0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733AC-87B0-4A2B-8D0D-8C06A672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312B9-5F8D-437A-8B81-FAB5D098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74F4-B682-43D6-8F61-E9E7A615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7CFF0-1B57-47B4-A75A-B488DC37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8055B-0740-46CB-9EF0-E403416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2AC67-B883-4714-9AA6-3352792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64BBC-FD34-446A-8E47-A263B4C7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35D13-DAEA-4C1D-A2E1-EBB41728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AB3F5-6909-4CBD-8552-683B6342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44BA2-ADAF-4521-A6A1-CA91E8E0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26648-C9D4-47CD-A95B-768D4D03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AB119-92F0-46FA-A17A-3F9A4866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194C4-BA81-464B-845E-6B2E161C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CC06-E563-4026-8042-BF82F46E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F3A12-F0D0-4F1F-A4AA-B693E130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CBDE6-46AD-46B2-A033-29E1C676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5CD66-09D0-439A-A291-A3CB7E8B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4EF48-EA40-47E3-B332-CEE9BE8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BF9E8-FD7E-4016-BAA9-B30DA4A4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BF149-5F9D-4F23-9BB4-B8ACE14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E314D-0BCF-4F24-AA8C-9DD50D2A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C9D26-F687-4424-AB64-7792EF1B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D2322-F622-476B-B742-CDE70A77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26937-CF61-4B89-82EA-1E5562F1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D51B-03A9-4E02-A55F-6143E2B5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E9CA6-2B69-416B-B770-59BBA774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802A4-6967-4CD2-B3E2-386991E4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AA765-E574-46F3-AC32-E866F8B9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A6541-0E80-4627-995C-0C866B4D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C6187-A907-4930-8BB5-B207CD4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5176B-EC0F-4F4D-9003-C84DFB7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1BFC7-1C86-4816-98CA-FC27652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849E3-7C21-406A-9B71-0CD05A7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7D561-2A2A-4F6E-A54A-870D2283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11C49-E91D-421C-9056-B21C4EF9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C12F-C591-4E52-9CBA-E8C89DC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2C81A-16A0-46D7-90B9-AB713153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41BFB-CC28-4749-A660-C4C6DAA6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F6388-3BF1-4123-826A-09E7EA4A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691F2-F395-473D-BA32-67AF58B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A333A-B1F1-4A11-8AB0-7AF6418C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64E0E-187C-468D-B21A-D34E5561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1E8E6-916C-4B3E-B2E0-8D80EABC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30BF4-6B48-4AB2-8929-BAE6B85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D6AFB-AF5F-4DEE-B2FF-543A166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ADBF6-2A5A-4B8A-ACFC-C429E69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170F-6E6E-4CC2-8F09-F662D10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3CA91-3CAA-4A7A-A7B4-3760E0F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29A04-7C4F-4591-99B1-4D5A37F5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0420A-9215-4DA2-98A6-58C609B5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CB3-C2A6-4E56-A18D-C4F49B3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DCF0-E6B9-4BCB-ACB1-3CA5F5F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2F3D-0BC7-449E-BEA9-794A192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AC8A-D163-4BF4-B880-0C3BEA32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A0B7-0655-4E7D-A140-4B6AE1FB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F021-5228-46FB-9EA8-30686BDA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F582-D51C-488B-BDDD-EF103B13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B814-D41F-4220-8063-7636EEF1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5D8A-EEE7-4E14-BEEF-FAD1C39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A999-8EEB-4473-8073-573D756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F9EC-4D00-42CE-8FE6-460BD4BE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90D-A7DE-4B7B-B411-76CC47DC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27A3-843D-48B7-B572-491FD83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FB91-410A-487A-8D69-7E99447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2874-2550-4B60-B2ED-041A26E6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B34D-6C2E-40E5-9111-452CADF2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A636-75D3-4716-8F04-007335A8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E938-791B-4035-9003-1E6ADAB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18C1-1E6D-471D-AB63-A3716670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53AB-3364-4807-B67F-80FB0D54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9F08-741A-40AD-989C-F8800D70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E9054-0FC9-4F2A-988A-8D97AF8C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46E-D7BC-4759-A595-85F046B6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CCD2-B60D-413C-847B-0270BC7C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313C-75FD-4609-B2B1-C011728C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2235-ED03-46B4-9FE0-548BD0DC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DFD61-5678-4636-9932-39FFDB1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3FCD-2419-49B8-BCCE-7890DA9B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88AE-6265-449F-A90A-289DAB5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D6FAF-0B51-42BE-9867-9EDB7932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2EDA-FC4D-4C40-A283-8E533FBE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6359-C52E-4324-8AF0-EBFBF328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2A6C7-2B54-4C16-82FA-E64C8632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601-60AF-4928-A237-8D422CDE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FFEC0-016D-4AB6-9B7A-E8C57A28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9DBB-CA7E-44F7-AAA5-3F9B110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0D7C-677D-4393-86AD-575363E0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832A-6442-4F7B-8BBD-40E0ED4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7CF3C-1308-4893-AE39-D534757D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8482-7122-4195-879D-F91A9419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A10F7-B5AC-4A34-878D-638DEE6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B31B-F3CC-431F-8095-94FB0F44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94461-5193-4767-83CC-38C71505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64FB-AC31-4627-BFBA-79C59B5B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FC2-0C5A-46A7-A4E5-1A4F053D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272BD-8515-4ABE-8F4A-C911119D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F1DB-5D58-4509-A8E4-978CB357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B09C-3912-4849-82B0-C16AC32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C8C97-7D07-4726-B3CF-EDF77A3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8442-5CCB-49D6-9DBA-792F7E6B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8DEA5-2A98-47A8-B931-47BD296F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1A2A0-5066-46E1-81B2-1C97931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B5B7-B521-4A1D-93EF-3960A72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DB75-51A5-4D85-9934-E0FC5C5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4F4F9-0772-4AF3-8D0A-E62AC0A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FE0-98E3-4046-ADC1-966FA5F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E4EB6-D5FB-4E9C-91B9-F93AE130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4A0B5-FE87-47EA-86D7-B6A260B9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C0450-2590-499B-847C-1BD281DB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8BE6-2727-4390-88E5-2B177E28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37DF9-1D05-4660-923D-72D7BDAE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07A06-8E0E-4C52-9FF6-CA9D20D5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E75A7-4931-4155-ACD2-E5AB55E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E1C8-9FC2-4468-B606-EE189724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FAF0-3452-4DAA-8179-32E16F5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68AA-F62E-46A6-A748-CA21E8C7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F0B-1BD3-4E77-ABF5-15132BE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9FC95-D192-4487-A15E-6A44669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1419D-2058-4893-AA45-14D4330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0AC3-B008-4805-BC3A-7085A27C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AAA5-1342-491A-9DE8-DCE8A0EE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3DAEC-D5E9-4A5D-81BC-254F0DF3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13E7E-FC3F-477F-AB3B-65BA74E7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01EB1-AD09-43F9-81B1-D31AE06F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75E66-2BA8-4DB3-9EB3-EAD1BFA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3FC3-BD91-4457-9787-8C7387A9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5545-B516-41F9-B66A-B1AD913A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AF4-B7DB-4A23-B26F-619591A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10BA6-83E0-4651-B687-C46450A7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78B7D-B3D0-4975-AD6C-830D49A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4E84D-BDBF-40D5-9497-AA8D536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3AE4E-DA6C-435A-9075-6911ACB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26D59-A05E-4718-BDD0-6B55EA4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809B-9615-47A1-A014-F4C9CEC8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255CB-E329-4523-87B1-8E873360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A2B86-1EFE-4CF7-9EFE-1DBAE53D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27EB3-E6BC-4F5C-81E0-A8FDB26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FED96-F6F9-43E5-9C2F-B2E7C270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2C42-B635-4594-8172-53C47E6A916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F39-B7E4-4191-ACA8-E574E2E64F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7D80-31C1-4E1E-8962-D3866883B05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B136-337C-48A5-85FA-C7B92AFA273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8860-8D11-45EF-998A-5031D6D2B1F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E158-AFB6-4357-BD47-999E087398B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1F5-8F6C-4B15-BEEC-405402307BE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9363-044C-49F0-9554-48EC584C532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9037-C9F1-4290-95A4-C2D0FD673B0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099E-ADF5-47F5-80EA-9D31C25F9E7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EF45-1761-4E01-A6F9-E652A808FD2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047F-B0B1-40A2-8A03-525B65A7FC6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76FD-94A7-4DBA-B582-4AAF334FF34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0C9A-FF11-444F-A024-1B55D4DFE04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1237-4201-4D91-A409-4EB312C8325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9DE-CB4B-4C95-8F14-B61F5ADEE73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 as a persona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sent job and posi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asons for leaving your present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vious job exper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trengths and weaknes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kills, talents, abilities to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expect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future pl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 to lear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amwork x individual wor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ingness to tra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bstacles (long working hours, weekend work etc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alary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(compared to the present on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enef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eap housing lo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nuses paid in a „thirteenth month“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ension schem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ee canteen mea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ong holiday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lexible working hou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ome good adv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be late for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lie at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ar appropriate clothes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ak slowly, politely, don´t use colloquial expressions and vulgaris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Be yourself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21. INTERVIEW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hov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typy pracovních pohovorů, očekávané oblasti otázek a podává rady, jak se připravit na pracovní pohovor při žádosti o míst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Job interview, applying for a j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TERVIEW FOR A J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ying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 cover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urriculum vitae (résumé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for a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job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ne-to-one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nel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ep-end intervi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paration for an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 about your potential employ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prepa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pplicant job interview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earching for some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ewspapers, magazi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om people who work (worked) t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view prepa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appea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Questions prepared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etting ready for unexpected qu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icant´s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ncerity, veracity, forcibi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27Z</dcterms:modified>
  <cp:revision>20</cp:revision>
  <dc:subject/>
  <dc:title>BUSINESS ENGLISH</dc:title>
</cp:coreProperties>
</file>