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43C5-ED49-4DB5-9B4D-F7E68182571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FCA0-153A-460C-9A91-5334612C10B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A2AC-BC24-41D1-A0B4-C9116F9DA34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A75B-7D75-461B-A316-379A331D6B4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C356-8C4F-4B56-830E-5DB48DBD0A7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30BD-C8BC-45B2-A254-57D8F5CBBA1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C588-2B53-460A-91BA-E928254FCCC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0809-5356-4DEA-9FA3-A495E91E3FF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44BD-23CF-42CF-8788-F702DA77F5D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348-877D-4D98-8994-644400E9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DD7-0523-485A-84AD-79EDECCC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F5210-5EF2-4027-AD6E-EA3EB2EB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658FE-5A25-4A70-AF6E-6C9293D2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B1B87-EEA0-4DE7-91F4-BB888F46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19E52-CF1C-4C46-8FF0-5F1C39E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6E378-11F4-490C-B989-8B9D4591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1861E-AC6D-4C5A-861F-5F2A32BC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DCD6C-3AFE-4047-AD8B-39D5A858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8C291-34B1-4F0C-9794-17609A5C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29DF6-BA8D-4EC1-A6A7-32B4A6FA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B21DC-BB7A-4469-AB6E-F1F8344D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AFA-F032-4A1B-8641-CF7491BF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C2A6E-C80A-4457-B9BA-23200451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7A050-A9F4-4718-8F3E-45CF6F3A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4E0A4-7574-4742-A8D0-76762067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D8C70-4009-475E-93F6-B542B89F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6E4A0-89EA-4C32-B20B-7B95EA1E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82900-3F4A-4726-9ABF-642E787A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6CDB6-6827-4EF5-930D-EBB12737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2F0BD-6440-4D71-9833-4ED70741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35787-E5F9-41AA-82DE-DFB14609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C35FC-388D-424E-93AE-094C09B8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D59-4821-467A-949F-340D959A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73115-035A-4CC6-8E5F-758F42C2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C462E-9A22-485E-B728-86B2505C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D1F19-38DD-471C-B080-9A21CA49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FE435-F159-4D42-BCBD-71D0B13D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9ADDB-F9ED-4030-AE08-7DD4A038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36747-D3BD-4063-BFFF-8F4F86F6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BC6BB-4222-47A9-B97D-CC501508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4C2AE-4A23-499B-B24A-1889E71E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F4DBD-6DAC-4C5D-A250-E61E6B77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DCD1E-2CCE-4684-897E-EACF1A64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3D2D-349D-4B31-915E-B34F36F5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E40E1-775D-40D7-A601-21D491AE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57E1D-EAD0-4127-B90E-A1730756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9DE5B-7BD1-4FAB-8678-E8A27EEC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05FAD-50B8-4321-8F3D-3E764CE8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F72EE-2724-4924-B3AC-5025075C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29DB7-F7D0-4512-8F9E-BC03B67D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22D52-937C-4D87-B69C-118FCBCF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FC078-BF7A-4EB2-83E9-FB0705EF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CA272-767E-434C-B99A-1006C35B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DEA84-7128-4D96-BF23-2FC314A9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E340-30F2-4C88-B719-914A562A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594CB-24F6-4839-9B5C-BF386817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E54E8-5273-4823-86DA-A19FEAC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47240-FF4B-467C-A102-E7BE9B30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2E35E-6E1B-43C3-A73E-1C580F2E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4BF2A-96F1-40F3-A2D4-C6D714A8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55009-9AF3-429A-861D-3F77F469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E4C7B-2713-410A-B4B8-80C16F79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409E2-A3AF-4008-8C1F-C31C31E0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C3E40-F601-454F-B9BC-381E01E2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4061C-28C4-48F3-AC4B-9230FF3D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10E5-1E77-4736-B68A-E024636E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FFDF6-4ACD-445C-A1EA-ECAE1E61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E4194-D6BD-4129-8DF6-B7CCE188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89B5C-912A-423F-81B0-F415AB3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0C292-9BC5-4A44-B04B-EE18A5E0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87F63-AE0E-4048-AA56-8F46CCA1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B84E6-75D8-4D82-8F54-A527D43E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CA01A-E15F-4F01-AA81-2A02B64C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8508F-01E2-48FD-BE19-41239D0D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0C548-F6CF-40D2-8C3A-8B3B7CB0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488AF-F831-43F0-9521-55B369BA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6BCA-74B2-4C9A-947A-706BA427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644A3-BDA5-4CFC-83A9-253C6B0F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C62F2-D383-49B8-986A-A6C61B87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36815-FDE8-4206-AB22-C768F85C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7083B-0B1F-4E46-9B00-AE99C96F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E4745-A59E-4E7C-BFB9-717824BE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515D3-8291-494E-AEE0-3D6BCD61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99B86-FFEA-4160-B6E3-5ACD19F0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8B149-4AD0-4626-8DEC-66596C79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21CC2-F2E1-454F-90CA-7EFA21F8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A9896-18E7-4DB7-89A4-A898E01F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AD54-CC97-4259-8205-6DF53706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DD68D7-822E-4A40-8D32-0E4A7870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BB022-E207-46EC-B711-FDBA7BBD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1C60C-CFAD-45CF-99C7-7F430C52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88D1F-3154-49AD-9113-5F5984BC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140AF-9EB6-4D3A-89D6-B8DA5BF4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EAC15-34F7-43C4-98B2-3F281B0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C3E4D-06A9-44F5-8849-836946A7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EAC9B-30CA-4EA4-A475-40CFEC06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E2B7F-FA98-45EA-A193-32BF1584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C55B3-28C1-4754-8191-E154ACB6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3106-9CCC-4621-ABAC-5A76699B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6BE3D-75E3-41EC-B900-CF50C6E5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9B1B8-DDC0-4FBE-ADC7-E1DB9B2E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3E1499-34B9-46EC-B2C1-F8C24A66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AF689-E7E2-4C22-8914-810A774D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FC3B2-4AB2-4E1B-A334-69A88953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E05CB9-0AD6-46B7-A126-8312CD02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A66D1-5257-484B-8821-DEC07524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73239C-A296-42BC-989B-CBAB8E48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21E3CE-585D-46C0-8B2C-BD91A0AC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DDB03-3E8C-41B9-A36D-0DA14104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304D-3B13-44A6-BDE7-EF4C8E6C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26D2D-9091-4DB0-BC33-8F6BA883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54FF3-8E49-4E24-9BBB-0E5E5358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9EDD6-A67B-48FE-9B36-624A243B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6A3-C14C-41AC-B403-207E5062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EABD-CCA8-4615-A663-96F14B86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0E80-3093-4A66-81F2-393BE47F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BFC5-9768-4C64-A73A-984DECD3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058D-A4E0-4140-9422-83FFC984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5ABF-BCB9-4436-99E0-C88D74DF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2ACB-1A44-4642-AA2C-BB85A23A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1E93-FD27-4ACE-9236-11AA8320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5038-BAA5-424B-BFE5-BEB93D80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B8D3-8CE2-42DE-92F4-27CBAC9D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02D8-6B22-4E80-866D-447C33BD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FA5-9C06-4047-85FB-EFF3CEA0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F68D-D834-49C5-8822-52807396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DE890-2269-4E87-A295-0C7FF0AB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F22F-5958-4BD8-8261-662B0B1A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31EF4-CF6F-4727-93F6-AFD6740C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9F10-8786-471C-A8AC-B8D4CDCB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CD83-61E1-40C5-B773-9B949D10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DF19-8DE3-4B50-8BE2-AE72947F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AA9C-488A-4E18-99F2-40C32A6B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6F4F-6139-475D-9657-83464D00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5D15-47F8-40BB-BEDA-74AF567D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B71-CB06-4561-A814-BD617550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8752-0DF1-49B1-BAF9-51EBFA3B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8B488-C4C7-4B9B-B3B4-D55D444B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63A4F-BB98-46D8-B58C-517C6E36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794A-FC80-4234-A3F7-2305E2C8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B138-D826-47D9-9BC2-63472C39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094C2-6BCF-42C7-8186-10E06F23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72D0-54B7-4E95-B87B-71F24894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B66C7-DB38-488D-A43B-D47F570C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234EB-DE13-44EE-850D-7026B127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A8510-B2BD-407F-9EE9-5196E12C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B70-8E24-4DEF-8866-9BCE1DC5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97247-5BFA-46B2-9415-80F1BC9F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D304-4613-4D93-9039-B868FB7F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F4735-DDE5-49E3-AC93-F2537AF0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855D4-2CCB-4BC3-9BC7-38CF89D5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204B9-A78F-4DDC-98C0-07C52B01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AB6A1-0006-47A0-B5F9-6F1E5BD5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D38E2-9E2D-45CB-B27A-EBC5118C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C3800-81F5-4E19-A03D-D84C56DC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C81A7-F62C-48DB-AFFE-6D46189F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C9D85-570C-4A55-A3D6-DE728F5A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288-A6DB-45DB-B770-2062064A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B2C5B-8178-4473-BD3E-3E9B6F68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F21FE-5E81-4F4C-B3BB-98D4F367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6A743-5BA8-4EE4-BA0F-C9AB703F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B4F21-74DE-451B-A9E5-52DA3E59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7B5F1-8A38-4AEF-A2DE-1B44D30F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8000F-AD0E-4445-807C-4ECD4E06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FBE11-B070-4FDB-A4C5-C1D15BC6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3E6E1-A6C0-4373-9090-F832CD24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E355C-8C38-4198-AAC5-B58A24CB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D3773-B12D-445C-92DE-6BCCFD18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310-5F54-4943-AB9F-A2809058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7D40A-AAFD-4458-BEB0-84C39D3F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0BFB8-0955-4D03-9E87-D395B399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87C8D-F48D-40D8-83F1-F1A5D4F9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2ABDC-7334-43CE-BBC5-12BEB3F9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08E95-7E05-4691-9B43-58A8EA58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E20F7-F73F-40D4-A92D-D9300BAD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2E63E-0A8B-436E-AAF6-4A00CDB5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22DEF-B967-499F-A417-5A669622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DF122-9725-4353-9161-8307FCAB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161FD-F9C5-4B22-B03D-C4685B5E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146-B67A-4C25-9610-AA186A70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A027C-B3B6-41B5-BCAD-C064C68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E2909-F9AC-4A0C-8FCA-2491E462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AB1FC-494A-44B3-9C50-F0E58D73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CEA3A-656F-4145-BE2E-3B2E1F86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14BBD-6F3E-4649-9FF6-8468E1BD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0B4C0-BBEF-44CC-A418-6CD747BA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0C134-D2FD-409A-85AC-5040AB1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C5C46-02D2-4BA9-9378-6256C1BC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2EFEC-7C49-4653-A173-BF5D88C2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D654C-E76F-4980-97AD-36FBE15C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BF6-6347-4322-83B3-4D4770CD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F5D15-BCB9-441E-9375-FDE25A39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6AA01-90CD-4D01-88AA-0CD240BA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9D569-82ED-4F80-B797-498F639E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98AA4-391D-4E67-A130-B0BB60CB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C8184-4DFE-4A83-A947-112FF4D8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436D4-B3B9-408E-8111-BE3A0608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8C59D-CF72-4EA9-A348-86E24F9C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96E73-D442-4F4D-AC32-A26FA2B8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64C88-F715-42E5-A385-E90770A4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21BC3-0EEB-4C59-BED3-DD7E4A18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93AE-9140-4CCB-A731-2DEF57F4193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9473-AEA8-4A61-9BF8-7D45A653ED0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EEA8-534C-4330-A277-B430A1AB953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BC09-02C0-4A1D-ACCC-E9EDCFD0EFD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9D4A-50F7-487F-9CF3-EE8557476A8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7E8F-37D3-4003-9BF2-77E67F665F5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3B31-2CE6-44B2-B46F-92E4DC2DF12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CC27-5301-4838-ABDF-19752017E41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B124-4B6D-4BB9-8636-DA46F47883F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55E9-25AF-4418-9456-8B15788CBC9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0E20-5841-47EF-8B2E-38A474B30B0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78A4-488C-444F-91A3-16BFB437968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FF05-7021-411E-8DC6-CC73352ACAE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2874-AEF0-44C6-985A-0B07705017E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429D-58B2-4AB8-B8C0-D4E1206B4BA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CF36-DDE8-49AA-881C-EEC5D192C07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What should you use in your presenta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whitebo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video-recorder or a dvd play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cr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lide proj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overhead proj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extension l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What should you use in your presenta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lms, pictures, sli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raphs, cha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mples of your produ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talogues, price l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it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f you have any questions, ask 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d now it´s time for your questions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 there anything you would like to ask me…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ease, feel free to ask any question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anking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your attentio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coming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your ti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t was my pleasure to have a talk with you here at the presentatio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ezentace společ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ůvody prezentování společnosti nebo firmy, typy prezentací, jednotlivé části a uvádí typické fráze používané při prezentování firm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ezentace společ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 PRESENTATION OF A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y to present a compan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a company or a fi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a new produ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new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offer products, service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to present a compan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hort ta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tour of premi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film, video, dvd or a slides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presen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50800" y="2362320"/>
            <a:ext cx="7693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2" name="Organization Chart 6"/>
          <p:cNvGrpSpPr/>
          <p:nvPr/>
        </p:nvGrpSpPr>
        <p:grpSpPr>
          <a:xfrm>
            <a:off x="833400" y="2343240"/>
            <a:ext cx="7632360" cy="3670560"/>
            <a:chOff x="833400" y="2343240"/>
            <a:chExt cx="7632360" cy="3670560"/>
          </a:xfrm>
        </p:grpSpPr>
        <p:cxnSp>
          <p:nvCxnSpPr>
            <p:cNvPr id="763" name="_s1028"/>
            <p:cNvCxnSpPr>
              <a:stCxn id="764" idx="0"/>
              <a:endCxn id="765" idx="2"/>
            </p:cNvCxnSpPr>
            <p:nvPr/>
          </p:nvCxnSpPr>
          <p:spPr>
            <a:xfrm flipV="1" rot="16200000">
              <a:off x="5853600" y="2606040"/>
              <a:ext cx="734760" cy="31435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29"/>
            <p:cNvCxnSpPr>
              <a:stCxn id="767" idx="0"/>
              <a:endCxn id="765" idx="2"/>
            </p:cNvCxnSpPr>
            <p:nvPr/>
          </p:nvCxnSpPr>
          <p:spPr>
            <a:xfrm flipV="1" rot="16200000">
              <a:off x="5067720" y="3391920"/>
              <a:ext cx="734760" cy="15721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8" name="_s1030"/>
            <p:cNvCxnSpPr>
              <a:stCxn id="769" idx="0"/>
              <a:endCxn id="765" idx="2"/>
            </p:cNvCxnSpPr>
            <p:nvPr/>
          </p:nvCxnSpPr>
          <p:spPr>
            <a:xfrm flipV="1">
              <a:off x="4649760" y="3810600"/>
              <a:ext cx="216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0" name="_s1031"/>
            <p:cNvCxnSpPr>
              <a:stCxn id="771" idx="0"/>
              <a:endCxn id="765" idx="2"/>
            </p:cNvCxnSpPr>
            <p:nvPr/>
          </p:nvCxnSpPr>
          <p:spPr>
            <a:xfrm flipH="1" flipV="1" rot="5400000">
              <a:off x="3496320" y="3391920"/>
              <a:ext cx="734760" cy="15721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2" name="_s1032"/>
            <p:cNvCxnSpPr>
              <a:stCxn id="773" idx="0"/>
              <a:endCxn id="765" idx="2"/>
            </p:cNvCxnSpPr>
            <p:nvPr/>
          </p:nvCxnSpPr>
          <p:spPr>
            <a:xfrm flipH="1" flipV="1" rot="5400000">
              <a:off x="2710800" y="2606400"/>
              <a:ext cx="734760" cy="31435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5" name="_s1033"/>
            <p:cNvSpPr/>
            <p:nvPr/>
          </p:nvSpPr>
          <p:spPr>
            <a:xfrm>
              <a:off x="3976200" y="234324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PARTS OF TH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_s1034"/>
            <p:cNvSpPr/>
            <p:nvPr/>
          </p:nvSpPr>
          <p:spPr>
            <a:xfrm>
              <a:off x="8334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WELCOM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EOP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_s1035"/>
            <p:cNvSpPr/>
            <p:nvPr/>
          </p:nvSpPr>
          <p:spPr>
            <a:xfrm>
              <a:off x="24048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TRODUC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YOURSELF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_s1036"/>
            <p:cNvSpPr/>
            <p:nvPr/>
          </p:nvSpPr>
          <p:spPr>
            <a:xfrm>
              <a:off x="39762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TSELF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7"/>
            <p:cNvSpPr/>
            <p:nvPr/>
          </p:nvSpPr>
          <p:spPr>
            <a:xfrm>
              <a:off x="55476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VIT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QUESTIONS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_s1038"/>
            <p:cNvSpPr/>
            <p:nvPr/>
          </p:nvSpPr>
          <p:spPr>
            <a:xfrm>
              <a:off x="71190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THANKING PEOP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FOR LISTEN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lcoming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morning and welcome to our presentation…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afternoon, I am delighted to see you here at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evening, we are very pleased to be here and present our company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roducing your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o are yo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is your compan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is your position at the compan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 name is Neil Bradbury and I work in General Motors as a sale representative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sentation it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sentation of a company, firm, product or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7:10Z</dcterms:modified>
  <cp:revision>22</cp:revision>
  <dc:subject/>
  <dc:title>BUSINESS ENGLISH</dc:title>
</cp:coreProperties>
</file>