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FB66-8801-4A98-BD11-3AAB04F712D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2AB2-1D0E-4E5D-98F6-F9C430FC61E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C78C-6F43-4180-A0EF-439F98A921B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63C5-9207-4930-9F4B-564F38BF2C7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6DC7-FD6D-4864-8C45-34DBA0910B5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FB5C-6CEC-4A3D-A20C-B14FE6FA282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B3B5-7D2D-4246-9E49-C6A07ADF090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25AB-9F78-4B60-B1D2-E18EF424DF9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D429-7AAB-4295-BB60-378E640C4C7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4B1-57F3-421E-82DC-5F82FE6F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48F-9048-43E8-A7C9-AC6E317E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6CDC9-02D7-426E-9F72-D94366C2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D9E76-A79A-40D8-83AC-8BAF9BF2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13DA5-592B-4F3D-905C-BE590250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5CD59-18C0-44DE-A2F9-F1E2A19D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28A28-3920-45E2-AFA1-1D1DB707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DFABA-EEA1-4321-AC3D-D069D3CE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BB2E6-188A-4658-B328-873AAD30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34419-6DFF-4522-A8BF-2E5ABF52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F6EAC-03B7-4A65-A4C5-1C0BA31A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8F8E6-813F-4F4D-AF75-D646815F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F33-14AC-41B9-9724-2CEF9161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CA728-579A-423B-BDEE-99680328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4E4B3-CC7A-4513-A170-7142E020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0F633-BA61-40AB-94EB-01B5CBE1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0CD57-B2CC-446C-BBED-B261A224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AF499-34EE-4EEC-A4FE-D12F44D3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01F6C-AE06-48CD-9315-7AEBEC99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034FA-B421-46D2-B0E3-8A45B13A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E628F-CDF4-48D7-98CF-C126B345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BC53C-D93E-4311-8D79-411A1EAC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F24B6-40BF-483C-B097-89CEB8C8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5A5-3574-469B-A218-10E16C21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8447E-B751-495D-A2E5-75A9063E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5C47F-6ED3-4D58-9E8C-C9F1B981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A4E37-D1D9-408C-8B41-656C06B7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78159-94A2-41A4-8CE1-F441B6B5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CF040-272F-4519-8F33-1E05E608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C2428-A77B-4DAC-A0F6-0DC914F8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7592D-8C61-478C-A919-7FD0FAC1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20D73-2A8B-47F6-98E6-A5F529F2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3F474-0782-4A5A-AF24-4B3FF634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9DFE5-EA63-4D51-A054-CF6CD2CE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6682-3D5B-4027-BC1D-B72C0D02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C9BA9-F610-4358-A652-786D5EFA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FA2CD-A45E-44AB-89ED-D026CD4A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AC909-8B01-428A-8C32-7B25902B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FD861-A889-4CD7-A53C-DD9D3048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6F071-D83D-42EE-B9D3-C3FC42D6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29ED6-F587-45BD-8375-B91F264F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3DFC7-3032-49BE-B32F-B3E2E8DF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00056-5155-4B14-B46C-2FB06D05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1E235-09C0-4DC3-A135-1B579269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9DA17-D3E9-4339-9251-283D3999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82CF-F97B-49DC-A5A2-3685CF81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9AF8F-4722-4C54-AD57-FEAE48C6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337B4-6020-435B-9B5B-2DC1587C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308C0-ACF6-4002-A3BB-9B45B06B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50F85-3BC9-4BEF-8A32-1645640E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29E32-CD93-4169-85EA-80EE9D11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0BC20-756A-434F-9A11-0CC9441C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2B5DF-4EEB-4BA2-AC6D-BC282318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F77473-BCE9-4580-BAF9-7DEF42DB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1D94E-0A49-4F56-84D6-6B6ED6A0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8C896-DA75-4812-A4BC-08AA88FC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6D0D-40DD-4BA7-8DDB-B56D0B9B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5CBE6-22FB-4E97-A756-CE1DC6C5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051BB-3AE7-458E-B2D3-5A3519FC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31D3B-BED5-4874-ABBC-93565144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62A10B-C39F-4FF1-B582-A461E248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A6239-7C43-4AC9-8289-882058AC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1A18B-BB89-4F29-BF43-D631E6E7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0551A-87CF-45EE-AE31-60AC7F31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36203-A493-47ED-8CA7-D5D799DE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ADEB6-22B5-4AD4-963F-8A4ACB4F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C252C-C439-4D45-B61C-3827D6DA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BAB2-90A4-467C-B753-DEB23620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413E5-42D6-458A-A0F8-0A4CAF63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6497E-D056-4805-A06A-54A8002B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3CBE49-6C54-46CC-AF50-FA7D69FC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1A8D9-C61D-49F3-8925-E39B5FAB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46CBD-1205-4D6A-AA2F-67138552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65BD7-751D-4B82-BBE0-FAD3BE76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EBFCE-7035-4E79-A049-30734D42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378201-E958-4050-83F2-E454E539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38680-519D-473A-89C2-1C84FBA8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125717-64B7-4C21-A26F-F65611C7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6AAF-9DAD-43E9-BCC9-D8F3D2C0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E043AC-9D21-4A4A-9AB2-6B3856BA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FBF63A-40AB-4ED2-8859-539D6237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F7EB59-F3A2-41A1-BB86-133D0F64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D4B6B-31DA-40DF-973B-ACA0098E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49680-159C-4E8B-A5D8-D12BCAE4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5FF1E2-33EA-4A2E-9125-A7FC3AE0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591898-07B1-4BCD-97B2-5689A646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94E336-FF91-400C-91B2-C8D060EB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813E0F-95CE-461A-A8A7-F79AC597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9DBBFE-92FE-4488-BB74-EBDA09B3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A9D1-F046-44B4-AC3E-7C44347F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B1B900-E3EE-4203-8648-D3CC8F8F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20F8BE-C6BA-4180-B67A-C2057A0B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6263F0-8427-4A27-A687-6904C24A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96FE6-54E5-40FF-ACDB-33B49FEC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3AE03A-B9BD-466E-A187-D847D58D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77BE4D-3050-49AE-9B69-1B62BF78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CBE7A-C80A-41CF-92BB-4A65A219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0D01A4-DE04-4740-B627-682720B7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BFE414-0308-454C-AE70-2AC520F7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F22DCA-8367-4E3D-BA39-F81E3F25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81B8-BB51-4D3B-8663-7F750D25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B414D8-6DEE-476C-9251-5961E327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55C954-8268-4E61-980A-1B999C18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11ED14-D1A6-40BE-94AF-EDA5F424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710-39B1-4989-9349-45335610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651D-6D3D-4792-A296-12CDDC1D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110E-91C6-4C24-9DC8-3CC335A8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C3CD-ABBA-4621-BA76-8587A085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E705-9BA3-4BE5-9607-6509983A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0420-9450-4CAE-A955-C5B8C945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29889-913E-48A2-8A57-42C4FB09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2DE8A-9AEA-43BF-BA48-672F1806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E68E7-E23C-453B-A6D4-C06A92EC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62CBF-1487-4405-BC3F-8B6FAE36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D296-C96C-4F4C-88E9-E67DEBBE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9F0-0515-48ED-87BA-CE23CF82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8E3FE-AFD6-42F3-8659-552E2583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8F43-2AAE-4EED-ADC6-63F307E5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6F688-566F-4DAF-B739-208D97B9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1637-B7D3-49DB-BEF3-983990FA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7073E-4108-4C3B-A19C-31EB97A8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7FC12-4A37-44DD-85C3-EB6CEC4B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51827-1E61-461E-A060-3BFD61F8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A55BD-D643-4FC1-A166-2B0A2EC8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A2892-9B12-4075-B51B-6EB5EDBA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D5CAB-770B-4A3B-88A1-2E5422EF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1394-55D4-4DB0-A9F4-00AB0199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9BF46-40C6-494B-87C1-ACD14437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0E6C7-EAFB-46C3-9AF6-9C8B7DF2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CF179-49CC-4A39-AAC9-0E5E24FA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C27CA-836E-49FB-A0E3-4816B929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FB086-AE18-484C-B6D6-BF86BF7F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7A99B-65F4-48F7-807D-BBFEE8A6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933A5-E917-43CB-AB05-BD074C48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742DE-D25B-4737-8D90-4AB47BAE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7195E-3F8C-4167-A926-EE45A44A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69B33-4012-42E4-BCFB-52B2EF17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93F-2AFB-4012-B560-78B31B98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E6726-5CC4-483F-8027-E3FF5360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CA456-34E8-40C3-B391-90FA672E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06292-2A00-4580-9E94-85FB28F3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1A847-84BF-4000-8EA2-16E8F3A2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82099-0091-4D50-909C-E3838744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E2D93-6AC1-44EC-A0C1-5F0144FB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080FA-06DA-4C50-8D34-8CA1E5AC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F7D01-B217-4717-87DA-754F784A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AAE35-D773-43B9-B432-1F1DE41A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154FA-8FB8-4ED5-8344-750F51C0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42D-1E87-4739-869B-8FA4F6DD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1B676-1CB9-4A93-86D0-806656D2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A77D7-195F-402E-A318-3ADD04E1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16F2A-9611-4EFB-BB6B-B6979B37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678BC-AED8-4801-9E71-3B769B54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E63FE-ABD7-4D95-85F5-3D242BB1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22FFF-49F4-4422-9CE6-0F968E8B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0CBD6-BC06-485A-BCBC-635A07B9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66F66-CBF0-4074-A1F5-9E18D41F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91FE3-8540-4BDA-9C58-3C3B0BA3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7575B-7870-4897-AF8E-E3D9195E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241-8167-4A11-9BF3-F7D10770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A013C-2B08-4928-B391-72C62C0B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20E2B-D321-4BFE-B791-5FE199F8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05265-65DD-4F99-8090-E1B777B5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EDE8D-BF4C-4730-AB57-D9AA6805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B1A0B-3F1D-471D-905D-03A670CE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3E1E2-62FB-4B9C-8345-0F8EE648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7E23B-F57C-4820-8FB2-4F84706B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35832-AC95-4E65-A450-3B9D9C4A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5CAD1-6882-42EF-8603-399EB6E6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D24BF-4DD2-45ED-9A89-7D069A5A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0B7-845F-44D1-BED8-15B919A1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F383A-2B94-4A5F-B01E-283AF3B6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26150-A1FD-427B-936A-0588A373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4DB0C-2752-4F78-85AB-EE04D5C3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24596-B921-4923-9B55-6FB89CFA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88143-B4A0-40BC-8CAE-637D66EC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9349C-125C-4963-8510-E80355F2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E5DFC-BC42-4084-90B3-632CADDE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0525D-7AC6-431B-86C8-2724D9C3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9DBBA-00B8-4906-B82F-8A40509A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146B2-A23A-47B1-9BC9-8ACEC10D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AAA-EC66-4D86-BD19-78A52F5A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74435-78A9-450B-B6A9-E8DD482C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9C356-529F-4B61-92CF-F247281C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BE547-1359-4FD1-8F44-21DBFF66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C4563-60F9-4DA2-A69C-9E753AF6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6A769-8D08-4223-8A7B-4C9793F5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4E803-186D-4931-B82F-0231FCE6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34AF2-37D1-4922-B71F-37921F89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0A702-6B1F-4BC4-95A8-17649F22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2EDC6-1D77-41A7-87CC-88AA788B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766A5-4030-467E-9BFB-AF89A7F2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04E5-1C5A-44C8-A4DB-E5A12BDC24A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9555-F4A1-4E22-B47C-40E3C05DE24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199A-CB62-4E0B-86E8-B658587A034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9426-4EFB-480E-84C1-0CD82257E8F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5B09-AA2B-4E1C-8417-315F3508488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5296-3C7B-4C3B-9C9D-54254DCCE40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C34E-7375-487C-BE1A-1EA2AD272BB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458B-E06A-41E5-9516-5F6E2159D3F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C6A3-14B6-4041-A175-37340D9B679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A8CF-2F6B-40AD-9190-9BF573F0FDE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1C41-8325-4039-AD31-ED817BC6102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A06E-890E-4F57-A36F-7C5C95D16B8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B019-701C-4CBF-B720-895B160FCCD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14F6-CB38-408A-B7BE-B51278FC75A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E295-0F5E-4756-B3AA-400A7E3F6D3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DA0E-46A6-44E7-81B2-6ED5F4D2F51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mportant things to think about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ffice environ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rporate cultu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mute tim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boss and colleagu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alary, benefits et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acovní podmín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se zabývá tématem pracovních podmínek, vybavení kanceláře a benefitů, které společnost může nabízet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Working conditions, place of work, benefit, office, equip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WORKING CON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orking cond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a) Place of work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b) Equipm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c) Benefit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d) Other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8" name="Obrázek 1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343240" cy="1952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 of 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Is your offi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mall or larg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ight or dark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fortable or uncomfortabl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or one person or for more peopl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quip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rniture (tables, chairs, shelves, wardrobes, filing cabinets, other furniture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C, printer, scanner, fax machine, telephone, copy machine, internet acces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ice supply ( files, stapler, punching machine, scissors, envelopes..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emiu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tra bonu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th salary or even 14th salary (summer holiday, Christma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 employer contributions (e.g.additional pension insuranc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c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phone bills pai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flat (or other accommodation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7" name="Obrázek 1" descr=""/>
          <p:cNvPicPr/>
          <p:nvPr/>
        </p:nvPicPr>
        <p:blipFill>
          <a:blip r:embed="rId1"/>
          <a:stretch/>
        </p:blipFill>
        <p:spPr>
          <a:xfrm>
            <a:off x="3338640" y="4292640"/>
            <a:ext cx="2466720" cy="1847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cante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tudy trips, seminars, cour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hances of your promotion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kindergart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0:42Z</dcterms:modified>
  <cp:revision>24</cp:revision>
  <dc:subject/>
  <dc:title>BUSINESS ENGLISH</dc:title>
</cp:coreProperties>
</file>