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A522-CD4D-4EBA-8E5D-BF969109EF8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01B6-C5DC-48E6-9404-E360FD0B993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BF9E-1039-4236-8F05-93E31C4D8B4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65B4-88B2-4FD6-B776-849F9A7559A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572B-A41C-403A-9C37-F42C3008D45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231D-7D9E-419B-9932-B78DBEC3520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6A11-7701-4943-BEFD-8087ABCF196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1FFA-AB9F-4555-9860-368AE0A338B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41EA-1186-4D90-B333-B69F8191665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982D-A603-46AF-A526-B946C176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36C-7792-4929-8FF9-65662B80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11B93-B462-49D7-8425-E07B5206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63B62-74C9-4756-82D2-CB0BF6C3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CB269-426C-4CAF-9049-6DCD6DEB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43D33-EA60-4276-BC83-F9ED1055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C785D-DDB0-4DA8-B89F-DB70E451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E62AE-5C12-4037-9908-443333CE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FB4A5-F6D4-4948-BF7F-12A9B028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BDED9-4665-497B-BBB1-69C6322F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61F0A-9227-456D-9361-91A51590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61ADA-113A-43B2-9E4B-A7E01C45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4E2-8ED8-4F3B-8A11-B3AF93D6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4CF3D-E023-4E08-B559-E80908DE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A8941-5A34-40FE-BD06-EDE5EFF2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1BFE6-5710-4552-A33E-56764798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914F2-CA71-4073-BBDB-7E354082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54C3B-AA79-40D7-A0B8-DE819B3E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3D829-172C-4E8B-A58F-0FFB4282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CC89C-3BCB-477F-AA0D-DEF1BE34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EA882-F780-4996-AEE9-9B9F3AB9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CCCD7-8900-4983-889E-4F1B8B82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70697-D6F1-438F-A7B0-9855513D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F3F-39C0-4662-A93B-58CE6998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AA6A8-BCA7-44F0-B1C6-52A6FDC4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E48ED-3436-42E3-8972-F800F6DA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26269-3150-436E-BA8F-8397481F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0197E-0250-4EE9-BE61-5073C0D5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0DA3A-EAA8-4288-99F8-51888F6C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BBD65-1E87-4F79-B3E5-672C13E9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01DD6-0CFA-4185-AE2B-2A737414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8E1DA-6E78-4574-848B-E35114D3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17B9B-D0A6-4316-B043-64D12AF1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0DB8D-DBE9-4028-A2C0-BE47BB89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7658-262D-419E-944B-9CC8A0C9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3F39F-AD15-4EC8-A87C-C7C8D858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3B45B-AD2C-4274-AFCA-8BA3168C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6EDA9-1EAD-41F6-A1B3-FC707530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DAD5F-BAC0-4E7C-82DB-1504BF08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A001B-27FB-4C89-AD4C-274ABEEE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6A6DD-1011-45C4-9F31-BFDCB5A5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3009B-C699-4613-9D86-1D74671A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FE344-A02B-45C1-8622-6056108A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A6B3B-1347-4E42-928C-42EB31C7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EB620-09A1-4A4C-991C-E4D2F540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61F6-FFF6-4520-99F2-E8CE39B9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61EF0-78F3-4223-A804-A07CAB8E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C097B-FE4F-493A-9EC4-9BF2E5E7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D5BC6-3D93-4357-BEF2-54BBC83A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653DD-EA92-406C-9F0B-BA417463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B796F-79FE-4BFC-BF2E-60231E23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6EE010-81BD-4C5D-BDFD-12D4583E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67C16-0212-4F9F-8E9B-7CFC4D40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162EE-5626-4B36-92EC-A62D1CC2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C59BF-3A12-4D8C-95DF-B629D4EB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9EEE8-1679-4685-82C0-0A95073B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5AAC-8177-480C-BD59-14C838CC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68603-E7A8-4C99-9E55-774F2B54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22DC3-EDAE-471C-B92B-BF9369D9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CBEB6-11DB-48E1-B590-E0026231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9D479-6C6E-4156-8FC9-0CA236F6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399AC-95E3-4BDD-B4CD-5315C75A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732A7F-DB01-411C-93A0-B4321E15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6F562-F0AD-4840-9DA5-A5E46F83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53663F-4F7D-444D-809A-4BA20174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D02F7A-7227-4C7D-945A-E2A5C8E3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FBC77-1BE5-4B83-A1FB-6FB97440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4776-25CF-4420-A6FF-C358425E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83B30F-5166-405C-92F0-8642A0E9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2B7304-5D9C-479C-A48E-F0BF238B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F09E6-53F1-4094-B0A3-BE85FD68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9B2255-3848-4E9E-ADE3-04E0D0C2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90A632-843C-4925-84E2-4D0A85F1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91F49-F2CE-4C73-8A9D-D87795DB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93EF7-C5A9-44BB-8A0E-EA9F9D5D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97A21-D600-4308-BD31-5AFC0882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944B4-634B-463D-912D-0BA963A9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8283E-1728-4AAC-9143-36FAA9D4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DD7C-AF79-459F-BF7E-9B501E17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31DAD-8912-4A50-9130-BBAF41DB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EAB22F-8497-41BA-985C-5D58D506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DA803-F9B4-4588-A80D-4DCFFB60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D2209A-62EF-4281-A044-77D58910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4912F-152A-4D1B-A94A-3BB0630F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39291A-C1E8-4361-B6AC-3F85B15C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47BFE9-B230-46E9-A18F-C138AF55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C3C7A1-E61D-4D97-BEE3-8DA19BDA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F9FADC-26C7-40DE-9F2D-CF55159A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E72443-1022-4B75-8B8C-78A305EB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55D8-D874-44C3-8A16-96778A67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4287C0-535E-49DF-BFB9-767FC190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FAE4DF-4999-4BCA-BFA9-10BBDEF5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727979-C64B-4640-BF9C-AFABBAA9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36160F-4221-4478-86A2-53B6B5D8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52FDA2-B157-4DA9-971A-FD9556F3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21C3A-CCB1-4EE8-AB07-1018AE03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2146DF-0F01-4557-AC04-4B16C871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432286-B693-442E-8595-D2412AFA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3F342-E51F-4030-A944-617380BD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44FEBF-4121-42E3-907A-FD1AE2AD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120E-2BAA-4858-BE56-E3F01E57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21CD42-B580-42F1-A683-DC122CF5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F7D5EC-A32B-4385-8ABE-814B3B93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019082-EAD1-4DDA-9AE8-ECA956A7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2A2-1722-4FEE-A7E2-006FC4FC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5900-E449-4563-BD65-FDB8BADB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77D4-C124-427F-B566-374A4330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01C9-1384-4A50-8EA7-A26C38A9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443A-D53B-4CE9-81E3-56EE9BE7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A199-AB12-4574-A111-334BAA04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F4855-078F-4E42-9BC0-5DDD328D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9E323-9736-4C5C-A2EE-51811516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78E9C-1C4B-4CCF-8B61-B1E13002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87750-5A9E-4D9B-9AD0-0626A326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6EB34-BA3E-4329-B015-83AEE32E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1FB8-88F6-4976-8A33-D61A0DD8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E425D-657E-4E50-9D63-06913811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04BCC-BB4D-4D5F-802C-26999DE5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13AFF-8AEF-44CF-B9EC-F5097EA9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7B789-E469-41BE-B5EC-B8012A3D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6A7D5-C302-4C14-BFD3-AF8BE002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1294F-1605-4B66-B5F6-EA45AA8A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B7C53-52B5-485E-B8FF-F59EF74B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AD95A-D3F7-42AA-9F0A-F8EAC1D6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1F759-FD89-4338-BD12-E0D18EEC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E86B4-47EE-4055-9FBA-D4684ED0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C8E-B97B-4C00-9DD2-F553A452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318B3-0AF1-488D-BFF6-623AD916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818B5-BE60-48EE-9A5E-09FDD677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5D155-6B7D-47D8-8278-8A04431E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552B0-052A-471B-A5DD-1F9C5C93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87BF2-A4BD-45D7-9DE3-FB11770F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D3A6F-9EB6-43E5-B8CA-A6A3B9D1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158D1-FAEA-41D5-83C1-14C3285F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58ADB-66BD-48ED-A912-5E98DFDF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C3024-4535-41A7-A5E0-0D670F15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227B7-25D7-4A18-A08B-E7523E27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A00-F45F-4B6A-908A-5D53D443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309CF-DDEC-4389-8E10-FE4AEC60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95CA2-D3DD-4977-9A81-0C932CED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3D166-F17C-4B64-977C-BCFB9EA6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FA9FF-7F71-4C30-96A2-8F0FAE0A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A2A07-A8C1-4373-BBB3-2E2A938C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99E76-0187-422E-B6F2-B6FC804C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16B3B-6E3A-4ABA-B975-9DBE2F58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17433-9B8C-4368-8F7F-A6004C01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F6362-83EF-47F1-96DD-52E5205F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8BDCC-C59D-45EB-92B0-046FA1D2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040A-3093-41F1-A207-F932FA4B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D50F6-5887-4689-887C-EE633D2C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6591A-B64D-4B72-B0F5-17F1C83C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31FD3-D63A-4606-A7E5-3C391586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3D3CA-7FB2-4A0C-9A6B-BE878BDC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457DA-D3A5-4CE1-8127-24AB78A1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CEEC0-84D6-4828-9A7F-115C02C0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6635F-0FFC-4FF9-83A2-DA8437E3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E47B2-1BA9-43D5-8AD6-92146A05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20EFF-B788-4D88-B9BD-ADC52589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9FE00-7C0E-49F9-9663-A9680645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90A-A9ED-4845-B443-78A1B5AA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3A36B-05FB-420B-AB26-E948BC41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3DBC7-2827-465A-8725-2AD3ADEA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E6434-B5D3-4441-9333-CD0FF031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D9B3D-E047-4206-99B9-46D22B15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F4038-EBC2-476C-8ABD-D02C3A07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76ABF-2236-466B-81D5-53AF87F6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C6B8F-AB68-47CA-9581-81C34C54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A6C87-DA78-4F5A-A317-567C5F52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4B39B-A1E8-45B9-9E8F-2DB52830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C49CB-BE9E-4D0F-A7FE-F28AAD2F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0BDC-25AC-418A-923C-A7029F81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F0FEA-60D5-46B8-85CF-48F402A9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D61FD-1CB7-4B84-9B7D-2C9D3C4A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79D5F-7AD3-41E9-8C27-F617F241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A5C9D-EB3E-4727-9807-9B7C6CE4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36DCF-6602-4A16-8CA0-3E47EAFA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44551-84E3-4C68-8628-100B9669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1C719-2C4E-45B1-9333-82D0EB4C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92CCF-F3BE-480B-9494-16A627F3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A2A96-9BA6-45D0-97F4-E0A86635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DC731-46AF-4D6E-9E82-B969CCD4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27F4-0BDC-45DC-A2E3-5BEB294B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BA445-CAA2-4116-BD2C-7F86CBB9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1A737-1539-489A-A907-4A6F3069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4C9F8-687D-4082-A737-9C28DD00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E074C-73E8-4309-B90F-FA17604B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8CE87-CB89-4BD2-98CE-223B1F0A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264D1-686C-4401-9C16-7C42F49D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99174-5DC8-4D3C-A61F-4DED041B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4A550-6247-4828-AD22-C24A1DA2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6165F-1D17-40F6-94CB-EE3427A6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82BA8-8772-44D4-B0A5-63561086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E9C9-121C-4D7B-8663-4D823A623AF9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A493-848D-48F9-A816-D2D360B1D01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EA8D-2443-4C15-8C7C-F71F5F4DA3B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A672-A1B5-4DAB-A3D4-BC609079F9B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527A-7635-4C98-9155-9079A483F94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D41A-9647-40ED-B9BF-2EC1CD1C78B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862F-A31B-4B0F-BDFD-BC3DB6AB2EC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7782-CABD-4087-902C-E3DE4E93A51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6627-5354-4031-8B98-154AD0BED9E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0853-B4B7-4E7B-A535-9048BE55220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4439-B7F7-4D77-8D2F-1C0F51C8913C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B65C-26D3-4ACA-94DA-AC5ABFFF5CC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42CB-8E30-49FD-8977-4DF159846F6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82A8-E6C8-4AB8-852B-7D2785F7FD7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3644-C534-4168-B88B-40BB9919383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6EBF-0C35-49EE-8FC5-08D1101F1AB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11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address - tit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Academic and aristocratic title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re always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BEFORE THE N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of.Arthur Whitesnak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Positions and university degree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re always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AFTER THE N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r.Arthur Whitesnake, Ph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addr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) number of the house and the name of the stree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) name of the town or city and its postcod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)  name of the coun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addr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r.Neil Bradbury, Manag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bbey Court Hot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20 Pembridge Garde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2 4DU Lond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salu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Sirs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Sir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adam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r.Jones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rs.Staplet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body of the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hy you wri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offer, order, request, complaint et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Keep the same style whole through the le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body of the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r.Bradbury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ank you for your order of 10th January for 5 Electric Dishwashers, Model AZZ 567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dishwashers will be delivered by February 20th, 2013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mplimentary clo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pends on the salutation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Sir, ………….... Yours faithfully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r.Black,…….. Yours sincerely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signa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33cccc"/>
                </a:solidFill>
                <a:latin typeface="Brush Script MT"/>
              </a:rPr>
              <a:t>John Walcot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John Walcott, Sales Manag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hite Dishwashers, Lt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saní obchodních dopisů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pravidla psaní obchodních dopisů, představuje typy obchodních dopisů a jejich jednotlivé čá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usiness letter, heading, salutation, body of the letter, signature, enquiry, offer, order, complai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WRITING  BUSINESS  LET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business let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nquiri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ff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rders and their confirm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xecution of ord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laints and replies to complai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Remind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arts of a business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heading and the da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inside addr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salut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body of the le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complimentary clos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signatu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h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Usually on special printed notepapers wit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Name of the compan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addr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ax numb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763" name="Organization Chart 7"/>
          <p:cNvGrpSpPr/>
          <p:nvPr/>
        </p:nvGrpSpPr>
        <p:grpSpPr>
          <a:xfrm>
            <a:off x="833400" y="2565360"/>
            <a:ext cx="7632360" cy="3310560"/>
            <a:chOff x="833400" y="2565360"/>
            <a:chExt cx="7632360" cy="3310560"/>
          </a:xfrm>
        </p:grpSpPr>
        <p:cxnSp>
          <p:nvCxnSpPr>
            <p:cNvPr id="764" name="_s1028"/>
            <p:cNvCxnSpPr>
              <a:stCxn id="765" idx="0"/>
              <a:endCxn id="766" idx="2"/>
            </p:cNvCxnSpPr>
            <p:nvPr/>
          </p:nvCxnSpPr>
          <p:spPr>
            <a:xfrm flipV="1" rot="16200000">
              <a:off x="5802120" y="2735640"/>
              <a:ext cx="662760" cy="2968560"/>
            </a:xfrm>
            <a:prstGeom prst="bentConnector3">
              <a:avLst>
                <a:gd name="adj1" fmla="val 155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7" name="_s1029"/>
            <p:cNvCxnSpPr>
              <a:stCxn id="768" idx="0"/>
              <a:endCxn id="766" idx="2"/>
            </p:cNvCxnSpPr>
            <p:nvPr/>
          </p:nvCxnSpPr>
          <p:spPr>
            <a:xfrm flipV="1" rot="16200000">
              <a:off x="4812480" y="3725280"/>
              <a:ext cx="662760" cy="989280"/>
            </a:xfrm>
            <a:prstGeom prst="bentConnector3">
              <a:avLst>
                <a:gd name="adj1" fmla="val 155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9" name="_s1030"/>
            <p:cNvCxnSpPr>
              <a:stCxn id="770" idx="0"/>
              <a:endCxn id="766" idx="2"/>
            </p:cNvCxnSpPr>
            <p:nvPr/>
          </p:nvCxnSpPr>
          <p:spPr>
            <a:xfrm flipH="1" flipV="1" rot="5400000">
              <a:off x="3823560" y="3725280"/>
              <a:ext cx="662760" cy="990000"/>
            </a:xfrm>
            <a:prstGeom prst="bentConnector3">
              <a:avLst>
                <a:gd name="adj1" fmla="val 155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71" name="_s1031"/>
            <p:cNvCxnSpPr>
              <a:stCxn id="772" idx="0"/>
              <a:endCxn id="766" idx="2"/>
            </p:cNvCxnSpPr>
            <p:nvPr/>
          </p:nvCxnSpPr>
          <p:spPr>
            <a:xfrm flipH="1" flipV="1" rot="5400000">
              <a:off x="2833920" y="2735640"/>
              <a:ext cx="662760" cy="2968920"/>
            </a:xfrm>
            <a:prstGeom prst="bentConnector3">
              <a:avLst>
                <a:gd name="adj1" fmla="val 155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66" name="_s1032"/>
            <p:cNvSpPr/>
            <p:nvPr/>
          </p:nvSpPr>
          <p:spPr>
            <a:xfrm>
              <a:off x="3801600" y="256536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HOW TO WRIT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 DATE?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_s1033"/>
            <p:cNvSpPr/>
            <p:nvPr/>
          </p:nvSpPr>
          <p:spPr>
            <a:xfrm>
              <a:off x="833400" y="455184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15th May, 2009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_s1034"/>
            <p:cNvSpPr/>
            <p:nvPr/>
          </p:nvSpPr>
          <p:spPr>
            <a:xfrm>
              <a:off x="2811960" y="455184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15 May 2009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8" name="_s1035"/>
            <p:cNvSpPr/>
            <p:nvPr/>
          </p:nvSpPr>
          <p:spPr>
            <a:xfrm>
              <a:off x="4790880" y="455184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May 15th, 2009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5" name="_s1036"/>
            <p:cNvSpPr/>
            <p:nvPr/>
          </p:nvSpPr>
          <p:spPr>
            <a:xfrm>
              <a:off x="6769800" y="455184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May 15, 2009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may write the date in 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4 different type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0" lang="cs-CZ" sz="32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February, 2009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5 February 200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ebruary 15</a:t>
            </a:r>
            <a:r>
              <a:rPr b="0" lang="cs-CZ" sz="32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, 200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ebruary 15, 200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!! Use words not figures for months !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address - tit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r.   –   is used for m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rs. –   is used for a married wom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iss –  is used for an unmarried wom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s.   –  is used for both married a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unmarried woman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1:32Z</dcterms:modified>
  <cp:revision>21</cp:revision>
  <dc:subject/>
  <dc:title>BUSINESS ENGLISH</dc:title>
</cp:coreProperties>
</file>