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D1CD-35BF-4C3B-B9A2-5E196BDFCF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621B-CF0F-4030-80D6-21017667AC5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0F40-38A1-481C-B7CA-678BF8D7D2D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0B5E-BC28-411F-9D26-72D9BDF3076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3C40-4106-4841-A5E3-1D40793C0F3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CE7B-A365-45A1-A3D1-EE8F422AF9D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9195-DC75-42CB-8887-DBAC54AACD1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75C-5EA7-4F9F-BE12-75B829F2C14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3453-6A4C-4184-A011-F0489286E24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FB6-FAD3-44B3-8929-FFBE6878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DD6-CD06-4034-A252-546A5BB2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4137-06B6-4B82-8F69-583600BC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6599C-36EF-42F8-BD2A-4684AA72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26212-B241-47D1-8738-B0A0F0A7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19130-B549-43E9-A08F-6E0AA1E1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FE282-6F6A-46D8-B0D2-7B5F482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9C0FA-431F-4F17-A0A5-CD027B14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5F08D-A1A9-482E-AF21-8BFA4C03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6DF65-CC3B-47D2-B2DE-6E2E04BA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1F96A-D573-4D41-8637-C2986118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7C62D-47D6-4C49-AA96-43CF08AF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886-6BD5-4137-9D37-229F8526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7603E-25E8-4B30-BB30-82D24CFB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8CC4D-E8E2-45EA-A70E-30A9BDC5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F0445-7CDF-456C-A549-75AAAEC7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0C9B1-7D92-47ED-B2CC-61E9A5D3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6D516-3C64-4F14-BC29-059DA598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BC875-E5A8-483A-BC3D-2F11F8FF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A2B75-18BA-47C8-B937-1500B8A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40B6C-C586-4991-8408-F873816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896A8-22D1-41B7-B85E-0F9D463E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4B5C5-B2E7-4DB3-B8A9-86E3638B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84F-2831-4AA5-9449-672C1A1A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57448-76D4-4FBC-AC06-9BBDC7E4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6DDE4-5AD0-4D0B-B04C-28A2DE3D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DAEF6-3643-48A1-B381-FA8A933E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51361-2132-4831-8FD0-A8CE9024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DB609-BCB3-446D-B5CB-66BCC996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BDC34-3985-4553-BD55-D9D1A88E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16232-B38B-4B43-9CFF-4BDC19C6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18F55-4A97-4378-B322-D7F516CC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A6C6B-8D40-40A0-A6D3-154930D2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E6863-9163-4286-AF12-1811BA8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ED01-4240-45A6-BBC4-0AEFFA0E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3E7F1-FE0A-4372-A67A-AD2FEBC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F7A35-8EB3-4B9F-B67D-9E6DE959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F74BA-379B-4970-82D1-2724A8B0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005B4-74DE-46F1-AEEC-F9B96CE8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203F7-5821-4260-8E3E-B1F5CDF5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087A9-3936-4116-A1D2-5F1D573B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E41EB-0428-4EA9-8E1E-42342854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2115E-3268-4D92-BE74-C29CF0C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48DA0-CD4C-4F00-985D-48D1BD40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B9ABB-917C-4D09-B0D8-EA5EFD0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37F9-24B8-41F1-8342-87E080EA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460FD-6DB4-47E3-951B-9F25395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E2880-6B8B-4E03-9857-B178347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6E2DA-40CD-4F49-B85C-AE8EE8D2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FE901-425B-4BF4-BD82-8DA80FF1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49354-5244-42E5-978B-8104B223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5CDFB-9531-4986-A3F6-882B73F4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83F8B-FD6E-4F49-AE61-CE94CF0B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B80F4-41C4-4161-ACB8-5A63B55F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C01B1-C500-49FB-A29D-B72680C5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52C61-CFF2-4E4C-8BD4-1DAF4699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72B0-2680-40BF-8E77-D2CC9B8E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046AD-0D5B-4638-A803-31EE4583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942A0-C4C8-4C39-A656-191FD58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45A09-0FC6-4EA7-A948-902E688A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5A685-A56E-4483-AE23-4D0589A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5FBDF-80F9-4C8F-BBFB-66D1A2E6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7382B-659D-42EC-BD55-92A78912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325FA-537D-4D86-BBB0-1F823ED0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89B30-1502-4582-83F6-08DBE118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B1770-2F14-4FA9-BF62-7E88574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70E0A-4A24-40B8-B53C-4E48F640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77C-E3FC-4AE4-BC36-163328F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917DE-2429-4647-AD4F-F7A3A9F5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9DF0C-0EDE-43DA-B91E-F89CCD5B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9DA94-84B6-42DD-A609-10F9EE2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B205D-19C7-40ED-BA62-D0A682B3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CA96D-C932-44DE-B027-50D6E80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34325-9EB7-42CA-B509-1FDEA3C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C1109-B9E3-4D8F-9766-9F8F921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16DFE-9DC9-4107-AC23-5CE7A652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FBCA6-AD7D-4A5A-8FC8-A7B47E21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8E9C3-96C1-48AA-91DF-83ECCE26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F851-4FEA-479C-83AE-C968ACC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98F72-0577-4EC9-8992-1201545B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C4528-EDFD-483C-B4AB-5B79CAF0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2FBD4-2E11-49CA-A78F-F80CBAC3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8016C-88EB-4D1D-8364-D0569410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05270-D817-4CFC-ADDF-83C7C2CA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A7235-2CBF-430B-928A-FB14A213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935BC-CEB0-45B0-B866-1E84CD6C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98B92-97E8-4952-90B5-202A0C19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78A26-6BF2-48FB-933A-4554A9C5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9F98B-55E1-40CC-A49A-26A48E96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C44B-B56C-41A5-9314-7F2BFF0A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3765D-D23A-4628-8BE8-1C683C67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B3233-091D-4730-B36D-CD2152B9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C1707-D3C7-4F5C-A1CD-485A8FC2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7710C-4795-48D3-9F21-F4B67A40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ED751-18CA-4328-B218-677F4EEB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9C599-52CF-4A40-A522-D58269FB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D2BCE-5038-4E5F-95F1-CF7CADE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6579A-D82E-41AE-924C-4F59EE06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713D8-950C-4222-91DE-565BED18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8CCF3-5B67-466E-B0A8-CFAE76D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5EE2-5091-416D-AD31-6F40B6F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D4683-E02F-45A1-A845-04EFA799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603F4-C44D-4A30-B7D3-9870CB79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55BDC-C8E0-4CB6-9B68-83741CFF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24609-A607-4221-94C7-9448137D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9D3F5-C7DE-4ED5-82E3-B3F4E4E3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9BE92-7DAE-4B37-ACB3-288E02C9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769F7-48F9-4D7B-BEA4-A3AA93B3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B54CD-9D05-476E-8D5C-8BB89FF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3F1D9-E993-4830-A810-C7795AE2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652F4-0DC6-4CB9-9DFC-D24E62F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118-ACFF-46F4-A8AE-AD88B1AD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CBD3-1DEC-42E8-A195-76E9B27C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5F915-65C3-4CE1-BA1C-9499BC1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17035-0E41-48BF-8239-4BB4737D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431B2-0995-434E-A8F2-DF17E874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1CD29-6855-4474-9D8D-C56FF968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282B4-58C3-4B6E-ADB2-2D384E6A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EC7760-9E2F-44D5-8719-FD096176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F0428-960C-4B9B-AF32-51B7D499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D25F1-DE16-44B9-A600-AA76C155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C5121-1E8F-468B-8FC7-3A61AFEF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56C75-CDC7-4B4E-B463-5E05665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5D75-8EF7-4471-8C3C-22CEB712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5CCB2-C2A6-40C9-9C54-4DD39F27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55549-F376-4742-9FBB-8723DE64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57C9F-317D-46F5-9B7F-7E9EBEF8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D288E-09BE-4EFB-B7F6-D4ED681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76F75-658A-4E3D-A2D5-8E5ABD6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F47C7-3EFE-4037-B556-58A6D7BA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23957-BB3E-4A62-A2AF-12DAC805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264D4-AB43-4EB6-A714-0AAA1D2A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0D035-FFB0-4C37-91B5-5DD94F5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C8ECE-D1DA-45BB-B130-AF977A53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E54-11DF-49D6-98D0-8DFE4F8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5A566-CBCF-410D-88DE-EF1300B5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BD946-667C-4FCE-A0DF-85C3E6C0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46D67-7679-4B15-ADF0-F037C3BB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1D5DD-04CB-43BE-B67E-1B4F14C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60D82-26D8-4C48-BA58-6058DDFA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AE1B3-A1D1-4E32-A9CF-0033CF8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2BAB0-585F-46BB-952A-66F445F3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C5C48-0634-4235-94C9-8E612B81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0961E6-6912-4ED1-9BF5-C68661D3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2A760-D74A-48E1-81E1-126EF35C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A252-83F2-4183-AB91-124DB7D8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68ADF-AA2C-4E02-A277-8287E743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0367F-D6BA-48AD-8FEA-9ED02F1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57D3C-CA4D-4CD4-BB09-76F25FE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4CB3AA-DF0B-4393-9E99-352C0E77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A3401-237B-4FCA-A482-2A997A75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FD929-0BAA-4B35-893B-42BF27F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D6BAD2-1303-4C10-9D0B-FB95588B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132FD-E3CF-43C9-8205-5CB9659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46F87-7AA3-4184-A0B8-0F1C845A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77FBF-7B0E-4912-9F87-818CB2BC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60BF-F01E-4885-9183-B03C78D7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F085A-5BE5-4CAB-9B2F-B0B412DB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ACCCF8-6D8C-4F40-89AF-65D7CF28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FF5287-A347-4815-B323-5E72263F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25FFD-CE48-415B-A553-E14A79E0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E3B474-3E2D-4B67-A8C5-B073E5C3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F24FA-7868-401B-9C96-A75E627E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770DE-6B87-4F16-86CD-D4191DCB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1080F-DE69-4D7D-94CB-F8A942B2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375378-CD4A-4312-8F9F-74FF61B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82940-4DC3-4907-B7B0-99D33BA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0A46-31AA-4D45-9359-4AF66D36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1832EF-F908-4DEE-81A5-C85BDEA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2AED1-51FF-492D-9FA7-BF191D29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268EB6-EA67-46F9-9C38-A98843F5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BA86DA-C70C-49D2-9119-4801AC31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9E786A-25DA-44B9-BDEC-1F61568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CF5735-F71D-4316-A143-07D63371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30F31A-883E-4582-8042-D46D06D6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BA2A9B-C636-40C5-B1F0-A6BDA47B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4CB0B4-72D9-4127-8425-BE3055B6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C19519-CEBA-49ED-B0F3-27AC67E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9559-FBE0-4E32-A12D-DECC41A6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4D9C26-E4BB-44E7-AB42-C7316D54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700A6-DE63-4B0D-878F-5E59545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551D8B-2946-4077-AE17-A15CCCCA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C37F0C-6552-4CEA-B33F-37DCE54A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467D2-13B9-4323-A9D4-F0240833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80DA59-7BAC-46BD-AE7E-8CB6B1D9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EF4AC4-C07C-47EA-9CA4-D3FB0B7C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7C434C-D5EA-4507-A26B-29FADD96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EEEC1-E0E8-419D-85BB-D62395C4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58B15D-9318-4D52-9145-1BDBBCBD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C7473-DBFC-4E68-805C-54F1012A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C9C303-36F6-4635-B68E-EBA71027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58176D-9B36-4439-BC99-4D768BB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474CAD-8F1E-4280-8CA3-8AB0163C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7760A-B4BB-426C-9889-DBF10A6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D07F46-062E-44A7-BE13-13E46467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BF32F4-1192-4A61-9F7B-98E19623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286A33-0EFC-45EC-8A63-E0181BE9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0EFA57-EADF-4A99-A314-6E8A3821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16AA73-032A-4226-AE69-8226C71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31449F-1E23-4B4E-8E86-AE709DD0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B5AB-169B-4D16-B478-428A83F4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8040DB-0116-4646-9D12-9D7AC5DC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1F395-F6EE-443B-9ECB-1915D2BC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702312-47B8-42A5-81C7-994242ED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934A88-A41E-4966-9DD4-6EECC56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4298E-1B71-4BD9-9CE0-A2A6783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1F17B1-C80A-47F9-9644-05E3708D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65CACE-7BCC-4070-A47D-62FAC504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05F62E-1479-4766-AF72-B707858F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CE970-2696-41B9-95E8-E777F547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C335B6-BEBA-414A-A80D-B8FB3A77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CD9A-6D31-4C9D-9274-B906538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9C6F4F-C8FA-4A6C-862F-0323D6E1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88241A-5FA6-445B-9780-CDDB2E76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12AD06-9544-469D-BBEE-4AB85E8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B6576C-765B-423B-994A-E7983E9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491FF4-A722-46F8-A62B-8177224C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545D1C-1D49-4F13-A8A0-3C964786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DFFA7F-3D95-4480-878A-ED808556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616279-1228-49CF-9391-4B3BB78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6B8574-DCEE-439E-9BB8-BBA30BA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29DD67-C724-460A-8A3B-CC2F8E5F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84C-5E88-43C3-AB29-BBF5D896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3A59-0C28-4603-8B8F-CC6046B6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F86D60-A669-448D-9350-BCEB0913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E2B824-C8EB-4B8C-BA7F-807011DC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1135E-0143-408F-A564-B85E092B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49574A-4C84-4457-AE96-BA35BC0B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249589-958B-460A-8FDB-930835B0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C4DE38-D774-4E20-BD13-638B277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F1032B-8CA5-4DA7-80EA-DD275AD7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C50E74-2A22-46B4-81FE-72D99E4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634EBC-881C-4890-B58D-345B0DD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D0D33D-F12B-455C-838C-26169F04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9B56-018F-4334-A177-F98B34DD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32FB33-E09F-4020-82AA-C544D57B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D9DB03-010E-49A2-AD1F-F4341E6C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4ADF2A-D8B0-4688-94A9-A0BFA676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8783B7-9F16-4849-8D2C-C4874FB9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2DF845-9FA7-408D-8D28-974E99E4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E3E254-3B34-45A7-91C4-C26AE4EC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AD8C63-A7F1-4592-85FE-3C2F561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2C6851-1E7E-401B-B586-22CE831D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E564CB-3596-4FBF-AFF4-5264A76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DD37C8-4C2A-4F1B-BDFC-F7485D94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E1A6-A88B-4172-A404-D7F3FAC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E19FDD-2232-47FB-9AD3-C0CCE7A4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70C393-428F-47EB-A1FC-E1E7AD6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8B84AF-786B-4B3B-8007-892208EE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701732-A96B-4DA9-A9A8-18D81C52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CBA684-1E3B-4235-9454-43DDF5DF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568F28-9E31-47F8-98AC-5A81280C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716BE7-23EA-4DDB-B69A-78BFCD5A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027DF5-2754-491F-A398-D30CD27F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C3C5C8-12BF-4427-811E-770A349D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647838-1F44-47C0-BA52-FFFFF168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A877-9B44-410D-97FD-5396FBE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720A0C-2C29-4EFE-932B-D3B4D4A9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B0293B-9B09-48DE-B7EB-D809C12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E6C548-5186-4664-A2FB-BF977064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8AA49B-ECAD-4169-8246-AC71BE3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738F5C-CBA6-4854-BF95-ECA95047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6F0BA7-DDC0-4718-B7EC-238FA33C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F533D1-86E2-4BD9-9A63-60A62EA0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1F55-E98E-4D86-9887-7A548C4E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4B72-5A02-4550-A46A-FEA2D218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70B5-1367-4274-8696-72DBEC98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2EE9A-C4E9-44A3-A92F-637AEE7D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D45C-F829-4122-BC30-D38A1DE4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64CE-DB20-4B96-A42D-9A4386A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CA2-5AAD-43B6-8C19-DE9C2BFF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5ED4-F654-4CFE-BB68-6857465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2C840-8EEE-4399-8080-8CDF804D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34028-045D-49E3-9E48-3AEE2FE0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EA7A9-1364-4E0D-9BC8-4598838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0F99-8A54-4252-9C30-8F023034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598F-FEF6-4AB9-A78C-1B63073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BF05-1EE8-4965-8B54-13626560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7CD1-00BF-4E92-B99C-881A7477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CDA1-95E3-4E9D-9601-A993F721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C6BF-B250-4930-A1DE-1F774070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A41-B3F4-4645-B3FF-187B4721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8B5DF-4F1B-4074-A193-AD8E09F7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B54C3-CD50-4B76-8D00-D94F55D1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5125F-7608-44EE-8296-E066F983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5102-4BAE-4430-9E1D-96107924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47EE1-7963-463C-9924-52BDCB4C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B2DD-3C4B-4DEB-B7DA-5C9891E3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1AC4-EDF7-4B53-B53D-8811457B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C209-99D6-4E06-8683-F1CDE8F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9BC93-D9A7-4C4F-BDCD-DC7B2B68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3CE1B-2F54-493D-9E21-5A59CEFC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491-A51F-409E-AA0F-B07365B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E09D-72B0-43D4-BE05-F3673734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03178-C833-4CE2-8E42-4B7FC98B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0C42C-AA96-465E-B93B-D3F6EE5A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53194-1226-41BF-9CAA-384AF119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07ED8-2912-43F0-944C-1F2EF7D0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05448-120F-4999-B926-80D7D472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0DE10-A64C-4B58-8CBB-9429CC1A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3F92F-8A66-4CEF-95BC-272C931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D3A4C-F753-4829-990B-2D5A649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3182D-F602-4998-A141-D582152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678-F9F4-42BC-B874-D63D049F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F88A-5BD8-4D17-8C64-A1A51AA3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3D764-8816-4F20-9FE5-3C268109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2FB26-DD99-4027-B60C-5656E126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C87B6-6306-4185-A112-8FD3D989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993E6-485C-4184-A3F3-3CAE8178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1F6A-FF42-41EA-878A-28A66192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00207-3995-46C9-8F94-C5225E3D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7C35E-BCBC-46F6-A898-B307688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D82FE-E572-403E-AA04-D42B56E3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DB31-B9C4-462C-AFA7-FE9BDBBA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5C4-5A14-48B3-B7EB-7B5774B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4A061-C20C-455E-BD31-5CC86CDA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FC4C2-7942-4784-817C-018F65ED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DCDE-6022-4DFF-B99F-A99AEC69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75EAF-27B0-43E4-A7E3-57D6A553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BA20-ECF7-4145-9870-94670F83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D05B3-76ED-41E2-9FB5-8B536B3E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FFBA-5592-45E1-A6E6-EFC9AEFB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F2184-15CB-4819-BC5E-1197E0CF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00DAD-CABB-48EA-9E8C-0394E23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839E7-2B1B-4F3D-9C86-31AA7CA8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53B-01E8-4A16-B864-380C782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33F8E-1858-41B2-B300-7986B324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D4AC-0028-4B8D-A9F5-882489C9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5055E-9991-48E0-9FAD-046EC899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8225C-D0B0-44EE-AE45-C8AC47F4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6488-36CC-4EC0-B9AE-58FD1D7D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67ED4-85BB-4986-84BD-4B0231C5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0545-A97F-425F-AB5A-29DA87CC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18607-975C-4D83-AA90-E49C0A14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23628-2452-4599-8545-CE7D1C89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C17D5-B00C-49E7-8182-C427E564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B8BF-EDCA-467F-9619-195F541B6F1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0B63-0A09-4801-B806-EE48D881CB3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E235-74B1-4B5D-9352-51940EC15C5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F7B6-9D8E-41B8-884A-72E346A0048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6A2-DCC9-4C2B-BEA8-75B608BFBDC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F11-45B1-4406-B444-B84A9460CD4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7F86-6C30-4BE7-9F46-45B76D1F19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7CD6-9773-470A-A680-4728C04EA4C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8EB5-9919-4DE0-AE2F-DB14310E244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65C8-2F06-4AB9-9DC8-F69BC1D518E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D2C2-93D5-41FB-8BF1-79F3C146606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E535-B2F3-4AC1-9851-FED807589DD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985-BFD1-470F-A321-60F21B74FB3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2142-7D1B-4E66-8B90-1749B8CD904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661-750F-44AF-B71C-7108198C41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F16F-715E-4E3B-9271-7BA85887D3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F262-6D4A-4E97-9E9D-1245980C49A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2AFA-BF2B-40A3-B8E5-21D3C404F6F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6CBD-82B0-4C38-947A-45B54B19F3E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0744-B30C-462B-B9B2-4D69ECCCC38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D1D6-E235-4B56-B333-80E941B5BF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8DB-190E-414A-9572-AE081D5647C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3254-B348-465D-A30F-B4FAC2D4DC0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7BD9-CA36-4529-B8AD-2A91D6A572F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53FC-0697-4D5E-A08A-C94220E2C89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E831-AC14-4052-97C8-640DD0D107E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0672-3DC6-412C-B490-841D181112F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EB8C-98B4-40BA-B681-669406F5501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ndividual or an institution that acts as an underwiter or agent for corporations and municipalities issuing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 not accept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intain broker/dealer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advisory services to 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rtgage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long-term loans - 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ng building or buying houses or fl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er interest to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un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non-profit financial institution that is owned and operated entirely by its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ide financial services for their members, including saving and l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is considered partial ownership in the credi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entr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ve responsibility for issuing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minister monetar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d member banks´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acilitate the nation´s banking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sta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anch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hiers /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X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tail ban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 represent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es assis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administration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ational and domestic banking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asury and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e operations division (FX, money mark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ing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ach of them can have some sub-divisions, sections or te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y, jejich funkce a struktur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pojem banka, představuje jednotlivé typy bank a jejich funkce a struktur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, spread, fee, account, ATM, loan, deposi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IR FUNCTIONS,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stitution that accepts deposits and make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s provide a system for an easy transfer of money from one person or company to an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termediary between a supplier of finances and their 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 banks earn mone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pread“ – the difference between the interest rate pay for deposits and interest rate they receive on the loans they m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on the securities they h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es for custome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fe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Opening and clos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Bank stat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inancial operations at the cou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ayments from your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onsulting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ome banking, internet ban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un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ving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nancial institutions which receive savings accounts only and pay interests to its depos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merci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vately – owned for profit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ept demands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commercial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related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07Z</dcterms:modified>
  <cp:revision>15</cp:revision>
  <dc:subject/>
  <dc:title>BUSINESS ENGLISH</dc:title>
</cp:coreProperties>
</file>