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 type="dt" idx="8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5"/>
          <p:cNvSpPr>
            <a:spLocks noGrp="1"/>
          </p:cNvSpPr>
          <p:nvPr>
            <p:ph type="ftr" idx="8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PlaceHolder 6"/>
          <p:cNvSpPr>
            <a:spLocks noGrp="1"/>
          </p:cNvSpPr>
          <p:nvPr>
            <p:ph type="sldNum" idx="8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D9EE3-9D32-483C-8DCB-288CD2B4D9A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A4EAF-E084-403B-B07A-5C77570602E7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62F75-101E-4F43-A448-279DAC0E78C4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EA09D-4212-4254-A3B5-C191AAEC5B5D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09BC7-F9D7-41FE-AF18-94EFB09E0AFD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FE5B2-31D4-4346-BA5A-DAB4BA4B11A1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78211-D11E-4B8B-98A2-3E2131C0DAC1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11C5A-6A0A-4948-A1CA-D4E87D4DAA5F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3ACAB-7841-4E3F-AC6E-F4612C39F5F9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77EC-0D0B-4CFE-AD5E-EEF55111D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5614-3532-4E95-B5DF-027425849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4E31B5-492D-422A-AF5F-8C5C17207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EA4816-7CC6-40CA-A708-66C89E182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669F4A-4C90-4CFC-822A-D5D2917E0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F16AC3-CCF9-40B4-9023-F96E0B1F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8B3749-D871-42B0-A95F-274D781F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F4D491-757A-4D6F-A531-16591616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1395A5-7FC0-4FA1-ADBE-DAB01DA4F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204230-AD81-4055-950E-3F41EF3BD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C26308-5F60-4B2C-AAB0-81855A8BF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2EAFF7-994C-46D7-9C78-1A5E6DAF7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7996-C6F3-4ECC-AE5B-34027447C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19AEC0-72AC-4D67-8C37-E761B2DE7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9B6706-95C9-4642-8841-2CE46DD80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C24380-E23C-4225-936A-DF844EDB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9078F8-2489-47A5-B1E3-87F18AED6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B4E8B4-D3AC-4C86-B3C2-28E145898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E0442B-BEC0-4C6B-8075-89B2BE66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CDEE15-C2D0-4326-9407-1CEE2055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D59D44-5E7D-4422-B176-8ACC5BBA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9BEF0D-6DFE-497C-90C1-FA4663913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0B81C5-A8DD-40BB-B6DD-99D771F56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9F61-BA6D-4F5C-B65D-70DB34C76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6390E7-E32A-41C7-9B42-240F17F37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4FFF5B-17AA-4682-87ED-F117AEED4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D9EA1D-01B9-456E-A857-5B63565CC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C85ACD-2526-4B13-8151-6657B45A2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4AEDC5-C55F-480A-BA11-B6DBA1F41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CC6ED0-CE78-4F5A-AFB1-8EB3B7B96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0D64C2-D1B2-4B1E-AC73-07A833800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6E870E-D397-4A26-9589-A494BF55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BBB1AC-8836-4D96-B819-E43282E5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4563AC-B6F3-4E55-9083-3F7B32CD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8F010-CBFE-45B7-8516-886055764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3B792B-1890-4B17-8D0E-8E21D23A2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F0BCD1-23D2-46A7-8F4D-EF2A1B095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17ED54-0B82-4185-B7EA-8E1E5F136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430711-8902-4895-ACA2-6E9CC9038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39BFDA-6D48-4843-B3D4-8B20111BE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2FE14C-2F3D-45F9-AC8B-EBDCD395E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0CBBFC-7EE9-4C39-B3F4-E17874CDE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78ABE5-9F56-4E43-AD64-FD99FCE51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859D64-6FF3-4E18-8D79-B537AFE65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FE7FDD-77E4-4E31-89C2-819D1E44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C3A35-25F6-40DB-8E4F-3D9B5A113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1BF9B0-2482-4315-966D-6C2CC8A7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737E0F-EB38-455D-9981-34D42C4E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7AAD5D-ED27-440C-B2B0-060C329D6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D6A61F-0829-418D-8929-D8E23F433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3E8051-BBDE-413D-923C-B69ED6EEB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0618B6-3EAA-4772-AF50-696170B42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EBB311-30A2-41A7-A21B-D37E3E126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6FC4A4-FE3E-40BD-AAA6-AFDFA5CB4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037CBC-6107-4D88-93D9-F4852E16D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46672F-E269-41E7-A955-4D5585CFD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E53CD-BD5D-4EDD-A7B8-147130F34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F6BFC8-7A33-43CD-B133-2F497B039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CF4E95-A967-49D1-A953-1465C2B9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8D7E14-8E80-4DE8-92CC-C795ABE1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258143-6BDC-449C-9779-D0DC80A4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87672D-192D-438C-84BD-F21E3887D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CC9693-32A2-4360-960E-5E469A16A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F6B30B-AC39-4026-A689-471F05826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72F699-A8DF-4123-8512-ADCC2C0A2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7E19F2-CC27-48A9-A7D6-308C2D4D7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1AA4E4-20D8-4922-8879-87560D451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50B7A-8744-4467-8D8B-4D658F0BB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FD9248-1F1A-4418-AC2D-A74B98CED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7BFEF0-1B06-4423-BDBB-794A723F0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663E89-7D09-455A-8CCF-B81B46E24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80EAA3-9F67-4BD9-9748-3DF9B9AF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625CE6-AA12-47F8-807A-8A2FFFCF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42FE4A-6ADF-457B-80D0-BCF78F13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344F5E-0E94-492A-8CEF-E696B9AE5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FB1470-9A31-4C3B-821C-B540CEBEE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3C3804-831C-4740-898C-EAF5A65F0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C91AF3-86CB-48EB-B24A-5336CAAC5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D5528-24D7-4E15-B18F-B525F5A97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A97CAB-D1E5-472D-84BD-2AD7A8692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D582B5-7211-47C0-B7B4-F3FCC2B8C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D55E76-5F6F-4C17-AB5E-AEDA316BF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432B35-F5FB-4CEF-8AF8-76008229E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B88DFC-8FE6-4F82-8A46-23F532155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A1025B-98E0-42C1-AFE4-E691F91E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D9F30B-5265-41AD-9753-1D55E576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DBFE90-3644-4FD4-8215-64B2D52B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D57300-9FCD-4DE7-9C75-BECD43687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EB8DD9-21FE-47A2-8DB0-3C0F1355E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C9A99-56AF-4768-A31E-1D9C6726A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438496-324E-4EF6-B52A-20D0DF97E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31DAA0-E1EF-43F5-929F-79AEED790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B56EDF-A31A-40C6-B4FD-F588B8818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2C1D3F-BF5E-4554-80C5-078698164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4E686D-D9E3-41BA-9A63-320F82A97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470AFD-2C08-47A3-A506-BB8A9A846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1CAC52-0599-418A-B1FE-74AB44582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038C02-EF55-46EA-9AF9-A5D142FA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612E73-99BA-4A77-A03E-2D67D97A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22CAD5-F5A2-4D81-94B0-45AFDF8B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31D53-1017-4975-ADBD-CAB6D8D1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D455DF-90B3-436B-9AA3-F23E4C1F6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87300E-2F70-4544-B1D4-38FA6D9F4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19B37B-903F-4B78-9CB2-486AB37A7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906F8D-6471-40BB-A4D3-5E1DB4E4B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E89F21-6FCE-4E75-AE6A-BCA4C4A1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97046F-CD25-4A56-A9BD-1F8B2BDBE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4A9EC5-A20F-451E-A510-4CAA40F13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758F27-E962-4DB0-A7AE-AEA9E3940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E6C066-9C26-44DA-9EE0-C99A68EFE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57D4E1-94D7-4533-A754-D1B2E500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8142-CF7C-4DDE-8467-6A80F6877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BF1FE-F83B-4D56-86A5-06ECAF2A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627483-A2CE-4AAE-89E4-18FEE6B4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F07F6B-1D28-41B7-AAD6-BEEC0F56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23AF5F-E55C-4463-9041-48408372E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4B676F-CFB4-4EC2-998C-3909FAF3F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B04247-06A4-49EB-B4CC-486F08268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C37FEE-2942-4289-8686-E4524DB97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07B51D-7C7A-46D6-9009-19C76BF5A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F299BF-DBE4-4285-BA5D-8032108BC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FB2A49-E0EE-4726-A9CA-2C8A3E5C7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F61CBA-6C4B-4542-B97F-57C301884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91A8E-A4F5-4C56-91A2-8F388098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B1425F-A019-4187-B9C0-A9615F462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CB90A4-80FB-4EF5-A9C3-27A60920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A252A8-5264-4F4B-AC73-FF4C5533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D6E5C0-D90F-4407-A6C6-0B6C7341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DE4DD7-A373-4897-9EEC-BCB218298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21C331-4B58-4670-948A-A3D2A2E10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A088A2-E3EF-4BE4-AEC4-DBFAA1EF8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01CE1F-A067-4EEB-9079-1833A7228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D0754E-F511-4572-A1FF-F0A94691B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1D2F85-62B2-4B59-ACA0-7F6E6607F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A8EA5-87A4-4D33-A059-FA6107570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CCB335-F5AD-4B78-8E62-D10AC200D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5A3202-05A2-45CB-BF4E-A4F9D9665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D072F0-729D-452D-AD90-15A5FAD6E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8319C7-E6CD-462F-9AFA-1A737C13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BCB963-27F3-479C-9720-2E1AF32E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560710-1255-4646-AA17-BB20EC36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A847D9-CCDE-4922-8224-4392F360F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164418-D756-4CDA-811B-DF02FF38F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77CA4B-5C49-4C24-A69A-6D8A8DC72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8B6403-87B8-4756-B58C-1BAFC2A6C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A1D90-B308-49CF-AB9D-C016CCAD2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0295CA-AC86-4CA9-B99E-A5E1532AB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79BDC4-3E2D-48D7-9FAD-543802764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B3FB5E-9821-4C83-8801-04FEE0CB7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B8A379-8957-4D0E-A37F-BCE902C3D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BA5D22-F21D-4472-AC25-E649A0A36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97D2DD-6E5B-450C-9D7F-974BF172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29191A-25E1-4621-8169-EBE534BD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67F9B5-54AA-4F64-A298-9390D35D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8F21C5-DB8D-4B44-8F6B-4ED02DFC2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1690E6-09A8-4E17-98AA-4B48619BA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EC849-453A-4E5F-9003-8043A575C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DEC5F8-8368-4162-BB72-A0524EC7E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40650F-A60F-4D85-A308-BA9C92AF5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9816B7-ABCF-4EF2-AA5D-FB52AE6DE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1959DD-89CB-46FD-84DA-21D2CA17A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55FFCE-62C3-4F5B-B049-E0DB0DB8E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421959-7C51-446F-B5F0-61C4B76DE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E12A96-7A48-431F-979F-7AEE1AD31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2D1D06-FDF8-4DF5-AA9E-B17797CD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A92D29-F392-4552-B131-E4C7EFBC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30E380-2B78-4BD6-A5C9-775B8BDE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F9255-3C25-4B8F-AD21-AA6EE2348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64318B-9933-483B-BBD0-00F9C5877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515DE5-64EB-4245-B206-178C97F8D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F278A4-CB7F-4DF7-9133-3A8CCFE51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E678C0-166F-4B4B-A6D0-C1AF7B3E8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59F9E64-C62F-4044-991F-217E56A99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1ECA0F9-91E8-4F10-AF12-8BF975B31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04AD9EB-4737-432C-A308-842CC16D0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EEF638D-EBD4-4A32-9E17-34B95AF04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D1AEB56-2934-49FB-BC48-44548F2C5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242CB13-5E01-4CC5-B31E-9E9890C5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1FA0D-DEF4-429D-873E-34200B66F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9F84CEB-F808-47CC-ABC2-14FAC135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5AD1CCE-C77D-46A8-A114-80B9B555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9EB2395-1807-4675-894B-FCA2C028C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6A63AF3-EDDD-4311-BB59-E4BD3EF22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C7A79B7-1F5C-427D-B2D9-433FC2774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D778AAE-6F74-4AD0-AE1B-6B7176198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D07794D-BBD2-4727-8A4D-705EAFCFC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1B1690B-6C8B-4A7B-8C01-1F0C1DDEC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BDD0518-CA04-4190-A7D0-1EEEBE385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C640E01-DC0B-439A-9BD2-9181781DD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D2373-8ECC-4F36-AE3A-7A0AF64EA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D5DDC13-D9D8-4055-89BE-13B66EE23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2C2133D-323D-4970-8103-4F76E959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FC59EC2-4D9C-4505-8ECB-216DC100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A6BABA1-9803-490E-BD23-8264B3C9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5CE73FA-77EA-4303-A834-679BBE37E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CF72011-5582-43BF-9D66-4A82F9E09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5E87415-EA61-4A1B-97CF-71FCC59CB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54B3CEE-07AE-4D9C-959B-48BAFF128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31938C5-5A78-4DCD-8D01-92FB7C1B4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23D43CE-32CF-419B-9EF3-ACA0009D1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22860-AC59-4CD5-8135-183FF5D3A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AC86983-8425-4419-8DCA-AC09F10C9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906177B-2681-4927-9693-E2CC49DDC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E72A181-6496-4664-9E7F-02CB69A6C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65E24F3-F298-4BDA-93F6-48F043D5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2E7BBC5-2840-4663-B5A6-FA183318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62FB7F6-1AD9-4EEA-AC5C-BBFAADA5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6E702F7-301A-4FEA-AABF-C4127E84D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03F15C5-C4B8-476D-9D34-4AB669B2C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FC236EA-2D7D-42FC-9D83-2691E690D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96B8111-5EAD-462D-93F0-A13091F8B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339DF-30F5-4A10-A26D-89D7EBFB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61D432F-3544-4F5C-B50E-F58976561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58CE3B2-E348-4308-B9D8-1144D2E4A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F91801F-0520-4B3B-8505-57ED5047D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1FA8568-3550-4CCC-83E3-802853C72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EC23198-8BED-417F-AE37-EA0D14425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D7D698D-CCE2-4ABD-99A7-AE008EF3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2ABDE65-9FFE-4746-BE14-8666C98E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C6814DB-76C4-4436-893C-1DAE8900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FBF1552-FB05-4A46-9803-1FB5C609D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008E55D-3022-49CE-9F8F-77CC7B1A7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D1A2-0276-45D7-9225-79F17FB65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F4203-63A9-4C8E-9632-E5F8AC9C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C8FBDDD-0E64-45C1-95E6-483DE4F14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25B94B0-F8BE-4227-A1C0-63E980705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BE39812-A04F-4E9B-98CC-ED6043E06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EDA085B-6AF6-4580-B7D2-BE20DF574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7CC0890-CC46-46A1-B5CD-550FDC7E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5744562-2023-4F75-8146-0DCFB82AD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7446E06-6753-4FCF-ACF9-02F18B5B1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A6B54A8-D2A3-4EC1-B6F4-2A22A85D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62BE100-CEED-46CC-8C0E-CC82FE4E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655C741-697D-420C-90C8-2FA5DEC7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4AC8D-99A7-438D-832D-0C17D483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9D7ED76-4E2F-47D9-BA4E-F5B039848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5E3DCC4-6B68-4DC1-A1E8-2669DDE35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CB722DD-363A-4C69-B2B5-C4E2D7018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9BD739E-D9A8-4DD2-ACA6-FF836072B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CB104C3-3F7A-4EE6-BA95-86CF501C1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2A7EBB3-9A1C-45FA-A21D-FB4EF7F4B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B636A6E-ACFB-41CD-BE21-75956DB39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61A8B94-7401-40BC-80C5-CD6B15170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1CC4175-D523-4E0D-BFE7-295418E89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47BECC6-1100-445D-91F4-566D6125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DE7C0-958B-4FF0-AB3E-B9C7D534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E33214A-9171-4172-B86E-F2D7A7BB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436B734-7B9A-46DA-833F-63608D82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19C5E91-A96F-47D1-96FF-8B043CFC2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A284DDF-1521-46CB-B568-1FE7BD91D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27B2AAB-9D7E-42CA-9971-207DFE35D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A5CE172-1157-4C85-B92F-B366B377E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2756D8A-D9A5-4B85-943B-3E70C60D4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018DE14-58C4-42FA-92EA-3DC44A19E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4A63922-238A-4116-8102-023D598BE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13FBD6C-CB57-4005-8B08-4822654B0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4335B-030A-4C67-81B8-8B3F0D0C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AE01265-90E2-43FA-9353-A68168071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7771BCC-7077-41B2-98D0-891B6018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0C3ECDF-C545-4702-862F-36437FAD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36F33E9-8ABE-4DD8-A83C-E5B1CF66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D0AB1D6-EFC1-4891-B16E-2AEA4E9B8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45F02C9-BFCB-47C4-85C4-12270D14A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9834E1D-B94B-4F4B-A0C6-82F86C3E7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6186C-DAA9-483F-B50C-D6FB53FE5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FC519-0BD2-436E-B6F2-9613C175F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702EA-943B-4567-98B3-392BFCA29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E097C-831D-4BBC-A565-533FE9253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5E2EF-390E-4B51-A5AA-73781BC36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25994-58B9-440D-8D5E-3F99AF846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FF06-1326-4D58-80F4-E3BD3B0C0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518D0-235C-404D-9841-41BAF4A41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84C77-7455-4711-BF97-DA7B8E3B0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B365C-05BA-4954-AD7F-4BA04E00C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3340F-62C2-49AD-BEE3-0676110C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7F942-9003-40FF-8750-7F9B15F9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A5355-A2BB-4971-8694-0EFC1FCE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64519-A863-40A3-9C58-CE0CCE5A6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E6907-9119-4871-8F8B-D6C9BBD79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2B64D-6F58-470B-A844-2B18ED2E6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31847-9557-4975-865E-01F4A8562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CC53-0E35-41C8-81DC-321A8502B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AA7B6-71DD-4124-BE47-BA5C1BDF7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F5F3D-98CF-4D7E-9C9B-AB0A55378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126E4-FB9F-4B8B-8A49-7B257A63D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B75AE-64AD-4B1B-9EF2-B9F4F93E3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1BBA3-8E29-4D04-A701-6BD9F5D7D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D1F6C-C925-4AA8-8140-7A0E5ECF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371C9-892A-4D69-A199-35F53633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9961A-0E5A-45CA-A4E5-213C0F1A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BAE6F-FE9F-4C02-8CC7-1B6CF23A8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CDF01-C72C-4DDE-B751-CF6E5113A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8E38-3AB4-443F-94D4-CFFD6998E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03635-7780-4C67-9E2A-F7BCB28EC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7B55C-7F4C-437A-A902-98EBB8354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6D531-435C-461E-A75A-27B2DFB57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87A1E-B19F-4672-A62D-4D5BA5FDE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941ADB-C943-4A1B-BEE8-40FA79B64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61BA8-BD6D-4EC0-BA13-B1DA61486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A5F9A-C978-4FC7-AE9E-D7EF9252E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46607-6D24-45EB-A8FF-8B6A3501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C018E-0341-434E-9326-D37909CD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3E08C-084A-4A4B-8168-C17D39AC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8F7F-FB61-4AA5-BBEF-4AE24574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EC106-9AC0-4CE8-B87C-920CA56EF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E7E30-BC76-45D2-94A1-0A9A64EEE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19499-B3FB-4FD5-B57D-C8DF3A751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AA712-7556-4DB3-A55A-34C62C722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15592C-592C-4695-B53F-A1D79F25C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221EA-DE1A-45E3-AAB5-0DB713EC4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8016A-0C01-4994-B988-5C375F8FC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E20EFA-0A68-4132-A848-AAD227924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25CFE-6C1B-40E2-AAF3-F6BC79F39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9A913-F4D4-40A9-957F-FD0A5476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705C-253C-48AE-9CA8-CD4F15F3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0A508-72D4-472C-AB77-CA16FD5F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576BC-E19C-4049-AF97-9CC176AD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7B692F-8142-4405-ABC0-5C2B03A9C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9F3B14-9934-40DA-8280-6E116F75D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DA30E-2384-410F-9718-C41DB7755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0E01D-77D8-4C52-905A-E123FE4B0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5CA622-F7EF-489F-9BD1-0B847A80E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D8E580-D35D-4BA4-BBA5-E647DCEAC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4C2499-CCCF-4E85-8F20-B10C99DEC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C13EC-1FDA-4F91-824F-9490CC60A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4C26-4C00-4B7A-9710-BFE8742C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17608E-0960-40E1-9AA8-C0387A9A8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FD5A74-38DF-490B-9EE1-00C9EDC2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60F4A8-C5FC-4CB9-8BFD-19EDDC26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92F09-2D75-4276-8247-FE34FB31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0383A9-A2A0-425F-85E8-A461E464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CAFD8E-E917-47C2-B503-CA4D494B8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9A5A0F-72B5-487F-8885-D156ACC5F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05FDD3-6249-4DE2-BF69-D61016116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C7B17A-D78F-4696-92BF-CACCE2AA2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21B7C7-EED7-44C6-8427-8381BB842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17.xml"/><Relationship Id="rId7" Type="http://schemas.openxmlformats.org/officeDocument/2006/relationships/slideLayout" Target="../slideLayouts/slideLayout218.xml"/><Relationship Id="rId8" Type="http://schemas.openxmlformats.org/officeDocument/2006/relationships/slideLayout" Target="../slideLayouts/slideLayout219.xml"/><Relationship Id="rId9" Type="http://schemas.openxmlformats.org/officeDocument/2006/relationships/slideLayout" Target="../slideLayouts/slideLayout220.xml"/><Relationship Id="rId10" Type="http://schemas.openxmlformats.org/officeDocument/2006/relationships/slideLayout" Target="../slideLayouts/slideLayout221.xml"/><Relationship Id="rId11" Type="http://schemas.openxmlformats.org/officeDocument/2006/relationships/slideLayout" Target="../slideLayouts/slideLayout222.xml"/><Relationship Id="rId12" Type="http://schemas.openxmlformats.org/officeDocument/2006/relationships/slideLayout" Target="../slideLayouts/slideLayout223.xml"/><Relationship Id="rId13" Type="http://schemas.openxmlformats.org/officeDocument/2006/relationships/slideLayout" Target="../slideLayouts/slideLayout224.xml"/><Relationship Id="rId14" Type="http://schemas.openxmlformats.org/officeDocument/2006/relationships/slideLayout" Target="../slideLayouts/slideLayout225.xml"/><Relationship Id="rId15" Type="http://schemas.openxmlformats.org/officeDocument/2006/relationships/slideLayout" Target="../slideLayouts/slideLayout226.xml"/><Relationship Id="rId16" Type="http://schemas.openxmlformats.org/officeDocument/2006/relationships/slideLayout" Target="../slideLayouts/slideLayout227.xml"/><Relationship Id="rId17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41.xml"/><Relationship Id="rId7" Type="http://schemas.openxmlformats.org/officeDocument/2006/relationships/slideLayout" Target="../slideLayouts/slideLayout242.xml"/><Relationship Id="rId8" Type="http://schemas.openxmlformats.org/officeDocument/2006/relationships/slideLayout" Target="../slideLayouts/slideLayout243.xml"/><Relationship Id="rId9" Type="http://schemas.openxmlformats.org/officeDocument/2006/relationships/slideLayout" Target="../slideLayouts/slideLayout244.xml"/><Relationship Id="rId10" Type="http://schemas.openxmlformats.org/officeDocument/2006/relationships/slideLayout" Target="../slideLayouts/slideLayout245.xml"/><Relationship Id="rId11" Type="http://schemas.openxmlformats.org/officeDocument/2006/relationships/slideLayout" Target="../slideLayouts/slideLayout246.xml"/><Relationship Id="rId12" Type="http://schemas.openxmlformats.org/officeDocument/2006/relationships/slideLayout" Target="../slideLayouts/slideLayout247.xml"/><Relationship Id="rId13" Type="http://schemas.openxmlformats.org/officeDocument/2006/relationships/slideLayout" Target="../slideLayouts/slideLayout248.xml"/><Relationship Id="rId14" Type="http://schemas.openxmlformats.org/officeDocument/2006/relationships/slideLayout" Target="../slideLayouts/slideLayout249.xml"/><Relationship Id="rId15" Type="http://schemas.openxmlformats.org/officeDocument/2006/relationships/slideLayout" Target="../slideLayouts/slideLayout250.xml"/><Relationship Id="rId16" Type="http://schemas.openxmlformats.org/officeDocument/2006/relationships/slideLayout" Target="../slideLayouts/slideLayout251.xml"/><Relationship Id="rId17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65.xml"/><Relationship Id="rId7" Type="http://schemas.openxmlformats.org/officeDocument/2006/relationships/slideLayout" Target="../slideLayouts/slideLayout266.xml"/><Relationship Id="rId8" Type="http://schemas.openxmlformats.org/officeDocument/2006/relationships/slideLayout" Target="../slideLayouts/slideLayout267.xml"/><Relationship Id="rId9" Type="http://schemas.openxmlformats.org/officeDocument/2006/relationships/slideLayout" Target="../slideLayouts/slideLayout268.xml"/><Relationship Id="rId10" Type="http://schemas.openxmlformats.org/officeDocument/2006/relationships/slideLayout" Target="../slideLayouts/slideLayout269.xml"/><Relationship Id="rId11" Type="http://schemas.openxmlformats.org/officeDocument/2006/relationships/slideLayout" Target="../slideLayouts/slideLayout270.xml"/><Relationship Id="rId12" Type="http://schemas.openxmlformats.org/officeDocument/2006/relationships/slideLayout" Target="../slideLayouts/slideLayout271.xml"/><Relationship Id="rId13" Type="http://schemas.openxmlformats.org/officeDocument/2006/relationships/slideLayout" Target="../slideLayouts/slideLayout272.xml"/><Relationship Id="rId14" Type="http://schemas.openxmlformats.org/officeDocument/2006/relationships/slideLayout" Target="../slideLayouts/slideLayout273.xml"/><Relationship Id="rId15" Type="http://schemas.openxmlformats.org/officeDocument/2006/relationships/slideLayout" Target="../slideLayouts/slideLayout274.xml"/><Relationship Id="rId16" Type="http://schemas.openxmlformats.org/officeDocument/2006/relationships/slideLayout" Target="../slideLayouts/slideLayout275.xml"/><Relationship Id="rId17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13.xml"/><Relationship Id="rId7" Type="http://schemas.openxmlformats.org/officeDocument/2006/relationships/slideLayout" Target="../slideLayouts/slideLayout314.xml"/><Relationship Id="rId8" Type="http://schemas.openxmlformats.org/officeDocument/2006/relationships/slideLayout" Target="../slideLayouts/slideLayout315.xml"/><Relationship Id="rId9" Type="http://schemas.openxmlformats.org/officeDocument/2006/relationships/slideLayout" Target="../slideLayouts/slideLayout316.xml"/><Relationship Id="rId10" Type="http://schemas.openxmlformats.org/officeDocument/2006/relationships/slideLayout" Target="../slideLayouts/slideLayout317.xml"/><Relationship Id="rId11" Type="http://schemas.openxmlformats.org/officeDocument/2006/relationships/slideLayout" Target="../slideLayouts/slideLayout318.xml"/><Relationship Id="rId12" Type="http://schemas.openxmlformats.org/officeDocument/2006/relationships/slideLayout" Target="../slideLayouts/slideLayout319.xml"/><Relationship Id="rId13" Type="http://schemas.openxmlformats.org/officeDocument/2006/relationships/slideLayout" Target="../slideLayouts/slideLayout320.xml"/><Relationship Id="rId14" Type="http://schemas.openxmlformats.org/officeDocument/2006/relationships/slideLayout" Target="../slideLayouts/slideLayout321.xml"/><Relationship Id="rId15" Type="http://schemas.openxmlformats.org/officeDocument/2006/relationships/slideLayout" Target="../slideLayouts/slideLayout322.xml"/><Relationship Id="rId16" Type="http://schemas.openxmlformats.org/officeDocument/2006/relationships/slideLayout" Target="../slideLayouts/slideLayout323.xml"/><Relationship Id="rId17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DBEF3-0833-4F95-A13E-12600FB66529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3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3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3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3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43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D53BA-85F9-491D-9A7A-EF81F0342B1A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481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4F022-0C3E-4A32-9D87-6DFA592015C6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25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27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28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30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531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245F4-7F37-4623-8922-E7B4A860F52D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16E01-E6C5-4C98-AE8B-870117A154DB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616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 type="sldNum" idx="4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B90B4-93DD-408E-B3A0-61A6BB4BB065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04E16-0E51-4D47-8D79-73842300ECDB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70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0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70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0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70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0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sldNum" idx="4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14BE1-B618-4F21-BB19-EE771A50E1C3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dt" idx="4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ftr" idx="5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 type="sldNum" idx="5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185FB-CE42-4125-A461-504349908042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1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792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3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9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 type="dt" idx="5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 type="ftr" idx="5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 type="sldNum" idx="54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4207F-C580-4428-A8C5-CCCE08E74999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83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838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839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841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842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 type="dt" idx="5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 type="ftr" idx="56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 type="sldNum" idx="57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7CE7B-DFFB-457E-93E1-BF2D2C148FE3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6"/>
    <p:sldLayoutId id="2147483884" r:id="rId7"/>
    <p:sldLayoutId id="2147483885" r:id="rId8"/>
    <p:sldLayoutId id="2147483886" r:id="rId9"/>
    <p:sldLayoutId id="2147483887" r:id="rId10"/>
    <p:sldLayoutId id="2147483888" r:id="rId11"/>
    <p:sldLayoutId id="2147483889" r:id="rId12"/>
    <p:sldLayoutId id="2147483890" r:id="rId13"/>
    <p:sldLayoutId id="2147483891" r:id="rId14"/>
    <p:sldLayoutId id="2147483892" r:id="rId15"/>
    <p:sldLayoutId id="2147483893" r:id="rId16"/>
    <p:sldLayoutId id="2147483894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0C3B6-1B99-40D6-8967-565F9034E00F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5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886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7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5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5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5DDA-6989-4CCA-867B-00FC90A9E932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9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30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32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33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35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936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3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 type="dt" idx="6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 type="ftr" idx="6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 type="sldNum" idx="6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36C22-C851-44A2-9F55-F150A1EC518F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6"/>
    <p:sldLayoutId id="2147483910" r:id="rId7"/>
    <p:sldLayoutId id="2147483911" r:id="rId8"/>
    <p:sldLayoutId id="2147483912" r:id="rId9"/>
    <p:sldLayoutId id="2147483913" r:id="rId10"/>
    <p:sldLayoutId id="2147483914" r:id="rId11"/>
    <p:sldLayoutId id="2147483915" r:id="rId12"/>
    <p:sldLayoutId id="2147483916" r:id="rId13"/>
    <p:sldLayoutId id="2147483917" r:id="rId14"/>
    <p:sldLayoutId id="2147483918" r:id="rId15"/>
    <p:sldLayoutId id="2147483919" r:id="rId16"/>
    <p:sldLayoutId id="2147483920" r:id="rId17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9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980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dt" idx="6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 type="ftr" idx="6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 type="sldNum" idx="66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79E46-1403-4163-8762-FB97253C3716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3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24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26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27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29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30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0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 type="dt" idx="6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 type="ftr" idx="6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 type="sldNum" idx="6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826B3-30D7-40CE-BD0B-08E735968ED2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6"/>
    <p:sldLayoutId id="2147483936" r:id="rId7"/>
    <p:sldLayoutId id="2147483937" r:id="rId8"/>
    <p:sldLayoutId id="2147483938" r:id="rId9"/>
    <p:sldLayoutId id="2147483939" r:id="rId10"/>
    <p:sldLayoutId id="2147483940" r:id="rId11"/>
    <p:sldLayoutId id="2147483941" r:id="rId12"/>
    <p:sldLayoutId id="2147483942" r:id="rId13"/>
    <p:sldLayoutId id="2147483943" r:id="rId14"/>
    <p:sldLayoutId id="2147483944" r:id="rId15"/>
    <p:sldLayoutId id="2147483945" r:id="rId16"/>
    <p:sldLayoutId id="2147483946" r:id="rId17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 type="dt" idx="7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 type="ftr" idx="7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7" name="PlaceHolder 5"/>
          <p:cNvSpPr>
            <a:spLocks noGrp="1"/>
          </p:cNvSpPr>
          <p:nvPr>
            <p:ph type="sldNum" idx="7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49911-CA41-4B94-9E3C-A05AB1C0B24A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4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1115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6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 type="dt" idx="7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 type="ftr" idx="7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1" name="PlaceHolder 5"/>
          <p:cNvSpPr>
            <a:spLocks noGrp="1"/>
          </p:cNvSpPr>
          <p:nvPr>
            <p:ph type="sldNum" idx="7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BFC0B-3E32-4F86-8834-D2773E00731A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 type="dt" idx="7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 type="ftr" idx="7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 type="sldNum" idx="7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EEE39-3382-40EF-B8DE-5C0D3A365426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9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200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202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203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205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06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20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 type="dt" idx="7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 type="ftr" idx="8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2" name="PlaceHolder 5"/>
          <p:cNvSpPr>
            <a:spLocks noGrp="1"/>
          </p:cNvSpPr>
          <p:nvPr>
            <p:ph type="sldNum" idx="8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E340E-F90F-45E5-A76A-10BF53705DC9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6"/>
    <p:sldLayoutId id="2147483988" r:id="rId7"/>
    <p:sldLayoutId id="2147483989" r:id="rId8"/>
    <p:sldLayoutId id="2147483990" r:id="rId9"/>
    <p:sldLayoutId id="2147483991" r:id="rId10"/>
    <p:sldLayoutId id="2147483992" r:id="rId11"/>
    <p:sldLayoutId id="2147483993" r:id="rId12"/>
    <p:sldLayoutId id="2147483994" r:id="rId13"/>
    <p:sldLayoutId id="2147483995" r:id="rId14"/>
    <p:sldLayoutId id="2147483996" r:id="rId15"/>
    <p:sldLayoutId id="2147483997" r:id="rId16"/>
    <p:sldLayoutId id="2147483998" r:id="rId17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 type="dt" idx="8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 type="ftr" idx="8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 type="sldNum" idx="8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93C2-8DED-45EE-BFEF-0ACA77CE8A77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DB97A-EA93-462B-BBDA-617B99BD15BE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0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4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D0697-C3DD-4B51-A338-98DAFE42A313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5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5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5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5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9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9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9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78457-3842-4FFF-A6DF-0EBA33E2CF50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4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4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4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4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F148C-2681-4425-B97E-F94B0C25AE38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293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EAF00-82EA-40AF-89CE-E4FAA8F429EF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37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9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40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2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343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3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4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10B09-7700-4554-8305-C89322E3356A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387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82E94-BAF7-485E-9CD9-4BFA9A6493A5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7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98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0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99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3.A / třetí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.2.201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00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onsultancy servi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vest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sur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ortgag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ervi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Insurance servi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320" name="Organization Chart 10"/>
          <p:cNvGrpSpPr/>
          <p:nvPr/>
        </p:nvGrpSpPr>
        <p:grpSpPr>
          <a:xfrm>
            <a:off x="833400" y="2637000"/>
            <a:ext cx="7632360" cy="3023280"/>
            <a:chOff x="833400" y="2637000"/>
            <a:chExt cx="7632360" cy="3023280"/>
          </a:xfrm>
        </p:grpSpPr>
        <p:cxnSp>
          <p:nvCxnSpPr>
            <p:cNvPr id="1321" name="_s1028"/>
            <p:cNvCxnSpPr>
              <a:stCxn id="1322" idx="0"/>
              <a:endCxn id="1323" idx="2"/>
            </p:cNvCxnSpPr>
            <p:nvPr/>
          </p:nvCxnSpPr>
          <p:spPr>
            <a:xfrm flipV="1" rot="16200000">
              <a:off x="5918400" y="2576160"/>
              <a:ext cx="605160" cy="3143520"/>
            </a:xfrm>
            <a:prstGeom prst="bentConnector3">
              <a:avLst>
                <a:gd name="adj1" fmla="val 15535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1324" name="_s1029"/>
            <p:cNvCxnSpPr>
              <a:stCxn id="1325" idx="0"/>
              <a:endCxn id="1323" idx="2"/>
            </p:cNvCxnSpPr>
            <p:nvPr/>
          </p:nvCxnSpPr>
          <p:spPr>
            <a:xfrm flipV="1" rot="16200000">
              <a:off x="5132520" y="3362040"/>
              <a:ext cx="605160" cy="1572120"/>
            </a:xfrm>
            <a:prstGeom prst="bentConnector3">
              <a:avLst>
                <a:gd name="adj1" fmla="val 15535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1326" name="_s1030"/>
            <p:cNvCxnSpPr>
              <a:stCxn id="1327" idx="0"/>
              <a:endCxn id="1323" idx="2"/>
            </p:cNvCxnSpPr>
            <p:nvPr/>
          </p:nvCxnSpPr>
          <p:spPr>
            <a:xfrm flipV="1">
              <a:off x="4649760" y="3845520"/>
              <a:ext cx="2160" cy="605160"/>
            </a:xfrm>
            <a:prstGeom prst="bentConnector2">
              <a:avLst/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1328" name="_s1031"/>
            <p:cNvCxnSpPr>
              <a:stCxn id="1329" idx="0"/>
              <a:endCxn id="1323" idx="2"/>
            </p:cNvCxnSpPr>
            <p:nvPr/>
          </p:nvCxnSpPr>
          <p:spPr>
            <a:xfrm flipH="1" flipV="1" rot="5400000">
              <a:off x="3561120" y="3362040"/>
              <a:ext cx="605160" cy="1572120"/>
            </a:xfrm>
            <a:prstGeom prst="bentConnector3">
              <a:avLst>
                <a:gd name="adj1" fmla="val 15535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1330" name="_s1032"/>
            <p:cNvCxnSpPr>
              <a:stCxn id="1331" idx="0"/>
              <a:endCxn id="1323" idx="2"/>
            </p:cNvCxnSpPr>
            <p:nvPr/>
          </p:nvCxnSpPr>
          <p:spPr>
            <a:xfrm flipH="1" flipV="1" rot="5400000">
              <a:off x="2775600" y="2576520"/>
              <a:ext cx="605160" cy="3143520"/>
            </a:xfrm>
            <a:prstGeom prst="bentConnector3">
              <a:avLst>
                <a:gd name="adj1" fmla="val 15535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1323" name="_s1033"/>
            <p:cNvSpPr/>
            <p:nvPr/>
          </p:nvSpPr>
          <p:spPr>
            <a:xfrm>
              <a:off x="3976200" y="2637000"/>
              <a:ext cx="1346760" cy="12092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INSURANC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31" name="_s1034"/>
            <p:cNvSpPr/>
            <p:nvPr/>
          </p:nvSpPr>
          <p:spPr>
            <a:xfrm>
              <a:off x="833400" y="4451040"/>
              <a:ext cx="1346760" cy="12092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LIF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ASSURANC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29" name="_s1035"/>
            <p:cNvSpPr/>
            <p:nvPr/>
          </p:nvSpPr>
          <p:spPr>
            <a:xfrm>
              <a:off x="2404800" y="4451040"/>
              <a:ext cx="1346760" cy="12092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ENSION 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INSURANC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27" name="_s1036"/>
            <p:cNvSpPr/>
            <p:nvPr/>
          </p:nvSpPr>
          <p:spPr>
            <a:xfrm>
              <a:off x="3976200" y="4451040"/>
              <a:ext cx="1346760" cy="12092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ACCIDENT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INSURANC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25" name="_s1037"/>
            <p:cNvSpPr/>
            <p:nvPr/>
          </p:nvSpPr>
          <p:spPr>
            <a:xfrm>
              <a:off x="5547600" y="4451040"/>
              <a:ext cx="1346760" cy="12092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TRAVE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INSURANC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22" name="_s1038"/>
            <p:cNvSpPr/>
            <p:nvPr/>
          </p:nvSpPr>
          <p:spPr>
            <a:xfrm>
              <a:off x="7119000" y="4451040"/>
              <a:ext cx="1346760" cy="12092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HOUSEHOLD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INSURANC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Life assura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ong-term insurance (usually over 20 year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certain amount of money would be paid to your family in case of your dea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an be accompanied with an insurance against serious illnes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ill be paid to you at the end of the contra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You can back out of a contract under certain condition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ension insura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ong-term saving with a state benef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egular pay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aving for the time you reti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You usually cannot withdraw your saving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Accident insura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suring yourself against accid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suring against damages caused by your activi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 case of an accident (broken arm, leg etc.) you get some mone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ravel insura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suring yourself before journeys abroad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avoid high bills at doctors and hospitals in case of illnesses, accidents, car crashes et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 case of your hospitalization abroad a member of your family can co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 case of death the conveyance of your body will be paid from the insur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Household insura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gainst burgla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gainst fi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gainst floods and other natural disast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art of the loss is covered by this insurance and paid to yo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Investme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aving accounts, deposit accou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uilding saving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ha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on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toc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5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Bočánková, M., Hedvábná, I., Kalina, M. 2004. Anglická obchodní korespondence. Ekopress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yčková, J., Neumannová, O. 1998. English for bankers. RADIX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enderson, D., Streitwieser, V. 2006. Business English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Jones, L., Alexander, R. 2003. New International Business English. Cambridge University P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ackenzie, I. 1995. Financial English. Language Teaching Pub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ěšťan, J. 2002. Anglický obchodní dopis se vzorovými dopisy. Nakladatelství JM Pís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7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adice, F. 1992. English for banking. Macmillan 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kuch, E. 2005. Fit for Business English - Fráz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illey, R. 2005. Fit for Business English – Korespondenc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eger A. 2008. Inside the European Union. Leda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Abbs, B., Freebairn, I., Barker, Ch., 2003. New Snapshot Pre-Intermediate, Pearson Education Limi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1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Moderní bankovní služb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představuje moderní bankovní služby a zavádí další pojmy bankovní angličtiny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ccount, telephone banking, internet banking, insurance services, investment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02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BUSINESS ENGLIS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4" name="PlaceHolder 1"/>
          <p:cNvSpPr>
            <a:spLocks noGrp="1"/>
          </p:cNvSpPr>
          <p:nvPr>
            <p:ph type="subTitle"/>
          </p:nvPr>
        </p:nvSpPr>
        <p:spPr>
          <a:xfrm>
            <a:off x="4643280" y="3357360"/>
            <a:ext cx="4013280" cy="122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MODERN BANKING SERVI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ASIC BANK SERVI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unning an accou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aving opportuni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aking loa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xchange off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ODERN SERVI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elephone bank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ternet bank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onsultancy servi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surance servi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vestment opportuni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elephone bank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You give payment orders or check your balance via teleph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ransferring money between accou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aying bills and invoi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hecking your bal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rdering servi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Internet bank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llows you 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heck movements on your accou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ake money transfers to other accou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ake a collecting dem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get e-state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e-charge your telephone cred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Internet bank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llows you to make a contract about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uilding sav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various types of insuran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ssuing a bank card, credit car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oans and invest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How does internet banking work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ign a contract in your ban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Get an access to your account and a passwor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pen the web page, log in, sometimes you get a password via s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ake financial operations onli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onfirm the operation with your passwor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og off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8:42:48Z</dcterms:created>
  <dc:creator>Mgr.Martin Frolík</dc:creator>
  <dc:description/>
  <dc:language>en-US</dc:language>
  <cp:lastModifiedBy>Igor</cp:lastModifiedBy>
  <dcterms:modified xsi:type="dcterms:W3CDTF">2014-09-13T13:47:35Z</dcterms:modified>
  <cp:revision>17</cp:revision>
  <dc:subject/>
  <dc:title>BUSINESS ENGLISH</dc:title>
</cp:coreProperties>
</file>