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056-5D4F-445B-AC9C-E461E42086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E66-00E5-4D71-AF68-4AEE4614CCF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9EF-2086-45A4-A56F-AFF7C22C2A0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4B9-C946-4D31-B43F-25847D2859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58C-238F-4AE7-9256-10755B392B5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593-EFE5-4B1D-A81E-8478C5554E8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487-231D-4056-80A8-B79F265D54D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B30-9975-4BE1-B889-1074CA559B1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C01-EC9A-4382-BD91-F52F51F5E64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F42-30C8-43E6-B21C-8B1189C5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A36-3EFA-40CB-ABDB-A9EF1FF6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0AE12-59CB-444E-8AF7-ABF3E469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0BF97-8861-4443-AA87-35DE8FF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6ED3C-057A-4D97-8EFA-5A6EE9D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AC7E-1AF4-48EF-A7DC-34F9E7A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73360-F762-4B1C-A0CB-4F82FE2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442A2-5C2D-4312-8D19-BB1EBCC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FD6D8-78A0-4A7B-94BE-54648397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86B5F-86E9-4366-AF0A-A5D39CA0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7C4A-4E0E-49C7-B1AD-1DCB0354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6E2F4-91E4-4427-A466-69C17081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AAF-E238-4BCF-BC4A-4444D19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111B6-615C-4B49-A383-0619ABAF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DADD-3A27-4585-BCE4-F45B4327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70D4-995F-4542-A836-2554EF2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F969A-200A-4FFE-9B7F-DF39E0A6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74D48-2067-4C52-BB28-85F5CB7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3B4A-DDD7-44A6-9BEE-9828BE6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66485-4A43-4111-8CC1-D7433D5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75683-F163-47E6-AC4A-DB94333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DE787-B9FA-4ECF-9FFE-C221AF8E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8B652-CBD4-4836-854C-7EF8C0E8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066-5C2C-436B-8810-D562A6D2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4D4BE-DCDA-47EE-BE99-97D1C0F7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87BF4-2D79-4A86-9CC0-1418E145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3F7CB-4200-4012-BAFB-D991CFE6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EDD7-135F-4548-AA02-8E575C16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180C0-C85A-428A-8DB1-8455E67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C3A8E-84A5-46F8-8758-44337FF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5B44-D077-4231-A523-AE255855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1FE4C-E9BF-48D6-91A1-FE8BED6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42B04-2794-4334-B40A-166B649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F795-0354-4052-AE51-5272EC0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2A7A-7008-4079-B119-94A9532F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065B0-DC8F-4D61-AF49-E6DF04E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7CFE7-BF9F-4853-A82D-AE95945E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D51ED-1C94-4CF1-BD2F-66CB8A44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DCC2-79EF-4AE6-A4FE-355BFFF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49396-1BBB-4C0C-BF01-C8F9FCB4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C937-8200-43C8-B4E1-8897248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CB29-5120-4A51-993B-CDAB20EA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35AC1-A9F7-492A-A9D3-B2BF303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E0DA5-FF2F-44C2-9DDE-B26387F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77B08-6E6D-45A2-BCEE-DFC7C58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42C4-ED4C-487D-8272-2772C84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8C41-8E0B-4389-A21E-1418431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7530B-2343-4EC9-AEB5-790A2D6A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66698-3424-4ECD-861F-61FF4656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784FB-A4DC-4455-89C3-3E81B06C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07984-B648-4C8F-B1AA-BDEFC676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C56B2-0AA4-40DA-A0EC-B2E310D6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BDD95-12FC-4A94-85B1-AA72932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F93A8-A414-41D9-85A3-E2F0DAA9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2621F-380E-4479-AEB7-FBFA9C4E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7B221-019E-412A-9D12-8B04D869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741A-4E5F-4749-B501-B9614557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60AF2-4D21-4727-8B20-C2B68CE2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9AD42-AE8F-4744-992A-A66693C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84AC8-C5D9-41A7-88B1-A9B71E8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401F5-ACF7-463F-9F53-1DEF9CB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9C8B6-5113-4120-B580-DD9861AD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8CB56-2E22-4DA1-9DD5-31D39A7D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0816E-506C-41BE-9128-2E55247A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EE015-6DE9-47DB-B129-8D6981F6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A7DAA-92F7-4B20-9165-C1A2D43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47F9E-2CE3-4ADC-826C-5BDD46A9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B131-8561-49B3-A73B-C46A17D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27248-17CE-49D2-8EEC-A114F2E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C7571-1297-4136-9D3A-17DFF46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F111D-6136-4FAB-9395-C289F666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37F44-893E-4150-97A9-70012C0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1D601-CDAD-43C5-B3B7-8ABC891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080EE-AC84-4637-ABC9-6B0666FF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69756-B2E5-443C-952C-8BAAB70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ECB6E-1D4B-42E4-8C33-DCCA3FBE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97F19-86FA-4C2C-AD86-F23BD454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EFCAB-BFBF-409A-AB9B-5ED70DA2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981-621D-4058-B17F-432B6BE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FB8E0-61A3-407D-B6A8-C99F3C6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B1AAC-0E4F-4D16-BAF5-9F6B3071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90DFB-9F58-4009-9570-7F4CD94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4C579-E487-4035-9D52-1A6234E9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AE2BA-5152-4848-9A26-24B3158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F25F5-0EDD-4B75-89F8-B162954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8B713-600C-418C-BE4D-EBE0C04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C6804-6A47-42FE-AA2A-CA54F35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45A02-A120-4A02-BCCC-6B6620C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281FF-5277-41E9-B5B7-D672D907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DA2-D9DF-4993-974E-86550FCE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7644F-5042-45A0-824A-C32B5CCF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646A8-8E43-4352-9F30-1056CE46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31AE0-6BB2-4377-9C87-735D4AF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94411-3225-42B6-A7AF-AFFB754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1646F-D3E9-4242-BAA1-AF89D32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42126-741C-4B4E-9B04-DC20B52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F0D58-31E5-4E4B-8EEC-601EAEF8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E6169-009F-43F2-AF91-69A44ED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7E084-EF85-49A6-BF8F-DC11570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0236F-3CB3-43B9-9449-7C9781A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628-7E3C-46CF-846C-BA7E881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F4264-4D91-43D5-9245-07A06BC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E8624-01D5-46D7-A5FB-82AB31E5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4C243-026B-4626-9AEF-0725CD3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A22-5B65-46B0-B272-3088B55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0C94-3C7A-48EA-9159-8944F8F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8BC4-C193-4F5A-96BB-1AB5B0F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D853-B3AB-43C9-B803-0A22183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086-D8DB-4146-9FB0-266B7598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ED08-798A-406A-9775-DAE57A94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F67E-3C1C-434A-9FF6-02320089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53AC-DBB9-433A-A4EE-F86AD21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6CFA-A94B-449B-9514-7B5601D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B3B5-5407-40B8-8B41-6E00B81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6069-08EE-4675-8ECF-75BDBCEF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381-2015-44A5-879B-0377C241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5B1F-9798-41D8-A365-0246FFC3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00B4-F989-4933-9EAA-8BFB7A3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1761-0E4E-4779-A024-646134B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F934-76B1-46BB-B00E-A1EBA0B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5636-BACB-41CC-8512-65826E6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EC66-0395-4A33-93A8-4FE47B54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9591-4104-420A-9AAC-1C302FD0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4564B-4540-4347-AAF3-5E2A6274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A16DF-7D59-4092-AABD-3EC83893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66FE-7137-4953-8D7D-EA84427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4E6-2248-4E64-AE61-CF821CC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DD3C-547B-41A2-8DE9-F84EFB09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A913-B97D-4FC1-8B6A-5BF6EBD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863B-9F9C-4FE4-809B-2DD95B8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732B-DAB4-44D7-A96A-8C0E211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E3B0-5464-45EE-91C4-EEE1046A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CAB3-6851-44CD-8DD3-4EA6F62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B7AE-6057-4579-B947-99B51231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7117-3F0B-4205-B14C-56856F92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DC21-2918-4F0F-8943-15EB29BC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C22F-F140-452F-8628-05998F02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010-32D4-4890-BAFA-DB8A8549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FB51-7C4B-466F-AE1A-2DBC82F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2AF1-459F-41E0-BFDD-7A5B3F58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035A-5E75-4B39-ACCF-A4CDCBDB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A621A-271A-4BEE-B71B-4945F638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B367-D3E6-4F26-A72C-0AF2F82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4BD3-4635-4FB2-BEC0-C5A5FE6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2E30-DBF8-4D86-B4C2-C17AD30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594E-E5A9-472A-8B96-56ABD51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8FDB1-CC84-452B-A291-B5EA066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47F74-D621-4136-B24D-4F6DD9EC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34C-E0D7-42B4-B328-DB4C6370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8521-4725-4059-A7EB-A073CF7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CDCC-92F1-4DD0-9ED7-8CD666CB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F4F4D-B064-4F90-881A-16C9BBD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67B0-C7CD-49C5-991E-3122A7E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A037-EDB0-4ED3-B815-05D10C9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11B7-3312-47C3-A132-16A5095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81E0D-6EF2-48C6-9300-5DC8725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BC14-D535-4D4F-9BA0-4B0EBD1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76E5-26E6-44BC-9F35-4162AB5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A6A26-DB0F-42B6-9285-70A9D0C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93B-280F-4AC3-8DDC-721A910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D36F-96B4-4608-86A1-B5A259B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F1D21-16DF-46E6-B205-56DBE1F9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7447-AAF5-4A9F-9D35-1D71522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4967-8C92-4A5F-B28D-C29B746C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17DAE-21B7-469E-804D-002E692D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A553-D353-4F1A-9995-799E020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0F72-A18D-4B35-B6F6-02A25910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788A-ECC7-4F9C-AF2B-1ACC17EB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E937-0F90-4F78-8006-18E5DF6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A296-59AE-4C45-9532-DF2FB85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8E8-0DBA-406B-B5B9-1C377FC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29E9-9E83-40AA-ADBE-D6629BE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DBB0-9CE1-488D-BC3D-76B2A02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67B3-E9DA-4040-8525-146F2D86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840D-17FB-49C3-963C-EE895AFD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7440-6135-4A54-948D-C885ABA1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614D-6109-4CD6-953E-F0B6B002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64D77-8BD8-4733-B46C-42C4C19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043B-7779-44B8-B2B4-2919687E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2339-B6D9-4E74-916F-79247A8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87EA-A9AB-4649-A684-2E994BA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860-D2E1-4531-B74F-FB41087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76C64-0799-44B1-B00E-AA045AC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AFAE4-4D38-4377-9661-9A8EE68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1C4C-67B1-4568-BCDB-7D7BA4D9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30226-1C0B-443C-BB98-4B6D05CF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DDED-480C-4DD9-89C0-310F958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AD95-A7A4-4AB9-8E7F-6735411B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ED516-E071-44A8-85E5-5CB24583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6FE90-D9FF-428D-A1F5-1B510C70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DCE42-3AE0-415A-9C58-7207B1D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E1DBC-98B4-4C6F-9AA0-CCB53D0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654-6AF4-4BE9-B735-E6462671093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826F-2428-4CFE-978E-BF86A289FD4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521-2924-4C9C-9A9B-71F59FCBA02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09A-03E6-4DCA-9510-BFC6CCE3B3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2E7-0C71-4749-A0AB-9B0EA9AD02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82C3-F5DC-4DDC-989F-23D50FF7C8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F50-15A6-4F6D-80B4-8EB463219EF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A0C-A4D0-4F80-B025-F8C7DF7EC2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5C97-0BC2-4CE6-981D-13A108D3D1B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8B75-0024-4FAA-9192-6240C831010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60D-2710-489E-85BC-90FB248B4BA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B824-DFD8-4A44-8131-8B112AD2AE8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29B-91C2-43F9-AB57-1594F1F6B86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E22-2F27-4549-AF85-E2E7A86D70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5DCD-8C38-4EAC-AC1A-BA66EFAD88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3F4-83FB-4C3B-94D3-0009EE501E3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 theses conditions we are forced to place the goods at your dispos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decided to refer the matter to the cou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further orders will be dispatched strictly in accordance with our wis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the delayed shipment has reached you by now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r customer sent you a letter of complaint, your answer should includ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expression of regret that the customer is not satisfied with your goods 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hort explanation of the cicumstances which caused the trou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uggestion of a fair settlement of the compl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en the claim is justified the letter is closed by an apology and an assurance th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autions have been taken to eliminate similar error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3" name="Obrázek 1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87668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reklam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reklamací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plaint, reasons, suggestions, regre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OMPLA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omplai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laint is an expression of dissatisfaction, especially by a customer or consumer</a:t>
            </a: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f you are not satisfied with the goods you were delivered, you usually write a letter of complaint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letter of complai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A letter of complaint should include the following par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pen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asons for complai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r sugg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os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 thank you for your consignment but are sorry to say that is has not given us much satisfac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regret to inform you that case No.40 of your last consignment arrived in a badly damaged condi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put to great inconvenience by this del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gret to say that the goods ordered on November 12 have not been delivered y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quality of the delivered goods is far from being satisfac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to complain of the poor way in which the consignment has been pack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opening the cases we have found part of the goods badly damag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quite clear that the damage was caused by unsuitable pac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view of these facts we claim from your indemnity to the amount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can accept the goods only on condition that an adequate reduction in price is gran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expect to make up for the dam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40Z</dcterms:modified>
  <cp:revision>33</cp:revision>
  <dc:subject/>
  <dc:title>BUSINESS ENGLISH</dc:title>
</cp:coreProperties>
</file>