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51A-64D6-49E8-9D63-B4A6FFC057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79B-0C3C-446C-893F-E0C4697A2BB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A40-3ACD-49A7-A63A-7E9293701A1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4232-1F00-4DC3-A782-E7FC432F051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C83-111E-4597-B7E3-0F007FCEBB4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696-7597-443B-B2EA-C7829D1C18A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8B39-4D4F-4E85-B419-DBB2749CBF2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C72-9675-4E83-BC06-752173ABE8C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BD4-B742-4291-918C-9013C685F70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5FC-A286-4FFD-B0CE-26FC0941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062-E610-4102-889C-360D544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4C6FB-C5E5-4CD2-841B-89ED3681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C6223-7244-492C-A31C-B6247B15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6D03D-68F6-4AFC-9C79-C5FCDE36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532A4-688B-494B-B24C-AC3DEF9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14B5-A3EF-469B-B419-04BCCD7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0AC76-0AE5-42F8-9CF7-9A3352D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A7E5F-4B6C-4F1F-ACF3-3422CAF3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ADA6F-3852-43D9-BD90-02DD5F5A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E3DA4-BD73-440F-9B66-A750B74C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7CB1B-A050-4785-9558-C9FCEED7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CA6-945F-4D0A-A648-BC9C2230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C0545-8962-45AC-883A-71791116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12F14-1563-4FB0-AEED-A539965E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ADB29-BA39-42F9-A265-B91EAC4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6EBA-F2AC-44A1-B899-DC2D8D6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D8249-3803-4B50-8902-8AEFA8BE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3A230-9DC4-4A84-883F-55E30140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952BD-C4CC-44C2-94E8-6A46B1A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E22B9-A5B9-4A4C-9FF2-A91DA67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9B3C-7A20-44F8-BD7B-B05BE08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FC0A9-F28A-4F11-91E0-7202D04D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CF8-5A04-4952-BE06-E2AF3DC8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99FF4-78A8-475A-9C48-94BAB0D8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928DF-3E9F-420E-9A04-F296ED19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86C80-4F54-4B38-9A5B-5E570A8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7C003-189D-4FD4-A011-3BA98DA4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F7958-1AFF-43C6-BF94-592358B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30E58-D2F9-4A92-8DBC-20D4AA10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B533A-11CE-45E4-87FF-4051CC7D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99D88-E186-406E-BA0A-7CAC497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B73B-7E94-4937-A0F7-DC3C658A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FD42-76F3-4C3B-9CB9-0821C50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492F-485F-4A1C-8E15-DF8C2A78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C6B84-3D2A-40D4-A3CA-2444EE5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612C8-2CF7-42E3-ACE3-B2FDB7DC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5E5F-0935-4161-9F45-509A804F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C10DF-2D60-44CC-BAC0-3081C1AB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C7BE0-8FCC-4A9C-BA71-9DD5F9EE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3BD8C-F5EA-4C7F-BE39-BD715C7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715BB-820F-429C-93C2-1483EF63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9EE88-194C-4184-8C18-5ADFC8F6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F75ED-2443-4D61-AC26-BC80E93A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621EB-FC8E-49E8-AA37-A6099F5B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1EB7-6EB5-4804-B854-2E5F493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B5788-C8A4-4C68-BE80-6450BA7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713C7-BC29-4659-AEA8-8D961F7F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8DD07-1372-4F1C-8D24-8222958F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0D3BB-B4C1-4D88-9379-1E573619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111D1-0418-45C1-BB14-3F87B487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C05BD-1630-4E7F-82BD-62289E07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0583B-6FCE-45A5-8F66-5E485929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ECE66-1CF2-488E-BE8B-6ACF1FAF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31F5C-19EC-4D6E-9E62-2C3C94D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7AE04-960E-4BB0-83AD-6871CAC6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6081-6105-4197-91D0-F80A31F0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D8E8A-06AB-4CF6-8486-1303D51A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9EBF3-B4E6-4640-A747-EA48F16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2895E-2DA2-4A68-AFB4-9D656D5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EAF3A-3B3D-48D3-A060-0AC4C78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9BE59-9E44-4B5B-9F95-11C2664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51CBE-0FD6-4F27-B2CA-DD20F4E9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E54D0-4485-4A45-932B-A93E11D6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ED3A5-DA8E-4A09-849C-30F46962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F0370-0F1C-4FE7-8875-8464040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08F9B-DF47-4B27-87AA-A17C7CF7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FE1C-22AA-4628-93BF-C0B3ACA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13B1A-7746-414E-85E1-3288544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9B01F-A867-472E-8171-F81336F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4D929-6F32-4F2B-A672-E5C5FDD5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0BB0A-BEDC-42ED-B9F8-FDE198A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87641-A017-4D81-BE1E-74F74B95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D9726-D649-4C71-B430-A2E89FA1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502B1-93C9-4C57-8B94-AE41E401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36C8E-23B7-43C9-877D-B22DE15F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87A61-EBA1-4C86-B386-B0D38C99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67B7B-23E3-43CE-8CD3-CC092885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F68F-AE16-473B-A65D-C143197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F5F98-836E-4847-9A26-3532DCEC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54D24-B042-4D47-9DF7-D7A5C5B1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04907-765D-46E1-8D7C-8508D248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BFE37-656F-404E-A4C9-7C3CCB06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0FA4B-4B5B-4A23-B48D-6DA8882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51D38-C247-4986-BBA9-CA4E591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2B1B0-7304-4902-AC43-6DDF706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D324A-E70B-44E6-ABD2-D99A5861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A38D1-BD9F-4C50-BD9B-AC150A1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D6662-3481-47E2-B784-34031534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33B5-C24F-4691-990A-BF31B9C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F869C-2A84-4D90-8C8D-39357BE6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0F17D-C139-4FCE-A8F2-55BF49EC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C57F2-2DD1-41B4-AE20-B4B98E0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5982B-91F6-4B15-88C4-155CAB0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0E2DD-419D-4456-9D12-43E4785C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D8DB7-DB0D-4E08-A5CF-74D47618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EB6BC-72FF-4BFB-BE64-F2B3DE36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D008F-4494-4C02-A085-004DFF4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EEC02-C39D-4795-B05A-61D410A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4E5A3-9AB7-4B16-A6E5-EF6E3B9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D90B-2626-46F0-A12A-8703F48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A8039-39A8-4844-A78D-9CBF9DC0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BA7D0-E862-45FD-A682-D07046BA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94265-8173-4832-8D5A-7172F472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663-8AD0-49EA-A211-5D1F0E2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A782-0B68-4901-95A8-CC905580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AEB8-94DA-42EC-AF73-94F509C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D37B-3C37-4DE2-AEE4-26529F6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1FC-F2CA-464A-9B8B-625365BF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C37-068F-4EDF-80D8-927AD4A5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2FF2-705C-44CC-8B79-98AA64F5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E83C-F893-40B2-8FD4-CA1D9581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39DF-CF70-43D4-A43E-0A509C5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F5CA-16A8-4A5F-A6D7-2239D47D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39E6-0A9B-44E9-A4EC-E446EF57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18C-9800-4FE4-AD84-74BF1D0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3E45-40F8-41A8-9452-CB8EF8B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9913-42EB-4D20-B28C-F1AA9B9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15F1-F4DA-42A9-AE59-5AE036C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E770-7920-47B5-9E2A-D55A747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74B0-B1C5-4A56-853D-4B92E744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0D6F-FD37-42AA-B0C9-98EB793E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3805-3A80-4A5B-AE3A-7344AA90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95ED-1D5B-4A78-907D-3DB9481E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5AA8-8C98-4142-8715-05C62C1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BF6C-0979-431C-9142-6184E85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328-8A3D-4965-8B7E-1A810A2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A3BB-3A0E-434C-99F8-E98C23E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950F-8DA8-41DB-854D-98CDA0B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E668-1B74-4A1B-B441-0AD5B681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0351-1D93-472B-90A3-5C622FE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AB44-B48E-44C2-9220-00C8630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57B2-57BD-4588-9656-89E75DB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7D38-DE40-4343-B107-CF262DDD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61FE-21D6-4793-AB20-FD712CF0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98D36-23C9-41A5-8C8B-C3300799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DBAF4-F48A-4A30-BF6F-F7FB9276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C3B-C7D4-4AB7-B38F-E0338F5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3A02-54F6-451F-9156-7B662C8A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C231-EB90-4957-8812-05620F2E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5C37-00CE-40C2-AE04-C65FBC94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4FB2-DE28-4CC3-9384-3945B2D8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9312-2205-4FB5-8150-74E334C9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C7CE-C966-439E-AA0E-EDF9A34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C600-A5FE-418C-814D-8B5DADB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35D3-9FF3-42B3-9099-58172E4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F5D7-B9BC-4E65-8B1A-B4320F3C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9003-174F-48BA-A3A0-56FF1A37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99C-7572-4152-923C-0213865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CA32-4A32-4D6D-83DD-53764B2B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47C0D-D0B5-469B-B5F0-48681EDB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4F1BA-74F3-4A50-B2EF-49C4F03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563A-4C3F-4E52-9BF5-02B398E5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868E7-B04D-4B1C-A13D-DF22E3C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510AE-F735-4587-A52F-3B02CD1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498C7-DCA7-4406-BA16-0ACDE054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E591E-06DA-40DD-829D-DC91D5C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5AE6-9331-42DF-87DC-57713728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3701-EC3A-4BE5-B29D-513981C9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226-6E95-4FB6-B94E-A7F9A20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068A7-699E-4066-B9A2-EEB45F85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F4657-10BB-473B-B999-530F338A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B262-F94A-4BAC-B383-A826580E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8C7B4-03FB-434A-A9AB-E9A70D80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290E-A57D-489A-9CD5-9A077E03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2FFA-24F9-4997-B7F0-D948D48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85E57-F871-4A68-A04F-C7A57C7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B24F-B1CC-421F-95E1-F97E5377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FE0A-9368-4F65-A020-4774B06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2A81-5E35-4CBC-9FA4-627ABDE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0BC-F9C5-4B2E-ACF8-3208C4C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F3292-8362-46EC-A279-2E6FB4E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0BF13-0575-4216-B1E8-E419FEF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7EB9-900C-4A50-9FF1-7A9B13B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25DC-E65F-4068-88BF-7AB70B07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3294-183B-4A94-830B-0DCDBDCF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1DE2-291E-418F-AE04-24460C96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0E68-8917-4BBD-BDB7-8DBEC50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A7D2-DD42-446F-A715-644ED427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FD77-1D6D-48C5-B46C-562B3DB8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3B9C-6CC2-4A13-A4B3-DC6352E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513-44AA-4C94-ADAC-141940A7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61EE-16B8-44EF-B2A0-FC5789E1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0D26-6448-4933-871A-E44641D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0CE67-9466-443A-91F5-B5A4B57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3A30-52F6-41F0-88F5-6ACF732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4D37-557E-46A0-93B8-9FB3746F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F027-7838-4ADE-8DCA-BBFA6530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8ECE6-6F07-4BA3-BA0E-C1363BD5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CF158-F89A-47E9-94FD-908AE7C6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11555-E1C3-4BA8-9D1B-DDEC778B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200E-A828-4B4D-8742-073B6BA2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1D6-20FA-43D6-BD78-26005165387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E32-B4C2-49E7-9E2A-40B63DFFB18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572-BF09-402E-89A9-D802252F8DC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24B0-1B74-4E4C-B3A6-EDF3C9A8865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2F0-4E31-4818-8377-9F14FD6D40B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889-0D41-4E47-9409-64F0440EDC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395-B254-4608-B7B6-272118F9CF8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C625-6F63-4516-931E-4558DAC8D26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5A0A-901B-4EEB-A324-5047DEE412E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AEC-4373-4B06-90FB-7CBBC56BB2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CE8F-E453-44BD-8140-CB4D60969C4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3186-FB7D-40C2-9001-FA332F84E6A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E03-9FB3-4F05-942B-3D378B61AAB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B6C2-BF76-4DC6-BF2E-F0E8B93B1D9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AE8E-E363-4D67-A8A7-9E52A15AFD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A1DC-E2C3-43B3-8EC4-DA3F4B60E3F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insist on the time of delivery given in the order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ease arrange insurance against all risks for the above mentioned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see to the careful packing of the consign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ertificate must also contain the signature of an official of the bank who has inspected the goods before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serve the right to cancel this order if the delivery is delay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stress that the terms of delivery must be kep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you execute this trial order to our satisfaction, you may count on further orde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give our order your bes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 confirmation letter should conta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s for the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details of the order (description of goods, quantity, price, payment, delivery terms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ance that the execution of the order will be given the best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order of May 4, 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we have booked for execution in Ju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enclose our order confirmation and would appreciate if you returned one copy duly sig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preliminary order which we have no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ank you for your order No. 123 i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for 300 T-shirts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ank you for your open order to the value of EUR 3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000 and, in accordance with your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ishes, we shall employ 1/3 of this sum for writing materials and the the rest for toy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objedn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objedn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der, confirmation, trial order, repeat or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 order is a request to make, supply or deliver goods according to the customer´s particular requirement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 can often attach a letter in which you specify the details of your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ase a buyer wishes to introduce a new line of goods in his local market or to know for himself the quality of the goods, he giv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ial or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 can also buy the same goods on the same conditions as in the past, this is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peat or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cknowledge receipt of your offer o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enclose an order No...under the following term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the recommendation of Mr.... we would like to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your prices and terms meet our requirements, we order for delivery the following ite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fer to your offer of May 4, 20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nd ask you kindly to supply the goods according to the enclosed order fo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hank you for your offer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have pleasure in enclosing our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thank you for your offer of May 4, 20</a:t>
            </a:r>
            <a:r>
              <a:rPr b="0" lang="cs-CZ" sz="2800" spc="-1" strike="noStrike">
                <a:solidFill>
                  <a:srgbClr val="0070c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and request you to book the following order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refer to your quotation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ask you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uppl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29Z</dcterms:modified>
  <cp:revision>32</cp:revision>
  <dc:subject/>
  <dc:title>BUSINESS ENGLISH</dc:title>
</cp:coreProperties>
</file>