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0E76-C327-40C8-A8F7-7C99E3EA02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6079-E2C9-4A8D-887F-512D3E1926A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4DA3-4D27-4828-AA4E-F76794AEFB1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4976-D678-4A9F-8B38-455EC324617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2ABB-DEAB-4DEB-A243-3571479CF69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5AB3-2945-446A-AAA9-06CA3FF152F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6106-880D-4D53-BFFD-88829B75B8D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3D00-7BDF-4A52-8765-C587C3D2FC7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208D-ADCD-48AC-8BB2-F566EF3D37D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8CA-6878-4439-9DCF-2EAD8E4A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714-5050-460D-BF45-D23F36D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B84A7-80EE-4731-9BEC-C3D5D8F1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C4F1-DF11-4359-B4CF-1066D4DB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23227-75DC-4919-90DB-9BEC1C6A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17AA7-C4FE-443D-80EA-304DC9E2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FE34F-3EAB-49FA-8299-E5372F4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F24D0-F8BD-42EE-BCFD-C075BCF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11021-02ED-4382-B5CE-97006904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FAEE6-F23E-409E-A7E5-923C2C60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8583F-C081-4973-B66B-B59AEE76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ECF22-9DCE-4225-9779-F41A5ECF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EA3-DB15-4C0F-AC3E-64A5FCAA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9DC2C-030E-4D55-AED1-914418DB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841F3-7D58-4DC2-94CE-BBB4BC04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597AA-50D4-4AF5-948A-02B05DB9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6D741-8DAA-44B6-A9E3-E8B57D67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34191-3C5C-4D25-BC62-3EC0C946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B76C0-C469-4376-8640-45D1C12F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492CD-DC90-4728-843C-00EF451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601FF-12D6-439F-A144-8B7540BE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29C1D-4855-4C58-84FF-E3FADE0F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B5AD7-BD9A-4F55-9B4A-95C47BAB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8EE-2D00-49B0-9338-2E18C862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F9EA8-CA3C-41D3-A6F9-AB9F6170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3FB07-5BA6-48F4-9356-B38CBF41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4F01E-C4D2-42C1-8C20-E74F5904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F3139-3F53-4F4A-AD15-A633F567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8D940-7227-4E56-8DBB-9B149959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00704-E926-4C64-BE97-55DDE010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810C4-C8DF-4E4D-98B4-7CA19B6C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DF733-A5CC-4F75-9FB5-34398115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397D4-4A36-4E65-9285-D2269E3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4897C-E452-413B-A306-7F6AE84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B7F2-5C7E-49F4-A22C-0375B7CA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7B096-FEDF-4718-9AD1-ECD1F105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B8086-A2EB-41CB-8E50-68D0BE38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0DE88-94AD-41BB-8A29-BF88F6BC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FDB6A-2E58-4BD1-8A01-7F9EF918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75247-EE62-425B-9BB9-7258C3A1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C648B-9208-4771-A68C-1DD98195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014C9-FA79-42EA-8435-6479DFAB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6516A-0C7C-4FD2-8583-A221612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8944C-3F17-4D09-825C-B6057E4F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C1BB0-DE9E-483A-8AF0-BBD2CA2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8E88-52F8-4C59-AC8A-AC5EA262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0C4D6-ACFC-4F16-847A-2F7F317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75E9A-6907-42F7-B1CB-A074D87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7C8C7-8F49-44BF-A2A0-9767C0D1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4D2F4-D603-4DE6-9096-30286046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832B6-1411-420B-BB54-AD3FC8E9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75871-EE77-44AE-B6E4-D52801F6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CD254-A075-46CC-8954-40B87AB2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93AD3-9D52-4AF0-85A4-B3233EB5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EFD20-728F-4C7F-8974-60191F90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369F0-83BD-4898-9606-54811BC5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AA29-A1E9-4495-88B0-7EB9BF5E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406BD-17EE-4477-B666-2178C806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41B7F-E8BD-43A5-8851-62E712F5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A8549-0BCB-4506-8FDF-491CBEF3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67CFB-AF4D-46F5-B2C6-A0F0A48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D1B97-0C52-4387-B296-5F880A7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F1272-7C32-4BFB-996A-C1BD904F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AC34E-B5F9-451B-BEF9-AB715698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81E08-78D9-4DEB-8756-F5CFEA4A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17AB4-D51B-4964-8BB3-EBD04D70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4C3CB-EF1A-4C07-9C9E-AE09BAE4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BF90-66A7-4A59-B885-BDF3F382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9F016-DCC2-4E00-902B-0FC3EB25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4E014-CA7D-4471-B1E0-79CADCD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77881-AA26-45C0-BC80-441D98BC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CDA0D-DAC3-4C54-8B60-C34FA43A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DAF37-76DA-46BA-B20A-99EEF707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BF14E-31CB-4F90-BA11-51952BE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94D5A-44FC-43B5-9498-0990E79C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AA455-3FE7-4236-8FB5-8252C532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ED7FD-FACF-4C2F-9690-029E1A7F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D862F-71FC-438C-AED6-842B31C8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9184-1A63-41CC-BAE9-4021384A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C2A17-5C48-40A5-9B19-840C4F2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A6DBE-9642-4B6F-BB54-DA9BAD80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97EFF-D9B5-4CDE-9932-8E360261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2F2E1-3AF2-4147-A725-5A6F5CB4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D5379-090E-4024-B415-1CAD4F69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17AC8-1187-448B-BE53-D526A2A7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F94B8-BD8A-4E8E-A5F4-704C784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2BF89-C9BA-4DFA-8C23-6584546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87DE3-E938-4010-ACCF-92E06991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4A79D-0D4C-4BFE-BEC3-D11C0DD9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5C80-3400-4CBF-81AD-17AB4975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2EBB4-8DA9-45FF-BCB7-C792077A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C1B47-7AF4-443B-A5D1-4D954285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953F6-D85A-494C-A0FE-83E2FE35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94995-5C0D-40DE-BCE5-B169516F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6781B-D87D-479D-9C56-91F56A5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0440AD-DA0B-405D-B56F-63DE147F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7BFC57-DA34-4A63-9612-61D5BE53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CC5A8-0CCD-4971-9037-F33EF668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F56AE-BB97-4917-ACE0-12ED822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DAB5D-08C4-4FD4-B220-1481AC9E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7025-3E66-43CA-A16B-E4CA8EB7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1A55D-749D-4B10-AF1D-5F783FB7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AC083-610D-4280-A073-F10B79B1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452F1-B5BC-4B65-85FE-06CCD939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F50E2-556A-4203-8BAB-32EA59DC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D9794-BACE-42A8-B1C5-251DF5A1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46AC1-CD14-4DD7-B949-4D46B524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305D9E-97B9-4CE0-AFAB-826F9421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EE92D-8A81-4AC2-9753-6AE04CC1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EAD18-A857-4F6B-B8A4-63A35153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8D200-0183-4679-8422-C7EEE8B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2BB-5998-402E-8655-5B29A55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D100-5483-40B4-A7AF-B62E321C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B3D0E-33BB-4731-9307-91A7A2C9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5E2F3-A6DA-4C2C-86F0-1E39D08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6DADD-BB22-417C-B0D8-4EDF2FD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9425C-E4B7-472C-8A76-E1B7DB2F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7E27A-08D6-4CAA-B9CF-2D1CEDF9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B2FC2-61C4-4489-8EB0-8EBB0916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9A3057-B635-4A7C-8063-B22FBF8E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B35BE-5F33-4557-B0DD-B2C95EBB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C98A1-DC25-4BE1-B9A1-12E0A1B0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2C073-12CB-447C-8FE9-9A085C90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6C06-39FA-4724-A708-9569E4D8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CF670-60AF-4671-A5A8-D05148B3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75C1B-11A9-4460-B5D2-11A878D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E214F-7367-46A5-B6CD-C7AEFB5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54F73-4DEC-4AAC-9F26-2F4E0E42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0B3810-A6B5-4F9B-A532-F01BDF0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11CD2-3EA9-48D7-AAF4-7D08AB4B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1ACE7-1E5C-4461-971C-297B1093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901F7-495C-4F36-A6D4-26EFEE1E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012DC-D258-49AA-8B40-E10E5D4D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3FE2A6-49F9-472B-9526-A525D870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0B58-42D2-465B-BC9B-2E623739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10591-0E3F-4820-A1B5-171645E4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AEE2EE-5D51-4B79-B030-450ACE59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B342B8-4750-4E86-9355-FA13C1EC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60E6D-22FE-43A7-8AE4-889A2E7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C77F4-8E40-407F-BAEA-98B22F0A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F58D2-1BC1-4DE4-95C9-AED2BBC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E6339-7E3C-491D-B239-161F5CB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28E62-C3FA-494B-867A-E0A8743A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83D015-253E-4802-910C-B3894DC1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118C7-0045-46CD-97A2-9CBA8CE1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03C0-E538-4B0F-9478-899D9A70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77412-F49D-405C-935F-17864425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45619-2A53-411C-9759-BD61752A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737BB-B8AE-4BB7-A73E-3E7059A1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1F1D8-3DDA-4CBC-93AF-0B264BE2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832EE-5A45-4AA3-9186-B01D7290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B7502-0ABF-44E4-9DB1-B5320B84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6E5846-CB65-404B-8C25-C48363F7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6E663-E31C-4DA6-BA0C-9E58900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369C7-2AEE-4110-B351-E20F948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59B37-E7D4-47B7-B298-AAE488FA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263C-75AB-48AF-B541-E48B88CF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544604-90D8-40D8-8394-8AF75FBC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E610-7DA1-433C-B8DE-13B8A511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7BA9-279C-49A9-B5E3-8B308C4E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E090-6A27-4DB8-9F81-E9C3CE5B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DB7F-82C3-4A46-BCE9-ADCBFCD3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2A1F-173A-4D75-91F6-55AFEEA6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3CD-5B42-4A56-AA10-97C7AF5B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BC53-0EED-4339-B24B-B09C5035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62D2-F71A-4370-BD5C-8BEBB800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1DB1-F6CB-4187-B331-54F95D6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9BCE-4895-47F0-B196-FEA13AC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E432-48BD-4622-AD72-9CD7FBD9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29BB-298E-4C26-A327-39D2C9D3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9166-541F-4958-AD40-5C33F089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F18B-C8DE-435D-909D-39C8AB17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6B75-A4C0-4F4F-82F2-685B8A23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361E-D964-4114-8FF2-C98CEB41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040-1D60-4CB6-8DC0-15CD3EB5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AD8B-E959-49E5-8B76-1CB6DB75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5698C-4BD4-4F0C-B8B2-7BC66B68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AE0E-97ED-46C5-A252-4280E89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D9971-065C-4443-9902-0772EBA0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74C6-7C81-4D0F-9F9E-A052A1A4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5436-842E-4C97-A505-DB637DF6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01D8-6D45-4F5F-92C2-F89D5A63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F8291-DFA6-4936-862C-A21A6D10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CB280-0591-4825-8922-9551B214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D2387-59C9-48EF-9C0B-872BAEEB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E6C-C430-42B2-9FEB-8EEC1A3B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5D109-9801-4B8F-87AD-85B35F69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316A0-07EE-4E5B-99CA-67F1A710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F3A79-989C-4910-B858-7C87836B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D5CF6-492E-453B-B5A6-22C334F5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14E1-D243-4C3A-B931-EF6165FD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E9714-3B17-4611-87AA-B83FA3D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5E535-F762-4048-BCF1-1279CD7F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6406E-387F-4B7E-A6DE-ACD9BAA1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FE33C-7591-4443-B907-5FBDD4D9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C9E48-89A2-454F-96EF-DC1BF0A6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2FA-56DA-4F86-A2AD-72992C97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2BE5-64B3-4B7C-9936-C4ED8788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E4833-5DD9-4A0F-8CB5-A16286CA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1AD04-0674-44A2-87C0-3BF4C6F4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B0401-9A0F-4045-9EC6-0B4E2BDC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AF21F-0B01-4E0B-9F89-4A06D62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47AA-8924-4595-9092-AC499051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B809E-3CE9-4F4B-919B-53E69D9E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314D-5369-4D7A-BC77-4E7D9E6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0F24-3217-4ED0-B680-3BFC1F34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8206-5B67-4F0E-9061-778B46D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FDD-DBDB-4A97-BA1F-7BDC7F03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9E3F-49A7-4E29-B9C9-154C57E3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5D36-C3A1-45B1-B336-AF6DCE12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A58E-23CD-41EC-AA54-A4E66C50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C53F5-80B6-4365-88AC-30547567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10F6-664C-4648-8F6E-F2D980F3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DFF9-0C48-4C13-9128-D099719F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B7FA-F745-49FB-BE76-ABBC750C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662ED-F222-4019-B6EB-3E692BD9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5269C-BE71-4622-939A-E7AF9B48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B6492-9CBB-4EC0-A2AF-A9F8EF8F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0FC-6096-4B40-B14E-EED8A6A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B14A4-365A-4834-8F27-96907046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20BAC-5DDD-4585-97DC-EE41F89D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E3252-17CB-4935-A9D5-5A19CEED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3ABB-A85E-4216-A54E-4B9F1E7A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D2C5-5246-42C4-87F1-9E4180ED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2656-D16F-4302-B0D3-622D61D5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F4E3F-A8F7-413E-8FA7-12E890D2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2C4E1-242F-4010-84EB-72400BC5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D1A5E-4036-46FE-8F4D-DE534D94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844F0-9F59-48DB-BDB7-24F0800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23A-966F-4D10-AD70-7B7D8906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47FE0-080B-4C4D-AFE1-9FE9DDA8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20FF-36CE-4AC1-9CB9-344C930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7CCC3-76F9-42DB-AB5F-2A2EC03C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BC24D-46B1-4C90-8944-5F6ABE3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C9F18-E3B2-43CF-8221-0D4F7D8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56772-3707-4245-9EEB-0C9348EA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FF14B-BF74-4ADC-A8C3-C355C0E3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C8C46-8B68-494A-BF18-A22EC8A6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FD6AE-43A4-4F6F-B905-4C949251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44DF3-259E-4663-AD31-CCB99D78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B701-334E-487F-94A2-2B51AAF703BC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1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E701-05DA-45AB-9782-B56B3BD6BE8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3558-26B0-49CA-9616-6784C006EAE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D74E-E12F-4614-8911-B66860CB085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4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B30E-35E8-4508-8504-61D93432F1A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8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1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92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4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95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DCC-4481-4EB7-9605-186E5A0DAD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63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544E-EF10-4A70-95D3-CE2E06F721C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68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12D4-09CB-49AE-9378-26070A2BAB5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A371-0DAE-4FF1-82A9-0A9DB9AB54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76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14E8-CDD9-4563-81EC-8696C2A341E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1201-90F7-4DA7-BE28-73EB6BF4AE8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B745-B716-4B25-8657-B3A18A034E0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533E-CDB4-4671-A8F9-A4754448E23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F24D-0C09-4533-BB0C-43E46016A72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7BD4-8D6B-40AE-90B7-52833A5B73F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9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667C-1559-47C0-8B2F-E0A921C48C2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4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C389-3141-4DF8-AF03-59973173ED2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9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6852-A5B5-408B-949A-63A6CD0DC4B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3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6A3F-C206-4408-8B51-D708FFFEAB5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5526-ED9D-4C0F-9870-6FDD43B9A6C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3" name="Obrázek 1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 „cheque“ in the language in which the cheque was iss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ount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where the cheque will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32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33" name="_s2052"/>
            <p:cNvCxnSpPr>
              <a:stCxn id="934" idx="0"/>
              <a:endCxn id="93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6" name="_s2053"/>
            <p:cNvCxnSpPr>
              <a:stCxn id="937" idx="0"/>
              <a:endCxn id="93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8" name="_s2054"/>
            <p:cNvCxnSpPr>
              <a:stCxn id="939" idx="0"/>
              <a:endCxn id="93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35" name="_s2055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_s2056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_s2057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rivate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_s2058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´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by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request of a person for anothe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ork as a cashless pa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vate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drawer is a person who has an account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on forms which are parts of a cheque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´s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ually issued by banks or financial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in most frequent world curr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travelling eas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dvantages x disadvant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You´re always able to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aying for goods, accommodations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cheap way of pa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ank checks the identity of the drawe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F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Sometimes a long time before it is pa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You have to keep your cheque book with y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1258920" y="1557360"/>
            <a:ext cx="7634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4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y a šekové kníž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šeky a jejich typy, způsoby použití šeků, výhody a nevýhody používání šeků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, šeková knížka, vystavitel, cestovní šek, šek na doručitele, šek na řad, platnost šeku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5" name="Obrázek 3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 BOO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HEQU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ritten order directing a bank to pay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inted piece of paper you can sign and use instead of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10" name="Picture 7" descr="šek"/>
          <p:cNvPicPr/>
          <p:nvPr/>
        </p:nvPicPr>
        <p:blipFill>
          <a:blip r:embed="rId1"/>
          <a:stretch/>
        </p:blipFill>
        <p:spPr>
          <a:xfrm>
            <a:off x="5796000" y="3429000"/>
            <a:ext cx="2432160" cy="125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12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13" name="_s1028"/>
            <p:cNvCxnSpPr>
              <a:stCxn id="914" idx="0"/>
              <a:endCxn id="91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6" name="_s1029"/>
            <p:cNvCxnSpPr>
              <a:stCxn id="917" idx="0"/>
              <a:endCxn id="91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8" name="_s1030"/>
            <p:cNvCxnSpPr>
              <a:stCxn id="919" idx="0"/>
              <a:endCxn id="91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15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Order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ear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ount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only to the 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will find „pay to the order of…..“ on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ar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anyone who is in possession of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re does not have to be any name of a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the „bearer“, to „cash“ or „to the order of cash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unt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ed for withdraw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ually left bl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n you run out of cheque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fore your cheques get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que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th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ature of the dra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23Z</dcterms:modified>
  <cp:revision>20</cp:revision>
  <dc:subject/>
  <dc:title>BUSINESS ENGLISH</dc:title>
</cp:coreProperties>
</file>