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436-9CB4-4BF9-B192-A31718AA16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3A2-9828-44B6-9092-50C212C4001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F4BB-AD88-409A-8AFB-3FD087FD4B9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A178-3828-49B8-898D-F26ED5881A7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EBB-43F5-43E6-B480-E46A515A3E9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C127-0FD0-4A06-B3E9-221AC99557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50D-15F3-419A-BA9C-9DD98B7F070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3A23-F10B-4CCA-95B9-7690ABB8A3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EAA0-CBC8-4EAB-B97D-E5BBA53384F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67B-D2A0-4B10-B9F9-7B33E2EA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831-88AF-49AD-952E-0CA1C70E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5A472-2AD9-4A8B-82A0-6D8F14F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D7CDC-A731-47EF-BB55-6B2594E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4A8A6-F6C9-4BC3-9B89-2D7905E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E142D-F6FF-4910-BA9F-33BC11C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D39D8-A0E0-4F09-9765-EAF221B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7A59-9D5A-4093-B5D9-4B59E90B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5226B-2B61-409B-BF3C-EBC71066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41226-9B39-4EE0-BFAA-36D5B491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4BDDB-954A-4F32-954E-45267B85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65C21-FEAF-4B9B-B27B-2E75F5DF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A00-E036-4071-98C1-0ECF057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1F673-8065-49E2-827F-5A0C38C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9814D-35D3-46C2-B586-6404598A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3A36-5035-44A6-93C6-92D29F2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E24E-B78D-4CC9-AF7E-419BEED0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896F7-5F59-402D-8728-7148854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169C5-314C-451F-A0A2-545628D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971B-0C56-4C06-BC38-E5EC141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C31E5-6566-4FA6-9370-E55BE0C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4DA6D-B80B-4969-8E7C-CF9D725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70B5D-6284-44F3-9267-79980D6A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24B-4B21-4918-905A-D17495A4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1DD1-2CDB-432B-AFAA-D93009A6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F597-368B-4A14-A161-83578817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8B3E-A078-469D-ABF3-087D6DC2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A47FE-2CEE-45D7-8EEE-96A1B05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8147B-6C3F-473D-A084-630268D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E95E-C7A7-40DA-A206-BF96946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4824D-9DEF-4E56-AD4B-EC8877F6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3E923-51C3-40EC-AFF9-70E236C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87704-62D1-45E7-8FAE-03B7FCA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66676-E85A-454B-BEA9-9471A563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94E-6468-42FD-98FC-D78517B9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E3EA6-B5C7-4B2F-9861-42EECA7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477D4-FEF1-4589-A141-F4E6F026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0A31-8547-47BA-BA10-A6A9307D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A9834-05FE-4D85-9266-06408E9B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CC0EB-AD18-470B-9AFF-8F57ACAB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AA879-4D36-4375-8588-3BDCCE8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1E0DD-D449-4E35-A0E1-D1A2E4A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92191-09FF-4567-B6DE-9D9B06A7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BA0AC-D8F5-4337-B8FD-5DB629A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F8BB2-AB3A-4438-B156-E172A76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D5C-2057-4B08-BF2C-225342C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0B2AA-A02B-49AD-9109-91190E5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8C098-1750-477B-950A-D86DD57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4F973-B02F-4955-A85E-B5B189E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57AF7-54B8-4819-91BC-3AA24A82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DCC49-700C-4630-A95D-9F793B5B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3556C-4749-4FEC-890D-019A3772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135CC-75FA-4D24-A36E-EB06D808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1DC02-3354-42A3-8BFF-33F97D72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C4784-E9F5-4389-91ED-C1051B5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79D3D-3D39-44D9-B802-78737E85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86FA-1D42-45F8-A79E-3AE3F83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12BCF-FA29-4E8D-84C7-F40082AA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359BB-0314-41CE-8977-9CB39B60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70846-5488-4D23-A335-FB08074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2B258-14C6-4A9A-A748-E7C2A34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77580-FF21-4AF8-9CE4-94B66C8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04452-5081-4EB9-A8FA-555C8C7D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998A-AD52-4165-A86B-BE3A1DDC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D77E2-AEFF-42AA-958F-F1FCAFAE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11B68-7607-4BED-A74F-40199B9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89230-FB00-4439-AB23-622132E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6B55-681E-4E3B-BAD1-BA2AEAE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0439E-2E72-46C8-9E5C-DE75539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7771C-785E-48C9-820D-F74A2C38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118FD-4BF5-420D-9E03-CABE7EB5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67BF7-3D4E-4EE1-93AB-7C92E83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C8902-7A78-4B86-B7F9-7B3F98A0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0F6D7-95A8-412D-A7C3-FF3995E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2C936-06A0-4A61-96BE-1021868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36A60-7BE6-4BD7-9CF0-CA758001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8F86D-2A33-45A5-BC07-80960FB7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7E014-8DF9-46E5-9DB6-A3E4E586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B7BD-211C-4371-8219-5D8FB39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60D54-1765-4009-9484-0ABFA3E2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C8121-91E9-4A76-9206-1458D40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127D4-4A77-4FB2-A080-A1D361D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68D35-C9E0-4213-9B9B-0BEC039C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C02B3-6B37-441B-8F21-AF0661D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0357E-C545-4B01-80FF-85C38A6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EABC0-0072-437D-8CB3-524BEA5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D719F-DDF1-4A1B-AAE9-514AC1C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E260C-AFA8-470D-BB2A-1691270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EFF6F-B035-4173-A8E7-625C75B9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B8D-5D8B-46CE-9231-E97DB555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481FC-2C10-4A95-8CDD-E885970E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CD502-26DC-45D3-A8CE-2049FF84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F5C9B-516E-4AE5-8940-A0400F58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BFC91-3C6C-4102-A71B-FCA7E2C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B9E79-07B8-4BBF-A378-5FCA860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72BD7-3890-404E-9FA3-BE86DA42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54C0F-6815-4A59-A20A-8BD8A2F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2959A-ED3F-4F76-9778-092B0E7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21488-E789-48C0-BB90-FBB5DD3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4DF0B-BFC5-45B7-9960-CDE876C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579-A181-4907-B81D-2E43FFA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1BEBD-13E1-4EC1-A78B-F82CA8FA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EB767-359A-4814-A2D8-2C5C7758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FC0D3-7DFB-458A-AAFB-B87CD711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805-3297-4064-AFAD-D7F12F1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09D-99DE-4D46-8425-B92EC81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F12F-4C18-4BD4-A42E-8362443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DA70-DC59-4326-8C3C-6A2B58CF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BB6A-3914-42A2-BDF8-73FAAF9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155-8B3E-4FF6-82B1-EC894D99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9EE9-78F0-4BA2-85B8-EBB8404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D123-1F9E-45F3-A733-B975FFC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363D-9391-4669-9020-E816C1E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B241-52A2-4B4E-B210-64A168C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5366-611C-4847-B68E-EA6CF10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CA1-0D6D-4E7C-BB34-8D3115A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240F-9765-4D97-A23B-104D0DD3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016A-E93C-47DE-A860-10F774F1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21AA-B61A-4C8E-B317-E0BD397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32B5-2254-47B7-BBF0-CD70385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38A3-4423-4494-B3D8-BB786F7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C5BD-8624-48AB-B556-BCF3D818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322E-9D46-47BA-B012-80BB5CCD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7772-AB38-45C3-BEA8-56C9D1B9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C96D-F4C7-482D-8424-12E88F7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AE0F-D9EB-4FC6-A655-707D691C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09F-0042-4505-ABB2-8587317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B21E-F0E9-438D-B537-36A553D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F28D-2E56-4AB3-84CA-53DFDC1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ABDD-05B1-493A-891B-736B65C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9F02-D7B7-4F3D-B773-1477DEC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814C-D10E-42B8-9814-C3D01CE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34393-1BB7-48BC-9B41-779ECA49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3CE2-AF15-4410-A748-A181618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B679-32A3-49F5-9535-7EC0172F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44C1-A6B4-4054-AB2C-D9944DF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4BFB-CD49-4F81-B58F-B72E006E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A8F-70D6-4A47-8236-1F69319E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BE0B-A0E4-478B-9F26-DE3B07E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1F43-BB69-4B16-BB69-302F7CF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98BD-BE16-4122-8926-48C424D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3906-2455-4E01-B446-2C89E03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9758-023C-4757-80B6-1CB40628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E720-0A65-44E1-A764-05129D1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BD85-AB2E-4AC2-AD21-99CD25E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47C0-B279-4256-95C1-DAD15B7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840C8-1ECA-4AC6-8AEC-BE84349D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08E9-2B09-4C79-828F-A7D5CEF7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E88-3E26-4692-9656-F5980F63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663C-36B7-4BE6-AFEE-075E3801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4091-C1A2-4A4E-896B-36B4AED0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9839-0263-4F07-B364-835DD5B6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63394-37AC-480F-81F2-67CB7A1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FDA4-32AA-47D7-8EA5-F5137FD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1F2D2-F3DF-4BE7-8031-460A87F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DAE6-A656-4F92-BF48-F690CEE9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4241-2A84-484B-B673-AC9A880D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AF74-AE09-4B02-B7BD-1E082E9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DC9F9-5FF9-49EE-B464-E7BA9E5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40A-216F-465C-AA31-B9495738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3828-0AAC-4BF3-A86D-FE0D4FFA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51AE8-3509-4C1C-816C-53FF87B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62E0-5A79-40E4-856E-F2CC8A84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F16A-A084-408B-9365-0027E36C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C226-4B7D-4DD3-97E5-852AEEE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E9AC-668F-496B-A094-AC66E5A9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2726-7A50-4B6E-8E80-93FB2D6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4280-2E0B-46F7-B903-EDCAC9E6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1024-3C08-4E2B-906D-35268D8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0F69-5C24-4C60-9603-6E4A708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2B3-8356-4070-9483-C66B9B9C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C09D-E195-4646-AA0F-2DCCF1C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5D96-AA1A-4315-9403-55B3478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3AC9-2910-45A2-ADB9-956C75A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2934-BBFA-4217-9693-46E33952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8784-1256-4770-AA29-A9B09284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40C8-EDE7-4BB3-8CFE-2B16C4CD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0EBC-2612-4FC5-AF65-D9DE0FC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3F8A-A9BA-4485-B426-AA14C9B6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86B4B-A9E5-40AB-9848-59149A7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9751-5EA9-49CC-9F35-B880AC0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A0E-1C56-4D8E-BE0C-E30C1ABB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EE2DA-45EF-4193-9E9A-AB3AD39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0839-A4DC-4CD2-8C6A-2659E99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4DDD-279E-45D4-B8FB-424F71E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2142-67C0-4493-ACA8-D071DC9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EE21-1D81-4FDE-AD70-E643BE5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698BC-F480-4B9A-9431-C7518DF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4B2E-56F9-48F8-9334-94C28113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6A2E0-E2EA-4A52-965E-1716FDD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CDA6A-59BB-4F23-95F0-2624184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D8588-561D-4AF9-89C8-B8AF3C8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83C-9928-4303-9DEE-2CB9550559A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65D6-098C-4FEB-8DB3-500D6C74CC9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37A8-2745-480C-87DC-5E315CE8E1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640-141D-44F9-8760-796470AB70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702-18CD-4C0E-94ED-17280C3E12B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A65-4D31-4A39-BB42-0729B3623F0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9B1F-03B6-46F3-AD39-B1F04D075F7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9AD1-AAAE-4C70-80BB-A3A1C8046D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BFFE-097F-4B96-B373-16F3687E4C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111-815E-42EB-BEB5-95D69D276C5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D9F-6821-4D19-900A-8E35E68791A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EE4-E7CB-47B1-91E3-D93939B10E8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7E0-37F2-46BE-8CF3-53C86BAC7A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EFA-84C4-4D4B-A429-1C815A1C63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CDE-3AE3-49C7-B7DF-4A4F3F9571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223-406F-441C-B8BB-4A03A4535E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.W.I.F.T.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ode for international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-11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 characters – bank code 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country code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location code (letters and digi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 characters – branch code (optional, letters and dig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ecurity which entitles the drawee or the holder to withdraw money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Zástupný symbol pro obsah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26080" cy="16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 must contai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s „traveller´s chequ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rder or promise to pay a certain amount of money to the drawee or the h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ame of the drawer or the company and their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měna, cestovní še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nejdůležitější zahraniční měny, vysvětluje směnný kurz, SWIFT kód, podrobněji se zabývá cestovními šeky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ěna, směnný kurz, SWIFT kód, cestovní šek,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3573360"/>
            <a:ext cx="40132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FOREIGN CUR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URRENC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urrenc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s a system or a type of money a particular country 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ne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n any form used as a medium of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ay in a foreign countr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0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761" name="_s1028"/>
            <p:cNvCxnSpPr>
              <a:stCxn id="762" idx="0"/>
              <a:endCxn id="76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4" name="_s1029"/>
            <p:cNvCxnSpPr>
              <a:stCxn id="765" idx="0"/>
              <a:endCxn id="76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30"/>
            <p:cNvCxnSpPr>
              <a:stCxn id="767" idx="0"/>
              <a:endCxn id="76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You can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ay by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3366"/>
                  </a:solidFill>
                  <a:latin typeface="Arial"/>
                </a:rPr>
                <a:t>Cash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s´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ustrali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ustral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nad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canad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Denmark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danish c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6 countries of EU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U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4" descr="austrálie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5" descr="kanada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3" name="Picture 7" descr="dansko"/>
          <p:cNvPicPr/>
          <p:nvPr/>
        </p:nvPicPr>
        <p:blipFill>
          <a:blip r:embed="rId3"/>
          <a:stretch/>
        </p:blipFill>
        <p:spPr>
          <a:xfrm>
            <a:off x="4716360" y="400536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4" name="Picture 8" descr="evropska_unie"/>
          <p:cNvPicPr/>
          <p:nvPr/>
        </p:nvPicPr>
        <p:blipFill>
          <a:blip r:embed="rId4"/>
          <a:stretch/>
        </p:blipFill>
        <p:spPr>
          <a:xfrm>
            <a:off x="4716360" y="450864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Great Britai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british p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pa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japanese y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olish zlo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witzer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swiss fra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U.S.A.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meric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7" name="Picture 4" descr="spojene_kralovstvi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8" name="Picture 5" descr="japonsko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9" name="Picture 6" descr="polsko"/>
          <p:cNvPicPr/>
          <p:nvPr/>
        </p:nvPicPr>
        <p:blipFill>
          <a:blip r:embed="rId3"/>
          <a:stretch/>
        </p:blipFill>
        <p:spPr>
          <a:xfrm>
            <a:off x="4716360" y="393372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80" name="Picture 7" descr="švýcarsko"/>
          <p:cNvPicPr/>
          <p:nvPr/>
        </p:nvPicPr>
        <p:blipFill>
          <a:blip r:embed="rId4"/>
          <a:stretch/>
        </p:blipFill>
        <p:spPr>
          <a:xfrm>
            <a:off x="4788000" y="4508640"/>
            <a:ext cx="36036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1" name="Picture 8" descr="usa"/>
          <p:cNvPicPr/>
          <p:nvPr/>
        </p:nvPicPr>
        <p:blipFill>
          <a:blip r:embed="rId5"/>
          <a:stretch/>
        </p:blipFill>
        <p:spPr>
          <a:xfrm>
            <a:off x="4716360" y="501336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change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hange every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end on many different th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xed on the London FX market by dealers from over 200 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 be different in differ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w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elling pri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uying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nfluences exchange ra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itical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government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 t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09Z</dcterms:modified>
  <cp:revision>14</cp:revision>
  <dc:subject/>
  <dc:title>BUSINESS ENGLISH</dc:title>
</cp:coreProperties>
</file>