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43E-F9E5-4304-991B-B78CBA8DCF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2DD1-5F69-49EA-A307-11A9B4F78B4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9E5-E689-4F22-BFC8-455D34112A9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461-833D-48CA-9097-C82551FC6F9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196E-B52D-4CCB-AE1A-9BB3CBAD2F9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5AC-BC91-4D89-8057-DC3D2B2D8F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8CE-909A-4A6C-8E97-9B201F0C86D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243-E967-4C13-AA4B-20CF964199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8CF-5EE5-48B5-8C44-FABDA58840F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08F-53C6-484A-97AC-3FC5F239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192-37C1-439D-A8DE-F6043AB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2C494-0337-4E36-8743-5834361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8400E-F415-4988-934A-EEB541B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31EB-584C-4160-9494-44799237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93BF-65DF-410A-B084-F6EEF83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0C0B-8EAC-4EB1-85B7-B12C351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AA53-3445-4802-840D-2148EEA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3A7F8-B72F-4D98-A93D-DFAC805C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E475E-FAF1-4EF7-9068-F28C4306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10385-CF23-4864-9052-FF987F80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C5F5B-CE6E-4DE0-8BEE-BC9602D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868-4F77-431D-9260-E92423B1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0BA98-E38C-4760-8378-E107947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5F2A5-9FE4-4A7B-89A7-D87E359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A71C1-9026-49BC-BB1D-6A12DC3E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E5EA0-A5F2-4CF9-A3C0-30B5EA7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4B920-7DC0-4488-9A44-0842D21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C4426-2C2B-4F22-9E53-F64B047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56BC-5183-49C3-A5EF-6C54261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AAA5D-8729-4B7C-905C-571D39D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C86A9-006F-459A-98AB-AB37676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9B2D0-B4BE-4AD4-8E91-7C0AE45C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8B3-E268-4994-9B82-002A3A4D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EF8D8-9E9B-47E9-B8D9-EA1080CE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FADB-8395-40C0-B270-7EBD20EC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7BF29-587C-4E86-9106-881461F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0D1D9-6A82-4E7C-9966-C81043F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69273-A865-45D8-9F1E-60C81F4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26361-3722-4F44-B8AE-55B52A2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0CAF0-E985-43F3-88E6-EB720DF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3179-2609-409B-BDB8-3A900B9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661D8-CC47-4FDB-8AE9-4AE2BE0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7C97D-BAA1-4236-889D-82A6890E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AE1-C2E2-48CB-B837-3371736C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7944E-1CD2-45E1-A0A9-9D688A8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AA774-178F-49D2-AF6E-F3724846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1D79-5B93-4D55-9FFD-DD546433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C0B7C-F98B-4BC5-952D-C42D6327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A4DDB-EB8B-4ECA-8CDE-3FA7554C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4B1CA-5A2E-47C2-8F3A-32E512A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A1EE2-0664-4B63-A351-0B69695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619E6-C1AE-45FB-B121-33CFFFB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538C4-3962-43C8-90F3-934C9DE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48867-7E11-4DE4-9AA7-B2FD9E6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0610-A771-417C-BCF6-DA144BB4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9F5A-5716-42D9-84A7-C87E070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8626E-1CD2-41C4-B960-513AED9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3D2BC-5C87-44BC-9F3F-E2F0CE20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CD4BB-A54B-4BFC-8513-0CB42B1F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1A2F-40FC-4FB5-9169-C372A610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B5AEE-3603-4DFA-AEE1-D18EEFA6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F8540-A4D8-4580-9B70-FADC73D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8FE3A-E9CD-45B3-B971-CBEA85EE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55738-EC32-476A-AAF1-BFC8A20A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73C34-B5F3-4A4A-880B-E3DFA79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B39-FB53-44C2-B986-1E0514C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ECDF3-7563-41D3-8E77-E134FA2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03F3F-B916-4CA0-AA35-F18DCC9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2DD30-79FE-4CF2-84E4-9485974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591BB-BE6D-4DEA-A13B-2593559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77F05-A568-4D86-A113-1A192F1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FE7EF-D55B-4809-92C7-0A5B2888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0C477-66A9-46AD-B7F8-2F12EBAC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F143A-9E08-40F1-A4A0-BCD55142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0B190-8114-49ED-B178-BD00855E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80BBF-71CA-4FC3-A634-FFF13FD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66A4-C5C5-4E1D-B777-2E544AA2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40169-74FE-4FDF-8A66-F41F29D3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0DDAD-56A5-44C7-A06B-E0BEFDC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4324F-BD3F-41FA-9773-3BD47F5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BDC7A-3B65-4097-9655-4534E54C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C8C2A-89DA-450A-8E1D-BE5C76B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FD327-A3AC-46FF-ACB1-A6089CF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6EB00-0E44-40DF-B8B8-5ADCE08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1E7C2-D1DD-4FAD-9DDC-5B333745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2D01D-C162-42A7-81A9-058E227B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4B83B-1CE6-41FD-842F-41099E1D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1BBE-9F83-4435-B5A9-54E3825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C14B2-28C8-4689-92AC-74759428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82CFC-50D0-4399-A2F2-5E74E2CF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CD86E-AF0C-4AAE-B8F3-94EA295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1A4D9-B7F1-4CDB-8E46-9AA730F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0E93D-5193-49D7-ACAB-79D87E9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0F6FB-8E7E-49C6-A68E-63F2E93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83B5D-D410-4C04-B84A-BF9B67A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02146-B413-4602-ACFD-DA82863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08842-333B-407E-B9D1-CC61D47F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49C5A-87A1-4588-B56A-902A9382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563-6833-412C-B93F-1BDBBC0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17F03-714A-4F3E-9F43-B5164C5C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1A109-5912-4737-912E-D2177F7E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AEB51-E60C-4C18-BA5F-4C78EC57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7BC42-35D2-4202-9BED-D6A6571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21EC1-C709-46E0-9C19-9EA7D56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363C9-4F2C-4374-A34D-AE34D74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5D0FD-1AF5-49D4-8E85-ABB1893D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26994-E5BE-48E1-ADD5-286611E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3A97C-DC7B-4DAB-8F79-A90D312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C1666-3095-40DA-A7D4-DFE2161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1291-18C0-4544-93E3-7D9D9C50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258D7-8074-4F62-A622-740BE80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39660-43B4-4234-90C7-657599F9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427D8-D1E9-456B-AFB8-49151448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F5E-A647-47D5-8128-E38442A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B1C-DD0F-4188-8765-87AAB83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EF43-4E9D-494E-9D70-1E116FD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9AC-3DCF-4945-B71A-CB72A89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8B9-3AFD-49CC-B9B4-063E0958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F39D-EDA2-4D7A-9961-07182FC1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B64C-4F1C-4376-9EB6-57FD0AD2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94EA-4142-4386-A60D-9C6C958C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3408-1326-4A8A-99AF-0AB084B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01CE-6424-40C1-8D94-64AC069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C72A-7BE5-4460-A976-25FD3A4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737-CB64-4798-8299-CB2E2948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F3DD-8233-4341-8889-EEA3409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9E16-67E1-4CA5-8573-AB4C6AE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3FE5-6BDC-4553-B178-FE22398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D983-D64C-4A8B-91B9-289BB3A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CC75-FD20-476D-86C6-5A5A45B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E8F6-2037-446F-88C6-13F4DFCA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A3CC-F5CD-49CA-8C59-0B7A0954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E824-97E6-4526-AD3A-2D47B310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2E79-4CD2-4F3B-860F-4EB46846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2659-4096-4AC1-B429-DFEC69FC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07B-AF45-4E5F-BE48-BD077483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D0DE-64E0-4012-AB50-86D945C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7302-1028-423D-B9C8-EB2E6CAC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ED74-5D3B-4CFA-8BEB-4D91DF4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9EFF-26F7-4995-8F7E-900405D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6DD1-8A2B-49C1-A25D-5FDBB21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B148-45FF-4103-A73B-598A378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6F9D-5F4B-4BDA-A1B3-B2C982A5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59C8-5A41-46AC-97E7-5D14DD3C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D960-008D-4944-814C-165F8440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E9BB0-6EC5-402B-9288-2C8576D4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288-56AE-4ADC-A288-2FDC52E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26BE-B220-4CFE-B1F6-9340AF3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FE61-58B7-4BAD-962B-E909199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20C7-854B-46BD-BFAD-C31A96E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2D55-B23E-401D-B782-3C0484E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CC29-3CBE-49F0-B67D-09C82D68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B739-A0B5-4CEB-8F0D-679581B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5290-C603-4255-9945-924D9C4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73C0-A746-4122-B6B8-81C2ABA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D9BD-C3CF-43AA-8C55-AB19FB4C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122E-A902-4A82-82E0-9F47E55A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C28-6428-42FB-BF27-A9F7848C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9B6B-4EAE-4A5D-89D3-6F4240D8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2BE6E-869A-4A0B-A19D-DED11440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EFBE-D8BE-414B-A966-D5B80A4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0E17-8CD8-45F8-8819-4D0F03E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8164-19CB-4569-B34A-68E9F00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BC901-7CFB-42D1-A5CE-80028955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E8C6-06B2-40C8-A5E3-203E4DD4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BC7C-B1C9-4691-99A8-B578737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C852-3E3A-4C41-A7CA-CC420C0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86EA-0492-4F58-8899-CFEC0C2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4A4-32F9-4CC4-B9EB-28F7AD6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1B2F-7B79-4DEA-99E0-BDA50DE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276A-DC62-4798-B0A5-E23A31B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4798-3B2E-418D-8C50-4081D6C5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F995-CFA1-4258-8BEF-C350AADA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B890D-E1A3-4430-9A3A-8013075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1E12-FF61-4F7F-9AD5-5FE0074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3033-1DEB-4ADA-9224-1678403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9E1F-3D4D-4DD8-B2B2-1A4221E8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EB25-3912-4FC7-BD60-9245C92D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180B-9EEA-4968-A7A2-806D387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03E-B696-4B93-97A8-EF678B1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32B8-9A62-48CA-A72B-B8A1713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A43A-19FC-4B04-A0DF-5214755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72E82-401F-401E-9F93-19D3997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E58E3-D4FA-41DC-8086-EEEEF397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DA4AF-309D-4523-948C-72D81F26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96C7-96E1-4FA9-99F3-72E5BC55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6A036-67CC-4A3D-81E8-F128DB6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4509-5E9F-4DB2-807B-A40A53A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72D4-7695-4100-9421-733E945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F825-FDBF-49EB-8039-8CBC5CAD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4F9-FA52-4864-8CC0-FFD1085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549E6-A97E-47EE-8BFA-EE3E2A3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CF03-7F19-4139-8D59-FF14284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AEF69-81E3-45AB-8995-D169226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32614-1D4F-4811-BBFD-E81550C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41B5-05CE-43DF-B792-1A6C0DEA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5B290-1E86-4788-A8A3-52D63F86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725C3-2137-4BF2-8DA0-50090DE7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5DE86-A44B-4289-9EA9-0CD848A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1F297-5D67-47E9-908A-063FD1B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39867-8600-490B-9120-E671A109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4E1-76C7-42A8-8C93-78459AC33FA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9C4-919D-4730-A2CC-745C26A516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F50-3998-43A5-8C53-4E401DFA8F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48A-406B-4015-AA0A-9F43734578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0692-10C5-4B42-9997-D4EB0A4B11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F92-FA3E-4AB4-B531-95F6443313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07C-B6F0-4490-B474-BBF43F4118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A9F-AC9B-4872-9AB9-6AC132EFCDF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5C5B-94D0-4843-9BEF-A23590404B0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43B0-467B-4787-B1A4-95C3B2ADA18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44D-7D8E-4040-8C08-F3C8B4055D2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658-2336-4772-91C2-80A604B18E2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2B9-F577-4CF2-8580-0B89CABCD3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1726-3208-4638-9EE4-A839918288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2D7-A4D9-450B-AFDB-3311093489F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30F-D9D3-4F1C-A595-D8ED32C93E8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 -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quency of sending your bank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 / 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„overdraft“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 = withdrawals from a bank account exceeds the available balance which gives the account a negative bal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Úč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typy účtů, základní rozdíly mezi nimi, pravidla při otevření a uzavření účtu a zavádí další pojmy bankovní angličtiny spojené s tématem účt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open an account, current account, deposit account, giro account, FC accou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ir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C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urren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ding 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rect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via debit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 fees or even no fees for running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ust keep a certain 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ch higher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rate is fixed for a fixed length of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withdraw money you lose the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iro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 of 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very high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aries are transferred from your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pay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nt, gas, water and electricity b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C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current or time depo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major convertible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is usually paid transferred into F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ent can ask for euroche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need your ID and you have to fill in a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some personal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a specimen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agree on the conditions of running your account and th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39Z</dcterms:modified>
  <cp:revision>14</cp:revision>
  <dc:subject/>
  <dc:title>BUSINESS ENGLISH</dc:title>
</cp:coreProperties>
</file>