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E7CA-586F-49EA-A33D-4F47285324E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93AA-9CB6-4232-B3FF-DC5060F298F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61E5-B4ED-43F9-8C34-08249AC646A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4B98-0E33-41CD-99BB-3AA781362C2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5AA8-CBB7-4A6E-B6B2-DB7034119C3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BB68-6FDE-43D4-991D-DAD3C6E144B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84FF-1D06-43B7-AB15-8EDF0FBB344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755F-AA68-4167-B085-BC3D543D9FD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1232-4B79-407D-B575-B7DA0355345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809-200F-4CAF-B4B6-30C5892B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63F-12D8-4BF2-874A-B4FA4C4D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D3616-E01B-4F39-A670-5C3CB8F7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96D9D-2EA8-4352-BCB9-D1F3A2BD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3EEAB-21F2-4CB9-B6AE-F5E3E141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1E24F-96D5-4532-9F75-A7034FA1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ED03F-E61A-47AA-82F7-7FD777F8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8060E-021E-4EBB-934F-AE0AC7E4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16E10-6790-4A66-B46F-C6EAD3E8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FD9E7-7BFA-4E4B-84E8-47245913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C3E80-457E-49F4-818F-6BA52C6D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03F2F-C401-4069-84B7-7A5D9147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C60-74CF-41E4-ACAB-5760007D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E79D0-167B-4530-8B36-387BEBB4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FB6AC-770B-4E04-BD8F-A3A4EE64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BBD68-7FF0-4A71-8771-E23DFAEA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29636-A9E2-4ADD-8686-0A5D46C2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C666F-0E75-4FE1-979E-0D4AA0A2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20F79-28A6-47DA-B377-678FF54D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BB565-6117-4E3D-BBDE-0A0476F8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24800-0658-469E-81B7-91981423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20132-8443-43F4-88D0-F8E25116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8FC2C-7736-4D89-8115-FA96F598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17A-038D-4D7B-A104-229894B0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42151-5B72-47EA-94E1-279855B1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586CF-BE7C-46D7-A86D-EDB478F6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B350D-F298-41B3-9197-69F6B5CE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B17FF-3B3B-49A0-BFB7-108B19DE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F218A-DB0C-4A00-BBF7-8FBBA2C5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94F1F-2470-473D-97EC-4FBE8A1A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5A53B-5F3D-418A-8E79-F8206657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17366-128E-4467-88C6-0E23BE71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FBC20-6760-4145-9A43-C72B53E1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CDAE7-25E9-4F00-A93D-CE02FB2D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5A31-0701-472B-A5C7-63338C50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DDE58-9CE6-4B69-B439-6D7E0FF5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E2719-BB6F-45F6-A826-950609D5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0C17B-BBC5-4587-BD34-B76C6079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23363-F343-441F-B5AF-CA0BF100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4A66D-EB79-4B4A-B8ED-FCFD80C0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C85B1-41B3-419B-A016-198B7EAE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4AF3E-EE7B-454E-877A-D3058567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25D00-28B5-429B-9470-24EB0DD8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3F01C-FC7D-4ABB-9041-8DE886C9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FF8B8-9E38-4513-A980-F000EF50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1A68-719F-450B-AFBB-157356E3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6850D-0303-44C3-BC88-76ABF30C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483AB-F7E7-40CA-8AF6-B4C017F7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9D019-3B6B-44CD-8982-D8A07274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CF4D9-1B64-468D-B71F-EA05BC66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F6DA1-31DF-47BD-99BB-8C464856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C7DBD-1B33-41D0-90B8-D90C2944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A35F3-EA66-4044-BD46-11EAD64E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09E7B-98C4-4B79-9AD3-E655B96C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3BAEE-9EA4-476A-9385-2F56B8FE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CC7AB-FEFF-4FA9-AE2C-2AB18031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2788-0F85-44A5-A4D5-9EF3AFBB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B8E8E-FA8D-4845-9CCB-F61D696E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8FF1A-B3E9-4175-92BB-77802398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6BA4B-F1B1-4A7B-9B10-D0F9FF2F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4DB08-2E1E-4431-93F9-7E03FA81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BB8E8-F2BF-47FD-A497-4E12ADDB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0E34A-78CF-4226-A038-FD4DF80E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C89F6-5DBA-40B1-9E01-3D83AD96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B125B1-89A7-475C-BC47-EAD806D3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79361-EA77-459D-96C8-6B38E4F1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4785C-FEA3-4184-B361-4491CC51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97B9-DEA6-4146-AD09-778B11EE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20F7A-29A6-405D-A80B-3B707E9E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5DA3E-BDCF-4EF7-BBBE-CFAED144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A6F3B-D644-4A86-A5DD-0C5921C5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52DE5-76E8-4975-88A9-EF545ABC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0F6357-2B19-478E-9E6A-0B02F08C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24EF0-F3A9-4F45-BE5A-7B1BE30A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89180F-D602-410F-A7FA-189FEA92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C3A68-EF21-442F-B7D8-52956D8E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FB23B-9BA7-4A32-A591-0EE43FCC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06DAC5-6DC8-4F9F-BF3E-9C873073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23F9-BB4D-4E31-93A8-6AD33862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CD8D0-BE03-46E8-BBC2-30EE396A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7A8C4-7E6C-424D-9216-15D55A4C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3F3DE-4BC5-4DE8-A4F1-D5C442FA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83643-E47C-4E8D-BDA2-7BAEC987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93E5C1-3589-406F-9F12-B45EC5A4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76DD4-FF18-44AA-B4F9-BB53BCC4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C2B51C-A3CD-4F22-BC81-F186BEBE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121206-BB52-4BB0-A028-13D6C0B3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8027A-D91E-4981-8D88-A3F53029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EDE5F-32E1-442E-AE62-BA01BA41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E648-A0AF-45EE-9939-3F5C8FD0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FBC7C2-26C2-4040-84B4-AAEACD68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92B65-4BC6-4C81-A07A-B025040F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A311D5-2496-414A-A24D-B4A12AD9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8023A8-B11C-4A29-B286-09668E25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65AE02-15BF-4E2A-94E2-838BF61B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C60874-A142-4C87-BF86-E5EF24B8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ADC7B6-601B-401B-9820-4E279295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B068C-065A-44D0-8AB9-9CB5B8A7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9E5E5-765F-4569-847D-B67C2F49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A36CDE-8238-4288-B1B6-DB30D45B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C7C7-3CCA-48B0-A79F-29D5EFAE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ED3350-2A9A-4EC2-A179-F4CED740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90145-0C02-49B9-8239-931A2804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40C324-0F20-4B8B-BCB6-608CBA37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243-4E98-48DA-ACC2-5ED5941D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7B69-2893-4E45-AF0A-7ED125BF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ED2D-CA79-4CF1-961A-2C5FE57D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7AD8-B229-4456-A55C-039A0479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33EB-C742-481E-B748-CBE8B264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BC82-84A4-4A00-BC28-5385221C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E7F01-2C0C-4415-8466-21C6270D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48A1F-722F-4F32-A8F8-2095CF72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FAD77-E01F-4526-B112-CF8F0D24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3FF83-C520-4A9A-A151-F41B599D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B7DD-71D3-4286-930C-6AC44581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8B9-F0F8-4EDE-A8CE-FDA34566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5615E-7FF3-40B2-BE25-319BB4CB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ED978-5173-4FE2-82B8-11FA0710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0CC9D-9532-4B7D-B9AC-863D583E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896FF-91DA-4B02-A3B9-27244C89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3C1DE-6C6A-446F-909A-46451ED1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FCA15-DA2D-4965-BC14-78E02F49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89EA9-0ED0-41CD-A426-11238820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9149C-FA44-4D15-9EF0-CC94BE7E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29C23-6262-402F-8A9E-827223A8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24E52-7FCC-4753-9689-019BE6C0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EC0-8B7C-4AEC-8DB5-448D3114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F55F1-7F82-4EE1-A7ED-472EE394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16C2E-037A-4B70-A111-8F7A52E1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91B48-F3AD-4AF8-8F31-1B80AD6E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60EFE-5972-44F5-ACB2-3813F087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D9625-FD9D-400E-BE73-333DF81A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DE58E-2E62-4E1B-8367-B7578643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2CD54-2C65-49DC-8ABB-FA62E895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3E909-AA95-41F3-883D-FD68875F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383E0-B0B1-4065-935B-32E23C4C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A6277-BD46-4A61-82DA-E5C62F00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5B6-C5A5-4661-8731-538781FF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00721-836E-4A22-9FBB-47CE05F3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B10F2-64F3-45DF-9B41-641A7793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D743F-40D4-429C-99FC-636D43FF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F5289-F04D-4B6E-B8CB-721A156B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73C9C-0800-4039-BF53-F15CCF35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C19F3-C48C-489E-8409-59B9F015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3CA99-2325-4872-A2E5-94494A77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FF7E9-5A88-43CE-AA2C-E0BF0EFA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36F3C-7F73-4CC9-97F3-2E47E84D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96913-38D4-4B74-BD87-7BC4B194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C0A-94D6-4BD1-963F-95D8B17D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ED761-D799-4C43-A217-4A03F29E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EEE53-34D1-48FD-81CB-CDC713C3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66346-BE56-4622-B473-0EEBED74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4763D-843B-4F51-AE4E-59D496A0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840C5-6D2B-4F6C-A47E-51061B6D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D498B-5F54-4FDB-941C-36A35F62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B9106-4118-4A4B-BD11-3767B0B3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0C60A-3FAF-48BA-8027-DE4B3988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47477-963E-46F3-8B93-79F57AC1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7F67B-298B-4F3E-BBA4-47D42F4D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6AC-ECE4-41FA-9C6D-C024336B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6B606-FCBB-4E0A-8ED6-F7A3A273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B3B94-A9DA-42CB-9613-5951DBB4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D8D9C-34E4-4818-9043-A67487A2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75DA8-2AE6-468D-86C6-BB15764D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1F48D-4BDE-4DBF-BB05-7A13665F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C0A68-3769-4632-AAB3-21119C96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136B7-8698-4F43-8999-D6A400D4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859F3-640E-4E7A-935A-CE4CF838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0C0C4-A5C8-4D0E-8752-54E708E4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14518-F32E-450F-8630-AA87E060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FE2-3592-474A-9FD6-82938608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77AC5-8E38-4CBB-9B58-841A4040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DDDCA-A6D8-4CA1-9459-70E6C684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C27F1-0269-4DBE-9BB3-6AF6F050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B463D-C60F-4D27-B048-0443C2D8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4149C-9844-4378-8F6C-E1BE8BA8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F1DDC-4EDD-45A8-8193-5EBD534C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177C1-F3C8-449C-8EA4-07315972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2B52A-CF44-49C1-A583-F6C3AF86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4E686-0B67-4A33-9959-8D428B04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CBAC2-9A83-46EC-942C-DFE2CD28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963-5183-499B-8950-6FD0C619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D0F7E-C2A9-4E10-B621-0028C651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F602F-1186-4912-9769-769D8121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B18C8-E649-447C-B623-E6A74091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CBC1C-BC29-4CB3-8892-8EDF2677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A4D37-9208-4FC7-9EE5-059153F2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2A20A-8220-4A68-82EA-200A6D3B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0FCA8-4C06-4EB8-B88E-88384007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EA624-D84C-41CB-B5A7-568EF845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69674-0FBD-42E9-8384-BFC2CA51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8E0B3-7EA9-475B-A60C-4EFF5A0C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6C78-5567-4E41-B722-A98E51DA187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8590-4B65-4A90-A22C-ECE8DCD91B0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E05F-79F0-486E-A573-3D14D491B37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605F-3DD3-405D-9C38-7DA9FD469D5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802D-9A62-469D-AE61-4A9837AFFD7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7583-40E0-4EEF-B12D-1D6C4F97276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B062-FC12-4DF0-8289-3B6D7D6A7A6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05B4-A0A5-43E2-8BD9-D5120AE09C7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2D57-CAE7-493D-951A-6235A18D019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CA0F-786A-49AD-8E3C-8FFF28BFB87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0F56-42D4-43DE-A54C-1EBC420FDC04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F0E1-9A96-456F-9019-9F99FDEFA13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E9D2-5621-46FB-9B6C-BCCE47031D9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FE56-9C06-4282-8437-241676A511C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D678-64AC-43CB-977E-0DCB03F175A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1C76-575B-449C-841D-F275270F9A5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stoc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ney market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res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s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ex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ecial investment strategies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uaranteed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ecial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mmov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ying a house, flat, piece of 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urchase through real estate ag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possess the immovable and can use it (house, flat, garden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can make further investments into the immov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 inves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s an individual you can buy many various things which can get a higher value in the fu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ld, silver, cut g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intings, ar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mpany inves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technol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mach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uman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investment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IGHER R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IGHER PROFIT (OR LOS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Invest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pojmy investice, investiční příležitost a typy investi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Investment, profit, shares, bonds, valuables, stocks, immovab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investmen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money that people or organisations have put into a company, business or bank to get a pro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omething you buy or do because it will be useful for la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 opportun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582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osit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stoc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movabl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luable things - paintings, g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0" name="Zástupný symbol pro obsah 2" descr=""/>
          <p:cNvPicPr/>
          <p:nvPr/>
        </p:nvPicPr>
        <p:blipFill>
          <a:blip r:embed="rId1"/>
          <a:stretch/>
        </p:blipFill>
        <p:spPr>
          <a:xfrm>
            <a:off x="5796000" y="3213000"/>
            <a:ext cx="2467080" cy="184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osit accou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afe inve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for a certain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renew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derate in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ha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ng-term 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become a shareholder of a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et regular dividends according to the prosperity of the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e risky inve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o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edium-term inve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afe way how to inv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derate in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at a fixed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 stock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fferent portfol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to invest into different companies at the same time which can keep a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nds are under control of the Comittee for secur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56Z</dcterms:modified>
  <cp:revision>18</cp:revision>
  <dc:subject/>
  <dc:title>BUSINESS ENGLISH</dc:title>
</cp:coreProperties>
</file>