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dt" idx="4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ftr" idx="5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 type="sldNum" idx="5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92DD2-46B8-4BDA-B0C7-994F92D5A3D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FBA57-BFC3-4834-B751-5645EDC72298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E00D8-EB2B-4D07-8330-3FD1CB08FA6E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AB099-6A15-474D-A2A8-DDC1ABBC3EE4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2A749-69AD-45DE-BC81-6531A4FD80A3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AD72E-AD9C-49AE-8723-F7FEFFD06F8E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E194D-B40F-470C-A129-01D5F436D02C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860AA-32AF-4BBD-A3D5-256DCB45407D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67610-333D-41D4-8581-24C61EB62DF5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9F9F-D1F8-4929-BE2E-A39B36E8E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B0DF-7C4C-41D6-A26D-A272E0B17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D7862A-CD67-4EB8-ABD3-69DD24AA4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50B98E-C6A6-40E9-B5F4-19B837947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8ECFFF-8F6A-4347-9CC3-C650A9530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DFB0E9-F54A-4743-BED5-AA9DF6108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345BC7-4451-4141-8AE9-89BE3731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B273C6-A619-4D49-AFA4-3D1158FB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5D0502-D3F7-4CD0-B21E-38A5C11C6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67EBE7-171A-4DA1-9617-DE831A767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204122-2BFB-4FE9-9946-9F64FDB92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280018-91CA-460D-A930-2C6D190AE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C88F-323B-4220-A84B-D91E393B5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846E19-5DA6-4B9E-BD2B-9E908EF8D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69B9DF-0A32-47F8-B2F1-62565EDA1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11EB4C-8E47-4C01-B7D4-1C231BFE7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F5007B-9ABA-4207-8615-F69F9D05E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0116EC-0F53-4E0E-BFDF-D3708D0EA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042577-F693-40CD-877A-6EBC26CB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AB3488-B140-4E34-9D9C-45B650B2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88E027-862D-4C2B-BAE1-9822B49B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78621C-A952-4E78-B66B-CAA2C181B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D04426-1454-4C0E-933E-4F34CCE1B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D931-D12C-4DC5-ADB6-2BEA457EE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1C02CF-7F59-42DA-8DD1-343BAF72C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48FD2E-BAD6-42CC-8822-E6085BE3B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DE9667-5A8A-45E3-8F73-6367BAFCD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9BE435-2C64-4AA9-A13F-BB791E046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1621EF-B4CF-49C6-A9BC-1EF5B4E99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FA3A48-1126-4FC0-8DC6-7ADEB70FE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462B44-8E65-428E-80F2-D53796F36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31E559-7578-423F-A569-DF9514D8B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ADA124-517E-4563-A5EE-2AE092F80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3D00FC-B380-4A36-B149-D7976D608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0C7DA-6623-487B-9167-907FF2220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79C69E-01B0-417D-9E5F-B4C90D833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3A012B-6B3B-45FC-80A1-7E36E8215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DEA7E7-4B12-4F73-9014-3EDCF0C22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62577C-0D39-4729-99CF-9D6D5759F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A75C76-91D6-446F-B9B0-8EBC38124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C0B2F8-773D-4AB0-880E-0C65ED643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367CA2-4F08-42CA-9B6E-8D40543BA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AE085D-23B2-4953-B53F-DFEEE9F6B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6CD2BA-2A85-42A9-B99A-4CB911DF3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5646BD-E9BF-444F-8AC0-C4EF387F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4C208-3067-47AB-8EDF-1E027AC4A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99CA76-6DBD-4CFE-93EC-4662DE36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8E69AE-239B-4D38-B1A5-16D2F00E6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6CAC39-B954-4D4A-8ABB-895394223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65E048-5134-4505-8B55-AE3308DF1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F59CD9-794F-47F4-8101-4BE6AC7F2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DEE60D-2472-45A7-99C8-6C522866D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E5D3FB-72F2-4495-9B8F-6F9F15AAB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41480F-0872-4238-960F-3601C2700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100F1C-9625-430C-94F8-569FFE088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29F5CC-5CAE-4359-B371-339D8CA7C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6023E-0919-4FBC-ADB7-89ABE2D2D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DEAB19-AA0F-4100-8029-6265E5F31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2AA3AB-50D0-44B4-841B-B829FCE8F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C9DC97-E9F6-406B-9CC8-3B36F346F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6BF4FA-99CF-4D6A-8A49-3299F0FA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0C119E-2837-4E54-8D16-A15899928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D528DB-6CA2-475D-9C0B-24170A8FC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FDF165-77ED-43EE-87E3-86DE6E400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419319-7F19-42AD-AFCB-09847C02F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572FC4-BF7E-414C-9C87-C47C574E1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A54836-B7DD-43E1-A0B1-4BD45A413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43E2D-3D7D-4AE3-AF44-6A14A2110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E48547-25D5-4046-9B1D-11CAAD060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B53655-E01A-448A-A592-0E381E9B9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D07AED-8622-491A-A299-21CD54F97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A5A880-D077-4C2E-84E8-B8C1E5976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ADA819-D6A4-4985-9DFF-F98D1156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D216CC-4434-48B8-9276-21580F372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220FE2-F94A-40A1-8A35-4269C56A8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89764C-FC5D-41AC-B743-2FCB62929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DF7597-F615-4657-A32B-766ABDBDD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309EDE-2721-416A-ABAC-74A7FF17B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974BC-B33E-4613-9C79-43CDF1354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CE2591-97D0-4640-8AA0-8714F00AA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31EC13-C70B-4A0B-9DCC-1E7B635D5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7B6AE9-6991-481C-80A1-2866D62DB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5E3358-AEAA-416B-8BA5-65EC29A3D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222A7B-4302-4266-8E49-47A15E9EF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A1F2B9-F319-4474-B6BD-34C3C8DA9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849C5C-0618-4E19-9CA6-1E4994B3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966D90-0311-4BCE-9BAF-6CDC756B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32E1FF-0A88-402D-BC3C-795777629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AAF4AF-4291-4C45-95E2-1CD49BB68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D617C-29D1-40FF-AEDD-CBB3E77BA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645108-F890-4CAE-A00A-D7570CDC6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FDDADE-FC61-4A0F-A76F-82C383A4F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C115A3-CA85-4F5D-AB17-990829246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894503-28CF-4905-8222-4B1DA2AE6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E888B3-CC54-4748-A9A1-FD6FA3B66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EF49CC-BB1D-4229-8B83-497BA99E0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28D882-92AA-48E7-9CF8-413BCFCE0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BE03E1-3CAD-4DE0-ACCF-F479954B0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9B6B24-7A2D-496F-ADB9-7A5EAB89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ED3E87-3FD8-403A-BF41-634CC7776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9A0C9-ED69-474B-85E9-EF361C019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C3301A-8A67-4AB2-B49B-470DF3AFD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DD4159-DB37-4DD0-A412-8D221EF2A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97517B-1F4A-4BBF-A5B2-A5652320B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E1A2-ED26-49F9-91DB-2795C2DEF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78FB3-099F-42F4-9ABF-748904DE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91343-99F8-4AAB-B62B-ECC7237E3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D20C8-C202-47AD-A6CC-BDA2622A6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2F377-1B7B-4ED1-B17D-038E5D7D0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2F663-EA63-4F68-84B7-FA8310F0C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B80D0-0542-4187-BA6E-CC9F407D1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1EB8B-67D3-43A5-981B-482132BCB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92286-5C37-4E80-834C-AD43FB00C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12903-C2C4-4316-BC3D-D609A089F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B22BC-AB31-4B61-BE9E-14E786FD8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25F3-D185-46AB-9671-D97ED6DD0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47347-5891-4103-B6A3-63DEB2C68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FE9A1-DF41-411A-BA33-217853317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CB821-B80C-4E65-B5F7-D9F4A469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6ED43-03AF-4198-B6EF-B9BCA0A5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504C6-9302-4D20-85F5-983E69432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0C554-C122-4010-B013-0B1F13985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9D1F8-9BA7-4EAF-8648-D5B9B1300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17E7C-AE60-4CE8-BB22-B6CD4B7E5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26E7B-AB5B-4441-9395-E62339462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D2EEE-9D75-42BE-B264-B0254EE40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2F0A-00EE-4D13-A9CF-8B7CB9532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3FE5F-1CD9-4F78-9C4B-B6AAEFAA2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C9A31-CE6C-463D-B07D-45D2542ED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7D670-94FC-458E-8C3F-56B931690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A6487-256D-4713-8C5E-C2A91D23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835AF-7643-4546-AB2C-6FF9F637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D68B3-688C-43FB-A6C3-5F5E8AEBF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D1818-5CBF-43C1-AE4C-EC2F625F7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55128-AD66-4772-9B69-B24E4A724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B907F-2158-4E8D-9317-9D67D8449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F29CE-588F-4BA1-BFEA-0748FD1C6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FF7D-D64A-4097-B4CE-DE2E801FC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A21693-52EA-4F54-A5C1-5F703F8F7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BB39D-8579-4F66-B074-196E750B2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F87BD5-2500-4034-912F-D427CD26A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085CB3-8712-4217-A7FA-391A3FE70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CCE7AE-3CBA-4467-B120-07D74C1F1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AA55C3-D4C6-483B-982B-2750AB038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1800AB-B12A-4E3D-862C-889CDD9D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4A595-FB14-4FD9-8882-2F9A4BCC5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F35CB-CE4C-4F48-9D2A-159633032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81800-698C-43AB-BC34-4550813A7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6459-05A0-4D61-A5AB-FC98E1EFA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E2F0BE-C0A3-4875-9AF7-CDA5F39BD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D769C-5450-4C04-BB0F-1CF0853BA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36D79E-C436-4A30-A5AA-273F37AEE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E12241-C4B3-4C9C-A30B-8AC660067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5C917F-8191-49E1-9260-48172461D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CDB08E-412C-4727-AFC9-CE41BE971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36B01A-2757-4220-AEF7-FA05EB3F0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3E8169-63A1-4AD5-8197-FEE49C9C2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6B676A-19F6-44B0-9216-0EB5A60BC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1EFD19-9D60-45AB-AEFB-CB86170C9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F48A-199C-4AB6-822C-75018C8A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A18B0B-3808-4A06-9CE8-09270E38C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3FF2C8-A978-432F-B79F-C1BD50012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772338-35A1-421C-86CE-3C6AE8B8B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A7F997-F5E8-45CB-93BA-7C939E926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C98BFA-08C9-47A0-86BB-1A52A7AE5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A77BDD-A524-4FDA-8040-B27FB4B26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390C17-3F02-4671-B7C5-BBAB733A8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9F1321-E92B-459D-945B-127B8C690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FA5A44-34A5-4D97-81AC-83A516290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735EAA-17B5-43D2-8119-1E1FDEFA8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3792-BDA6-486E-B566-CAE008FC6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93C47B-C116-431D-A07F-65D1FD0E1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46F20B-B1C4-4179-ACC9-90762C919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C567A5-AE56-41EF-BABF-F0982A357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D377ED-926F-40D2-9D93-445765C9E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CC96C1-7540-486C-90EC-64929ACF3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08FE1E-BBF3-4DA7-9A16-843BA5CF4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DB17E8-132E-417F-BCB1-B6E9D82C7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DFB85D-0FD3-4971-8EC3-21C4015B2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20C044-AD99-4108-9148-56BCFA560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0B9585-8F7B-47EC-8F0C-D80347036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7FC8-9C93-48A8-8684-0C4BD4721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0EF13B-6B67-4F70-9920-073A118E4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EE13D3-197A-49ED-A47B-0C114075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7FD09A-4188-4DCF-B8A3-4EAA6BC5B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9CAD30-36C2-4A99-B877-97F38BC31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2AAFFA-9A14-4237-86DB-3694B592A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16A2D5-F05D-4589-A7E8-905C08EE5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20B0EC-92C5-4697-B2F4-74C1E97B7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AE5893-FF40-45D7-8F9D-A2F709C3B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531838-548F-42CD-A2DC-DC11665E5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539790-4CE8-4E3F-9376-3F11DE18D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1C3A7-7EAF-42A6-9E97-4BCD672BCF5F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Přímá spojnice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431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D501A-FC3E-4BE0-BD13-3953C3233A8A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5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77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8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80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481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C49A7-D289-4130-A231-03B6DA18A6ED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3F68F-3043-4E43-BB33-4578FF41319C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Přímá spojnice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566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F2369-6C40-4C8D-B920-F0DA58479592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4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4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4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426D1-E1A5-4163-8668-679D7012D2DA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65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5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dt" idx="4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ftr" idx="4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sldNum" idx="4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BC662-929D-45F7-8484-3831298BCF19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4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4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9FB42-DB8F-441D-AB9E-E02BF08E6E6F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34490-C814-4B90-B8D6-31DFEBD88C45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6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F8781-AFBD-4DA6-A78C-A09771BBF454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10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4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4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352FB-A559-46BF-82F6-61D87E5BDAEE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9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9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9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9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1EE8C-A48D-4EFE-B7F5-4FD0A45AB2FE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Přímá spojnice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243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8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852F3-5581-48F8-9BA9-B335C6561A17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87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89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90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92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93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0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1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246E1-5E47-4228-AB51-0B073FEDF563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Přímá spojnice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337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B9A38-108B-400C-85FC-459D8165DEE2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38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060B7-601F-4FC5-8702-372377266765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749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0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3.A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/ třetí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1 / 201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1" name="Obrázek 1" descr=""/>
          <p:cNvPicPr/>
          <p:nvPr/>
        </p:nvPicPr>
        <p:blipFill>
          <a:blip r:embed="rId1"/>
          <a:stretch/>
        </p:blipFill>
        <p:spPr>
          <a:xfrm>
            <a:off x="191124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e) Terms of delivery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prompt deliveries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forward deliveri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partial deliveries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fixed deliveri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f) Validity of your off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Binding off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Firm off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Without engagemen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5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Bočánková, M., Hedvábná, I., Kalina, M. 2004. Anglická obchodní korespondence. Ekopress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Dyčková, J., Neumannová, O. 1998. English for bankers. RADIX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enderson, D., Streitwieser, V. 2006. Business English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Jones, L., Alexander, R. 2003. New International Business English. Cambridge University Pr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ackenzie, I. 1995. Financial English. Language Teaching Public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ěšťan, J. 2002. Anglický obchodní dopis se vzorovými dopisy. Nakladatelství JM Pís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7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Radice, F. 1992. English for banking. Macmillan Publish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Skuch, E. 2005. Fit for Business English - Fráz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illey, R. 2005. Fit for Business English – Korespondenc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reger A. 2008. Inside the European Union. Leda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Abbs, B., Freebairn, I., Barker, Ch., 2003. New Snapshot Pre-Intermediate, Pearson Education Limit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</a:rPr>
              <a:t>Obrázk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ttp://search.creativecommons.org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2" name=""/>
          <p:cNvGraphicFramePr/>
          <p:nvPr/>
        </p:nvGraphicFramePr>
        <p:xfrm>
          <a:off x="1258920" y="1700280"/>
          <a:ext cx="7416720" cy="45259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Obchodní angličtin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Obchodní dopis - nabídk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ukazuje, co obsahuje obchodní dopis s nabídkou a představuje základní slovní zásobu pro psaní obchodních dopisů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Offer, terms, delivery, price, validi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3" name="Obrázek 1" descr=""/>
          <p:cNvPicPr/>
          <p:nvPr/>
        </p:nvPicPr>
        <p:blipFill>
          <a:blip r:embed="rId1"/>
          <a:stretch/>
        </p:blipFill>
        <p:spPr>
          <a:xfrm>
            <a:off x="191124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BUSINESS ENGLIS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4643280" y="3357360"/>
            <a:ext cx="4013280" cy="122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OFF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56" name="Obrázek 1" descr=""/>
          <p:cNvPicPr/>
          <p:nvPr/>
        </p:nvPicPr>
        <p:blipFill>
          <a:blip r:embed="rId1"/>
          <a:stretch/>
        </p:blipFill>
        <p:spPr>
          <a:xfrm>
            <a:off x="539640" y="3645000"/>
            <a:ext cx="2247840" cy="20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Your offers should inclu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366"/>
                </a:solidFill>
                <a:latin typeface="Arial"/>
              </a:rPr>
              <a:t>The description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 of your products  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366"/>
                </a:solidFill>
                <a:latin typeface="Arial"/>
              </a:rPr>
              <a:t>The quantity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 of your products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366"/>
                </a:solidFill>
                <a:latin typeface="Arial"/>
              </a:rPr>
              <a:t>The price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 of your products  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366"/>
                </a:solidFill>
                <a:latin typeface="Arial"/>
              </a:rPr>
              <a:t>Terms of payment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366"/>
                </a:solidFill>
                <a:latin typeface="Arial"/>
              </a:rPr>
              <a:t>Terms of delivery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  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366"/>
                </a:solidFill>
                <a:latin typeface="Arial"/>
              </a:rPr>
              <a:t>Validity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 of the offer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a) Description of produc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Types of product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Technical detail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atalogu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Sampl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Others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61" name="Obrázek 1" descr=""/>
          <p:cNvPicPr/>
          <p:nvPr/>
        </p:nvPicPr>
        <p:blipFill>
          <a:blip r:embed="rId1"/>
          <a:stretch/>
        </p:blipFill>
        <p:spPr>
          <a:xfrm>
            <a:off x="5845320" y="2924280"/>
            <a:ext cx="2043000" cy="265572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) The quantity of your produc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Siz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Weigh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Packag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Others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) The price of your produc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Pric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Extra cost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Discounts for bulk order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Discounts for cash payment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Discounts for long-term busines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d) Terms of pay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Letter of credi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Payment after deliver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Documents against paymen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Documents against deliver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e) Terms of delivery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Delivery tim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Place of deliver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The way of transpor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8:42:48Z</dcterms:created>
  <dc:creator>Mgr.Martin Frolík</dc:creator>
  <dc:description/>
  <dc:language>en-US</dc:language>
  <cp:lastModifiedBy>Igor</cp:lastModifiedBy>
  <dcterms:modified xsi:type="dcterms:W3CDTF">2014-09-13T14:11:52Z</dcterms:modified>
  <cp:revision>26</cp:revision>
  <dc:subject/>
  <dc:title>BUSINESS ENGLISH</dc:title>
</cp:coreProperties>
</file>