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81B3-E908-49DE-B19E-D81A6A414E6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282E-BEE0-4EB3-9880-5B27118F2B6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E5DF-C59F-4022-8015-514CD561BE1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8787-E654-46DA-B3DA-98ED8EF1202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F330-1D73-45EB-B9DC-D967DBE7250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E181-6F40-4D3A-A096-7F6592CF245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F154-B709-4ADE-AB66-0FB59B0AEA5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F0EC-2E5A-42FB-B27D-56CDCA8EF95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9DD4-4B0F-456E-BF1E-8BD4B706272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3EF-EB5D-4447-B305-53E74685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B07-48A0-4CFC-B3E5-306C5F0E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0C389-8E7A-4A87-BA97-2E357CB2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FF90D-78FC-4AA0-B352-7A31B3A8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A68CC-6F5D-49EF-8147-70823C95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A0D3D-4029-4709-A8EB-A5F5799C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A53E2-CF2E-4B23-B39B-21D6E069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35E74-08A4-4428-BCD2-24A47EDE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03DCD-EC5D-4D1D-BFB8-3C1C809D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F5F1D-3BF6-4495-8D92-22BCCFEB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77935-35FD-408E-837D-68640B2E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54333-79FB-4270-9816-9E49BD89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508-4CB6-4D01-8826-3000F774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81AD8-B4BC-42A9-B069-BE3CFCA1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A748D-6A8F-4502-AF0E-FDECFEBD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34A8B-CE41-4AE3-863F-5651F4E1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AF40C-F5EE-418C-A7CA-BF4D112A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570E4-B37D-40BF-A3C5-5C5DB151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61C2A-6B1D-474B-AC21-A5C4CAA8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3C715-6D2A-451E-9AC5-2B1A5985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B2D87-2E37-4D52-B685-4CC21E21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28925-78DC-44F8-8273-131FA9B1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A58FF-FB65-4275-9F1D-1A8131EE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E8AE-8120-4BF0-ACB6-D0146AAE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3D441-A127-43E3-93AB-F30730F5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92CB7-9F59-4499-8C10-D2DD33D6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0A3F2-F483-45F6-9D19-708F2CF9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D5AF4-2C22-4C6C-BC49-5B471734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C5D93-5C33-4775-817C-F23C010E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23BB9-066C-464C-8ABE-994EDA70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D91C4-87A3-4E29-9572-6485793F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4A279-22A2-46A4-91F9-6401BCC9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DA0BA-FA68-4DC9-884D-9CA55055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1FD4C-2F64-4565-AC43-6392C5E9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9AF7-12BA-4715-85AE-79D575CE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E42AD-4076-4818-A882-8DB617D3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3E8F8-03B2-458B-850B-B0F352CB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0EECD-5221-4D7B-8112-3866E8CD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D9D82-FAFD-48DC-907E-DC3E592E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BADBE-9C34-429E-85D9-23E55B8D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22061-EA6C-4A79-AE42-DFDA5366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5FEEC-C02D-4A38-B89C-61F2E89B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2B912-B992-415E-B4AE-F38DBACE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FDF02-978A-466F-AB39-9FE7D608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2529D-FB39-4E37-AF64-94C9B067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3FCD-4A1B-4363-95FE-FDB27B8D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41F6E-5F7E-4C16-B6BC-D62FF9CC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EB3AB-5F09-4A5D-8E02-8AD39774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48635-4B58-473F-B020-44453DCB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9D601-ABF3-4363-82F4-D3311264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4EC26-69A7-41B2-ADA5-56FF7093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8E017-46DB-493D-9514-A86633D3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473033-4E7D-4881-9934-49AD87B9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B7020-1ED8-49BA-9097-3EB9EA89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380C08-A36C-4AF9-A4A5-863771DC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2175A-0FF2-425D-9452-A574D82D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0669-346E-4A48-89A9-83515FA1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570BE-13DD-469D-A008-BB98D4B0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CE547-B541-4D8D-A0C8-B5AF8C26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50477A-14A7-4D4D-9621-7D33E01A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70097-B8ED-45CC-A306-17DCDD4B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D3443-D9A6-480F-9949-4EFAD210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F687D-9AD9-41B3-A91A-704CF14A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036DE0-6A31-4D6C-9777-27710BCF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1A31-F94E-4CB4-AA48-92BA9E4F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F1B6-9678-44AD-AC12-86CAE40D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8598-922E-4509-B017-8E7FD2E4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45CE-007D-49C5-96AF-8B49BC32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9430-108C-4BDE-90C5-6FD9E534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9502-6CC7-4665-AA97-5D1AB08D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84D3-FBE1-466B-9459-4D441DFD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E189-02A5-4C99-B166-DF6145DF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6496-936C-4881-8A25-EBD8FDE0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8575-FB14-4A0C-BEC1-70F8E827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DA3AB-6E55-472D-A8E1-A6B14DC5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532C8-17F3-4D1D-A03B-4E46C835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0CBDF-748D-4043-9188-3C4A49B9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C8ECE-FF81-4623-88FE-0B76C95C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B275D-AE33-4546-A9AF-12CCD97C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16B-5EED-47AD-8FE4-24D1009C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9323D-2A5B-4CC6-91D4-6C43A4D2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9994A-7F45-401A-B290-0B0D7D59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8B54D-10AD-4801-B4FF-DC37EE96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53FDB-EB1A-49BD-8FC1-4E23C932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63B03-647D-420B-AC7B-93B5CC08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49E9B-257E-473D-8207-B2568EC1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FD4E1-9D47-417B-8444-6AA27AB0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1CF19-6EB3-42B8-B144-9D66E296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A4E87-C2FC-400E-8F59-5BB770CB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CE965-428F-4425-98AF-5ABB949C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73D-E3CF-4549-861A-A0B6A12C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B5D48-D36A-481A-8AA3-1983320F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D1618-AA10-4546-B048-B6F2507B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B72F3-3A1C-4EA3-88FE-8047073D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493D1-F946-46E9-BB08-FB99D6C2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4576F-7F23-447A-A291-13BBF46C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4D33E-1101-40FF-A247-F117689E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238F8-4D42-4D84-9791-1D13F5C0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94475-9A67-40CC-A25E-72CFD6BC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05F5C-499D-48CF-A459-D9F3B039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6CACC-42BE-4A41-B533-04DE77E7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401-3621-42DD-9092-0DA1AE4A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60A96-75D8-4F15-93CE-D4D54B37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CF16A-DD28-4C52-AFD0-FFACCA44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480C3-196E-4E32-8DB1-A75470EA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8351A-38E1-4E2E-BCBB-1F8D4846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3471A-0772-4CB1-AEF6-8CE7373D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0105F-F6C1-473D-AEC6-43C684B4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981B6-B82C-46CF-A78C-FA2AA5CF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2E1DE-A52F-4A1C-9341-73FF94C3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925DE-FFF4-475C-871E-EE96E112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29AA4-0BC1-41F3-9189-09CD7DA1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BF4-037D-4571-BE78-355665B7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AF148-E3A6-46DB-96E4-8387924E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E371B-BDD5-4263-93DA-C8FB907A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31C42-BBDF-4BEC-9F7D-AF58AB8C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8776C-13A0-462C-BEC7-D6DACD20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1EFE0-3B57-4368-B693-855BC1EB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7DDEC-1357-4847-8AB5-D70B24F6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E58BA-CE62-4E7C-8ACE-B5384927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73E0B-DFB7-4C54-B43C-5A436D6C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CF8B7-9DA3-4616-B3C5-B257B348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1EBC6-626C-4741-82D6-727A3F40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BCDB-F11F-4679-BE89-8C867042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5F597-14D6-4ECA-8F19-0CD95B59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12F1C-BEA5-4455-BE7E-716F7875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184BE-122C-4CFA-A9F6-0B16047B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EBEF4-5D29-4EFD-A7A0-0F64206C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AB33A-F8C7-4660-AF2A-96BD340F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E5CC4-43B0-4D42-9F99-DB9C9221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679E0-CA23-4730-8A67-0FDDDF23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098F7-64A9-41E9-B7D4-9D842700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77BAF-A2AD-4471-B9C5-46E41B0C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3DFA4-60F7-42EE-AF5E-0786FED7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7BD-F757-4EC8-9218-891BA3CB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E9976-2BFB-4E9E-9059-321D57C7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46F8F-387B-4216-AB35-E8C8E198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A4FAE-C71A-444A-BFC0-126D5178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40A41-0FEC-459D-918B-F17F5541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8FC49-8005-4BF5-AF35-B6B92A97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68E5D-E6A8-48ED-B01F-B8AFB79B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68FA0-10DD-4163-815D-B5135925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F69BB-4BD1-4341-BE60-C6FC945D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0C491-A19A-498A-9326-3F04E160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2ED62-7E6C-4949-87D3-F817A6ED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0C5-2767-4A0D-869D-1406CE3E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9FEF5-A76F-4BF2-B1EB-CD6036C2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D2B69-3A4F-476B-8103-C4652DDC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3D2EC-FC88-4DE2-881D-2F810648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9ABEC-C9C3-4582-B9B5-3EFFF10F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C509D-D81D-4C9C-BAEF-2F46510E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A2C6F-5D4E-4926-8375-B1A87EE3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0C594-5E50-42A1-A761-92ACBA26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F990F-0D1A-48E6-A841-7610A6CA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8D295-9EF6-49AA-B962-4C3E6A20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257A5-D131-4C4B-BB22-7D0D7638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537C-A715-4491-82E5-3E6DB32B695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55AF-72D4-4F39-B59D-1E34EAB440C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4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BE08-0523-4C97-BCA2-8E8A4BD5DFF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A74D-A7C5-4FCA-9B1B-E7F649946F5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773B-F25D-4BBA-8E25-973A8A15D64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224B-5E3D-4068-8F34-4F04F5D9F19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6B4A-C1DE-44F8-BF59-2E007FE484A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6336-364F-4C1D-9EA8-5A3AF0857433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013A-9678-4B3D-9FE6-53327FFB772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6F7A-A9A5-4200-B0C3-3A16626B404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CA78-4F43-4C2A-8B77-2DD5E6D98E9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2F02-855B-4D9F-B606-B02AD7598C8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38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135C-1236-4E08-B6ED-BD288AEE63C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1" name="Obrázek 1" descr=""/>
          <p:cNvPicPr/>
          <p:nvPr/>
        </p:nvPicPr>
        <p:blipFill>
          <a:blip r:embed="rId1"/>
          <a:stretch/>
        </p:blipFill>
        <p:spPr>
          <a:xfrm>
            <a:off x="205092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fety ru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 your card carefully and visib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eep your card at a safe p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keep your card together with your P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lend your card to any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ver say PIN to strang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fety ru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say any card data to strang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say the identification password for communication with your bank to any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sure that nobody is watching you to type the PI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fety ru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use your card when there is anything strange with the AT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eck the statements with card operations regular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yourself sure you have not lost your c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ankovní kar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definuje bankovní karty a jejich typy, způsoby použití bankovních karet a pravidla bezpečného používání karet a představí odbornou slovní zásob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ankovní karty, kreditní karta, debetní karta, bankomat, výběr peněz, PIN, výpis z bankovních kar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3" name="Obrázek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NK C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BANK CAR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45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plastic card issued by the bank to help you to get to your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08" name="Zástupný symbol pro obsah 2" descr=""/>
          <p:cNvPicPr/>
          <p:nvPr/>
        </p:nvPicPr>
        <p:blipFill>
          <a:blip r:embed="rId1"/>
          <a:stretch/>
        </p:blipFill>
        <p:spPr>
          <a:xfrm>
            <a:off x="5411880" y="33004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c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610" name="Organization Chart 15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611" name="_s1028"/>
            <p:cNvCxnSpPr>
              <a:stCxn id="612" idx="0"/>
              <a:endCxn id="613" idx="2"/>
            </p:cNvCxnSpPr>
            <p:nvPr/>
          </p:nvCxnSpPr>
          <p:spPr>
            <a:xfrm flipV="1" rot="16200000">
              <a:off x="5657760" y="287712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614" name="_s1029"/>
            <p:cNvCxnSpPr>
              <a:stCxn id="615" idx="0"/>
              <a:endCxn id="613" idx="2"/>
            </p:cNvCxnSpPr>
            <p:nvPr/>
          </p:nvCxnSpPr>
          <p:spPr>
            <a:xfrm flipV="1">
              <a:off x="4684320" y="3851280"/>
              <a:ext cx="3600" cy="74520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616" name="_s1030"/>
            <p:cNvCxnSpPr>
              <a:stCxn id="617" idx="0"/>
              <a:endCxn id="613" idx="2"/>
            </p:cNvCxnSpPr>
            <p:nvPr/>
          </p:nvCxnSpPr>
          <p:spPr>
            <a:xfrm flipH="1" flipV="1" rot="5400000">
              <a:off x="2964960" y="287748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613" name="_s1031"/>
            <p:cNvSpPr/>
            <p:nvPr/>
          </p:nvSpPr>
          <p:spPr>
            <a:xfrm>
              <a:off x="3530520" y="23623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Bank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_s1032"/>
            <p:cNvSpPr/>
            <p:nvPr/>
          </p:nvSpPr>
          <p:spPr>
            <a:xfrm>
              <a:off x="83808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ATM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_s1033"/>
            <p:cNvSpPr/>
            <p:nvPr/>
          </p:nvSpPr>
          <p:spPr>
            <a:xfrm>
              <a:off x="353052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redit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_s1034"/>
            <p:cNvSpPr/>
            <p:nvPr/>
          </p:nvSpPr>
          <p:spPr>
            <a:xfrm>
              <a:off x="622296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Debit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TM c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imarily for ATM us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nked to one or more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so called bank cards, client cards or cash c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not be used at merch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quire P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redit c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ssued with your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used at merch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 you to spend money on credit of your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bit c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used for paying at a merch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unds are withdrawn from your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designed exclusively for payments on the internet (no physical card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r withdrawing cash (like ATM card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SING YOUR C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ithdrawals from AT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ments in shops, restaurants, hotels, petrol station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net purchases – hotel accommodation, flight tickets, purchase of various goods via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3:48:01Z</dcterms:modified>
  <cp:revision>23</cp:revision>
  <dc:subject/>
  <dc:title>BUSINESS ENGLISH</dc:title>
</cp:coreProperties>
</file>