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129-A11D-4EAC-A4F6-3CAB1F6EFC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D5B7-8DAC-4C2C-AEEE-AEF4FBAF0AA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C36-87E6-43A4-9429-E2F6013320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2408-81BD-485B-9A03-C80381C53EE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F05-322D-41A6-B626-02F169F3F1F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B235-2D71-4E28-9764-D4674E3418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334-B41A-4FE4-9470-70E74AFF3FB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738-DC88-473B-99C8-B8EEAEE28C8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66D-7268-41BD-AD5A-5A9FF8E9E2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477-E23A-4ECF-93B5-A574171A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DD6-E68C-425C-B362-AE24358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63E61-53FB-4965-A4C8-6B3322D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9932-F2F2-4D61-ABBE-68ABB3E5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FF1B4-7609-432D-8EB2-4911987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D2128-3CF4-41FF-9B28-33FD65E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D837F-DBB4-435B-982D-33BBA82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71061-A6F8-42A1-9721-9805199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84BEF-5770-4280-854F-8220F4E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3F238-41B6-4E46-AF0E-6F9C1F7C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16F84-E9BE-4B30-AD71-AB5437FC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00C1C-0D2A-4131-AD10-6DE8C3D4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50F-C7B9-46B7-85C5-02D2CA8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C138F-AFF7-4723-AE23-97CE644C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28298-C694-4828-95E1-D16EAF5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2B5FB-C2BA-4A2A-82E8-2AAD393B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2181B-2F0C-48DC-A84B-8413006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A3C79-8534-4136-AD35-5756D9D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30913-91B9-439A-9F90-028AF5E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B832E-3497-4E27-B20F-0264B2F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1FACC-A176-47D3-A6C6-F579DFBB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FC417-8494-4C98-92FA-140FAE6C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49DAC-0CA8-4CC1-9C76-AC30C6B4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A0E-3E00-4592-BA31-AAA24982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6576E-8811-4E9A-AB30-B1E4D071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0CEC5-6084-4692-AA6E-D971B7D0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D6044-5987-4ACE-88CE-01A4D466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EB5E6-0C03-44B8-90AE-192C890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64264-A2E3-49F7-B2ED-F95B962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5C64B-5D46-4ED0-851C-94FE6148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A713-A4B4-4040-AED1-A3CCD70E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C140-F94A-48AC-9A0C-89AD3A4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7E0E-FC0D-4A19-9C96-BF9501BB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78E3-8FA8-4C8C-A78E-715C7FD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2ED-3EAC-4E62-864B-925648EC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1382C-6FE5-4954-B2A8-B4BA981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7D32D-6543-43B3-B912-316E1940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0779D-0540-4D61-844F-6DBEBE9D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2FC34-B66A-4304-93DF-446F2CB0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A7E16-E118-4B27-8043-330DEDF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49764-09D9-4210-8CB8-16541945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0A8B8-14FF-4F12-BDD0-AE745B2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71FD9-90CC-4B8E-B521-476EB4B2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588A4-EA4E-415A-BABF-FE3D586F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35A08-B251-4CE0-AB6D-599EB8C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E914-203A-4B41-876F-30229AD4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E666-B1C4-4EDA-B7F3-F2489CD3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F5A8B-DF22-44F2-B281-1022671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FE68-E7DD-481F-A4DB-FD958E0D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590A-0662-439A-B9A6-52655CBA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93BDC-8802-45A9-A3B2-5488F085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3543D-FA97-42A5-90D5-620287C8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F4FF1-77A9-4F26-A1D2-8ECFA70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D7846-BACC-4AF5-8F3B-5BEA8AE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7E924-C0B9-4560-B1AB-8FC992A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F240D-4FE2-4EC7-88B1-949E0F7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B54-432A-4009-B7DE-56EE4CDE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CA629-932B-4C14-865B-4D5B46BD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E3D3F-FC4E-4257-826B-D20D021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AEE61-50B7-4133-9E76-D0D98F4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3B43D-E573-40C5-BCE4-D5AC612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0ADB7-13FD-4DDE-8134-2BFA8263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DEC06-C6B6-4B39-8173-F10D08FC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B4E56-69B4-4783-AF9F-6C339C41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25B92-1414-402B-9FBD-0D23A271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42F41-1018-4223-A9C9-6DEC974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62A4A-5456-49C8-AC9F-701F553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26F-F6A3-444B-A814-8A14949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5DB5D-1539-4D03-8567-25B3369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A4E0A-7E85-44D7-B8EC-1965C031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74586-C42B-4460-A345-9D5DD6C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AA363-AB21-4D67-9401-13682C9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DD9FB-5BAE-4818-99F0-480BE65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05503-A696-40FB-9A6E-7C47D74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47F43-ADCA-47DA-8B96-B591E02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3A7CF-A4B2-4A4F-8CC8-1E90AC32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F11C7-36FC-426B-A9A9-75CE24F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DA8AF-EBA8-49D4-99D1-DCD6AC25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CE3F-AA2B-41D7-827B-7FC34ABE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19C29-FFDB-4C96-B669-B73E0F5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44D54-F6AC-4504-8D89-1CA8191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AFECC-FFA2-4C6F-820E-3E64432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F58F5-CD60-40DB-844C-E6665048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E3E97-556F-40F5-8B5C-DEEAFEBD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31D52-DA90-40C4-915A-6522547A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FB17E-E7E2-4DAA-86F7-D540BD5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72133-9646-4792-A555-9832D39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F5A2D-6912-4E0A-A525-C05F305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2DA35-8EA9-43E2-9636-656A3D1E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CAB2-9F15-4225-84CA-78DCCFF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95F2B-2506-4193-B47D-CD6981C5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8490A-C30F-43F0-9D7F-8841942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B9998-A4AA-4768-A5ED-F06E94B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84686-97C5-499B-85D2-D27ADE1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C2423-DF6B-4FBC-BED3-2E8BBE15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0FB09-AE6E-4994-8447-D2E208D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0F50A-02EA-4FD9-9B9C-FD4E4D0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BB514-B73A-424F-8207-144BCC4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7DF8E-E7CE-46C7-ACC0-4757045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4B028-858A-4B79-830C-5128ECC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AF3-A154-40D0-AB61-3F314A1C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AC8B8-0106-451B-B5E2-3AE0640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5187D-258D-4958-929F-A804F281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30C17-948F-4CB0-B5C6-17C2C9C4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6E9EF-A954-4E8D-879C-F5D2F722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98375-FFC5-46FD-BCE5-67A347F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D47AB-2F44-4B65-ACC8-13BE5262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0C4D5-FF60-4966-82E7-121A614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D1765-D2A6-4A31-9288-F82A515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0D11D-4AA8-4320-ACD9-4606CFAB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614EE-B177-4A9B-8925-3A36225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9D1-1876-4CC6-BA96-1F95DC2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565B-86AF-4773-8615-736D515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90465-014D-4DAA-A4B7-C8A97B4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8409F-D5AA-4533-823A-9851CB4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F8947-6901-4AC8-8AAA-FD00B3A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EF145-0F58-4066-8A16-D2C74984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306DE-653D-4220-AF4C-8E13C2C7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1A0-901F-44C0-9281-988060D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D08-6853-40ED-A215-C235C493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F7A-B342-4BFC-A850-15B90A47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A39D-F917-41E6-9CCF-D4EA8248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0BE2-B60A-4417-B3F3-F961A9DD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2CC7-5FD1-4EEF-B981-1121C40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44FF-A4CD-443F-BBA3-46420A6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B615-2BA6-4A10-9DAB-64D1CE8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4974-F9CF-4DE4-8D4D-B8E08475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4F0-7C67-4C45-9906-125D322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AD1F-872F-4666-AC04-5606995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4754-883B-48F3-928B-CD0EB6A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9CD6-C5C9-4EA6-9E85-EC2ED150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A4B7-9AC1-4DA1-8B38-ECD3B5F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241F-44C1-4030-914C-5A5155F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D849-C0DE-48AE-B02B-B945AD40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86F1-815C-47D9-BF61-5778631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86F9-D5F2-4C3C-9D46-5E1FF6B6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0C70-20AA-4D89-89B7-D17C33CA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5864-164E-4526-9CC5-0947E5B8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E34-7207-454F-85DC-8A1461F5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8762-87E3-452B-BEAF-F8BA51E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765A-B4D3-47DF-97D0-41BC1D5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F0FB-3E81-4E6C-8D11-53516B2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5C83-C763-43CB-9C04-14723924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6C87-4747-453C-BF54-240CBEA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8733-9684-425C-886E-9E2E309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24C6-DEDF-437E-B863-DADA728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044A-FD70-4A67-84A8-F0716672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A7E5-C0AB-4D8C-9AB7-943FC52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E06F-F727-4BB1-A8FD-60D098C5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229-6D35-4764-9401-018E3F77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5947-C261-4D33-8622-34BF1560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E590-9693-4122-BF3C-6371CB9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3334-0953-4BC7-BAE8-75397D4E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034D-4503-4D4D-B5AF-AF32A904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BD6FC-8604-4BA0-AB5A-B8C54B3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41E7-5B8C-41B8-AC06-612A8A0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932E-AEB9-4DCA-A4F8-2F14DAA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269F-864A-4B94-9E51-E3887D2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AEA0-2D18-4B38-B4D7-B40B3016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FDDC-063E-402A-9786-EC007845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FED-4D8D-4E31-AAA9-D24439D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B129-D048-4C9C-90F1-81A41697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304E4-D688-4FDF-8037-42AFFD2C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681A-C9F2-4349-902F-D851BAAD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79B0-4465-4924-9D77-CA9F1E8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57E5C-EB06-4A44-BDCC-ECB5817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59E2-EB75-406D-8116-0BF64BED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488AD-AD72-4C72-BB1B-854BC058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EB73-05C0-4FA3-938C-8946D86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81F1-0525-4683-A0F9-F24ACF6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F708-7CB0-4266-B246-FADC704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E48-D18F-47A3-B605-2675FF4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8359-B356-4F18-8119-A1461D1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4A35E-1F08-4DA0-B74D-B1C3FB31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BD13-2121-4EB2-B42C-3CAFA9ED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53B4F-8168-4C0C-A8BC-94FC4CD7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F021-215F-4FE7-A823-77396C7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B708-1B02-4897-AA7F-BDBB418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69CD-96C7-4451-B120-DCC71BCF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B9ED-B19A-49E3-9CE3-FAD23D98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A60F-16FF-4152-9694-FBA64FD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D386-162C-4D93-B739-629B8EE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A87-8366-496A-9960-9C22348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8448-D61B-49ED-BC79-0847EA2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D7B7-146C-4E42-8A09-BAF73DF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A795-8152-4D0D-8104-7A4B7543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D1DC-C4A6-4D11-B15B-444C2C86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3A930-620C-4E4F-9548-305E4F05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59160-3B84-48BA-8F6F-6A0CE0B0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B093B-04D7-45D1-B2AD-60ECCE6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7AEF-328E-40B8-9E58-09B61312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C8CB7-BA50-4159-9556-02E7A4B8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CAE5-CC56-4DF0-9B34-25B6C4E4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330-6B94-4709-A222-88AA2AE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7CF4-1EA4-4420-88FE-9C7058E4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A5E2-4F94-4936-9D93-23875B08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56DE2-C4DE-4C8B-8932-8D2F1C0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FDAD-2E50-47BA-B61E-F10C6B6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6EA9-6251-431D-8CFC-12F29771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E0DA8-A269-46E3-A315-37A322DB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628B-6AC7-450A-BC51-1F168C47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78183-DA05-4793-9AFC-62BB06F3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6D051-BC37-43E6-9DD2-FEB9C6E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9670-5B6D-4190-BBD0-5FBF9DD5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CDA-BEB3-4A6B-AAD9-76124B9B3C5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2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77E-F4F9-445A-9661-6C182EAC05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7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D05-15A5-4764-8FB9-55970E1575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2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8AF-503A-4BE5-9B14-5B96ADF65F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878A-D088-42E0-98AE-A9FDC325E67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0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8C0E-4CE0-4AA6-A9C0-9F04B1517D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D5E-3982-41E5-9B61-6AA3DC681B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9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D6C3-2B83-4F49-B8DA-9D836D52DB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0294-EED8-4F58-88B8-81115C49043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C58-F715-4304-BB4B-F6FFC88A199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FD0-21F1-4E6E-A314-295540A2C5C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8ED-3E24-4284-9A38-AF769DEBC8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3D9A-F9E3-4A3B-B2F5-9C90537AD29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A87-9FA3-4149-9B2C-6F394542CA2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8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4F5-977D-43C3-B2F1-6AF5AF8875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8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1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4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59B-A0D8-4E49-9083-C30094E2B87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7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00F8-3604-4BCA-A9A9-77122BA5F1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7 – 2008   Kalamity bank (tell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5 – 2007   Vodárna Troubky (accounta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2005   Mrazírny Eskimo, Orlová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personal assistan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gu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 (advanc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rman (upper intermedi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panese  (beginn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: English (actively), Hungarian (passive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kil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uter skills: MS Windows, MS Office, HTML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iving licence – group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writing, PC writing, shortwriting,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bies: sport, dancing, knitting, embroid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s: languages, econo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commendation: atta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VERING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y are you writ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did you see the adver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position would you like to apply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ing a personal me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os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ttachements (enclosu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složení profesního životopisu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, osobní informace, profesní informace, průvodní d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4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CURRICULUM VITA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and sur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and e-mail co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 and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rtificates and ex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ame and surnam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ny Wal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ate of birth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bruary 30, 19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dres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 lesa 123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IP cod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33 0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wn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rviná – Dolyw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ountry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ital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alth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ry g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lephone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+420 732 733 7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-mail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zonywolkr@email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ucation and cour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1999  Univerzita of Franta Vopička, Postoloprty, Economical faculty, branch Marketing and rac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9 – 1994  Obchodní akademie Karviná, branch Business academ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4 – 1982  Basic school ABC, Karvin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rtificates and exa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type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short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certifica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4:44Z</dcterms:created>
  <dc:creator>Ing. David Holzbauer</dc:creator>
  <dc:description/>
  <dc:language>en-US</dc:language>
  <cp:lastModifiedBy>Igor</cp:lastModifiedBy>
  <dcterms:modified xsi:type="dcterms:W3CDTF">2014-09-13T14:10:12Z</dcterms:modified>
  <cp:revision>10</cp:revision>
  <dc:subject/>
  <dc:title>CURRICULUM VITAE</dc:title>
</cp:coreProperties>
</file>