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96D-6567-4B10-BCBE-AB4CB338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17F-4D46-4B12-B5FA-E4588D2F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21C-D6FE-438E-8C76-A127291F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45A-B6BC-45BB-9631-E167628C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C74-B6C4-4CDA-AF4F-CF14A40F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68E-9B02-43C4-9FB9-BE006DAE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124-4B4B-4075-9B10-6B319EB3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54A-E4BD-4187-8C79-A178E699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9FD-E8B2-4892-8FE7-F34ADCFC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0CF-3A4E-4BFB-B314-EA009A1B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4AF-DF10-43BC-83B2-C0D4DD0D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A7E-EEB4-4AE0-9C3F-E05C3A5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0795-0646-4CF9-AF2B-84397477C0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129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e systémem odměňování, s faktory ovlivňujícími výši mezd, s formami mezd, příplatky ke mzdám a navazujícím složkám me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ěňování,nabídka a poptávka po práci, mzdové tarify, formy mezd, navazující složky mzdy, pří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měň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Jaké znáte formy odměňov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lavní form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měňování pracovníků = pení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 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alší form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aměstnanecké výhody, pracovní prostředí, morální ohodnocení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odměňování by měl být takový, aby motivoval pracovníky k lepší práci a zároveň aby byl pracovníky považován za spravedliv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Faktory ovlivňující výši odměny za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Jaké faktory podle vás ovlivňují nejvíce výši odměny za prá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olik by měl pracovník dostat za svou práci ve vztahu k ostatním pracovníkům fir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áce je posuzována z hlediska zkušeností, iniciativy, kvalifikace, znalostí, stupně zodpovědnosti a rozsahu kompet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cílem je stanovit takový systém odměňování, který zajišťuje správnou diferenciaci jednotlivých prací pomocí vyjmenovaných hledis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a peněžní odměny často odpovídá hierarchii funkcí v podniku, existují ale i výjimky – např. pracovníci v odbytu, kteří pracují za proviz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iferenciace mez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– aby firma získala a udržela si zaměstnance, musí jejich mzdy konkurovat mzdám v jiných firmá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laty a mzdy jsou určovány nabídkou a poptávkou po prá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nabídku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vl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enské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dalšího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dalš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ulace vlád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poptávku po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mezi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ní reg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ferenciace odmě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ými způsoby se na trhu práce řeší nesoulad mezi nabídkou  a poptávk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mzdy a platy mohou způsobit přesun pracovníků z míst, kde jsou mzdy a platy nižší do míst, kde jsou vyšší. Existují ale překážky v těchto  přesunech, např. dobré vztahy na pracovišti, atraktivní pracovní podmínky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měna za práci – může být stanovena ja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íční pl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mzdy je zpravidla odstupňováno do tříd (kvalifikačních stupňů) práce, od nichž se pak odvoz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zdové tarif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= peněžní vyjádření příslušné kvalifikační třídy za určitou časovou jednotku vynaložené prá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omě mzdových tarifů exist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amostatné navazující složky mzd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ve kterých se zohledňuje výkonnost pracovníků odměny, výkonnostní příplatky, prémie, účasti na výsledku hospodaření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kladní formy odmě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úkolová – závisí na odvedeném výk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časová – závisí na odpracovaném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plat – např. u státních zaměstnan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avazující složky mez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émie, odměny, výkonnostní složky mezd, podíly na výsledku hospodařen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platky ke mzdovým tarif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nění za ztížené pracovní podmínky, práci v noci, ve dnech pracovního klidu,… Jsou sjednány v kolektivní smlouvě nebo jsou dány zákon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Co je to kolektivní smlou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lektivní smlou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jednávají se zde základní podmínky odměňování práce, další podmínky práce a poskytování sociálních výhod zaměstnancům. Vychází se při tom z výsledků tzv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ipartitního jedn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ástupci zaměstnavatelů, odborů a stá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4:44Z</dcterms:created>
  <dc:creator>Guest</dc:creator>
  <dc:description/>
  <dc:language>en-US</dc:language>
  <cp:lastModifiedBy>Igor</cp:lastModifiedBy>
  <dcterms:modified xsi:type="dcterms:W3CDTF">2014-09-13T15:04:58Z</dcterms:modified>
  <cp:revision>10</cp:revision>
  <dc:subject/>
  <dc:title>Snímek 1</dc:title>
</cp:coreProperties>
</file>