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32F-7B3F-48B6-ACF4-36563B78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CD4-7682-460C-AD8B-752F5B16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70A3-3658-4581-92A2-7FA67C67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CCA-0909-4C2A-9E3C-E69B5B7C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A718-DA62-4CFB-8FAE-65D20CE2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9699-27FF-4075-9717-56F4AA6C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69E4-E936-455B-BB37-CD25EE14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DEF9-3BEF-42ED-B2F8-5D32A4C7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E0FF-6F77-4A51-B9A0-95F16793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EC8A-17D2-4B7B-9BC0-F289BC72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7B38-B005-4923-BA26-7D167C34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C776-76C1-432C-AA48-1CCB0358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9231-DF58-4186-8324-32436827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92BF-71DA-41DA-B28B-4860DF2F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8140-FBCF-4647-8BB3-138DE39B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9C66-3785-4137-BA46-0519AECD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DF38-E6FE-48B7-B230-FA44140B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2BF7-3245-4D08-AEDE-6B207837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547-0ED2-4EB4-B3AC-84BAA081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8277-562F-48EA-930C-AFBD1A3D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BD3E-F1AF-4EEF-8CC7-614BCFD7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A517-183C-486E-B711-6BE7F166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BB3C-2A73-429A-A043-B6BED5C6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305-AA3F-47B4-A0DD-88AD3282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DF31-5526-41FE-BDEA-7C1A189E4636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975E-778E-4A49-8EDD-068CD43F2313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2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10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ahoma"/>
              </a:rPr>
              <a:t>Znáte nějaké situace, kdy zaměstnavatel nemůže dát zaměstnanci výpově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městnavatel nemůže dát výpověď zaměstnanci, poku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 pracovně neschopný na nemocensk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 povolaný k výkonu vojenské služ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 uvolněný pro výkon veřejné služ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městnankyně je těhotná nebo pečuje alespoň o jedno dítě do 3 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YSKA, R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rávo pro střední školy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kladatelství Fortuna 2010. ISBN 978-80-7373-010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58737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9" name=""/>
          <p:cNvGraphicFramePr/>
          <p:nvPr/>
        </p:nvGraphicFramePr>
        <p:xfrm>
          <a:off x="468360" y="1341360"/>
          <a:ext cx="7704000" cy="5523120"/>
        </p:xfrm>
        <a:graphic>
          <a:graphicData uri="http://schemas.openxmlformats.org/drawingml/2006/table">
            <a:tbl>
              <a:tblPr/>
              <a:tblGrid>
                <a:gridCol w="3852720"/>
                <a:gridCol w="385128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dnikání a podnikové čin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sonální čin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konom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 k seznámení studentů se způsoby uzavření pracovního poměru, s jeho změnami a záni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acovní poměr, zkušební doba, povinnosti zaměstnavatele a zaměstnance, převedení, přeložení, výpověď, okamžité zrušení, dohoda, zrušení ve zkušební době, uplynutí dob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cc"/>
                </a:solidFill>
                <a:latin typeface="Tahoma"/>
              </a:rPr>
              <a:t>Pracovní pomě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Zákoník prá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351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Vznik PP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acovní smlouvou – nejčastější způso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olbou – např. poslan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menováním – vedoucí pracovníci jsou jmenováni podle zvláštních předpis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Pracovní smlouva musí mít písemnou formu a musí obsahova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ruh prá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ísto výkonu prá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en nástupu do prá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915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ahoma"/>
              </a:rPr>
              <a:t>Jaké další informace by podle vás měla pracovní smlouva obsahova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Další informace uvedené v pracovní smlouvě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méno zaměstnance a název a sídlo zaměstnavatele (PO), nebo jméno a adresu zaměstnavatele (FO),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ližší označení druhu a místa výkonu prác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rok na délku dovolené na zotavenou, popřípadě uvedení  způsobu určování nároku na dovolenou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údaj o výpovědních dobách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údaj o mzdě a způsobu odměňování, splatnosti mzdy, termínu výplaty mzdy, místu a způsobu vyplácení mzdy, stanovení týdenní pracovní doby a rozvržení pracovní dob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racovní smlouva může být uzavřen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 dobu určit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 dobu neurčit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Zkušební do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usí být ve smlouvě sjednána – pokud není, nepla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aximální délka zkušební doby je tři měsíce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lze ji sjednat v případě pracovního poměru na dobu určit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91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Tahoma"/>
              </a:rPr>
              <a:t>Jaké povinnosti vyplývající z pracovního poměru má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Tahoma"/>
              </a:rPr>
              <a:t>zaměstnavat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Tahoma"/>
              </a:rPr>
              <a:t>zaměstnanec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 u="sng">
                <a:solidFill>
                  <a:srgbClr val="ffffff"/>
                </a:solidFill>
                <a:uFillTx/>
                <a:latin typeface="Tahoma"/>
              </a:rPr>
              <a:t>Povinnosti vyplývající z pracovního poměru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ff"/>
                </a:solidFill>
                <a:latin typeface="Tahoma"/>
              </a:rPr>
              <a:t>Zaměstnavatel má povinnost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Vytvářet pracovní podmínk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Platit mzdu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Dodržovat právní předpisy, popř. kolektivní smlouvu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ff"/>
                </a:solidFill>
                <a:latin typeface="Tahoma"/>
              </a:rPr>
              <a:t>Zaměstnanec má povinnost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Vykonávat práci osobně podle smlouvy, ve stanovené době na stanoveném místě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Dodržovat pracovní kázeň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Změna P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vedení – Zákoník práce uvádí podmínky, za kterých musí být zaměstnanec převeden a podmínky, za kterých může být převeden, není nutný souhlas zaměst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ložení – může se uskutečnit pouze se souhlasem zaměst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394920" y="0"/>
            <a:ext cx="8435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Zánik PP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ahoma"/>
              </a:rPr>
              <a:t>Jakými způsoby může pracovní poměr zaniknou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pověď – jednostranná, musí mít písemnou formu a musí být doručena druhé straně, začíná běžet první den kalendářního měsíce následujícího po doručení výpověd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kamžité zrušení – pouze ze zákonem stanovených důvodů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okud zaměstnanec porušil pracovní kázeň zvlášť hrubým způsobem, nebo pokud byl odsouzen za úmyslný trestný čin nepodmíněně na dobu delší než 1 ro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okud podle posudku lékaře nemůže zaměstnanec vykonávat práci a zaměstnavatel ho nepřevedl do 15 dnů na jinou práci nebo pokud zaměstnavatel nevyplatil mzdu do 15 dnů od její splatnost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Dohoda – musí mít písemnou formu a zaměstnanec i zaměstnavatel musí souhlas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rušení ve zkušební době – písemná forma, musí být doručeno druhé straně, může dát zaměstnanec i zaměstnavatel bez udání důvod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Uplynutím doby – u pracovního poměru na dobu určit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mrt pracovníka, zánik podnik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07:35:20Z</dcterms:created>
  <dc:creator>Guest</dc:creator>
  <dc:description/>
  <dc:language>en-US</dc:language>
  <cp:lastModifiedBy>Igor</cp:lastModifiedBy>
  <dcterms:modified xsi:type="dcterms:W3CDTF">2014-09-13T15:24:32Z</dcterms:modified>
  <cp:revision>12</cp:revision>
  <dc:subject/>
  <dc:title>Snímek 1</dc:title>
</cp:coreProperties>
</file>