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1E1-0F78-4614-95F2-50ED8DE6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60A-7E51-468C-B0B2-E5A7AADF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FB1-4530-4856-BC66-F1B3B5C9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677-376A-4190-AE82-4834656C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D865-06BB-4198-A9D6-919D7D6D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87A6-26C0-48F3-B36F-4A517636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23A6-19DC-4F5C-8833-7D24D28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3F8-724F-403D-A0D0-1520E30D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2A97-FC30-4B3E-A6BB-4651A0A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B06E-86BC-451F-922F-948FDB0F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8CC3-A523-43A1-A5D3-C3F360D2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9A1-036B-46BB-8CC9-4B0FCECE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E119-7581-43B7-8B8B-45D7A23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FA77-3975-4813-A7BC-45BFA79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5888-36C2-40E9-917F-12134230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25D-60AC-4E67-8909-DD20E0A7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0F9C-5C2F-4971-8043-239C4812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6EE-908C-480D-B074-D5358D67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7DE-5040-46F2-BFAB-D108CFBA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044-BC19-4EAF-B0E6-2A8805C0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DDA-9553-4943-9922-5B2F19D7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100-2776-4AFB-AFA3-B757F4D3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2CA-C94E-4583-8924-BF83CBC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3BE-0016-487C-A7C8-16FACC7C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4360-475D-4F02-8665-3CA3828168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9C67-928B-49CF-9257-D1DE7E3AC4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9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ak se připravit na poho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jistěte si co nejvíce informací o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usíte se připravit na setkání s personalistou, proto si zjistěte co nejvíce informací o tom, co byste měli ve firmě dělat, jaký je hlavní obor činnosti firmy, ale i to, jaká je její konkurence a firemní kultura. Přehled o situaci potvrdí vaši motivaci a záj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ezměte si s sebou potřebné dokum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ktuální životopis, ukázky prací, ale i kontakty na případné reference od bývalého zaměstnavatele jsou nezbytné minimum, které byste při pohovoru měli mít s sebo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ipravte se na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myslete si, jaké jsou vaše pracovní priority a jaký očekáváte plat. Pokud nevíte, o kolik si máte říct, využijte internet – najděte si srovnání plat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míte odpovědět, proč odcházíte ze stávajícího zaměstnání nebo proč zrovna vy jste nejvhodnější kandidát na pozici, o niž se uchází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rsonalista se vás také může ptát na tzv. diskriminační otázky (např. rodinné zázemí, dě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uďte aktivní a sami se zajímej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tejte se na chod společnosti a detaily týkající se vaší pozice. Zajímejte se také o to, kdo bude váš nadřízený a s kým budete spolupracovat v rámci firmy i mimo ní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 kolik si říct na pohovor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.   Zmapujte si, jaké jsou vaše životní nákl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očítejte si, kolik si musíte minimálně vydělat, abyste pokryli své náklady a životní minimum. To je základ pro další určení požadované mzd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.   Jakou výplatu jste v minulém zaměstnání dostáv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emusí vždy vypovídat o tom, kolik si vyděláte ve svém příštím zaměstnání. V jiném regionu a jiné firmě si můžete vydělat třeba i více. 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.   Zmapujte si situaci na trhu práce ve svém oboru a v regionu kde chcete pracovat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olik je nabídek práce a tedy jaká je aktuální poptávka firem zjistíte na internetu, např. na stránkách Prace.cz. I od toho se může odvíjet výše plat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.   Platy ve svém oboru a lokalitě si můžete zjistit na internetu, na stránkách Prace. cz v sekci Porovnání platů.</a:t>
            </a: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ww.prace.c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68360" y="1495440"/>
          <a:ext cx="8229600" cy="513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 k seznámení studentů s personálním řízením, cíli a organizací personální práce, s náborem pracov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dské zdroje, personální řízení, cíl personální práce, organizace personální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ersonalistik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nik potřebuje k zajištění své činnosti výrobní faktory – půdu, kapitál 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rác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aké charakteristiky práce budou pro firmu nejdůležitějš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Lidské zdroj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souhrn pracovníků, jejich kvalifikační a věková struktura, úroveň pracovní ochoty (motivace, kreativita, flexibilita a adaptabilit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ersonální řízení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řízení lidských zdrojů s vnějšími vazbami na trh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Cíl personální prá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dostatečně výkonného person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sociálních cílů zaměstnanců (spokojenost zaměstnanců s prací, s výší odměny, s možností profesionálního rozvoje,… To vede ke spokojenosti pracovníků a k jejich loajalitě k podnik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yto cíle jsou protikladné – vysoké mzdy uspokojí zaměstnance, ale vedou ke zvýšení nákladů firmy a tím ke snížení její konkurenceschopnosti. Naopak snížení mzdových nákladů vede ke snížení spokojenosti zaměstnanců a k poklesu jejich výko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ahoma"/>
              </a:rPr>
              <a:t>Je proto třeba vytvořit vyváženost mezi oběma cí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Organizace personální prá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lánování pracovník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lánování potřeby pracovníků, jejich počtu, profesní a kvalifikační struktury a jejich rozmístě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získávání a výběr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určení metod a způsobů získávání pracovníků z vnitřních i vnějších zdrojů podni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rozmisť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ařazování do pracovních funkcí, přesuny pracovníků uvnitř podniku, povyšování, ukončování pracovního poměru, penzion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předpokladů pracovníků k výkonu činností a plánování osobního rozvoje pracovníků, hodnocení pracovního výkonu a chování pro potřeby systému 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áce a popis pracovních mís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nároků jednotlivých pracovních míst a funkcí pro podnikové katalogy prací a tarifní systé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vorba nástrojů pracovní motivace a podnikových mzdových systémů a systému účasti na hospodářském výsled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odnikové systémy vzdělávání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identifikace potřeb vzdělávání, plánování, příprava, organizace a vyhodnocování účinnosti vzdělávání, programy rekvalifik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kolektivní vyjednávání a pracovněprávní agendy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jednání zaměstnavatelů a odborů o uzavření kolektivní smlouvy, příprava jednání, dohled nad dodržováním pracovněprávních předpisů a závazků, spolupráce s úřady prá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sociální péče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organizace sociálních služeb pro zaměstnance, bezpečnost a ochrana zdraví pří práci, zdravotní péče, kontrola pracovních podmínek, organizace aktivit volného čas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ersonální informační systém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 potřeby podniku i mimopodnikových orgán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Nábor pracovník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očívá v poznávání a získávání nových nebo stávajících pracovníků pro běžná a budoucí pracovní mí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Nábor se provádí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střednictvím osobních kontaktů, inzercí, návštěvami škol, učilišť a univerzit pracovníky osobního oddělení, z Úřadu prác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ces výběr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hodnocení zaslaných životopis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ní pohovor, talentové zkoušky, inteligenční testy, testy osobnosti, reference od dřívějších zaměstnavatelů, škol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chazeč o zaměstnání by měl přijít na pohovor připraven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Jak byste se co nejlépe připravili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Kde byste získali informace pro vaši přípravu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5:44:27Z</dcterms:created>
  <dc:creator>klapuchova</dc:creator>
  <dc:description/>
  <dc:language>en-US</dc:language>
  <cp:lastModifiedBy>Igor</cp:lastModifiedBy>
  <dcterms:modified xsi:type="dcterms:W3CDTF">2014-09-13T15:06:05Z</dcterms:modified>
  <cp:revision>12</cp:revision>
  <dc:subject/>
  <dc:title>Personalistika</dc:title>
</cp:coreProperties>
</file>