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62E7-425F-4FDD-A3DF-B48706C4B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A4BB-14EE-4A96-BE9A-F1885F96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82C6-004A-4233-9DF2-CDD3FD107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B183-32BE-4727-B4C4-E819EB57C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A2D8B-6058-400F-8263-496C48FF2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256F0-CC13-42E5-A616-7FD3BDED2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D7174-E3A1-4CA3-97FB-6FAB69D62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73E0F-FB97-4BCD-B6B8-3FE9E2122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F46B5-73D8-444E-BC2D-16F27EEE4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8110E-C05C-4F24-ACE9-B2FD6170D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BDAE7-B08E-4E50-B56A-1E7BDED0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9321-CB58-468F-9DDE-766DE08E3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B4397-53A1-4971-AEE1-74B6DFF5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1FCA7-DFF3-4F40-B258-0972EB2F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466F7-3AF3-418E-91A3-96FE6C757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06162-5164-4E99-821B-A97DA451B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CFD4D-A228-4E6D-AD9F-4157E5AE3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6D28-2B88-4F22-88A0-1529A0B72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C478-E4CB-421B-956D-CE7A5864B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8EC8-70D9-4113-8E09-A388FBFF4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A3EF-90F7-49F6-91EB-3B0F27D17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6E2C-B999-4ABD-8B38-57735958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380E-0C40-495A-B24F-E0E3DD3D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FF07-6FAC-417A-A5E0-F621E53D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8486a">
                    <a:alpha val="0"/>
                  </a:srgbClr>
                </a:gs>
                <a:gs pos="100000">
                  <a:srgbClr val="3b3b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5e7c"/>
                </a:gs>
                <a:gs pos="100000">
                  <a:srgbClr val="4848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5e5e7c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8486a">
                    <a:alpha val="0"/>
                  </a:srgbClr>
                </a:gs>
                <a:gs pos="100000">
                  <a:srgbClr val="3b3b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5e7c"/>
                </a:gs>
                <a:gs pos="100000">
                  <a:srgbClr val="48486a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D494D-5B66-4BAF-B0C1-0946FFE5CE35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48486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8486a">
                    <a:alpha val="0"/>
                  </a:srgbClr>
                </a:gs>
                <a:gs pos="100000">
                  <a:srgbClr val="3b3b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8486a">
                    <a:alpha val="0"/>
                  </a:srgbClr>
                </a:gs>
                <a:gs pos="100000">
                  <a:srgbClr val="3b3b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5e7c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5e7c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7D35E-D9EA-4B23-9A56-5AF838B91FC7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iq-tester.cz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Y_32_INOVACE_22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 9. 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7720" y="549000"/>
            <a:ext cx="80074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Inová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Klady: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je tvůrčí, má mnoho nápadů, umí řešit náročné úkoly, je flexibilní a dovede vymyslet řešení odlišné od konvenčních zvyklostí a tím posunout problém výrazně dopředu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Zápory: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nezabývá se méně podstatnými věcmi, je plně zaujat vymýšlením vlastních nápadů a když je čas na realizaci věci, stále předkládá nové nápady. Nekomunikuje s ostatními příliš efektivně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Vyhledávač zdroj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Klady: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je plný energie a zapálený pro věc, hledá nové kontakty, objevuje další možnosti uplatnění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Zápory: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počáteční nadšení z něj může rychle vyprchat, někdy je nebezpečně optimistický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26560" y="188640"/>
            <a:ext cx="800748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Realizá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Klady: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spolehlivost, disciplína, dokáže měnit myšlenky na skutky, z abstraktních návrhů dělá konkrétní produkt, uvažuje prakticky a racionálně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Zápory: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není flexibilní, těžko reaguje na změnu podmínek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Analytik, vyhodnocovač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Klady: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dovede volit optimální strategii, hodnotí všechny možnosti, jeho úvahy jsou přesné, od ostatních požaduje kvalitní práci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Zápory: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nedovede motivovat ostatní členy týmu, může být příliš kritický až destruktivní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Týmový pracovní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Klady: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je sociálně zdatný, dokáže mírnit a hasit konflikty, stará se o ostatní v týmu, vytváří příjemnou atmosféru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Zápory: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není schopen dělat důležitá a náročná rozhodnutí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7720" y="260280"/>
            <a:ext cx="80074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Arial"/>
              </a:rPr>
              <a:t>Dotahovač</a:t>
            </a:r>
            <a:r>
              <a:rPr b="0" i="1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Klady: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hlídá si termíny a limity, posouvá problém do konce, když už ostatní přestávají pracovat, je spolehlivý, pečlivý a svědomitý. Dbá na to, aby dílo bylo bez chyb a hotové podle zadání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Zápory: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často má zbytečné obavy, neumí spolupracovat s druhými /zejména protože, by mu narušili pořádek v jeho práci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Arial"/>
              </a:rPr>
              <a:t>Expe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Klady: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je loajální a má rád svůj obor, jeho znalosti jsou velmi cenné, odhodlaně pracuj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Zápory: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zabývá se pouze úzkou oblastí, ve které se vyzná, sleduje to co jej osobně zajímá, nedokáže skupině dát dynamiku a energii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7720" y="259920"/>
            <a:ext cx="800748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Arial"/>
              </a:rPr>
              <a:t>Koordiná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Klady: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sebevědomí, pomáhá lidem v týmu, aby spolupracovali, dává je dohromady. Ujasňuje cíle, dodává energii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Zápory: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jeho přínos je především mezilidský, profesně si práci zjednodušuje, může manipulovat druhými lidmi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Arial"/>
              </a:rPr>
              <a:t>Usměrňova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Klady: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je to velmi energický člen týmu, který tvoří hnací motor. Je odvážný a odhodlaný řešit i náročné úkoly a nečekané obtíž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Zápory: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provokuje a někdy uráží ostatní, nepřispívá k dobrému klimatu ve skupině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7720" y="333000"/>
            <a:ext cx="800748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Úko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a </a:t>
            </a:r>
            <a:r>
              <a:rPr b="0" lang="cs-CZ" sz="3200" spc="-1" strike="noStrike" u="sng">
                <a:solidFill>
                  <a:srgbClr val="3dccff"/>
                </a:solidFill>
                <a:uFillTx/>
                <a:latin typeface="Arial"/>
                <a:hlinkClick r:id="rId1"/>
              </a:rPr>
              <a:t>www.iq-tester.cz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si můžete zkusit testy on-line: test vrozené inteligence, test numerické inteligence, testy osobnosti a pracovní psychotes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droj: www.iq-tester.c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765440" y="244440"/>
            <a:ext cx="5769000" cy="143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468360" y="1725480"/>
          <a:ext cx="8229600" cy="51357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dnikání a podnikové činnost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sonální činnost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konomik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i se seznamují s různými druhy testů, se kterými se mohou setkat u přijímacích pohovorů do zaměstnán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Q testy, psychotest týmových rolí, pracovní psychotest, testy osobnost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128600" y="2936520"/>
            <a:ext cx="7715520" cy="140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Testy u přijímacích pohovor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8f8f8"/>
                </a:solidFill>
                <a:latin typeface="Arial Black"/>
              </a:rPr>
              <a:t>IQ testy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55280" y="1125000"/>
            <a:ext cx="8007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ffffff"/>
                </a:solidFill>
                <a:uFillTx/>
                <a:latin typeface="Arial"/>
              </a:rPr>
              <a:t>Složky intelig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Inteligence je schopnost řešit úkoly, která se dělí na jednotlivé složky –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matematická inteligenc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prostorová orientac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2D orientac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verbální inteligenc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motorická inteligenc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paměť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. Správný IQ test by měl testovat a měřit všechny tyto složky intelige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Inteligence je vrozená schopnos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, tzn., že nelze ovlivnit její výši, ale můžeme ji pomocí modelových situací nebo zkušeností dále rozvíje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Jedinci obvykle nevynikají pouze v jediné oblasti inteligence, ale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dosahují lepších výsledků hned ve více oblastech inteligenc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. Nicméně je inteligence často zaměřená na určitou oblast, ve které vyniká více než v jiné. Překladatelé a básníci budou vynikat ve verbální inteligenci, architekti zas v oblasti prostorové představivosti. Každý jedinec má při vyplňování testu pocit, že na některé otázky se mu odpovídá snadněji než na jin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7720" y="333360"/>
            <a:ext cx="80074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atematická intelig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atematická inteligence se projevuje například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schopnostmi logického myšlen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a logických analýz situací a problémů nebo správného používání matematických operací. Úkoly v IQ testech mají často podobu číselné řady, kde některá čísla chybí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atematickou inteligenci mohou měřit i úkoly s doplňováním písmen, pokud mají matematický princip. </a:t>
            </a:r>
            <a:br>
              <a:rPr sz="2400"/>
            </a:b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Např: 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doplňte následující písmeno: O Q S T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rostorová intelig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Prostorová inteligence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vyjadřuje, jak člověk vnímá svět kolem sebe. Tuto schopnost mívají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ysoce rozvinutou například architekti, nebo sochaři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. Úlohy na tento typ inteligence zahrnují otáčení tří-rozměrných objektů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izuální „2D“ intelig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U vizuální inteligence jde o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rozpoznání optických rozdílů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a podobností na předmětec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99640" y="188640"/>
            <a:ext cx="8007480" cy="64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erbální intelig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erbální inteligence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e projevuje jazykovým citem k mateřskému i cizímu jazyku, používáním vhodných slov, chápáním významu slov a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uměním rozlišit rozdíly ve významech slov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. Často tímto druhem inteligence oplývají překladatelé, právníci či básníci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Konkrétní příklady na zjištění tohoto druhu inteligence mají podobu například vyřazování slov, která nepatří mezi ostatní nebo doplnění částí slov, aby výsledná slova dávala smys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otorická intelig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ezi složky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motorické inteligence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ůžeme například zařadit koordinaci pohybů, potřebu být v pohybu nebo schopnost práce a manipulace s různými předměty. Někdy se též nazývá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inteligence praktická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amě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Testování paměti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jakožto další složka inteligence se testuje spíše výjimečně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38512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8f8f8"/>
                </a:solidFill>
                <a:latin typeface="Arial Black"/>
              </a:rPr>
              <a:t>Testy osobnosti 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560" y="980640"/>
            <a:ext cx="800748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Zpravidla se jedná o sadu otázek na níž klient odpovídá volně nebo volí z nabízených možností. Některé takové testy jsou také dostupné on-line, i když obvykle s nimi ještě zachází psychologové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Co měří testy osobnos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Testy osobnosti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měří především temperament. Ten představuje soubor relativně stálých a vrozených vlastností. Jeho změna je možná jen do velmi omezené míry. Typicky temperamentovými komponenty jsou například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extrovert – introvert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nebo všeobecně známá typologie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flegmatik-cholerik-sangvinik-melancholik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. Člověk, který často vybuchuje a je prudší povahy, ale rychle se uklidní takový bude v podstatě celý život, stejně jako se flegmatický kliďas pravděpodobně nezačne v pozdějším věku více stresovat.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Testy osobnosti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umožňují jemnější rozlišení těchto vlastností. Tím se testy osobnosti liší od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IQ testů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38512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8f8f8"/>
                </a:solidFill>
                <a:latin typeface="Arial Black"/>
              </a:rPr>
              <a:t>Pracovní psychotesty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267920"/>
            <a:ext cx="80074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Testy používané v psychologii práce – pracovní psychotesty zjišťují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Vhodnost osoby pro danou pracovní pozi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Schopnosti a profesní orientaci člověka, jeho silné a slabé stránky ve vztahu k povolá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Skupinovou roli konkrétního jedi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Další specifické vlastnosti lidí podle požadavků zaměstnavatele a pracovního mís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Nejčastěji se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psychotest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v pracovní oblasti používají k výběru vhodných zaměstnanců, při rozvoji zaměstnanců – pomůžou jim ukázat jejich silné a slabé stránky a také k nasměrování jedince na jakou práci se hodí. 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Psychotest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zpravidla zadává personalista nebo pracovní psycholog, některé firmy používají psychotesty on-line, které jsou dostupné na internetu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38512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8f8f8"/>
                </a:solidFill>
                <a:latin typeface="Arial Black"/>
              </a:rPr>
              <a:t>Psychotest týmových rolí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6560" y="836640"/>
            <a:ext cx="800748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Každý člen týmu má jistou pozici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Dr. Meredith Belbin popsal devět týmových rolí. Tým nemusí mít právě devět členů. Jeden člověk může mít dvě i více rolí (zpravidla máme role dvě, jednu dominantní a jednu více skrytou). Každá role je v konkrétním týmu zastoupena různou měrou. Záleží také na tom, co právě tým dělá. Společenství je schopné pracovat, i když nějaké role chybí. Efektivita takového týmu je však nižší. Belbin popisuje následující skupinové role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Inová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Vyhledávač zdroj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Realizá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Analytik, vyhodnocovač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Týmový pracovní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Dotahovač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Expe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Koordiná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Usměrňovač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Belbin zdůrazňuje, že naše role nejsou neměnné. Pokud změníme kolektiv lidí, můžeme změnit i svojí roli/svoje role. Autor sestavil také vlastní test, kde se může každý otestovat a zjistit, kam v týmu patří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2T12:48:23Z</dcterms:created>
  <dc:creator>Administrator</dc:creator>
  <dc:description/>
  <dc:language>en-US</dc:language>
  <cp:lastModifiedBy>Igor</cp:lastModifiedBy>
  <dcterms:modified xsi:type="dcterms:W3CDTF">2014-09-13T15:26:16Z</dcterms:modified>
  <cp:revision>5</cp:revision>
  <dc:subject/>
  <dc:title>Snímek 1</dc:title>
</cp:coreProperties>
</file>