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B7DF2-9188-46B7-9011-F25FB769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1046F-95D9-43B7-981C-CD5763CC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9F12-3C7B-466A-B513-5DCCED31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1B220-0928-4F8D-A686-CCD36228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651E-35AC-4C85-8542-8949EAF9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B234-B292-4D0C-B044-CAF8732F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DF8F-029D-445E-B802-912E9CB2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4074-0580-4268-9F15-498A1B4C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E41B-9309-49F4-A5C2-C35029BD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3050-57C1-4041-B135-8E4F480D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303A-2F2F-4675-9553-55508DB0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060AA-5E8F-481C-B5C5-7EDA02DD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C9FD-2DA0-4530-84E8-E67F9329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5F00-DB60-483F-AC68-84548756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6D1E-5ABD-49BA-8D3A-D53E2158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1FB1-8E11-42F7-927F-FD8EF99C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D434-220C-43A8-8DD2-87E42BCD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D4ABC-F861-4472-BBDD-3A322934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3E1E-E520-4E55-9F55-53A07B97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B566E-DC60-4802-BCCA-1771A6E0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2E521-20E6-4F39-80B5-9243F475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38BF6-A2C6-4DF9-885C-807C1BA3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E9048-30D5-4D58-80D8-E30993CB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6B8D0-8FEC-42A2-88AF-CDA0698E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9A13-DA39-4C36-A0FC-EC1BEACF608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2146-60DF-4143-BDB5-F19EFE4041A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uj-bankrot.cz/dokumenty_k_oddluzeni" TargetMode="External"/><Relationship Id="rId2" Type="http://schemas.openxmlformats.org/officeDocument/2006/relationships/hyperlink" Target="http://www.penize.cz/exekuce/18830-osobni-bankrot-petileta-cesta-z-dluhu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2533680" y="4572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39640" y="4221000"/>
          <a:ext cx="7561440" cy="1663920"/>
        </p:xfrm>
        <a:graphic>
          <a:graphicData uri="http://schemas.openxmlformats.org/drawingml/2006/table">
            <a:tbl>
              <a:tblPr/>
              <a:tblGrid>
                <a:gridCol w="3384720"/>
                <a:gridCol w="417672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roveň požádá, aby její úpadek nebo hrozící úpadek byl řešen formou oddluž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vrh je ochranou před exekutor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lnSpc>
                <a:spcPct val="80000"/>
              </a:lnSpc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ekuce, mohou  soudem nařízeny, ale nemohou být vykoná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7720" indent="-165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7720" indent="-165960">
              <a:lnSpc>
                <a:spcPct val="80000"/>
              </a:lnSpc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řitelé musí přihlásit své pohledávky za dlužníkem v rámci insolvenčního řízení</a:t>
            </a: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7720" indent="-165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působ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. rozprodáním majetku dlužníka neb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 splácením podle věřiteli schváleného splátkového kalendáře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působ od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mínkou je, aby  bylo splaceno alespoň 30 % celkového dluhu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Splátkový kalendář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zaváže do 5 let uhradit maximální možnou část dluh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  výši jednotlivých splátek rozhodne s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usí zůstat životního  minim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Splátkový kalendář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musí pracovat, aby měl dostatečný pravidelný příj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zaměstnaným soud splátkový kalendář nepovol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rušení souhlasu s osobním bankrotem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případě neplnění stanovených povinností může soud zrušit souhlas s osobním bankro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rušení souhlasu s osobním bankrotem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oddlužení se musí podílet manžel, manželka, pokud nemají zúžené a vypořádané společné jmění manželů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Insolvenční rejstřík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šichni dlužníci, kterým soud osobní bankrot povolí, vedeni v  insolvenčním rejstřík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řejně přístupný na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Insolvenční rejstřík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něm  všechny důležité úkony spojené s osobními bankro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 ukončení insolvenčního řízení soud dlužníka ze seznamu vyškrt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sobní bankr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světlení podstaty osobního bankrotu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sobní bankrot, podmínky, návrh na oddlužení, způsob oddlužení, splátkový kalendář, zrušení, insolvenční rejstř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je osobní bankro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mínky osobního bankrot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vrh na oddluže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působ oddluže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499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499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5. Zrušení souhlasu s osobním bankro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Insolvenční rejstří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187e3"/>
                </a:solidFill>
                <a:uFillTx/>
                <a:latin typeface="Arial"/>
                <a:hlinkClick r:id="rId1"/>
              </a:rPr>
              <a:t>http://www.muj-bankrot.cz/dokumenty_k_oddluze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187e3"/>
                </a:solidFill>
                <a:uFillTx/>
                <a:latin typeface="Arial"/>
                <a:hlinkClick r:id="rId2"/>
              </a:rPr>
              <a:t>http://www.penize.cz/exekuce/18830-osobni-bankrot-petileta-cesta-z-dlu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516040"/>
            <a:ext cx="7315200" cy="25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8600"/>
                </a:solidFill>
                <a:latin typeface="Arial"/>
              </a:rPr>
              <a:t>Osobní bankrot</a:t>
            </a:r>
            <a:endParaRPr b="0" lang="en-US" sz="6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516708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Osobní bankro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dlužení fyzických os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zákona č. 182/2006 Sb., o úpadku a způsobech jeho řešení (insolvenční zákon)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Podmínky osobního bankrotu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je v úpadku, pokud má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íce věřitelů (nejméně dva)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ěžité závazky, s jejichž úhradou je více než 30 dnů v prodlení po splatnost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Podmínky osobního bankrotu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je v úpadku, pokud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ní schopen tyto závazky plnit (tzv. platební neschopnos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má dluhy z podnik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yzická osoba, která není podnikatelem, podá soudu na speciálním formuláři návrh na prohlášení insolv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vrh se podává na krajský s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 návrhu  na povolení oddlužení fyzické osoby musí  připoji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eznam majetku a seznam závazk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klady o příjmech dlužní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 návrhu  na povolení oddlužení fyzické osoby musí  připoji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ísemný souhlas nezajištěného věřitele (= dostane méně než 30%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50:18Z</dcterms:modified>
  <cp:revision>18</cp:revision>
  <dc:subject/>
  <dc:title>Osobní bankrot</dc:title>
</cp:coreProperties>
</file>