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DE05-9672-410F-96A7-4E20D35154D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074E-CA9B-49E1-BD87-B0FCF2880AB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E82-CAF3-4919-B6D7-E335462C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AB5-B3B3-4478-9755-2EF03D04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B59-F951-4DD6-BE12-B4CA249F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F2F-ACA4-44F3-A8A4-103D372A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9336-9102-448E-9850-F9006230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C98C-13CD-4821-9A97-CADE706E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D87B-6700-4253-BBD0-81D4878E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0E66-FFAF-4E3A-80D0-3FE10C5A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4F96-AAFC-4AA8-8937-4603F49C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69A0-DA17-499A-90EB-137C1CE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3AF6-95C2-409F-8DEB-10701A34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2EA-DBE6-4869-A9FE-C9E2D18E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0A27-AE74-4A5A-9DD4-79B3193F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E362-701E-4F44-B60C-D637B47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7A65-01F6-4514-8A63-3B19B93C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0782-C8AD-4B4A-BEBD-82671AD2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6E9A-EEBF-4BD9-A790-9826441C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97A-F20C-4600-AAE6-763109C0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AE8-8E93-4160-940A-4B0D19FE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D35-F622-4065-8C8E-C7DE6993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138-FDEC-4224-863E-328D1945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78C-5F09-4470-B498-02504605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566-D8DA-4F05-A5F7-A3F9E55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19B-2108-4F45-BEE3-4E8FB42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11F4-08B1-4C5F-A99A-957E32EAE40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1E7B-870E-4E12-82BC-6A6B8DB1FFE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entralniregistrdluzniku.cz/" TargetMode="External"/><Relationship Id="rId2" Type="http://schemas.openxmlformats.org/officeDocument/2006/relationships/hyperlink" Target="https://www.solus.cz/cs/hlavni-strana/historie-sdruzeni" TargetMode="External"/><Relationship Id="rId3" Type="http://schemas.openxmlformats.org/officeDocument/2006/relationships/hyperlink" Target="http://www.podnikatel.cz/clanky/uver-neni-pujcka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čerp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jednoráz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čerpání najedn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 úvěrové l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postupné čerpání až do stanoveného limi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úvěr k běžnému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volené přečerpání účtu do mínu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noven úvěrový rám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hodnutá doba vyrovnání debe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 se opakuje (revolvingový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soká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 čerpá úvěr  automaticky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svého účtu platí či vybírá, 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dyž na něm nemá dostate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astních peněz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ácen je příchozím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a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musí být splacen 1x ro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ky pro získání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adatel má u banky veden B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něj chodí pravideln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statečně vysoký pří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ěkdy i průměrný zůstatek na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yzickým osobám  na řešení jejich nepodnikatelských 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ový (konkrétní účel, nutná faktur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účelový (na cokoliv, vyšší úroče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vá právní úprava (201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 podnikatelům fyzickým i právnickým osobám  na financování jejich podnikatelských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ozní úvěry (na záso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y ( dočasné překlenutí finanční potře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úvěry ( na pořízení   dlouhodobého majet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xportní (financování dodatečných nákladů při vývoz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ypoteční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ý nemovitostí, nejdelší úvěr s nejnižším úro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ázané na pořízení potřeb bydlení (nižší úrok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účelové tzv. americk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co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editní kar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eskontní 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kupuje  směnku před její splatností a poskytuje majiteli směnky úvěr snížený o úrok (diskont), eskontní provizi a související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ktiv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úvěrů, možnost získání úvěrů, jejich za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tokorentní, spotřebitelský, podnikatelský, hypoteční úvěr, úvěrový proces, zajištění úvěrů, registry, půjč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yndikovaný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aný několika bankami spole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lombardní  úvěr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ý movitou zástavou (cenné papí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y městům a obc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anační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bnovu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odní schůzka klienta a pracovní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 o úvěr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totožnost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bo o existenc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rmy, potvrze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příjmu, daňov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znání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o majetku, závazcích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záměr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ová analýz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ěření pravdivosti údajů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lédnutí do registru úvěrů 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zavření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rola dodržování podmínek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registrech pozitivní i negativní inform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zitivní o poskytnut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gativní o nesplá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úvěr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 ČN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podnikatelů u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vede údaj o úvěrech občan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sdílí údaje s jinými regis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gistr sdružení SOLUS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d nebankovních finančních institucí, bank, telekomunikačních operátorů, distributorů energií a dalších společ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zech Banking Credit Bureau, a.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klientů ban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občanů i podnikatel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dlužníků České republiky (CERD ČR s.r.o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 z členských registrů státní správy, bankovních registrů, databází soukromých subjektů atd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učitel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a, která se zavazuje, že v případě nesplácení zaplatí za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nemovit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ocenění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nalcem,dobrá prodejnost, pojištění, zápis v katastru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mov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ruka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mě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inkulace vkladu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slouží jako záru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se pohledávek –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stoupení pohledávek b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chodní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řitel se ve smlouvě zaváže, že na požádání dlužníka poskytne ve prospěch dlužníka peníze do urč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o úvěru zaváže, že peněžní prostředky vrá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ždy úroč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n finan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čanské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základě smlouvy o půjčce přenechá věřitel dlužníkovi věci, nejčastěji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zavazuje, že po uplynutí dohodnuté doby vrátí zapůjčené věci stejného dru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úroče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jen finanč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oučí se několik půjček a úvěrů jednoho dlužníka do jediného úvě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bereme banku, která za nás vyrovná všechny závazky a potom budeme splácet místo několika půjček jenom jedn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solidační úvěry jsou se splatností 1 – 10 let na od 20 000,- Kč výše, horní hranice  může přesáhnout 1 milion K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je konsolidační úvěr vyšší, tím větší zajištění banka požaduje, u vysokých částek obvykle požadavek na zástavní právo k nemovitosti (pak jde o americkou hypoté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stanovována individuálně podle toho, jaké riziko dlužník pro banku představ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ýhoda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še splátky z nového úvěru nižší než součet všech předchozích splátek, nižší i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olidovat jde závazky ze spotřebitelských úvěrů, hotovostních půjček, kontokorentních úvěrů, úvěrů z kreditních karet či prodeje na splátky, u některých bank i z leasing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výhoda 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nižší splátku, avšak na delší dobu, proto se více přeplat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konsolidaci je třeba žádat ve chvíli, kdy ještě není  prodlení se splácením a při  dostatečném příjm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sloučení půjček ve větší částce, banka požaduje za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len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ypoteč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pro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typy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stry dluž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díl mezi půjčkou a úvě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obchody ban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 rozvaze na straně ak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 postavení věřitele, klient v postavení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přijímá úroky (výnos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bdélník 3"/>
          <p:cNvSpPr/>
          <p:nvPr/>
        </p:nvSpPr>
        <p:spPr>
          <a:xfrm>
            <a:off x="539640" y="2133720"/>
            <a:ext cx="806472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entralniregistrdluzniku.cz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s://www.solus.cz/cs/hlavni-strana/historie-sdruze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podnikatel.cz/clanky/uver-neni-pujcka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účelov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jsou poskytnuty na konkrétní předem stanovený účel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účelové (neúčelové)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leží na klientovi, na co poskytnutý úvěr použije, vyšší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typu výplat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oskytnuté finanční prostředky vyplaceny v 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eníze jsou zaslá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ajiště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banka vyžaduje jištění věcí movitou či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šší úročení (neplacení se vymáhá soudní ces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oby splat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átkodobé úvěr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do 1 ro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řednědobé úvěr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 až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ouhodobé úvěr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d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sjedn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8:49Z</dcterms:modified>
  <cp:revision>35</cp:revision>
  <dc:subject/>
  <dc:title>Bankovní obchody</dc:title>
</cp:coreProperties>
</file>