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A331-16EF-4E89-89C6-D413B1F66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F028-78B4-4FEF-9925-0FCC6B6E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89D5-F17A-44E3-B386-899A9C947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44CA-76CD-4823-B33C-059A71B73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9817-8289-4C05-AECD-ACE153262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0E89-E454-46F3-BAE2-A78E8DBE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86F6-1D9B-4AE6-9D55-46BB6B31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61DD5-16AF-4C03-BFD8-F9668106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6F4A-5B71-4B71-9C96-4A29E384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7D91A-D023-430D-B33E-FC95924E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E9D3-6019-492C-89A0-14CA4234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B578-4E64-455C-9BA9-73F1F0AF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F09D-EB2F-4620-9F85-FE757B69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FE8A-7D50-411F-8FAD-70FC4214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389F-E395-4C87-B8D3-F95DE0B9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E65C-E032-46DA-A5CD-CAA2EF723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D9CA-A348-4BC8-A148-FBF648AE3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2CB71-5AE1-4241-AE56-E319A2F09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45EF6-6B8E-4E73-B08F-2C4FD602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7B2E7-6547-447A-8CBA-6A8964E3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90BE7-8C48-4715-B4AF-0F9CE0D1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CD598-F631-4374-A3C8-D6CD1DF8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F6D4-B114-4DD6-BA56-0304DF0A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80BA4-AEA9-4B23-90BF-A697F2B2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47EAC-0B2D-44F5-9286-22F0EF7B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6C3B0-6F50-4161-B246-BD4D0B95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636AF-1E9C-4F6C-B3A7-420F8906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9DEEB-BCD3-47C6-B4D7-DB21C03F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ECEC1-BAF9-4C6D-BB44-2282EB16C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B6EA2-BBDB-4BF6-8C5F-D5FAFBCF4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64BB-8F80-4558-A598-921852B4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A950-0E56-4950-9A0D-B69D5CA7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969A-D2F2-4BDA-8B67-6900560F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0F7D-6772-41E2-8012-3E7D27C0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41D3-6B6A-48F8-A95D-A315A757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A815-04DF-4F40-9617-6606604F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A21B-71BF-4976-A376-F9A458A04FD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A667-EFA5-41ED-B5BC-4EDD2F45109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3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0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E440-2C28-41C6-A70A-5D40EB8EE48B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1835280" y="476280"/>
            <a:ext cx="5295600" cy="12952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900000" y="1989000"/>
            <a:ext cx="7315200" cy="35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539640" y="3573360"/>
          <a:ext cx="7561440" cy="43200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539640" y="4221000"/>
          <a:ext cx="7561440" cy="1662120"/>
        </p:xfrm>
        <a:graphic>
          <a:graphicData uri="http://schemas.openxmlformats.org/drawingml/2006/table">
            <a:tbl>
              <a:tblPr/>
              <a:tblGrid>
                <a:gridCol w="3384720"/>
                <a:gridCol w="417672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ročník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Jednoduch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4"/>
              <p:cNvSpPr txBox="1"/>
              <p:nvPr/>
            </p:nvSpPr>
            <p:spPr>
              <a:xfrm>
                <a:off x="2556000" y="2637000"/>
                <a:ext cx="4176720" cy="24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∗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ložen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 ………………..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ro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 ………………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stupní kapitá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t……………….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úročený kapitá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t…………………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ba, po kterou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e kapitál úroč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i…………………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roková mí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ložen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…………………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čet období, po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terá se úroč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…………………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nui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ložen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4"/>
              <p:cNvSpPr txBox="1"/>
              <p:nvPr/>
            </p:nvSpPr>
            <p:spPr>
              <a:xfrm>
                <a:off x="1908000" y="1700280"/>
                <a:ext cx="547236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ú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t</m:t>
                                </m:r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1" name="Rectangle 7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6"/>
              <p:cNvSpPr txBox="1"/>
              <p:nvPr/>
            </p:nvSpPr>
            <p:spPr>
              <a:xfrm>
                <a:off x="1908000" y="4005360"/>
                <a:ext cx="5472360" cy="14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ložen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4"/>
              <p:cNvSpPr txBox="1"/>
              <p:nvPr/>
            </p:nvSpPr>
            <p:spPr>
              <a:xfrm>
                <a:off x="2987640" y="1700280"/>
                <a:ext cx="3384720" cy="19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7" name="Rectangle 7"/>
          <p:cNvSpPr/>
          <p:nvPr/>
        </p:nvSpPr>
        <p:spPr>
          <a:xfrm>
            <a:off x="0" y="29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6"/>
              <p:cNvSpPr txBox="1"/>
              <p:nvPr/>
            </p:nvSpPr>
            <p:spPr>
              <a:xfrm>
                <a:off x="2340000" y="3860640"/>
                <a:ext cx="4897440" cy="19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ložen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4"/>
              <p:cNvSpPr txBox="1"/>
              <p:nvPr/>
            </p:nvSpPr>
            <p:spPr>
              <a:xfrm>
                <a:off x="3059280" y="1700280"/>
                <a:ext cx="3241440" cy="20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t</m:t>
                        </m:r>
                      </m:deg>
                      <m:e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3" name="Rectangle 7"/>
          <p:cNvSpPr/>
          <p:nvPr/>
        </p:nvSpPr>
        <p:spPr>
          <a:xfrm>
            <a:off x="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8"/>
              <p:cNvSpPr txBox="1"/>
              <p:nvPr/>
            </p:nvSpPr>
            <p:spPr>
              <a:xfrm>
                <a:off x="2195640" y="3933720"/>
                <a:ext cx="5113080" cy="200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t</m:t>
                        </m:r>
                        <m:r>
                          <m:t xml:space="preserve">∗</m:t>
                        </m:r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ložen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4"/>
              <p:cNvSpPr txBox="1"/>
              <p:nvPr/>
            </p:nvSpPr>
            <p:spPr>
              <a:xfrm>
                <a:off x="1692360" y="2421000"/>
                <a:ext cx="5400720" cy="21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∗</m:t>
                        </m:r>
                        <m:r>
                          <m:t xml:space="preserve">i</m:t>
                        </m:r>
                        <m:r>
                          <m:t xml:space="preserve">∗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Kombinované úrokování  </a:t>
            </a: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 ……………….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ro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 ………………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stupní kapitá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t……………….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úročený kapitá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t…………………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ba, po kterou je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apitál úroč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i…………………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roková mí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Kombinované úrokování  </a:t>
            </a: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n…….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počet úrokovacích 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období (ukončených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l ……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počet úrokovacích období 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(neukončených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Kombinovan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4"/>
              <p:cNvSpPr txBox="1"/>
              <p:nvPr/>
            </p:nvSpPr>
            <p:spPr>
              <a:xfrm>
                <a:off x="684360" y="3068640"/>
                <a:ext cx="756108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∗</m:t>
                        </m:r>
                        <m:r>
                          <m:t xml:space="preserve">l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8" name=""/>
          <p:cNvGraphicFramePr/>
          <p:nvPr/>
        </p:nvGraphicFramePr>
        <p:xfrm>
          <a:off x="611280" y="1557360"/>
          <a:ext cx="8229600" cy="4527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í obcho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ednoduché a složené úroková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Základní pojmy a vzorce pro výpočet úrokování. Vzorové příkla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6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Úrokování jednoduché, složené, dekurzivní, anticipativní, úrok, kapitál, doba splatnosti, úroková míra, anuita, bankovní měsíc, ro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lient si vypůjčil z banky  65 000,- Kč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 10 % úrok p. a. dek., jednoduché úrokování, dekurzivní. Kolik musí vráti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 70 254,- K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ypočítej původní jistinu a úrok, jestliže půjčka i s úroky byla splacena po 327 dnech. Úrok 12 % p. a. dek., jednoduché úrokování, dekurzivní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 225 000,- K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24 525,- K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lik si můžete půjčit peněz, pokud víte, že za 3/4 roku budete mít na úhradu dluhu  200 000,- Kč, při úrokové míře 8 % p.a. a složeném úrokování dekurzivním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188 783,- K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ak dlouho byl v bance uložen kapitá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30 000,- Kč, vzrostl-li při jednoduchém úrokování dekurzivním při sazbě 0,05 na 36 500,- Kč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 1560 dn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Urči úrokovou sazbu, byl-li kapitá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6 000,- Kč úročen čtvrt roku a vzrost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 6 075,- Kč. Úrokování jednoduché, dekurzivní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i = 0,0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 = 5 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konom firmy vystavil 15. 4. 2009 vlastní směnku za dodávku zboží v hodnotě 100 000,- Kč se splatností za 6 měsíců. Zjistěte směnečnou sumu, jestliže úrok je 9 % p.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104 500,- K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ak vzroste kapitál  500 000,- Kč uložený do banky 3. 2. 2006, který si klient vybere 6. 8. 2009 při úrokové míře 8 % p. a.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) jednoduché úročení de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) složené úročení de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) 640 333,- K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) 654 986,- K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ak se zúročí úvěr 1 milion korun, když byl úrokován složeným způsobem při 0,05 p. a. dek., po dobu 2 let 6 měsíců 27 dnů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 1 333 868,- K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ak dlouho byl uložen vklad 25 000,- Kč, vzrostl-li na 29 246,50 Kč při úrokové sazbě 0, 04 p. a. dek.? Složené úrokování, dekurzivní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 4 ro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 kolik % byl úročen kapitá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18 500,- Kč, pokud za 3 roky vzrost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 20 000,- Kč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rokování složené, dekurzivní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 i = 0,026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 = 2, 63 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ff"/>
                </a:solidFill>
                <a:latin typeface="Arial"/>
              </a:rPr>
              <a:t>Jednoduché a složené úrokování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ak vzroste kapitál 240 000,- Kč s úrokovou mírou 8,5% p.a. uložený na období 22. 2. 2006 až  17.6. 2009 při kombinaci jednoduchého a složeného úročení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  314 873,- K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droj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MÉKALOVÁ, Darina. 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Finanční a pojistná matematika pro střední školy ekonomického zaměření,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strava:  Montanex,s.r.o. , 1996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SBN:  80-85780-39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Úrokován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ekurzivní - polhůtn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nticipativní – předlhůtn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ankovní rok – 360 dn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ankovní měsíc – 30 dn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Úrokován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. a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oční úroková mí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. s.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loletní úroková mí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. q.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čtvrtletní úroková mí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. s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ěsíční úroková mí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Úrokován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dečítací metoda (německá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 výpočet počtu dnů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ř. Vypočítej počet dnů v období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15. 7. 2007 – 4. 9. 200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(4–15) + (9–7)*30 + (2009–2007)*360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= - 11 + 60 + 720 = 769 dn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Jednoduch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 ………………..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ro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 ………………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stupní kapitá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t……………….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úročený kapitá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t…………………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ba, po kterou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e kapitál úroč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i…………………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roková mí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Jednoduch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1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15"/>
          <p:cNvSpPr/>
          <p:nvPr/>
        </p:nvSpPr>
        <p:spPr>
          <a:xfrm>
            <a:off x="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17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19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21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20"/>
              <p:cNvSpPr txBox="1"/>
              <p:nvPr/>
            </p:nvSpPr>
            <p:spPr>
              <a:xfrm>
                <a:off x="2195640" y="2205000"/>
                <a:ext cx="4897440" cy="14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ú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i</m:t>
                    </m:r>
                    <m:r>
                      <m:t xml:space="preserve">∗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Rectangle 23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22"/>
              <p:cNvSpPr txBox="1"/>
              <p:nvPr/>
            </p:nvSpPr>
            <p:spPr>
              <a:xfrm>
                <a:off x="1116000" y="4149720"/>
                <a:ext cx="684072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∗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Jednoduch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4"/>
              <p:cNvSpPr txBox="1"/>
              <p:nvPr/>
            </p:nvSpPr>
            <p:spPr>
              <a:xfrm>
                <a:off x="3059280" y="1628640"/>
                <a:ext cx="3817800" cy="19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∗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7" name="Rectangle 7"/>
          <p:cNvSpPr/>
          <p:nvPr/>
        </p:nvSpPr>
        <p:spPr>
          <a:xfrm>
            <a:off x="0" y="29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6"/>
              <p:cNvSpPr txBox="1"/>
              <p:nvPr/>
            </p:nvSpPr>
            <p:spPr>
              <a:xfrm>
                <a:off x="3132000" y="3789360"/>
                <a:ext cx="3745080" cy="21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∗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23:34:46Z</dcterms:created>
  <dc:creator>Marek</dc:creator>
  <dc:description/>
  <dc:language>en-US</dc:language>
  <cp:lastModifiedBy>Igor</cp:lastModifiedBy>
  <dcterms:modified xsi:type="dcterms:W3CDTF">2014-09-13T14:50:43Z</dcterms:modified>
  <cp:revision>25</cp:revision>
  <dc:subject/>
  <dc:title>Jednoduché a složené úrokování</dc:title>
</cp:coreProperties>
</file>