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DDC-0312-48FF-BC82-0EF1ED20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009-62DE-4DB9-8ABD-057C15D6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E9C-D20B-43A3-82DC-ABC3573D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CC3-E200-41B6-82D7-6B61EB05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A137-8876-44F8-82EF-4A4CCE5B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C6C4-1F19-46D4-89BE-4FBE0421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5714-6AEB-4654-9206-B7414533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E4B0-7285-4E98-A816-A3512A55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D200-6295-4E0D-B891-71850BDF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80A1-1E39-44B8-A704-CBC257DB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CF2C-8A22-4767-923D-A253619B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247-D24C-44FC-BFA3-13CB9D1E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74BE-46CE-4161-BF40-1B712D8F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2555-F92C-4F34-9854-2144EAF6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CFE1-1CE6-4AC9-8F0E-E95F4DCB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8FD1-1428-4C90-BC31-A6ACC86D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B658-7577-40D8-9A8A-5EE4F82B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B20-6BD6-4BC6-8566-D1ED69CE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287-7CE2-43A6-A51E-A5049405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997-8FE0-49ED-9E0F-74186E77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8B9-33D1-4D8E-94A1-7FB6EE5C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3F1-359A-4C21-AEB9-0E47DB55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8CD-97EF-485B-A52B-9307FE9D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AEA-210B-4709-AAA0-2DF8B668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0093-C607-40F5-B7E3-00474576393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AA71-D257-4EF2-BC83-0D23FFAE1A6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16280"/>
            <a:ext cx="7315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elik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lé – do 5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řední – do 50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é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teritori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– v zahraničí pobočky, v mateřské zemi centrá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uzemské – centrála i pobočky v tuzems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onál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funkce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pozitní (vklad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latebního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ládání a vedení účt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domácí i zahrani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kar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0840" y="164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árenská činno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vizové oper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ů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radenské služb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akreditiv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inka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bankovních  záru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zijní připo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likvidi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schopnost vrátit 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hotovostní peníze a vklady na úč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vklady u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cenné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úvěry od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ziskov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ýnosy vyšší než ná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nosy – úroky z úvěrů, poplatky, provi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– úroky z vkladů, mzdové náklady, náklady na energie, vybavení, nájem, odpisy, provoz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itř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ředčíslování dokladů, klíčový režim, dvojí podpis, kamery, bezpečnostní služ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ějš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audit, kontrola ČNB, kontrola finančního úřadu, zpráva o hospoda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21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é - riziko nesplacení úvěrů ze strany klien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é  - riziko vyplývající ze změn úrokových sazeb na finančních trzí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é  - riziko ztráty ze změn kurzů mě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y a jejich postavení v ekonom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banky v ekonomice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působ fungování bank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a, základní funkce, bankovní soustavy, členění, zásady, rizika, hodnocení, marketing, 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ové riziko - nejistota vývoje cen akci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likvidity - riziko neschopnosti dostát aktuálním splatným závazků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 způsobených lidským fakto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selhání informačních systém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í rizik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špatného obchodního záměru, chybného marketingového rozhodnu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y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tržní -  ze změny cen na trh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ýše poplat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stup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vality person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lasifikace pohledávek ( 5 skupin  pohledávek podle splácení – standardní, sledované, nestandardní, pochybné, ztrát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úvěrové angažovanosti – limity poskytování úvěrů jednotlivcům, skupinám a ostatním banká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apitálové přiměřenosti – poměr mezi kapitálem a rizikovým aktivů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banky (solventnosti) 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chopnost, stanovena ČNB, povinné minimální rezer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 v bankovnictv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rketingová strategi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důležitější je přání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zený produkt musí vycházet ze znalostí o trhu a klien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by měla předvídat měnící se požadavky na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ový mix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ora prode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y produk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istribuční míst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iv politického, sociálníh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konomického prostředí a konkure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bank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kladní údaje o banká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i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tický kodex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ady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a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8.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dnocení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9.  Marketing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0. Marketingový mix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Bankovní soustav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Banky a jejich postavení v ekonomice</a:t>
            </a:r>
            <a:r>
              <a:rPr b="0" lang="cs-CZ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instituce, která přijímá vklady, poskytuje úvěry a zprostředkovává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ická os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usí vlastnit licenci k provozování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soustav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úrovňová – jedna nebo několik málo bank, z nichž jedna plní i úlohu banky centrál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vouúrovňová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stupeň: centrální ba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stupeň: obchodní (komerční) bank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bank podle Zákona o bankách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ovlivňována ČNB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udělení licence rozhoduje ČNB v dohodě s MFČ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je akciovou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K banky musí být minimálně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00 mil.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vady v činnosti banky důvodem pro udělení pokuty, nucenou správu, odebrání licen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Etický kodex ČB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sah kodex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ecné zásady chování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 pracovníka k bance, v níž j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á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y a jejich zaměstnanců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e klien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 navzá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produktů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niverzální – všechny 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ecializované - prodej pouze určitých bankovních produktů (např. stavební spořitelny, hypoteční banky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10:29Z</dcterms:created>
  <dc:creator>kabek</dc:creator>
  <dc:description/>
  <dc:language>en-US</dc:language>
  <cp:lastModifiedBy>Igor</cp:lastModifiedBy>
  <dcterms:modified xsi:type="dcterms:W3CDTF">2014-09-13T14:48:19Z</dcterms:modified>
  <cp:revision>25</cp:revision>
  <dc:subject/>
  <dc:title>Banky a jejich postavení v ekonomice</dc:title>
</cp:coreProperties>
</file>