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4A1-3F1C-46EE-93BF-414ECE55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3D7-CAB3-4F3C-A6E8-2799824C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AE9-6054-4CA2-962D-3A37CB48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09F-FFB6-40ED-AD29-2A429EEB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71C4-2395-476E-AEF4-83C4F16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665-3DF7-4999-9425-88BACCD4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51B-990E-45FA-BEF3-62A7F94E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162-7EE6-4168-AFA7-C1236775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5E4-38F4-418D-8E7D-5DA10150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A9F5-C178-45D9-B8F5-ABDC5BFC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3E1C-A6FC-48F8-AE7C-2EB4F88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A04-F67C-42FD-BF04-0237B385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6EE-76DC-4B5E-8F18-C9D4CF2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C4BE-D3D4-4220-B5C9-FB41DA9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6347-517A-4991-8B6F-AAF5E2D3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3F2D-DAC6-4176-841F-2442253C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2787-F1BA-4DCF-8A7B-19972116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A51-21B0-4421-8E49-2523687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FF2-E1E0-4CFF-950B-AB8D546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330-1CA5-4000-88FA-C51F829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965-86E8-457D-81BA-3521B141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194-0CC7-4A43-9FF2-C1D41AD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DDD-4F10-4DE7-ADDE-7DE1B777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1F5-6BC0-4CA4-8643-DE599F9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B37-7ED5-4D88-9C76-A124280154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1A5-BE78-45E7-AB58-363D052D8F1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2852640"/>
          <a:ext cx="7201080" cy="720720"/>
        </p:xfrm>
        <a:graphic>
          <a:graphicData uri="http://schemas.openxmlformats.org/drawingml/2006/table">
            <a:tbl>
              <a:tblPr/>
              <a:tblGrid>
                <a:gridCol w="1508040"/>
                <a:gridCol w="1440000"/>
                <a:gridCol w="1509840"/>
                <a:gridCol w="2743200"/>
              </a:tblGrid>
              <a:tr h="78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789360"/>
          <a:ext cx="756108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užité technologi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gnetický proužek – v něm údaje o účtu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technologie – údaje ukryty v čip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ybridní karty -  magnetický proužek i č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karetních asociac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erican Ex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ners Cl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sh  back – hotovostní výběr na pokladně obcho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– brandová karta – vydána ve spolupráci s obchodníkem, u kterého jsou při placení touto kartou výh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říbrná, zlatá, platinová karta – k účtům s vysokým zůstatkem, za kartu vyšší poplatek, výhody: cestovní pojištění, odtahová služba a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dotyková – pro platbu do 500,- Kč varianta embosované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platební k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ý platební terminál – zúčtovací c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cký snímač (žehlička) – pouze pro embosované platební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pážky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o internetu – aktivace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kamžité oznámení bance telefonicky nebo na  pobočce banky (důkaz o oznámení -  zákazový kó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okamžiku oznámení karta zablokována (blokace – u elektronických karet, stoplistace – u embosovaných karet), poplatek dle sazebníku, může být i zda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Zablokovaná karta se dostane na stoplist – seznam zakázaných kar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Odpovědnost od okamžiku oznámení nese banka, někde spoluúč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Žádost o novou platební kar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Nalezenou ztracenou kartu odevzdat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žnost pojištění zne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debetní, kreditní, charge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podle potisk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druhy kar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tráta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obní účast na školení o bankovních produk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platebních kar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, debetní, kreditní, charge, embosovaná, elektronická, cash back, co-branded, blokace, stoplist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troj k bezhotovostní platbě, který vydávají fyzickým i právnickým osobám nejčastěji banky (nákl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placení v obchodě nese obchod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 výběru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e vkladu do bankomatu (vkladoma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betní – k běžnému účtu, vybírá se do zůstatku na účtu, možno zřídit k účtu kontokorent ( krátkodobý úvěr, vybírání do sjednaného úvěrového rám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editní karta 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ge karta – k úvěrovému účtu, vyúčtování na konci měsíce, bezúročné období pro splacení  celé částky do konce následujícího měsíce, jinak vysoké ú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kupní úvěrové kar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karty - hladký potisk (ident), slouží pro výběr z bankomatu, placení u obchod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bosované karty - s tzv. reliéfním (plastickým) písmem, pro výběr z bankomatu, placení u obchodníka, navíc v mechanických snímačích a pro platbu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17Z</dcterms:modified>
  <cp:revision>35</cp:revision>
  <dc:subject/>
  <dc:title>Platební nástroje</dc:title>
</cp:coreProperties>
</file>