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7C5-E21F-4A92-A19F-1B993A4D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EC2-967C-419B-95C4-0FCF8021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9DD-6255-4D55-A6D9-946C4167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80F-58A9-4F78-A9E7-897BAA3F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DF85-3A12-41B0-B134-B7B7E5FE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418-7A4B-42AF-8ADC-AD5DD1D0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A9F-8141-4926-BAB8-6A169595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B682-C055-45FC-A468-A8ACE486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05FC-65C1-4CC0-9B9F-E8834FD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3F9-7588-494B-90A6-B1FB820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700-ABDE-4075-BFD8-A89AD08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9FB-6E01-4314-BEAA-90A6EB58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4AC4-C696-4074-BB11-6EC37F1C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EDE9-A307-47FB-80B3-A05064DF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7AD6-90C6-4C74-989C-302D7FB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4FCB-446B-488A-A6CC-381A00F5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F59B-4805-44E6-8DC5-C786A7CF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D9E-5B59-4DE9-9BC3-C3C4511D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EFD-498F-4C16-A54A-6BA5955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42B-DAA9-4783-A62E-7F9BBD0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0B7-EE9A-41F8-AD41-FE27331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2B8-8729-4BA1-A6A5-335F3EF5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E57-5E11-484F-9B0C-40F9116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8F6-AD25-4AE0-8DD7-49BF772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F68E-34EA-44CB-9D29-9F1B238C15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5980-629D-4523-9120-A63739B2825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64764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00536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řízení majetku bez nutnosti mít cel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átkový kalendář – rozpis splátek po dobu trvání leasin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erativ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nedochází ke změně vlastnických vztah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běžný náj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ou krátkodob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prodá bance maj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zavře s bankou smlouvu, že tento majetek bude užívat po sjednanou dobu za jednorázovou platbu nebo na splá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rfa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stata leasing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č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erativ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375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tatní platební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ostatních platebních nástrojů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ng, forfaiting, lea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statní platební nástro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krátkodobých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věř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louva o faktoringové spoluprá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loha 60 – 90 % z pohle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ový poplatek a 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uzemsk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portní (vý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mportní (do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rizik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s rekurzem (regresní) – riziko nezaplacení  zůstává na klient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bez rekurzu (bezregresní) – riziko nese ban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orfa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y zajištěny jinou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těny směnkou, dokumentár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reditivem, bankovní záru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a ihned proplacena s určitou sráž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poskytuje banka pří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prostřednictvím dceřiných společ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ilná konku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finanč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operativ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pravidelné splát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vní zvýšená splátka (akonta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dochází ke změně vlastnických vztahů z pronajímatele na nájem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= finanční pronájem s následnou koupí najaté věc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40:22Z</dcterms:modified>
  <cp:revision>25</cp:revision>
  <dc:subject/>
  <dc:title>Platební nástroje</dc:title>
</cp:coreProperties>
</file>