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C44F-8AA0-401E-90D3-54FE75D1CB1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2811-D376-4E32-8DA8-4EF12083E59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BE55-219A-4806-8E48-99A9CBBA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2A7-DA61-47C3-9DF0-E8D619A6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182F-FC14-4B24-8D8F-BEED8389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6A1-99DC-4751-8242-6D42146B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0DD5-99EB-477D-8D8D-DA885C45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2C50-46EC-4EF5-A992-32CF25E2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F4C6-736A-4D25-8515-A2772C08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809C-9D5D-47E7-BAF2-824B640E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0EC6-F950-4896-9C36-F8B6F0E9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B31D-E344-4172-9666-E4523427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B263-EA42-4484-BA6D-5C966A1D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CEE4-220B-4938-BB25-B3137907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A96F-1790-4456-B265-FF27A590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4235-F98B-407C-9A51-3FA08B0E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DF17-2E68-491C-8EBB-6A455CF0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E0FB-F621-486C-A3D6-59CDD908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5DF8-C16A-483B-BE95-470B88AB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8B9-F8F0-46B9-B1FF-D94FFAD6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1C5-B73F-4321-AEA8-3DA6DFBC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0C9C-2F7B-4EE4-A5AE-E9F872ED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603F-B11F-42E3-A2E7-1AD9E32E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92B-A78A-48A2-8BD6-FCEB9EA7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ABFD-0850-480A-91A9-AF5EB7F9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6245-23EC-43DD-8F3E-070C0A74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AB6C-DF58-4C47-B966-91706FCBDDD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FF37-D88D-4DA2-8181-FDF84FF3714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csas.cz/banka/nav/podnikatele-firmy-a-instituce/podnikatele-a-male-firmy/dokumentarni-inkaso/o-produktu-d00010045" TargetMode="External"/><Relationship Id="rId2" Type="http://schemas.openxmlformats.org/officeDocument/2006/relationships/hyperlink" Target="http://www.finance.cz/zpravy/finance/214007-bankovni-zaruky-aneb-jak-snizit-podnikatelska-rizika-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11280" y="3357720"/>
          <a:ext cx="7561080" cy="50292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11280" y="4149720"/>
          <a:ext cx="7561080" cy="1836720"/>
        </p:xfrm>
        <a:graphic>
          <a:graphicData uri="http://schemas.openxmlformats.org/drawingml/2006/table">
            <a:tbl>
              <a:tblPr/>
              <a:tblGrid>
                <a:gridCol w="3600360"/>
                <a:gridCol w="396072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5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častníci platb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davatel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dodava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odběrate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běrat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kasní podmínk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dání dokumentů proti zaplacení 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dání dokumentů proti akceptaci  směnk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dání dokumentů proti otevření bankovní záruky ap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1.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zavření obchodní smlouvy mezi dodavatelem a odběratel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 zřízení dokumentárního inkasa u banky dodavatele a předání dokumentů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3.  mezi bankou dodavatele a odběratele předání inkasních příkazů a příslušných dokumen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4. dlužník je informován o přijmu dokumentů a o inkasních podmínkách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příslušný  inkasní úkon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6. předání dokumentů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7. inkasní plnění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8. vyzvednutí zbož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závazku je dlužník (odběratel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akrediti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.  mezi vývozcem  a dovozcem 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uzavření kupní smlouv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 dovozce požádá svou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banku  o otevření akreditivu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3.  vývozce odešle zboží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akrediti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4. vývozce  prostřednictvím své banky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ešle doklady bance dovozce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terá je v případě splnění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mínek předá dovozc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banka dovozce  proplatí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reditiv vývozci z účtu dovoz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nezaplacení nese bank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akrediti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voj směřuje k elektronickému akreditiv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řetí osobou elektronická tržišt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radiční papírová podoba pro složitější případy a rozvojové zem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alší platební nástroj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enné papíry osvědčující vlastnické právo (dispoziční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osament – v námořní doprav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říční nálož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elezniční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ilniční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alší platební nástroj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enné papíry osvědčující vlastnické právo (dispoziční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tecký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ožní (nákladní)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mědělský s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ankovní záru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ozšířená forma ručení v mezinárodním obcho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zv. závazkové úvě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y neposkytují žádné finanční prostředky, ale zaručují se za svého klienta, že provede svůj závaz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57200" y="1905120"/>
          <a:ext cx="8229600" cy="427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4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ahraniční platební sty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zahraničního platebního sty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ahraniční platební styk, hladká platba, dokumentární platba (inkaso, akreditiv), IBAN, cenné píry osvědčující vlastnictv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ankovní záru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kladní typ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. záruky platební - banky se zaručují za provedení peněžního plnění odběratel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záruky neplatební – banky se  zaručují za kvalitu provedených prací dodavatel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ruky plateb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zaplacení faktu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splacení úvěr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zaplacení leasingových splát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zaplacení spotřební da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zaplacení smě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jednání bankovní záru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ádost, kterou banka posoud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věří bonitu žada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ozhodne, zda se za klienta zaručí či nikol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 kladném vyřízení banka s klientem sjednává smlouvu o poskytnutí bankovní záruk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ruky neplateb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ruka za předloženou nabídku do veřejné soutěže (záruka v tendru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ruka za vrácení platby předem (záruka za vrácení akontac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ruka za náležité provedení kontraktu (kauční záruk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Sjednání bankovní záru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vystaví záruční listinu obsahující písemné prohlášení banky, že uspokojí věřitele do výše sjednané finanční částky, pokud klient nedostojí svému závaz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škeré náklady spojené s bankovní zárukou obvykle hradí klient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e to IBAN a jak je konstruován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jděte ho na výpisu z účt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ho inkaso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akreditiv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enné papíry osvědčující vlastnictv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záru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csas.cz/banka/nav/podnikatele-firmy-a-instituce/podnikatele-a-male-firmy/dokumentarni-inkaso/o-produktu-d0001004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finance.cz/zpravy/finance/214007-bankovni-zaruky-aneb-jak-snizit-podnikatelska-rizika-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Zahraniční platební sty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Platební styk z hlediska form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hotovost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bezhotovost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Zahraniční platební styk hotovostn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prostřednictvím směnárenské činnosti a oblasti cestovního ruch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Zahraniční platební styk bezhotovostn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orm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ladké platby (nedokumentární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plat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Zahraniční platební styk bezhotovostn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WIFT – společnost pro celosvětovou finanční telekomunikac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respondentský způsob propojení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BAN – mezinárodní číslo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IC kód – mezinárodní kód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platb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inka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akredit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hotovostní bezzávazkový systém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praven mezinárodními pravidl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y pracují s dokumenty nikoliv se zboží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5:12:52Z</dcterms:created>
  <dc:creator>Marek</dc:creator>
  <dc:description/>
  <dc:language>en-US</dc:language>
  <cp:lastModifiedBy>Igor</cp:lastModifiedBy>
  <dcterms:modified xsi:type="dcterms:W3CDTF">2014-09-13T14:37:48Z</dcterms:modified>
  <cp:revision>36</cp:revision>
  <dc:subject/>
  <dc:title>Platební styk tuzemský a zahraniční</dc:title>
</cp:coreProperties>
</file>