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885-2544-45F9-90A4-8A9CD579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1F6-6986-4F86-932A-EC9E257C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0B8-B6C2-47A2-99C5-2DEC0669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D94-449E-4FB5-AC2F-06F834E7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EA01-F4CA-4FD7-A919-78D00402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FB84-74DF-4B9C-A54D-449752A1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2D8-CE29-4B48-94F8-D471F9F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DD37-2AAF-4E42-9D55-8715257B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E80-7A49-4B58-81E8-3A46008A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32E2-FF52-4425-811A-1CE63F5F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BD40-0E90-462A-B7A1-ED1952C4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D4A-47B6-4A47-91A5-B05C6D3A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0EE-BD1F-4C59-9786-0B057A8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AD28-0EF1-40D5-BE7F-7AB2FA8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91AD-9741-4C0F-808D-AFD06A90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AE75-577B-4356-8504-E80390A0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503F-2F77-40F1-BE74-75931BBB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740-0DEE-4458-95CE-C66D4680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D63-8967-4D1F-9780-59189FE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90AE-3F7A-4E27-8F9A-2D0891F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840-A430-42D7-8004-426BC3AC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41C-F75F-4257-8114-76BA8B64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525-7F7A-4822-B8BB-BC7C3AAA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9F6-DDAB-4660-A357-0C0BA22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C83-A2EF-48CD-BD57-874BD960D7F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645-1D88-4C98-A802-5971B490F92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73360"/>
          <a:ext cx="756108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22100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a v české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, elektronický podpis nebo jiný kó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 - vyjadřuje ekonomický charakter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splatnosti - den, kdy mají být prostředky odepsány z účtu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- slouží k identifikaci platby pro příjem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– identifikace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slo faktury, rodné číslo fyz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y, IČO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fický symbol – dodatečný symbol identifikující např. jednotlivé měsíce u plat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říkazu k úhradě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–určuje charakter služby, pro platební styk s účty státního rozpočtu povinn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xtová zprá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vystavení příka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e vnitro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 mezi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příkazem k úhradě a příkazem k inkas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veďte příklady k jednotlivým příkazů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97200"/>
          <a:ext cx="8229600" cy="383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druhy, náležitosti, vypln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jeho druhy, náležit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úhrad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přikazuje bance, aby z jeho účtu poslala peníze na ji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inkas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dává souhlas k tomu, aby si z jeho účtu stahoval  peníze příjemce platby, může být nastaven lim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jednorázov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neopakující se plat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trval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platbu pravidelně se opakuj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jednotliv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pro jednu plat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hromadn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více plateb  najedn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elektronickou form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internetbanking, mobilbanking, homebankin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na papírovém formulář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zda se jedná o příkaz k úhradě nebo k inka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látce - číslo účtu a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říjemce - číslo účtu a 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56Z</dcterms:modified>
  <cp:revision>29</cp:revision>
  <dc:subject/>
  <dc:title>Platební styk tuzemský a zahraniční</dc:title>
</cp:coreProperties>
</file>