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5EB0-8BEA-4431-8125-ACA910B01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CACE-E60C-450C-BB74-AE185854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4532-2E5B-445E-9C0B-D6817D1D0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C84C-4227-4259-9CBD-ACD1BBDCC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4478-C0E3-48B6-8318-94DB3B5AE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22CA-F6C2-400D-AFAA-C9A31406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6F18-32C0-45D9-B8A0-F363BA01E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9C4E-28F1-46F3-B66A-7DBEAAAB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89B0-B5E9-4158-B47E-991CEB60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3E559-5102-4F62-87DE-EF7782E3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024D-0EBC-4464-B500-D014816F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A308-4488-4CAC-8048-C38D68C0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F8AF-5EA9-4E28-BA41-5CDADDB1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697A5-5607-4E86-BC6A-3B009A26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DE41-F247-4AB4-94EF-85D8ED91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E3635-B355-4EB6-9392-302D71EEF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9EBF2-4285-4573-8F6D-1D243C53D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715A-3152-4A96-A7BF-CBA89531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7028-729F-40F8-AD0C-DD33D663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1CC5-A2A7-4CA5-B851-E24C4003B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F65C-7244-4141-99A2-ADE3885F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48BA-D4F9-4286-B4FB-AE3BAB86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D6EC-7543-447A-B9BE-2B42E041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F138-2C12-4F75-865C-7FC84DB6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AACE-364C-42B8-90EC-05BD0C14BE5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174A-5C18-4ADA-9170-E3BC909F5977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1835280" y="333360"/>
            <a:ext cx="5295600" cy="12952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11280" y="3068640"/>
          <a:ext cx="7561080" cy="50472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08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4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611280" y="3860640"/>
          <a:ext cx="7561080" cy="1627200"/>
        </p:xfrm>
        <a:graphic>
          <a:graphicData uri="http://schemas.openxmlformats.org/drawingml/2006/table">
            <a:tbl>
              <a:tblPr/>
              <a:tblGrid>
                <a:gridCol w="3781440"/>
                <a:gridCol w="37796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-41-M/02  Obchodní akadem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2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Náležitosti šek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značení „šek“ v textu listiny v jazyce, ve kterém je šek vystave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ezpodmínečný příkaz zaplatit určitou peněžní sumu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méno toho, kdo má platit (šekovník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Náležitosti šek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daj místa, kde má být placeno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ní-li uvedeno, je to sídlo šekovní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atum a místo vystavení šek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pis výstavce v souladu s podpisovým vzorem B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anka může požadovat další údaj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Cestovní šek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uměle vytvořeny pro potřeby cestovního ruch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jsou to skutečné šeky, nevztahuje se  šekové práv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upraveny Obchodním zákoník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Cestovní šek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upují se, proto plně kry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ydávány velkými bankami a finančními institucem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e světových měná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 zaokrouhlených nominálních hodnotá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Otázky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ýznam a charakter šek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č u nás nejsou šeky příliš rozšířené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Šeky bankovní a soukrom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ákon upravující šek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evoditelnost šek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estovní šek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droj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ARTLOVÁ, Věra  a kol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Učebnice bankovnictví pro střední školy a  veřejn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Praha: Nakladatelství FORTUNA , 2004. 1. vydání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SBN:  80-7168- 990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ÁKON Č. 191/1950 Sb., ZÁKON SMĚNEČNÝ A ŠEKOV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ovelizace č. 29/2000 S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"/>
          <p:cNvGraphicFramePr/>
          <p:nvPr/>
        </p:nvGraphicFramePr>
        <p:xfrm>
          <a:off x="457200" y="1905120"/>
          <a:ext cx="8229600" cy="4238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1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ební styk a jeho nástro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e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ek, jeho význam, použití, druh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ek, šek bankovní, soukromý, převoditelnost šeků, náležitosti, cestovní še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Še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Š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rátkodobý cenný papír, který obsahuje bezpodmínečný příkaz výstavce šeku bance (šekovníkovi), aby vyplatila z jeho účtu oprávněnému majiteli šeku peněžitou částku uvedenou na šek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Š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upraven Směnečným a šekovým zákonem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č. 191/1950 Sb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ycházejícím z Ženevských konvenc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ovelizace č. 29/2000 Sb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má přímého dlužní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ždy splatný na viděnou 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ruhy šeků podle osoby výstav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šeky bankovní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ystavuje banka na žádost svého klien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ankou plně kryt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anka ho vystaví až za něj klient zaplatí z účtu nebo v hotovost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ruhy šeků podle osoby výstav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šeky soukrom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ystavuje soukromá osoba - klient, který má v bance vedený úč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ystavován na předtištěném formuláři v tzv. šekové kníž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ruhy šeků podle způsobu převoditelnost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šek na řad 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- na určitou osobu, převod  indosamentem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šek na jméno 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-  jméno oprávněné osoby, nelze indosov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šek na majitele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-  majitelem šeku je osoba, která  šek momentálně vlast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ruhy šeků podle způsobu použit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okladní šek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- k výběrům hotovosti z ban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šek k zúčtování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 - šekovník ho může vyrovnat jen bezhotovostně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(na šeku uvedeno „jen k zúčtování“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20:45:37Z</dcterms:created>
  <dc:creator>Marek</dc:creator>
  <dc:description/>
  <dc:language>en-US</dc:language>
  <cp:lastModifiedBy>Igor</cp:lastModifiedBy>
  <dcterms:modified xsi:type="dcterms:W3CDTF">2014-09-13T14:38:46Z</dcterms:modified>
  <cp:revision>25</cp:revision>
  <dc:subject/>
  <dc:title>Platební nástroje</dc:title>
</cp:coreProperties>
</file>