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jpeg" ContentType="image/jpeg"/>
  <Override PartName="/ppt/media/image7.png" ContentType="image/pn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908DD-A393-4499-BE6F-DE68E8109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158CA-BC77-4CF8-8F0D-AD0C09D6A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2DDC3-D5D4-42DB-A8BB-B0E8DBA38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22536-728C-4807-A9A4-07379FDA6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BF18B-62D4-47DB-8BF6-A275DEF8E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489FA-E077-4F89-8175-FC2127C6F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C2F64-9511-442F-9392-3E0ED7434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9AD86-B79F-4639-AA11-BE1FC9153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1EEAE-4FF3-4879-A662-27723523C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7D72E-EB07-4960-AC40-C6EB69049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47B87-7487-40FB-A1C9-73A4346FC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985FE-0109-42EA-A7AE-A2003D7B4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CC3B9-7811-48CF-A8CE-54867EC37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ABFDF-041C-470D-A729-C4D9FBC9A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FC041-045E-40CB-A8FE-D0315C48A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A906F-53E0-41C7-B076-0A2E5A173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EDA87-79FB-48A6-A5C9-F919DB224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E3673-8869-4DE4-BA5B-31653BDA7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2C5B3-289B-4A14-A3AA-500F81D88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C364F-E6B2-42E7-BCAC-BA98067DB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D1615-32C3-4ABF-A1EC-3FA40124F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B2061-4B49-49B8-BBB9-D027596D8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08B5F-149C-4BDC-95CC-388E014BE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35108-0F05-4435-9E5B-860478762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E3BBB-CD9A-4139-A05A-3AD6B182709D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61791-36CA-4F1C-8A93-BDBF74463540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3" descr=""/>
          <p:cNvPicPr/>
          <p:nvPr/>
        </p:nvPicPr>
        <p:blipFill>
          <a:blip r:embed="rId1"/>
          <a:stretch/>
        </p:blipFill>
        <p:spPr>
          <a:xfrm>
            <a:off x="2411280" y="260280"/>
            <a:ext cx="5295960" cy="129564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Výukový materiál zpracován v rámci projektu EU peníze školá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Registrační číslo projektu: CZ.1.07/1.5.00/34.020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11280" y="3284640"/>
          <a:ext cx="7561080" cy="576000"/>
        </p:xfrm>
        <a:graphic>
          <a:graphicData uri="http://schemas.openxmlformats.org/drawingml/2006/table">
            <a:tbl>
              <a:tblPr/>
              <a:tblGrid>
                <a:gridCol w="1584360"/>
                <a:gridCol w="1511280"/>
                <a:gridCol w="1584360"/>
                <a:gridCol w="2881080"/>
              </a:tblGrid>
              <a:tr h="786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Y_32_INOVACE_15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5" name=""/>
          <p:cNvGraphicFramePr/>
          <p:nvPr/>
        </p:nvGraphicFramePr>
        <p:xfrm>
          <a:off x="611280" y="4149720"/>
          <a:ext cx="7561080" cy="1698480"/>
        </p:xfrm>
        <a:graphic>
          <a:graphicData uri="http://schemas.openxmlformats.org/drawingml/2006/table">
            <a:tbl>
              <a:tblPr/>
              <a:tblGrid>
                <a:gridCol w="3781440"/>
                <a:gridCol w="3779640"/>
              </a:tblGrid>
              <a:tr h="506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g. Yvona Špílová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2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. Ročník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-41-M/02  Obchodní akademi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4/201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Směnka cizí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Picture 5" descr="5637_l"/>
          <p:cNvPicPr/>
          <p:nvPr/>
        </p:nvPicPr>
        <p:blipFill>
          <a:blip r:embed="rId1"/>
          <a:stretch/>
        </p:blipFill>
        <p:spPr>
          <a:xfrm>
            <a:off x="755640" y="1700280"/>
            <a:ext cx="763272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Náležitosti směnk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označení listiny jako směnka  v nadpisu i v textu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bezpodmínečný příkaz zaplatit částku uvedenou ve směnc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jméno toho, kdo má platit – u směnky vlastní je to výstavce, u cizí směnky směnečník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splatnost směnky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Náležitosti směnk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místo, kde má být placeno -  není-li místo uvedeno, místem placení je uvedené sídlo nebo bydliště směnečník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datum a místo vystavení směnk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vlastnoruční podpis výstavce pod textem listi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Nezaplacení směnk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směnka musí být předložena k proplacení majitelem směnk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není povinností dlužníka majitele vyhledáv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o odepření placení musí být sepsán písemný záznam – protestní listi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Nezaplacení směnk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rotestní listina -  zákonný důkaz o nezaplacení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může vydat soud, notář, obec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okud na směnce doložka „bez protestu“, pak bez protestní listi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následuje soudní řízení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Nezaplacení</a:t>
            </a:r>
            <a:r>
              <a:rPr b="0" lang="cs-CZ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směnk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směnečné řízení u soudu rychlejší a jednodušší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stačí předložení směnky u soudu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důkazní břemeno na obžalované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rozkoumání listin soude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směnečný platební rozkaz (splatnost nebo námitka 3 dny od doručení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ff"/>
                </a:solidFill>
                <a:latin typeface="Arial"/>
              </a:rPr>
              <a:t>Nezaplacení směnk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ravomocný rozsudek lze vymáhat exekučně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romlčecí lhůta proti přímým dlužníkům 3 roky, pak nárok zaniká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Směnečné úvěr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Eskontní úvěr – odkoupení směnky bankou před datem splatnosti, částka snížená o úrok (diskont) a poplatek bance (eskontní provizi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Reeskontní úvěr – odkoupení eskontované směnky před datem splatnosti od banky centrální bankou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ff"/>
                </a:solidFill>
                <a:latin typeface="Arial"/>
              </a:rPr>
              <a:t>Směnečné úvěr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Ručitelský (avalský) úvěr – banka se zaručuje směnkou zaplatit za svého klienta v případě nesplácení 3. osobě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Lombardní úvěr – úvěr u banky zastaven směnkou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Negociační úvěr- obdoba eskontního úvěru v zahraničním obchodě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Opakování: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Charakteristika směnk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Směnka vlastní a směnka cizí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Zákon upravující směnk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ostup při nezaplacení směnk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Význam protestní listin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romlčecí lhůt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2" descr=""/>
          <p:cNvPicPr/>
          <p:nvPr/>
        </p:nvPicPr>
        <p:blipFill>
          <a:blip r:embed="rId1"/>
          <a:stretch/>
        </p:blipFill>
        <p:spPr>
          <a:xfrm>
            <a:off x="1741320" y="274680"/>
            <a:ext cx="566136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7" name=""/>
          <p:cNvGraphicFramePr/>
          <p:nvPr/>
        </p:nvGraphicFramePr>
        <p:xfrm>
          <a:off x="457200" y="1905120"/>
          <a:ext cx="8229600" cy="42386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515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inance, daně, finanční trh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ématická oblas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latební styk a jeho nástroj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4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ankovnictví a finan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ázev učebního materiálu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měnk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ýstižný popis způsobu využití, případně metodické pokyny: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měnka, její význam, použití, druh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měnka, směnka vlastní, směnka cizí, použití, náležitosti, protestní listin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Zdroj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HARTLOVÁ, Věra  a kol. </a:t>
            </a: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Učebnice bankovnictví pro střední školy a  veřejnost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, Praha: Nakladatelství FORTUNA , 2004. 1. vydání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ISBN:  80-7168- 990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ZÁKON Č. 191/1950 Sb., ZÁKON SMĚNEČNÝ A ŠEKOVÝ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Novelizace č. 29/2000 S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ff"/>
                </a:solidFill>
                <a:latin typeface="Arial"/>
              </a:rPr>
              <a:t>Směnk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Směnk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Zákon směnečný a šekový č. 191/1950 Sb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Novelizace č. 29/2000 S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Směnk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úvěrový cenný papí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sepsaný v přesně stanovené formě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bezpodmínečný dlužnický závazek, který dává majiteli směnky  právo požadovat ve stanovenou dobu stanovenou částku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Použití směnky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rostředek k získání eskontního nebo obchodního úvěru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rostředek placení a ručení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rostředek k získání hotovosti před dobou splatnost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Použití směnky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součástí dokumentárního akreditivu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cizí zdroj  financování firm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Druhy směnek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směnka vlastní – bezpodmínečný příslib dlužníka zaplatit a obsahuje slovo „zaplatím“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směnka cizí ( trata) – bezpodmínečně přikazuje jiné osobě, aby byla směnka uhrazena a obsahuje slovo „zaplaťte“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Směnka vlastní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Picture 5" descr="5676"/>
          <p:cNvPicPr/>
          <p:nvPr/>
        </p:nvPicPr>
        <p:blipFill>
          <a:blip r:embed="rId1"/>
          <a:stretch/>
        </p:blipFill>
        <p:spPr>
          <a:xfrm>
            <a:off x="826920" y="1844640"/>
            <a:ext cx="741708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2T20:45:37Z</dcterms:created>
  <dc:creator>Marek</dc:creator>
  <dc:description/>
  <dc:language>en-US</dc:language>
  <cp:lastModifiedBy>Igor</cp:lastModifiedBy>
  <dcterms:modified xsi:type="dcterms:W3CDTF">2014-09-13T14:39:47Z</dcterms:modified>
  <cp:revision>38</cp:revision>
  <dc:subject/>
  <dc:title>Platební nástroje</dc:title>
</cp:coreProperties>
</file>