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8C1-62A6-4913-B1A5-A358FC27EB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4D4-5F38-49F4-9951-8915B40A557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504-D81C-4677-807F-37092EE6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41E-FED4-4F76-9BCE-004F4390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C2F-DDB9-4B64-AD24-893D992B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6B4-8750-4C58-A472-C28CF465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D772-DDCC-4FFB-A60C-03ADB2F6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6B4C-4E62-494D-BCC8-9F03273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853-A983-407B-81E7-E79097D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8480-B800-411D-A452-B20945FD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52E1-0B42-4ADF-A66B-1A43FD25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634-6DD6-4115-A0C9-CE7B492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8FB-8E41-4621-9B42-BCB8F52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179-C674-42C7-87FB-8269AD5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88A0-F60E-46AC-BF89-769B8F0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3C71-B742-4FF1-9A16-8DFA6ED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460C-2723-4E9A-9E15-BA99FF61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060A-1542-45CC-8D5B-F03DED4C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6A6-1B79-40D4-8042-42D1325D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40-D9A3-4AE2-A25F-D112488F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E79-0078-4570-9EBD-76CEB39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068-8F0D-45D1-8F9A-6F4D924F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007-6CE2-47C0-AD00-A27C02A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644-254A-4D7E-9993-9CFE608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C9C-A010-4027-8E0C-596DE9D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2A9-BF69-4D1A-85BA-2992587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CA8-D7BF-4892-9A4A-F1401A37E7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8591-ADA7-401C-B867-891D4F0296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as.cz/banka/nav/osobni-finance/servis-24-mobilni-banka/o-produktu-d00019607" TargetMode="External"/><Relationship Id="rId2" Type="http://schemas.openxmlformats.org/officeDocument/2006/relationships/hyperlink" Target="http://www.csas.cz/banka/nav/osobni-finance/servis-24-mobilni-banka/o-produktu-d00019607" TargetMode="External"/><Relationship Id="rId3" Type="http://schemas.openxmlformats.org/officeDocument/2006/relationships/hyperlink" Target="http://www.kb.cz/cs/lide/obcane/ucty-a-platby/internet-telefon-mobil/mobilni-banka.shtml" TargetMode="External"/><Relationship Id="rId4" Type="http://schemas.openxmlformats.org/officeDocument/2006/relationships/hyperlink" Target="http://www.csas.cz/banka/nav/osobni-finance/mobito/o-produktu-d00018799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3068640"/>
          <a:ext cx="7561080" cy="5763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11280" y="386064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kredi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řes mobilní peněžen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ychlé zaplacení v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ýkoliv počítač připojený k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rizace plateb = bezpe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ování pohybů na úč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jednání úvěru, kontokorentu, platební karty nebo pojišt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mobi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limitu pro platby kartou na internetu a pro výběry hotovosti v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, pojistné a složenky elektronicky (e-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é grafické ztvár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remní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ojení s bankou pomocí internetu a nainstalovaného speciálního progra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karta s elektronickým podpisem (nutná čtečka elektronických kar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 a složenek (aktivace elektronických faktur, e-faktura = předvyplněná 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rzovní lís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účetních programů podporujících home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výhody jako internet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irtuální platební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estnáctimístné číslo (+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 platnosti a kontrolní kód CVC/ CV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 -zámeček, údaje obchodníkovi šifrova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é po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nto způsob není příliš  oblíben, strach ze zne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a musí být pro placení na internetu aktivována v bance, nastaven limit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a internetových obchodů podporuje systém 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e o kartě (číslo karty, datum platnosti, CVV/CVC kód)poskytuje přím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ý kód pro autorizaci plat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1628640"/>
          <a:ext cx="8229600" cy="47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ktronické bankovnictví a elektronické platební prostřed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elektronického bankovnictví a elektronických platebních prostředků, použití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fonní, mobilní, internetové bankovnictví, homebanking, embosovaná karta, elektronická peněženka, PayPal, PayU, PayS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 společnosti založit účet, na něj převést např. z běžného účtu určit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pojit se svou embosovanou platební kartou aktivovanou pro placení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možno platit i platby přijí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ící společnost si strhává poplatky, platí je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placení v internetových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chodník musí být přihlášen do systém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 platbě propojení obchodníka s platební bránou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azník platí přes internetbanking nebo embosovanou  platební kartou aktivovanou pro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latky provozovateli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Elektronická peněžen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banky složí hotovost do peněženky = neúročený plovoucí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obchodníkovi z tohoto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internetem, mobi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se dají z peněženky vzít zpě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aySec, Mobito……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meban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na internetu – embosovaná platební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cení na internetu – elektronická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en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Placení na internetu –  PayPal,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Vyhledejte další systémy placení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Zdro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csas.cz/banka/nav/osobni-finance/servis-24-mobilni-banka/o-produktu-d00019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bdélník 4"/>
          <p:cNvSpPr/>
          <p:nvPr/>
        </p:nvSpPr>
        <p:spPr>
          <a:xfrm>
            <a:off x="411120" y="256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kb.cz/cs/lide/obcane/ucty-a-platby/internet-telefon-mobil/mobilni-bank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as.cz/banka/nav/osobni-finance/mobito/o-produktu-d000187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bdélník 5"/>
          <p:cNvSpPr/>
          <p:nvPr/>
        </p:nvSpPr>
        <p:spPr>
          <a:xfrm>
            <a:off x="372960" y="3487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nav/osobni-finance/servis-24---internetbanking/o-produktu-d00019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content/inet/internet/cs/faq_ie_12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s://www.erasvet.cz/pravnicke-osoby/ostatni/stranky/firemni-bankovnictvi-max-homebanking/popis-produktu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finance.idnes.cz/nejbezpecnejsi-platby-kartou-na-internetu-nabizeji-tri-banky-pu5-/bank.aspx?c=A110914_143118_bank_b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s.wikipedia.org/wiki/Pay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Elektronické bankovnictví a elektronické platební prostřed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lektronické (přímé) 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 (tel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 (mobil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internet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mácí bankovnictví (hom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latné zákaznické telefonní li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éř nebo automatická hlasová služ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tup k účtu 24/7 z tuzemska i zahrani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tuální přehled o zůstatk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SMS, e-mai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trola pohyb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operace zadané telefonicky levnější než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á bezpečnostní hesla pro komunikaci s bankou (S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Phone, iPad, iPod touch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íc funkcí, tím širší nabídka služ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plikace internetového bankovnic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pojení kdekol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hlížení stavu a historie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hledání nejbližší pobočky nebo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enování složen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nanční úspora (levnější příkazy než na poboč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á grafika apl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ná bezpečnostní opatř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pisy z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stavení vzhle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21Z</dcterms:modified>
  <cp:revision>47</cp:revision>
  <dc:subject/>
  <dc:title>Platební nástroje</dc:title>
</cp:coreProperties>
</file>