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277-0EEC-479C-AFA9-B61F0DFF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F4D-9C57-4D99-85C5-F9E62705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40D-34AD-4E21-A778-8AF7A159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230-6133-4784-8509-C1C0C09B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3C16-38BF-460C-ACCD-31FEA046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E902-BCA3-4FA5-9BDA-91C3301B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6074-224C-4A2A-AEF6-700E9C20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CADE-AA71-4210-A265-716375D9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386C-E4A3-4199-AB3A-07F8F217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461E-6EA1-4F1D-B675-D6E765E0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C2DE-9F65-45E9-83D1-AC109F5F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B35-EDBA-48B5-9B68-90401457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1D31-C2EF-44E5-9E5B-3380EA74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560A-F171-46C6-9701-D8B0B486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2FDB-6291-48BC-85FD-DBACB6BB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AFE3-2775-4D3D-A6D5-37553973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F919-F2C0-4AC5-BF9B-E8CD7462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46A-F94C-440E-A06F-24289FCD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DB1-6A1A-46AD-AF39-1F2AC9D0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BA3-A325-4E5B-AEA1-C0ED767B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F72-7D83-49E4-B3C1-F4141B2A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1BC-ECE3-43EA-94FC-D920D1B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F88-1A1D-48AB-9DE3-2A525B5D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12D-5FF9-4745-8D9E-4BCA53B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62B7-3E49-4A90-9BC6-BA866E9A910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8FC-BAE8-476D-B58A-EF8149B2FDC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64500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400640"/>
          <a:ext cx="7561080" cy="162072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ájemné zakládá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stro účet – účet, který má banka otevřen u jiné zahraniční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oro účet (vostro účet) – účet, který vede zahraniční banka pro jinou ban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ahraniční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learingov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uzemské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ní banky mají u clearingové banky účet a přes ní jsou spoje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learingové (zúčtovací) centrum ČNB, systém CERT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vklad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Co je to platb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Vysvětlete podstatu výběru hotovosti na pokladně obchodů (cashba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K čemu slouží zúčtovací centrum ČN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Způsoby propojení ban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způsoby hotovostního platebního styku tuzemskéh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Bezhotovostní platební styk tuzemsk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47880"/>
          <a:ext cx="8229600" cy="4173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tuzemské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, vklady a výběry v hotovosti, vklady a výběry na účet, cle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Tuzemský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teritor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tuzemsk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žením hotovosti ve prospěch účtu příjemce - pokladní slože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o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ukazem peněžních prostředků ze svého účtu k výplatě v hotovost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em k výplatě v 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běrem prostřednictvím výběrního lí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latební kart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pokladně obchodů cashbac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skutečnuje se na základě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ou příkazů k zúčtování (platebních příkaz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ů k zúčt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ch platebních kar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ho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 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ba převodu v tuzemsku  do 24 ho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34Z</dcterms:modified>
  <cp:revision>29</cp:revision>
  <dc:subject/>
  <dc:title>Platební styk tuzemský a zahraniční</dc:title>
</cp:coreProperties>
</file>