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58C-EE28-4C6B-AA40-05995A5F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2EF-E616-4925-AE18-D4C71E5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4DA-E806-4A30-AFFD-467DF529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A50-271C-4F18-96B6-F62A600D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781D-C607-4337-A570-17EE7B77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7532-56F7-4DEE-93E8-EC38F37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6679-2C9F-4E43-BEF4-1EE87C29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65DD-6970-41B8-AAA2-56B9F10D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2BCD-9311-4F3A-B4EA-787F0C47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4D3A-1C97-43ED-823A-E5222C17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18AA-4190-4D5A-8C33-A7DF2189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0B3-C169-4F29-9409-7F26A21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9229-5886-4DD1-9946-E0F11A9E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EFB6-C89B-4DDB-A2A6-FAF129E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5C87-580A-4B80-A119-CA8D9655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1A2A-218E-4423-8303-EA9FCD98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5427-ACFA-47CE-8E12-E716F4DC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F0B-CF61-4536-8847-42A1D335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E6C-4A09-42F0-BEE4-8CC7F409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A37-0802-460C-81CA-C014E394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3FF-9E8F-40EC-80BB-8DBD210D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C3A-83C0-4270-A236-45CBDB2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3A1-1A3C-46D6-A181-DA7A35B9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161-1A1C-4914-9405-902F722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5205-4BB5-45DF-B3AB-8786E4C93CB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CFE3-83ED-4B0C-86AE-57F4D2005B8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21000"/>
          <a:ext cx="7561440" cy="159084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kles (znehodnocení) kurzu domác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výšení kurzu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jakého hlediska je sestaven kurzovní líst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valutou a devizo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pomoci kurzovního lístku vypočítejte přímý a nepřímý kurz Kč k EUR, USD a GB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počítejte křížový kurz zahraničních měn z minulé otáz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Jak ovlivňuje Česká národní banka plovoucí kurz české korun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pis Ekon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68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y mě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cvik práce s kurzovním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íst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ovní lístek, deviza, valuta, typy kurz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Kurzy mě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mý kurz – počet peněžních jednotek měny domácí k jednotce měny zahraniční Př. 1 EUR = 26,-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římý kurz - počet peněžních jednotek měny zahraniční k jednotce měny domácí Př. 1 Kč = 0, 038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řížový kurz  - kurz dvou zahraničních měn k sobě navzájem vypočítaný z kurzu třetí měny, např. kurz EUR k USD a naopak vypočítaný z kurzovního lístku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ovoucí kurz (floating) – kurz měnící se v závislosti na nabídce a poptáv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vný kurz (fixní) – kurz pevně stanov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ficiální kurz – kurz stanoven centrální bank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oficiální (černý) kurz – kurz u překup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nákup - příjem cizí mě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prodej – nákup ciz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nákup – prodej valut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prodej - nákup valut ve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střed – aritmetický průměr kurzu nákup a kurzu prode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obrazuje aktuální kurzy komerčních bank (směnáre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dejní i nákupní kurz je uvažován vždy z hlediska banky (směnár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v hotovosti – valu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bezhotovostní - devi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5:15Z</dcterms:modified>
  <cp:revision>30</cp:revision>
  <dc:subject/>
  <dc:title>Peníze a měna</dc:title>
</cp:coreProperties>
</file>