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3A26-4BBA-44C3-83EA-D4BEFBB5A47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143-FD79-4493-A5FB-F2E6FD86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B06-109F-4956-9866-F66C30B9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5EF-E5A9-47DA-BAEC-A9506050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B94C-F1FB-4A97-915C-E5CD296B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133C-4330-4CD5-9BF5-5463542C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231C-3C22-4323-ABDE-C4E1DFD3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B0B9-A6D7-43DB-9057-E7DCDE88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7A74-8CF5-4983-9D61-D8B42335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B2C5-59B0-4E79-ABC9-92F77097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E495-601A-48E7-928C-4BBE9880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664F-17A1-49F9-8F9D-43BB384B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6BB-06D9-46B2-81E6-76FAB317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CF43-F923-459D-A36E-972F96EB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6633-0D90-4F97-8805-FBC5D91A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30E5-D690-4D62-968F-F8720113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A2B8-7A4E-4897-A2DA-773FC4AB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D700-E614-40B0-A0A7-F0F3E68A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55B-35C9-4E96-9ABB-7E5D396E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80D-AB0A-43C8-B0F8-AF7D6DF6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616-15C9-45EC-B041-0BC1D04B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3AC-9EE6-43DC-92BD-199DAD93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ED8-3A78-486B-95BF-5F345AF6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B64-DF1F-4DD4-9D58-4DE4312A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E50-21A1-4A23-916D-17C02662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6E5E-FC84-4115-AE0B-A60C1A7423B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A082-1019-458C-8E92-F01CBFC1C76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Ryzost" TargetMode="External"/><Relationship Id="rId2" Type="http://schemas.openxmlformats.org/officeDocument/2006/relationships/hyperlink" Target="http://www.puncovniurad.cz/cz/znacky.aspx" TargetMode="External"/><Relationship Id="rId3" Type="http://schemas.openxmlformats.org/officeDocument/2006/relationships/hyperlink" Target="http://cs.wikipedia.org/wiki/Investi&#269;n&#237;_zlato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4365720"/>
          <a:ext cx="7561440" cy="1625400"/>
        </p:xfrm>
        <a:graphic>
          <a:graphicData uri="http://schemas.openxmlformats.org/drawingml/2006/table">
            <a:tbl>
              <a:tblPr/>
              <a:tblGrid>
                <a:gridCol w="3527640"/>
                <a:gridCol w="4033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lato a stříbro, m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mince ze zlata a stříbra (opotřebovávaly se), později z obecných kov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eníze papírové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lký objem a váha mincí,  proto vznik papírových peně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hemická značka Au (auru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kký kujný ko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pradávna používán pro výrobu šperků a mincí jako platid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užil jako měnová záruka pro bankovky = zlatý standard (bankovky kryty zlate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  v současno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elektroni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počítačovém průmys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perkařs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ubní lékařs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  v současno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odita obchodovatelná na světových burzách, z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ákladní a nejznámější burza Londýn, zveřejňuje průběžně výsledky obchodování tzv. London FIX a London SPO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větová cena zlata udávaná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dolarech za trojskou unci (USD/oz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yzost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karátech (zastaralé), 1 karát = 1/24 zlata ve sliti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tisícinách, 585/1000 je 585 g zlata ve slitině (= 14 kt zlat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starale  i v 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yzost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žívané zlato u ná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4 kt = 585/1000, ryzostní číslo 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8 kt = 750/1000, ryzostní číslo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2 kt = 900/1000, ryzostní číslo 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ukátové zlato = 986/1000, ryzostní číslo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4 kt (ryzí) = 999/ 1000, ryzostní č. 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ozdobných předmětech a špercích z drahých kovů musí být ryzost vyznačena a potvrzena značkou státní zkušebny (punce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R tuto povinnost ukládá a vymezuje Puncovní zákon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konává Puncovní úřad, jako orgán státní správy na úseku puncovnictví a zkoušení drahých kov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uncovní znač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6" descr="http://www.puncovniurad.cz/znacky/CeskeSamotne.jpg"/>
          <p:cNvPicPr/>
          <p:nvPr/>
        </p:nvPicPr>
        <p:blipFill>
          <a:blip r:embed="rId1"/>
          <a:stretch/>
        </p:blipFill>
        <p:spPr>
          <a:xfrm>
            <a:off x="395280" y="1773360"/>
            <a:ext cx="85726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výrobku kromě  puncovní značky i označení pobočky písmen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bočky: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-Praha, J-Jablonec nad Nisou, B-Brno, O-Ostrava, T-Turnov, R-Tábor, Z-Plzeň, L-Olomouc, H-Hradec Králové, K-Červený Kostele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57200" y="1905120"/>
          <a:ext cx="8229600" cy="4848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známení s funkcemi, významem a vývojem peně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, funkce, barter, všeobecný ekvival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Investiční zlat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up zlata pro uložení dočasně volných finančních prostřed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é mi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é slitky (cihl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yzost 900/1000, 999/10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laté certifikáty, zlaté fondy – investice bez fyzického dodání zl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peníz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my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voj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teré měny plní funkci světových peněz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Zjistěte, jaké ryzosti zlata se u nás používaj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Co je to investiční zlato a v jaké podobě se s ním můžeme setk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Je stále aktuální barter? Uveďte příklad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cs.wikipedia.org/wiki/Ryzo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puncovniurad.cz/cz/znacky.asp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cs.wikipedia.org/wiki/Investi%C4%8Dn%C3%AD_zl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ahoma"/>
              </a:rPr>
              <a:t>Peníze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eníz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níze jsou takový statek, který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určité společnosti slouží jako všeobecně přijímaný prostředek směny (platidlo)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unkce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rostředek směn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oužíván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placení za zboží a služby (platidl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účtovací jednotk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k vyjádření hodnoty zboží či služ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unkce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uchovatel hodnot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chovávají svoji kupní sílu (úspor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větové peníz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vybrané měny a  zla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ormy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ankovky a m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základní for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epozit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bezhotovostní peníz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účtech v 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né papíry  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zv. samozásobitelská ekonomik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spotřeba pouze vlastních výrob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zv. naturální směna -  barte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, výměna zboží za zboží, problém v různých hodnotách vyměňovaného zb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moditní (zbožové) peníz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šeobecný ekvivalen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 zboží žádán všemi, slouží jako platidlo (plátno, dobytek, koření, sůl, jantar, kovy), problém ve špatné dělitelnosti, nízké trvanli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2:45Z</dcterms:modified>
  <cp:revision>33</cp:revision>
  <dc:subject/>
  <dc:title>Peníze a měna</dc:title>
</cp:coreProperties>
</file>