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A0E9-E6F3-4B01-9C9F-0C55032B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E7A-3071-42A5-8D5A-9DEE4ABE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658-EE41-40AD-9D88-34992AF5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B6B-3006-4687-9BB7-0536FFB1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4D22-393B-4AFB-A4E3-3CBC146A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6981-4DC9-4CAA-9E13-2B572F67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829A-8815-42BC-BC51-F93E23A6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762D-E79B-4EE9-B567-749FB0C4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B75B-A45F-4CE6-9568-10928B52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9012-D22A-4747-922B-DB7B253D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DF18-AAC0-418E-82A7-737380AB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248-E061-4DE1-AFDA-457E631C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0D4E-A54D-49AE-8236-82E255DB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6385-E4D1-4373-B586-F9E35166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C18C-A8F8-4DC8-A77F-0CC56336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6B6E-4A4C-4BEA-96DF-642541CC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0101-4DDD-4916-B151-B1FF8123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87075-29CF-4B23-B919-DFBE3AB1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66000-22A2-4B71-A402-2D1FEC09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BF81B-7359-45EE-9BB4-DAE6C3B9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DAD1-FB6D-41E4-BB33-1C2153EC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0654-E72F-4D95-8AED-8B2A50A1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D5F-E207-4B91-809A-232C0CB9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72421-259A-4D2F-8204-7D26CD6C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166EB-EB1C-49AD-BC65-FDFBFC51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D63E2-9613-462C-B6D4-F2621A50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347B6-9824-42E9-8D98-7738F327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1B6ED-1A15-46FA-868B-8D2A8F07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D0D6-814D-4B2C-8B5E-858087E8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0FA2D-9C3F-4419-B608-12443CE7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C86-2AE3-4DA4-8AAD-52789057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E86-B523-46FB-AEF4-EC70E14A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8EE-A13F-4127-9904-75F171FF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6B3-7C88-44C5-A875-DA813813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2D8-FCD0-4C13-B3FB-9E3F1CE3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CA9-FA04-4929-99F1-888C8100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D340-F558-400A-962E-3CD848FD50F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16D7-D847-4332-A3B0-B0E3756A0D3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00BE-D883-44F6-9D04-5630501D30A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ádivá inflace (cválající, dvojciferná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udký růst c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  převyšuje růst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ztrácejí kupní sí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idé se zbavují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Hyperin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tr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růst cen ve stovkách, tisících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lísání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ztratily význ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ástečný bar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erný obch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projev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jevná inflac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 odpovídá naměřené infla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otlačená (blokovaná) inflace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inflace blokovaná státem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projev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skrytá infl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lký podíl stínové ekonomiky nebo   rostou ceny výrobků a služeb nezahrnutých ve spotřebním koši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říčin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ptávková in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růst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úměrná produktivita prá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nížení da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evné úvě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říčin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bídková (nákladová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dokonalá konkure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výšení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itické udál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éně kvalitní zdroje suro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39640" y="1844640"/>
            <a:ext cx="184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rozdělovací efek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reálných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ixní důchody se neměn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hodnoty vkladů u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hodnoty úvěrů a půjč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sociální dopad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zaměstna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ciální nepoko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bo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konomická emi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ůsobení na rovnováhu ekonomi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í strukturu spotřeb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í strukturu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írná inflace působí motivačně pro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robu i zaměstna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rotiinflační politi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loha centrální banky (cenová stabilit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yblivá úroková míra u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ování růstu mez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í růstu popt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395280" y="1700280"/>
          <a:ext cx="8229600" cy="3816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světlení pojmu inflace, členění a projevy inflace, způsoby měření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lace, cenové indexy, členění a projevy inf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to infla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to spotřební koš a co obsahuj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často se mění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 čemu se používá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edujte vývoj inflace v ČR za posledních 10 l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Která instituce měří infla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Inflace podle kvantitativního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ediska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Inflace podle projev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9. Příčiny infl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0. Důsledky infl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1. Protiinflační polit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ff"/>
                </a:solidFill>
                <a:latin typeface="Arial"/>
              </a:rPr>
              <a:t>Inflac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jev ekonomické nerovnová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ové hladiny (úroveň ce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nehodnocení (pokles) mě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kem je de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spotřebitelských cen CP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 výpočtu slouží průměrné ceny výrobků a služeb zařazených do spotřebního koš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á se spotřebu průměrné domácn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spotřebitelských cen CP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á položka svou váhu určenou podílem výdajů na daný výrobek nebo služb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ový spotřební koš po 5 letech z důvodu změny potřeb domác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cen výrobců (PP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různá odvětví a obo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e obsahují výrobky a služby pro výrob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á položka má v koši svou vá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incip stejný jako u C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Deflátor HDP (HNP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em jsou všechny spotřebované výrobky a služby v daném obdob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ý rok se koš m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áhou je podíl výrobků nebo služby v produkt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írná inflace (plíživá, jednociferná)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jatelná pro stát i obč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y rostou poma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y nepřekračují tempo růstu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idé se nezbavují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21:41:27Z</dcterms:created>
  <dc:creator>Marek</dc:creator>
  <dc:description/>
  <dc:language>en-US</dc:language>
  <cp:lastModifiedBy>Igor</cp:lastModifiedBy>
  <dcterms:modified xsi:type="dcterms:W3CDTF">2014-09-13T14:47:00Z</dcterms:modified>
  <cp:revision>35</cp:revision>
  <dc:subject/>
  <dc:title>Inflace</dc:title>
</cp:coreProperties>
</file>