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3E0DF-9321-40DB-9C99-A4272281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92552-BEE0-4ABD-9667-AF0CBF36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D081-826C-4F2D-9FA9-F7CF315D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91D4-6F38-4522-A605-F1ABBCA4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1179-C195-4A4C-AD75-3997E363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1A45-F423-4BD0-A217-4432EEFE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04EE-A5F7-4989-AC7C-6EF491C6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423C-41B5-49F9-8BB0-535865C5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C5FE-6277-4093-A89D-38D59053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66FA-0E0A-40F8-B059-5AAE296F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D2D8-9F7C-41D2-8EFB-C458BFE7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EF5BF-4F20-43CF-ADA2-1BD72886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710F-BDD9-4B94-B8EF-62DA6DF3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1D17-F6B2-4412-BAC6-6689344B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A62D-CCBE-4A89-BD77-62EA34F9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F8E1-85C2-46AA-AE01-B3FD7D88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C675-5775-4B68-BA7E-78888049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18776-5657-497E-AECB-E6A4FA33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52F6A-5529-44EB-A622-B92CD3CA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0A4BF-1365-4CAD-92B2-A57BF62A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156C4-1725-4FD4-A2BB-E5014BBF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05D3D-F8FA-4CC3-AD5A-D6E740F0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B2CD2-70DD-497E-8DF6-FBD263F0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D03EB-15CF-4D7F-A1F6-C7B384A3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4693-270B-4E7C-A968-2DB943D5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10CCA-AD5A-4926-80E5-104A582C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C3470-ADD6-44E1-906D-76FCA6B6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679F1-C6A9-404A-8F50-3F76CB43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0EEC0-477A-4409-9DF9-576651A5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95155-5942-4334-8758-36E462CC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F1415-42C1-40E6-8C80-E2E3B4BB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068A-B8EF-4FF4-B957-34713E24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E0B6B-4690-4764-B253-7104D377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CEF7E-6BAD-409D-8B07-CB20BBA9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47C7A-FB2A-4F24-AE0F-96B82176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A5C3-2DD3-48D5-83ED-468BB8E6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D92B-2323-4EDB-817C-AB2237418CB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D3C5-2137-40ED-9D68-CE502D8A9D6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B448-7C35-4098-8AC1-D4BFE458542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2533680" y="4572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11280" y="3860640"/>
          <a:ext cx="7561080" cy="4255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11280" y="4500720"/>
          <a:ext cx="7561080" cy="1554120"/>
        </p:xfrm>
        <a:graphic>
          <a:graphicData uri="http://schemas.openxmlformats.org/drawingml/2006/table">
            <a:tbl>
              <a:tblPr/>
              <a:tblGrid>
                <a:gridCol w="3456000"/>
                <a:gridCol w="410508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 ČNB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vizová čin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tební styk a zúčtování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erace na volném trhu –repooprace, od bank přebytečné peníze, za ně cenné papíry (kolaterál), po uplynutí dohodnuté doby odkoupí ČNB cenné papíry zpět i s úrokem, 2 T reposazb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utomatické facelity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pozitní facilita -  možnost bank uložit přes noc u ČNB  svou přebytečnou likviditu Minimum 10 mil. Kč, depozita úročená diskontní sazb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 Marginální zápůjční facilita  - možnost bankám vypůjčit si přes noc od ČNB formou repo operace likviditu. Minimální objem je 10 mil. Kč, úročeno lombardní sazbou ( nevyužívá 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vinné minimální  rezervy – banky mají  uloženy u ČNB 2 % (ze závazků kratších než 2 roky, tj. z vkladů klientů), slouží pro plynulý bankovní sty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hled nad bankovním sektorem, kapitálovým trhem, pojišťovnictvím a penzijním připojištěním, družstevními záložnami, směnárnami a dohled nad institucemi elektronických peněz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699920"/>
            <a:ext cx="7010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děluje lic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atření k náprav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stranění nedostatk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měna osob ve vedení a dozorčí rad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ení nebo zákaz některých činno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160" y="1699920"/>
            <a:ext cx="7010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atření k náprav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imořádný aud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uta až 50 mil.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nížení základního kapitá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ucená sprá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nětí lic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NB stanoví pravidla, která chrání stabilitu celého finančního trh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grace dohledu do jedné instituce (ČNB) od 1. 4.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í stížnosti na finanční instit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ídá dodržování zákazu nekalých obchodních praktik, zákazu diskriminace spotřebitele a dohled nad řádným informováním o cen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468360" y="1916280"/>
          <a:ext cx="8229600" cy="4168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eská národní ban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znam ČNB, její funkce a úko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eská národní banka, měnová politika, dohled nad finančním trhem, emise oběživa a peněžní oběh, devizový dohled, banka státu, platební styk a zúčtování ban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bor ochrany spotřebit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může rozhodnout o náhradě, zrušení smlouv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ůže rozhodnout o porušení zákona (sankce pro finanční instituci), což je pro klienta důkaz pro s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de centrální registr úvěrů – úvěrové závazky podnikatelů (fyzických a právnických osob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častníkem všechny tuzemské banky a pobočky zahraničních bank na území Č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nopolní právo vydávat bankovky a mince včetně mincí pamětníc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bá o plynulý a hospodárný peněžní obě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ravuje zásoby peně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huje z oběhu a ničí opotřebované peníze a poškozené vyměňuje za nov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jišťuje technickou a uměleckou přípravu platidel, jejich výrobu a dodáv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ílí se na přípravě právní a technické ochrany platidel proti padělání a na její realizac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uzuje a eviduje všechny peníze zadržené pro podezření z paděl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evizová činnost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ráva devizových rezerv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erace na devizovém trhu (devizové interven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vizová regul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kupuje a prodává cizí měnu, tím ovlivňuje její kur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tební styk a zúčtování bank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noví pravidla provádění platebního styk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avidla pro vydávání a užívání elektronických platebních prostředků  a pro bezpečné fungování platebních systém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tební styk a zúčtování ban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ozuje systém mezibankovního platebního styku CERTIS (zúčtovací = clearingové centru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de účty a poskytuje služby platebního styku zejména státu a banká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Banka státu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bankovní služby pro stát a veřejný sek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de účty organizacím napojeným na státní rozpočet (ČSSZ, ÚP, celní úřady, státní fondy) a rozpočet Evropských společenství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Banka státu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í operace spojené se státními cennými papí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 oblasti měnové politiky reprezentantem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stupuje stát na jednání MMF a Světové ba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Česká národní banka</a:t>
            </a:r>
            <a:r>
              <a:rPr b="0" lang="cs-CZ" sz="4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ladní údaje o b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ová polit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vizová čin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Platební styk a zúčtování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. Banka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8. Stížnosti na finanční instit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9. Zjistěte aktuální úrokové sazba stanovené ČN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o_cnb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menova_politik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financni_stabilit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dohled_financni_trh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platidl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platebni_sty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financni_trhy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dohled_financni_trh/vykon_dohled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trální bankou Č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on o ČN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litická nezávislost ČNB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istence zakotvena v ústav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jvyšším řídícím orgánem  bankovní rada, v čele guverné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leny bankovní rady  jmenuje a odvolává prezident republi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rada předkládá poslanecké sněmovně Zprávu o inflaci (4 x ročně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formuje veřejnost o své činnosti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veřejnoprávní subjekt se sídlem v Pra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bočky: Praha, Ústí nad Labem, Plzeň, České Budějovice, Hradec Králové, Brno, Ostr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mpetence správního úřad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ospodaří samostatně s majetkem svěřeným stá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 její činnosti lze zasahovat pouze na základě zák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smí přijímat pokyny od vlá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íle ČN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avním cílem je péče o cenovou stabilitu k vytváření podmínek pro udržitelný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ospodářský rů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pora obecné hospodářské politiky vlády, pokud není v rozporu  s cílem hlavní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 ČN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souladu s hlavním cílem tyto úkol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ová polit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55:44Z</dcterms:created>
  <dc:creator>Marek</dc:creator>
  <dc:description/>
  <dc:language>en-US</dc:language>
  <cp:lastModifiedBy>Igor</cp:lastModifiedBy>
  <dcterms:modified xsi:type="dcterms:W3CDTF">2014-09-13T14:42:14Z</dcterms:modified>
  <cp:revision>34</cp:revision>
  <dc:subject/>
  <dc:title>Česká národní banka</dc:title>
</cp:coreProperties>
</file>