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8F6-241D-4A04-A5E1-0410B633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ECAC-A962-4FCC-9D3F-56B499F7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3CA0-5851-4205-A43A-99DCA05C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2A41-0800-42CB-A13D-2B0471F9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B81E-1AAF-4F29-B656-43A70B89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6235-320D-4479-9D7D-7D21CACC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CEF2-14ED-4186-86FC-5729E221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9B3E-1D03-427E-B372-D15D6FDD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A870-F804-4E88-BF9D-03F7069D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898A-A288-46F7-B2FF-A383DD2C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707C-4E75-4468-92EA-FCCA1FA2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FA40-CFD2-41CF-8984-5B347A15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6A38-B822-4941-961C-89D4055B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C7F9-5551-4243-AE3D-BB71B644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F218-9ACB-4B1E-94FC-DE455F3A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B7F1-46C1-4794-9B63-BAC41B4A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32CD-7B91-458A-BFF5-47C11B76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B762A-B345-4FF7-9FA5-EABEDF6C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1C344-9B95-410F-BE67-C30605FF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5A340-C793-4970-9AF1-015893A4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FAE7E-A6FD-4F3A-B850-53502168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CD644-6726-4F06-A244-99749863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287C-A4F0-4806-B076-2CE82F5B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F0322-9911-41C0-9FAE-76E2968B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A4B81-DB5C-4EA8-AE23-19D9994D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33A20-251B-4F5C-8E49-90F2D4D1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E9EB6-EBE9-4826-96C9-B061CBF2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CB512-CE1C-46C1-9FF0-0483FCC4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42674-0C13-4407-AD1B-8B5530CB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06766-41BC-4E23-A6D2-7AD9DBFA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8D582-F8FA-4F11-8A3C-E15FBCA8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65684-B98D-41B4-B9BD-5A35E03F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E24BC-CE80-4458-B4C8-5054E693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CB9-7CBC-4B21-8840-32097AEA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0008D-9D55-4D53-84D6-097662D9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BFA08-D92A-4EB4-B67E-A4FB0DCB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954FA-65B2-4FE7-A600-D23C9C5E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06294-AAEA-475B-A367-17941BC7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FB456-F3E0-41F6-B936-488F3DE5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09532-4CAB-4ED1-AABD-E2AADC03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09861-EBC0-4300-B261-F7CFCE75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2959E-C545-4B7E-87F9-FC04D419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71D84-5C8A-4EE5-B272-8838CC1B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BA7D6-C597-4172-8AA2-A3AFBEE6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B2FE-ECB2-4ED9-A108-80D7C1C1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501D7-1A03-4601-AC18-11021A74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64958-028C-4728-9657-4F65F457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82F94-994F-4374-8E62-407A6BB6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656D4-1CE4-4920-8DFB-677F3BA9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0380C-D7D2-4FCD-BFAF-344F9C04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07AF7-BB6F-498D-BDE4-1756A22C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E0164-E386-4722-96A7-099D6056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89FF8-2592-44DB-8624-EF0132D9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A99A6-97B3-442C-92FF-2778D0C2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FECAD-9ED4-49E7-8BE9-F97D487A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70DF-BC87-4823-9CA8-B35E8D36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3CA7B-9712-4FA8-B9CA-B2DD1B74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A0CA1-0A8D-4503-B441-57954014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F598D-44CD-45CD-A987-DB59C854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2A144-1938-457C-97EF-B0ABF9AB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7C995-6B18-4FAB-B691-C9115C4E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F6262-13A1-4395-AAF1-D3DAAAA7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FC233-CE59-4F97-B140-FAE94BA6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E30BE-89D6-4B10-922C-166E2DB2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7DE66-274B-444F-90EF-C09D490B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02D24-4453-4F8F-99D5-8A3F72DB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FD8-66B0-4FDA-82E1-9FA7FAA4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9E9B1-B96F-4B43-BCB5-2CDA06BB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9AC59-5138-4636-9F53-241E0739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5EB86-ECB3-4197-97E4-09DF2C66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F0E7B-60F4-43FC-8379-1BB70853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DCFAA-5B44-4501-B7E8-B1225B6A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7B328-7F90-409D-87B7-C1BEA4AF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EE2F7-4935-448B-AD23-1CF3F426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E6B1C-66C7-4B8A-B6EC-16C8B0C0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7970D-33AC-42A8-B184-7DF83AA8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F9810-43A3-42E1-8C8D-DFC0C929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2B6B-BC61-4032-8FFF-4E3E37FF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7884F-DF7E-4E42-AD69-019DB325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99CE1-0412-4B47-8EBE-CF9A211B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1D19E-A914-47CB-A900-D31A9997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F7220-90A6-4A40-8DB4-6D9DE7B0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4AD0E-954B-492C-B4F7-B9951EC9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6DFAD-10E8-4CC7-8AAC-A57F7C2F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E0F9C-1A9F-4E68-B41B-1FD0E2A5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FA4CA-0F72-4E8C-AD81-CBEFEC07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5CA9D-7B3D-44E6-9230-335D0E27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6CDB0-8148-4A67-BAE4-6777E643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2DF4-589F-434A-A5B3-8A5E5730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406C4-9A2E-4F6B-A55C-CC966B3D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FA037-EC50-4882-9D26-523400BA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1B539-FDDE-433F-8321-E10C7215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D80ED-131B-4FAC-9DB1-B0BACF72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3D87E-4489-4273-9A41-9C03E804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3B8AC-9786-4523-A50E-5DAD2DCA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B7F01-A24B-481D-9644-EEC50EEF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CF5F-7A7A-4083-81BD-A206101172D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Rovnoramenný trojúhelník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F6DB-2C46-44D4-993B-451401595527}" type="slidenum">
              <a:rPr b="0" lang="cs-CZ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B2DF-6925-4F87-A1CC-09104C54F8A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avoúhlý trojúhelník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Rovnoramenný trojúhelník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římá spojnice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římá spojnice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8A90-5BAD-46DE-A6C7-438161D2567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CD0E-3B9C-405D-A0C2-6B6AD8DAC85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483E-D7B5-401C-A4F5-E303184BDF55}" type="slidenum"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D5D5-E7D7-4E18-95AE-DCFE4F913B84}" type="slidenum"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290E-E64A-4BF9-8D92-B1185ED2EA7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eskaposta.cz/cz/sluzby/penezni-sluzby/cr/postovni-poukazka-a-id254/" TargetMode="External"/><Relationship Id="rId2" Type="http://schemas.openxmlformats.org/officeDocument/2006/relationships/hyperlink" Target="http://www.ceskaposta.cz/cz/sluzby/penezni-sluzby/cr/postovni-poukazka-b-id256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0" y="2011320"/>
            <a:ext cx="9283680" cy="4444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539640" y="4365720"/>
          <a:ext cx="7561440" cy="166212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Nadpis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V. (variabilní) symbol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S. (specifický) symbol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K. (konstantní) symbol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okud uváděny, vyplňují se zprava. Prázdná okénka  možno doplnit nulami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 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 bezhotovostně z bankovního účt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http://remix.nicm.cz/wp-content/uploads/2010/11/POuk%C3%A1zka-C.jpg"/>
          <p:cNvPicPr/>
          <p:nvPr/>
        </p:nvPicPr>
        <p:blipFill>
          <a:blip r:embed="rId3"/>
          <a:stretch/>
        </p:blipFill>
        <p:spPr>
          <a:xfrm>
            <a:off x="1187280" y="2781360"/>
            <a:ext cx="665172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 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-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výplata poukázané částky - 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 hotovosti ve lhůtě jednoho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racovního dne ode dne podán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soustředěné inkaso plateb obyvatelstv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inkasování plateb obyvatelstva ve prospěch PO a dalších oso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edtištěný platební dokl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každý plátce – osobní spojovací číslo (žádost na poště)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jemné, energie, TV, rozhlas apod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arianta i pro podniky a bank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hotově na pošt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hotově u poštovního doručovatel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jednorázovým příkazem k úhradě z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trvalým příkazem k úhradě z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rychlá  hotovostní platb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ro zákazníky e – shopů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zákazník  předá obsluze vygenerovaný čárový kód a částku platb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obdrží  potvrzení o zaplacen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evod hotovostních peněz na účet v zahranič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0" name=""/>
          <p:cNvGraphicFramePr/>
          <p:nvPr/>
        </p:nvGraphicFramePr>
        <p:xfrm>
          <a:off x="457200" y="1905120"/>
          <a:ext cx="8229600" cy="4152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štovní peněžní služb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entace v poštovních peněžních službách, vyplnění poukáz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štovní poukázka, variabilní, specifické a konstantní symboly, SIPO, super CASH, Western Union, EUROGI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 hotov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ýplata poukázané částky hotov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expresní zasílání peněz v hotovosti po celém svět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íjem a výplata peněz v ČR v Kč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íjem a výplata peněz v zahraničí v místní měně, příp. USD, EU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služba Poštovní spořiteln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 hotově nebo bezhotovostně pro majitele běžného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vyplacené částky hotově nebo bezhotovostně pro majitele běžného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ariabilní symbol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– identifikace plátc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číslo faktury, rodné číslo fyzické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osoby, IČO právnické osob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Specifický symbol 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dodatečný symbol identifikující např. jednotlivé měsíce u plateb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Konstantní symbol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–určuje charakter služb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1. Vyplňte podle návodu poštovní poukázku typu A a C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2</a:t>
            </a: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.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Jakým typem poštovní poukázky zaplatíte např. zálohy na elektřinu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3. Jakým typem naopak dostanete přeplatek za elektřinu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4. Zjistěte, jaký  konstantní symbol se používá pro platby služeb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5. Jaký je rozdíl mezi platbami zahraničními poštovními poukázkami a platbou přes Western Union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6. Jaký je rozdíl mezi platbou prostřednictvím zahraničních poštovních poukázek a službou EUROGIRO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7. Jaké jsou výhody platby přes superCASH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8. Kde kromě pošty můžete zaplatit v systému superCASH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Nadpis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058240" cy="17604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9. Jak si zařídíte SIPO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10. Jak zařídíte platbu SIPO trvale z účtu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17bbfd"/>
                </a:solidFill>
                <a:uFillTx/>
                <a:latin typeface="Century Gothic"/>
                <a:hlinkClick r:id="rId1"/>
              </a:rPr>
              <a:t>http://www.ceskaposta.cz/cz/sluzby/penezni-sluzby/cr/postovni-poukazka-a-id254</a:t>
            </a: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ceskaposta.cz/cz/sluzby/penezni-sluzby/cr/postovni-poukazka-b-id256</a:t>
            </a: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postovni-poukazka-c-id257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postovni-poukazka-d-id258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sipo-id259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postovni-poukazka-z-a-id260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postovni-poukazka-z-a-id260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western-union-id262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eurogiro-id263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 -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hotově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bezhotovostně bance  na úče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539640" y="2173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7" name="Picture 4" descr="http://www.optys.cz/data/foto/-3/999-3_l.jpg"/>
          <p:cNvPicPr/>
          <p:nvPr/>
        </p:nvPicPr>
        <p:blipFill>
          <a:blip r:embed="rId2"/>
          <a:stretch/>
        </p:blipFill>
        <p:spPr>
          <a:xfrm>
            <a:off x="755640" y="2349360"/>
            <a:ext cx="76201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Nadpis 1" descr=""/>
          <p:cNvPicPr/>
          <p:nvPr/>
        </p:nvPicPr>
        <p:blipFill>
          <a:blip r:embed="rId1"/>
          <a:stretch/>
        </p:blipFill>
        <p:spPr>
          <a:xfrm>
            <a:off x="457200" y="4932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Částka Kč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, prázdné místo před částkou se proškrtne dvojitou vodorovnou čarou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údaji "haléře"  dvě nuly, příp.  zamezovky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Nadpis 1" descr=""/>
          <p:cNvPicPr/>
          <p:nvPr/>
        </p:nvPicPr>
        <p:blipFill>
          <a:blip r:embed="rId1"/>
          <a:stretch/>
        </p:blipFill>
        <p:spPr>
          <a:xfrm>
            <a:off x="457200" y="4932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e prospěch účt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. Číslo účtu se může skládat z předčíslí a hlavního čísla účtu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Nadpis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Kód bank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Musí být vždy vyplněn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Nadpis 1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229600" cy="18889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Odesílatel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a </a:t>
            </a: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Zpráva pro příjemce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hůlkovým písmem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or</dc:creator>
  <dc:description/>
  <dc:language>en-US</dc:language>
  <cp:lastModifiedBy>Igor</cp:lastModifiedBy>
  <dcterms:modified xsi:type="dcterms:W3CDTF">2014-09-13T14:44:01Z</dcterms:modified>
  <cp:revision>34</cp:revision>
  <dc:subject/>
  <dc:title>Poštovní poukázky (složenky)</dc:title>
</cp:coreProperties>
</file>