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057F-1F52-429F-B38D-D3F856732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CC7C-E324-4B37-829B-49A626F1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E7F5-59B6-406F-B3FA-22E53B26C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F302-A816-444E-997E-B4E2CA8B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E8E8-CD14-43AC-9B29-6E17E1B9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BEC2-8661-467C-830A-5589DF6B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4B00-23B1-4E32-A14E-D2951A0B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A2FA-DAAD-4E27-BD2B-ED840492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2DC7-5BCB-4A56-9514-839660D4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41BE-FD63-4477-9552-5E9FCC63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1AB7-EB33-41FD-BECF-FA89F6A6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373E-AD34-4C66-848E-D4CCFAC4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3FFB-A505-4DF8-A827-C5DE8A11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C8E2-0C83-466E-9B4E-D61782AE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5211-7116-42F9-9558-8CE876AC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662E-33EE-4D1B-89B1-2AE55F0D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1EF3-5441-43F8-A4C8-3E2FCD1C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E84D3-58D5-4239-AD46-F79071D8F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B2D10-AFD3-499F-AD59-8DB29717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67F26-AB4C-4F5E-B682-A0992E2F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B01E6-96F7-45FF-965E-50F7EC4A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70C91-7FCD-4970-9850-AB45E117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2C2C-580C-4F1C-8432-2FD5DC32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E95D4-4B63-4EB2-A6DE-69208A28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091A1-5C8C-4F36-82E7-CD4800A4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70168-5DFD-4DCC-BCC8-674042C1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B1F3A-0A76-4214-8C05-65046236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90181-E544-468E-AE34-38466BAE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60BE3-F124-4CF9-A2D7-9C850A534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8C03B-8C98-4469-8F9C-80D73BA9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B220C-3571-4C9E-B407-E868108F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421C3-4EFD-4B00-923E-27F6281F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0FA12-CD1E-4C23-9D7E-34267EC5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8BA2-F778-4797-A109-DF35346A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B76E4-A490-4AC6-AD30-8B71672D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FC32A-D67A-45D9-BEDB-EEF68BB6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A2D2B-F3F4-4687-B99B-58E7B79A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63D42-84CC-44AF-99D2-CD892FC5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49282-15DF-4BAD-AFC9-D31D271D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7652B-C947-4641-A8E5-E3102658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51294-BF92-4E74-A65A-897B4DCD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F76CC-8328-40DC-A1A3-9F5DF0697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97205-9C04-4655-91AA-8DA20B82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F5EE7-DF60-4CC6-AEF5-F9C81EF4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9627-4156-40F2-9F0C-088F3DD4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B8F9C-9924-4C23-8488-B1B2B4F0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7BDFE-4612-4894-A81D-35201828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023A6-4D44-4162-B855-7B07FEF3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6EF0F-817F-4797-9419-45303B32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7DDCC-6728-4DB2-A586-E6FABDC6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34BE1-BCCA-4AC3-99B0-0CF0EEB7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789EE-D37E-4CFD-BE18-68E3EFFD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6AF5B-3069-48D0-8312-4996EC41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59354-98BF-4B26-9747-5762C29E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DCAEA-B2BB-4662-8196-12527CACE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57E3-DCB5-402C-8BD0-858733E9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1BDA9-92B7-4109-B075-1AEFF906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1D6A0-5EBA-491B-90AF-21BCBFB3C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BD106-359B-4774-9D6B-AC5B0921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CB124-A135-4F0E-8CD5-111A2496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26C6F-D51A-460A-BE9D-4034E66F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332C8-BD48-4077-9801-7C2EB03F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DC574-BD66-4313-ACA0-55959805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CED2E-F473-4CDB-9A04-425AEA0D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3CB2B-5401-48F9-BA83-2720CC42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9443C-7117-41CA-BD76-7A24E125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CF9B-AAA2-44C1-A2A4-FD888742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2B07B-1CCC-4719-8E9D-4FED13F1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06F3E-D64F-4D13-82DA-B0231C1BC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8EE42-5CE7-4972-A5D1-761A5468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8A9CB-39A6-46C0-A19E-3706AAAAD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D98C8-4614-418B-940D-6780FEEB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D74A3-617B-4654-8908-30F19447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391A1-F441-45BA-AF51-6C9A9F09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0C7F0-87CF-46F3-9398-B789B184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95D58-7980-472C-86F7-A295466A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F9869-A2E9-4FF6-A5F8-27680DF9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B51E-01C2-4670-B3BE-8C96D49E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351E1-59BB-45DD-AA83-64B2D7D5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2622E-E8FB-44D4-97D7-7B5BD611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4CA63-D58C-4748-88B4-C7E2538C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F2C6B-E9F6-44EA-B159-AB93B5BCE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E1623-4099-41CE-8B4F-E9DEF541E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5376C-8AE8-4B70-8479-FA3AD644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DB893-8094-4A29-8E8E-FCC53D56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B47F6-0391-4A91-9D0B-087DB18E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D0AEB-8E00-4353-99F5-E77606B1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52893-D867-4EC9-A8F0-46985C6E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D3FE-BB6D-4A12-BD33-078171C5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E5833-2519-49B9-A399-918463D3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027FD-4277-4651-A078-99943D7A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D818D-0D8B-4FA1-91CE-DD0577B6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A33E3-E78C-47C9-9375-DEC549DB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B08BA-57A1-40F7-A37D-B34BD0CB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72C35-F215-43A3-BA11-E1202C1B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ED529-3A1A-46C6-8DB2-6651B6ED6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B7A9-23E4-43A2-B011-BEC8DEAC890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Rovnoramenný trojúhelník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C396-9233-4BAF-B2D0-4FC937C86119}" type="slidenum">
              <a:rPr b="0" lang="cs-CZ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111D-83B1-4C4B-90B3-637CFF212F9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ravoúhlý trojúhelník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Rovnoramenný trojúhelník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římá spojnice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římá spojnice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2DA6-F56F-436D-9CDB-5922B46B4CC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520F-BE34-4DA7-A5CE-69A35CF0EC8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8D2B-B6A2-4E38-821F-50E7ACDF76F3}" type="slidenum"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8A47-EA23-4D71-8C5C-DE6945FC4B5C}" type="slidenum">
              <a:rPr b="0" lang="cs-CZ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1B1F-681F-4735-8613-228F4DA13366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ceskaposta.cz/cz/sluzby/penezni-sluzby/cr/postovni-poukazka-a-id254/" TargetMode="External"/><Relationship Id="rId2" Type="http://schemas.openxmlformats.org/officeDocument/2006/relationships/hyperlink" Target="http://www.ceskaposta.cz/cz/sluzby/penezni-sluzby/cr/postovni-poukazka-b-id256/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2" descr=""/>
          <p:cNvPicPr/>
          <p:nvPr/>
        </p:nvPicPr>
        <p:blipFill>
          <a:blip r:embed="rId1"/>
          <a:stretch/>
        </p:blipFill>
        <p:spPr>
          <a:xfrm>
            <a:off x="0" y="2011320"/>
            <a:ext cx="9283680" cy="4444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"/>
          <p:cNvPicPr/>
          <p:nvPr/>
        </p:nvPicPr>
        <p:blipFill>
          <a:blip r:embed="rId2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7" name=""/>
          <p:cNvGraphicFramePr/>
          <p:nvPr/>
        </p:nvGraphicFramePr>
        <p:xfrm>
          <a:off x="539640" y="3573360"/>
          <a:ext cx="7561440" cy="50328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539640" y="4365720"/>
          <a:ext cx="7561440" cy="1662120"/>
        </p:xfrm>
        <a:graphic>
          <a:graphicData uri="http://schemas.openxmlformats.org/drawingml/2006/table">
            <a:tbl>
              <a:tblPr/>
              <a:tblGrid>
                <a:gridCol w="3456000"/>
                <a:gridCol w="41054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/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Nadpis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V. (variabilní) symbol</a:t>
            </a:r>
            <a:br>
              <a:rPr sz="3600"/>
            </a:b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S. (specifický) symbol</a:t>
            </a:r>
            <a:br>
              <a:rPr sz="3600"/>
            </a:b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K. (konstantní) symbol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okud uváděny, vyplňují se zprava. Prázdná okénka  možno doplnit nulami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úhrada poukázané částky 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- bezhotovostně z bankovního účtu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ýplata poukázané částky - 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úhrada poukázané částky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- 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ýplata poukázané částky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- 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http://remix.nicm.cz/wp-content/uploads/2010/11/POuk%C3%A1zka-C.jpg"/>
          <p:cNvPicPr/>
          <p:nvPr/>
        </p:nvPicPr>
        <p:blipFill>
          <a:blip r:embed="rId2"/>
          <a:stretch/>
        </p:blipFill>
        <p:spPr>
          <a:xfrm>
            <a:off x="1187280" y="2781360"/>
            <a:ext cx="6651720" cy="29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úhrada poukázané částky 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-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výplata poukázané částky - 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 hotovosti ve lhůtě jednoho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racovního dne ode dne podání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soustředěné inkaso plateb obyvatelstv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inkasování plateb obyvatelstva ve prospěch PO a dalších osob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edtištěný platební dokla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každý plátce – osobní spojovací číslo (žádost na poště)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jemné, energie, TV, rozhlas apod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arianta i pro podniky a bank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hotově na pošt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hotově u poštovního doručovatel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jednorázovým příkazem k úhradě z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trvalým příkazem k úhradě z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rychlá  hotovostní platb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ro zákazníky e – shopů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zákazník  předá obsluze vygenerovaný čárový kód a částku platb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obdrží  potvrzení o zaplacení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stroj zahraničního platebního styk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evod hotovostních peněz na účet v zahraničí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0" name=""/>
          <p:cNvGraphicFramePr/>
          <p:nvPr/>
        </p:nvGraphicFramePr>
        <p:xfrm>
          <a:off x="457200" y="1905120"/>
          <a:ext cx="8229600" cy="4152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štovní peněžní služb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ientace v poštovních peněžních službách, vyplnění poukáze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štovní poukázka, variabilní, specifické a konstantní symboly, SIPO, super CASH, Western Union, EUROGI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stroj zahraničního platebního styk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úhrada poukázané částky hotov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ýplata poukázané částky hotov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expresní zasílání peněz v hotovosti po celém svět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íjem a výplata peněz v ČR v Kč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íjem a výplata peněz v zahraničí v místní měně, příp. USD, EUR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služba Poštovní spořiteln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stroj zahraničního platebního styk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úhrada poukázané částky hotově nebo bezhotovostně pro majitele běžného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úhrada vyplacené částky hotově nebo bezhotovostně pro majitele běžného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ariabilní symbol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– identifikace plátc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číslo faktury, rodné číslo fyzické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osoby, IČO právnické osoby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Specifický symbol </a:t>
            </a: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–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dodatečný symbol identifikující např. jednotlivé měsíce u plateb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Konstantní symbol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–určuje charakter služby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1. Vyplňte podle návodu poštovní poukázku typu A a C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2</a:t>
            </a: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.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Jakým typem poštovní poukázky zaplatíte např. zálohy na elektřinu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3. Jakým typem naopak dostanete přeplatek za elektřinu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4. Zjistěte, jaký  konstantní symbol se používá pro platby služeb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5. Jaký je rozdíl mezi platbami zahraničními poštovními poukázkami a platbou přes Western Union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6. Jaký je rozdíl mezi platbou prostřednictvím zahraničních poštovních poukázek a službou EUROGIRO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7. Jaké jsou výhody platby přes superCASH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8. Kde kromě pošty můžete zaplatit v systému superCASH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Nadpis 1" descr=""/>
          <p:cNvPicPr/>
          <p:nvPr/>
        </p:nvPicPr>
        <p:blipFill>
          <a:blip r:embed="rId1"/>
          <a:stretch/>
        </p:blipFill>
        <p:spPr>
          <a:xfrm>
            <a:off x="542880" y="774720"/>
            <a:ext cx="805824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9. Jak si zařídíte SIPO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10. Jak zařídíte platbu SIPO trvale z účtu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Zdroje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17bbfd"/>
                </a:solidFill>
                <a:uFillTx/>
                <a:latin typeface="Century Gothic"/>
                <a:hlinkClick r:id="rId1"/>
              </a:rPr>
              <a:t>http://www.ceskaposta.cz/cz/sluzby/penezni-sluzby/cr/postovni-poukazka-a-id254</a:t>
            </a: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http://www.ceskaposta.cz/cz/sluzby/penezni-sluzby/cr/postovni-poukazka-b-id256</a:t>
            </a: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cr/postovni-poukazka-c-id257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cr/postovni-poukazka-d-id258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cr/sipo-id259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postovni-poukazka-z-a-id260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postovni-poukazka-z-a-id260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western-union-id262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eurogiro-id263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úhrada poukázané částky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 -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hotově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ýplata poukázané částky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-bezhotovostně bance  na úče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www.optys.cz/data/foto/-3/999-3_l.jpg"/>
          <p:cNvPicPr/>
          <p:nvPr/>
        </p:nvPicPr>
        <p:blipFill>
          <a:blip r:embed="rId2"/>
          <a:stretch/>
        </p:blipFill>
        <p:spPr>
          <a:xfrm>
            <a:off x="755640" y="2349360"/>
            <a:ext cx="76201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Nadpis 1" descr=""/>
          <p:cNvPicPr/>
          <p:nvPr/>
        </p:nvPicPr>
        <p:blipFill>
          <a:blip r:embed="rId1"/>
          <a:stretch/>
        </p:blipFill>
        <p:spPr>
          <a:xfrm>
            <a:off x="457200" y="4932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Částka Kč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yplňuje se zprava, prázdné místo před částkou se proškrtne dvojitou vodorovnou čarou.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údaji "haléře"  dvě nuly, příp.  zamezovky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Nadpis 1" descr=""/>
          <p:cNvPicPr/>
          <p:nvPr/>
        </p:nvPicPr>
        <p:blipFill>
          <a:blip r:embed="rId1"/>
          <a:stretch/>
        </p:blipFill>
        <p:spPr>
          <a:xfrm>
            <a:off x="457200" y="4932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e prospěch účtu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yplňuje se zprava. Číslo účtu se může skládat z předčíslí a hlavního čísla účtu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Nadpis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Kód banky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yplňuje se zprava.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Musí být vždy vyplněn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Nadpis 1" descr=""/>
          <p:cNvPicPr/>
          <p:nvPr/>
        </p:nvPicPr>
        <p:blipFill>
          <a:blip r:embed="rId1"/>
          <a:stretch/>
        </p:blipFill>
        <p:spPr>
          <a:xfrm>
            <a:off x="457200" y="92160"/>
            <a:ext cx="8229600" cy="18889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Odesílatel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a </a:t>
            </a: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Zpráva pro příjemce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hůlkovým písmem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Igor</cp:lastModifiedBy>
  <dcterms:modified xsi:type="dcterms:W3CDTF">2014-09-13T14:44:22Z</dcterms:modified>
  <cp:revision>34</cp:revision>
  <dc:subject/>
  <dc:title>Poštovní poukázky (složenky)</dc:title>
</cp:coreProperties>
</file>