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6A613-8C78-4B2D-AADF-4A717574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D711E-9904-44C8-9319-DEF24837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608A-88DE-4A65-AAD8-7298E0E3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D51EA-4ABF-457B-ACF1-0A83F326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6163-4328-4D68-B4E3-B92A0CA3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8BB0-88A4-4FCC-B97D-9AAB0104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5ACC-6CD6-41EE-8FA8-889904F2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B9B0-ED76-418F-8CEB-61E4B624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241B-8154-465B-A58E-E063608B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F47E-7C71-465A-8DEE-3557D45A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C5C1-E81F-4AF3-B9BB-65418201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BE003-E9E6-4FB1-85FD-C138F785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43F2-6788-40FF-9771-6C176BB5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434D-BDD7-4855-BAC1-7FC9833F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FFDF-64B8-4743-9967-F753A1E3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771D-852F-4453-8A62-97306DB6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5A95-821F-4707-9819-3CC51603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B8AB3-1CF1-45DC-BF17-84B307ED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DC120-BCB3-4D1A-BB85-60421904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9F2E3-E7FF-4098-B2C9-0C28EDC4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5C42B-44F0-4BAD-9E15-5BF99A4B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09D3A-7D36-4100-8973-FC96740F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02331-EEC5-489D-AC88-289EC4F1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89B90-BACA-4F6F-90D9-0FECD63B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05BEC-7CD9-4C5D-B417-C1EFF331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2D232-E539-4078-824B-63188624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54FD5-4BCB-4D47-8B05-CB20400E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AF5CE-CA77-4179-BA0B-37CB2E58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F4B29-8315-4302-81F3-A0E5D5C8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25B63-006D-4DCB-A6E9-71B270F5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C6BA9-8DAC-4BAE-9F2D-F9A7C258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F9852-4A45-4941-93C0-497C9C4B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19E1A-4F34-4AD6-869E-772420F4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4FCEE-81D1-4BDD-A623-F697B4BD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62864-642B-42B8-B589-45F148E2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F313D-361E-46F6-9D90-D1FA47C6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0C4D-4D7F-48B7-815A-C658934B5C3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5DEE-E18F-47C2-8740-0D658ED5725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AE39-1791-4C9A-B780-A1E4E43BAD3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2533680" y="4572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39640" y="4581360"/>
          <a:ext cx="7561440" cy="151776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vláštní práva čerpání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D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šová měna odvozená ze čtyř světových mě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ouží jako rezervní hotovostní fond, ze kterého mohou země čerpat v případě krize platební bi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vláštní práva čerpání SD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ím větší jsou příspěvky jednotlivých zemí, tím více si pak v období tísně mohou půjčov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bjem  poplatků se pro každý stát určuje na základě ekonomických ukazatel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kupina světové banky WB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větová banka ( World Bank Group) je zastřešující organizací pěti institu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rávním orgánem skupiny Rada guvernérů, zastoupeny všechny členské stá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kupina světové banky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WB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ada výkonných ředitelů, předsedou prezident SB, vždy Američ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 nejvýznamnější publikace  patří každoročně vydávaná Zpráva o rozvoji svět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o ve Washington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stituce WB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ezinárodní banka pro obnovu a rozvoj  IBRD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ezinárodní finanční korporace IFC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ezinárodní asociace pro rozvoj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DA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stituce WB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ultilaterální agentura pro garanci investic MIGA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ezinárodní centrum pro urovnávaní investičních sporů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CSID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1. Mezinárodní banka pro      obnovu a rozvoj  IBR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ůjčuje peníze zemím středně rozvinutým a rozvojovým za podmínek výhodnějších než na komerčních trzí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1. Mezinárodní banka pro obnovu a rozvoj  IBR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avní oblasti, na které se zaměřuje, jsou rozvoj hospodářské infrastruktury, jako například silnice, doly, továrny či elektrárny a přehra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finanční korporace IFC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nuje se spolupráci se soukromým sektorem a poskytuje levné úvěry na komerční projekty (většinou nadnárodním společnoste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asociace pro rozvoj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DA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bezúročné půjčky vládám těch nejchudších zemí na odstraňování chudoby či programy udržitelného rozvoj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539640" y="1700280"/>
          <a:ext cx="8229600" cy="4228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inárodní finanční institu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inárodní finanční instituce a jejich význ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inárodní měnový fond, Skupina Světové banky, další mezinárodní ban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ultilaterální agentura pro garanci investic MIGA</a:t>
            </a: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á na starosti vytváření příznivých podmínek pro zahraniční investice v rozvojových zemí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4. Multilaterální agentura pro garanci investic M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nekomerční pojištění firmám, které podnikají v rozvojových zemích a mají strach z politických a jiných faktorů, které by mohly ovlivnit návratnost jejich invest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centrum pro urovnávaní investičních sporů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CSID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nuje se řešení sporů vzniklých v oblasti investic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Banka pro mezinárodní platby - B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národní organizace pro podporu mezinárodní měnové a finanční spolupráce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a pro centrální ba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í v Basilej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vropská investiční banka EI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ování dlouhodobých půjček na kapitálové investice subjektům ze soukromého i veřejného sektoru, včetně ban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zce spolupracuje s orgány E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í v Lucemburs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vropská centrální banka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CB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entrální bankou zemí eurozó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 1. 1.  1999  odpovídá za provádění měnové politiky v eurozón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vropská centrální banka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CB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o ve Frankfurtu nad Mohan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avním cílem je cenová stabil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CB je nezávislá na ostatních institucí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vropská banka pro obnovu a rozvoj - EBR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ložena v roce 1991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Londýn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máhá zemím střední a východní Evropy při budování tržního hospodářství a demokraci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Rozvojová banka Rady Evropy - CEB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spívá na rozvoj sociálních investičních program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 půjčky členským zemím nebo finančním institucím schváleným vládam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í v  Paříž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banka hospodářské spolupráce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ložena vládami členských států RVHP v roce 1963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učasnými vlastníky banky je devět bývalých socialistických stát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nes v útlum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ffff"/>
                </a:solidFill>
                <a:latin typeface="Arial"/>
              </a:rPr>
              <a:t>Mezinárodní finanční instituce</a:t>
            </a:r>
            <a:r>
              <a:rPr b="0" lang="cs-CZ" sz="4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investiční banka - MIB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ložena vládami členských států RVHP v roce 1970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učasnými vlastníky banky je osm bývalých socialistických stát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nes v útlum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. Jaký význam má MM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 Č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. Jaký význam má Světová banka pro Č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3. ČR  je členem mezinárodních finančních institucí. O jaké se jedná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4. Jaká je úloha mezinárodních finančních institucí v hospodářské krizi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droj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Mezin%C3%A1rodn%C3%AD_m%C4%9Bnov%C3%BD_f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Sv%C4%9Btov%C3%A1_ban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Banka_pro_mezin%C3%A1rodn%C3%AD_plat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Evropsk%C3%A1_investi%C4%8Dn%C3%AD_ban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Evropsk%C3%A1_centr%C3%A1ln%C3%AD_ban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Evropsk%C3%A1_banka_pro_obnovu_a_rozvo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mfcr.cz/cps/rde/xchg/mfcr/xsl/mfo_ceb.html http://www.mfcr.cz/cps/rde/xchg/mfcr/xsl/mfo_mbh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mfcr.cz/cps/rde/xchg/mfcr/xsl/mfo_mib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měnový fond 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MF</a:t>
            </a: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národní měnový fond – IMF (International Monetary Fund)  začal finanční činnost v březnu 1947 a stal se přidruženou organizací OS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měnový fond 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M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znikl na základě potřeby vytvořit poválečný světový ekonomický systém - podpora vzájemného obchodu, směnitelnost měn a rozvoj válkou zničených ekonomi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tanovy IM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sou základní listinou  a zahrnují tyto cí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poru měnové kooperace prostřednictvím spolupráce a konzulta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tanovy IM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tupné odstraňování devizových omez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ování devizových úvěrů k vyrovnání dočasných obtíží členských zem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Hlavní orgány IMF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ada guvernér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ada výkonných ředitel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národní měnový a finanční výbo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daje o IM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o IMF ve Washington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ždý člen přispívá do společné pokladny  finančním obnos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75 % příspěvku ve své vlastní měně a zbytek  v podobě SD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09:28:10Z</dcterms:created>
  <dc:creator>Marek</dc:creator>
  <dc:description/>
  <dc:language>en-US</dc:language>
  <cp:lastModifiedBy>Igor</cp:lastModifiedBy>
  <dcterms:modified xsi:type="dcterms:W3CDTF">2014-09-13T14:45:03Z</dcterms:modified>
  <cp:revision>26</cp:revision>
  <dc:subject/>
  <dc:title>Mezinárodní finanční instituce</dc:title>
</cp:coreProperties>
</file>