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E33-2ACF-4359-8544-8AE65191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1A9-1D9C-4FED-9E58-39DF43DF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6A8-9666-46FE-AD94-4B76767F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ED0-4A1B-49F0-B150-6889A804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2F0A-B9B9-45D4-A29C-3FC8E683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B7CF-8073-4200-8F9B-7E227461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D9DC-BAF7-44BC-8CEC-CB7093BD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3FE5-7E9C-4F3D-9223-8064D6D6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F901-582E-44F2-B8B2-2375189E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2D71-EEBE-4A1F-9E0A-F07D6A31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EAC3-CD92-4EB8-8B7D-7F18D1B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099-51B1-4B95-B096-098E8DFE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07A3-26F3-4774-AFA2-4FC32CF9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2CA4-17B4-480B-B2CD-818D998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AEA8-F7ED-4105-B527-64831D4C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28CA-B00E-487F-88A2-5351A28B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1BB-2447-4F04-BBAC-4F04A494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AAE-A362-4F66-A796-9088CE1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3DD-5F8B-4BF1-8DD0-49E0A793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F04-6796-448F-A2CB-722309D3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40A-C78F-4169-A308-B9EF7773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A02-F4B7-4680-85DF-745CD2A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909-B2CD-4996-B469-B0550823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D68-8CE5-47D6-9294-3501436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DDD2-45AE-47E9-9C31-C4429AE3BF2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91EA-5776-4529-AE31-5D1C7FA7A9F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nvertibilita_m&#283;n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890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konvertibilní měn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platná  pouze na územ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ného stát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jí kurz je dán státní institucí, nesmí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e vyvážet ze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á a účetní jednotka Mezinárodního měnového fond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mělá mě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šová měna odvozená  od průměrné hodnoty měn USA, Německa, Japonska, Francie a Velké Británie (EUR, USD, GBP, JP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ód XD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je to likvidit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arakterizujte jednotlivé měnové agregá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eďte příklady konvertibilní a nekonvertibilní mě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používá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čeho vychází kurz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Konvertibilita_m%C4%9B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cs.wikipedia.org/wiki/Zvláštní_práva_čerp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měny a základní členění mě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, měnový agregát, nadnárodní a národní měna, zvláštní práva čerp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Měna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krétní peněžní jednotka daného státu se označuje mě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rčité formy peněz mají určit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kviditu (jak rychle lze použít 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ě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se obecně dělí n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kupiny měnových agregá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1= hotovostní oběž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2 = M1 + vklady na běžných účtech v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3= M2+ vklady v zahraničních měnách v domácích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4= M3 + vklady v nebankovních institucích v domácí měně + krátkodobé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5 = M4 +ostatní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Konvertibilní měna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měna směnitelná s ostatními měnami v určitém kurzu, kurz je dán poptávkou a nabídkou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) plně směnitelná (konvertibil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směnitelná všude na světě, nejsou překážky výměny (konver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částečně směnitelná (vnitřně směnitelná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 stanoví omezující pravidla výměny své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4:34Z</dcterms:modified>
  <cp:revision>23</cp:revision>
  <dc:subject/>
  <dc:title>Peníze a měna</dc:title>
</cp:coreProperties>
</file>