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D1C2-9309-4AD7-99B9-34730FD98A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285C-C7ED-4406-A489-3FB5EA62C03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C0D9-BEED-450A-A394-6350A5295FA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6DA6-3E07-41A8-B098-BCF40EFFB9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E6FD-6E50-4DFE-B6E3-DDCDCC4F40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E706-44A0-4250-B8FF-C820CF162A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5BE6-4D8D-4504-9BB0-B465A294E0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45E0-D6F0-4B5C-A0D6-4EBA1BC421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DB6C-401E-4354-8F0A-BE2727FA57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418F-A693-4400-9C40-FAD838857E4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B74-264F-4098-9052-9B8CF180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37B-3EE6-4D13-B451-1923000E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C37-D21D-4544-9B4B-54B3DCE7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569-33D8-4BC0-9EB0-5CDD331A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270C-3765-40D2-BE15-9C42AF95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540F-507E-4BC1-8B9E-088019F8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8DFB-4199-4B1D-A9DA-2C883F0C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9C87-4D8E-42AD-8911-44195AC8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9A7A-53FE-4D2B-A900-E3A60A03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E0C1-F7C1-45B2-B555-2E26D903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1136-7642-4B0F-985F-1624B707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D68-66C4-43C1-A21C-4E3A80B7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F350-BF25-44EE-AE8F-853FBCE0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C91F-6AA3-483F-A1B1-C123A95A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3727-5BC4-4AB5-8685-0976C5CC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191A-9E3F-4C8C-B73F-5BA82EC8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8617-3E0E-409F-AD18-025A377C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39877-0121-4966-A073-AE93B84D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4C56A-61F8-41A4-AD0E-E958000E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68A2F-31C8-4F99-A29F-6B7ED1A6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A5D2F-7782-4FD8-B2D3-4854D3F4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FA8E2-6943-42FE-9FB9-A2123DE3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28E-8D27-423B-B81B-E3008861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97637-485B-4619-8B13-67A214E1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5C830-FB1D-455A-B3BD-A8CF92A0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034C9-98D6-432F-ADEB-11A8A1A6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E2F38-AE68-4758-A3BA-19274D9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C3588-C2C0-4CE2-B1DE-5FC4A7B5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E5403-CFB2-4CB9-8D53-C563DAE4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08A1F-6290-4E99-8B93-BB438C49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59F-E602-4D49-91F3-4786D974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EB3-523B-4085-8B0D-9A5ACD20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BDC-4622-4C77-87A9-C5021A68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371-C2BA-4A96-A66E-17C254E6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87D-60C7-40D6-91DD-819D8F5C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510-8651-4180-BA76-9F2CEDF3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791D-4009-4511-9A6E-723DCC3A358A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9688-8BA0-4DA3-80D1-124E89CF6D65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D24F-90E6-46BB-BBA1-A2EE97228D5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inventarizačními rozdí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bytek, man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73360"/>
            <a:ext cx="7427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porovnávání skutečného stavu se stavem účetním mohou být zjištěny tyto inventarizační rozdí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n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účetní stav je vyšší než skutečný stav (rozdíl mezi skutečným a účetním stavem nelze doložit účetním dokladem, nebo prokázat jiným způsobem stanoveným záko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 manko se nepovažuje tzv. norma přirozeného úbytku (u zásob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rmu přirozeného úbytku si stanovuje účetní jednotka sama (musí být uvedena ve vnitropodnikové směrnic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stanovení její výše vychází ze zkušeností z minulých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rma přirozeného úbytku se stanoví např.  u takového materiálu u kterého dochází k vypařování, vysýchání a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 zboží se stanovuje např. v důsledku ztratného v obchod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62864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Přebytky – účetní stav je nižší než skutečný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sta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96640"/>
            <a:ext cx="80136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anka a přebytky nelze vzájemně kompenzovat. Výjimkou jsou pouze případy, kdy došlo k chybné záměně podobných druhů zásob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tomto případě se zjištěná manka a přebytky vzájemně převedou (případný rozdíl je pak přebytkem či mankem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56Z</dcterms:modified>
  <cp:revision>25</cp:revision>
  <dc:subject/>
  <dc:title>Dohadné položky</dc:title>
</cp:coreProperties>
</file>