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0591-45FA-4461-9F77-E3E3BFBB6B6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F032-A5B0-4533-A6F3-5A03BC54C99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D7BA-1856-4FF8-BA62-A4903AC4F42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8E84-5583-4FC9-A7E8-B1BC478D317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5974-B2B6-4945-AE48-9F4102889F7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E506-0F41-4D3A-9F05-3E6FBDDFB3A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9B14-CA72-400C-A298-20A6288360A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3164-E6D9-4A83-A0CF-A4ED363130A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4667-17D6-4BCF-A43E-0F214F4B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EB90-EF9E-4EB2-9A7D-5516AF70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543A-2B3A-4C0C-82AC-03F61FBB3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F518-EC6B-40A7-8A25-E938D82A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A33E-E104-4902-9D58-2D8D8B2F9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406C-E8EE-4289-A3F9-1D28A22C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26D0-1D0B-4410-83FE-F4F1C773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B17F-8CC4-43FE-84DA-F3050D64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AF52-EAF9-46D9-AE7F-96BECFC9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95F8-181D-4B94-BAA0-6FD6EEA0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4FF2-E5CF-45D9-9BAF-D8109FA9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3DBB-B307-492A-BB9E-4339623C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0257-33F8-446C-B11B-44724B07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3810-A096-4775-A493-02DF8ECA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946A-A42E-4729-BB15-7E9C4D99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FC08-14DF-45CA-B52B-4CD031689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7B6D-F916-43F0-8984-D66C9033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4519B9-6ED2-4CBD-ADBB-D6898B2A6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7AB368-B963-4138-A333-978106ED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5C6A84-6BB5-4211-9D80-03E0B858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F68FD9-21A4-4C04-A1CF-7D560124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3ABF52-01FF-4871-815D-58F50AF2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9A2F-48AD-4E63-86DA-4EF1B01D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149384-DF47-4798-BC2A-FC6862AB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F869EB-5D00-41D5-910C-6FB22C41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ECC655-1813-454F-A87A-3A957C6F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23F3D5-2321-4BA5-9649-D38DA7F0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AEA76E-23F2-488A-AAFA-267D9429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F3EBDA-0917-421F-8B11-99DEA81B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4B7BFD-BE76-47EA-A78D-ED23767A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DA34-EF2D-4CC3-BF17-1390D2F9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9C4A-2AE9-49FF-A619-80F8E054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436D-BA48-405A-A88D-CC77247F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E0CA-2C28-49D5-848F-65637D73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AAFC-EE06-40DE-A3A6-F75D940E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0C37-95AB-4193-9B6C-60750E7F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FACD-A9E4-435F-9BB3-E91CF0F3A45B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9671-0491-4082-8D9A-ACEFD13F4345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1465-CF11-4C52-9756-76C4D5043B4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lohy na tvorbu a čerpání rezer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vorba, oprava, čerp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- úlo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800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06633"/>
                </a:solidFill>
                <a:latin typeface="Arial"/>
              </a:rPr>
              <a:t>Úlohy - rezervy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33"/>
                </a:solidFill>
                <a:latin typeface="Arial"/>
              </a:rPr>
              <a:t>Určete, zda a jakou rezervu může firma vytvořit (účetní období 2013)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74167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čítač, předpokládaná oprava 20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budova, předpokládaná oprava střechy 201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budova, půdní vestavba 20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sobní auto, instalace klimatizace 20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budova, předpokládaná oprava střechy 201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33"/>
                </a:solidFill>
                <a:latin typeface="Arial"/>
              </a:rPr>
              <a:t>Úloh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74995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tní jednotka se v roce 2013 rozhodla tvořit rezervu na opravu budovy. Plánovaná oprava bude provedena v roce 2016. Rozpočet opravy 600 000 Kč. Oprava byla provedena dodavatelem v roce 2016, částka 786 500 K00 Kč, včetně 21% D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účtujte tvorbu rezerv (za jednotlivé roky), fakturu od dodavatele a zrušení rezerv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tování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 – Tvorba rezervy 2013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 – Tvorba rezervy 2014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 – Tvorba rezervy 2015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aP – Oprava budov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 – Zrušení rezerv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00 000,--  552/45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4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00 000,--  552/4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00 000,--  552/4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P – Oprava budov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50 000,--  511/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36 500,--  343/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Zrušení rezerv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00 000,--  451/55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41:04Z</dcterms:modified>
  <cp:revision>16</cp:revision>
  <dc:subject/>
  <dc:title>Dohadné položky</dc:title>
</cp:coreProperties>
</file>