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9BDF-90E3-4ED6-907A-7249DF17E8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727C-6A01-4DE4-A68B-F09501B272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A73-245A-4547-920F-9F2A80AC72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FE5-51FF-4C7A-BD2F-CFFCA00922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B7DE-8F33-4A36-A024-67CBDD711C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F51B-1376-45A0-AEB5-D71BD48192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3163-7E63-424A-A079-8D8C8CB7AF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753A-9D7B-44CF-9A1C-10998550BE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E51C-0485-4B9B-9A84-8161D79D77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8AF2-ACFC-47D9-BBD5-5509CA19BEF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8EA-5385-44B5-83C6-377036F9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FEA-4C0A-40FA-8B5E-EF714096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2B3-2B62-4C33-A500-D3A4B257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C6F-6558-430C-BD11-98A3FA28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FC8-7CF8-4B55-8798-24071D45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9C9D-0D7B-47B4-A955-52D50EE4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3C1F-B046-4460-AE12-8C9D8D2E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204A-FABC-4EE9-A811-E57AD765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BA40-50D1-4D18-AABD-B2EB3CF0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00EA-3B90-44D5-B865-FC443616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D3B2-945E-4C52-91A1-0BAE93F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19D-1ED1-4D90-9AD4-4E059FA8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AF14-F00A-4A48-96BA-610B9CF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AA46-EFE8-425B-8634-68EB4D8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CFFA-DDE0-4DFC-918A-B34AE4F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D712-5853-47B8-AD47-D372DC61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0AC-C916-4BF0-9FAA-2D3405A5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6A3CD-CB9B-4EA5-924E-0EBD8600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8C4AD-B128-4A34-A162-875F8AD0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B2765-E375-4F51-A029-45775BA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E6F05-BBE7-405D-A677-BC061BB5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3011B-864B-4739-BBD6-9ADB5BBC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E94-9739-4700-B62B-0ACE9303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AEB1A-6EF6-482A-B0EC-95533E59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4DE8A-237F-4B66-A455-79BB69A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B16DB-786E-4CD5-B485-2278172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154B5-8B5F-4A36-9B9B-E61ECCBE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5C77D-47FD-418F-9989-7AA9590B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4CC84-FEB9-4550-BBAD-65C247B9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8BA14-D2C3-4954-B900-D7B55850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884-0B06-4F99-9E60-4CD50F7D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857-D0E6-447B-A839-B3C3E672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7ED-88CC-4E46-948E-3D94952B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151-5FAF-4CBD-AE7B-3F68B18F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7B7-ED35-4DB2-BBA1-B5E7C24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226-74CA-4E3E-8F15-E146B721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1385-2683-46BA-9E3E-5B7AC864ADE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BB6-7F63-48E7-B1C5-B8512FEA662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94BC-B44F-4557-A5BD-A5FFB1F87C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trola, účetní a skutečný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349360"/>
            <a:ext cx="74278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on o účetnictví ukládá účetním jednotkám povinnost inventarizovat majetek a závazky a stanoví pravidla pro provádění inventariz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kolem inventarizace je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věcné správnosti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štění zda skutečný stav majetku a závaz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povídá účetnímu st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reálnosti ocenění majetku a závaz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musí vzít do úvahy všech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vídatelná rizika, které se týkají majetku a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azků a jsou známy ke dni účetní závě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dle toho, kdy se provádí rozlišuje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Řádné inventariz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eriodick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na konc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ho období (ke dni sestaven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postupně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hu celého účetního období (termín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žné inventarizace si stanov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tka sa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odle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Úpln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– týká se vše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ílč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týká se pouze některý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Inventarizace zahrnuje tyto etapy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ovnání skutečného stavu se stavem účet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čísle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asnění příčin a vypořádá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43Z</dcterms:modified>
  <cp:revision>21</cp:revision>
  <dc:subject/>
  <dc:title>Dohadné položky</dc:title>
</cp:coreProperties>
</file>