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50AF-74C9-4992-B584-3556B01BD87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4531-CE4C-4E02-BDDA-2929A6C2E39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2549-2079-4DD8-BE68-E94E978A228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F51F-A5CB-498A-80C0-213B0F959BA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4660-1D73-4F6B-AFD3-8FE8AFC4793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FB97-9225-4FE4-822D-4BF06BEBA10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74EB-1379-4BDD-AB17-CD1308D0FEC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79C7-A7A3-4156-BBA3-27D22EFE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4B1D-594E-4F51-82BF-E61BC063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F782-599C-4387-AEE7-3C34631A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64E5-CC60-4A98-A6FB-B1001FB8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025C-221A-4461-B4CB-E39E33D5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B5D8-84DA-45A7-A5AC-414ABFEF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29A0-6CF0-43B0-89C1-ED244847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7242-5E5A-480E-9ACD-36846322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3258-5620-48A3-83BA-AAE98FB4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33C6-CBB3-47FD-98C6-0DC31E13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B92E-60C1-4065-9B1E-E51CE838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20E1-E564-46DD-98BE-3104AAFE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C343-2D88-4894-BF3E-F6BFE36B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4CF5-DBFD-4E24-885B-C2BECE2D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C279-6E62-48F5-BF5A-642C0DD4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D119-F38F-4582-8F2F-9AF9AF4A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3FE0-A860-4866-A4B2-AFE5959D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028B4-84DC-464E-847B-846A398C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FBC83F-B533-4F41-BB7E-03ADA394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CD8A05-281D-4E48-AC7C-897BDD30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1F4A1-2501-451B-90FA-2926825F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6EB281-F924-4AFA-833A-6B4BEF7B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F4A5-AE00-4E25-92EB-798B8C3D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1D8BD-99EA-44AB-8CBC-7D072238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D038A6-81DF-46B1-8187-29426439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A573B9-3F7C-4A3F-8347-D8108F5A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AE11B-6ECC-4C82-BA86-EE4D3E0B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9481E-8856-4A24-9393-90E780A5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FC103F-44F2-4EF7-99F7-CD0BCABE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FADEC-E182-4320-B8BF-5A8B45CE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408D-DED7-42B4-906B-D56994B5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E159-9246-4E49-AB87-50A53A89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D410-3C3D-4113-A140-8507E45C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26A6-EF22-4C01-963C-BB41790B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319D-D210-4DB9-81A5-1A6F8F75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F7AC-A200-4605-912C-0D82ED16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B3C5-22B1-45C2-94A6-BBA8964B63C6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C63A-6B04-450C-AA0C-11F368446EBB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31B9-5509-4E14-8B36-E92ABC0EC37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rezerva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izí zdroj, tvorba rez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Arial"/>
              </a:rPr>
              <a:t>Ostatní rezerv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Arial"/>
              </a:rPr>
              <a:t>Ostatní rezerv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rba ostatních rezerv je upravena vnitropodnikovou směrnicí účetní jednotk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jich tvorba není daňově uznatelným náklad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ezi ostatní rezervy patří napříkl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ezerva na splatnou daň z příjm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ezerva na záruční oprav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ezerva na opravu DM, který nesplňuje  podmínky ZoR (majetek v první odpisové  skupině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6:33Z</dcterms:modified>
  <cp:revision>15</cp:revision>
  <dc:subject/>
  <dc:title>Dohadné položky</dc:title>
</cp:coreProperties>
</file>