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C49A-CFDC-4B06-BDA2-AD97312EA8A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E67E-9E37-4FB5-99BF-988B3467BDE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61F6-ECCD-4004-B3FF-B9E3DAF53A5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14FB-7908-499E-A8C3-50018F7B257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D8E9-78EF-4B1F-99FF-3ED7548B54A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E5CB-1579-4719-8259-F9AFCB6FF3F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238C-0532-416E-9826-397E702EF44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048C-A9F7-4F14-AF57-4C1ED5AC3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4F3F-8DFB-4318-BB82-653A0522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A173-6E63-4746-AD32-0DDA9D480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5F7B-F068-43B4-BE79-486B5E85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60C2-6F22-4861-AAFC-CC5F9AF30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25E3-2209-4904-B1B6-BF60019A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DD3A-A6FB-4C87-AD31-A9563ED9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DCB2-4926-4041-93E1-1B6780CB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FF20-8765-48C8-9D7A-6C3DD091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5AD4-6A0F-4FFC-B28B-00175076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35D7-185D-41BC-A072-6A1637D9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F18F-60C1-47F0-A3FF-DFF7323B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65E2-27C8-44AB-9D19-5578AC7D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535A-08ED-46D1-9127-048F092C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20CC-84CF-4232-9D58-ECB75A85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D637-F30B-486D-B66E-6E518FB65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393A-8627-4662-A714-17815515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C5A6CF-ACE0-47A5-B22C-A97795C0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4D26E7-AECE-428C-9B8F-D76517CE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5086B4-09C4-4285-AD62-80FE6023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41F14A-E901-4FB2-9854-70499EB1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9FD043-6FB6-4EF0-82E5-C4E8C573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E656-8396-469A-B6DE-00B97183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057CDA-9CFE-4051-AD9B-58ACFA90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361ABE-D184-4745-A55B-4A5CA847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F4BF9C-327E-4D90-B9D6-89465C38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87E9A3-EB05-444C-ABD5-81F079C8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C9C0D7-7120-4754-994B-A09BB254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A4DAA1-E91D-482A-92AD-EAC9D650B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5035B0-2FAD-4BBA-8FA7-5860564EF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8B17-1A4D-4EFC-AD0C-4862644C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86DD-3C89-403D-8171-A96B5B66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DFC0-45F9-4DF2-867D-C1FFF64B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5538-B065-4701-91CC-7D74E949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FDB1-7362-4338-B6A9-ED0A49B7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0EB7-2F82-4855-9B50-09CD2898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1872-35B9-49B6-86A6-D9ABD2321471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6377-EB5A-4F99-9EBD-8560EC9BFB62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C725-5A1D-43FF-8C78-51A7E5B0F16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účetní uzávěr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onec účetního obdob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6364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Garamond"/>
              </a:rPr>
              <a:t>Charakteristika účetní uzávěrk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6633"/>
                </a:solidFill>
                <a:latin typeface="Garamond"/>
              </a:rPr>
              <a:t>Účetní uzávěrka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416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tní uzávěrka se provádí na konci účetního období (předchází účetní závěrc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účetního období se musí uzavřít účetní kni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d uzavřením účetních knih se musí prové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ventar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účtování účetních operací na konci účetních obdob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33"/>
                </a:solidFill>
                <a:latin typeface="Garamond"/>
              </a:rPr>
              <a:t>Účetní uzávěrka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ále následu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jištění hospodářského výsled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počet základu daně z příjmů a zaúčtování daňové povinnos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zavření všech účtů a převedení konečných zůstatků na uzávěrkové účty 702 – Konečný účet rozvážný a 710 – Účet zisků a ztrá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4:29Z</dcterms:modified>
  <cp:revision>16</cp:revision>
  <dc:subject/>
  <dc:title>Dohadné položky</dc:title>
</cp:coreProperties>
</file>