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D2C4-927B-4C20-B658-F05BDECCA8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9803-6F99-4B85-B083-5A272B4139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D376-FA34-4991-83D6-608EDA0EC9B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EACC-0F5F-4731-B207-1553E2D046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06E7-D766-4045-8816-139BBD1607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A4C-7D99-4415-92A7-B3C71D6C9F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9F3D-A7F5-4ADA-A2DE-896346E504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1C4-8C5D-4D7D-A7DA-855D9E1A51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3065-D505-4C65-A78D-F86778BED4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DD6D-9177-4B87-813A-EFA09E6E79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77A-B922-4EC7-A553-CADDE491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DC3-EFC3-4614-9FED-36B31C9B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69C-10AC-4BEF-9534-62D1C4E6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79B-A2F4-47C5-9AC7-F3E548AE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507B-BD8B-447A-AE4F-9F4EED8E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CCD1-43C9-405E-A522-3800C5B8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82B1-80BC-4741-98BB-0171C561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E1BB-BB71-4AD3-A304-D4980374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E5FC-D2A6-4983-BB27-8B8ABF9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A0FF-C083-476B-939F-3EAE911E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61F6-906D-4E1B-A1D0-266DA81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C2A-61B7-46C8-8393-9EA22CC6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ED45-9676-49EC-9ABA-C02B193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054D-E54A-4C1F-9DA4-E665AA2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9154-D1C0-4F34-B949-6ECBEFE0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E3B7-2FDA-4587-AF03-FD972D44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9FD6-0A57-4C74-BE6E-D84ACBF0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38C97-0A7F-4EE8-B972-8760F014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28851-A063-43BD-BCB9-F793D2A1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13D5E-47CC-4D17-ABF8-2BABA6BA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65B51-DCD8-4887-8DD0-3D7C5057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93EE6-3CD8-4DF8-9251-214413A3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32F-B171-43E7-BF53-E8142EC9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4C672-1CD7-450F-B59A-FD6AC238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F4B10-6ECF-4AFE-A139-1BA859F4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56687-41C2-449B-924D-156AFC2A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0D120-6C52-4E8D-BA85-9232DAC8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AB9C2-C96E-42FB-80A8-74423EC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C5DD8-A4D4-41BB-93B6-32FF2792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5A77D-8BBC-46AC-9FA1-82099443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8B0-FADA-4841-824F-9B9E06A1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0EA-7EC0-4FCC-A4BC-24AD6EC3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1F2-E60E-4E34-98E6-0483AF48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0C8-F120-4BD2-8AA1-2B7DFFAD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08C-EF2A-4947-B6A5-7FDF691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514-31B4-4023-85EE-1CB9DE3E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4AE4-A720-4160-8DD3-D911B3E818B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B677-E395-4858-AB14-CB53861E531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6685-7425-47ED-9B8E-33ECCFF8C8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ostatní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statní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ostatní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ostatních rezerv se účtuje do nákladů, a to na účet 554 – Tvorba a zaúčtování ostatních rezerv (na stranu 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iúčtem je účet 459 – Ostatní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počítače (1. odpis. skupina). Oprava bude provedena v roce 2012. Rozpočet opravy 80 000 Kč. Tato oprava byla v plánovaném roce provedena dodavatelem. Fakturovaná částka činí 99 22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počítače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2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7 22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8:31Z</dcterms:modified>
  <cp:revision>17</cp:revision>
  <dc:subject/>
  <dc:title>Dohadné položky</dc:title>
</cp:coreProperties>
</file>