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4978-4412-40D9-9B17-4739BFCB5CE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31C3-DB43-45C7-A904-09E7B65179A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44BD-DCF1-4C49-A4BE-6BAFE25484A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AB02-D61D-4E95-B123-283B28D51F9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03B3-B342-424C-BA4D-7D6308364DB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26E7-5363-468E-BC71-30BB578A86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4EF5-B842-4EEC-8C8A-2B60E39AFDF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8592-95A6-44E8-87F3-606BD0D52AC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7FBB-E8E1-4C0F-BDB1-5C69DEB7891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DBC4-16ED-45B9-814A-8B22ABF8B3C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0A15-4370-49F5-9BDB-C896CADB722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DA4C-3B63-4B71-947D-4A7A9956C83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4EAE-BA2B-45D9-8DA1-A560F882AC9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6F08-6117-46DC-AC4D-1C6F61B2C00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4A71-DA87-4185-AFE6-897A673670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0A7C-D5FC-458F-A063-1ABEE6B6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0DF0-15BF-4204-A2FE-4238E422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5986-3490-4518-B9D7-A82D4BB1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4104-347A-484E-B422-94C9160D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A6A0-DAC8-4C26-B84B-D269A957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4B25-5036-4126-8544-91F9B19B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1A03-3A60-4714-8FA2-DFD6BD07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B466-2096-4DB8-9272-BBEA7AC3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E6B3-F41C-4A1E-B214-637678E0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4797-1E3C-4816-8FD3-877B7194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A466-4FF8-4B42-87FA-7EDA4B63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D3D6-ED20-4705-AB01-BCD77BC6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C71B-AC1A-42CD-90B3-8FD9F2F7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42C7-FD22-4B19-80CD-C747FB33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8E4F-5FCC-4BEB-9A5E-7C2FCE84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1FB0-7BD3-4692-80D0-59175CDE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C0C6-D5E3-46FD-BDA5-01BF66CF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45755E-64C3-46C0-9A85-15C7411E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87D5A-4715-4B77-AFF6-56E88D3D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DE15A5-80AA-4C90-AEBA-98387104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EFF78F-D019-439C-A8C2-4C777DFA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809771-C417-49F6-9250-F6C4C923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54C2-F193-4082-A2DD-E50DAA25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6BD43-7D92-4C72-9C02-FF7F6B90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85502E-D048-4B81-A466-4900C720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197F4A-9FFF-41F8-BD71-48BE2FAD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8C7233-97EA-4053-A73F-5CD3F6CC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D8E74-0F5C-4849-BE20-F16F25D9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0785BB-D86F-444C-B374-E9DDA785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3A610E-7645-4236-855A-BBC89285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FDC2-B49C-4905-AD7C-277DBA8F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DD11-A192-4280-A98A-363094D7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C483-30CF-4EA4-8DBC-93281D6A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EED8-799D-4A2E-A533-E9CBAFB4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FA82-F15B-4A11-9A26-F8C804C3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28A9-BCCA-4312-81E5-CE9AF8A6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E3E8-2AC2-4F6B-955A-2D0F164342BD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6755-4017-404F-AD59-93D1B9269824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7A97-C190-4F17-8106-428882020E2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kud rozvahová hodnota pohledávky v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kamžiku jejího vzniku nepřesáhne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00 000 Kč, může být po 6. měsících                        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řena opravná položka do výše 20 %,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 to i bez návrhu na zahájení řízení proti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lužníkov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 nevýznamných pohledávek lze vytvořit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pravnou položku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ž do výše 100 %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jí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uhrazené rozvahové hodnoty, pokud od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once sjednané lhůty splatnosti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uplynulo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ejméně 12 měsíců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významnými pohledávkami se rozumí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promlčené pohledávky, jejichž celková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hodnota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epřesahuje 30 000 Kč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ůči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émuž dlužníkov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případě, že se jedná o pohledávku za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lužníkem v insolventním řízení a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hledávka byla u soudu řádně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hlášena, může se vytvořit rovnou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100% opravná polož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Účtování opravných polože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rma měla k 31.12. 2013 neuhrazenou pohledávku vůči odběrateli, a to ve výši 70 000 Kč, která je 6 měsíců po splatnosti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nejedná se o pohledávku za dlužníkem v insolventním říz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 Dále firma dočasně snížila hodnotu jiné pohledávky o 21 000 Kč, která je 4 měsíce po splat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účtuje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 Tvorba opravné položky 20%  14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8/3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Tvorba opravné položk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21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9/3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9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pravnou položkou u pohledáv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očasné snížení hodnoty pohledáv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3640" y="2997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Opravné položky u pohledávek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6633"/>
                </a:solidFill>
                <a:latin typeface="Garamond"/>
              </a:rPr>
              <a:t>Opravné položky u pohledávek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pravné položky u pohledávek použijeme v případě, že pohledávky jsou již po splatnosti, u kterých však předpokládáme, že nám budou uhrazen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pravnou položkou dočasně snížíme hodnotu pohledávek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 uhrazení pohledávky se vytvořené opravné položky zruš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U pohledávek můžeme tvořit tyto opravné položky: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11280" y="2420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aňově účinné opravné polož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účtujeme  558/39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aňově neúčinné opravné polož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účtujeme  559/39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aňovou účinnost opravných položek řeší zákon o rezervách pro zjištění ZD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ši opravných položek závisí na době, která uplynula od konce sjednané lhůty splatnosti, následovně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případech, kdy věřitelé podali návrh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a zahájení řízení proti dlužníkovi podle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edpisů o rozhodčím řízení nebo soudu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 příslušné řízení bylo zahájeno, lze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řit opravnou položku v závislosti na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obě, která uplynula od sjednané lhůty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platnost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 více než 6. měsíců – až do výše 20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 více než 12. měsíců – až do výše 33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 více než 18. měsíců – až do výše 50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 více než 24. měsíců – až do výše 66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) více než 30. měsíců – až do výše 80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) více než 36. měsíců – až do výše 100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6:18Z</dcterms:modified>
  <cp:revision>22</cp:revision>
  <dc:subject/>
  <dc:title>Dohadné položky</dc:title>
</cp:coreProperties>
</file>