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FD9B-C8AB-4960-994A-EA76C2D84B6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9AC9-854E-44C4-B210-98FB35781B7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FB6E-3CC2-4AAD-B5BC-50D7243FAD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0874-5966-4DFC-B6B9-F3BFE761382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FB1E-FDD9-492A-B870-C01A4DCDFAA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77A8-01E1-4360-8449-80BC00E4B2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C0DE-FFE1-4FCF-9F8C-1683D79D504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5D36-7BEB-400F-B474-61427D44315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FEA1-427C-486B-B22E-D1B015AE084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AE7E-2968-4927-8317-32FF3E75C0D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1BCA-7EF0-46B5-887E-7C4471D22F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A7AF-D408-4222-9823-5AC32283A39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5B7A-A18E-4A15-A256-0CCD7B6E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5C6C-6C21-4742-809D-1E9B5856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9DAD-0524-4C26-84FB-8DF053E1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A23-D04D-4C48-88DF-9CD90C24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E1EB-6744-4DA6-A1CC-D86FF9FC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DBB8-B4BD-44D6-A8AE-7DB2B246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F6BD-2315-423C-896C-E612D193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82EF-A405-40D2-A61D-CEB2E3CA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3867-DDE0-42E3-9866-540D984F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A67A-79C1-4CE3-AA46-17364783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DCE1-B3F1-4D2C-B4D4-5F9697E2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49E-FE60-4410-A7FC-792536FF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5885-0C57-437C-A875-72B11222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DB19-92EE-4BFD-AC2A-0FACD280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5D87-4505-4EDB-89AA-D526670C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0AFF-4BCA-4DC3-B2F8-5B87EEE4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7A18-E5DB-4FF8-B1C0-64DD2AD1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A1A96-08E7-4249-9EED-35B68A07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56EDF2-A602-4D9F-A37B-5AF96617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C1EA8-2450-4C67-B25D-811AFB40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F0E64-0630-478F-9874-2AAF0C71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8E6F0D-9170-4DD2-B4B4-31AD0AA4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EDF6-778A-41FB-8C03-0C19E124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2EC13-65F6-4A23-9611-AF6A761A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85792-7FAE-49D0-830C-6153B119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EFA40-FA90-4AE8-9B50-D4B27591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FF52F-C963-4668-B8B3-039E7DF6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EFF22-73C7-4718-97D3-F0799CB6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17AF3-A684-4ECF-9C93-811B1CDF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157AF3-2F81-4B41-BC13-A022FB6D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8582-27AF-4968-B17F-D6E20FB4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27E-F111-4C17-A2AC-034B82CC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396C-A910-4285-AFD7-5EAC93DF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7C16-CAEA-47B9-8BDE-6441F0FA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D6E-274B-4B08-9098-253E76D8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B496-29BB-474A-9057-136CC030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4765-817F-44A7-94CB-067719501523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4E0F-96A3-4807-A279-C50D763BD399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69B2-A8D6-4C53-A44D-C81D2E06C17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FaV – Prodej výrobk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500 000,--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11/6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VúD – Tvorba opravné polož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5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8/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VúD - Odpis pohledáv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5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46/3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. VúD – Zrušení opravné položky   5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91/5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e zrušením opravných polož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minutí důvodů, nedobytná pohledáv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79280" y="242100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Zrušení </a:t>
            </a:r>
            <a:r>
              <a:rPr b="0" lang="cs-CZ" sz="4000" spc="-1" strike="noStrike">
                <a:solidFill>
                  <a:srgbClr val="006633"/>
                </a:solidFill>
                <a:latin typeface="Garamond"/>
              </a:rPr>
              <a:t>opravných</a:t>
            </a: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 položek u pohledávek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33"/>
                </a:solidFill>
                <a:latin typeface="Garamond"/>
              </a:rPr>
              <a:t>Zrušení opravných položek u pohledávek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pravné položky u pohledávek se zruší, poku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minou důvody pro jejich existenci (např. pohledávka, na kterou byla vytvořena, byla uhrazen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hledávka byla odepsána jako nedobytn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33"/>
                </a:solidFill>
                <a:latin typeface="Garamond"/>
              </a:rPr>
              <a:t>Zrušení opravných položek u pohledávek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rušení (čerpání) opravných položek u pohledávek se účtuje následovně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daňově účinných opravných položek 391/5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daňově neúčinných opravných položek 391/5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rma měla neuhrazenou pohledávku vůči odběrateli, a to ve výši 70 000 Kč. Na tuto pohledávku vytvořila k 31.12.2012 opravnou položku ve výši 14 000 Kč (20%). Dne 21.2.2013 tato pohledávka byla uhrazena odběrate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úD – Tvorba opravné polož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bú  - Úhrada od odběr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 VúD -  Zrušení oprané polož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VúD – Tvorba opravné položky  14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8/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Vbú  - Úhrada od odběratele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7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21/3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VúD -  Zrušení oprané polož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14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91/5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irma Senox, a.s., vystavila dne 5.3.2012 fakturu odběrateli za prodej výrobků, a to ve výši 500 000 Kč, která nebyla uhrazena. V prosinci 2012 byl na tohoto odběratele vyhlášen konkurz a firma Senox, a.s., přihlásila svou pohledávku. ve stanovené lhůt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následujícím roce soud zrušil konkurz pro nedostatek majetku dlužník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aúčtuj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Zaúčtujte: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FaV – Prodej výrobk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VúD – Tvorba opravné položky (10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. VúD - Odpis pohledáv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. VúD – Zrušení opravné polož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42:48Z</dcterms:modified>
  <cp:revision>27</cp:revision>
  <dc:subject/>
  <dc:title>Dohadné položky</dc:title>
</cp:coreProperties>
</file>