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99AF-F477-4F1D-9BE9-0BE5858FAB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964B-182F-465F-9811-C437642833C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60DB-7970-40EC-B4CB-C98347332EB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B8EB-ACE7-49AA-A92F-B02373FC10A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3A17-1EFE-4BEC-A46A-B01AE20E79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DA0D-28A3-48A0-8228-A290B8DE92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475C-616B-4CE7-8FBD-2466EC8DD5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E19A-61A5-4C1C-BECA-3BDC36C077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3E41-FEE7-487E-A08F-30670CD228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F50D-35EC-4BF4-8BC0-CC8B1D9946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A87D-341D-4465-9DAA-9E1DA9F575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A24E-AA01-4A71-8685-34EC9AE8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9265-3777-4C42-99C6-7FAFCBE6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FC189-797B-4E8F-A67F-C2DA50D0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ED8CC-2E44-429E-AC66-98167BB7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A1ED1-A67D-40F1-8B8C-16489A64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545B8-5215-4011-84B0-C431AD1D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54E24-0D0A-4042-9947-3185B00D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4DAF6-6CAB-4DAC-B68B-9826B4A0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35B05-701C-4D15-A2F4-C2E04B0C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3B428-FB1E-4477-B8C7-44011DF2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6CDE4-98C8-4FFA-9004-89CC5806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C946E-531C-4E1E-B8B9-8142752D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64C5-B277-4D77-9936-0748F7E9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A846C-5968-4C9B-B02F-C616A52F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C5558-4B33-4843-BC8C-D1B0D8A8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CF73D-70A8-49A3-A072-641FA35E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EE9CB-EC64-4F45-B9B5-4A8CC24C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C055F-DF90-4179-ABD7-400D4603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0A1BC-4FC7-4FD0-A965-013A58C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FB877-E8E1-4613-AD9D-44A2AE6B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8BEF4-7B62-4B0B-B7D0-5C066E46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11F92-52F1-4BD7-936F-2307026E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E9891-2739-42CD-B2C1-03614BFC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82DD-F906-4EF6-B177-52C117E3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E4CCD-317A-4EE8-A68E-3223AB74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06655-945D-4A7B-9950-2378AB25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E869C-BE42-4F05-A222-7AA52921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3D86A-6670-4100-AB32-90D2C51D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32720-25EC-4B7C-B5AA-32DF7926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9D463-752E-431E-A96A-A9F18686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21C44-AB28-42A6-B165-30A59F8A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5836F-1FAD-4014-8432-32EEDC0F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8DEF2-AD95-4B72-B671-117474E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B4012-1E79-4907-9DA1-9E93E416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005D-2B97-4F5F-BD35-9C25F8CE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76A6B-E8CF-4058-A3D6-AA7CDCD1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EEB18-79A9-4873-9CA8-03352987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348EB-333D-4CCF-B494-4A2F1173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70DA1-CF6A-419D-B5F7-C964BE75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BB119-BB93-45D7-9DF2-10C8BD9F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5B8CA-6F30-474C-A772-E38BF84A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A85A5-1E85-41A2-B8A1-9CBC028F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056D0-E4F1-4327-86E1-03DF0203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EAAAB-C65C-4B2F-9FB2-097DE340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501E7-CE8D-47D3-ACF4-4B9F2061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36DF-0C64-4E1A-A6F4-F99E1A4B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29C0D-52E3-46AE-B3AD-4BA335ED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51BDD-EAD8-4571-AAC2-01D40FA5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7A227-1C65-422A-B00B-B67B7EA1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5AA6A-3CC6-4C3C-BCD7-4ED824CD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6A45A-4ADF-4253-BBE4-06DB5B2B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523C9-3DB3-4E41-A0CB-977FF0FD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951D1-6941-4827-B024-E58DA03F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EE1BD-87B1-4222-8EB8-2479BEDC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BE472-8E55-4E2A-9E04-802E4432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F6811-1D75-4443-81A7-7713F01E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8309-6D61-4796-97FE-C7C4CA88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0C598-B812-4707-8929-DDA1E439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A1819-F350-44DD-8D51-3A6BC229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C3AFE-0796-4029-AD2E-B93B3E87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1154E-6058-4A3B-B031-1557C7A4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999BF-44DF-4E53-B858-89998D43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2E618-A7FE-4A5B-A80C-5D68B4B8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372A6-0D88-40E8-8AD3-8656DFF1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11533-1361-41AE-B25F-4BFB9C03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24008-117E-4EF2-86ED-E310BBCA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B0353-5381-4641-8E61-20A8EEE5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E971-BBE6-465B-B970-8B4FAD75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D0DAE-2204-44C4-8044-285ACDBB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8EE4B-287D-45E2-9F02-4D7FFB9B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1DC00A-2AB3-4CB7-9DBD-6D9D4720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F7225-EF77-4ED4-B639-C1AADB12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9D69D-DB7B-45BC-B768-82EBAEDA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508A2-7EEF-4783-9AF2-F8F6747E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51469-4AFD-4A64-B256-064D780A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443F2-9344-400E-81B4-17B49EDC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D96E9-56B8-452F-A81B-28B0266B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C84D9-B23F-4B16-BF89-DB75166D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00F9-4E91-4FF5-9082-74750E28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3E070-24E9-468F-B5E2-7CE6ADB2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EB0C80-CCEB-4A3E-A40C-B6C33CF5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8E081-4E2B-4A34-85CF-35E2672E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861CA4-F65E-4D83-AA61-D97620E1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EA076-03E5-4FE8-B142-32C86E53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69C374-8C6B-4A87-A339-324B1D3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DB3FD-0C6F-4511-924A-65824169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08E8F-3E49-4C88-8B90-8C546384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24D88-77D2-4F54-8EF1-22FBC167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15C01-F7C5-4FED-9A26-661C19FE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C56D-8628-447C-AA5D-63CB51C3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EDEDE-0B90-481F-8343-A63C5B9C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221D14-B0E4-413C-9BE6-FE9FC76A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E502F5-935F-4314-A606-40466968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8DDC94-65A0-48EF-880B-16DE47E4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04BF0E-DCE3-46EC-97BD-C0D9B488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FCA94B-85DC-4FCA-9EF8-DC34AE40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3CBF4A-8305-4C6A-B31D-35CE9F93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43C4D6-5139-49E3-9D96-E6CE566C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0F3F0D-F49A-4682-8631-B1525682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855D64-26AC-4F21-9C00-1603C433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DCE1-E487-429D-98CE-EC47FE3E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8F4022-A53F-4D22-9D7C-CF31D2C6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41797D-6691-4C44-BD65-7F430C7B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07DDA0-9531-4D63-94B4-490E50A3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18A51-FF1B-4418-B79E-90F9C401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FCF513-80F3-42BB-A9F5-ED10E73B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ACC89B-348F-4904-810C-58342E8C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055383-C9C4-4B42-B00B-ED7D8DA9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51BBE-9B43-4130-9828-91017D66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7A06FA-4BA2-4359-9BEE-0D90EDE5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F98D8-EF51-46F8-86C9-21ADD326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B3BB-D50C-4217-B482-5F5F77AF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5F69-BBAE-423A-9A48-9DAFEC7A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B1BB7-FDD0-4F3B-A2D5-B293A5FB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7E721-B134-40A0-80FB-66C8413B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D3C93-3B5F-4DAD-94E2-4C44BD19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E59DEE-3287-4C0C-9D4D-A4E72048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1EB1C-3A81-46BF-A58A-3E300382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1F8D-E1E2-4378-A46A-2F9E9383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4BA3-4B41-4862-B40D-C1F8B198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68DD-7DD1-42BC-BEB3-DBE638E5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44FF-7859-4E55-8EE9-75C1E35A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303BB-D8A2-48E0-A073-C9196653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8A227-B146-484E-AB5A-5D2737DD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F82A5-2DB9-4543-99CF-C607605A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B854F-7167-4101-9C11-E4DE30C0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BDCD6-85B0-4314-8B01-36AE2518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A0197-7EBC-463E-AEE2-B3380D36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6E166-D492-48B6-B3B1-FF81918C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7F549-3D40-499E-AA08-D0621873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878AF-FA87-416B-A2DB-E223D9E4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FC367-5BFF-490D-9B57-CAC4CB0C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A0F65-F91C-4A7F-9535-D62E01B4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2CF89-AD06-4B6D-83C8-AAF2CA7B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B6EDB-363B-4031-89AD-02256597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5E51-D0F3-4A17-86CF-0521590F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04721-4375-454C-A7F6-CA6C1E65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4030-3AF3-4448-8866-0619B0B3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AC39-CBD3-4197-88AE-F5D02008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2655-4ADC-45C9-9AE7-DBD048D7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1F75C-729D-415F-AF0E-FEA3A4A1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3BCEE-4F0E-4EFA-9E09-1E6CFF43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74227-B080-4D97-B8A6-165DCAD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208B8-6FC4-4349-926F-BA340785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29B76-E9B7-485F-A52C-EE7B7AC9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BCD98-39F7-4DCD-AC0F-3E5A199B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24761-C418-4A53-A78B-FBCD5BE2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4CB6-81C3-4F60-9A72-ED6156AE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386A7-0FAD-4D87-90B4-C484E393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79CE-F732-4AFD-A42E-EB59D9C6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46305-68E8-453F-BCE6-FE94258B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85164-FDDD-424B-A89D-8FAD9627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7DE2B-6F8F-4317-8D3D-CCF19CFB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36AE7-2E44-4867-97D7-7BB6159C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98FB7-7BF0-4DDA-B472-D142151D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1B79C-1583-44A2-9CBE-B15DFA6B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E3DF-5F2C-41E7-8A24-29057941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CCBD6-9222-40C7-BE0A-6338D325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21114-7318-44C8-86F4-01417F9D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0CE78-C32E-4145-B629-B775C592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FB92-0F11-4EBC-B939-B009330A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193C1-D480-4378-82FB-A21F3848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EB83A-7BEB-4737-973A-B2BEA34C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4537A-5D37-4FC4-9D4E-40189E1F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F9829-2A07-420A-A348-626C5CD7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15F19-25D2-43C2-9E97-522730A4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CE2B2-5ECE-467E-B6D9-FAC5A20D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4715A-6931-44F5-929A-D61E8B3E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3999A-504F-4EE7-8BB5-66C61D93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7BFC1-7C43-4412-9308-19AD0271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2E664-B045-40E0-9895-782F1B11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59258-AC08-4A07-9F19-4A230609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CBA84-8398-449B-A266-3C808F6B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E64C2-B224-44F2-A682-610B709B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E50A7-2F7F-4302-88DE-B3188ED7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F6EE8-7A73-463E-862E-32F02D72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59134-0D69-4598-8F32-A71E6485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9DC9C-6C9B-4D53-A9ED-2C13D274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F25B1-EDBB-4B7B-9D04-CE205710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35F7F-30A4-417A-8503-89926A38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E25FF-D190-45DE-9181-0EF86E2D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17D09-30B2-4960-8CB0-9BED481E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4757-1C45-4360-A999-4073FF55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AA585-B6F7-4575-A31E-0DBF4F3C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00270-74BD-47E0-B91F-1FEBA0B4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BB1A4-37AB-4C2E-9D4D-F8329884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BD328-3CC1-4DC2-8BB6-DA4F8CDD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6626F-D9F2-4C6F-A2A1-08E890FD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6CBE2-23D9-4748-A83D-9A33B8B5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33CCC-887D-4B3D-9A9A-884461FC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E640C-4415-4919-90B1-B948F81B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C70CE-F6E1-4855-8861-FEAB1171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0AB6B-1BB2-4EA2-AD14-CC7630EB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AFDB-D178-49F7-8C6F-BF1264A5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108F7-D92F-43C9-BEC2-C4C78D78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3BA38-FC4B-40A7-8F69-7438761B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F687B-1FCC-4CB0-99AE-C898372B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8E459-9099-4FBD-BB8A-A27DFF60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0B3A4-002B-453C-90BA-3D783760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71C00-7218-4946-966B-7FF98590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7AE77-7BDA-47C7-A12F-3150DBCC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BF00C-1F0C-4B78-B170-84C6DF41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E245F-5967-4AA1-8CD9-6650EC6C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40CF5-356F-4704-BD09-F68A68E8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50AA-1D91-4BFD-BAE6-669682924C8F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0680-9793-4A06-96A4-1B889CFE74D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7048-FB3D-4B9D-BA18-C228EE885AE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EA46-A7B2-4C39-A0BA-78A8A566C79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1FE-CB68-491A-85C8-1F7AFE2C4B0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A5CB-F900-4030-BA81-81A7C17B77A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FD29-CFCA-4CF5-BCE2-AC9E34AE0E0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ED41-3870-4E0E-A55C-2179ECA3915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D89E-DD00-4FCC-928E-E7F959F0C662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9D70-230A-4D9D-9187-682DE8FE3BC9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FBE9-1D35-4859-8B46-3A8EBE6794B8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64DE-919E-46E4-87F1-8C42A45DD9FF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07F2-7502-416A-9C77-3C22E894709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5DC3-5B0B-4E4D-92D6-9B78FE74F55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115D-B320-4AF2-9024-F808C89BDCE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CC43-3246-4511-BDA5-7474A56F160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C97E-2054-4D7D-B58A-34348EDFBC6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67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áklad, výnos, příjem, výda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Charakteristika časového rozlišení nákladů a výnosů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ůběhu účetního období dochází k časovému nesouladu mezi výdaji a náklady a mezi příjmy a výno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hospodářského výsledku účetní jednotky se musí zaúčtovat pouze náklady a výnosy, které souvisí (časově a věcně) s daným účetním období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ý nesoulad mezi výdajem a nákladem, či mezi výnosem a příjmem (např. výdaj v tomto roce, ale nákladem to bude až v příštím roce) se řeší pomocí přechodných účtů (účtů časového rozlišení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se provádí na konci účetního období při uzavírání účetních knih za pomocí těchto přechodných účt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1 - náklady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3 - výdaje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4 - výnosy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5 - příjmy příštích obdob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zvaze zařadíme tyto účty následovn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ktiva                        ROZVAHA                          Pa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1 – Náklady příštích obdob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3 – Výdaje příštích období 385 – Příjmy příštích obdob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4 – Výnosy příštích obdo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Účty časového rozlišení používáme v případech, kdy přesně zná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účel vynaložení – věcné vymezení, čeho se daná operace přesně tý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částku v K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období, ke kterému se částka vztahuje, kdy příslušná operace nastala nebo nas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čty časového rozlišení se nemusí používat v případech, kdy jde o nevýznamné částk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řípadech, kdy jde o nevýznamné část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íklad předplatné periodik, nákup kalendářů, diářů apod. na příští rok, a je zřejmé, že tím účetní jednotka nesleduje záměrné upravování výsledku hospodař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o pokud jde o pravidelně se opakující příjmy, (např. úhrada činnosti auditorů, daňových poradců vztahující se k předcházejícímu obdob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34:11Z</dcterms:modified>
  <cp:revision>17</cp:revision>
  <dc:subject/>
  <dc:title>Časové rozlišení nákladů a výnosů</dc:title>
</cp:coreProperties>
</file>