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3A40-3A76-4E0B-AD80-755D7939A9F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8C29-56B2-4A8B-8C35-018DE778C1B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5635-8873-4076-AE60-85336D42FD8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DEA8-6BEA-47DF-8FAD-AB267209B60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40DF-25C3-4AB3-A1B9-D02505495F2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80EC-1F87-444F-8F1B-A6190D78260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4056-30D4-41B0-9127-A47792F9219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6F63-221C-4817-8B74-7637945B174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8402-66D8-47C9-8310-28EB1B1B7C6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56B6-E491-4D2D-8C9E-78E65B54DD0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EDE5-6BAA-4C5F-A4C8-67B4F700771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AE0C-80FD-4172-8633-B92701BB672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1E88-6EAB-4EBE-9F0A-74928762558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E4CF-09F9-4628-97B6-FFA4EF9CE27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A7B6-7818-4DEC-9F8B-0BC498D88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82EA-3E07-4159-9E9A-833A5439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1B9D-5FAC-4528-8EC6-82445700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CDEC-2455-4FA0-9105-823487A9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B30D-78E6-4081-87B1-E051E036E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52A8-A1F3-4C24-B7F9-4FAA0FF5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74A6-DB3D-423D-AC95-5C75AEAE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64AA-5651-4577-91AA-35B2D27C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AFA9-DD3F-4E44-8475-9DF071BE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77B1-E154-4299-8BD5-0CC7F445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13C0-6088-4A22-9D21-D2A628E0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0CEB-E2B9-4CB8-AB58-D77FA6DA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0342-4015-447D-9864-8ACCB613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EBDD-E226-4852-93D4-E5F455AE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4005-8694-40FB-9153-0B311EC7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56F0-3AEA-4AEB-B161-F55AA1477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BE37-5762-4DCF-B476-D5049CB87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4A12B5-2E64-4F63-ADB9-F3552648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F59CE6-8164-476D-A3F1-39217C0A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9DEC1B-4144-43B0-BA6E-E8C619BB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2DC170-E0D7-4C08-AE8B-BDC4F522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8F2F55-7D31-4784-92F0-7E7346ED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AB97-0090-48FC-92EA-6B6F9757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6BD096-6AEA-4B6E-9824-1643AFEC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26B201-5726-4156-BC73-190AA06E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19D754-41A9-46AC-8F0F-A4C6915E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BBE9B1-22A2-4258-87CF-F2BFDDC3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0A6AAD-3AAC-4364-B771-58B81B80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043F1A-501F-47BA-BFA7-29C0E4E59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8A18A4-4E10-4335-BA02-98E51EF45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3C78-1DB6-4EFA-95DE-78001F26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D8DD-B4D4-4BA7-B9B7-BD33EFA5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015F-1E2C-4D3C-B6F8-34F97D77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1D3A-8586-4113-B032-280CA8D4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5A64-3554-4E03-A84A-C73E16DF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7B71-44A2-4211-8FE3-D5C4D0B7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D674-7685-492A-BBE4-FF0C09F46A14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2181-64EB-4A66-A978-2CF630DD96E9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E33E-293D-447B-A259-74D0474EF06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6633"/>
                </a:solidFill>
                <a:latin typeface="Arial"/>
              </a:rPr>
              <a:t>Tvorba rezervy dle ZoR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1. Minimální doba tvorby rezervy – musí být tvořena minimálně na dvě zdaňovací období (rok předpokládané opravy nesmí být započítán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apříkla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irma se v roce 2013 rozhodla tvořit rezervu na opravu D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ezervu musí tvořit v roce 2013 a v roce 2014. Předpokládaná oprava DM bude nejdříve v roce 201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Tvorba rezervy dle Z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Maximální doba tvorby rezervy – je dána podle jednotlivých odpisových skupi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odpisová skupina – 3 zdaňovací obdob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3. odpisová skupina – 6 zdaňovacích obdob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4. odpisová skupina – 8 zdaňovacích obdob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5.-6. odpis. skupina – 10 zdaňovacích obdob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Inventarizace rezerv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a konci účetního období se v rámci inventarizace posuzu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důvodněnost rezerv – zda stále trvá důvod pro provedení oprav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ýše rezervy – např. při výrazném nárůstu cen vstupů můžeme zvýšit částku rezerv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rezerva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izí zdroj, tvorba rezer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800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06633"/>
                </a:solidFill>
                <a:latin typeface="Arial"/>
              </a:rPr>
              <a:t>Rezervy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Rezerv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4167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zervy jsou cizí zdroj, protože představují budoucí závazek (např. rezerva na budoucí opravu budovy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i tvorbě rezervy známe jejich účel, ale hodnotová výše a období se pouze odhadu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Druhy rezerv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zervy se člení n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. zákonné rezerv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ostatní rezerv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Zákonné rezerv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zervy vytváří účetní jednotka na rizika, ztráty, ztráty, předpokládané výdaje v případech stanovených Zákonem o rezervách pro zjištění základu daně z příjmů, které tvorbu rezervy považují za výdaj na dosažení, zajištění a udržení příjmů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zerva je daňově uznatelným náklad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33"/>
                </a:solidFill>
                <a:latin typeface="Arial"/>
              </a:rPr>
              <a:t>Účetní jednotka může tvořit zákonnou rezervu na opravy HM za těchto podmínek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usí být vlastníkem dlouhodobého majet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smí být tvořena na technické zhodnocení  nebo na údržbu hmotného majet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zervu lze tvořit pouze na majetek, u kterého je stanovená doba odpisování více než 5 let (od 2. odpisové skupin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33"/>
                </a:solidFill>
                <a:latin typeface="Arial"/>
              </a:rPr>
              <a:t>Rezervu nesmíme vytvářet na opravu HM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28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 opravu majetku, který je určen k likvid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 opravu důsledku škod a nepředvídatelných či nahodilých udál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 každoročně pravidelně se opakující opra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6633"/>
                </a:solidFill>
                <a:latin typeface="Arial"/>
              </a:rPr>
              <a:t>Tvorba rezervy dle ZoR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še rezervy na opravy hmotného majetku se vypočítá jako podíl rozpočtových nákladů na opravy a počtu let, které uplynou od zahájení tvorby rezervy do předpokládaného termínu zahájení oprav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edpokládaný rok zahájení opravy nesmí být do počtu let započítá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42:33Z</dcterms:modified>
  <cp:revision>13</cp:revision>
  <dc:subject/>
  <dc:title>Dohadné položky</dc:title>
</cp:coreProperties>
</file>