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F9B8-82E6-4152-8858-EFDCCCDC45A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5154-7981-49DF-AE76-8A39A0577D2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2338-7E02-4B6E-89AD-73D0F2DBCDD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B1E6-DD40-4CA9-8D56-429CC031EC7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9B0E-B356-4234-9FA1-6B8FFB5E7DF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FB94-A119-4D71-8CC2-4B1DE1C54CE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18C0-2001-4C94-B642-8C972E8B961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2094-3290-46D1-B889-878FDC010CD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F735-92F4-48B8-9934-BF10645BCC0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2A80-EDBF-414A-A0AE-247B90B015D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8E36-658F-4BDC-BF53-90EC5A1C1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6677-7DC0-4BDA-8E97-32E65AD7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2E05-B7CC-4CB6-8490-6E6324EAE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B41C-D199-4DD7-82D6-8721BB328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EA82-719C-4132-BF56-FB014ABC6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92DD-9D5A-4F59-BC30-5096F45D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42CA-952F-47F4-8BE3-E489B3E6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0CDC-6241-44D7-9F58-6E54235E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884A-CD4E-4431-93D1-6847C358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7157-EEA1-4A6D-B203-44C0A8B4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D09A-2CAC-4773-A06F-834C19C4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A711-15C6-4984-8080-D8E4D4A2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0180-EF31-4DC1-86CB-4BE53CFE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F624-E5EE-4C82-B81E-0061E415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07B4-9A96-4B93-A1CA-3DBB366E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2D18-DB20-4A6D-BE43-0CCDDC089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8A92-BB43-471E-AE51-EEACB20F7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F321CD-4992-486C-B073-3EC58304F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FCBCEF-CA64-4696-9227-62C79AD8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3923DD-B23E-404C-84FC-B42AED5F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44AF88-A5D0-4D00-ADC0-9E1E9DD2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9A76F8-2760-4448-A9FF-DEA8E978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5613-F997-4FBC-A96C-206F779D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B78774-5619-443A-B768-98F7D2AD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FFAA94-F85C-48B8-A6C0-7CBE072F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C4BDE4-04F5-43D5-8141-F0DC51F0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E4A2CA-9F93-446D-8222-0394B354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16846D-ED03-437E-BE9E-3A17B4B4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1AC733-D3FE-45A5-A061-64FB6E65A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F56828-D177-44C5-8DC2-E977E051E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12EC-0BF2-40DF-8743-F07F2C64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0C1C-7EB1-478C-8B9A-F927336E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C4B6-CF00-421A-96C3-13F23EB1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69A3-84EF-48BA-96FE-81438F66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E2AC-DCA0-447A-BC78-220ABA21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1E08-338A-447C-B8AF-B1E04D11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9629-F43C-4A2F-9D5E-25DE48FA7730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A5B2-B012-450F-A791-1083C7C24D86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B51A-2096-456C-A02F-785F6AF6B66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účtováním zákonných rezer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Zákonné rezer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s úloh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800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6633"/>
                </a:solidFill>
                <a:latin typeface="Garamond"/>
              </a:rPr>
              <a:t>Účtování zákonných rezerv</a:t>
            </a:r>
            <a:br>
              <a:rPr sz="3500"/>
            </a:b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6633"/>
                </a:solidFill>
                <a:latin typeface="Garamond"/>
              </a:rPr>
              <a:t>Účtování zákonných rezerv</a:t>
            </a:r>
            <a:br>
              <a:rPr sz="3100"/>
            </a:b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7416720" cy="37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vorba zákonných rezerv se účtuje do nákladů, a to na účet 552 – Tvorba a zaúčtování zákonných rezerv podle zvláštních právních předpisů (na stranu MD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Čerpání (rozpuštění) zákonné rezervy se zaúčtuje na stejném účtu na straně 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otiúčtem je účet 451 – Rezervy podle zvláštních právních předpisů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6633"/>
                </a:solidFill>
                <a:latin typeface="Garamond"/>
              </a:rPr>
              <a:t>Účtování zákonných rezerv</a:t>
            </a:r>
            <a:br>
              <a:rPr sz="3100"/>
            </a:b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íklad účtování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vorba zákonné rezerv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552/45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rušení zákonné rezerv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451/55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Úloha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tní jednotka se v roce 2010 rozhodla tvořit rezervu na opravu výrobního stroje. Oprava bude provedena v roce 2013. Rozpočet opravy 300 000 Kč. Tato oprava byla v plánovaném roce provedena dodavatelem. Fakturovaná částka činí 387 200 Kč, včetně 21% D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účtujte tvorbu rezerv (za jednotlivé roky), fakturu od dodavatele a zrušení rezerv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Úloha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P – Oprava budovy 201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Zrušení rezerv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0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2/4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0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2/4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0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2/4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P – Oprava budovy 201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2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11/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7 2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43/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Zrušení rezerv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0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51/5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40:36Z</dcterms:modified>
  <cp:revision>17</cp:revision>
  <dc:subject/>
  <dc:title>Dohadné položky</dc:title>
</cp:coreProperties>
</file>