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BD3-8FA1-48D3-83C0-DB9A902CEA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391F-0F01-4096-9E7E-D959CDB8141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022-617C-46D7-BEF6-DE65FEFD9E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98C8-0C27-4041-B985-013EA8474F8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3A8A-475A-4F50-98CD-FF8E4DAE96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2A5-0118-4518-A433-7D07F0FA03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69E3-C5A7-4C13-B2D5-678902924D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2ECC-679A-474E-9789-64B6B178B3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9279-8548-4448-874E-9CBF671E34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350-C2B8-434B-9DE0-C9F5D958E8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9AB3-461E-4D4D-903C-0D3C902BF8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8EB9-ADEB-45AB-8D2C-0A91E93032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BCC-2B38-4D20-8668-F9ADB739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30A-FAA2-4871-B2B2-02F0AF2A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77D-273E-4B95-B574-E71177CF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19E-8F18-4DEC-BDD0-1AEA5659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62F-3AF7-4A3C-805C-1AD54FA2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2A11-1231-4F2A-BD02-C51526C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B731-F625-42D2-BEA5-1E92B0C8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FC9C-8C9B-436B-8A9E-C99C9F11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E374-F3AE-450A-96BF-B06B998D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6145-C159-4606-8F87-B1BC42CF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0F8-98BB-4E26-9B8A-4DAF4BB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B66-BFDB-4734-B730-4997CCA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38E3-20F3-43FD-B4C7-C996B30E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107-0C8E-49BE-8430-746D3D7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8C75-23F2-46ED-AD17-1753DDF7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45D1-A30B-49D8-80A5-F84E8F86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ECF1-0779-41A4-96F8-D3FDC90F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7D21F-BCB7-4239-8913-79950BC7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2A1B7-787F-40C7-9D8B-C168C35E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0AC71-8D9C-4155-BFA9-473F055E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B8CC0-60B8-445F-9491-72E1E48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5F337-5D16-460E-8F27-4C62803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2D5-CEF0-4F24-B959-F314E4AA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2D7B6-5AC1-490E-B359-5113CA3D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78E1D-A497-4752-A2A2-B6972C7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0F491-5F49-4CE9-9DEC-1FEF23AD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88E10-4968-47B5-A401-7588798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1EFFB-122F-4A6D-AA3F-05D79BD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B9169-428F-4D2E-A069-E522403F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2F87A-9997-4F71-97B6-BDC53704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3D2-11DE-4CAD-9778-9415D1BE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FC0-E0E7-4070-9875-F7AAD48E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884-03DB-423A-A12F-A87053F3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493-715A-43CC-B641-35E69F2C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28D-DBF6-4BFB-9C68-8CA43A8F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7F3-335B-4A56-B7E6-D2ACD64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7D00-C040-40CD-88DC-06F9E0B4B65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CA44-FAE5-4C33-804E-EB47EF73A69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9542-40BB-4DD5-94B7-DF1F8F728D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55 000,-     389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11 550,-     343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2 000,-     389 / 5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66 550,-     321 /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vyfakturované dod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 pasiv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pas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389 -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tento účet se účtují například nevyfakturované dodávky (např. materiál již byl dodaný ale nemáme k němu fakturu), nákladové úroky, které nebyly zahrnuty do bankovního vyúčtování za běžné účetní obdob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ke konci roku obdržela dodávku materiálu, ke kterému však do konce roku neobdržela fakturu. Předpokládaná hodnota faktury činí 28 900,- Kč. V novém účetním období jsme obdrželi fakturu od dodavatele na částku 30 000,- Kč + 21% DPH 6 3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 30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1 100,-  112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v případě, že hodnota faktury bude 28 000,- Kč   + 21% DPH 5 88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.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8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5 88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900,-  38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neobdržela do konce účetního období fakturu za dodávku plynu. Odhadovaný výše spotřeby plynu činila 57 000,- Kč. V novém účetním období firma obdržela fakturu za spotřebovaný plyna na částku 58 300,- Kč + 21% DPH 12 243,- Kč. Zaúčtujte nevyfakturovanou dodávku plynu, fakturu přijatou a její následné uhrazení z B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- Nevyfakturovaná dodávka plyn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57 000,-     502 / 3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FAP - Faktura za dodávku plynu – cena bez DPH    58 300,-     389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2 243,-     343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1 300,-     502 / 38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70 543,-     321 / 2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účtujte v případě, že hodnota faktury bude 55 000,- Kč   + 21% DPH 11 55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 …………………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39Z</dcterms:modified>
  <cp:revision>11</cp:revision>
  <dc:subject/>
  <dc:title>Dohadné položky</dc:title>
</cp:coreProperties>
</file>