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8C3E-AF97-48EB-9AA1-EC69CB0481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5B29-A78C-4E9F-9B34-B59C7EAA2B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C1A6-00D0-4BB6-90FA-5FDABDD2724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ED28-6DCC-438B-AB64-6104F06D85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4517-5582-4BF6-9BEC-25A03AE736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99D2-45EF-4ADF-8EFB-56091AF004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381C-94D8-4492-9181-26F710EBD5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DC4F-8A74-4AC2-BE26-0E3CDCBC92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36B0-91FB-4D80-8BD6-8A14B08D4D1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85349-0BAB-4422-8030-437193E8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15D6-220F-43D0-A3DF-D2B94C03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E4567-EF09-4326-BA69-DFD93CE9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799EF-C8F3-490B-A34B-BC406CDD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63A7D-8521-4B77-B17F-F9208AC1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FA1E0-7B7B-416D-A3F2-3B82526E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86FAA-4865-4CEE-AB6C-B3C69E46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8A1C8-2730-4C19-9677-890A3506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48C9E-DD32-44A4-B408-A7CD5F47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B25B7-DD3C-4940-91ED-BE5A12E8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83E6A-B347-4FAC-8F79-5B3D9C74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69E6B-990A-4F7D-B1C8-1FC6FEA2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0B01-E7D2-4CF5-BBD4-E2858B79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94874-E89B-47FB-88AA-BF357525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A7450-615C-4023-92BA-5E65944C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5A77F-859B-47C5-8D57-3197228F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C18E9-1729-4E3E-B292-5E61B8C3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35656-2823-4366-986C-70D1F6DE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EEB5C-CB88-4B9D-ACBA-FB5BC8BF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16B9E-B01A-4A78-BCEE-F6DE5CCB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0965B-4F55-4016-AE8B-1FE9D9C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16F02-382B-4F57-8A52-D73EE687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22CA1-6304-4A7A-956A-AFC18F08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ED6C-1734-43B9-A6E3-3DF8367D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437B1-D558-42A8-977E-561FDB4E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DC1E6-5D1A-453D-9134-B71AFE30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73C47-0472-42F9-9AC9-8C2927EC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07EA9-2E9F-4591-8445-8366E9C9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8F05F-3FDE-4BEF-9FAB-94CB9199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DDCFC-B680-4D62-B482-94380A00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404CC-0156-45AF-995B-97ECA6B1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0536B-346D-4C6E-8DA9-C319AE14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77C23-623F-448C-B7FA-8E9B0996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B177D-F148-4D96-AF01-C64F0F3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6FFB-B290-4446-8789-93575944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2967F-8571-4547-85EC-77165AED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72DB3-14F4-4099-8035-063513C4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BDCC8-B54E-4841-AAD5-231121F5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5968A-755F-42F8-9440-591D39E6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6A745-8E88-4261-874C-5B50A24B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26FE4-E3DE-47E4-B0A3-9D7B5755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B39CE-A432-432D-BC09-5CDB32D4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B5DDC-57DD-4CE9-8294-B76C6D9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8AEF8-ED69-416F-BCF3-42ED492C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50C03-CE8B-49FB-8763-455AF15B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E18E-9DF4-4E0A-B24F-83CD92AE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5A92B-D614-4FD8-94D8-7211A6B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1676B-F1F6-4ADF-A5E7-0ADCCC42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3DDF6-80C9-4A5F-A331-EEF37E6A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BF734-88AD-4FEF-B36A-12D3B886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5555B-082A-457B-BF99-8649F908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93493-730A-4304-92C5-F63B0EB8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985D8-98A4-4A3A-A01C-94289B47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DEBDA-BB9A-4972-9E07-34CFD257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03499-D404-4886-9088-BFDD7749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D5A7F-B705-4F11-A3BC-9AD21D1A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0B26-58B6-4B41-A1BD-0C3DCD8E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E8E9A-E73F-453A-9E5F-79F2FD5B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DA8CE-5C32-431E-9D2D-D063489F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5EC82-0059-4F09-9A4F-59663D96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A378F-6C05-4E86-A3FA-413F0893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044B7-C986-4243-9AA1-C5341837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575E5-B23A-4A24-BA13-2F94B1A5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F4E27-A76E-4CF7-B70F-B10A78CD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6D7F1-3521-49AC-BDB1-D2C50303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38B21-1A35-4CA7-A492-2B4E7C03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3D53A-7C01-4851-BFE3-1261ECC3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5329-C0C0-4791-9310-DA2DDD4D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830FB-2251-4E9E-BD73-6E4F0042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E5160-1AAD-4E0C-A2AC-1F90BAEE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696C3-E40D-45AD-90CA-7A02010B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81E13-DD9C-4EF4-95A6-7C3005C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3F5EB-0164-4035-948A-B910232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37678-FC2B-400A-82CC-E852ABA6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7A54C-11FF-4E73-B0DC-629B7355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FE15B-363C-4072-9163-8EAD8A87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9DA38-2E02-4895-A448-D259E5DE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C483BA-B5AF-4D8B-82A1-21ACD1FC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E930-3A39-4EEA-B0F4-84E6D86A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38782-0179-43B0-962A-4F0F710D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FA6216-E0D2-4FAB-8FB4-30502711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8683F-680E-484E-9CD8-FEF52753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BDF3A-FC9A-47A8-ABC7-43180F85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739515-BCC0-4AE4-BC42-C518B6A7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772D6F-0590-4548-8C02-3841D7E3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12836-AA95-4E72-971C-FC568D38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9AB4B-52FE-4CA3-93D2-670975E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3EC91-8841-4931-A0D2-69EC4FA8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A7B341-56B0-4492-81C9-A0D2F569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93F5-4319-4E62-B3E6-15394CF2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6041D-BA7E-4612-8B80-DB02B6F4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C961E6-6C19-4427-BE48-7A304A66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529E95-39B6-4A6B-99E4-B8379BE9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2FE0D3-907E-4956-A041-08B940DD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FEEC7B-26AC-4400-9D5F-68D9EC27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8D4F73-33C8-4678-911C-AAA92B72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9886B27-FB58-4F0E-B4BB-3856E24F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35DA96-E115-4DD4-B7EE-D48718D9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B70688-EC35-40AC-9E07-052AAD3C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A54FDB-4EED-4BE0-86DA-BEA714D5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1B82-E07D-4D87-8C5A-516179D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774559-2A81-41EA-B284-43C5271D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1F51BD-DEA4-4E87-90CC-7250CFA7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C973E4-B594-489A-AF7B-F5822AC1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8DE88-D2B2-42D2-B0C6-6CD2E9AE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03713-EAE1-4226-8F1F-9B1B8831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175F4-147C-4145-819C-02CAAFD6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D0DDF-B3C0-44E1-BCAC-44ECC6DB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ABE8D-5E0B-41DB-B5F2-61E6B72D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DEBC7-E716-486A-8743-0750592B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084E90-4CF9-46F5-B26E-10651D45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1C51-E2EF-42CF-B5A1-A3AB87C6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0ACC-7E84-4C7C-A212-A27DB928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24F39-AC61-46FC-94F6-9B130EB4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1D551-FCA2-4707-94F9-6DA71964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9A6C5E-051C-4649-AC59-9967BCA0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46C21-7971-47C4-992F-2F94A252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848A27-B58C-4D7D-8667-0E2540EE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92F2-A3C3-44D2-ADD4-1C61859C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639C-600B-4F0B-849C-ACDEEEEE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FA2B-8877-4DC5-B6F6-EFD1DD3A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68A8-AAED-4109-80A9-B8E2E409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49422-4B13-4BD7-9828-5258F28A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9750C-8CC7-4F9A-944D-680DC994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F9683-908F-49C0-96CD-7A7A2B34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8CBFF-520D-4DAE-9934-FFB44172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E467F-314B-42FA-894E-5823B0B5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3E57-5111-4B4B-AB15-8D187B18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966F2-CF6A-4E4A-BB37-A88DF5B9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8A262-0727-44DD-9186-9744FF27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02CAB-B0BD-4A3F-97D3-028DA855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DE4D1-0E93-46B3-BF62-40B7766C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B0706-4D20-4F31-8F5E-168B3ED6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EDB6F-4AA1-436C-BA9D-7E44064C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822F7-EA54-414A-9FAC-3E293267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36712-F3D3-44DC-9C27-AE0B5523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EDA6-7D55-4271-BA06-99618BA4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5DA8-30DA-48A6-B83D-396849EF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040F-DD16-4104-913D-81932F0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3B7D5-4E1A-4EEC-A832-3885EE8B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846C-5DA8-4304-9206-2C5B21AD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111A5-D4AC-4F14-9045-6D744176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DCC0-A09C-42C0-9566-6357E5E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CD84D-71B9-4BC8-BEA0-A67A61D9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890C5-2522-44E6-B3BE-60632E7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F1A7-CE84-4D50-A380-09247437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B37F1-2CB5-491E-8552-3F070699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BF2BF-5010-4DB9-AFFA-F0FD4701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DA2C2-06EA-413F-A8EA-0FCF13E4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8DDA-95C1-4569-807A-571ABC0D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4636C-1855-435F-8273-E3400110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51747-B544-4052-A4A6-FDC62ECF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D8FF1-04FB-4394-96CE-9F31DC47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8547B-CCEB-42EA-B829-ED08DE61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5CF72-AA7D-4562-A514-0F76656D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1C070-3550-4D06-ACC5-4C96C675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065BE-90B1-4CD4-83C2-84AD9F68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E4FD0-9C38-47FC-B35B-60999E7B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EEFB-B5D5-42AE-952A-E7120397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51F11-EE09-4ACA-B496-2FC72624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82150-DB8D-456A-BEF9-122FC81F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5C16C-C115-478C-A147-8CA1C6D6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F9EBD-03D3-4EA2-9BB2-5A657BC6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C6B7A-3E3D-4721-8755-9B19BA1A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9813-BC63-4F91-8F13-B0776142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1ADBC-A2BD-40B4-B5DB-AB66FC9E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81F83-0CEF-4F4C-88AE-7887AB3E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902B4-762F-47D3-A206-B0CE01D1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14F33-6A48-4DB3-8D45-152E4D87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BBCCC-EA19-4673-9AD1-4B043C36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DB0A3-69CD-4864-9ACE-AB4C3DBE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6FAA-8F4F-4A02-898D-D776145A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DC42B-8EA2-4992-ADE7-C5D60715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BEC54-4E42-4C4F-89A4-091DF55B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33153-580A-4EBB-8CF5-1B990AC9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B98C8-A923-4F8D-8A6F-94ACCD12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2FAB7-169D-47F0-A3C0-DE6B2597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DA81B-7130-42AD-B759-FB7A9CB9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2A637-74BB-4992-802A-21ECF1DD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61087-7B69-4E41-9980-24796CCB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F4745-A50D-414E-B9C7-5B45E66C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6E7BA-BD17-48DF-AC8E-EE5D389B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ABAD-9AA2-4CED-849B-B8F1B871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21BA-1AD6-4FB2-91DE-1977B174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17333-46CB-4D71-ADBD-2076B677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912C8-9F2E-4B59-8801-CC240DF5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F0B3E-A0D3-4297-9404-609DFCA6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76FBF-C52C-400B-A2A7-0FDE68EE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6C750-AA2B-4AF5-8A70-4B356CB2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8C334-297C-41B6-AA0F-908E5D21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EA9AB-C8BE-4E58-B6BC-F8EF28EB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F95DC-15AC-4FAA-8CCE-F15D3F07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0D77E-1235-433F-BC90-85E96E8B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4CDE-0B61-41AC-B724-ACC77E5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E3D63-E84A-4D32-893D-1B1BCB34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4BDA8-C9BA-43F8-859E-0556E946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57615-9C3A-4768-BAB9-C678344E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85F9E-FD08-4B6D-AF63-D72D7AD8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3E54D-4BD5-4A1D-99D8-EE502F73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BBD89-9AF3-4504-BD4C-6D2A4AFB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D8206-0617-4F94-848A-6C49F3FE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C45C6-53F6-4360-918F-AB207B81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B7650-5C80-4833-BDAB-5D7F2D07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F85BD-8096-425E-A0A9-8C413063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7E68-271E-4064-BD6D-27AF6EEEFB9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43FC-C6C8-4776-ADB4-751BB262B23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CE4E-E557-4AF3-BAC2-B89CD760B46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7A3E-E858-4A50-944A-41AF4CABE0F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5487-CC26-4D80-B1AA-91F3B3D34CA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F07A-1D1A-44BF-9B56-4720BF168A5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96F9-5D80-4923-B51B-52132DE330E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9589-8553-4FB9-B960-455429DF850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11FF-87ED-4880-8662-D33EF4633A8D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ACC3-0A04-4D4D-8550-B890BA6A540C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64B2-80BB-4D91-8B73-1D4397D986FB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5238-9B9E-4108-BE43-4FA9BA7A5FA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6601-825E-4410-B7C7-BCCDB693A00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F254-DA50-4C4C-BFD8-64DF45E7BFF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09DE-A93E-4014-8BCF-C45AE7ADF47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9CEB-129A-44D3-809A-1A6D6B0A89F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3D09-5ECB-41C8-A506-E5AC176CBEC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 nákladů a výdaj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y, výd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Náklady a výdaje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1 – 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stavují částky zaplacené účetní jednotkou v běžném účetním období (výdaj), které však zčásti nebo zcela patří do následujícího účetního obdob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lacen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za příští rok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likož se nejedná o náklad tohoto období, nemůžeme nájemné zaúčtovat do nákladů na účet – 518 – Ostatní služby, ale musíme ho zaúčtovat na účet 381 – Náklad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toto nájemné přeúčtujeme z účtu 381 – Náklady příštích období na účet 518 – Ostatní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roce 2012 jsme uhradili nájemné za pronájem budovy, a to za období   1/2013-6/2014. Celková výše nájemného činí Kč 180 000,- Měsíční nájemné  činí Kč 10 000,-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0 000,-     381 / 2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3 (12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4 (6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3 – Výdaje příštích obdob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 jestliže nám vznikl náklad, který s běžným účetním obdobím souvisí, avšak výdaj na něj nebyl dosud uskutečně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hrazené pozad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tože se jedná o náklad tohoto období zaúčtujeme toto nájemné do nákladů na účet  518 – Ostatní služby, jelikož to bude uhrazeno až v příštím roce musíme použít účet 383 - Výdaje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(po úhradě) přeúčtujeme na účet 221 - Bankovní účty nebo 211 - Poklad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 dni účetní uzávěrky nebylo uhrazeno nájemné za 4. čtvrtletí tohoto roku, a to ve výši Kč 30 000,-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jemné bylo uhrazeno v lednu příštího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zúčtování výdajů příštích období        30 000,-   518 / 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30 000,-   383 / 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5:10Z</dcterms:modified>
  <cp:revision>16</cp:revision>
  <dc:subject/>
  <dc:title>Časové rozlišení nákladů a výnosů</dc:title>
</cp:coreProperties>
</file>