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4660-4DBF-4CE8-B64B-949DF8340BD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77D9-58CD-4C0E-AAA5-FA63A41AEFE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0451-C54F-488D-AAAD-D102898B312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39CD-602B-4077-8833-0609DB61D70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1E87-BECD-43FE-A7EE-620EFFD04C9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4F80-BEB4-45A3-88B8-A05F355C0CF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9C5C-A1BD-4A14-B822-60A4D593F1F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3FC6-D79E-4B23-9BB1-3122509DC22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9DE1-C18F-4D88-8575-42F8B2DCA78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5615-4C1B-42E3-A443-2A14B1633DC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14ED-9B76-4DF1-87E7-1852C1476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3456-5CDF-4138-91A8-85B420CC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C25B-4B32-4330-8E08-69C2AF522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4F89-3C79-49E9-B569-78E0C9BD6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7D7E-C5D4-4F8D-90E1-2DD456921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1846-B10E-4A05-BE92-C4DF7232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9EAE-29EB-4F11-821F-46B136B9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1BDC-21EE-44BA-8F97-8AF32C0F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6131-60F0-464F-85B0-5D454043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2E69-8800-4E14-B251-7DC75DCF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2507-844D-435A-B153-C8AF4E0E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A13C-9529-485D-A5A2-80DFB2F5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18EA-915B-4A26-A2DE-C3FBFB3E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6114-9FCD-40F8-A866-B8BBC22C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9F1F-3C1A-4EAE-84F1-FBEE3EDF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8259-9293-4F52-8824-B785E40E7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BDD1-CC38-46C7-9B04-B0B9EE1F5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A675DA-3C97-44EB-ABE7-07EDD2241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F27101-5378-4226-8CFB-9D0DFFBC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F77B0B-62E5-470D-B2A5-B992C0E7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456A68-E6CB-41D5-893E-5A921C6F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740BC3-398A-491B-B935-83E1B192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E6A1-4A10-46E6-9C74-DC0C1A19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C4FB37-3DC6-4612-B2F4-7608B7F7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EE9715-1980-4D25-B980-D85F5E0C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E1F294-FB62-4D74-AB61-0C3E0389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EB0384-E2F9-4C6B-98BF-D580747F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3FE0E2-3004-4552-952C-D4B65DB2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936D05-106D-46A9-ACC6-CEE1BDDAF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68F367-79FB-4984-861F-2CCAA1680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1F8C-5812-4DFD-86B7-8EC88D84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D224-F647-44A3-9D8F-D7E4BE96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3DB2-AD32-4870-9947-21FEF4A1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0F8A-F3CD-477D-81E2-2DEB35AC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DDCC-7D90-4F68-89F3-B45DD243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4103-8E93-4507-B0EC-20B5AE45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27EC-000E-4055-8372-A5BC2590F5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6CD2-E978-4AA6-99FE-816FC66E75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FA23-0C22-49C1-A9EF-2E8EC7B364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yřazením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řa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ý příkl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19280" y="2707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Vyřazení dlouhodobého majetku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Vyřazení dlouhodobého majetk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Dlouhodobý majetek můžeme vyřadit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rodej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Likvidací v důsledku opotřebení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 důsledku škody nebo mank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řeřazením z podnikání do osobního užívání u individuálního podnikate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9280" y="162864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Bezúplatným převodem (darováním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kladem do základního kapitálu jiného subjekt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68360" y="549360"/>
            <a:ext cx="7696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omic Sans MS"/>
              </a:rPr>
              <a:t>Vyřazení odpisovaného dlouhodobého majetku můžeme rozdělit na dvě variant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Dlouhodobý majetek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, který je zcela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odepsán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, tzn. že vstupní cena je rovna oprávkám. V tomto případě se zaúčtuje např.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– Vyřazení stroje z majetku účetní jednotky        082/02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684360" y="1125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2.Dlouhodobý majetek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, který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není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cela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odepsán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, tzn. že vstupní cena je vyšší než opráv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omic Sans MS"/>
              </a:rPr>
              <a:t>V tomto případě musíme zaúčtovat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Řádný odpis za část ro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oúčtovat zůstatkovou cen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řazení majetku z evid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5800" y="1483920"/>
            <a:ext cx="769608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letos vyřadila z majetku stroj jehož VC – 100 000 Kč, oprávky činily 70 000 Kč, a odpis za část tohoto roku činí 10 0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Odpis za část roku    10 000 Kč  551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Zůstatková cena        20 000 Kč  5xx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yřazení z evidence 100 000 Kč  082/02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40:23Z</dcterms:modified>
  <cp:revision>47</cp:revision>
  <dc:subject/>
  <dc:title>Náklady</dc:title>
</cp:coreProperties>
</file>