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BCDF-3F0F-49FC-AAC7-A91B6C23D3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740F-41E0-4B79-98BE-EB87557DDC0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4C6D-D0E0-4BB6-9335-2FAE7443D59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B64A-511A-4C19-A6D5-444088A5DD6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A896-9BFA-4B3F-9209-C65D67A25FE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7043-8892-4C68-9C13-605605065AC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20CE-EDA7-493B-9853-58EB9592CC2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3F1E-9D01-4FD1-9B66-88EE10B1E1E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9A23-0155-4AA5-ADC8-4CD588EB4BB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9EBE-4BAF-462B-BF7B-65780CF4A7C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29CF-F553-4355-AF1B-F00AEDE38BC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601E-1236-4D84-AEA0-42D4E3ADE19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A65-9C00-45D5-B05A-2430974E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27D-97DF-4ACE-B667-594A1E8D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A7E-2DBD-485D-B9BD-372E8DDE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5EA-6242-4679-A6BF-85F27AD5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B681-1092-412E-9A5A-A208E553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5689-427C-44C5-B5B1-9ED08BEF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E4EA-D9F1-420F-8F94-53C48A94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1181-9F58-4FAA-B2ED-EAD6A8C5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FF3F-2421-4632-A9CC-6EFD91B8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F11E-E85C-4B52-906A-713EAB3C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5168-0F30-49B1-9613-840F71ED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161-CB8C-43ED-9FF6-D5ABA434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F470-B072-446F-9080-DCE842A7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512C-0DF5-48D5-8378-82A43C2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7F75-2487-4A35-A5A7-BC85575F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322F-6A59-45A4-A5C1-CB29484A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8EC8-CE2E-4FC1-BA4B-70C327F8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3176F-B564-427D-9101-65EBC520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D2842-5851-4B10-B362-1D8AA268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27BBB-A171-41F5-A989-6DAAD2FD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6776E-989B-4CEB-A9C7-1E05EE78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59788-8B87-49AE-8356-599B7206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AA5-B775-4CF7-8394-FF938262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CF509-F714-4170-A903-C67FACD8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CE047-3F96-47E8-A71A-1902F434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72950-A9B3-4288-ADB0-3B0F0A06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19160-2F8F-4EA6-BA19-E4DBB691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72677-0981-40F6-BAA6-9B405398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7EB74-1388-4CE3-889C-FF9DD5F3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F4506-2CEF-484D-8958-529D37BF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C0D-266F-48BA-808D-7DF91B5A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80E-ECC7-4454-B99E-5A84A531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B23-BCA1-4424-8440-86593049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515-4F44-4A2F-BBBC-A208A9F4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91F-E4CC-4198-99AB-B784B1EE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83D-6B04-488C-BD0B-1390446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6416-FC17-4AEE-B70F-F81C76BBCC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E61-DCAF-4DF0-8C22-105687EC5E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AF55-CED5-47FB-A186-09E9BF6E84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účetní program u dodavatele za 75 000 Kč, instalaci provedla vlastními zaměstnanci, a to ve vlastních nákladech 9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dodání programu, instalaci a zařazení programu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ízení, zařazení d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Pořízení DHM a DN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poří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up od dodavatele (výrobní zařízení, nemovitosti, automobi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nájem (finanční nebo operativní leasing – automobily, stavební stroj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tvoření vlastní činností (stavební firma si postaví dům, truhlářská dílna vyrobí nábytek do kanceláří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á forma (darováním, zděděním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 společníka (v případě právn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řazení z osobního užívání do podnikání (v případě fyz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řízení DHM a DNM dodavatelským způsob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557360"/>
            <a:ext cx="7696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ízení DHM a DNM účtujeme na úč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1 – Pořízení dlouhodobého ne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 – Pořízení dlouhodobého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á se o účty na kterých se  soustřeďují veškeré náklady související s pořízením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zařazení do majetku se dokončené investice převedou na vrub příslušných účtů v účtových skupinách 01, 02, 0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stroj u dodavatele za 58 500 Kč, přepravu provedla dopravní firma za 1 200 Kč. Pojištění přepravy materiálu činilo 1 400 Kč. Tento stroj byl zařazen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Dodávka stroj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8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Přeprava stroj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2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Pojištění přepravy stro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21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4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ařazení stroje do užívá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/042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14Z</dcterms:modified>
  <cp:revision>43</cp:revision>
  <dc:subject/>
  <dc:title>Náklady</dc:title>
</cp:coreProperties>
</file>