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2A0B-A744-4457-B75A-6E497CFE742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A8A1-06E8-4FA3-97A6-28560AB6C39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C3A5-09B5-47E4-83DB-A1ED2A0AE5A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F4B6-B138-4893-A237-BEC2A7AC935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24DA-9981-4FFA-9A6B-9C0C171498D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DD94-F2EF-4852-BE25-3321F94FB6F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943E-3D00-4508-9C96-917B0C8E023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EFAE-2EAF-4BF1-BA16-B059E9C5435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AF92-47C6-47F9-B49E-92E3D5695EE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4977-C1E5-42C9-9F0B-28C53566DB4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2A2F-5CBD-4B80-87A6-55DC7158142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A894-2E5D-4F04-A3C6-3B27303C770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D613-6852-451E-94C1-73E3A6F3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C33F-7109-437A-9532-5FCED3A9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E688-AC03-446C-805B-6BF13F61C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F916-31F6-4E3D-8CBF-A44ED5A40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AAE7-4727-47E4-B5B7-575961C1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5CC0-E140-4B53-8F25-7D5E3690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39C9-DDEB-48BE-9C06-71F9BA0C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97CF-0631-4FED-8298-EBA91BCA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DEDD-247A-4A7F-84DA-930970C2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9DC5-E14D-4859-9511-EB26AB3F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2DA6-F1C5-4430-9369-E08D0B71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AD69-DCFE-4FAF-B3DA-03386A22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B017-E575-478B-8030-961DEA5F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6810-165A-45C6-B39F-EC555A39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606B-C1E0-47C4-8113-1341BC31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D8A0-653B-4071-B82F-19B0F712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3449-5B84-4133-85F3-D7E09B8D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16AE0C-103B-4888-A5A9-4292E5FD6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EBF066-A61D-47DA-B85B-851C28F8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17717F-E0F1-4973-8D7D-CADECEFD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8FC873-C72A-4EC4-97B6-5F89F02D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F1FE02-12D4-46C2-890E-E17626D1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2C8B-5930-47A3-8574-639EB179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F3268A-BC75-4A31-BD98-93D1F3BD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65CAE1-C46B-472F-9FDF-2FD0DA8A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21A23D-B1CD-439E-9305-3FB63FC9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5DA793-B6E6-4C70-8840-F3D4E8E5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C8E983-3906-452E-BF9A-BD639BB5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A9D692-9DF9-4534-AE06-DD9ED4D3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91AFEB-6C1E-4F60-A414-FF3212BF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3DF7-6DDE-4311-9E1B-F7CAFC75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D7AE-16AB-4C2B-8D81-5262C2A5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9977-0600-4EB3-9693-0A992950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BA98-852F-4D59-A008-25F3A537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9106-7324-4D6F-9E16-D98DD20B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DF87-2FAE-4962-A9E7-E4C58DFC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48AF-EF66-486B-86BD-E9197060B2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8CB0-9CF1-41EE-84A6-3CA4771B84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E5B0-2AD9-4C8D-B115-C1D0517A0F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si sama postavila garáž. Při výstavbě ji vznikly tyto náklad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Spotřeba materiál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85 000,-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Mzdy stavebních dělníků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0 000,-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Režijní náklady (odpisy strojů, spotřeba elektřiny atd.)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40 000,--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lastní náklady činí 185 000,-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60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oceňová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ořizovací cena, vlastní náklady, reprodukční pořizovací c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Očeňování dlouhodobého majetk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Garamond"/>
              </a:rPr>
              <a:t>Oceňování dlouhodobého majet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19700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omic Sans MS"/>
              </a:rPr>
              <a:t>DM oceňujeme tzv. vstupní cenou, ta může mít tři podoby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Comic Sans MS"/>
              </a:rPr>
              <a:t>pořizovací cena </a:t>
            </a: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- cena za kterou byl majetek pořízen, včetně vedlejších nákladů (doprava, pojištění přepravy, provize, clo atd.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11280" y="1052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omic Sans MS"/>
              </a:rPr>
              <a:t>vlastní náklady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- vyrobíme-li si majetek sami, např. nábytek, výrobní halu atd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omic Sans MS"/>
              </a:rPr>
              <a:t>reprodukční pořizovací cena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- neznáme-li cenu, např. při darování, pak se určí odhadem soudního znalce (znalecký posudek) nebo podle ceny obvyklé na trhu v době, kdy jsme majetek pořídil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ořizovací ce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4360" y="126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kládá se z ceny pořízení a z vedlejších nákladů, a to např.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epra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Montáž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Cl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růzkumné, geologické a projektové práce (u staveb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10920" y="1197000"/>
            <a:ext cx="7489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2" marL="7056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klady související s uvedením předmětu do užívání (opravy), kolaudační poplatk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056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a zabezpečení pořizovaného majetku (správní poplatky, poradenské služb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056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stranění stávajících staveb v důsledku nové výstavb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Součástí pořizovací ceny mohu být i úroky z úvěru na pořízení DM, ale pouze do kolauda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Účetní jednotka koupila v zahraničí (mimo EU) výrobní stroj. Cena pořízení stroje činila 150 000 Kč. Dále ji vznikly tyto náklady související s pořízením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Clo - 30 0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eprava stroje – 7 8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jištění přepravy – 1 1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řizovací cena činí – 188 9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Vlastní nákla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4360" y="1413000"/>
            <a:ext cx="769608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sou to přímé náklady (materiál, mzdy, ostatní přímé náklady) a nepřímé náklady (výrobní režie)  související s vytvořením majetku vlastní činnost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5:23Z</dcterms:modified>
  <cp:revision>43</cp:revision>
  <dc:subject/>
  <dc:title>Náklady</dc:title>
</cp:coreProperties>
</file>