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3438-E3E4-4315-967A-E5C35454144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E02B-2597-4654-B085-6C2D9CC08BE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8F21-EDFD-47DC-861C-390F3F7713F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CA4F-B1F6-4487-805F-937569E44EC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703D-DD4C-486E-A0E6-6C86788F2CA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0E7B-CC49-4297-814F-BDF8B652874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D019-0ABE-4549-8A60-14B07D089CB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EC25-6FEE-48BA-95F1-F1D47A2F6F1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FCA6-F2B0-4DCD-B489-1DE8E4767FA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EDB0-9383-45CB-9B1C-57F704F814D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C1C4-115E-420E-8948-3BE4D31F9CE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EF3-4AEB-47F7-B3C8-AD1BCE8E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B42-A300-49E8-AD18-E370959E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523-D886-4A26-9889-D29136FC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85D-DCEA-46E8-8D65-1E322017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BF48-153C-4144-A6AE-DB6568E6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B272-5988-4E45-A974-A5551002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58C6-53BF-4BED-AF2D-5CACD847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8902-9CA8-4438-AD98-4D557A50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56F2-02C9-4AAD-AECF-A3E6D409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D38E-59EA-48A5-BE0C-2655604B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6781-F1C2-4163-B227-58BF7A86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4EC-9584-488B-83EA-A0B09CFF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651C-CBED-47FC-BDF1-CAF28505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5BAA-4793-4639-BB2E-D5F596E6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075A-0ACF-46D0-B114-A4877339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AB1F-676E-4D77-9C72-72553A29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9996-18A3-4290-9814-D36FAA96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39BCA-F0B8-4B19-8E1F-E0E29F12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CA06A-C6F1-43F6-8FA9-7DE3F0FB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9A4A2-C5C8-44C6-B389-91FBCB47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F871F-DFE7-4132-9743-BDF6807D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37493-F469-4A37-9A20-E2EB26F6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6B0-9FD7-4C1E-9891-A1C2F185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50908-D1F0-4337-8BDB-D4909C4C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8850A-9C36-4A08-9176-69099E16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94F0E-9E2A-4C46-973C-B097A230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1D815-4683-4368-B5BE-DAF1FBA5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B3F29-5942-460F-8A28-05731D08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13DF2-6CE8-40CE-8C59-44C26EF8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EF098-5D97-4B22-809D-7AF2598C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20D9-3F05-4A34-A447-D25C2545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13C-035A-40C6-BBF3-93D487FA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C1F-D3B0-42E2-9A0C-602DA240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3A3-723D-4764-8429-E69EE7D3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E10-2EDA-43ED-878A-2BC3194D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A96-4D1D-433D-8BAC-81CD2150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26DA-44D2-4D66-9A48-C23B8F9865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00FF-A7BF-4DA1-B1FD-A8633EABFA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25E2-3E62-4863-8DDC-80454C99BD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e zálohami u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álo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63640" y="2349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Účtování záloh u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 záloh u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i pořízení dlouhodobého majetku dodavatelé často požadují zálohu po odběratelí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ato záloha představuje pro odběratele pohledávku vůči dodavateli, která zaniká po dodání dlouhodobého majet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 vyúčtování dodávky se poskytnutá záloha zaúčtuje jako snížení závazku vůči dodavateli, takže odběratel bude platit dodavateli rozdíl mezi částkou faktury a poskytnutou záloh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íváme tyto účt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51 – Poskytnuté zálohy na DN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52 – Poskytnuté zálohy na DH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4360" y="148428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oskytla zálohu na dodávku stroje ve výši 50 000 Kč. Dodavatel uskutečnil dodávku, kdy vyfakturovaná částka za stroj činí 120 000 Kč. Tato faktura byla následně uhrazena z B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68706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79280" y="1484280"/>
            <a:ext cx="827424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bú – Poskytnutá záloha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50 000 Kč 052/2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P – Dodávka stroje     120 000 Kč  042/3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Zúčtování zálohy    50 000 Kč 321/05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bú – Doplatek faktury    70 000 Kč 321/2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343080"/>
            <a:ext cx="687060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oskytla zálohu na dodávku softwaru, a to ve výši 30 000 Kč. Dodavatel dodal softwaru v hodnotě 70 000 Kč. Tato faktura byla následně uhrazena z B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50Z</dcterms:modified>
  <cp:revision>62</cp:revision>
  <dc:subject/>
  <dc:title>Náklady</dc:title>
</cp:coreProperties>
</file>