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1ED2-17AC-440C-BB43-BD36E6C330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6CDB-BD4F-4A26-8124-77AE87560B5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F8F7-169A-40ED-B75D-A9E3C74D268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E8FF-76F0-496C-98B5-3234367E9A0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1732-1ABF-4973-96AC-751D00B5450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AF80-98D5-492A-BB6E-C46405A9DCE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CFAB-8F03-448B-BEA4-975FFFC6AA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0438-EFA0-4E87-962C-A1A1D5413EC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C05A-77C6-4853-B642-F7A986CFA7B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F59-B92F-4F7E-A264-A0ABFEC4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4A9-F675-43FC-91C3-C943E9E5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2A7-2E24-46B9-A0B5-85165813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28A-5A0D-4BE0-B778-BF8A2CE2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1431-A3C1-4CF8-AB58-FA457139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FB06-7EB6-4B1E-ABC9-C19C3494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4D59-1071-4550-B341-B1578640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4199-FA37-4322-9C69-891B186F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1DA6-D1A5-454D-9246-C5F2606E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7F6F-BE4A-4655-85C7-9ABF0FEC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D979-2C4D-4279-A04C-9DF4D42E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E99-BEE0-4425-ACF8-B341D0F1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BCAB-C127-4F15-A643-6E858C4F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1CDE-E829-48A9-83D7-ADC8B775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8E18-B624-4356-AA48-863E1422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9F76-D1EA-4ED6-97D0-AD5A60AE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C708-12AD-4A76-A3F5-C376FBAD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E599F-CC52-403B-896E-FF3B8F30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9229A-94F6-4F07-B282-875B086C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F1A06-20CB-4AB7-95E9-181E47A3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8674F-E320-404F-BBBE-03698EDE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A183A-C4B4-4103-AB63-4D99D73F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4FF-7E9C-48B2-AC0A-83F5597B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4E867-6D69-4825-AF48-6242F3C8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ADECF-DED3-4637-BBEC-8294D99A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353AE-88F0-4F46-9E90-42A7C550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1112F-59E4-460E-B75E-76C89BAD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2131E-DA6C-487A-965A-4446097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6C4D1-094F-4499-BB0B-9BB9992F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1EA77-1C61-449E-A1B2-0960758F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9B8-296D-4062-A8EF-0D8A745D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394-5B0F-46D6-AF6A-1B6A5400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FE6-799D-4C27-809E-B6412CCB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B27-80D9-41D8-971D-8D02E18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99A-EEC6-4EB1-913A-567BD7A6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F61-6735-47D0-B873-1C353FD4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FF5D-0D4D-40A8-B6E3-50057E2ACC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4C01-434B-484F-BB48-24A4E630FD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B6F9-8851-492F-BAB6-885BA7A1FF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otřeb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potřebení, fyzické, morál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potřeb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potřeb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se postupně opotřebovává (morálně i fyzicky), po celou dobu své životnosti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potřebení vyjadřujeme odpisy (daňové odpisy se počítají za rok, účetní odpisy měsíčně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v Kč udává velikost opotřebení majet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čet odpisů označujeme jako oprávk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jsou pro podnik nákladem, které účtujeme na účet 551 – odpisy dlouhodobého nehmotného a hmotného majet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zlišujeme opotřeb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fyzické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které bývá způsobeno jak vlastním používáním, tak i vlivem prostředí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rální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prostředky (zejména stroje) ztrácejí svou hodnotu v důsledku výroby stále dokonalejších a výkonnějších prostředků (strojů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6:05Z</dcterms:modified>
  <cp:revision>41</cp:revision>
  <dc:subject/>
  <dc:title>Náklady</dc:title>
</cp:coreProperties>
</file>