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628B-79F3-4080-BC80-1C5BED2748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5E5-1426-47C7-9613-A9E34745A68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8E20-BC0B-41BC-A5D8-09156500E7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440F-D6B7-40A7-BA62-494245E0BD9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E9B-253D-4ABE-95E3-17DF4C6265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A830-BDEC-4AD8-A085-444327CE570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0A0-0CAE-4875-8956-A6DCEF4FCB5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082D-2496-4E3D-B561-52D63E0007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05D-A17C-4E16-BAA6-D2114424BDC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528-2B84-443E-8290-0DCD761530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537-C26B-43F7-B7ED-3A1F9AC1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7CE-A4F0-4529-BFCE-E4805DF5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248-3679-4023-AA27-2C2AF478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847-0B0F-412E-B25F-8E5B09CA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0B5A-D0FC-4BD5-B795-B7A33B4B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748C-FB75-4C3C-923F-4F69E152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7D9-C002-45A3-8DE8-035724A9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7C63-74B2-4C2B-9E43-61D4FE96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D63-5C03-43C1-93C3-E4EAD42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D39-6BD0-4BC1-B7F4-E12CB955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E715-9946-4644-9DD0-B5562F0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B65-3715-4705-9FD2-9CFFD1E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4E5E-C6D8-4EBA-9C5A-81C9E62E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48D1-BE07-44AA-AC13-85B3E26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7930-0851-4C16-9031-E285F3C7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4FAB-CC3C-4DE5-AE4D-6F9A58DF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8845-D767-4978-B256-F1039719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3A057-D50E-4006-A824-10D29A07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02343-C2E3-4E99-8134-5D72C4C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0FF83-4E4A-482B-931A-0B028268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5976A-3C4B-4658-92FC-FEFE136D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625F6-EE4E-4CFA-B603-4149BCDE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B43-6E89-4A1B-97E6-6FFDC33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B86E3-2AB7-430F-BEDA-DA4CD843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0C4E1-01F3-44B0-8F5F-9EB264D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FBF89-7D65-430E-98EC-3E89E90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45A80-02F5-4ADE-B682-FB53388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B5E3C-DB60-40E5-AEA8-885C9ED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B1E0D-D11B-4C83-B41B-986056DA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EA918-AD4E-4CCF-8366-29078868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EBF-816B-45CE-879B-BB9A4D55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32E-98E6-47A0-9788-A8DC798C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24A-47AD-4BF3-9629-FF78D98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E0B-A379-4AF1-A560-88FC593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CD8-D1C7-4723-98E7-039C711C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C7B-55D6-40BD-91F7-0FCEDF0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E3D-DDFE-41F9-8ADB-37E4BC5089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517D-989B-4BDA-805D-34A71242F2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C747-92EB-43FF-9CE2-1A1D489610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, daňov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dpisy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y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y vyjadřují postupné snižování  hodnoty dlouhodobého hmotného a nehmotného majetku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Druhy odpi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1. Účetní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účetnictví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mají vyjadřovat co nejobjektivněji skutečnou míru opotřebení dlouhodobého majetku ve firmě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odpisy si stanovuje firma 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980640"/>
            <a:ext cx="769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Daňové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 (6. odpis. skupi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Metody odpisová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Firma může zvolit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1. Rovnoměrné ode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2. Zrychlené odepisování</a:t>
            </a: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volenou metodu již v průběhu odepisování nelze změnit,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a následně v odpisování pokračov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37Z</dcterms:modified>
  <cp:revision>43</cp:revision>
  <dc:subject/>
  <dc:title>Náklady</dc:title>
</cp:coreProperties>
</file>