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FF74-643C-426A-8A10-46704ACDEA5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8584-A6FF-41C1-9DCE-342BCC3182F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88A1-DC27-4A87-864D-B308887D57E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6EAC-2791-4113-918D-0E6BDBF50AC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87CD-C4F2-452B-8159-9EBD9081053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676A-A841-4EA8-AFD0-0A1A70FFAEE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EC49-DFF4-4EB2-B81A-75C5F58836E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7670-F47A-46CF-8BF9-245045DFF53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B92F-833A-4BCA-AABD-7F2C55A5381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9962-0AA5-487B-8B83-D058B94D3EB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3F6D-CAA5-4A84-A7CF-CA6C23BDF9E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BFB-78DA-43B8-B960-78E8BA9A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0E2-EC07-45C2-9FF8-228C5F51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15E-80F7-41E4-A587-BF8B6D0E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E77-8604-4AAC-BAB2-2181E234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CAC6-7282-44F9-841C-50FFDBEB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A30B-66E4-4AA7-B509-3C8CFD1B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7DA5-EBBD-4483-BAAB-7F9B7977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4265-397B-4BEA-9BCE-9D49AD16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A855-0848-4C2D-B98F-2DE7F73C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AB2E-C5B3-422B-A3C8-6525340F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C521-0ACA-4E91-B07E-BC05E024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55B-EB4A-42E1-8CE4-3AF7104C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EF22-17B6-4B80-B29D-352643C5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FDA4-D872-4983-AFAF-7B7B3283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67BB-64D9-40C7-A0CA-A1F3224B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3310-E19F-4E5A-B0B1-3E383A63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7749-400F-457F-86D2-AEA74E67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F9646-64B9-4BC1-8068-71B45413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DC5F5-EDE8-43E5-89C3-81A4E18D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C9FF6-4C76-4233-9CB8-7988C567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5B4B2-CC12-4C59-B0A2-FC6F989D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9D5D1-9103-48FA-BEC7-E7F59EB1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0A9-B359-47F3-9381-C53126D5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73A2E-518D-4470-A359-3FBBBDD9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3F73A-CF0D-4017-91A2-AA0065D1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8703E-6AE4-4BCF-81B6-19AD6AF0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5B230-F28B-4DBB-8B93-E796DBC4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E5260-ADE2-40DA-96DF-57FF3B1D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095C5-507D-419A-BDE6-9F960592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04CCB-E098-4A5B-8488-EB42A77F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CB6-B5D8-4AE5-B00F-673EC6AF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557-9713-4B2A-BCE9-61B370BB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382-BC96-40F0-B26C-A43305EB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720-33A9-422F-BC53-9A4A185A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674-D06D-45A1-BD38-0E2C7D7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83C-C818-4C09-AF39-0E5E1754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5E0B-CE74-48FA-B8EE-BA48CEB34A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F902-C9E1-4DAF-986E-4453BBBF22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E469-1549-4DC3-9C65-2C303A93B4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dej, trž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Prodej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rodej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kud účetní jednotka prodává svůj dlouhodobý majetek (který není ještě zcela odepsán) musí zaúčtovat zůstatkovou cenu na účet 541 – Zůstatková cena prodaného DHM a DNM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4360" y="62064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nos z prodeje se zaúčtuje na účet 641 – Tržba z prodeje DHM a DN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stup při vyřazení v důsledku prode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řádný odpis za část roku (poloviční odpi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ůstatkovou cena (VC – oprávk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řazení majetku z evidence (V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auto jehož VC – 300 000 Kč, oprávky činily 160 000 Kč, a odpis za část tohoto roku činí 30 000 Kč. Auto prodala odběrateli za 13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360" y="1413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3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 110 000 Kč  54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0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Tržba z prodeje       130 000 Kč  311/64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84360" y="98100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prodává neodpisovaný dlouhodobý majetek (např. pozemek) zaúčtujem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    541/03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Tržba z prodeje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11/64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budovu jejíž VC – 2 000 000 Kč, oprávky činily 950 000 Kč, a odpis za část tohoto roku činí 50 000 Kč. Budovu prodala za 1 29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ále prodala obraz, jehož                VC – 80 000 Kč, prodejní cena činila 12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56Z</dcterms:modified>
  <cp:revision>50</cp:revision>
  <dc:subject/>
  <dc:title>Náklady</dc:title>
</cp:coreProperties>
</file>