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684-122A-40EF-A468-ED2BEEDC91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E46F-E277-43BC-86B0-74B050E85B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E54-7F71-4B03-BFDC-25BF84474DC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1407-6F26-4F09-99A9-8957BF7FD7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80C8-A4F3-40F1-A2C9-7DF5753BC5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375-90AC-4126-9CC6-D490DBE5D8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DA51-8C01-4260-A47D-35FE078801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2D24-8A95-4662-B59C-7539B1EEF57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358F-87F3-4B49-9CA3-51F700B912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F771-ECFE-4133-A439-680E594E41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C39-BA14-40F9-BBF5-F05FCE2D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F82-C3D7-4A0E-9384-FFA6887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665-EB0E-4C1B-89F3-A8AB5368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6EC-C886-4B64-83FF-AB709FAE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F0C-CEA6-42A2-891D-7769AD14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D89D-82A3-4094-815D-3D114FCC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C960-A3FB-4F8C-88EE-C4A3D5B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BC71-CEC1-44BA-8A69-D3B7AE25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A7BF-48F0-4CFB-BDEF-BC450589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8CB4-A8B9-44C0-B068-6F3038BF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A4A0-DB14-4730-969B-3636074B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94E-F5A3-4E25-9E2A-67A1E49C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4CDE-C8A4-4C58-AECD-5199F55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9309-3F02-4253-90A4-3F47E854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C66-6222-4C77-8EFF-A24C5FF9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3DB-0FE5-4372-A7CC-F3682FFB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9320-41FD-4972-8C32-2A114D9A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EBC2D-CA2C-4EAE-B8BB-9EA29B60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B6460-F6C3-4594-A663-98170CF1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B9DF5-F905-4B74-A88D-A8B44011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2F137-21DD-4B3F-8B0E-5D6DB5DE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17107-DFB6-4548-8B17-A08CDA09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B7C-40D6-4A89-9934-937AC40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53E76-8ABF-4E32-B77F-A04B428A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D38F4-EEB4-4522-B52E-9D0848C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81484-9C1E-4CBF-B45E-C51419D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D261B-8FCD-4212-BA9C-7AF922F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1BD68-C741-498F-BFC1-75EAD34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D9D2D-8243-4754-B3F6-CE4B11AD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2C7C4-AC82-4E4B-8B89-E64CACD8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3DA-7BB6-484D-9212-A38465F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918-D448-4F06-9F38-DD3EBE71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843-CFD7-4F22-A42D-8EB58D8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16D-8BEF-428A-9858-3517FB3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B4B-4E14-48F2-BE4A-40A23BD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06C-62C3-46EF-A7F9-431C63F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1B78-948F-40FB-899F-606F97DD5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6A8-BD41-43EF-9785-03144B9BB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2CD6-C18C-454F-8943-E6EB492944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vod do osobního uží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do osobního užívání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do osobního užív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(podnikatel) vyřadí dlouhodobý majetek z podnikání do osobního užívání musí zaúčtovat zůstatkovou cenu na účet 491 – Účet individuálního podnikate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11970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(plátce) musí odvést DPH z vyřazeného majetku, a to i v případě, že je majetek již zcela odepsá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automobil jehož VC činila 390 000 Kč, dosavadní oprávky činily 150 000 Kč, a odpis za část tohoto roku činil 32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32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208 000 Kč  49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43 680 Kč  491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9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počítač jehož VC činila 42 000 Kč, dosavadní oprávky činily 30 000 Kč, a odpis za část tohoto roku činil 6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, a vyřazení počítače z evid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09Z</dcterms:modified>
  <cp:revision>56</cp:revision>
  <dc:subject/>
  <dc:title>Náklady</dc:title>
</cp:coreProperties>
</file>