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8FFAE-7522-4AB4-A3AA-A46B89BA018A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3A3B8-2C5D-48AD-8A02-31B6B0156EED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B027C-3C24-4466-BCC2-96B5639A5C56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8CA11-3919-4F70-82CA-BC4B484C5548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E276A-8F69-48C4-9043-0D6AB15A6A87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ACC7D-6E12-4435-927C-B981535738DE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E899A-C51E-4F58-96F1-9EDC4A34D1FE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BBFDE-4BDD-443A-9AA7-41CCB374B59E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18BE6-4831-4518-9C10-511665B21C39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6EB5A-F4F2-4664-864B-5B50CB3BAED8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F5141-C282-4153-8773-2985A75419E7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DA694-8B26-4209-B218-9DBAA5D373FA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DA10-CCE8-479A-ABFA-58FE066D7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984A-BE8A-4D99-AD66-9CF50397D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491E-5AE9-47CC-9603-8835A8DB4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9FFE-C076-496D-BFCF-9106A35C9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E1C69-A2E7-446A-A412-86314283E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50E80-D606-4810-84F8-3172033BB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D4EDA-D6AE-4519-88EF-D794D83A0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7FFE9-50C8-4DA1-9485-0EC364023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620C6-1606-4026-99C3-3042E7948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A2744-207F-4827-AF56-74216F0B3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A28CA-C656-49FC-927E-7CD77FB78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6B11-D186-44EF-84DD-12799CB31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5E57F-2709-45DC-8906-DC55FA7A1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D7D4A-2744-4D2E-995A-6E7005F6A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B6A53-8068-445F-A226-218E01F23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8FDAA-A4F3-4F62-B37F-FC08E6DD3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E0996-0847-4ABE-8AE3-74A4AC4FD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6FD2FE-59B3-49BD-9B4B-2D37A56AB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320234-7141-4D96-A477-3386099C0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BC73A2-F4F6-4CB7-96DA-25C825AA4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E3C665-BF1A-4453-9647-B3EBAA45B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2A4271-E8CC-45EF-8AA6-14CBB9D01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AFB9-ED29-42D7-AFD8-46CBEF403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EE1191-0056-4736-9826-E3A72A4A8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69981C-CDAB-4834-A424-91CD8C407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1163B3-36B1-4464-8843-61C199A56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B09BDE-2B06-4817-A0C2-4698ACAB1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8E6612-E464-4C13-8807-DA04D384F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39E211-C7F9-4E96-8232-75E005333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534C7D-E7F8-4762-9EFE-7AA73766B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2BD1-2834-455C-9DD9-9A0E11406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9950-EC17-4507-A3A8-310664E4A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2358-9F95-4489-9DFF-EDC09B234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2D36-97DB-472B-9FEC-843371769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FD24-4583-419D-83E0-E054F88C5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A389-24F3-42ED-A71E-9BBCC22A0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53344-FCBD-455A-BC24-7914DCEB362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600F1-9A85-4CF0-AB0C-F539705A18A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4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55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1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64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65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66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7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8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69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0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1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72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73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4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5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6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7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8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9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0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181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82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3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84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85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86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87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88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9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0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1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2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3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4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5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96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4910B-8022-4029-8792-57F3BDEE0CF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6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</p:pic>
      <p:graphicFrame>
        <p:nvGraphicFramePr>
          <p:cNvPr id="247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6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0/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4000" y="475920"/>
            <a:ext cx="6870600" cy="68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Příklad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755640" y="1628640"/>
            <a:ext cx="7696080" cy="436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Účetní jednotka nechala nainstalovat  (na fakturu) do služebního vozu klimatizaci za 18 500 Kč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Účtování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FaP  Instalace klimatizace  548/32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Ing. Pavel Štohl – Učebnice účetnictví 2. díl pro střední školy a veřejnost, vydavatel vzdělávací středisko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      Ing. Pavel Štohl, 201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0" name=""/>
          <p:cNvGraphicFramePr/>
          <p:nvPr/>
        </p:nvGraphicFramePr>
        <p:xfrm>
          <a:off x="468360" y="1413000"/>
          <a:ext cx="7991280" cy="441792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714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louhodobý majet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1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 technickým zhodnocením u dlouhodobého majetk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4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odernizace, rekonstruk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, praktické příklad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476360" y="1916280"/>
            <a:ext cx="6400800" cy="22730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000000"/>
                </a:solidFill>
                <a:latin typeface="Garamond"/>
              </a:rPr>
              <a:t>Technické zhodnocení dlouhodobého majetku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3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omic Sans MS"/>
              </a:rPr>
              <a:t>Technické zhodnocení dlouhodobého majetku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116000" y="1628640"/>
            <a:ext cx="7416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omic Sans MS"/>
              </a:rPr>
              <a:t>Vstupní cenu můžeme v průběhu užívání majetku zvýšit o technické zhodnocení (modernizace, rekonstrukce, nástavba, přístavba) tohoto majetku,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611280" y="14130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Technickým zhodnocením se rozumí výdaje na nástavby, přístavby, stavební úpravy, rekonstrukce a modernizace majetku, pokud převýšily u jednotlivého hmotného (resp. nehmotného) majetku v úhrnu ve zdaňovacím období částku  40 000 Kč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468360" y="549360"/>
            <a:ext cx="769608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mic Sans MS"/>
              </a:rPr>
              <a:t>Modernizace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je rozšíření vybavenosti nebo použitelnosti majetku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mic Sans MS"/>
              </a:rPr>
              <a:t>Rekonstrukcí 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se rozumí zásahy do majetku, které mají za následek změnu jeho účelu nebo jeho technických parametrů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např. topení v budově, klimatizace v osobním automobilu apod. (pokud bylo provedeno v hodnotě větší než 40.000 Kč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611280" y="12682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Technické zhodnocení nelze zahrnout do nákladů jednorázově, ale je nutné o jeho hodnotu zvýšit pořizovací cenu (resp. zůstatkovou cenu) příslušného majetku, a to v tom zdaňovacím období, kdy je technické zhodnocení uvedeno do užívání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Účetní jednotka provedla zateplení správní budovy, kdy fakturovaná částka od dodavatele činila 395 500 Kč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Účtování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FaP  Zateplení budovy      021/32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„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Drobné“ technické zhodnoce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684360" y="1196640"/>
            <a:ext cx="76960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ýdaje na nástavbu, přístavby, stavební úpravy, modernizace a rekonstrukce, které jsou do            40 000 Kč lze účtovat přímo do nákladů, a to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u hmotného majetku na účet               548 – Ostatní provozní náklad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u nehmotného majetku na účet            518 – Ostatní služb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0T14:22:20Z</dcterms:created>
  <dc:creator>mirek</dc:creator>
  <dc:description/>
  <dc:language>en-US</dc:language>
  <cp:lastModifiedBy>Igor</cp:lastModifiedBy>
  <dcterms:modified xsi:type="dcterms:W3CDTF">2014-09-13T15:38:19Z</dcterms:modified>
  <cp:revision>46</cp:revision>
  <dc:subject/>
  <dc:title>Náklady</dc:title>
</cp:coreProperties>
</file>