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3835-56E7-44EC-92B7-E661AD17A6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A5ED-4A60-4AFE-8589-C02DAA2759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3F52-FC34-4AF0-9D20-D6302AE686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CDA2-140E-46C2-9FE7-A2840DED57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7532-B776-4B1C-AA83-E284AF2442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B12-851D-4DDE-BBD7-36AF4DB8787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3D9E-6D5C-4259-B159-4842AE67D1C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823-2B57-4912-9EBB-8A87F8DFFB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A462-791C-43DA-ABAD-05714D5FA2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76C-12C7-460E-A0C8-E52108574E0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AB90-C4E3-4AA1-8C97-41E3D544AE2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A7DA-82B0-4E45-8E08-0CC1942B50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755-E3F4-4158-8473-1B970BCC732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008-A2E7-419F-91CC-67F5A9C6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97B-4F86-42EE-8CB4-C75DDA21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FCC-F965-45C7-A866-A9AF3B2C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799-C486-42CB-9ED7-6232220B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319A-38E7-4E45-8268-DBA38C52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C51D-AB3C-4E6E-BEE0-7A2F17A5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CCFC-903F-4443-BFE7-4DD2A9A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F78-4D20-4075-A169-1DD4F695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4200-46DD-4483-AF01-8E71E6D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2B0-E356-4433-B415-5BD9E778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3546-2852-4178-BD7B-32AACD9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C21-2793-4AAF-BFFD-E79B07B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3F0-62A8-4635-BE1C-64E1F3F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AD99-C793-4718-BE79-750DE48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32D7-57B7-485E-AAB7-43070CF2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0E1-1956-4C37-8705-3024BD4E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2E83-8E15-4294-94DB-E2B1FBE6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C01E5-357A-4650-BD97-CA9460F0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A2578-B1B8-449E-928B-C8ED86E8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FD7FD-050D-4187-82AD-C9FB4FD9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2C706-74B0-4EDB-9841-C0869AAD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2DDEA-2FAA-4CE1-85A2-3B74DC06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440-7F85-4FB7-8EEC-58532596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B6145-09D6-40FB-98AE-9D94040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035E4-8A68-4CB7-A411-162E576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B7490-835F-4699-AF1C-6153858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E710D-7465-40E5-B097-15CAB6C3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3918D-A568-411B-95FD-40A3579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62ECF-C363-40B9-8649-92E8925D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9ECFB-FA46-4931-BBD9-6E532BFF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99B-4575-4A9F-A2C0-2F82769D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F73-1B8B-4B63-8E80-DB94986F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82E-F496-4D94-A2C3-FC633BA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0F2-C3B9-4B24-A433-087DF3D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2E4-7482-4E67-B7C3-3708405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2F5-1BF4-4DFE-8F31-B8F827A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460-4C70-40BE-854B-650913CE0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FD52-F074-4CC2-B63A-171D3B585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5E50-32C3-45FC-82A8-E4A27C5A6F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auto za 300 000 Kč. U tohoto auta stanovila rozvrhovou základu na předpokládaný počet ujetých km, a to na 200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roce 2012 bylo najeto 12 000 km, v roce 2013 - 35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na 1 k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00 000 Kč/200 000 km = 1,50 Kč/k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2 000 x 1,50 = 18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5 000 x 1,50 = 52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mi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účetní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Účetní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estaví tzv.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ový pl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dle kterého postupuje při výpočtu odpis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tanovuje účetní odpisy pro jednotlivý majetek např. podle předpokládané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oby použitelnost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podle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bjemu výkonů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. Výpočet odpisů podle předpokládané doby použitelnosti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si sama stanoví životnost majetk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noví si počet měsíců po které bude tento majetek odepisovat, a to rovnoměrn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se zpravidla počítají s až od prvního dne následujícího měsíce, kdy byl majetek poříz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1280" y="170028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5.8.2012 stroj za 240 000 Kč u kterého stanovila životnost 48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560" y="1628280"/>
            <a:ext cx="7696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měsíčního odpi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40 000 : 48 = 5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odpisů za rok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 000 x 4 = 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10.5.2012 výrobní stroj za 135 000 Kč u kterého stanovila životnost 54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počítejte výši účetních odpisů za rok 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. Výpočet odpisů podle výko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chází se z předem stanovených výkonů (např. u auta z celkového počtu předpokládaných ujetých km za dobu životnosti aut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se vypočítají tak, že skutečný počet ujetých kilometrů se násobí podílem pořizovací ceny na předpokládaný počet k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2:14Z</dcterms:modified>
  <cp:revision>49</cp:revision>
  <dc:subject/>
  <dc:title>Náklady</dc:title>
</cp:coreProperties>
</file>