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A487-D87D-4570-88D2-C3DEC83532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50AB-D2ED-447D-BD5C-313F8EB5049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3907-DFF3-48BD-A53D-404B25C9188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7C93-756D-4ED0-9EEB-168C4DE10B3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79B4-4E8B-48F3-8597-C89FBEA5E1A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835F-E771-4EEB-8F44-421CF6AA2EE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55AD-84E1-40F5-BDC7-3573D803143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DD8C-823B-48B1-A506-F056C7354BE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F4E3-711D-42FE-9AC7-AFFD42C2FD6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DAD8-C83D-4314-9ECA-B63A69CA9F2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E35-1F4F-4FED-8E2E-A0263681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CF9-892B-4415-9365-51EEF4C0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6568-0FDD-4A1E-9F4A-0D061DAC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4E5-4D0A-401E-96B3-8BBEDB14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14EE-64A3-488F-89B8-305AC0AD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9B35-B44E-43E2-953F-F42A86EF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6462-DB2E-491A-8854-7D320391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5B53-82D0-4A67-9E6F-3FBF8E26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071C-1AFA-4D32-8D0E-4825B46E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F2B2-1CA1-48D1-BE42-A2E82A82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6A7C-C427-4A88-ADD9-EF9FB997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D438-F6F2-4179-B577-7A13307C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9E49-61BE-46B0-874B-18811E49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7240-95D7-4933-8580-4C0A6EA6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B67C-FA29-4904-A1CE-4C845EDF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1310-B870-4901-9954-36966A73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4723-37EE-4F02-B1A2-9C53DF9D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F4C55-68B1-4AA6-B02C-32296631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B1670-2475-4BC9-980A-01BABCF5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4823B-58E8-4582-843E-7459DE70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6047D-0F55-4B41-8347-DD51B467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4BD97-C91B-460A-ADCE-101E769C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023-2D22-4D07-9524-18E21D6B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44D1B-34E9-412A-97C9-5BC4EA8B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39658-477C-4A32-B8FD-0ECE67A0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5C0FB-4C01-491F-988E-D7C49AB9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9277D-4773-4139-89F5-2956DE2D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899E3-538B-4298-84C6-B1814C60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FDC64-8EA8-4970-9345-5CF57CF6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AC3E9-5AE5-4AB9-8317-18724BF2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C30-132F-428B-A776-4ADAB6F5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B70-C1D3-41AA-8D83-569CEDF1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5D8-BEC1-4A8D-8DB9-077D3ED3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21F-0306-480E-B4CF-2A1DF3D2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27E-45DB-4395-BA62-B4683DDB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058-D696-4F9D-9B7E-29C12664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9E46-A3A5-48E6-85D4-4AF9E1AB2E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1EB6-3E03-43AD-A549-F58F4BC08F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33C9-AFAD-4ADE-A2A3-36DBFEEEA2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637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 v důsledku darování 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 v důsledku darování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kud účetní jednotka daruje svůj dlouhodobý majetek (který není zcela odepsán) musí zaúčtovat zůstatkovou cenu na účet 543 – Dary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26560" y="1197000"/>
            <a:ext cx="7270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případě, že dárce je plátcem DPH, musí odvést DPH ze zůstatkové ceny darovaného majetku finančnímu úřad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PH se odvádí na základě daňového dokladu a účtuje se na účet           543 - D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(plátce DPH) darovala škole počítač, jehož VC činila 45 000 Kč, dosavadní oprávky činily 33 000 Kč, a odpis za část tohoto roku činil 7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989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7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 5 000 Kč  543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PH 21%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1 050 Kč  543/34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45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11280" y="141264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(plátce DPH) darovala nemocnici dodávku, jejíž VC činila 445 000 Kč, dosavadní oprávky činily 305 000 Kč, a odpis za část tohoto roku činil 25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odpis za část roku, zůstatkovou cenu a vyřazení z evid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27Z</dcterms:modified>
  <cp:revision>53</cp:revision>
  <dc:subject/>
  <dc:title>Náklady</dc:title>
</cp:coreProperties>
</file>