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E757-B103-484A-BE6A-5BD64538AE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4F8F-C682-4176-852B-9B89A8EEDB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0A75-5240-4A3B-A1AC-25D173EC94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3A3A-7966-4CA7-9192-50E16FD943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2EB-D1A5-46F6-98D2-879A6D5FFC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214-DA41-45C1-AA16-9AF2B2D59F9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A42D-6A99-46A3-A50B-4E41DF164D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F3CC-99A3-43B0-9819-215E7F7162B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4F6B-B726-4462-A8DF-71A99A2D03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400-2388-4590-9FE6-1F97A2ACE2F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754-116C-4B1F-B5AE-2085686A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42F-BC63-4B26-BDB6-A86ED4EA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F34-9A1A-40DD-AA39-F241D287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90E-35E4-4ACA-852E-07AA2884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1D0C-4226-403F-B1A1-B78FB232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2230-20B4-4EB7-9E3D-7528382C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B1B3-26D8-4498-959E-9C158BE3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24E0-B1DC-488D-8E37-29EC99E1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4D83-A29C-4CDA-8C50-E394D06F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4E08-4A77-446B-86DB-8D9B10E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09A8-2BB8-46E0-B9E1-3320E6F4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2E4-20D5-4545-84E3-2D009AC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6B0F-8428-4144-B8B8-03431FC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A27F-D55B-4489-9162-B5E05F9B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9A7A-B11B-497E-813B-0D8A1467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AA5-B7AB-43F1-8E58-ED15743C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6C8A-D9F8-4084-B4CA-6F4DF0CE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7B74B-D4B4-4930-BBEC-EFA12745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9BD16-C2A0-4E45-885B-006E0217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6FDF1-C65B-4CC7-B36D-D84CA15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3BFF0-E17A-4703-982C-A9A5B85A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AE8CC-6722-4F32-942C-70CCEBC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E19-62A8-446E-A34C-2BDFE98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BD937-B8B5-4EC9-BB06-053B489C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01C87-BE79-467F-B213-96D2B97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099E9-BF95-4003-ABEC-4354645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BA8FE-6715-4563-B3FA-997F320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A4B47-1507-4836-8800-28CEE55B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15A15-F609-43B7-A995-26B426E1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90D93-93C5-4738-B302-8C856185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878-3F09-44B2-BD97-1C6F212C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DF0-5938-4631-9BC2-37D1D7A2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3E6-5E6C-48CA-80EB-57EB5EA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C31-3557-4009-9D87-BE04B39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D38-C105-4CF7-B62F-35E532A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A62-E856-4BBF-A3CE-41D7CA5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8371-2B03-421A-8D7E-8DC5B508E7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BAAE-9C74-481A-BAFC-4C0C98E5AF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2F6-DF45-4F76-882E-45DCC271A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finanční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finanční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o dlouhodobého finančního majetku firma investuje, chce-li uložit své volné finanční prostředk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Do dlouhodobého finančního majetku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é cenné papíry, které podnik nakupuje na dobu delší než jeden rok (akcie, obligace, vkla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ůjčky poskytnuté podnikům na dobu delší než jeden r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movitosti, umělecké předměty z cenných kovů pořízené podnikem za účelem obchodování s n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bor movitých a nemovitých věcí pronajímajících se jako cel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6 – DF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1 – Podíly v ovládaných a řízených osobá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2 – Podíly v účetních jednotkách pod podstatných vliv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3 – Ostatní cenné papíry a po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5 – Dlouhodobé cenné papíry držené do spla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6 – Půjčky a úvěry – ovládající a řídící osoba, podstatný v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7 – Ostatní půjč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9 – Jiný dlouhodobý finanční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2:58Z</dcterms:modified>
  <cp:revision>37</cp:revision>
  <dc:subject/>
  <dc:title>Náklady</dc:title>
</cp:coreProperties>
</file>