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08E7-7541-4352-8C4B-3EE863590B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FF4F-6113-457E-BCDF-0D84F2AD9E0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E34C-E770-4CFF-9679-F19C610F575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B6A2-BF11-4722-AD36-EAEA4F2294A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220B-862D-47D7-97C3-02F25D26D9E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E6CE-EC3A-4FB9-B3E5-1BA103FDE56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2C78-0FE0-49B8-A585-E918C1A7567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8B1-EF13-4197-9742-2BA56483640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9E4C-5873-41D3-90BD-C16CB162BE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2114-6480-4B2C-A971-FD6A3E9D4A6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9095-FAED-4658-8C96-EE6AA7B13B5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18A6-5CB9-4AA2-9194-1DECFA68EB0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908-8332-44ED-8C34-1A0645F8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80F-A424-45FA-B6E3-5AD300B4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38C-9056-48C0-9557-B82CF7B3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556-5D16-4F26-AA91-DE3EB045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1B7D-D178-4656-8E6A-30985504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4DE8-F878-4FA5-A353-253D2E36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1A6B-277A-4474-8ADF-0A5A9A71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D3EB-A13E-4240-A362-FBB3B178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3F79-3F37-4A9D-9542-765AA7FE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40F4-2D51-4B48-96B3-65D573C8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5B29-A02B-4BFD-A972-48C8ED6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F02-21D6-4FAF-B5F8-6CB78DE6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EEF2-8B14-4CD2-8A9F-B5B0A58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307C-0617-4990-8699-45DAF6F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E3B1-8BE7-451C-9B0C-9251F141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250E-743E-4265-821C-DFFA992E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B85A-D1F1-43CD-BA49-6A6423CB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0B306-95D8-45A5-BE17-50D0CB3B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BB29E-412A-4810-A219-73A3AFCB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9F3E7-B6A4-4BB6-9AE2-8645871C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AC495-4E71-4824-8952-EA35F192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8518A-FC70-4FD4-93ED-17678C5D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DF9-0BE4-4A76-866D-50C97C58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427C6-29CB-415B-96B1-D51935C9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9F9A1-B838-479C-9CB8-A0338E86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6BE67-41D1-42B2-B3B0-F3A5E419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B5ACE-C2B8-406D-BE98-433615C1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E4ACE-CAD8-4E9D-A770-10338FCD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196F3-C715-47F1-A1A2-698F2683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91A58-5F28-4D0E-9587-DC38E3C8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5B0-CCED-4BFE-BBED-2909AC7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8CF-09D3-44CF-9577-17943DC2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961-24D2-4DA0-94EB-23FC2003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CC5-C866-48B5-97B4-7E243599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5E9-0D69-4B0A-AEE5-74DD035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F0F-AE8C-4F37-AC92-0F38ADB2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EFD3-2B3E-43CC-B343-C0427121BB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87CF-70DA-433B-A1C5-2761FE268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9D8E-F3E6-482F-B949-83E67B38D4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náklad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náklady a výdaj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výdaje, spotř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Charakteristika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představují peněžní vyjádření spotřeby živé a zvěcnělé práce, která byla vynaložena v souvislosti s činností účetní jednotk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 základě nákladů a výnosů zjišťujeme hospodářský výsledek účetní jednot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áklady je třeba odlišovat od výdaj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jsou úbytkem peněžních prostředků bez vazby na konkrétní výkon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se přeměňují v náklady jen tehdy, jestliže vynaložený majetek vstupuje bezprostředně do tvorby výrobku, práce či služb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materiálu v hotovosti představuje výdaj peněžních prostředků, ale nákladem bude až samotná spotřeba materiálu (je zde časový nesoulad mezi výdajem a nákladem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eme následovně (způsob A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. VPD - nákup materiálu (bez vedlejších výdajů)     112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2. Výdejka – spotřeba materiálu 501/1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kud b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tní jednotka nakoupila materiál, který bude ihned spotřebov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ak se jedná současně 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da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nákla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etní jednotka nakoupila za hotové kancelářské potřeby, které byly ihned použ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účtujeme násled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ancelářských potřeb 501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6584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Další 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kolků v hotovosti, které nebyly použity, zaúčtujeme, jako úbytek peněžních prostředk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olků 213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protože zatím nebyly použity, nejedná se o náklad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mile tyto kolky použijeme, tak se jedná o náklad a zaúčtujem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spotřeba kolků 538/2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chom nakoupily kolky, které ihned použijeme, tak se jed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 výdaj a souběžně i nákl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nákup kolků – 538/2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57Z</dcterms:modified>
  <cp:revision>30</cp:revision>
  <dc:subject/>
  <dc:title>Náklady</dc:title>
</cp:coreProperties>
</file>