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8B48-7352-4A13-B26B-5C6D3827A22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7469-34F8-4B38-9596-4A4D7F1E7FB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9B59-A316-4CBC-8D37-F0E9531E647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B743-CD84-490B-9CEE-52536E85601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F169-272B-458F-835B-773A27914C1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FDE-77BD-4C20-A5B8-81AA2C5D2C4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7C24-26F6-47DE-8B63-B5A1A1B3BDA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806C-9F92-45C9-A5BC-1F9C856C4D5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8A09-4D76-4686-9358-C02AB6D6914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F6FC-37C2-439C-B2A6-0BEC2B8937A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F666-6FB0-4F66-AD5E-505713E306E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CDFA-6367-46AC-AC48-71AC02C60A1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4D9-D4D4-42E3-8A3F-D7441023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C41-CE1F-4FC6-ADE9-4C72D0BB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DCC-417E-42B6-BF4C-1B1B0664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011-B937-4CFD-B4CB-3533BA75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9820-0B69-4BEE-9BB9-9366CB5B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D83C-A8A7-4667-BB88-2C93C1A5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2AE4-7184-4EAE-BD47-7BCB806E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FD1B-BD27-4E2F-B4E5-574FEE63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132E-860A-47E4-8546-B8DFA347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1FAD-343D-4370-8DD5-4528951D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BC9D-01D6-4EDA-A4CE-10B89B12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9A6-5368-48A4-9A07-D5DE8BDD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DD98-2E0A-46F2-8111-6215DC3B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DC01-8311-4517-8885-470BFF7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12CB-1FC7-48BA-8343-F79AB205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E65F-F70C-4B59-A83A-E04E621F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488-5ECE-41E5-88C0-F504B809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ED0-AEA1-45D4-B714-3877F1FB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905-5EF2-43D1-BA8B-3A180F0C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D04-CC98-4138-95AC-C36E1329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4A4-A662-4E19-BA7A-0737E860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761-46E6-4402-8869-8FC169CF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4FB-4978-418F-BE3F-F817B55D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EB4-757A-4E39-9009-858FF002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94D5-B52F-4521-850E-F0943956B0A0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2AFD-BECD-4030-A379-F148B58CC804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eprava zboží vlastním au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Aktivace stroje ve vl. náklade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obalů na sklad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0800" y="365040"/>
            <a:ext cx="678168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k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096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2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 sk. 62 – Aktiva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3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představuje přírůstek majetku             (tj. zvýšení stavu aktiv) v důsledku vlastní činnos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se účtuje ve vlastních náklade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le toho, který druh majetku aktivací vzniká, používáme tyto úč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1 – Aktivace materiálu a zbož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2 – Aktivace vnitropodnikových služ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3 – Aktivace dlouhodobého ne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4 – Aktivace dlouhodobého 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využívá v případě, ž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irma vyrábí obaly pro své výrobk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- Přírůstek vlastních obal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12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vé výrobky prodává ve vlastních (podnikových) prodejnách. Předáním do prodejen, se mění (majetková složka) výrobky na zboží. Musí být zaúčtován úbytek výrobků a přírůstek zboží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Úbytek výrobk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13/1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vodky na vyrobené a předané zbož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1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dání zboží na prodejnu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2/1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9900"/>
                </a:solidFill>
                <a:latin typeface="Garamond"/>
              </a:rPr>
              <a:t>622 – Aktivace vnitropodnikových služeb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používá např. tehdy, jestliže má firma vlastní dopravní prostředky, kterými si sama přepravuje materiál, zboží atd. Jedná se    o tzv. vnitropodnikovou služb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Doprava mater. vl. podnikovými aut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111/6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00"/>
                </a:solidFill>
                <a:latin typeface="Garamond"/>
              </a:rPr>
              <a:t>623 – Aktivace dlouhodobého nehmotného majetku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02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čet 623 – Aktivace dlouhodobého nehmotného majetku se používá tehdy, jestliže si sami vytvoříme tento majet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př. pokud se jedná o účetní program zaúčtuje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Aktivace účet. programu ve vl. nákl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41/6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Zařazení do uží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13/04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24 – Aktivace dlouhodobého hmotného majetku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et 624 – Aktivace dlouhodobého hmotného majetku použijeme, jestliže si sami vyrobíme (postavíme) stroje, přístroje, budovy a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případě, že jsme si sami postavili garáž zaúčtuj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Aktivace garáže ve vl. nákladech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42/6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Zařazení garáže do uží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21/04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46Z</dcterms:modified>
  <cp:revision>22</cp:revision>
  <dc:subject/>
  <dc:title>Účtování výnosů</dc:title>
</cp:coreProperties>
</file>