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037B-2B50-42B9-ACF1-645E9D39BB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9DD-1D2F-492B-B21B-C4004AD3C9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2EE4-0376-427B-9049-27351DA7B26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70BF-847F-48B7-8A9B-82FA7AE0E0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B950-92E7-44C5-A9AB-45B12A152E0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8352-DAC3-4012-A22A-AC4A3F15738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A9F-12D4-418B-8E3E-CAB77EABA86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147F-D305-4303-84E2-2C964D20C95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EC57-985E-458C-8125-E8B4162CAFB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19FC-904A-4C39-9DFD-333232D85E5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7397-22E0-44ED-B4A3-B283A5BFC84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CD0-D0FE-4400-8E42-A67AFEB7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948-2547-4FF4-A9D3-2391A6C4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CDBAD-BD64-4B8B-AF5D-C002E900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5BD49-A71B-400E-BF1A-D9167271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CC7EA-DE21-464A-8D78-5EEFBBB5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B41F8-C9CC-42EA-B0A0-F2DB2BB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D8A59-59CB-4E23-831F-E0E93F1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71F02-9934-4153-AED4-357A6B6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58B23-45E8-48CC-B692-63C1391E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9C350-3AA6-40FC-B09E-991B2257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25DF3-76EF-4EBE-B951-7C381E4F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680CC-8409-49B1-9275-8680F4EF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886-2316-41E6-BA90-39C2DF15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31983-CE00-4CC3-A09C-5F9AFBE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F6317-234E-4AE4-9963-D5D4E4B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CA3F8-1736-4AA3-8267-D211BBC1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B0D07-EE11-466A-B0D9-D0533E70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7337-4663-475A-AC42-6FFB3FC3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63AA6-F387-442A-8F2F-61ADB44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6412E-6790-4DD4-8A1F-AAC96AC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D7DC9-ACB2-4F25-B76C-96C4E71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AFC4B-E0DE-4676-A950-30D4EAAE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59A81-B3BB-46D7-B802-D46E3A16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846-5F11-4468-B92F-CEEB8F67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92A3F-C826-4B93-A963-A34C9BF4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1EDDC-33F6-4634-BBA4-968AAB72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5EEDE-B5C3-4E89-8995-B04957E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8A04B-1F46-4466-89B5-9030A21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9FF42-9639-4370-945D-2C9D6AD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0B01D-691D-4EC2-B10C-22A932E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E567A-7B41-4C83-8FBE-AFB9313A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505F2-6A69-423E-A769-0099D84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E3465-4BE5-4C07-A30C-7C3D355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471A-B6CB-4698-B73D-BA3FE809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A5F7-81C7-45BF-9834-2E1B5022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1C00-D6B9-48CE-BAAC-EB2B68CE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0C28C-7EEB-44EC-87D9-2C9A716F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8BF12-96B5-43C6-B2BF-065B666A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CF32C-0A58-4917-BB05-CB41C474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CD67F-4F07-42CD-8D34-172A6590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CF180-4C65-4A19-88A4-A5B975F1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D68DE-3352-4C7A-ADB8-8BFF9EB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4DB9B-A7D5-4D06-BD3E-6219666B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C0EEE-2761-4537-843C-8A507915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9EC55-A52C-4934-A700-7072EBA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B0FF-F4F9-4565-BDC1-FA73C883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1C7E7-A455-48E4-98C9-8EEEAC48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2D02-9B79-4D27-B2B9-A00EB5C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B0F58-0361-447D-9102-7D54667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0A433-B51A-46BD-8793-DFEC3E6E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CF922-5E84-46E9-98A4-69631ED5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53D3C-7C2F-4FBE-9B04-3712F112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1012D-0F38-45C5-9BCE-6D2E7B75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67541-71AE-4F4F-8FB9-33F38C0F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32466-340A-47FF-827D-819D4BD7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03331-D336-48D6-8B26-73592D8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CC0F-AEDD-4DDF-85E5-E95C242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5FDAA-B18C-40A5-A7A3-FB268EF8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A01F7-4034-45C3-9ECF-8529D920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0201E-9B0C-444A-BD6F-CC753942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ACAA4-5DD7-4062-BC82-B513C31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60413-AB09-411B-A1F8-88F309D5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5628E-AAB8-4824-9846-0048FD76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F9CD7-903D-4049-885B-8A9780B2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19D307-5BA6-40A2-83AF-27E2EB19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EF5C53-3CFA-4DC7-9D33-C83AF907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D29389-837E-4BB8-B174-282C23E4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90E6-2E2C-48FF-93F7-2E8499F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34A2D0-0232-417A-8902-7391FDF7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78B446-170C-4324-8473-2EC8F118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50AACE-2A0A-458C-8A7A-0CB57F97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F0FA9E-05BF-4131-B017-C9D072C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F08293-D375-4C64-B3E9-9A854B4A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266764-70CC-45CB-8A21-417DBCD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90A24A-1986-48C5-A6AB-DE22504C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39CF8E-361F-48A8-B5A1-C0254A5B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48138C-3E94-48F0-BF79-8B98C7A1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EF3D2-B631-4300-A094-C345AADF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AE92-40D4-44A3-B77A-2ADF775E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DAACF-D4FB-46E5-8870-16996D7F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0FF28-B31B-470B-97CC-74E0F75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33468-1BFE-48F5-AEBE-E736721C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31520-716E-4F0E-88E5-C7650DE9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5C108-088A-4C85-BD03-3EA82FD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577A0-B36F-4865-A70C-6A5425C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AE4AD-D615-4718-BC48-DF4BCCD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A4672-284D-44D9-B269-619E8746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ED90D-8291-40EB-BE10-A2DE4AC6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C2D61-8189-404A-9A59-90D7CC44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8F03-8A2C-4C2D-8BA8-7C1DC37D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F7A5C-F0BA-4A79-B0F6-43ABCD71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94124-EC1D-4AF7-B524-B37778E4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552C4-2D81-4CEC-BA52-8B7B6F5F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291AA-600F-4415-B305-5074158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AA889-A3DB-429F-B938-B8F668F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A98E7-63FA-4464-9EC5-A037229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C70BC-3E17-46C6-AF38-02E32945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7F9AE-097C-42D9-BEC1-81470E6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0DE6A-1213-413C-BDE8-9B7A6B06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9712F-9EE7-4513-ACD8-0ED2607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75A5-6B7D-46F8-B20B-4989F89A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98665-8CFE-462B-8208-74C52931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7D95A-F9FC-4C6F-82A3-D66C4808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48BA4-6C55-4747-9FDE-78B1F283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F328F-BDA1-4A2A-BDD5-BBB1F6FF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2A1A8-265E-4C6B-AAEE-A04B9AB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EC866-9081-43A0-BBBD-DF40CBCF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20672-081C-462F-A9E0-E767075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DCD40-1CCE-4F4B-8081-B499700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10B16-C65F-4C6E-8702-6CCDA1A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F1FD6-0D93-4C2E-85F7-4DD334B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395-E592-48CE-BF5E-820B17D9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1768-4154-4370-99FB-9BAE492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5C799-0E5B-4055-BF7D-F7EA315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89EEC-1036-4AD4-9F68-8FC98E5B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D3268-CF5C-48D5-94C8-5BCF1E5B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CC383-C1BC-4343-87EB-4A0C0FEC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C87D8-4F1D-4127-ACC4-DB159681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00FA5-A475-4035-93C3-A3CB20FC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96064-2357-464B-8FFB-F84EC36B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9D2F3-CFF2-45C9-89E6-BBCD6892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7C6FF9-118F-4088-BA9F-AA3BA30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28DF2-3206-4370-B905-86F0443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F8A4-D725-42AB-AA9D-0C07584C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3D7D4-0D68-45EC-9EAC-234F4BD9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38B13-210A-4D8E-B469-4435C7B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2A2DD-00E6-48D7-8B63-0DDDE6D4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0633C-B300-4AEE-87D9-63E5C6C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42886-A392-44F3-A1D7-615950E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433F7-1D60-457F-B52F-C740B00C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C18F4-02DF-423D-9316-888846C0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9E909-A7F3-460F-AC18-48AF130E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32E32-A5D0-4AE9-906C-30329D65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FFDC9-6E01-4386-8038-6BC90C20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CCC7-6A40-4058-BDA5-5373E4D2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24F9D-3744-460C-B4F2-57EA59C6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D8CA3F-081B-40DD-96B5-9213DC0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9D4DB8-074E-4E43-8BA7-EEF55D06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03ACEE-A3BF-4749-90C9-5BD31AE1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F2B40-8D5B-433D-926A-A1ED833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32112-7809-49C3-A85D-C8247AC0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157B6-1284-4CB2-9171-137289E7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D9086-8674-4F22-AC54-953E4E22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D358B-D079-4ADB-822E-95A84B13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97A1D-0A7B-4A97-B2D7-D541F366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EAC2-BC63-43CA-B83C-609D343A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39032-B15E-4ED6-8A27-3DB5EF55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761CA-B047-4A2E-938B-6C0DEC87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3E948-1325-46FC-B72D-3258BC40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D3665-C53B-4948-8CE0-63F21663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4B6FB-4AC8-443F-B04A-D6658521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6558F-7120-4B66-A2D0-634923F4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1CFDD-3D9B-43F8-9375-70D1C13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E8870-3270-4852-BFB6-7CC6FDF0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A059D-E4F3-4C5D-9964-4A7B82D4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F21740-0966-499A-9D45-C52EC031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90CA-C404-46B6-B16D-00B106F8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A4EC8-E770-4898-AB46-BFD60233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BE6B6-91B3-43AF-9529-DA1F52DC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F2BF9-69D6-4863-82D5-CB600131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FC75F-BC31-4528-B34C-4AD89CFE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88378-E8DB-47FC-8FDB-8AB11321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3B604-EFBC-4679-B570-99C58E3E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B28FD-51B8-4FC2-A129-4DA66553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318D9-39B4-452C-97CC-1D78488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700F29-5256-4DAE-A767-1C9B35E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820B6-AA3D-454F-B932-8C9DC477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4028-113E-4AAE-8C06-62E88689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C783A-B330-4358-82E5-34C102DE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CE502-2147-4191-BADA-7762C172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B5607-77ED-45D5-B39E-F6B93FA1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97127E-89AC-4898-89C5-0A19BBDA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DAEA84-E9CA-461E-9C7E-20A8408B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514C5-B99C-4F7C-ACFF-73FE9E25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D6A72D-67A4-4A71-9EAF-19C10989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F8D85-CB42-4E87-8E58-150F9A5B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7C25E-69F0-4F7E-86E3-DD53C541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DBB54-246D-445F-B775-EE83FD62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11F4-D99C-484A-ACB8-707790F6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7FD6FD-9B87-4CD4-9F79-FF2CEC9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DCBD7E-89AA-4497-B393-D759C0C1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277A59-77E7-4EC4-9B50-937C28A6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D51091-1FB1-4027-9FF1-0D77FE71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380824-38D3-44F9-BA99-97C556CF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CA3EA9-D034-4098-9A2C-F16D3CBA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50EEE4-F8E6-4AB6-850B-6DF600B7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5075ED-36F6-48F7-B675-B5B06D7E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B043CF-D7AF-4F8F-9D57-4D8B79D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AC2075-B5FC-4807-A35C-AA774B86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4F3A-3C4B-43C8-9F2D-26DCB3F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AF7FB7-2581-4B35-94B1-97AD1945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4B10D-A777-48DE-8571-3E0263B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907B52-3913-4BBC-BD03-FA317BB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09E3EC-2E31-4FF9-B098-A1BB7018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B5972C-B7F7-4CA1-8738-A4AE514D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B4DA9-D872-49F9-81C9-61451CFA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2D1C5A-2483-4115-AC3E-409A0FD8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B4628-45FA-4E95-A4FE-0A43FDC5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1EBC5D-9C22-4243-BA14-F0BBEFEF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8AE97C-21A6-40AB-B30F-EF8AA683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76A7-0FB5-4751-B261-92E5D6E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B0747A-A23B-42AD-8810-5819B27A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26CA91-B09E-45C9-B24F-9A52DFA9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A81FF9-E04F-4763-81A4-19BC7EA1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AA081-3E18-41E3-AD58-76A2AAA9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3CB120-EDF9-48A6-8C57-29F3FD3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A150BF-E840-42D2-A618-F98A0D43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40E8EF-6552-4EC8-B25A-01948EE6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700005-6C2E-4519-805F-2E13A72B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1A56B4-E520-4891-A034-0539851E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ACA678-0B24-49D2-8155-D807EC05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F489-5AAC-4C8F-AC8B-8B3AB4E5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756D2B-59BD-4125-8724-9530B166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424168-DD90-4DA2-8D04-22045DD0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E1968C-5384-4301-8F6D-226F3E24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066998-DCBE-4B4B-BBED-82814B5C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2E59EA-99B9-43C8-95A1-CEB493D4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3DC54A-EF4D-4F86-BF7B-9483F0B6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DB01BB-25E4-4D40-8BCB-79006CF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320B9C-8847-41B9-8411-12F24B7E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8FFB58-F6A8-4B07-9DDD-1E7B7E5E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43F3DC-04A6-4B84-95AE-EA98F1E4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F03-359A-433F-8D7D-BE56D6DE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0817-D966-4DF9-87A8-42017C49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505415-4633-4412-ACE5-E78B3E04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E58F5DB-E4DF-436C-AD0D-8EDD7487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EF78711-360C-4267-9822-CE81E6A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CBBA60A-3659-4C47-B9BA-4A5884D9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24F772D-BC8C-4B70-A565-818D12AE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1A4F59-7DC9-4DCA-9D35-271219E2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8ECDF2-51CB-412F-B4C8-5680D57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1FB7AC-1B5E-4B83-9FA8-7ECFCA2A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D9727EF-0A17-4BBA-8C27-F590DA8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D8E6A01-1C6C-4C11-A8DF-1929A5DF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E98C-53A0-4D74-87FA-9AD700E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86E0D0-69AA-4DB0-955F-F6BE51EB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C861A7-9856-4864-B410-AA00C156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3FF4689-4307-42E1-A273-D28098EB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BC26-F538-477F-B1C0-E332F773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061D-17A5-4922-9134-88F383C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5013-A202-4D52-8D0C-6ADF501D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C987-7A62-4BC0-9B5C-02338553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170C-D232-4FAC-9AD5-8CD9E13F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3F6E-C5EF-42C3-8538-6D95B9C1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223D-032A-4F40-BD82-2680294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E734-107F-460D-8D7F-A5504F6A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BF6-25C3-4211-9B0B-DD72B97A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CB67-090E-4E44-8F68-72C8ACB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5877-C132-456A-BD91-3627F19D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7941-0098-4092-B1BF-5DD1ACC8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8807-8C33-403B-B958-A757850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C2A2-7F7F-4264-87E2-7C66203A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8288-05FF-41C1-B163-9336829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7C36-5DFA-42B9-8B91-AEFAE6B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3E9C-824C-447F-9C04-47BB98A1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835E-10CB-4762-A511-B6569E59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347C-DBAF-4D3C-A029-01E4F2C9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ACC-2B6E-4876-891B-7A2784C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B25E-0336-4E86-9C18-FB04EB4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72D9-5C10-45BC-9275-365095D4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8FCA-66E8-40FC-8A89-4DFCFF7A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844D9-511B-45A3-912C-434E888C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F80C1-3DEC-4159-8D79-7B4E29A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2DD8-00A7-4167-9EE1-3DC189D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75E2-54F5-4FC1-AE64-F45D7472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9C9F3-B674-46DE-8634-B3F0D4A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0284-F2E4-40A0-904E-B36555E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A6E93-FF4F-4DBE-A2C5-8BE2DCE2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E79-9402-407A-B128-782D2205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5A166-9A3C-4855-88AB-A2981FB1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92F85-B660-4023-8F8D-CE260670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B8835-7239-483D-B5AB-26E26190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499D-53CD-4DC5-8EBF-F5EBDDE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65D0A-D9C4-422D-9E7B-FD8E4912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44DE-AE32-47D5-92D4-5F54AE06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93D5-BDCC-4456-9B84-2F64AAC1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1F07-9246-4755-90DB-1FA331D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D998B-B095-4433-B1FE-FD6274DC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F053F-62C3-4DC1-A929-193C5DE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9CD-26B3-4093-B657-572CDE5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8CF3-DA82-4C9B-AB0D-29108112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FE6A-B537-43BB-BCEC-FFBCE1A1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FF51-E053-4CBC-A162-96C7DCA7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C063D-89DD-43C0-8E84-F9A5599D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9EC1-6A39-4B07-AF0D-3F2DFD08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77A07-88C0-4471-91EF-AF8485D5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52AEE-B23A-4162-810D-B9391CB6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1978-19D1-42D3-BBE0-27216B69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BFBB1-AD68-44E4-A88F-5B14BB6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F2C5C-382D-4060-B0F3-3137FE3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DE7-3659-4ABE-BF05-EACD3359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DBCF-9E60-43E0-967B-0A351F5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D89F-E269-44C6-BEA4-385EC5B2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7AAD-1B06-45C3-AB24-AD1A8D3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3D395-F49B-48FC-B2DC-D17C59EE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D49A-3B5F-425C-88DD-018D56FA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E2CB1-CDB8-4C2E-9238-0F656EFC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2DE0-F8FD-4F89-8077-BE738C3F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462A9-5599-48F4-9C13-45789A6C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08323-AC55-4B12-977D-A2E6763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E227-594A-40C9-BEAC-517B65C5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521-BE37-437A-891F-3D059947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4A79-657E-4803-8626-CA067169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FE6D-E762-480A-8E89-AEB0C0FE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07310-3501-4272-A68B-7CE95BA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2C58B-1D2F-4AF0-B332-DCFC05C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20A7A-8805-4AA6-B6A2-77D039EA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5CECC-147B-42E4-BC77-525DE88C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8CB4-BD31-4668-A39E-0E1F2CB7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47140-6BF2-4305-ABDD-A7CB0A2C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841C6-1818-4E7D-89F9-0A849BB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67D03-C766-49E4-86DA-CB80479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BEE1-E2EE-4630-851F-6FA6482ED20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D517-0EF3-4709-8CB7-C491360D0F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21D3-3E57-4116-9BF3-4056472605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8FF-D1F8-4D5D-B4A1-77810BD6B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EE49-80D5-4710-B5FC-D316E2785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A6D6-E7BF-4792-8226-60D38533B1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AEEB-D785-403C-802D-DAD422357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BA06-1BE0-4C93-964D-432601C8FA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1E7-0A90-4E9D-9589-B91571D85C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4A78-DC87-4E7F-A03D-E216E1B083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C536-6DD6-4191-A604-881F44C5B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62A6-BFFF-466D-BC47-98F20085870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5DBA-2CAE-494C-9937-BCE576825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C9B8-4BCE-4AB0-952E-AD02A9EB8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0F3-54C1-4A82-B031-AE38AFDFA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D218-62C9-4D36-A956-28C8CE804A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0B36-6D6A-4493-8337-56313E1E6B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81F0-F8E0-4B31-94ED-470F6C11F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6D7F-FFDD-4147-9DF0-7506C7A94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5FA7-6CDA-45E7-B483-1464D254E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F3BE-E788-4063-B4D1-CB44466C0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7A0-F525-45A3-B517-6979DFFC1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1EB9-C435-454D-ACF2-A1260BAE9E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7349-EAAE-403C-8FD2-3B61497DC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7371-4161-464E-A855-407109403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8058-ED78-48B7-A311-91F36824DE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tržby,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provozní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1 – Tržby z prodeje dlouhodobého nehmotného a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náš DHM a DNM, který prodáváme např. z důvodu nevyužití (pořídili jsme nové auto a staré prodá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podnik. vozidla – 3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stroje v hotovosti – 2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42 – Tržby z prodeje materiál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v případě prodeje materiálu (např. z důvodu nadměrného množství zásob materiálu, nebo v případě, že přecházíme na jinou výrobu a tento materiál se stává pro nás nepoužitelný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materiálu – 3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materiálu v hotovosti – 2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4 – Smluvní pokuty a úroky z prodl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fakturujeme svým odběratelům smluvní pokutu a úroky z prodl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za nesplnění podmínek vyplývající z kupní smlouvy (např. neuhradili včas naši faktur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Smluvní pokuta odběrateli – 311/6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6 – Výnosy z odepsaných pohledáv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í se zde úhrady pohledávek, které již byly odepsané (v minulosti jsme je již zaúčtovali do nákladů na účet 546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odběratele – 221/6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8 – Ostatní provozní výno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účtujeme např. čerpání dotace na úhradu provozních nákladů (dotace na mzdu absolventa), výnosy z prodeje cenin, přebytky zásob při inventarizačních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bytek na materiálu – 112/64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Dotace na mzdu absolventa – 346/648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Smluvní pokuta odběrate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Dotace na mzdu absol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Prodej vyřazeného au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PD – Prodej materiál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27Z</dcterms:modified>
  <cp:revision>24</cp:revision>
  <dc:subject/>
  <dc:title>Účtování výnosů</dc:title>
</cp:coreProperties>
</file>