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40FC-919F-4236-809C-671C5C79BF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21C6-543F-43DD-8D35-2784053DF84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0F33-74AB-4958-B79D-FC02973DD21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FC96-9B28-4455-AC12-D393C2C863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BCFE-B838-4AFB-A47D-19DCBCD775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3F33-3D9D-41F8-97F7-25D750B6DA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49D5-C15F-4E0D-83A6-AFE9370AF0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98A2-32D7-4C57-8508-D6A52826BB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A9D-11B5-4A4D-9AB3-B71B4DF73E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ED2F-A12A-4B13-89C7-0E6C71BDFB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EC33-1EB0-44C5-9942-272CD32EF1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5BD-5FAB-419A-ABA1-C5F42B5C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60B-D8D6-440C-8765-5E348625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450-B7E2-42FF-8753-1BF789DC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D2F-61C6-4305-8A46-DF7EDDA5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3AC-B364-4B37-96E3-295F35A4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F40-14BC-4254-89D3-0A9C9A88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BE0-F5A1-4C06-8B25-A3BB9B9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67B-6105-42C2-80DB-FD6B082A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442-0AD6-4174-88E4-8B5FB1B8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166-75B5-4817-ABD3-64FF68D2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43F-8DC6-41E6-803C-13AA6B2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B48-AD27-4DFC-8BE1-4A17B044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4796-C235-451A-9467-9DAAB2E0FA5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úroky, kurzová ztráta,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finančních nákladů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61 – Prodané cenné papíry a podíl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pořizovací cenu CP v případě jejich prode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úbytek CP v důsledku prodeje – 561/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62 - Úrok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o úroky, které účetní jednotka musí uhradit, například úroky z poskytnutého úvěru (pokud nejsou součásti pořizovací ceny D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 – 562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3 – Kurzové ztrá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ztrátu, která nám vznikla v důsledku pohybu kurzů Kč k cizím měná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íváme pokud máme valutovou pokladu a pohledávky či závazky v cizích mě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alutové pokladně máme 100 Euro, při kurzu 1 Euro/25,70 Kč. K 31.12. kurz dle ČNB 1 Euro/25,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zaúčtujeme násled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kurzová ztráta ve valutové pokladně – 563/21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68 – Ostatní finanč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platky za vedení účtu, za jednotlivé transakce, poplatky za odeslání Vbú, za výběry v hotovosti z bankomatů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bankovní poplatky – 568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9 – Manka a škody na finančním majetku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kladní schodek, který jsme zjistili při inventarizaci, či škody na finančním maje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 – 569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Poplatek za odeslání výp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27:15Z</dcterms:created>
  <dc:creator>Ing. David Holzbauer</dc:creator>
  <dc:description/>
  <dc:language>en-US</dc:language>
  <cp:lastModifiedBy>Igor</cp:lastModifiedBy>
  <dcterms:modified xsi:type="dcterms:W3CDTF">2014-09-13T15:45:10Z</dcterms:modified>
  <cp:revision>15</cp:revision>
  <dc:subject/>
  <dc:title>Účtování nákladů</dc:title>
</cp:coreProperties>
</file>