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8F82-7036-4BD0-A3A4-77D1F6EDD8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0541-5635-4C9E-8E3A-EBDDAB809C0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6EAB-EE5D-43C8-ADE3-D940E4E6933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1201-E4B6-4034-8EBC-0995702E47B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18F5-4D4D-46B2-9D08-7FE69A0E8E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5A57-3C24-4B5D-A40A-577015BA4F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9B1B-8805-42A4-94C7-5A687B4A04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8DCF-E3C0-4EB0-B05E-377AAD70A4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B6E5-A6AF-43A4-9A3F-A176711A38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D13B-BF50-4FB2-8798-E730A9321F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61E0-E6E0-4257-BA69-71CCE16E4C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777-594C-4A22-88AC-1AC39A45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860-1506-40B0-9AB9-05CB2575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830-FD50-4468-AA43-44E70F4D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5D1-1AA7-4836-8B1A-F1105AB8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E40-8A1F-4F38-AA54-A8F52844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7A9-CED2-496F-A7B8-8FCD0684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299-5ACF-4891-B4C3-36FA4B6C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63D-BC4D-42B4-80B5-0D320983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435-19D2-43A6-A4C8-2F32CA09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28E-F07C-4E43-A452-6E0700C9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94E-F56C-4805-82B9-5D315354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3CC-0D5D-450A-8D12-58CA6179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D472-6AE6-4641-B9FE-95EEE11B36CA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dpisy, rezervy, opravné polo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sk.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51 – Odpisy dlouhodobého HM a N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 zachyc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čet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pisy DHM a DN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výrobního stroje – 551/0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zřizovacích výdajů – 551/0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2 – Tvorba a zúčtování zákonných rezerv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tvorbu (zrušení) rezerv, a to např. na opravu DHM (od 2. odpisové skupiny), dle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na opravu střechy –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 (po opravě střechy)– 451/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4 – Tvorba a zúčtování ostatních rezerv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účet používáme pro tvorbu a čerpání rezerv, které nesplňují podmínky Z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opravu majetku, který se nachází v            1. odpisové skupině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splatnou daň z příj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záruční opra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na opravu počítače – 554/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čerpání rezervy – 459/5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8 – Tvorba a zúčtování zákonných opravných polože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zachycení tvorby a zrušení opravných položek k pohledávkám (viz. neuhrazené pohledávky), které splňují podmínky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Tvorba opravné položky k pohledávce, která je 6. měsíců po splatnosti – 558/3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9 – Tvorba a zúčtování opravných polože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zachycení tvorby a zrušení opravných položek k zásobám, DM, pohledávkám, které nesplňují podmínky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opravné položky k materiálu – 559/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Tvorba zákonn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pravná položka k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výrobního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účetního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Čerpání zákonn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17Z</dcterms:modified>
  <cp:revision>18</cp:revision>
  <dc:subject/>
  <dc:title>Účtování nákladů</dc:title>
</cp:coreProperties>
</file>