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8D6-79ED-42CF-A660-6D17BEE55E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9336-1FB9-46B9-965D-5E9941DD30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803-6ADF-4C5E-8D0A-2921802D04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76DE-C5C2-4E7D-81CA-5C4F9CC176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24AA-E694-4DE2-90CF-2FEDC86F3C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936-2100-4422-AB7D-A24F489F17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014-222F-4E96-BA62-3C036DAB68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F862-E06E-4C26-9DBD-2ADAC1E653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E308-FD32-417B-95B7-4F56164465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6380-3723-4644-9ADC-8F0D00747F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9C4-D975-4B6C-A048-884B4AAB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87F-98E3-4CEA-A5AE-14CAB30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307-59FC-4BB6-8C0D-E7FD3A29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520-8277-4D6C-AAC6-0B2E3B3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A22-01AE-4E66-8011-3A0E0B7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CA5-B969-410D-AAEE-5D970FEA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634-ECA5-419B-BFA8-FFC43C7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0C6-C615-43A1-AEEE-24CE22DE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B06-B495-4FEE-BFFE-1D0B9671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02F-76E3-4CE2-87B4-9DAA684A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816-A876-4633-81AE-F3C04D0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CCB-B364-4268-BE7C-892D942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951-2DE8-4E44-994C-C963729D702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opravy, cestovné, služby, re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11- Opravy a udržov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veškeré opravy a udržování (například opravy DM, vymalování místnost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počítače – 51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2 - Cestovn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áklady, které jsou spojeny s uskutečněním služební ce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zde např. jízdné, ubytování, stravné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yúčtování služební cesty 512/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řípadě, že zaměstnanec obdrže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zálohu na služební ce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3 – Náklady na reprezent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výdaje za pohoštění (občerstv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uplatnit odpočet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Nákup občerstvení – 51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8 – Ostatní služ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oštovních zn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inz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fon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obné technické zhodnocení u D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jem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i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PD – Úhrada nájemného – 518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Úhrada inz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Pronájem kance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poštovních známek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Občerst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42Z</dcterms:modified>
  <cp:revision>17</cp:revision>
  <dc:subject/>
  <dc:title>Účtování nákladů</dc:title>
</cp:coreProperties>
</file>