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AAAF-A3B2-4469-9DF0-545B76E2C46E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EC68-38A9-4C78-8BE2-6B5B700D866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8E96-3C60-49EE-8F49-2A16DE68667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9413-98A3-4475-9E3E-DB562507955C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FCD6-2D7D-4259-ADC8-3B763C93C271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557F-AABF-4496-8C43-FAD9A85E0F5E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A833-2511-4900-A4B3-FDED7F75F20C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C141-A120-49DB-BB12-FDD8F5560F5C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850B-9CB9-420E-8E22-4E061FAE1C9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2279-0DB8-40FD-8B6A-86FB936E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2671-9903-461E-82E0-97CF77CA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1EDB-A598-4ED8-9058-91BE613F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47F1-E305-46BA-9060-ED69BDA7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F102-36D3-41BC-8A66-A5106420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3469-3A70-43A2-BF6D-15DBB75C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A087-2010-45BE-B628-2F1B553B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4FDC-8AEC-4A54-88EC-F9C63B03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BB4B-CD0F-416A-A79C-8E3D4D34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1B9D-FA77-47E3-A294-0570EEFB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FB02-0BCD-49AF-8059-B44B2F25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9DE3-68CC-4E65-ADA8-4564A7B0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059C-61D5-4B8F-803B-58FD1E03FD7F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</p:pic>
      <p:graphicFrame>
        <p:nvGraphicFramePr>
          <p:cNvPr id="54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722600" y="365040"/>
            <a:ext cx="6779880" cy="81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Změna stav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Účtování provozních výnosů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80600" y="4352400"/>
            <a:ext cx="645012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Účtování výnosů – učtová sk. 61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9900"/>
                </a:solidFill>
                <a:latin typeface="Garamond"/>
              </a:rPr>
              <a:t>611 – Změna stavu nedokončené výroby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a tomto účet evidujeme přírůstek a úbytek nedokončené výrob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dokončená výroba – jedná se o rozpracované výrobky, které ještě neprošly všemi stupni výroby (nenachází se ve skladu odbytu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přírůstek nedokončené výroby 121/6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úbytek nedokončené výroby 611/12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9900"/>
                </a:solidFill>
                <a:latin typeface="Garamond"/>
              </a:rPr>
              <a:t>612 – Změna stavu polotovarů vlastní výroby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tomto účtu se eviduje přírůstek a úbytek polotovarů vlastní výro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čtujeme podobně jako nedokončenou výrob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lotovary můžeme prod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přírůstek polotovarů 122/6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úbytek polotovarů 612/12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613 – Změna stavu výrobků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tomto účtu se eviduje přírůstek a úbytek již hotových výrobků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přírůstek výrobků 123/61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úbytek výrobků 613/12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Zaúčtujt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Přírůstek nedokončené výro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Úbytek nedokončené výro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Přírůstek výrobků na skladě odby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Úbytek polotovarů vlast. výro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ng. Pavel Štohl – Učebnice účetnictví 2. díl pro střední školy a veřejnost, vydavatel vzdělávací středisko          Ing. Pavel Štohl, 2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8:22:54Z</dcterms:created>
  <dc:creator>Ing. David Holzbauer</dc:creator>
  <dc:description/>
  <dc:language>en-US</dc:language>
  <cp:lastModifiedBy>Igor</cp:lastModifiedBy>
  <dcterms:modified xsi:type="dcterms:W3CDTF">2014-09-13T15:49:12Z</dcterms:modified>
  <cp:revision>19</cp:revision>
  <dc:subject/>
  <dc:title>Účtování výnosů</dc:title>
</cp:coreProperties>
</file>