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025E-3856-4DFB-92B0-B46D14926BF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93EA-517A-44C3-BFC6-9BEBF3EDD05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A528-1BC4-4BDE-A81A-099B7F698C9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0EB8-82AE-4B83-96BF-392764A3EB3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A5C4-1B10-41A4-9A9E-1121FE37D37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D1F1-B871-4C67-BEE7-B71289E5CD9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1DA1-27B8-4689-B4F9-E0BB3ABA772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00F5-E1C1-4D7F-991F-11770C2CEAE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4469-DEFB-4964-871D-12183C484CD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323E-3A1B-4E8C-92E9-098FE13CA4A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D74E-523A-44D2-8555-6C20221C4EE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DF15-DF31-4D89-901B-27AE9AD5F31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7F7F-4A77-4C1B-B308-B28AEFC23C9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750D-488B-452C-9AF1-8F28930E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1E5E-2810-47BA-9767-E848F264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97BF-2E3B-450E-8365-8B3908C85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F721-0EF4-4EA0-964B-5E615A812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80F4-1680-4B6E-A08D-A1D24F49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63BD-D897-46F2-8918-A5BA2A6D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70EC-27DA-4047-9AE0-0BE45EA4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799F-A71D-44C1-B373-12AAC6BE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8C95-7F11-43DA-AA16-D350D428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F6D3-693C-419E-A8E3-143271D4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8889-E178-4FC1-A6BA-92CC86F8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521D-AAC8-48A0-B026-881F5D0A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3E0B-E32D-43AF-8F00-549C020DDC4A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</p:pic>
      <p:graphicFrame>
        <p:nvGraphicFramePr>
          <p:cNvPr id="5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28 – Ostatní sociální náklad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např. příspěvek na stravování, který převyšuje 55 % z hodnoty stravné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vydání stravenek zaměstnancům – 528/2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Zaúčtujte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edpis hrubé mzdy zaměst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edpis hrubé mzdy společní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Zákonné soc. a zdr. Pojišt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íspěvek na stravování do 5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íspěvek na stravování nad 5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Ing. Pavel Štohl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08160" y="365040"/>
            <a:ext cx="6404040" cy="8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, hrubá mzda, sociální pojištění, sociální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Účtování provozních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5960" y="4352400"/>
            <a:ext cx="609264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 nákladů – účtová sk. 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21 – Mzdové náklad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přiznanou hrubou mzdu (zaměstnancům) ze závislé činnos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Hrubá mzda zaměstnanců – 521/3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0033"/>
                </a:solidFill>
                <a:latin typeface="Times New Roman"/>
              </a:rPr>
              <a:t>522 – Příjmy společníků a členů družstva ze      závislé činnosti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přiznanou hrubou mzdu ze závislé činnosti společníkům (pracující ve společnos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hrubá mzda společníků – 522/3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24 – Zákonné sociální pojiště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zdravotní a sociální pojištění, které je povinen hradit zaměstnavatel za své zaměst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edpis soc. a zdrav. poj. – 524/3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bú – Odvod soc. a zdrav. poj. – 336/2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25 – Ostatní sociální pojiště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např. příspěvky na penzijní připojištění a zdravotní pojištění, které zaměstnavatel poskytuje svým zaměstnanc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330033"/>
                </a:solidFill>
                <a:latin typeface="Times New Roman"/>
              </a:rPr>
              <a:t>526 – Sociální náklady individuálního podnikatel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í se zde náklady na zdravotní a sociální pojištění podnikate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nto účet používá OSV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bú – odvod zdrav. poj. za OSVČ – 526/2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27 – Zákonné sociální náklad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ento účet účtujeme náklady, které byly vynaloženy za účelem vytvoření pracovních a sociálních podmínek a péče o zdraví zaměstnanc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ná se např. o příspěvek na stravování       (a to do výše 55 % z hodnoty stravová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vydání stravenek zaměstnancům -  527/2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7:34:59Z</dcterms:created>
  <dc:creator>Ing. David Holzbauer</dc:creator>
  <dc:description/>
  <dc:language>en-US</dc:language>
  <cp:lastModifiedBy>Igor</cp:lastModifiedBy>
  <dcterms:modified xsi:type="dcterms:W3CDTF">2014-09-13T15:46:55Z</dcterms:modified>
  <cp:revision>16</cp:revision>
  <dc:subject/>
  <dc:title>Účtování nákladů</dc:title>
</cp:coreProperties>
</file>