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7265-F5CA-4E36-AE42-3501DC5419C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05CB-3139-4C7E-AA08-6A241D9873B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DC6D-3492-403F-B75B-E8D6378E785A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9F2A-AB84-42F9-AC8F-2ED38AF2A7B0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4C55-0153-49D0-8C25-4BDF1307B004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7ABD-2E93-4F9C-97F8-CA91752430CA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AA28-5FCA-4A1C-A4DD-FCC6B9741A1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9F5E-F06A-49AD-B57D-F84A36405176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C2CE-90D3-423F-8167-97EEB8F4827A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EAD9-D2CC-49B4-9DC3-D05A8EC206E9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8E9D-75D8-4AD9-8B81-05E1B6A05452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625E-3EF3-4759-80A7-1CAD246F351F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D426-E09B-40AD-895E-380AFC061A79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E911-216D-46C8-B73B-B06722D2D4E3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20F-B52E-4902-8F46-461BFED8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7EF-1FBF-4662-96FE-3E9AFCA5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D32F7-D614-421B-8F29-7ACC33B7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A77B0-A206-4993-827F-380543C8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06827-2BC4-431A-861F-7E6E0BDB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D044D-E920-4F44-976B-007C9864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9F1C9-152E-46F7-B66E-43C8EC9A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85FFB-B15E-42BB-98C8-8D8ECB59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D85CB-980A-4C28-B0B2-AEC05892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3E960-5570-46E4-BA50-E8810CD3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B365E-70EA-4276-B956-7F7A0FC4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4CCA0-D1A4-4484-8379-7AB9B9EE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651-7F4B-4F7B-94DE-73FEB4C0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C84F3-E8C9-4D72-B54F-3277DFBF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0FD73-759B-46B9-88C0-F16252A8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386FF-D803-4877-B0F0-991F4504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4C008-F37E-4FA9-A49D-6DBBD37F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AA2A3-AF93-4C1C-859E-1AFCC91C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2DD0D-5621-4ADD-BB5C-43C34793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1261E-764B-4ABB-A59A-3E1F1964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EB215-91C3-4277-BD5F-09C9E159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4A22F-E0A9-4DC4-9F15-5D6DABBE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A7370-9BBD-4B79-B1CA-2C3597D3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742-4F83-4D5E-BCE5-CB744CE9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9C0AF-8444-49E8-B457-DB3D7D7B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0EE23-77DF-4093-A9E9-DDF9C6D6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98B9E-071D-42AB-B082-193111AF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EED13-12B0-434A-97E3-8BF4B7FE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0CDF2-220C-4E12-95BF-322DAF7A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C6A2C-CA04-4430-AA34-5079C7B6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429BE-2422-4C45-A5E1-D26BC780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73A03-F4CC-4EA0-8EB9-65CB3645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EC8C6-86C5-4068-A589-1D0BC62D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7A7F2-B01F-49CE-A099-025E2AC2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B6DA-0490-46EA-8B10-3E0D8511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36DCD-EFE4-47B0-A9D4-264A1394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BFAFB-FEC8-41B0-9143-03E0AA7D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B87CC-8345-4BF9-B698-63D21206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1FE48-934A-48E4-9516-E33547A5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4AAB1-9F74-4BFC-822F-60591346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85DF8-821C-4693-8939-2503B5AC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E7826-2135-4A9E-A6A0-C1DF7EA5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7C758-000A-4DFC-B135-0A1E8C8E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7858E-36C2-4F41-AAE2-D28C6B18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3BFB4-6D21-4A42-9E40-F16621C1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8EE4-4A5F-4BD7-A59B-6A959147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6152D-8C58-4F0C-8295-3D7DE87F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F74A7-49BB-458C-8D3F-CAEE036A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99ABD-1142-4619-BF83-73D19614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223BB-BD57-4608-A90B-73B7D593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385D9-28E7-4AD8-835F-42720B84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81B44-923A-4FF5-A5E1-EEED14BA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C7403-AA49-4E01-A4E5-2E80F0E6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4D3D6-0A31-4659-9AA1-82EDD734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A6A43-8106-49DA-921A-967D04A1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4E1B0-8DFA-44BE-B95B-84375C47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61F6-D464-4656-91DF-5EAFBF90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832F73-748C-47CA-B158-D6E67BEE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29B31E-EA39-4622-8E01-120EC057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B83AF-D577-450C-93AD-62CC7532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71136-4143-47AA-A8DB-AA261F0A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FEB23-49CB-4D5F-860E-27D0B4DE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5D752-CD99-45A8-8CF6-EB15BB7B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5FBB1-EB3C-4C1C-99B2-D685FC8E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D19D82-A857-46C7-B72E-E79B81A8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27F111-1AB7-4219-B6A9-E66C5C45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6A914B-2691-4A15-BFCC-C4C4922C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D482-D3D3-4258-9DBC-25E0F697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8C9D60-2093-4874-9638-DB72BA03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03A10F-EEBF-4260-9678-8BD2322F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C9ACD5-13E5-4864-BA1C-7BE03AF5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2667CC-A38D-49F6-BCE8-497B21CE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0C9AC4-2CA7-492F-95DD-286DE1C4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038F43-0E29-4771-8618-4105BBFE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BFAE8A-FD0B-4E4A-BD22-E5E75625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5F9706-2270-4967-9BA9-85348EBA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1A3818-F7EC-4FAC-B3FB-2FB3FD3E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1E720-70A3-4A67-8C38-F7FDAACB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4655-5FDA-4A3F-B1AC-742B8D03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69842-606C-4673-AD50-94ED24B4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35B2B-4C3F-4EFB-9B3C-31623480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0FCAE-41BE-400D-A225-6623E5D3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2B6E3-B89D-4F3E-B682-3B3F0552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6C3C4-946D-4682-897C-A1E00D64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C33DB-0103-4620-BB84-3F86D465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E3751-0791-486C-BB49-3E9CEB8D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C2775-0382-42B1-A08D-1F7056F9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B7600E-F711-495F-B98D-A8C7F95C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C3932-C89F-4F74-B177-1E79EB34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086D-D6F6-4599-8012-2CD4BBB6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23D41-F9F5-4E48-AD8F-02255F3B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07B8B-ECAC-4C33-99D7-06181939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BEC402-60FC-491D-90DD-B59FC38B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DCFAF-F7F5-4840-8560-5CF25AB7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2A9D10-5108-415C-9430-2996A959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A333CB-684B-490B-BDF7-A299D0E5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91A8B-0D10-4C93-85DC-63F705C2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8AEA9-3791-48B3-B47C-B54EEC3B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70267-D340-4A83-B956-C0E28728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DBDDE-5F90-4E57-BB73-4AFD051A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8BFF-8883-41F1-BD61-40E80719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26ADF-CA15-40EA-8ADC-22AB5406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3C72DE-180C-4B64-916A-947A257E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7E1F3-7E55-470F-8BEF-1A677818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05723-1E6C-4851-98E8-C581B973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000A8-0104-462F-A8DB-61938260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374A8-AA78-4A0B-BDB0-28ECD837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621D91-C0CA-4ACD-A45D-DBD58F54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AE56A3-E530-4A66-9A62-DEE4B8DE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B50EEC-9585-4591-8477-D9693195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6DD121-68EA-4561-B930-B7106544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7B5-DE88-4BA3-8D85-26FA945A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992F-FC41-4ED6-AA96-5AD6BB56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59BA7-6DA1-412F-A930-7CA593B7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6ACFF-33D1-43A6-A9C3-7AA940EE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65BDC7-4C4B-4C6B-81FC-F60E79E1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1B049-669D-456C-8AA6-F368555D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8F70DE-7C49-48EA-A39B-0EAB5D92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A00090-2179-4A54-B68F-DD211214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5D31CC-96DD-4692-B28B-8D5F8EF8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DB0ED-7548-4431-AEFC-53AC9837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E082A-74CD-4512-B9EE-5C202D4E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6E02D4-FB9B-40E5-83CE-24ECD5F6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715C-8B1D-4E55-BDC5-45B2FF4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A4AE4-8CAE-409B-AA84-65D1FE5E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3E6FDA-6932-434D-B09C-DBAAF934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E7333A-8EFE-4FCA-BA03-0A144ED2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7C7632-39B3-46FF-9322-E3E6AF45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0E7A0-2582-4BE9-997F-6BA33397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24A27E-0F76-481D-85F5-B61B422E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F676D-4021-4AB2-852D-5E0D0847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32301C-D372-491F-9A7B-CE210534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7A0A7C-6E22-494C-93D2-63BC0C40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57803F-2AD8-48A0-AFFB-5D68F755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0F52-2519-49EA-8E3F-CF142B09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B1203-7594-4CDC-80BC-074426B5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31A0B-B053-4CC9-B226-23BFCB51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F6BE36-5A5E-4943-B08E-25563C1C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CD3652-2507-4204-8ECC-7FBBC2BB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8914F-00D3-4FBE-A0F4-70E25E22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289B08-2454-4E0A-8789-935460EC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810DC4-6CBA-4917-BED6-30775D8C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BEC7EA-78EA-4FBC-9025-E6812114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AB161F-C8A6-4EF3-B24D-17F5ECBB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AAFC2D-9BF7-41E6-8E9B-58ECB797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B863-AD91-48DF-8672-A64131DC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64225B-64F2-4C07-8BB7-A045BB5F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BAFE06-521F-4C18-A141-CA29DC9B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D46619-3B2B-4A63-BFAB-73D9BC37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2E5CFC-8C5B-4224-9E2D-D6D82F5B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3DDBE9-35AC-4546-ABEA-276A8E10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2E4FDD-5C45-419F-97B8-83F8A60C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4BA92A-E95C-42D7-BDC5-EB16A8DC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F7B133-AFE0-4AEE-AD80-BC189F38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E250B7-F216-4179-93D3-1CFF0802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85B619-C47A-4EE2-A1A6-FF0964CC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AB02-0039-4509-A0F4-76BFE0CA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49917C-43CF-4EE2-BD38-885834CE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2AE0A7-D8F8-4BAF-84BA-03CBAF56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338EFF-006C-473E-9F13-CDE41DE8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041EAD-FA7E-471C-AF5C-1C78F009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67334B-463F-4D8A-B918-21285842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8066B7-7B45-4CD3-B555-4B74ABB9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A92A23-BE58-437E-A1EF-2961439B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19F2D8-D4A8-4F7F-9362-24A4161B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5D1007-E273-4529-8096-63E3B4DF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52E64D-223B-4052-9FCF-9B7A16A2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510EF-3C3E-4427-A11E-B978716A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63D68-56F9-4C41-9244-1B613251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14426F-266A-446F-BA26-3FD68161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5D055F-D062-4EBD-8F65-DD8FA65F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1C512F-2123-417C-8512-E3E84E4D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FCFE0C-88DE-4AE2-8447-05AF7322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0B1758-683C-4003-B45A-1AD5C172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9CD922-517A-43A7-AC37-057DA0C2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22C34E-6B0E-4703-979A-993C1094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63063A-F332-42E8-A24A-E8840563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0CF2FF-AEBD-466F-A80E-33EBC6AA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EDE63-E9AF-4D82-8C2E-AA3C83AD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E34A5C-FCE2-4217-964D-A7F8B65D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8D1B86-4EFF-408A-B165-D6014AFC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1350D4-286B-4A69-BAEA-70F9583E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410B52-DCE6-440E-B9D7-71B3C154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74B9E5-F747-403F-8527-D367D5F4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0B01FC-9950-4982-A1AF-54E04D7F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988C78-F0E5-461C-9138-92E79E5A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3D4CD5-8B8B-4AA1-A6E3-96B37C71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6E81FE-FA50-4C8E-8660-A1B5DF55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911032-7556-46F9-96C5-FCC9AEFA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5959C-92CB-4F80-A7C0-A865E16B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4CAA04-47E3-470B-A944-78C7F881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6320AB-6E2F-4871-A7F5-5F141C92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67EB08-5DBA-4857-A840-0EC34047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18EDDB-2AD8-42ED-99AD-DDB641F8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81F862-FE31-4CB9-A45F-383723C4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CA2869-3503-4C0C-B5B1-9CB468FF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05B4E0-8A4E-47DB-ACF1-4B7C88B9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9682AF-2A48-4787-8D71-A25C48EE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B65D96-7B8F-42D3-9DBB-2231D2ED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EF7B91-9113-46DE-9AD5-E60757B7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6FFA5-BB08-46C8-960B-26E804EE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22D4AB-5AFD-45BF-AC3A-4E4B278E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740834-ECDD-4DEF-80B8-863FB83A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B8CDA0-AD78-496A-BE76-8EFA0762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827CF7-8F29-479E-881E-3B096C39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412D44-2E88-41EB-ACD1-2F1C833B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CE3E53-AEEE-4F26-8B9D-EAFDB8AE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FC7A3F-614B-4DC1-BED9-CCA4E299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8BACF0-5D02-4A97-BD47-F2BAB976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41022E-A9EA-4E6D-BCF1-D0AEFF42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B57F25-2020-4A78-A2D4-B12C9F04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3809-327F-4E47-96A8-73FB1357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B5D8C5-D0BE-4D4F-B2EC-5F7F9F35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CD0DC9-FC9A-42F9-951F-4FA95558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2CDD4F-1403-48B3-9A0B-B88E0731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5FDD4C-F19A-488F-99B6-9F3F5DC7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9A3858-DCDA-4795-8F73-B4AF72B6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6E5F27-A975-45BF-96A9-671F14FB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5093CE-E625-41E1-940F-94B6B34C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9A737F-73BF-431D-AB52-3A54B7D6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D76D6B-8E36-4806-B6FB-40FACA01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58FBA7-182D-4CCF-9A78-8A1CF218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21F-7AF2-4EBD-BF76-4AF5ECD8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6078-F74A-431C-B607-AEAC1C9C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370244-B118-47C7-A7A8-B6943828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E0DC5E2-49ED-44CE-84AE-A167E112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B2B42C5-FE1F-4E3C-BA7B-BEBC78F0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3B7071E-D22B-4DC5-9F8E-4A537F65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65BDB0C-3858-4AEA-8915-93C77A62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099A558-0E4D-4DD1-A16A-B2B7BCAA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16D9C7A-F198-41FA-BC81-6718A6FB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23CBB6C-CE48-41B1-BDEE-658EB884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37A57EC-2133-4F30-87FA-86F62FA6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44CA205-35DF-4CE1-9520-5D9BFA51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F1FD1-C591-48A0-940A-79059044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4A37045-5F63-4C52-9AAD-9A91D4FE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D42D528-6BB2-4DEA-AE67-CA96444F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B544B48-49C1-4B93-A9BE-AA418EFD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A0B2-D7A0-4F3B-AB48-3DC94BB6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D2D0C-4E58-4225-804D-1FCA77A9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D3D15-6A04-4DF7-8013-90049A32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2E07-033B-4730-9253-E94746EA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7BCEE-C062-4621-8EFC-33FFF201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5D521-457D-4410-9478-217CF734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29E20-C5B6-4E02-B9D4-442F1317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7F3FB-990D-4765-8252-5E9DCC49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632-8BEF-449D-BCBE-D3092AD9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9B112-B09F-4473-BDF9-16F6BF9C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3E5B5-BBEC-4BC9-B70D-595B7BF9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E14C5-ED05-4486-954C-20FFC2AA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155A7-B051-44CA-9893-0F887F07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9E9B6-0D92-4243-82FF-CEC33EA7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61614-1F5A-4B02-AD7F-6F735918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062A9-53ED-4E37-AEC9-D9BC9AE7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93D49-F1F9-4C06-99E9-CEC63267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08E63-A087-4D11-97BA-4BD92381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FAC93-2CF0-4B88-A3F3-51138D1F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F379-B4D9-4710-A0E0-7C741685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F704B-AE36-4123-8EA2-F70E34E9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345D8-E11D-49C6-BD06-D5B1B92A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2BC5E-704B-4E94-B9FF-0BCE4FA7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70408-5E93-4039-8308-480849F2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CD00C-0A70-4E01-930C-FA11907E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31D14-5A05-46EF-80D4-1C9214C6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74DC5-B645-44B7-98B0-B9DFC69E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58A89-9760-4534-8448-87678AA1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31F75-E563-47AB-80AF-487388D0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DDB2F-0376-4E29-BCFB-B53B9D36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016-D264-4630-BEC3-A5CC9D21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AE5A8-59CA-467F-B9BC-EAB93C4B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D29DD-1C54-4708-9746-B9CE3783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EB1A7-9FE9-4043-B417-E50A496E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11CC3-77E9-4074-A766-6B6746AF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F61D5-5CC1-4A84-8342-75E1D26F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FDD42-0E8C-4867-A2C8-0187CE3C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FB63A-8D43-4561-915D-92C05716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D0F13-CC49-4A9E-8840-2D2C8FEA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1162C-AF2D-4CEA-8350-87CEB5EB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E996A-40B5-4BEC-BCB3-B349E283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7DF-7B6B-4E6C-AA80-9731BDDC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68265-E1B4-4D18-B1CF-50E349EF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1F414-3A22-4B3B-A83D-C2556C45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C15BF-4DC6-43A4-888B-088F3881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2A73B-F479-4469-B41D-11841D4F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48591-7685-4FF7-98D2-D73F2BB0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62B12-6206-43A0-8360-8F04304C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2A1D1-8A10-4688-A5AE-DEF38D5B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B7C65-71F3-4650-B90D-3A09CC62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7D4A2-F156-45B8-B6F8-469CD31D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15F73-7FD4-4B1C-8596-277FA6A4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DE3-A736-4FD0-8190-2FC2DE44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8A448-8169-4A3E-B99A-50F3CC9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ED3EF-57CA-4F23-9D4D-160C1129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AC903-9DD5-4F81-BFE2-115EE3DB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96E8B-B63C-4211-A92A-27B5113B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82F7A-6C24-468F-A472-037FBD76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DA0B3-B732-4DCB-AD36-006073B0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0A924-D401-402A-AA36-358E941C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62F3E-84F3-415C-AB1A-4442428C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33D84-6A0C-44D8-9DCE-4CEB281C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5EE20-2451-4D49-9187-17732797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6A7-CB6A-4C2B-9917-93B0650A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4226F-AF6C-4867-9187-8200B510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4C9F9-D613-4464-B495-FE7F6BC4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9DD87-9523-466E-9F5C-2FB68B7D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4D03E-4B77-4818-867C-ED037763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2D35B-BB43-4C8A-844F-5B9A1B63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CDD3D-B011-4C3A-9050-52CC6445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43721-F396-4F3A-BFDA-552C049A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FA5E0-57B2-4DD8-8450-2E3D4744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F6D5E-ADA1-4DB0-87F1-8DC2877F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75808-755B-4B7E-A211-6D5C3FB6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E1E5-81A4-4D2B-AA99-AB18985D341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95B7-0DB5-4813-B12D-77C7F18C52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09CF-7050-44AD-AC5B-E6FACB6DB9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D831-947C-4E52-96A1-9E4F0EE159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AA40-EE4A-43E4-945E-46834D96F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E9C2-489A-4E41-BAE4-202B75E065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0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0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0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1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1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5DFF-5BF4-4620-AD25-275C412381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6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7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7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7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8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8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9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9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9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9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0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EB46-FB03-4187-BCA9-B77F0DA81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3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1291-D948-491F-81B3-367B9F65CF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3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4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4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5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5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46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6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46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46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6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7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7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AD11-8472-4D67-9824-D93F9C62D8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2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3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3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4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4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55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5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5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5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5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5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56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C91E-6177-4BA2-B4CA-0256C62E39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6182-8AED-4903-832A-5B591D0373C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1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2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2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2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2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63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3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4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4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4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4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5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8822-08FE-40DF-BF9E-B68929ECD5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9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0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0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1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1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1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72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2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D2E0-B3CC-43F7-BC09-9231BF2FCD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1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1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0EEA-3EB6-4C0F-87AC-06A1D780D9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7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9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0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0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9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3F0F-D15C-456D-8754-5CA951C1DA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9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8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9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9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D869-249A-488F-B496-F32E1B3F39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4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5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5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5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6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6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6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07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7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7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7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7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8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dt" idx="7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 type="ftr" idx="7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 type="sldNum" idx="7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3EDC-FD28-4B85-B8EE-8657F486E2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3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4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4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14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5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5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5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6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6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6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17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 type="dt" idx="7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2571-06C0-40CC-A64D-0B27C70942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 type="ftr" idx="7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BA1C-897B-42A7-9D7E-97F5B72347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B11B-7D4A-4037-A669-686226FA47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BA2B-095E-48A5-80EE-D810028289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A0CE-9251-414C-9B1F-CCC41CFB60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3E4E-620C-4A99-BA55-699BBD9BC4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F55C-922B-4E17-A720-9B124753A6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C118-1669-49E4-B268-C5D229E9B6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225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6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8 – Ostatní finanč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"/>
          <p:cNvSpPr txBox="1"/>
          <p:nvPr/>
        </p:nvSpPr>
        <p:spPr>
          <a:xfrm>
            <a:off x="323640" y="1828800"/>
            <a:ext cx="8280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ento účet se používá např. tehdy, pokud zaměstnanci předepíšeme k úhradě pokladní schode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k úhradě pokladního schodku - 335/66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88 – Ostatní 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6" name=""/>
          <p:cNvSpPr txBox="1"/>
          <p:nvPr/>
        </p:nvSpPr>
        <p:spPr>
          <a:xfrm>
            <a:off x="107640" y="1828800"/>
            <a:ext cx="8567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omto účtu se účtuje např. nárok na náhradu škody (která byla zaúčtována do mimořádných nákladů), dále opravy výnosů minulých účetních období (pokud se jedná o nevýznamné částky)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přiznané náhrady od pojišťovny – 378/688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aúčtuj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bú – Prodej cenných papír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bú – Úroky z běžného účt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Předpis k úhradě pokladního          schod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Kurzový zisk ve valutové      pokladn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8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výnosy, úroky, kurzové rozdíly, přeceně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Účtování finančních a mimořádných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33564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tování výnosů – učtová sk. 66.-68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755280" y="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1 – Tržby z prodeje cenných papírů a podíl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prodáváme cenné papíry (např. akcie, dluhopisy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akcií – 311 (378)/6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akcií v hotovosti – 211/6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2 – Úro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685800" y="1828800"/>
            <a:ext cx="769608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ento účet se účtují úroky z běžného účtu, z terminovaných vkladů, z poskytnutých půjček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roky z běžného účtu – 221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úroků z poskytnuté půjč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íkov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– 355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3 – Ku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vé rozdí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můžeme použít tehdy, pokud máme devizové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vaz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vizové účty nebo valutovou pokladnu (obchodujeme se zahraničím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hledávky a závaz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které jsou vyjádřeny v cizích měnách se přepočítávají na českou korun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v den vystavení (přijetí) faktury dle kurzovního lístku ČNB. Pokud v době úhrady je kurz odlišný (pro nás výhodnější) vzniká nám kurzový zi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3 – Ku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vé rozdí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468360" y="1828800"/>
            <a:ext cx="791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rzový zisk může vzniknou taktéž na konci účetního období, kdy se pohledávky, závazky, valutová pokladna a devizový účet, přepočítává na českou měnu dle kurzu ČN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zboží do zahraničí  1 100,--  311/6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hrada od zahr.odběrat.   1 180,--  221/3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Kurzový rozdíl                       80,--  311/6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4 – Výnosy z přecenění cenných papír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684360" y="1484280"/>
            <a:ext cx="77040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při přeceňování cenných papírů na reálnou hodnotu (tržní hodnotu – dle burzy, nebo znalecký posudek) na konci účetního obdob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ceňování s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mic Sans MS"/>
              </a:rPr>
              <a:t>netýká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P držených do splatnosti, vlastních akcií či vlastních podílů a CP představující účast s rozhodujícím nebo podstatným vlivem (majetkové účasti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cenění akcií (k obchodování) – 251/66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65 – Výnosy z dlouhodobého finančního majetku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66 – Výnosy z krátkodobého finančního majet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yto účty se účtují např. přijaté podíly na zisk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u a.s. dividendy). Podle toho, zda máme akcie k obchodování (krátkodobý majetek) nebo akcie v dlouhodobém majetku, zaúčtujeme dividendy na účet 665 nebo 666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podílů na zisku – 315/665 (66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Přijaté dividendy – 221/3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19Z</dcterms:modified>
  <cp:revision>36</cp:revision>
  <dc:subject/>
  <dc:title>Účtování výnosů</dc:title>
</cp:coreProperties>
</file>