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E1BA-3A6A-4C68-A90B-CE983C20C3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06D5-F0AF-4E90-9A5C-E6518A3C285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5D35-E70D-45C4-AE23-AFF3AF459E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4612-C196-4EFC-8C22-5620EA65D4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697F-54D0-4742-BD95-7312EFA5D9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DCE7-6445-41FA-AD5D-36F626BC245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064E-9372-4C5A-9A1D-11E030B2A8B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B414-57E8-4FFE-B5D8-BFC2BE4919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A35E-5727-4752-9223-6B4FB9439A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57D4-5DBD-4788-B5F1-8C0B540573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E052-2AB5-440E-9C65-3ACD941693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5A90-7729-4416-BD5F-912882003C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4BCD-76D2-4E02-9D2A-83404CB509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4D87-8628-4B1C-B442-BE957B72CD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F1D-3028-4974-8BA0-EF4D4608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7F5-75D6-459E-B91B-7AFE45D8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44A-696A-449F-ABE3-8907D323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568-AA39-49B6-9AAE-86CB1E04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320-7655-49D6-9C71-843EF1BB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B3A-FAD6-4BDD-AB81-F87FA310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A96-C6F8-4831-9BDD-84A1031F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BD8-D96F-4F91-8AF3-5B8D004A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B32-FF6B-42E2-BEC6-8860BF37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F13-8432-41E3-9F85-33400A1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8B1-2B7B-41A1-87F7-F3DE4DB3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8C7-5D5E-4C9F-8CF4-47767FCE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5D5A-E20B-4D00-AFFD-FF02B8174D55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8 – Ostatní provozní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é zhodnocení u DHM, jehož částka nepřesáhne Kč 40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odpovědnosti za šk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majetk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Instalace klimatizace do služebního auta – (15 000,-- Kč) – 548/2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9 – Manka a ško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manka a škody u provozního majetku (dlouhodobý majetek, zásob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 inventarizaci bylo zjištěno manko u zboží – 549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u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Klimatizace do auta – 18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pohledávky za odběr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Smluvní pokuta od dod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C prodané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ý 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zůstatková cena, dary, pokuty a pená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Times New Roman"/>
              </a:rPr>
              <a:t>541 – Zůstatková cena prodaného DHM a DNM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C prodávaného DHM a DNM. U odpisovaného majetku se zde účtuje rozdíl mezi vstupní cenou a jeho opráv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ůstatková cena prodávaného stroje 541/0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U neodpisovaného majetku účtujem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ozemek 541/0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2 – Prodaný materiál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 se zde úbytek materiálu, který byl prodán. Úbytek se zaúčtuje (v případě nákupu materiálu) v pořizovacích cená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řebytečný materiál – 542/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3 - Da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dary, které účetní jednotka poskytla jinému subjek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y mohou mít peněžní formu, ale může se jednat i o věcné dary, např. počítače , auto, zbož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Peněžní dar zdrav. zařízení – 54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44 – Smluvní pokuty a pená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smluvní pokuty a úroky z prodlení a penále, které vyplývají ze smluvních vztahů. Například musíme uhradit úroky z prodlení, pokud nezaplatíme dodavateli včas dlužnou čás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hrada smluvní pokuty – 544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5 – Ostatní pokuty a penál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okuty a penále, které nám udělili státní instituce, např. FÚ, zdravotní pojišťovny, správa sociálního zabezpečen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pokuty od FÚ za nedostatky v účetnictví – 545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6 – Odpis pohledávek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např. nedobytnou pohledáv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Odpis pohledávky za odběrateli – 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04Z</dcterms:modified>
  <cp:revision>18</cp:revision>
  <dc:subject/>
  <dc:title>Účtování nákladů</dc:title>
</cp:coreProperties>
</file>