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7706-0B7B-4E27-8D8A-8DD8A956D9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5A1-41FB-4A74-8549-C69164FB24D6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2B8-454D-4E85-A14C-0915FDEB0131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065-486D-4092-9420-BEEC454349DF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156-1038-42C1-BBB4-095336092BAB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6CE-8319-41D7-959E-09D8949749DE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4D2F-59A9-49ED-9944-3C103E9AF0C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E80-264C-4B7B-8B00-967D307EDE34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BDAB-BD17-42CB-A750-FA2AF014B2D2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634F-2023-4BC9-86A4-69B0F2E679D1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9A66-CD46-472F-9331-4DBBC3904FEA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4CE-EFDF-4789-9B68-1B80CCD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7EB-4785-4AD2-8C97-AE75A70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C15-2247-4B0A-96A7-6CEC3B68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538-1C75-415A-8239-67A7A332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9219-722E-44E4-94D0-29618B5A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F9C1-E1E4-42E6-91AC-092714E0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43CC-75F7-4744-BE1D-341C7D4D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D9DC-849C-4A50-8399-4000296C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10C-FAEF-440C-A298-48C91653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E75F-9C32-4E0C-BD65-C6FDE74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2402-2F50-480C-B693-EC6320B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739-0C9E-40FB-A11C-A3EE98F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BB11-C088-4B5E-AAAA-0DA2C40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C8D0-4682-4BEB-8E59-1B0466C1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32DC-CA77-4B8A-B559-5D303D86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A7D8-3916-42E9-8271-57AAC677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B8F6-5972-40F1-A313-3DDF5897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E248F-EFB9-4B22-89C4-F3624BBA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B50FA-6769-463F-AD33-03EFC6C5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54800-FC36-42E7-B39E-2F846AE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DA3B2-7652-4CAF-8BCB-22A3AE81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79925-4248-42D8-A65F-E3A08D5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0A6-C907-42E2-A3B4-FE0E325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46576-D22E-4275-9CD8-ADFBCF35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5D8E4-F136-4C66-A5E3-75E427F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13AF9-6A81-466D-8F5A-74842A6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B05D8-0027-4E57-ACAC-255707D2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94918-8BB7-48F4-9D39-8678392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55529-1430-4999-9BE7-E8BD74C6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DD0E2-8702-4319-810C-F23E2C81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BAF-5263-4139-B537-CE23054B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B8A-2845-4465-BAA8-F89CB89F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5CE-1FEF-4CF1-933E-BBAD120C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061-3D1E-430F-80B3-ABA48A2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4B9-EADC-4B31-BEE3-4EE80F3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E94-FDED-42F9-AA0F-FB968FE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9EA-AC62-4D2A-9355-6D8E228D5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719-4FE1-4F4E-85A8-5E74059B82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A60D-DAF8-42B4-A7E7-7F1C3C7E0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zásady účtování výnosů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te nedaňové nákl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daňově uznatelný a neuznatelný ná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Zásady účtová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se účtují na účtech páté účtové tří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růstek nákladů na nákladových účtech se účtuje na straně MD, snížení nákladů se účtuje na straně D, případně na straně MD s minusovým znaménk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. Náklady se účtují do období s nímž věcně a časově souvisí (musíme rozlišovat náklady tohoto období a náklady příštího období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. Na jednotlivých nákladových účtech účtujeme narůstajícím způsobem. Na nákladových účtech nejsou počáteční stav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. Při uzavírání účetních knih se zůstatky jednotlivých nákladových účtů převedou na 710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čet zisků a ztrát, a to na stranu M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íklad převod účtů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1 - Spotřeba materiálů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2 - Spotřeba energi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. Do účtového rozvrhu (který si sestavuje účetní jednotka sama) si zařadíme pouze nákladové účty, které budeme v průběhu účetního období potřebovat a vytvoříme si k nim analytické úč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 – Spotřeba materiálu (syntetický úč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1 – Spotřeba základního materiá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2 – Spotřeba kancelářských potř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3 – Spotřeba pohonných hm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4 – Drobný hmotný majetek 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U nákladových účtů se musí analytická evidence přizpůsobit ZD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 na účet 538 – Ostatní daně a poplatky účtujeme mimo jiné spotřebu kolků (daňově uznatelný náklad), ale i daň dědickou, či darovací (daňově neuznatelný náklad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 účtového rozvrhu si zařadíme např. tyto analytické účt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1 – Spotřeba kolků  (daňově 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2 – Darovací a dědická daň (daňově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3 – Daň z převodu nemovitosti (pokud je tato daň zaplacena, tak jde o daňově uznatelný náklad, v opačném případě se jedná o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7. Do nákladů můžeme zahrnou pouze ty náklady, které se týkají účetní jednot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vatel poskytne svému zaměstnanci služební telefon, může mu určit limit na volání např. 500,-- Kč (měsíčně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nec tento limit překročí, musí částku (nad 500,--Kč) uhradit svému zaměstnavatel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ato částka pak není pro firmu ná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26Z</dcterms:created>
  <dc:creator>Ing. David Holzbauer</dc:creator>
  <dc:description/>
  <dc:language>en-US</dc:language>
  <cp:lastModifiedBy>Igor</cp:lastModifiedBy>
  <dcterms:modified xsi:type="dcterms:W3CDTF">2014-09-13T15:47:08Z</dcterms:modified>
  <cp:revision>8</cp:revision>
  <dc:subject/>
  <dc:title>Zásady účtování nákladů</dc:title>
</cp:coreProperties>
</file>