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8262-0733-4027-948D-E8A1BC5F4E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FE37-5FB9-4213-BD90-DE4A0819A45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A684-FFFA-4700-8C93-98BE5E6FD3D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9540-806D-45D5-AFEB-31573BA900A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D7E9-F701-4977-8166-D84696EEAA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31D5-FE27-4862-8516-9288BD5C20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AB81-1AE7-4861-842E-484FE316A5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3DB4-76DC-4B40-B58A-BD316C3CB4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BA4C-9E41-4202-9D1F-FD7DEA4C42E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FE1-0AB4-4384-8C2E-37B4D813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61D-2137-4B56-919E-774A123C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C94-47F3-425A-A1B1-FB4B3DED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1F5-E1A6-4675-A275-AE19EA92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126-5BCB-4A04-9363-45B630ED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258-C033-4F15-8DC9-477D3B04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368-066F-4DB8-A313-23513DFE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D1E7-886B-4466-86C2-802CF44A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91DB-5EA2-4392-809E-828D0124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9F9-9908-4B8E-AC51-CE4EB530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05B-CF6E-411B-9B47-D36A08D2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D3A-8CB5-436C-9938-823128B3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79C6-7374-48AE-8CD9-FD295B5BB604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ně silniční, z nemovitosti, z převodu nemovitosti, poplat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1 – Silniční daň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silniční daň, kterou má povinnost platit účetní jednotka, pokud v podnikání používá motorová vozid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musí zaplatit silniční daň i za své zaměstnance, kteří využili pro služební cesty svá soukromá vozid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silniční daně – 531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2 – Daň z nemov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to daň se účtuje, jestli-že má účetní jednotka vlastní nemovit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daně z nemovitosti – 532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8 – Ostatní daně a poplat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třeba kol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lniční znám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ň z převodu nemovit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dická da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rovací daň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dálničních známek – 538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PD – Nákup kolků (spotře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úD – Předpis silniční da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PD – Úhrada daně z nemov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. VúD – Předpis daně z převodu nemov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5:51Z</dcterms:modified>
  <cp:revision>18</cp:revision>
  <dc:subject/>
  <dc:title>Účtování nákladů</dc:title>
</cp:coreProperties>
</file>