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FF84-8951-416A-9140-71A03FEC7C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F726-C14F-404B-AFC1-7E31F2C57C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711-2E26-4BAF-85AF-E0F31B045F7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ED20-5FFD-4635-B067-29F87B5052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F7E-5CB8-4BE4-8380-6E94F4956B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C3E-7498-4701-921A-31777166B9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EE4E-6262-48D2-BA58-1DAF3921B5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E96-E38A-47CF-B0CB-66FD9D7A5D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75EF-37D8-47B0-A0A6-6568561BB7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AE30-5536-40A9-882C-1F7490B7CC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2998-6509-4039-9842-A8D3C360FA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0435-417E-47E2-B4D9-095B99E1D2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AB3-41F1-49AC-ACEB-9386AD4803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D19-6D20-4567-8800-41FAA250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B0E-A4F2-4B94-9649-2F69A23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96D-D88E-481D-A08E-443D52F4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03F-E59B-4492-B002-16D1A39C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386B-F08D-4EB5-9D11-418AC40A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7B5-0737-45A5-A9E0-6992182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8A4-E3D3-496A-A2F7-CA7BD4A1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5E1-E877-46AB-A8A7-0F206460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E17D-52ED-4D42-92C6-90801EA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ABA6-8370-4499-8AF3-51F9120D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2A4A-2DF8-4A96-9C4B-FE31F80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6F2-B08B-4AC3-BF47-AD2D21A5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F878-1107-47B7-9B4B-41D3E38B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01F1-F81E-4DAF-BC92-02758FE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5E67-368A-4320-A82F-E7CF9BF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1503-1A5C-4D67-AE2E-FC39FB8C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A92-FA1D-478A-B457-15397AF1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25C3-1388-4CCF-BD3C-1BF68FE8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BAD8-C4A9-4C28-BF3E-644B41C7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2E79-991E-4517-8078-2E72C01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0F2A-B3BB-4759-9C74-C5FCCDE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B8B0-D680-45DD-952D-43793CB4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4AC-8E51-4BAF-8B1B-C1A420E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3B84-9AC2-4177-9BA9-E81D218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572E-9335-46B8-A360-D6FAB84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9A5B-E5C1-49B5-975B-42217E5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226E-19C1-4849-920C-43A6C8A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A75F-B0FE-4EF4-82F5-29FACAA2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FE72-CA01-4342-96B8-485D1E64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65AA-9898-45A1-A0D9-4B6C0A55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B0AE-6201-4F95-88FD-0B5E2BAD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DDDD-F907-4621-B6BE-692953B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41BF-41F4-49FA-AE03-C9C98951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915-E1D0-428C-9386-6F08DF18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F302-4618-45CB-9907-241EEDD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EADC-81F6-4208-9820-439A9A90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151C-D6F8-405D-9E0F-EB827BC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4A6E-7495-49AA-B71D-8AA5700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8BBF-3C45-4950-9948-957712F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E8C49-F057-45BB-B366-C18E22B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6BD4-2317-4077-948F-F6508DFB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28E6-4D7A-4F49-B2CF-FB28D156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73CC-9DA8-4D9C-B447-2C8D22D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749E2-E4BE-4989-8518-58EE5BC7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D50-AA89-4742-A4A8-FCFB540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D86C8-E646-4444-9233-DC2D80DD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74E5A-D717-44F9-8DFD-DE65D5B4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CA9EF-44E6-46A8-9B02-83003DF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CE72A-136B-4636-80DC-64CB819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05D1F-B6F5-4A06-B1B9-3495F8FB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93CD0-A9F1-42EF-9539-BDBDA50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361CF-EF3D-421A-AC85-978BA54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E3A60-3F3F-48B6-AC22-B90C829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FE185-1048-4CE2-8DC6-0C9F2722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690C0-F769-453E-988B-8E9BCD9A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C54-F817-4B75-850E-EF25DB71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C0693-06F1-4547-9960-029418F6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0AA-BAAB-45C0-BF8E-B3034D8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7A6-BF68-4060-89F6-7E30069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C1A-90B2-438C-834C-244784D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F0BC-3B84-4184-9004-4D375F3B8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F57-FD65-41D8-A6EE-E850A10114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3BF2-8DD6-453F-AD42-8B1EDA926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EADD-755D-49C8-A68B-437F7C8AC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682E-836E-4E2A-91FA-A129FDBBE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39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dle místa vz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jedná se o členění výnosů podle hospodářských středis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to jsou 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představuj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nosy provozní, finanční výnosy a mimořádné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nosy můžeme členit podle několika krité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1. Podle výnosových druh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výnosů, dle účtové osno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dle směrné účtové osnovy si účetní jednotka sestaví účtový rozvrh, kde bude mít např. tyto skupi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 – Tržba za vlastní výkony 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1 – Tržba za vlastní výrob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2 – Tržba z prodeje služ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4 – Tržba z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 – Změna stavu zásob vlastní čin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1 – Změna stavu nedokončené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2 – Změna stavu polotov. vlastní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3 – Změna stavu výrobků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Podle vykazování hospodářského      výsled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1992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z hlavní činnosti, např. prodejem výrobků, zboží, služeb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ých skupinách 60.-6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Prodej zboží – 2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při pohybu peněz, např. přijaté úroky z vkladů, dividendy z akcií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vkladů – 21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nenadále, např. přijaté náhrady od pojišťovny ze šk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náhrady za škodu od pojišťovny –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34Z</dcterms:modified>
  <cp:revision>15</cp:revision>
  <dc:subject/>
  <dc:title>Výnosy</dc:title>
</cp:coreProperties>
</file>