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2B01-FB33-4BC9-B055-73160F1956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1805-02D8-45DD-B7A0-3A3E8E3BAA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235A-54F0-411B-AB27-1D7B31810D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B7A7-B118-414F-A3A0-3982CD0C326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226B-407F-4D1E-AD1F-093E63A498B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B56C-73B1-4C5C-B03B-F50DEB4B039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7D8-7EAB-4CE8-9709-14AA82DD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119-72DB-443A-8FD9-287EEA67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362-CB7B-46F2-B803-6727953D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183-A221-44C1-96DE-88EBDF22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F47C-BE3F-4331-AD8F-8D7DC7B5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7EA3-78FE-45A1-823D-268676DF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D823-9B11-486B-B4BC-BB94C2B8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4367-754F-4B22-8CC5-209072C2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A32C-7016-4298-A946-CAA0833D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BEF3-AD09-48A5-9E75-7D1A5184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ECBC-AD7C-4AA3-AA4C-E2F2B507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BED-192B-4AAD-84CF-00A77FB4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42B1-450D-4AC1-AA1D-C1AFB67E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3A8A-998F-4F72-9CB2-A90360F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5B0E-808D-4B84-A0BB-F9037C32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E0F6-81B6-4403-AA70-3D1E348C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A38B-FDAE-4389-B89B-36FDEF11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5C2-3A71-486E-9847-25983F46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74B-4776-4457-8A90-CCFECBBC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C15-AFA3-4D8A-865F-9C10A1D8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C78-B5D8-4B9C-AEE3-B2164A64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722-0DD6-4900-AD7D-F6999A61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677-2A30-480A-8B3C-AC12EEEE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5A1-9953-4615-A6F6-561CC8D5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2857-1B39-4E8F-817C-AF76C866A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9E20-0C5B-42FC-87B0-8757F0F3B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934920" y="165240"/>
                <a:ext cx="23180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1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"/>
              <p:cNvSpPr txBox="1"/>
              <p:nvPr/>
            </p:nvSpPr>
            <p:spPr>
              <a:xfrm>
                <a:off x="3348000" y="260280"/>
                <a:ext cx="3102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1835280" y="177336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1835280" y="263700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1835280" y="342900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2340000" y="1413000"/>
                <a:ext cx="614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3205080" y="2205000"/>
                <a:ext cx="7905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2916360" y="1773360"/>
                <a:ext cx="5554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363680" y="5335560"/>
                <a:ext cx="1468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843280" y="4917960"/>
                <a:ext cx="1173240" cy="19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3924360" y="5300640"/>
                <a:ext cx="11048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7380360" y="5300640"/>
                <a:ext cx="7048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987640" y="1773360"/>
            <a:ext cx="504720" cy="9014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440"/>
              <a:gd name="textAreaBottom" fmla="*/ 876960 h 901440"/>
            </a:gdLst>
            <a:ahLst/>
            <a:rect l="textAreaLeft" t="textAreaTop" r="textAreaRight" b="textAreaBottom"/>
            <a:pathLst>
              <a:path w="21600" h="38566">
                <a:moveTo>
                  <a:pt x="3600" y="0"/>
                </a:moveTo>
                <a:arcTo wR="3600" hR="3600" stAng="16200000" swAng="-5400000"/>
                <a:lnTo>
                  <a:pt x="0" y="34966"/>
                </a:lnTo>
                <a:arcTo wR="3600" hR="3600" stAng="10800000" swAng="-5400000"/>
                <a:lnTo>
                  <a:pt x="18000" y="38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31280" y="1916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4680" y="242100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1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5003640" y="5300640"/>
                <a:ext cx="1506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"/>
              <p:cNvSpPr txBox="1"/>
              <p:nvPr/>
            </p:nvSpPr>
            <p:spPr>
              <a:xfrm>
                <a:off x="6516720" y="5516640"/>
                <a:ext cx="871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3997440" y="256536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4716360" y="2565360"/>
                <a:ext cx="555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4861080" y="3068640"/>
                <a:ext cx="9064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724360" y="3429000"/>
                <a:ext cx="849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"/>
              <p:cNvSpPr txBox="1"/>
              <p:nvPr/>
            </p:nvSpPr>
            <p:spPr>
              <a:xfrm>
                <a:off x="6516720" y="3429000"/>
                <a:ext cx="555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788000" y="256536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342900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1332000" y="5084640"/>
                <a:ext cx="2025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903240" y="84240"/>
                <a:ext cx="2382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9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3348000" y="260280"/>
                <a:ext cx="2579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835280" y="1484280"/>
                <a:ext cx="5252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1835280" y="234792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835280" y="3139920"/>
                <a:ext cx="52704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2916360" y="1916280"/>
                <a:ext cx="64440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908000" y="4076640"/>
                <a:ext cx="263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340000" y="1484280"/>
                <a:ext cx="5842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2"/>
          <p:cNvSpPr/>
          <p:nvPr/>
        </p:nvSpPr>
        <p:spPr>
          <a:xfrm>
            <a:off x="1258920" y="465300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332000" y="5229360"/>
                <a:ext cx="1468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2843280" y="4751280"/>
                <a:ext cx="1206360" cy="21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484360" y="148428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1280" y="1773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38640" y="227664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2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3564000" y="2276640"/>
                <a:ext cx="9651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4500720" y="2276640"/>
                <a:ext cx="5857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"/>
              <p:cNvSpPr txBox="1"/>
              <p:nvPr/>
            </p:nvSpPr>
            <p:spPr>
              <a:xfrm>
                <a:off x="5076720" y="2781360"/>
                <a:ext cx="6429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5665680" y="3139920"/>
                <a:ext cx="966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6588000" y="3141720"/>
                <a:ext cx="584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643280" y="2276640"/>
            <a:ext cx="505080" cy="9014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440"/>
              <a:gd name="textAreaBottom" fmla="*/ 876960 h 901440"/>
            </a:gdLst>
            <a:ahLst/>
            <a:rect l="textAreaLeft" t="textAreaTop" r="textAreaRight" b="textAreaBottom"/>
            <a:pathLst>
              <a:path w="21600" h="38538">
                <a:moveTo>
                  <a:pt x="3600" y="0"/>
                </a:moveTo>
                <a:arcTo wR="3600" hR="3600" stAng="16200000" swAng="-5400000"/>
                <a:lnTo>
                  <a:pt x="0" y="34938"/>
                </a:lnTo>
                <a:arcTo wR="3600" hR="3600" stAng="10800000" swAng="-5400000"/>
                <a:lnTo>
                  <a:pt x="18000" y="38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314172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3995640" y="5229360"/>
                <a:ext cx="28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6804000" y="5229360"/>
                <a:ext cx="11714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7956720" y="5229360"/>
                <a:ext cx="701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332000" y="5084640"/>
                <a:ext cx="2025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903240" y="165240"/>
                <a:ext cx="23828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75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3298680" y="260280"/>
                <a:ext cx="26784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836720" y="1917720"/>
                <a:ext cx="525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1836720" y="278136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1836720" y="357336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1909800" y="45100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2268360" y="1557360"/>
                <a:ext cx="6429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2413080" y="1557360"/>
            <a:ext cx="504720" cy="1297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297080"/>
              <a:gd name="textAreaBottom" fmla="*/ 1272600 h 1297080"/>
            </a:gdLst>
            <a:ahLst/>
            <a:rect l="textAreaLeft" t="textAreaTop" r="textAreaRight" b="textAreaBottom"/>
            <a:pathLst>
              <a:path w="21600" h="55486">
                <a:moveTo>
                  <a:pt x="3600" y="0"/>
                </a:moveTo>
                <a:arcTo wR="3600" hR="3600" stAng="16200000" swAng="-5400000"/>
                <a:lnTo>
                  <a:pt x="0" y="51886"/>
                </a:lnTo>
                <a:arcTo wR="3600" hR="3600" stAng="10800000" swAng="-5400000"/>
                <a:lnTo>
                  <a:pt x="18000" y="55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7280" y="21337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díl není definová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1547640" y="551808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9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900000" y="260280"/>
                <a:ext cx="2644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6" name="Line 8"/>
          <p:cNvSpPr/>
          <p:nvPr/>
        </p:nvSpPr>
        <p:spPr>
          <a:xfrm>
            <a:off x="1547640" y="105264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"/>
              <p:cNvSpPr txBox="1"/>
              <p:nvPr/>
            </p:nvSpPr>
            <p:spPr>
              <a:xfrm>
                <a:off x="3564000" y="404640"/>
                <a:ext cx="3624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1763640" y="1125360"/>
                <a:ext cx="5256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763640" y="198900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763640" y="278136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1763640" y="357336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"/>
              <p:cNvSpPr txBox="1"/>
              <p:nvPr/>
            </p:nvSpPr>
            <p:spPr>
              <a:xfrm>
                <a:off x="2268360" y="1125360"/>
                <a:ext cx="8193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2268360" y="1989000"/>
                <a:ext cx="87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2297160" y="2781360"/>
                <a:ext cx="965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2268360" y="3573360"/>
                <a:ext cx="1052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1836720" y="4438800"/>
                <a:ext cx="2635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3132000" y="134136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32000" y="220500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3276720" y="2997360"/>
                <a:ext cx="701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276720" y="378936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403280" y="5445000"/>
                <a:ext cx="14684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2631960" y="5396040"/>
                <a:ext cx="16750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"/>
              <p:cNvSpPr txBox="1"/>
              <p:nvPr/>
            </p:nvSpPr>
            <p:spPr>
              <a:xfrm>
                <a:off x="4284720" y="5373720"/>
                <a:ext cx="251136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"/>
              <p:cNvSpPr txBox="1"/>
              <p:nvPr/>
            </p:nvSpPr>
            <p:spPr>
              <a:xfrm>
                <a:off x="7740720" y="5805360"/>
                <a:ext cx="80496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3276720" y="1198440"/>
            <a:ext cx="718920" cy="323856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3238560"/>
              <a:gd name="textAreaBottom" fmla="*/ 3203640 h 3238560"/>
            </a:gdLst>
            <a:ahLst/>
            <a:rect l="textAreaLeft" t="textAreaTop" r="textAreaRight" b="textAreaBottom"/>
            <a:pathLst>
              <a:path w="21600" h="97265">
                <a:moveTo>
                  <a:pt x="3600" y="0"/>
                </a:moveTo>
                <a:arcTo wR="3600" hR="3600" stAng="16200000" swAng="-5400000"/>
                <a:lnTo>
                  <a:pt x="0" y="93665"/>
                </a:lnTo>
                <a:arcTo wR="3600" hR="3600" stAng="10800000" swAng="-5400000"/>
                <a:lnTo>
                  <a:pt x="18000" y="972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38920" y="2349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4440" y="2854440"/>
            <a:ext cx="28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–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403280" y="5661000"/>
                <a:ext cx="2025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6732720" y="5516640"/>
                <a:ext cx="938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6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042920" y="189000"/>
                <a:ext cx="23511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2" name="Line 8"/>
          <p:cNvSpPr/>
          <p:nvPr/>
        </p:nvSpPr>
        <p:spPr>
          <a:xfrm>
            <a:off x="1692360" y="148428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3276720" y="404640"/>
                <a:ext cx="39178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763640" y="1917720"/>
                <a:ext cx="525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1774800" y="2827440"/>
                <a:ext cx="5367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1763640" y="3789360"/>
                <a:ext cx="5367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268360" y="1557360"/>
                <a:ext cx="7909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3782880" y="2421000"/>
                <a:ext cx="89244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1835280" y="4653000"/>
                <a:ext cx="268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059280" y="1916280"/>
                <a:ext cx="819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4716360" y="2781360"/>
                <a:ext cx="8334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5508720" y="3355920"/>
                <a:ext cx="8920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6251400" y="270828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vocient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547640" y="566100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620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6372360" y="3716280"/>
                <a:ext cx="8334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349800" y="184464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03640" y="278136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59640" y="371628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500"/>
                            </p:stCondLst>
                            <p:childTnLst>
                              <p:par>
                                <p:cTn id="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1168560" y="368280"/>
                <a:ext cx="26222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5322960" y="687240"/>
                <a:ext cx="19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258920" y="2565360"/>
                <a:ext cx="24130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222880" y="2719440"/>
                <a:ext cx="20955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1200240" y="4213080"/>
                <a:ext cx="23432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5305320" y="4430880"/>
                <a:ext cx="19908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44067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defi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é pojmy – geometrická posloupnost, kvocient. Prezentace obsahuje dále procvičení na řešených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čet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eometrická posloupnost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P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971640" y="907920"/>
            <a:ext cx="79167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71640" y="1700280"/>
            <a:ext cx="8172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rčete hmotnost jádra atomu po dvou minutách štěpné reakce, když se štěpením jeho hmotnost každých 20 s sníží na polovinu. Původní hmotnost jádra atomu byla 3 mg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900000" y="189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hmotnost za 2 min, což je 120 s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900000" y="1627200"/>
            <a:ext cx="7956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čase 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2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40 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6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120 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00000" y="6210360"/>
            <a:ext cx="82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Za 2 min se hmotnost jádra sníží na 3/64 = 0,046 875 mg.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292720" y="836640"/>
            <a:ext cx="29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souvislost s posloupnostm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219640" y="1628640"/>
            <a:ext cx="14382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268360" y="836640"/>
            <a:ext cx="27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hmotno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g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1339920"/>
            <a:ext cx="217440" cy="432108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4321080"/>
              <a:gd name="textAreaBottom" fmla="*/ 4310640 h 4321080"/>
            </a:gdLst>
            <a:ahLst/>
            <a:rect l="textAreaLeft" t="textAreaTop" r="textAreaRight" b="textAreaBottom"/>
            <a:pathLst>
              <a:path w="21600" h="428573">
                <a:moveTo>
                  <a:pt x="3600" y="0"/>
                </a:moveTo>
                <a:arcTo wR="3600" hR="3600" stAng="16200000" swAng="-5400000"/>
                <a:lnTo>
                  <a:pt x="0" y="424973"/>
                </a:lnTo>
                <a:arcTo wR="3600" hR="3600" stAng="10800000" swAng="-5400000"/>
                <a:lnTo>
                  <a:pt x="18000" y="428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1484280"/>
            <a:ext cx="360360" cy="4680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680000"/>
              <a:gd name="textAreaBottom" fmla="*/ 4662720 h 4680000"/>
            </a:gdLst>
            <a:ahLst/>
            <a:rect l="textAreaLeft" t="textAreaTop" r="textAreaRight" b="textAreaBottom"/>
            <a:pathLst>
              <a:path w="21600" h="280261">
                <a:moveTo>
                  <a:pt x="3600" y="0"/>
                </a:moveTo>
                <a:arcTo wR="3600" hR="3600" stAng="16200000" swAng="-5400000"/>
                <a:lnTo>
                  <a:pt x="0" y="276661"/>
                </a:lnTo>
                <a:arcTo wR="3600" hR="3600" stAng="10800000" swAng="-5400000"/>
                <a:lnTo>
                  <a:pt x="18000" y="2802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7020000" y="4148280"/>
                <a:ext cx="14238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8244000" y="5229360"/>
            <a:ext cx="0" cy="576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49240" y="573264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kvoci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788000" y="6019920"/>
            <a:ext cx="2305080" cy="14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5889600"/>
            <a:ext cx="338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ponent kvocientu vždy   o jedničku menší než je pořadí daného čle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28000" y="1844640"/>
            <a:ext cx="504720" cy="338472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384720"/>
              <a:gd name="textAreaBottom" fmla="*/ 3360240 h 3384720"/>
            </a:gdLst>
            <a:ahLst/>
            <a:rect l="textAreaLeft" t="textAreaTop" r="textAreaRight" b="textAreaBottom"/>
            <a:pathLst>
              <a:path w="21600" h="144765">
                <a:moveTo>
                  <a:pt x="3600" y="0"/>
                </a:moveTo>
                <a:arcTo wR="3600" hR="3600" stAng="16200000" swAng="-5400000"/>
                <a:lnTo>
                  <a:pt x="0" y="141165"/>
                </a:lnTo>
                <a:arcTo wR="3600" hR="3600" stAng="10800000" swAng="-5400000"/>
                <a:lnTo>
                  <a:pt x="18000" y="1447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348000" y="1771560"/>
                <a:ext cx="262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2987640" y="2421000"/>
                <a:ext cx="6714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2195640" y="3284640"/>
                <a:ext cx="14396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050920" y="4246560"/>
                <a:ext cx="16574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3708360" y="3213000"/>
                <a:ext cx="1346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3708360" y="4221000"/>
                <a:ext cx="13446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3995640" y="5229360"/>
                <a:ext cx="110988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7380360" y="1916280"/>
                <a:ext cx="1052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7380360" y="2924280"/>
                <a:ext cx="1052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3708360" y="1413000"/>
                <a:ext cx="134316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3708360" y="2276640"/>
                <a:ext cx="131436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4"/>
          <p:cNvSpPr/>
          <p:nvPr/>
        </p:nvSpPr>
        <p:spPr>
          <a:xfrm>
            <a:off x="5219640" y="1628640"/>
            <a:ext cx="14382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116000" y="620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efinice G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042920" y="1700280"/>
            <a:ext cx="8101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reálných čísel                   se nazývá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existuj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vocie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tak,   že pro každé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platí rekurentní vzorec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5651640" y="1773360"/>
                <a:ext cx="1441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708360" y="4221000"/>
                <a:ext cx="265608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kažte, že je daná posloupnost geometrická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116000" y="260280"/>
                <a:ext cx="1795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6" name="Line 8"/>
          <p:cNvSpPr/>
          <p:nvPr/>
        </p:nvSpPr>
        <p:spPr>
          <a:xfrm>
            <a:off x="1692360" y="105264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3203640" y="404640"/>
                <a:ext cx="3232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1835280" y="105264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1835280" y="191628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835280" y="270828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835280" y="350028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2340000" y="1052640"/>
                <a:ext cx="5554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2340000" y="1916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2340000" y="2708280"/>
                <a:ext cx="73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2340000" y="3500280"/>
                <a:ext cx="87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3203640" y="1268280"/>
                <a:ext cx="496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3203640" y="2133720"/>
                <a:ext cx="496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203640" y="2924280"/>
                <a:ext cx="496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3203640" y="3716280"/>
                <a:ext cx="496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1403280" y="5445000"/>
                <a:ext cx="14684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2916360" y="5445000"/>
                <a:ext cx="1104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3995640" y="5445000"/>
                <a:ext cx="14065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5292720" y="5805360"/>
                <a:ext cx="6364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276720" y="1125360"/>
            <a:ext cx="504720" cy="3024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024360"/>
              <a:gd name="textAreaBottom" fmla="*/ 2999880 h 3024360"/>
            </a:gdLst>
            <a:ahLst/>
            <a:rect l="textAreaLeft" t="textAreaTop" r="textAreaRight" b="textAreaBottom"/>
            <a:pathLst>
              <a:path w="21600" h="129354">
                <a:moveTo>
                  <a:pt x="3600" y="0"/>
                </a:moveTo>
                <a:arcTo wR="3600" hR="3600" stAng="16200000" swAng="-5400000"/>
                <a:lnTo>
                  <a:pt x="0" y="125754"/>
                </a:lnTo>
                <a:arcTo wR="3600" hR="3600" stAng="10800000" swAng="-5400000"/>
                <a:lnTo>
                  <a:pt x="18000" y="129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94560" y="2276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0080" y="27748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7020000" y="5661000"/>
                <a:ext cx="18860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8120" y="285912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vocient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971640" y="260280"/>
                <a:ext cx="2414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2" name="Line 8"/>
          <p:cNvSpPr/>
          <p:nvPr/>
        </p:nvSpPr>
        <p:spPr>
          <a:xfrm>
            <a:off x="1692360" y="105264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476520" y="404640"/>
                <a:ext cx="3265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835280" y="105264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835280" y="191628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1835280" y="270828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1835280" y="350028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2340000" y="1052640"/>
                <a:ext cx="6732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2340000" y="1916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2340000" y="2708280"/>
                <a:ext cx="73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2340000" y="3500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3132000" y="1268280"/>
                <a:ext cx="7304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3132000" y="2133720"/>
                <a:ext cx="1081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3132000" y="2924280"/>
                <a:ext cx="993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3132000" y="3716280"/>
                <a:ext cx="1022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348000" y="1197000"/>
            <a:ext cx="936720" cy="302400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3024000"/>
              <a:gd name="textAreaBottom" fmla="*/ 2978280 h 3024000"/>
            </a:gdLst>
            <a:ahLst/>
            <a:rect l="textAreaLeft" t="textAreaTop" r="textAreaRight" b="textAreaBottom"/>
            <a:pathLst>
              <a:path w="21600" h="69712">
                <a:moveTo>
                  <a:pt x="3600" y="0"/>
                </a:moveTo>
                <a:arcTo wR="3600" hR="3600" stAng="16200000" swAng="-5400000"/>
                <a:lnTo>
                  <a:pt x="0" y="66112"/>
                </a:lnTo>
                <a:arcTo wR="3600" hR="3600" stAng="10800000" swAng="-5400000"/>
                <a:lnTo>
                  <a:pt x="18000" y="69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547640" y="522936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856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7:16Z</dcterms:modified>
  <cp:revision>328</cp:revision>
  <dc:subject/>
  <dc:title>Posloupnosti</dc:title>
</cp:coreProperties>
</file>