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8527-C188-4805-861A-12E5DEF075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B38A-7AE0-45A7-AC81-C3769FF1262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7A03-C639-41FD-ABF3-1969B19BF57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9126-61BA-41AA-8F92-4797B89CE1B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997D-1DBC-4C31-A4AE-EF9A8699290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503-EEED-469C-8519-ABE455FB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8348-2B0B-4F00-9123-898BBDE9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FF6-CBEB-4663-85FF-E6F1EDFB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6E86-C546-498D-97CF-6C455FF9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8422-D65D-4F2A-BD4D-F404356F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B86E-4FF6-453B-9C84-21E7DD0D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04F3-BBF3-47A0-B5EC-95776564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CFBA-DAE6-43CC-849B-797F69B2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E9A4-AFE9-4D3F-BFDC-E6583628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5964-CBD8-4FBC-8FB4-E30404FD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D2A8-F51C-4E37-9DD3-02E5CAD5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7CA-3ED4-463B-9BC3-69BE34A9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0E5F-53EE-4F31-B375-1D4BD59F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A2C5-718C-4858-8AFC-9D22E2DA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292A-0039-48DA-9875-C4852AC2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00DB-42A5-48C6-A312-BAAE59D2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9077-3E21-49E1-8D37-D8F61AC4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1F60-CE18-46F4-8E96-ACBBC419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692B-8258-45E5-B484-7E470812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A1D-18A8-4D02-985A-F29C343B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798-1E9B-43A7-8387-66314B6C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FD5-14E7-4195-A3A9-3D98FB73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E48-09A4-4EAD-8A78-34B0FE27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9F7-AFE0-426F-9376-4D585724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8A5A-D92D-4353-AB3E-29A8E31C2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C645-799D-4464-BABC-83E68BA32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1066680" y="260280"/>
                <a:ext cx="2389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1619280" y="1413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4932360" y="189000"/>
            <a:ext cx="42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GP lze vyjádřit pomocí prvního a kvocie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5821200" y="1447920"/>
                <a:ext cx="2448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5819760" y="5877000"/>
                <a:ext cx="3032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7"/>
              <p:cNvSpPr txBox="1"/>
              <p:nvPr/>
            </p:nvSpPr>
            <p:spPr>
              <a:xfrm>
                <a:off x="1619280" y="1413000"/>
                <a:ext cx="268596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1619280" y="278136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1619280" y="2852640"/>
                <a:ext cx="26845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619280" y="422100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292720" y="2997360"/>
            <a:ext cx="385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vnice vydělí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3500280"/>
            <a:ext cx="266544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5292720" y="3500280"/>
            <a:ext cx="3851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ejné výrazy krátíme, zvlášť levou, zvlášť pravou stra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7"/>
              <p:cNvSpPr txBox="1"/>
              <p:nvPr/>
            </p:nvSpPr>
            <p:spPr>
              <a:xfrm>
                <a:off x="3132000" y="4292640"/>
                <a:ext cx="1079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7"/>
              <p:cNvSpPr txBox="1"/>
              <p:nvPr/>
            </p:nvSpPr>
            <p:spPr>
              <a:xfrm>
                <a:off x="3205080" y="5518080"/>
                <a:ext cx="947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7"/>
              <p:cNvSpPr txBox="1"/>
              <p:nvPr/>
            </p:nvSpPr>
            <p:spPr>
              <a:xfrm>
                <a:off x="5854680" y="2852640"/>
                <a:ext cx="2124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7"/>
              <p:cNvSpPr txBox="1"/>
              <p:nvPr/>
            </p:nvSpPr>
            <p:spPr>
              <a:xfrm>
                <a:off x="6659640" y="3500280"/>
                <a:ext cx="13078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7059600" y="4076640"/>
                <a:ext cx="914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 flipV="1">
            <a:off x="2989440" y="4436640"/>
            <a:ext cx="1439640" cy="86364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060360" y="4437000"/>
            <a:ext cx="1368360" cy="9367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40360" y="3213000"/>
            <a:ext cx="1439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140360" y="3357720"/>
            <a:ext cx="1439640" cy="2232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1332000" y="3789360"/>
                <a:ext cx="37735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7"/>
              <p:cNvSpPr txBox="1"/>
              <p:nvPr/>
            </p:nvSpPr>
            <p:spPr>
              <a:xfrm>
                <a:off x="826920" y="189000"/>
                <a:ext cx="22701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Line 5"/>
          <p:cNvSpPr/>
          <p:nvPr/>
        </p:nvSpPr>
        <p:spPr>
          <a:xfrm>
            <a:off x="1290600" y="12938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1258920" y="1270080"/>
                <a:ext cx="26733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1332000" y="2494080"/>
            <a:ext cx="259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1332000" y="2565360"/>
                <a:ext cx="25495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332000" y="3718080"/>
            <a:ext cx="252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5292720" y="2708280"/>
            <a:ext cx="3851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použijeme algebraický vzorec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32000" y="4437000"/>
            <a:ext cx="381456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5364000" y="3213000"/>
                <a:ext cx="3600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1332000" y="4941720"/>
            <a:ext cx="3743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7"/>
              <p:cNvSpPr txBox="1"/>
              <p:nvPr/>
            </p:nvSpPr>
            <p:spPr>
              <a:xfrm>
                <a:off x="2843280" y="5013360"/>
                <a:ext cx="211752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 flipV="1">
            <a:off x="3670200" y="5125680"/>
            <a:ext cx="1440000" cy="86364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3741480" y="5126040"/>
            <a:ext cx="136836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7"/>
              <p:cNvSpPr txBox="1"/>
              <p:nvPr/>
            </p:nvSpPr>
            <p:spPr>
              <a:xfrm>
                <a:off x="2411280" y="6021360"/>
                <a:ext cx="28544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 flipH="1" flipV="1">
            <a:off x="2700000" y="2997000"/>
            <a:ext cx="2663640" cy="431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5756400" y="5600880"/>
                <a:ext cx="33876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P1</m:t>
                                </m:r>
                                <m:r>
                                  <m:t xml:space="preserve">: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</m:e>
                            </m:bar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2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5580000" y="1844640"/>
                <a:ext cx="920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427640" y="2492280"/>
                <a:ext cx="22651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5003640" y="3068640"/>
                <a:ext cx="17179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7"/>
              <p:cNvSpPr txBox="1"/>
              <p:nvPr/>
            </p:nvSpPr>
            <p:spPr>
              <a:xfrm>
                <a:off x="5506920" y="3500280"/>
                <a:ext cx="889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5364000" y="260280"/>
                <a:ext cx="26100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5219640" y="836640"/>
                <a:ext cx="24274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7945560" y="981000"/>
                <a:ext cx="1198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7380360" y="1846440"/>
                <a:ext cx="116676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´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4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7"/>
              <p:cNvSpPr txBox="1"/>
              <p:nvPr/>
            </p:nvSpPr>
            <p:spPr>
              <a:xfrm>
                <a:off x="6877080" y="2349360"/>
                <a:ext cx="22669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7"/>
              <p:cNvSpPr txBox="1"/>
              <p:nvPr/>
            </p:nvSpPr>
            <p:spPr>
              <a:xfrm>
                <a:off x="7020000" y="3284640"/>
                <a:ext cx="16556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7"/>
              <p:cNvSpPr txBox="1"/>
              <p:nvPr/>
            </p:nvSpPr>
            <p:spPr>
              <a:xfrm>
                <a:off x="7524720" y="4149720"/>
                <a:ext cx="1257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908000" y="256536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35280" y="3789360"/>
            <a:ext cx="24494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7" idx="1"/>
            <a:endCxn id="308" idx="1"/>
          </p:cNvCxnSpPr>
          <p:nvPr/>
        </p:nvCxnSpPr>
        <p:spPr>
          <a:xfrm flipV="1" rot="10800000">
            <a:off x="1820160" y="2854080"/>
            <a:ext cx="73800" cy="1224720"/>
          </a:xfrm>
          <a:prstGeom prst="curvedConnector5">
            <a:avLst>
              <a:gd name="adj1" fmla="val 271568"/>
              <a:gd name="adj2" fmla="val 49985"/>
              <a:gd name="adj3" fmla="val 271568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5435640" y="1773360"/>
            <a:ext cx="1152360" cy="5760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80360" y="1773360"/>
            <a:ext cx="1152360" cy="5760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24360" y="2852640"/>
            <a:ext cx="5032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3" name="Object 7"/>
              <p:cNvSpPr txBox="1"/>
              <p:nvPr/>
            </p:nvSpPr>
            <p:spPr>
              <a:xfrm>
                <a:off x="900000" y="260280"/>
                <a:ext cx="3600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4" name="Line 5"/>
          <p:cNvSpPr/>
          <p:nvPr/>
        </p:nvSpPr>
        <p:spPr>
          <a:xfrm>
            <a:off x="1620720" y="1413000"/>
            <a:ext cx="295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4716360" y="6095880"/>
                <a:ext cx="3687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6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0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1620720" y="1413000"/>
                <a:ext cx="42894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1547640" y="2708280"/>
            <a:ext cx="4321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7"/>
              <p:cNvSpPr txBox="1"/>
              <p:nvPr/>
            </p:nvSpPr>
            <p:spPr>
              <a:xfrm>
                <a:off x="1620720" y="2781360"/>
                <a:ext cx="37990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547640" y="4076640"/>
            <a:ext cx="388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92360" y="3429000"/>
            <a:ext cx="367164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7"/>
              <p:cNvSpPr txBox="1"/>
              <p:nvPr/>
            </p:nvSpPr>
            <p:spPr>
              <a:xfrm>
                <a:off x="2700360" y="4149720"/>
                <a:ext cx="121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4716360" y="4221000"/>
                <a:ext cx="4427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,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,5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7"/>
              <p:cNvSpPr txBox="1"/>
              <p:nvPr/>
            </p:nvSpPr>
            <p:spPr>
              <a:xfrm>
                <a:off x="6723000" y="4869000"/>
                <a:ext cx="2421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7805880" y="5445000"/>
                <a:ext cx="13381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7"/>
              <p:cNvSpPr txBox="1"/>
              <p:nvPr/>
            </p:nvSpPr>
            <p:spPr>
              <a:xfrm>
                <a:off x="2843280" y="5229360"/>
                <a:ext cx="1311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4859280" y="400536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7" name="Object 7"/>
              <p:cNvSpPr txBox="1"/>
              <p:nvPr/>
            </p:nvSpPr>
            <p:spPr>
              <a:xfrm>
                <a:off x="1042920" y="260280"/>
                <a:ext cx="3110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Line 5"/>
          <p:cNvSpPr/>
          <p:nvPr/>
        </p:nvSpPr>
        <p:spPr>
          <a:xfrm>
            <a:off x="1619280" y="141300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6227640" y="5877000"/>
                <a:ext cx="2738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1547640" y="1413000"/>
                <a:ext cx="409104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1547640" y="2781360"/>
            <a:ext cx="410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7"/>
              <p:cNvSpPr txBox="1"/>
              <p:nvPr/>
            </p:nvSpPr>
            <p:spPr>
              <a:xfrm>
                <a:off x="1547640" y="2852640"/>
                <a:ext cx="3405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547640" y="4221000"/>
            <a:ext cx="338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3500280"/>
            <a:ext cx="338472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7"/>
              <p:cNvSpPr txBox="1"/>
              <p:nvPr/>
            </p:nvSpPr>
            <p:spPr>
              <a:xfrm>
                <a:off x="3708360" y="4292640"/>
                <a:ext cx="11462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7"/>
              <p:cNvSpPr txBox="1"/>
              <p:nvPr/>
            </p:nvSpPr>
            <p:spPr>
              <a:xfrm>
                <a:off x="7308720" y="3573360"/>
                <a:ext cx="13082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7667640" y="4149720"/>
                <a:ext cx="9478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80000" y="5373720"/>
                <a:ext cx="1014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924360" y="6165720"/>
                <a:ext cx="850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7"/>
              <p:cNvSpPr txBox="1"/>
              <p:nvPr/>
            </p:nvSpPr>
            <p:spPr>
              <a:xfrm>
                <a:off x="5943600" y="2852640"/>
                <a:ext cx="26496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 flipV="1">
            <a:off x="3659040" y="4346640"/>
            <a:ext cx="144000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3659040" y="4346640"/>
            <a:ext cx="144000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32360" y="3213000"/>
            <a:ext cx="9349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3"/>
          <p:cNvSpPr/>
          <p:nvPr/>
        </p:nvSpPr>
        <p:spPr>
          <a:xfrm>
            <a:off x="1187280" y="2133720"/>
            <a:ext cx="7956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ozhodněte, zda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jsou členy jedné GP. Pokud ano, určete kvocient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4932360" y="2205000"/>
                <a:ext cx="3797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6" name="Object 7"/>
              <p:cNvSpPr txBox="1"/>
              <p:nvPr/>
            </p:nvSpPr>
            <p:spPr>
              <a:xfrm>
                <a:off x="1547640" y="1281240"/>
                <a:ext cx="4273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7" name="Rectangle 3"/>
          <p:cNvSpPr/>
          <p:nvPr/>
        </p:nvSpPr>
        <p:spPr>
          <a:xfrm>
            <a:off x="5076720" y="189000"/>
            <a:ext cx="4067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tvoří GP, musí být prostřední číslo geometrickým průměrem čísel krajních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5508720" y="1628640"/>
                <a:ext cx="31687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1187280" y="5446800"/>
                <a:ext cx="17290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1187280" y="3139920"/>
                <a:ext cx="16290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161928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7"/>
              <p:cNvSpPr txBox="1"/>
              <p:nvPr/>
            </p:nvSpPr>
            <p:spPr>
              <a:xfrm>
                <a:off x="2843280" y="3068640"/>
                <a:ext cx="3176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7"/>
              <p:cNvSpPr txBox="1"/>
              <p:nvPr/>
            </p:nvSpPr>
            <p:spPr>
              <a:xfrm>
                <a:off x="291636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406728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7"/>
              <p:cNvSpPr txBox="1"/>
              <p:nvPr/>
            </p:nvSpPr>
            <p:spPr>
              <a:xfrm>
                <a:off x="1187280" y="549360"/>
                <a:ext cx="3679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Rectangle 3"/>
          <p:cNvSpPr/>
          <p:nvPr/>
        </p:nvSpPr>
        <p:spPr>
          <a:xfrm>
            <a:off x="1116000" y="2637000"/>
            <a:ext cx="8028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a zadaná čísla jsou kladná, vynecháme ve vzorci AH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7"/>
              <p:cNvSpPr txBox="1"/>
              <p:nvPr/>
            </p:nvSpPr>
            <p:spPr>
              <a:xfrm>
                <a:off x="6084720" y="3139920"/>
                <a:ext cx="11145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1116000" y="113652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7308720" y="3139920"/>
                <a:ext cx="12495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" name="Rectangle 3"/>
          <p:cNvSpPr/>
          <p:nvPr/>
        </p:nvSpPr>
        <p:spPr>
          <a:xfrm>
            <a:off x="5292720" y="4221000"/>
            <a:ext cx="38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2881440" y="5402160"/>
                <a:ext cx="15764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4537080" y="5402160"/>
                <a:ext cx="6951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3097080" y="5473800"/>
                <a:ext cx="1484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5219640" y="5373720"/>
                <a:ext cx="23432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q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176364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2843280" y="1281240"/>
                <a:ext cx="500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3995640" y="1281240"/>
                <a:ext cx="462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305928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1164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7"/>
              <p:cNvSpPr txBox="1"/>
              <p:nvPr/>
            </p:nvSpPr>
            <p:spPr>
              <a:xfrm>
                <a:off x="4284720" y="3581280"/>
                <a:ext cx="3024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1" name="Rectangle 3"/>
          <p:cNvSpPr/>
          <p:nvPr/>
        </p:nvSpPr>
        <p:spPr>
          <a:xfrm>
            <a:off x="1116000" y="4941720"/>
            <a:ext cx="30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a kvocientu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30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632720" cy="4699080"/>
        </p:xfrm>
        <a:graphic>
          <a:graphicData uri="http://schemas.openxmlformats.org/drawingml/2006/table">
            <a:tbl>
              <a:tblPr/>
              <a:tblGrid>
                <a:gridCol w="2808360"/>
                <a:gridCol w="482436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příklady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GP, mezi prvním a libovolným členem GP,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GP; Vztah mezi prvním a libovolným členem GP; Vztah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13192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G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3139920"/>
            <a:ext cx="795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523880" indent="-623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zn. určete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de GP začíná  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olikrát se členy liší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ů 1. – 4. pro GP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5"/>
          <p:cNvSpPr/>
          <p:nvPr/>
        </p:nvSpPr>
        <p:spPr>
          <a:xfrm>
            <a:off x="1763640" y="134136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1187280" y="189000"/>
                <a:ext cx="1766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Rectangle 3"/>
          <p:cNvSpPr/>
          <p:nvPr/>
        </p:nvSpPr>
        <p:spPr>
          <a:xfrm>
            <a:off x="1187280" y="1341360"/>
            <a:ext cx="374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 sobě jdoucí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1800360" y="2455920"/>
                <a:ext cx="2154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195640" y="3141720"/>
                <a:ext cx="1752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2124000" y="3841920"/>
                <a:ext cx="164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2106720" y="4489560"/>
                <a:ext cx="1241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3"/>
          <p:cNvSpPr/>
          <p:nvPr/>
        </p:nvSpPr>
        <p:spPr>
          <a:xfrm>
            <a:off x="5219640" y="134136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6002280" y="2403360"/>
                <a:ext cx="2227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6012000" y="3068640"/>
                <a:ext cx="19364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6316560" y="3716280"/>
                <a:ext cx="2192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6227640" y="5013360"/>
                <a:ext cx="10954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6280200" y="4508640"/>
                <a:ext cx="1496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619280" y="5373720"/>
                <a:ext cx="3105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5076720" y="189000"/>
                <a:ext cx="1836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5"/>
          <p:cNvSpPr/>
          <p:nvPr/>
        </p:nvSpPr>
        <p:spPr>
          <a:xfrm>
            <a:off x="1619280" y="134136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052640" y="195120"/>
                <a:ext cx="1800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547640" y="1484280"/>
                <a:ext cx="1862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692360" y="2133720"/>
                <a:ext cx="1496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835280" y="2637000"/>
                <a:ext cx="949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476360" y="3284640"/>
                <a:ext cx="1973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1619280" y="4508640"/>
                <a:ext cx="14637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1763640" y="3933720"/>
                <a:ext cx="16066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042920" y="6095880"/>
                <a:ext cx="3287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Line 5"/>
          <p:cNvSpPr/>
          <p:nvPr/>
        </p:nvSpPr>
        <p:spPr>
          <a:xfrm>
            <a:off x="5651640" y="1341360"/>
            <a:ext cx="122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580000" y="1484280"/>
                <a:ext cx="1971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6012000" y="2133720"/>
                <a:ext cx="14968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5651640" y="2492280"/>
                <a:ext cx="1170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580000" y="3429000"/>
                <a:ext cx="2192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796000" y="5300640"/>
                <a:ext cx="277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rPr>
                        <m:lit/>
                        <m:nor/>
                      </m:rPr>
                      <m:t xml:space="preserve">8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5724360" y="4149720"/>
                <a:ext cx="25196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4535640" y="6161040"/>
                <a:ext cx="46083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64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987640" y="4508640"/>
                <a:ext cx="85248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5"/>
          <p:cNvSpPr/>
          <p:nvPr/>
        </p:nvSpPr>
        <p:spPr>
          <a:xfrm>
            <a:off x="1538280" y="143208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971640" y="260280"/>
                <a:ext cx="17334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Rectangle 3"/>
          <p:cNvSpPr/>
          <p:nvPr/>
        </p:nvSpPr>
        <p:spPr>
          <a:xfrm>
            <a:off x="1114560" y="1484280"/>
            <a:ext cx="3240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zadaný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1619280" y="3141720"/>
                <a:ext cx="1862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1619280" y="3789360"/>
                <a:ext cx="1679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1584360" y="4419720"/>
                <a:ext cx="13143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547640" y="2419200"/>
                <a:ext cx="22291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187280" y="5877000"/>
                <a:ext cx="2740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3924360" y="4437000"/>
                <a:ext cx="803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1835280" y="5157720"/>
                <a:ext cx="912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332000" y="4581360"/>
                <a:ext cx="4014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511280" y="5175360"/>
                <a:ext cx="401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"/>
          <p:cNvSpPr/>
          <p:nvPr/>
        </p:nvSpPr>
        <p:spPr>
          <a:xfrm>
            <a:off x="2951280" y="4348080"/>
            <a:ext cx="1368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lich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6000" y="4508640"/>
            <a:ext cx="358560" cy="28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5891040" y="1413000"/>
            <a:ext cx="1657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7"/>
              <p:cNvSpPr txBox="1"/>
              <p:nvPr/>
            </p:nvSpPr>
            <p:spPr>
              <a:xfrm>
                <a:off x="5316480" y="260280"/>
                <a:ext cx="2225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748480" y="1989000"/>
                <a:ext cx="2082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5477040" y="3357720"/>
                <a:ext cx="1790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5459400" y="2708280"/>
                <a:ext cx="2117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5748480" y="5877000"/>
                <a:ext cx="2922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5819760" y="4149720"/>
                <a:ext cx="1243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8340840" y="3429000"/>
                <a:ext cx="803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9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199" name="Rectangle 3"/>
          <p:cNvSpPr/>
          <p:nvPr/>
        </p:nvSpPr>
        <p:spPr>
          <a:xfrm>
            <a:off x="7332840" y="3286080"/>
            <a:ext cx="122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lich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99400" y="3429000"/>
            <a:ext cx="43344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59400" y="357336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18320" y="420372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5"/>
          <p:cNvSpPr/>
          <p:nvPr/>
        </p:nvSpPr>
        <p:spPr>
          <a:xfrm>
            <a:off x="1619280" y="141300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260280"/>
                <a:ext cx="173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 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1547640" y="1773360"/>
                <a:ext cx="19735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828800" y="3286080"/>
                <a:ext cx="1096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547640" y="2565360"/>
                <a:ext cx="2008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403280" y="5229360"/>
                <a:ext cx="33609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P1</m:t>
                                </m:r>
                                <m:r>
                                  <m:t xml:space="preserve">: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3</m:t>
                                </m:r>
                              </m:e>
                            </m:bar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2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547640" y="4078440"/>
                <a:ext cx="1243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959280" y="3357720"/>
                <a:ext cx="803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2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11" name="Rectangle 3"/>
          <p:cNvSpPr/>
          <p:nvPr/>
        </p:nvSpPr>
        <p:spPr>
          <a:xfrm>
            <a:off x="2998800" y="3213000"/>
            <a:ext cx="1224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sud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3357720"/>
            <a:ext cx="37152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476360" y="3429000"/>
                <a:ext cx="401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554120" y="4040280"/>
            <a:ext cx="287280" cy="504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928">
                <a:moveTo>
                  <a:pt x="3600" y="0"/>
                </a:moveTo>
                <a:arcTo wR="3600" hR="3600" stAng="16200000" swAng="-5400000"/>
                <a:lnTo>
                  <a:pt x="0" y="34328"/>
                </a:lnTo>
                <a:arcTo wR="3600" hR="3600" stAng="10800000" swAng="-5400000"/>
                <a:lnTo>
                  <a:pt x="18000" y="37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735520" y="141300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5076720" y="260280"/>
                <a:ext cx="1898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5678640" y="1773360"/>
                <a:ext cx="19731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5318280" y="3141720"/>
                <a:ext cx="1498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5715000" y="2565360"/>
                <a:ext cx="1935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10640" y="3357720"/>
                <a:ext cx="803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6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6831000" y="3284640"/>
            <a:ext cx="122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sudý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0640" y="3357720"/>
            <a:ext cx="37152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18280" y="3500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607000" y="4149720"/>
            <a:ext cx="2448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... neexistuj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5533920" y="5157720"/>
            <a:ext cx="3610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ne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1042920" y="260280"/>
                <a:ext cx="2978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3"/>
          <p:cNvSpPr/>
          <p:nvPr/>
        </p:nvSpPr>
        <p:spPr>
          <a:xfrm>
            <a:off x="1619280" y="907920"/>
            <a:ext cx="37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libovolné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692360" y="83664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4"/>
              <p:cNvSpPr txBox="1"/>
              <p:nvPr/>
            </p:nvSpPr>
            <p:spPr>
              <a:xfrm>
                <a:off x="1908000" y="2565360"/>
                <a:ext cx="1899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908000" y="3284640"/>
                <a:ext cx="1862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2050920" y="3860640"/>
                <a:ext cx="11318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Rectangle 3"/>
          <p:cNvSpPr/>
          <p:nvPr/>
        </p:nvSpPr>
        <p:spPr>
          <a:xfrm>
            <a:off x="5398920" y="90792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5940360" y="1844640"/>
                <a:ext cx="2228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5940360" y="2565360"/>
                <a:ext cx="17906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6012000" y="3141720"/>
                <a:ext cx="17539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5796000" y="4149720"/>
                <a:ext cx="13874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5435640" y="5373720"/>
                <a:ext cx="32130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1835280" y="1844640"/>
                <a:ext cx="22651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2050920" y="4869000"/>
                <a:ext cx="10224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5"/>
          <p:cNvSpPr/>
          <p:nvPr/>
        </p:nvSpPr>
        <p:spPr>
          <a:xfrm>
            <a:off x="1403280" y="90792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7"/>
              <p:cNvSpPr txBox="1"/>
              <p:nvPr/>
            </p:nvSpPr>
            <p:spPr>
              <a:xfrm>
                <a:off x="971640" y="404640"/>
                <a:ext cx="2682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403280" y="1413000"/>
                <a:ext cx="17794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332000" y="2205000"/>
                <a:ext cx="1814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1258920" y="2852640"/>
                <a:ext cx="13795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Line 5"/>
          <p:cNvSpPr/>
          <p:nvPr/>
        </p:nvSpPr>
        <p:spPr>
          <a:xfrm>
            <a:off x="4930920" y="907920"/>
            <a:ext cx="252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4427640" y="404640"/>
                <a:ext cx="31035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4932360" y="981000"/>
                <a:ext cx="1781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4932360" y="1714680"/>
                <a:ext cx="2106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4807080" y="2205000"/>
                <a:ext cx="1296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6804000" y="2421000"/>
                <a:ext cx="1816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6516720" y="4870440"/>
                <a:ext cx="15825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6657840" y="2997360"/>
                <a:ext cx="24861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4932360" y="5516640"/>
                <a:ext cx="34304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0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4807080" y="3070080"/>
                <a:ext cx="1152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3"/>
          <p:cNvSpPr/>
          <p:nvPr/>
        </p:nvSpPr>
        <p:spPr>
          <a:xfrm>
            <a:off x="1403280" y="3860640"/>
            <a:ext cx="2448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... neexistuj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114560" y="5373720"/>
            <a:ext cx="345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ne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6516720" y="3933720"/>
                <a:ext cx="20559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8:03Z</dcterms:modified>
  <cp:revision>324</cp:revision>
  <dc:subject/>
  <dc:title>Posloupnosti</dc:title>
</cp:coreProperties>
</file>