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CF5-E2EA-4E3D-BA7E-BCF2A45880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8B9-0A2C-4D33-8B22-D90E19E4E4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5FC-3F4A-4E1B-BE9D-4FFA4A531F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03B-E51F-4C3E-A0C7-A0AA6AF861C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4ED7-B642-44E2-B604-FCB1D4E3AD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F6D-AE38-4CAE-9B86-72134907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1B5-D502-49C3-A7B0-0611E9CF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D26-9346-4277-B1BC-BC3E6EA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CF3-B385-469C-9FAC-1E4A4F1A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4332-3EF8-49D1-A6EB-FA63CE85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34C5-001A-4D8F-8846-00FF76DC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192-643D-412E-9879-4C8719A5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D1A4-904A-42D8-BBBE-06C3AC82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B6FF-5342-4D0C-97CB-93552B2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979B-5075-4E7A-9515-152C0774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18A-DA91-4014-8BA3-BDFA979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75BF-51F7-4516-BFD5-0D44AA3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2323-B014-4B36-952B-D4F215C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117B-DCDD-4A83-8419-16DDAE2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2F2-4270-4DC2-9954-54B6CE3B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9D4-EFF4-4795-B8DD-D2DB8F3C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6AD-DC5C-4AEB-B40D-D03EC136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68C-9839-43CE-A60F-0BF3AFD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5DE-99EE-4C90-9409-E94216F3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4C6-0CD3-4374-97C8-48D6D16D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537-D60B-418A-BE81-487E24D3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4B4-D0BA-4CAE-AABB-9D724B00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2CC-DCC0-4A92-B6F8-B207BCB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228-AD37-4C7A-BA0C-830D45FA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2DBC-8230-4C00-AF3B-54C3511DE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E8DA-1F56-46FD-813A-7479FD8CA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699160" y="2637000"/>
                <a:ext cx="979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shor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860480" y="4149720"/>
                <a:ext cx="131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12400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větší než 1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4932360" y="2205000"/>
                <a:ext cx="246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4427640" y="2708280"/>
                <a:ext cx="2938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2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4067280" y="4365720"/>
                <a:ext cx="1158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140360" y="522936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6516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643280" y="5732640"/>
                <a:ext cx="729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4356000" y="616572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5796000" y="3284640"/>
                <a:ext cx="7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6045120" y="4365720"/>
                <a:ext cx="1239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66764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84720" y="5229360"/>
                <a:ext cx="139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6588000" y="5732640"/>
                <a:ext cx="7272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7596360" y="6165720"/>
            <a:ext cx="15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Line 8"/>
          <p:cNvSpPr/>
          <p:nvPr/>
        </p:nvSpPr>
        <p:spPr>
          <a:xfrm>
            <a:off x="176364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menší než 1 –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356000" y="2276640"/>
                <a:ext cx="2575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219640" y="2708280"/>
                <a:ext cx="15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0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040280" y="4365720"/>
                <a:ext cx="1212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067280" y="5229360"/>
                <a:ext cx="1201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4"/>
          <p:cNvSpPr/>
          <p:nvPr/>
        </p:nvSpPr>
        <p:spPr>
          <a:xfrm>
            <a:off x="3852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4500720" y="5734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6877080" y="616572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5580000" y="3284640"/>
                <a:ext cx="978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6534000" y="4365720"/>
                <a:ext cx="1159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811692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6588000" y="522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804000" y="5734080"/>
                <a:ext cx="97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4716360" y="6165720"/>
            <a:ext cx="15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89160" y="277920"/>
                <a:ext cx="1974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2340000" y="1773360"/>
                <a:ext cx="5257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9 0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1187280" y="270828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5651640" y="1628640"/>
                <a:ext cx="12398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5796000" y="213372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5823000" y="2637000"/>
                <a:ext cx="7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050920" y="4869000"/>
                <a:ext cx="8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050920" y="5373720"/>
                <a:ext cx="1036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3132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3995640" y="59500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162864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3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1;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∞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nemě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557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exponenc. nerce, učivo II. roč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974880" y="196920"/>
                <a:ext cx="305748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" name="Line 8"/>
          <p:cNvSpPr/>
          <p:nvPr/>
        </p:nvSpPr>
        <p:spPr>
          <a:xfrm>
            <a:off x="1619280" y="1844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097000" y="2127240"/>
                <a:ext cx="6723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48 57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Rectangle 4"/>
          <p:cNvSpPr/>
          <p:nvPr/>
        </p:nvSpPr>
        <p:spPr>
          <a:xfrm>
            <a:off x="1187280" y="386064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jsou stále větší než 0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732720" y="321300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5148360" y="321300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0544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16000" y="18900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86728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5345280" y="1300320"/>
                <a:ext cx="25588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580000" y="234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7164360" y="2852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796000" y="285264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4"/>
          <p:cNvSpPr/>
          <p:nvPr/>
        </p:nvSpPr>
        <p:spPr>
          <a:xfrm>
            <a:off x="1116000" y="342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403280" y="1413000"/>
            <a:ext cx="388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1/2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0; 1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mění na opačn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23880" y="40212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24360" y="3860640"/>
                <a:ext cx="1386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6372360" y="3860640"/>
                <a:ext cx="13366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588000" y="5732640"/>
                <a:ext cx="12020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7020000" y="6164280"/>
                <a:ext cx="726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4"/>
          <p:cNvSpPr/>
          <p:nvPr/>
        </p:nvSpPr>
        <p:spPr>
          <a:xfrm>
            <a:off x="7956720" y="6164280"/>
            <a:ext cx="11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64000" y="5084640"/>
                <a:ext cx="122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3059280" y="6178680"/>
            <a:ext cx="295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odmínka platí vždy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670200" y="5589720"/>
                <a:ext cx="1152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4232160" y="4502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Skupina 110"/>
          <p:cNvGrpSpPr/>
          <p:nvPr/>
        </p:nvGrpSpPr>
        <p:grpSpPr>
          <a:xfrm>
            <a:off x="4788000" y="3933720"/>
            <a:ext cx="285480" cy="285840"/>
            <a:chOff x="4788000" y="3933720"/>
            <a:chExt cx="285480" cy="285840"/>
          </a:xfrm>
        </p:grpSpPr>
        <p:sp>
          <p:nvSpPr>
            <p:cNvPr id="336" name="Elipsa 109"/>
            <p:cNvSpPr/>
            <p:nvPr/>
          </p:nvSpPr>
          <p:spPr>
            <a:xfrm>
              <a:off x="4788000" y="393372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4859280" y="4076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4930920" y="4004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64000" y="5589720"/>
            <a:ext cx="1368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3"/>
            <a:endCxn id="336" idx="6"/>
          </p:cNvCxnSpPr>
          <p:nvPr/>
        </p:nvCxnSpPr>
        <p:spPr>
          <a:xfrm flipV="1">
            <a:off x="4941720" y="4076280"/>
            <a:ext cx="132480" cy="1766160"/>
          </a:xfrm>
          <a:prstGeom prst="curvedConnector5">
            <a:avLst>
              <a:gd name="adj1" fmla="val 523978"/>
              <a:gd name="adj2" fmla="val 49989"/>
              <a:gd name="adj3" fmla="val 523978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6372360" y="4724280"/>
                <a:ext cx="186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04760" y="176040"/>
                <a:ext cx="2541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Line 8"/>
          <p:cNvSpPr/>
          <p:nvPr/>
        </p:nvSpPr>
        <p:spPr>
          <a:xfrm>
            <a:off x="1619280" y="1125360"/>
            <a:ext cx="19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3708360" y="333360"/>
                <a:ext cx="38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4"/>
          <p:cNvSpPr/>
          <p:nvPr/>
        </p:nvSpPr>
        <p:spPr>
          <a:xfrm>
            <a:off x="1187280" y="119700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není ani rostoucí, ani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y oscilují mezi zápornými a kladnými hodnotam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záporné hodnoty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kladné hodnot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–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6000" y="414972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–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547640" y="472428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08360" y="4653000"/>
                <a:ext cx="145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356000" y="5373720"/>
                <a:ext cx="89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6499080" y="4653000"/>
                <a:ext cx="1239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7093080" y="5373720"/>
                <a:ext cx="669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4"/>
          <p:cNvSpPr/>
          <p:nvPr/>
        </p:nvSpPr>
        <p:spPr>
          <a:xfrm>
            <a:off x="8028000" y="537372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116000" y="371628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0560" y="53737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sud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63640" y="5589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4140360" y="5950080"/>
                <a:ext cx="1145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6877080" y="5950080"/>
                <a:ext cx="920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4"/>
          <p:cNvSpPr/>
          <p:nvPr/>
        </p:nvSpPr>
        <p:spPr>
          <a:xfrm>
            <a:off x="8028000" y="595008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0920" y="595008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lich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63640" y="6165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720" y="6165720"/>
            <a:ext cx="144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83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lastností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monotónní; Posloupnost rostoucí; Posloupnost klesající; Posloupnost omezená zdola; Posloupnost omezená shora; Posloupnost omeze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187280" y="191628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, pro který reálný parametr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je daná posloupnost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) rostouc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b) klesající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) konstantní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900000" y="476280"/>
                <a:ext cx="167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Line 8"/>
          <p:cNvSpPr/>
          <p:nvPr/>
        </p:nvSpPr>
        <p:spPr>
          <a:xfrm>
            <a:off x="1425600" y="1162080"/>
            <a:ext cx="11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962440" y="585720"/>
                <a:ext cx="1636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222720" y="1214280"/>
                <a:ext cx="2289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5580000" y="1341360"/>
                <a:ext cx="129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9236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908000" y="371808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700280" y="47498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98764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4168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464184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4341960" y="4749840"/>
                <a:ext cx="15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88168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725004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745020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7378560" y="4726080"/>
                <a:ext cx="99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692360" y="5230800"/>
            <a:ext cx="1942920" cy="71280"/>
            <a:chOff x="1692360" y="5230800"/>
            <a:chExt cx="1942920" cy="71280"/>
          </a:xfrm>
        </p:grpSpPr>
        <p:sp>
          <p:nvSpPr>
            <p:cNvPr id="387" name=""/>
            <p:cNvSpPr/>
            <p:nvPr/>
          </p:nvSpPr>
          <p:spPr>
            <a:xfrm>
              <a:off x="1692360" y="52308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53020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27640" y="5230800"/>
            <a:ext cx="2089080" cy="71280"/>
            <a:chOff x="4427640" y="5230800"/>
            <a:chExt cx="2089080" cy="71280"/>
          </a:xfrm>
        </p:grpSpPr>
        <p:sp>
          <p:nvSpPr>
            <p:cNvPr id="390" name=""/>
            <p:cNvSpPr/>
            <p:nvPr/>
          </p:nvSpPr>
          <p:spPr>
            <a:xfrm>
              <a:off x="4427640" y="52308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7640" y="530208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51640" y="5230800"/>
            <a:ext cx="865440" cy="71280"/>
            <a:chOff x="7451640" y="5230800"/>
            <a:chExt cx="865440" cy="71280"/>
          </a:xfrm>
        </p:grpSpPr>
        <p:sp>
          <p:nvSpPr>
            <p:cNvPr id="393" name=""/>
            <p:cNvSpPr/>
            <p:nvPr/>
          </p:nvSpPr>
          <p:spPr>
            <a:xfrm>
              <a:off x="7451640" y="52308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51640" y="53020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8"/>
          <p:cNvSpPr/>
          <p:nvPr/>
        </p:nvSpPr>
        <p:spPr>
          <a:xfrm>
            <a:off x="1403280" y="1125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3203640" y="620640"/>
                <a:ext cx="207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3492360" y="1197000"/>
                <a:ext cx="275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6300720" y="1268280"/>
                <a:ext cx="172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258920" y="3213000"/>
                <a:ext cx="2428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1771560" y="3821040"/>
                <a:ext cx="995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4292640" y="31640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5580000" y="30686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419120" y="5283360"/>
                <a:ext cx="1555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959200" y="518796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7308720" y="3139920"/>
                <a:ext cx="997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4284720" y="3645000"/>
            <a:ext cx="1942920" cy="71280"/>
            <a:chOff x="4284720" y="3645000"/>
            <a:chExt cx="1942920" cy="71280"/>
          </a:xfrm>
        </p:grpSpPr>
        <p:sp>
          <p:nvSpPr>
            <p:cNvPr id="413" name=""/>
            <p:cNvSpPr/>
            <p:nvPr/>
          </p:nvSpPr>
          <p:spPr>
            <a:xfrm>
              <a:off x="4284720" y="36450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84720" y="37162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504800" y="5764320"/>
            <a:ext cx="2089080" cy="71280"/>
            <a:chOff x="1504800" y="5764320"/>
            <a:chExt cx="2089080" cy="71280"/>
          </a:xfrm>
        </p:grpSpPr>
        <p:sp>
          <p:nvSpPr>
            <p:cNvPr id="416" name=""/>
            <p:cNvSpPr/>
            <p:nvPr/>
          </p:nvSpPr>
          <p:spPr>
            <a:xfrm>
              <a:off x="1504800" y="576432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4800" y="58356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381800" y="3645000"/>
            <a:ext cx="865440" cy="71280"/>
            <a:chOff x="7381800" y="3645000"/>
            <a:chExt cx="865440" cy="71280"/>
          </a:xfrm>
        </p:grpSpPr>
        <p:sp>
          <p:nvSpPr>
            <p:cNvPr id="419" name=""/>
            <p:cNvSpPr/>
            <p:nvPr/>
          </p:nvSpPr>
          <p:spPr>
            <a:xfrm>
              <a:off x="7381800" y="36450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81800" y="37162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900000" y="476280"/>
                <a:ext cx="217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735200" y="439596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8"/>
          <p:cNvSpPr/>
          <p:nvPr/>
        </p:nvSpPr>
        <p:spPr>
          <a:xfrm>
            <a:off x="1403280" y="1386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3236760" y="396720"/>
                <a:ext cx="180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492360" y="1341360"/>
                <a:ext cx="2082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580000" y="1328760"/>
                <a:ext cx="1295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332000" y="2382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1835280" y="245412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1476360" y="3102120"/>
                <a:ext cx="2076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00000" y="4038480"/>
                <a:ext cx="2737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1908000" y="5950080"/>
                <a:ext cx="1027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4976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948360" y="2924280"/>
                <a:ext cx="130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948360" y="350028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645984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6948360" y="4751280"/>
                <a:ext cx="1306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6948360" y="5373720"/>
                <a:ext cx="997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971640" y="4653000"/>
                <a:ext cx="3189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826920" y="219240"/>
                <a:ext cx="2171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3851280" y="3284640"/>
                <a:ext cx="1873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4643280" y="3781440"/>
                <a:ext cx="83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08000" y="5300640"/>
                <a:ext cx="777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8"/>
          <p:cNvSpPr/>
          <p:nvPr/>
        </p:nvSpPr>
        <p:spPr>
          <a:xfrm>
            <a:off x="1403280" y="148428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987640" y="525600"/>
                <a:ext cx="1728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716360" y="549360"/>
                <a:ext cx="24894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7236000" y="549360"/>
                <a:ext cx="1333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837080" y="191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198900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2052720" y="256536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189080" y="3429000"/>
                <a:ext cx="2444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7175520" y="3651120"/>
                <a:ext cx="1027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52140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7020000" y="2924280"/>
                <a:ext cx="1306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484360" y="602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53112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7020000" y="475128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7196040" y="5965920"/>
                <a:ext cx="80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258920" y="429264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826920" y="349200"/>
                <a:ext cx="2027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4356000" y="2781360"/>
                <a:ext cx="123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4572000" y="3286080"/>
                <a:ext cx="838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484360" y="5229360"/>
                <a:ext cx="712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10"/>
          <p:cNvSpPr/>
          <p:nvPr/>
        </p:nvSpPr>
        <p:spPr>
          <a:xfrm>
            <a:off x="3564000" y="5580000"/>
            <a:ext cx="2232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716360" y="5229360"/>
            <a:ext cx="0" cy="4302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Oval 26"/>
          <p:cNvSpPr/>
          <p:nvPr/>
        </p:nvSpPr>
        <p:spPr>
          <a:xfrm>
            <a:off x="4643280" y="5084640"/>
            <a:ext cx="142920" cy="1447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597560" y="5661000"/>
                <a:ext cx="25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4932360" y="515772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9"/>
              <p:cNvSpPr txBox="1"/>
              <p:nvPr/>
            </p:nvSpPr>
            <p:spPr>
              <a:xfrm>
                <a:off x="4067280" y="530064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Skupina 212"/>
          <p:cNvGrpSpPr/>
          <p:nvPr/>
        </p:nvGrpSpPr>
        <p:grpSpPr>
          <a:xfrm>
            <a:off x="2771640" y="5229360"/>
            <a:ext cx="285840" cy="285480"/>
            <a:chOff x="2771640" y="5229360"/>
            <a:chExt cx="285840" cy="285480"/>
          </a:xfrm>
        </p:grpSpPr>
        <p:sp>
          <p:nvSpPr>
            <p:cNvPr id="470" name="Elipsa 213"/>
            <p:cNvSpPr/>
            <p:nvPr/>
          </p:nvSpPr>
          <p:spPr>
            <a:xfrm>
              <a:off x="2771640" y="522936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2842920" y="53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563640" y="5229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7210440" y="5460840"/>
                <a:ext cx="81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8"/>
          <p:cNvSpPr/>
          <p:nvPr/>
        </p:nvSpPr>
        <p:spPr>
          <a:xfrm>
            <a:off x="1547640" y="134136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3147840" y="622440"/>
                <a:ext cx="1587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3348000" y="1268280"/>
                <a:ext cx="1600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932360" y="1268280"/>
                <a:ext cx="137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692360" y="224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2195640" y="2316240"/>
                <a:ext cx="1276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2124000" y="3035160"/>
                <a:ext cx="1508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4560" y="3755880"/>
                <a:ext cx="197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7597800" y="3795840"/>
                <a:ext cx="1182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02144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7520040" y="3068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187280" y="5445000"/>
                <a:ext cx="143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7107480" y="501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7596360" y="5084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7667640" y="5705640"/>
                <a:ext cx="1184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332000" y="4548240"/>
                <a:ext cx="178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Skupina 212"/>
          <p:cNvGrpSpPr/>
          <p:nvPr/>
        </p:nvGrpSpPr>
        <p:grpSpPr>
          <a:xfrm>
            <a:off x="2627280" y="4403880"/>
            <a:ext cx="285840" cy="285480"/>
            <a:chOff x="2627280" y="4403880"/>
            <a:chExt cx="285840" cy="285480"/>
          </a:xfrm>
        </p:grpSpPr>
        <p:sp>
          <p:nvSpPr>
            <p:cNvPr id="491" name="Elipsa 213"/>
            <p:cNvSpPr/>
            <p:nvPr/>
          </p:nvSpPr>
          <p:spPr>
            <a:xfrm>
              <a:off x="2627280" y="440388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2698560" y="45464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900000" y="47628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5940360" y="458136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25"/>
          <p:cNvGrpSpPr/>
          <p:nvPr/>
        </p:nvGrpSpPr>
        <p:grpSpPr>
          <a:xfrm>
            <a:off x="3851280" y="4332240"/>
            <a:ext cx="2952720" cy="1004760"/>
            <a:chOff x="3851280" y="4332240"/>
            <a:chExt cx="2952720" cy="1004760"/>
          </a:xfrm>
        </p:grpSpPr>
        <p:sp>
          <p:nvSpPr>
            <p:cNvPr id="496" name="Line 10"/>
            <p:cNvSpPr/>
            <p:nvPr/>
          </p:nvSpPr>
          <p:spPr>
            <a:xfrm>
              <a:off x="3851280" y="48844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566100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89720" y="43322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>
              <a:off x="487512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4803840" y="43322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9"/>
                <p:cNvSpPr txBox="1"/>
                <p:nvPr/>
              </p:nvSpPr>
              <p:spPr>
                <a:xfrm>
                  <a:off x="4751280" y="5040000"/>
                  <a:ext cx="2239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9"/>
                <p:cNvSpPr txBox="1"/>
                <p:nvPr/>
              </p:nvSpPr>
              <p:spPr>
                <a:xfrm>
                  <a:off x="5594400" y="5067000"/>
                  <a:ext cx="162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5075280" y="447660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5651640" y="4508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46920" y="4149720"/>
            <a:ext cx="145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lz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dnoznačně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zhodnou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5280" y="494172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sud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4356000" y="4869000"/>
                <a:ext cx="378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276000" y="522936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lich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9"/>
              <p:cNvSpPr txBox="1"/>
              <p:nvPr/>
            </p:nvSpPr>
            <p:spPr>
              <a:xfrm>
                <a:off x="4356000" y="5229360"/>
                <a:ext cx="346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lastností posloupnost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708280"/>
            <a:ext cx="795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pro dané posloupnosti obecné vyjádření členů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042920" y="403200"/>
                <a:ext cx="20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4" name="Line 8"/>
          <p:cNvSpPr/>
          <p:nvPr/>
        </p:nvSpPr>
        <p:spPr>
          <a:xfrm>
            <a:off x="1619280" y="105264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492360" y="476280"/>
                <a:ext cx="154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3492360" y="1052640"/>
                <a:ext cx="2443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012000" y="1052640"/>
                <a:ext cx="1073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042920" y="1989000"/>
                <a:ext cx="2168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9" name="Line 8"/>
          <p:cNvSpPr/>
          <p:nvPr/>
        </p:nvSpPr>
        <p:spPr>
          <a:xfrm>
            <a:off x="1619280" y="2637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427560" y="2060640"/>
                <a:ext cx="16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427560" y="2637000"/>
                <a:ext cx="256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5940360" y="2637000"/>
                <a:ext cx="1728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7667640" y="2637000"/>
                <a:ext cx="1282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049400" y="35733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Line 8"/>
          <p:cNvSpPr/>
          <p:nvPr/>
        </p:nvSpPr>
        <p:spPr>
          <a:xfrm>
            <a:off x="1625760" y="4221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492360" y="3645000"/>
                <a:ext cx="1551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3492360" y="4221000"/>
                <a:ext cx="2444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5940360" y="4221000"/>
                <a:ext cx="155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7524720" y="4221000"/>
                <a:ext cx="10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284720" y="549360"/>
            <a:ext cx="216000" cy="3585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560"/>
              <a:gd name="textAreaBottom" fmla="*/ 348120 h 358560"/>
            </a:gdLst>
            <a:ahLst/>
            <a:rect l="textAreaLeft" t="textAreaTop" r="textAreaRight" b="textAreaBottom"/>
            <a:pathLst>
              <a:path w="21600" h="35832">
                <a:moveTo>
                  <a:pt x="3600" y="0"/>
                </a:moveTo>
                <a:arcTo wR="3600" hR="3600" stAng="16200000" swAng="-5400000"/>
                <a:lnTo>
                  <a:pt x="0" y="32232"/>
                </a:lnTo>
                <a:arcTo wR="3600" hR="3600" stAng="10800000" swAng="-5400000"/>
                <a:lnTo>
                  <a:pt x="18000" y="35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052640"/>
            <a:ext cx="0" cy="215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2"/>
            <a:endCxn id="164" idx="1"/>
          </p:cNvCxnSpPr>
          <p:nvPr/>
        </p:nvCxnSpPr>
        <p:spPr>
          <a:xfrm flipH="1" rot="16200000">
            <a:off x="4247280" y="1062000"/>
            <a:ext cx="388080" cy="99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708360" y="1268280"/>
            <a:ext cx="43200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052640"/>
            <a:ext cx="9349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042920" y="5229360"/>
                <a:ext cx="2200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Line 8"/>
          <p:cNvSpPr/>
          <p:nvPr/>
        </p:nvSpPr>
        <p:spPr>
          <a:xfrm>
            <a:off x="1625760" y="5877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419640" y="5300640"/>
                <a:ext cx="169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417840" y="5877000"/>
                <a:ext cx="2594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6012000" y="5877000"/>
                <a:ext cx="173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7740720" y="5877000"/>
                <a:ext cx="125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042920" y="260280"/>
                <a:ext cx="2948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Line 8"/>
          <p:cNvSpPr/>
          <p:nvPr/>
        </p:nvSpPr>
        <p:spPr>
          <a:xfrm>
            <a:off x="1547640" y="1052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476360" y="1125360"/>
                <a:ext cx="244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476360" y="1700280"/>
                <a:ext cx="3992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5477040" y="1700280"/>
                <a:ext cx="3666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971640" y="3284640"/>
                <a:ext cx="2468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Line 8"/>
          <p:cNvSpPr/>
          <p:nvPr/>
        </p:nvSpPr>
        <p:spPr>
          <a:xfrm>
            <a:off x="1704960" y="44895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547640" y="4508640"/>
                <a:ext cx="1789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547640" y="5516640"/>
                <a:ext cx="2684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4211640" y="5516640"/>
                <a:ext cx="1847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6084720" y="5516640"/>
                <a:ext cx="128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26836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773360"/>
            <a:ext cx="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48428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2"/>
            <a:endCxn id="187" idx="1"/>
          </p:cNvCxnSpPr>
          <p:nvPr/>
        </p:nvCxnSpPr>
        <p:spPr>
          <a:xfrm flipH="1" rot="16200000">
            <a:off x="2284200" y="1727640"/>
            <a:ext cx="424800" cy="2422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692360" y="2060640"/>
            <a:ext cx="4316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843200"/>
            <a:ext cx="6494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124000" y="241920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0364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flipH="1" rot="16200000">
            <a:off x="3617640" y="951480"/>
            <a:ext cx="577080" cy="1189800"/>
          </a:xfrm>
          <a:prstGeom prst="curvedConnector5">
            <a:avLst>
              <a:gd name="adj1" fmla="val -14044"/>
              <a:gd name="adj2" fmla="val 50000"/>
              <a:gd name="adj3" fmla="val -14044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140360" y="1844640"/>
            <a:ext cx="71892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monotónnost a omezenost dané posloupnosti. Svá tvrzení dokaž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068480" y="333360"/>
                <a:ext cx="2415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1765440" y="1628640"/>
                <a:ext cx="7378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1187280" y="314172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5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7800" y="2205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3080" y="1052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6760" y="22050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43640" y="1413000"/>
            <a:ext cx="0" cy="287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796000" y="2637000"/>
                <a:ext cx="784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7964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212400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50840" y="333360"/>
                <a:ext cx="24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1835280" y="1628640"/>
                <a:ext cx="672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9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Rectangle 4"/>
          <p:cNvSpPr/>
          <p:nvPr/>
        </p:nvSpPr>
        <p:spPr>
          <a:xfrm>
            <a:off x="1187280" y="2852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shor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klesají neomezeně, min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24Z</dcterms:modified>
  <cp:revision>309</cp:revision>
  <dc:subject/>
  <dc:title>Posloupnosti</dc:title>
</cp:coreProperties>
</file>