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B196-235A-485D-822A-00061AA435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B100-B453-4C74-A223-80D1A73BDBE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268D-4A0E-469A-BC30-87720785A06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úročený vklad + 2. zúročený vklad + ... + poslední zúročený vkl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8DA4-D0EB-4539-8A85-430EC514650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524D-8254-42DD-A140-8E3126409B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8739-8B80-436B-8625-533EBC335E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E90F-C3E2-448C-8178-CA4438252D3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7481-1F76-45E2-907E-036F3C895D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355B-A680-49C9-B318-4556BE3E834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11B5-E715-490D-8AD0-306C5DAB6D2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6D4D-423A-4C28-93B2-F703E21FFF6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EB20-FFEE-4A17-840B-65FFEA6BC6D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C7CE-5465-4E07-BFC3-BDA75091060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6C5-7EB3-4098-B2D1-60F01421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7D7-FAFC-4958-B6D7-599D013D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0CC-9E40-45AE-8DAE-DACA1EFF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50B-6D23-4023-B34E-8A10E7EE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F0B-7040-4F61-8F65-E741C47B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C10-F015-4DA3-9798-31AAE6EB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3FF-6B63-4778-A90E-B9F36FAE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AAB-2CF3-4309-866E-CBE20432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3BC-36F5-46FC-9DEC-36D57F96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B04-E0F4-4823-A7C2-65FC876D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9D8-83A4-4BC0-AE2E-0BB74C13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355-8052-4421-8CD4-AB4C3587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6C4C-37C3-4FD1-9761-7FEFB7C225E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STŘÁDÁNÍ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88000" y="4572000"/>
            <a:ext cx="4356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Užití  GP  v praxi</a:t>
            </a:r>
            <a:endParaRPr b="0" lang="en-US" sz="3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15840" y="3284640"/>
            <a:ext cx="2943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součet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členů G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0"/>
              <p:cNvSpPr txBox="1"/>
              <p:nvPr/>
            </p:nvSpPr>
            <p:spPr>
              <a:xfrm>
                <a:off x="4643280" y="3141720"/>
                <a:ext cx="2521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3"/>
              <p:cNvSpPr txBox="1"/>
              <p:nvPr/>
            </p:nvSpPr>
            <p:spPr>
              <a:xfrm>
                <a:off x="2916360" y="4870440"/>
                <a:ext cx="35272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1258920" y="1197000"/>
                <a:ext cx="5745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182600" y="2060640"/>
                <a:ext cx="7115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elková nastřádaná částk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0920" y="2133720"/>
            <a:ext cx="63374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87640" y="2637000"/>
            <a:ext cx="0" cy="720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4941720"/>
            <a:ext cx="3816360" cy="158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70160" y="37162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a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70520" y="41497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92480" y="422100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(každý následující sčítanec – člen GP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krát větší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Ze základního vzor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který vyjadřuje velikost nastřádané částky po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etech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dvodím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klad, anuita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čet let, po které vklady střádáme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3" name="Object 23"/>
              <p:cNvSpPr txBox="1"/>
              <p:nvPr/>
            </p:nvSpPr>
            <p:spPr>
              <a:xfrm>
                <a:off x="1476360" y="836640"/>
                <a:ext cx="18352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Rectangle 3"/>
          <p:cNvSpPr/>
          <p:nvPr/>
        </p:nvSpPr>
        <p:spPr>
          <a:xfrm>
            <a:off x="147636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1197000"/>
            <a:ext cx="216000" cy="287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3"/>
              <p:cNvSpPr txBox="1"/>
              <p:nvPr/>
            </p:nvSpPr>
            <p:spPr>
              <a:xfrm>
                <a:off x="3995640" y="2959200"/>
                <a:ext cx="5763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1692360" y="1773360"/>
                <a:ext cx="1834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76360" y="5084640"/>
                <a:ext cx="281772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3"/>
              <p:cNvSpPr txBox="1"/>
              <p:nvPr/>
            </p:nvSpPr>
            <p:spPr>
              <a:xfrm>
                <a:off x="1488960" y="2708280"/>
                <a:ext cx="20829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3"/>
              <p:cNvSpPr txBox="1"/>
              <p:nvPr/>
            </p:nvSpPr>
            <p:spPr>
              <a:xfrm>
                <a:off x="1765440" y="3789360"/>
                <a:ext cx="18637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3"/>
              <p:cNvSpPr txBox="1"/>
              <p:nvPr/>
            </p:nvSpPr>
            <p:spPr>
              <a:xfrm>
                <a:off x="3995640" y="3789360"/>
                <a:ext cx="1154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3618360" y="112536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nejprve zaměníme pro lepší orientac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3"/>
              <p:cNvSpPr txBox="1"/>
              <p:nvPr/>
            </p:nvSpPr>
            <p:spPr>
              <a:xfrm>
                <a:off x="5148360" y="3860640"/>
                <a:ext cx="13208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4140360" y="3789360"/>
            <a:ext cx="1008000" cy="9349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40360" y="3789360"/>
            <a:ext cx="1008000" cy="9349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Object 23"/>
              <p:cNvSpPr txBox="1"/>
              <p:nvPr/>
            </p:nvSpPr>
            <p:spPr>
              <a:xfrm>
                <a:off x="1908000" y="620640"/>
                <a:ext cx="16560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Rectangle 3"/>
          <p:cNvSpPr/>
          <p:nvPr/>
        </p:nvSpPr>
        <p:spPr>
          <a:xfrm>
            <a:off x="1403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69228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620640"/>
            <a:ext cx="7273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3780000" y="1584360"/>
                <a:ext cx="158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375440" y="2997360"/>
            <a:ext cx="26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známá v exponentu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vnici logaritmuje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3"/>
              <p:cNvSpPr txBox="1"/>
              <p:nvPr/>
            </p:nvSpPr>
            <p:spPr>
              <a:xfrm>
                <a:off x="4809960" y="4005360"/>
                <a:ext cx="4334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žijeme vzorec: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3"/>
              <p:cNvSpPr txBox="1"/>
              <p:nvPr/>
            </p:nvSpPr>
            <p:spPr>
              <a:xfrm>
                <a:off x="4786200" y="4863960"/>
                <a:ext cx="936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lo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867280" y="5084640"/>
                <a:ext cx="30765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3"/>
              <p:cNvSpPr txBox="1"/>
              <p:nvPr/>
            </p:nvSpPr>
            <p:spPr>
              <a:xfrm>
                <a:off x="1619280" y="2205000"/>
                <a:ext cx="21463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3"/>
              <p:cNvSpPr txBox="1"/>
              <p:nvPr/>
            </p:nvSpPr>
            <p:spPr>
              <a:xfrm>
                <a:off x="1979640" y="2997360"/>
                <a:ext cx="21463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3"/>
              <p:cNvSpPr txBox="1"/>
              <p:nvPr/>
            </p:nvSpPr>
            <p:spPr>
              <a:xfrm>
                <a:off x="1332000" y="3789360"/>
                <a:ext cx="31827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3"/>
              <p:cNvSpPr txBox="1"/>
              <p:nvPr/>
            </p:nvSpPr>
            <p:spPr>
              <a:xfrm>
                <a:off x="1187280" y="4726080"/>
                <a:ext cx="33544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3"/>
              <p:cNvSpPr txBox="1"/>
              <p:nvPr/>
            </p:nvSpPr>
            <p:spPr>
              <a:xfrm>
                <a:off x="1116000" y="1339920"/>
                <a:ext cx="172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3923280" y="8366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áměna stra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0920" y="228600"/>
            <a:ext cx="7988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0 000,- Kč placenými vždy počátkem roku               za 5 let při 2,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99640" y="2438280"/>
            <a:ext cx="7969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,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3"/>
              <p:cNvSpPr txBox="1"/>
              <p:nvPr/>
            </p:nvSpPr>
            <p:spPr>
              <a:xfrm>
                <a:off x="971640" y="5300640"/>
                <a:ext cx="2330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3"/>
              <p:cNvSpPr txBox="1"/>
              <p:nvPr/>
            </p:nvSpPr>
            <p:spPr>
              <a:xfrm>
                <a:off x="3203640" y="5300640"/>
                <a:ext cx="38019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3"/>
              <p:cNvSpPr txBox="1"/>
              <p:nvPr/>
            </p:nvSpPr>
            <p:spPr>
              <a:xfrm>
                <a:off x="6967440" y="5587920"/>
                <a:ext cx="21765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877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457080" y="39322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720" y="3933720"/>
            <a:ext cx="13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20 let nastřádali 1 000 000,- Kč         při 3,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8789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 00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,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3"/>
              <p:cNvSpPr txBox="1"/>
              <p:nvPr/>
            </p:nvSpPr>
            <p:spPr>
              <a:xfrm>
                <a:off x="1116000" y="5300640"/>
                <a:ext cx="22384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3348000" y="5373720"/>
                <a:ext cx="36194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00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3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3"/>
              <p:cNvSpPr txBox="1"/>
              <p:nvPr/>
            </p:nvSpPr>
            <p:spPr>
              <a:xfrm>
                <a:off x="6997680" y="5589720"/>
                <a:ext cx="21463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 165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3457080" y="39322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40720" y="3933720"/>
            <a:ext cx="13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3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nastřádám 150 000,- Kč pravidelnými počátkem roku placenými vklady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8 000,- Kč při 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6"/>
              <p:cNvSpPr txBox="1"/>
              <p:nvPr/>
            </p:nvSpPr>
            <p:spPr>
              <a:xfrm>
                <a:off x="1042920" y="5013360"/>
                <a:ext cx="30592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878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5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8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68000" y="386064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640" y="3860640"/>
            <a:ext cx="115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6"/>
              <p:cNvSpPr txBox="1"/>
              <p:nvPr/>
            </p:nvSpPr>
            <p:spPr>
              <a:xfrm>
                <a:off x="4067280" y="5084640"/>
                <a:ext cx="34560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6"/>
              <p:cNvSpPr txBox="1"/>
              <p:nvPr/>
            </p:nvSpPr>
            <p:spPr>
              <a:xfrm>
                <a:off x="7596360" y="5805360"/>
                <a:ext cx="138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5 000,- Kč placenými vždy počátkem roku za 6 let při 9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nastřádáme za 10 let pravidelnými počátkem roku placenými vklady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4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8 % p.a., b) 10 % p.a., c) 12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41 002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75 492,- Kč, b) 420 748,- Kč, c) 471 710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235692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avidelně ve stejných časových  intervalech ukládáme stále stejnou částku, tzv. vklad (anuita)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5 let nastřádal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 000 000,- Kč při 9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7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10 let nastřádal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500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7 % p.a., b) 9 % p.a., c) 11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51 084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3 821,- Kč, b) 30 193,- Kč, c) 26 938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476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nastřádám 400 000,- Kč pravidelnými počátkem roku placenými vklady 40 000,- Kč při 10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nastřádám 120 000,- Kč pravidelnými počátkem roku placenými vklady 10 000,- Kč př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5 % p.a., b) 10 % p.a., c) 1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59436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a) 9 let a 3 měs., b) 7 let a 9 měs., c) 6 let a 9 měs.</a:t>
            </a: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24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 let a 8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70–7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nastřádaná částk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vklad, anuit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6518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astřádaná částk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r>
              <a:rPr b="0" i="1" lang="cs-CZ" sz="3200" spc="-1" strike="noStrike" u="sng" baseline="-25000">
                <a:solidFill>
                  <a:srgbClr val="ffff00"/>
                </a:solidFill>
                <a:uFillTx/>
                <a:latin typeface="Times New Roman"/>
              </a:rPr>
              <a:t>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92000" y="830160"/>
            <a:ext cx="71960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inanční hodnota, kterou nastřádáme, (naspoříme) po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úrokovacích obdobíc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7280" y="198900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Vklad, anuit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692360" y="2506680"/>
            <a:ext cx="7196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ě ukládaná částka, vždy počátkem úrokovacího obdob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87280" y="362916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692360" y="4148280"/>
            <a:ext cx="7196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ýše odměny vyjádřená v procente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87280" y="494172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268360" y="5661000"/>
                <a:ext cx="194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920" y="456840"/>
            <a:ext cx="76564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257480" y="1268280"/>
            <a:ext cx="788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        10 000,- Kč placenými vždy počátkem roku               za 4 roky při 5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258920" y="2708280"/>
            <a:ext cx="75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258920" y="3357720"/>
            <a:ext cx="1152360" cy="25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2050920" y="335772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2050920" y="393228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2050920" y="450864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5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3564000" y="4508640"/>
            <a:ext cx="255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4427640" y="4508640"/>
            <a:ext cx="255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= 1,05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050920" y="508464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6028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13080" y="763560"/>
            <a:ext cx="65530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26880" y="26028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úroky (5 %) /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072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4872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308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0944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360" y="4076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1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360" y="4653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2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2360" y="5229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3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2360" y="5805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4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46560" y="4075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46560" y="4651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46560" y="522756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46560" y="58024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268280"/>
            <a:ext cx="65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60280"/>
            <a:ext cx="0" cy="5904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3860640"/>
            <a:ext cx="0" cy="2303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10920" y="260280"/>
            <a:ext cx="1800" cy="5904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059280" y="763560"/>
            <a:ext cx="144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86064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11280" y="443556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720" y="407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355640" y="763560"/>
            <a:ext cx="180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763560"/>
            <a:ext cx="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1708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964720" y="260280"/>
            <a:ext cx="1440" cy="5904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8360" y="34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3427560"/>
            <a:ext cx="12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3427560"/>
            <a:ext cx="64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26560" y="4075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,06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427560"/>
            <a:ext cx="20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4072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2000" y="34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427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5964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4075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01336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280" y="558972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1280" y="616428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49080" y="407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04360" y="3786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9308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2436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2436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52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9080" y="46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836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52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5803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12720" y="4076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68360" y="3787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12720" y="46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68360" y="436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720" y="52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49080" y="3787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4075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20000" y="4651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860640"/>
            <a:ext cx="8353440" cy="2303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" y="45813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6253200"/>
            <a:ext cx="845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nastřádáme za 4 roky 45 256,–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0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(střád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484280"/>
            <a:ext cx="79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Jednotlivé vklady se neúročí stejně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45720" indent="-4975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klad z prvního roku „vynese“ rozhodně více, než vklad vložen rok poslední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 úročení vkladů za jednotlivá období využijeme vzorce z předešlé kapitoly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úroková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3"/>
              <p:cNvSpPr txBox="1"/>
              <p:nvPr/>
            </p:nvSpPr>
            <p:spPr>
              <a:xfrm>
                <a:off x="3780000" y="4005360"/>
                <a:ext cx="1800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780000" y="4005360"/>
            <a:ext cx="647640" cy="792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92000"/>
              <a:gd name="textAreaBottom" fmla="*/ 760680 h 792000"/>
            </a:gdLst>
            <a:ahLst/>
            <a:rect l="textAreaLeft" t="textAreaTop" r="textAreaRight" b="textAreaBottom"/>
            <a:pathLst>
              <a:path w="21600" h="26412">
                <a:moveTo>
                  <a:pt x="3600" y="0"/>
                </a:moveTo>
                <a:arcTo wR="3600" hR="3600" stAng="16200000" swAng="-5400000"/>
                <a:lnTo>
                  <a:pt x="0" y="22812"/>
                </a:lnTo>
                <a:arcTo wR="3600" hR="3600" stAng="10800000" swAng="-5400000"/>
                <a:lnTo>
                  <a:pt x="18000" y="264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5229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ečná jisti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rčována vždy za 1 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522936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čáteční jisti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klad na počátku jednotlivých obdob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843280" y="4797360"/>
            <a:ext cx="1225440" cy="503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4005360"/>
            <a:ext cx="288720" cy="79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792000"/>
              <a:gd name="textAreaBottom" fmla="*/ 777960 h 792000"/>
            </a:gdLst>
            <a:ahLst/>
            <a:rect l="textAreaLeft" t="textAreaTop" r="textAreaRight" b="textAreaBottom"/>
            <a:pathLst>
              <a:path w="21600" h="59205">
                <a:moveTo>
                  <a:pt x="3600" y="0"/>
                </a:moveTo>
                <a:arcTo wR="3600" hR="3600" stAng="16200000" swAng="-5400000"/>
                <a:lnTo>
                  <a:pt x="0" y="55605"/>
                </a:lnTo>
                <a:arcTo wR="3600" hR="3600" stAng="10800000" swAng="-5400000"/>
                <a:lnTo>
                  <a:pt x="18000" y="59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48200" y="4797360"/>
            <a:ext cx="1639800" cy="5032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920" y="13892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1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2920" y="2036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2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2920" y="268452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3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2920" y="3332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4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8200" y="14130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18200" y="20606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8200" y="27082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8200" y="335592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436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55280" y="14130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,06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82920" y="14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3992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0" y="3787920"/>
            <a:ext cx="914400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7600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3308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08360" y="198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2060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80000" y="27082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77440" y="206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1708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17080" y="2060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17080" y="27082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3355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8580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4144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85800" y="206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41440" y="177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50880" y="2709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4908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93080" y="14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2062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9360" y="3932280"/>
            <a:ext cx="459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...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elková nastřádaná část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7640" y="404640"/>
            <a:ext cx="40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vklad a z něj vzniklé úrok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84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5274360" y="-2674080"/>
            <a:ext cx="287640" cy="7451640"/>
          </a:xfrm>
          <a:custGeom>
            <a:avLst/>
            <a:gdLst>
              <a:gd name="textAreaLeft" fmla="*/ 0 w 287640"/>
              <a:gd name="textAreaRight" fmla="*/ 103680 w 287640"/>
              <a:gd name="textAreaTop" fmla="*/ 194040 h 7451640"/>
              <a:gd name="textAreaBottom" fmla="*/ 7257600 h 745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0"/>
              <p:cNvSpPr txBox="1"/>
              <p:nvPr/>
            </p:nvSpPr>
            <p:spPr>
              <a:xfrm>
                <a:off x="0" y="1268280"/>
                <a:ext cx="1379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692360" y="1195560"/>
            <a:ext cx="7451640" cy="64908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0"/>
              <p:cNvSpPr txBox="1"/>
              <p:nvPr/>
            </p:nvSpPr>
            <p:spPr>
              <a:xfrm>
                <a:off x="1979640" y="1268280"/>
                <a:ext cx="4906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692360" y="184464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0"/>
              <p:cNvSpPr txBox="1"/>
              <p:nvPr/>
            </p:nvSpPr>
            <p:spPr>
              <a:xfrm>
                <a:off x="1979640" y="1916280"/>
                <a:ext cx="4535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692360" y="249228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2046240" y="2550960"/>
                <a:ext cx="4402080" cy="5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  02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692360" y="313992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0"/>
              <p:cNvSpPr txBox="1"/>
              <p:nvPr/>
            </p:nvSpPr>
            <p:spPr>
              <a:xfrm>
                <a:off x="2046240" y="3211560"/>
                <a:ext cx="440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164360" y="1195560"/>
            <a:ext cx="19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. vklad se úročí nejdéle a proto „vynese“ největší část zisk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20"/>
              <p:cNvSpPr txBox="1"/>
              <p:nvPr/>
            </p:nvSpPr>
            <p:spPr>
              <a:xfrm>
                <a:off x="0" y="1916280"/>
                <a:ext cx="1592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0"/>
              <p:cNvSpPr txBox="1"/>
              <p:nvPr/>
            </p:nvSpPr>
            <p:spPr>
              <a:xfrm>
                <a:off x="0" y="2563920"/>
                <a:ext cx="16178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0"/>
              <p:cNvSpPr txBox="1"/>
              <p:nvPr/>
            </p:nvSpPr>
            <p:spPr>
              <a:xfrm>
                <a:off x="468360" y="2995560"/>
                <a:ext cx="158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0"/>
              <p:cNvSpPr txBox="1"/>
              <p:nvPr/>
            </p:nvSpPr>
            <p:spPr>
              <a:xfrm>
                <a:off x="0" y="3211560"/>
                <a:ext cx="1352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1195560"/>
            <a:ext cx="9144000" cy="2592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1979640" y="4724280"/>
                <a:ext cx="57452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7164360" y="2492280"/>
            <a:ext cx="19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aopak poslední vklad  „vynese“ pouze jeden úrok z vklad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413000"/>
            <a:ext cx="223920" cy="914400"/>
          </a:xfrm>
          <a:custGeom>
            <a:avLst/>
            <a:gdLst>
              <a:gd name="textAreaLeft" fmla="*/ 143280 w 223920"/>
              <a:gd name="textAreaRight" fmla="*/ 224280 w 223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2708280"/>
            <a:ext cx="223920" cy="914400"/>
          </a:xfrm>
          <a:custGeom>
            <a:avLst/>
            <a:gdLst>
              <a:gd name="textAreaLeft" fmla="*/ 143280 w 223920"/>
              <a:gd name="textAreaRight" fmla="*/ 224280 w 223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57340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čítance seřazeny tak, aby měli postupně vzrůstající hodnotu, tj. od posledního vkladu až po první vklad a z nich vzniklých úrok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7:07Z</dcterms:modified>
  <cp:revision>97</cp:revision>
  <dc:subject/>
  <dc:title>Posloupnosti</dc:title>
</cp:coreProperties>
</file>