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ADB6F-8C24-40C6-BC83-4F153CEE4B9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DBEB4-ACF4-4064-B5BF-EDC96E56ADE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07D4A-387B-4C5F-BCDA-418EFDAC08A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88BE5-C353-42A6-ABD9-5F7EC2AA013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254C7-CCA7-41E6-BA8A-B7AB7043977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6AAAF-FD15-4BB5-8261-94B1B0719A4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3FA77-686E-4F4B-A42E-1D876C7D060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6BEB6-AFE6-46BF-8430-99FD4611324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CC1FF-B066-4ED4-860B-C71DC4832D7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83479-043C-44D6-A039-5329BBABC72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BCC6A-FE56-470A-A2ED-BDF50F33381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2026C-70B3-496C-8CC0-8E216EF1AA9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4497C-A6CD-485A-B89E-22C8B1F872A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E2BA4-30FD-417F-9222-528A80063B3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8BCFB-B04C-410D-A483-5EAFD98ED2E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F55DA-B602-4439-9C64-3D70EAC7487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64A4B-BF60-45D1-BA50-557E74619DE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31DC-29B2-484F-B017-819FF4DA3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E747-5310-484D-9F9A-8338B5B99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BFCC-3061-4E0B-B0B1-9B6B61D35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C7A8-A1B5-412B-99AB-EDA9C1D4B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BDDB-8A28-450B-9F96-403B3DEF8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1E19-B8F2-4A4A-AF05-9678280CD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57F3-9616-49BB-AD66-BC6E890F5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E6C5-595F-414C-9735-C62DB7DC9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8C60-9A43-4819-8F5F-AA4C183B2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48A0-B339-46D1-A161-C9EB115BB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39C3-76CD-421D-AAEE-581466649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5F7C-44D9-4BE7-9B28-D933189EE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prstGeom prst="pie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prstGeom prst="pie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prstGeom prst="pi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prstGeom prst="pie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prstGeom prst="pi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prstGeom prst="pi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prstGeom prst="pie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prstGeom prst="pi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prstGeom prst="pie">
              <a:avLst/>
            </a:pr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A5A7A-4C91-49B4-B169-01CBED32565A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8001000" cy="335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ccecff"/>
                </a:solidFill>
                <a:latin typeface="Times New Roman"/>
              </a:rPr>
              <a:t>ÚROKOVÁNÍ</a:t>
            </a:r>
            <a:endParaRPr b="0" lang="en-US" sz="8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3000" y="1371600"/>
            <a:ext cx="780264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ODVOZENÍ  VZORCE 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(jednoduché úrokování)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6" name="Object 9"/>
              <p:cNvSpPr txBox="1"/>
              <p:nvPr/>
            </p:nvSpPr>
            <p:spPr>
              <a:xfrm>
                <a:off x="5435640" y="620640"/>
                <a:ext cx="93672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9"/>
              <p:cNvSpPr txBox="1"/>
              <p:nvPr/>
            </p:nvSpPr>
            <p:spPr>
              <a:xfrm>
                <a:off x="3851280" y="816120"/>
                <a:ext cx="163188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ú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rPr>
                        <m:lit/>
                        <m:nor/>
                      </m:rPr>
                      <m:t xml:space="preserve"> z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9"/>
              <p:cNvSpPr txBox="1"/>
              <p:nvPr/>
            </p:nvSpPr>
            <p:spPr>
              <a:xfrm>
                <a:off x="1042920" y="1773360"/>
                <a:ext cx="1584360" cy="48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9"/>
              <p:cNvSpPr txBox="1"/>
              <p:nvPr/>
            </p:nvSpPr>
            <p:spPr>
              <a:xfrm>
                <a:off x="2627280" y="1557360"/>
                <a:ext cx="157500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9"/>
              <p:cNvSpPr txBox="1"/>
              <p:nvPr/>
            </p:nvSpPr>
            <p:spPr>
              <a:xfrm>
                <a:off x="7020000" y="1557360"/>
                <a:ext cx="192708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Object 9"/>
              <p:cNvSpPr txBox="1"/>
              <p:nvPr/>
            </p:nvSpPr>
            <p:spPr>
              <a:xfrm>
                <a:off x="1042920" y="2781360"/>
                <a:ext cx="154800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Object 9"/>
              <p:cNvSpPr txBox="1"/>
              <p:nvPr/>
            </p:nvSpPr>
            <p:spPr>
              <a:xfrm>
                <a:off x="2590920" y="2565360"/>
                <a:ext cx="247320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3274920" y="1628640"/>
            <a:ext cx="936720" cy="7938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141800" y="2643120"/>
            <a:ext cx="977760" cy="785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914560" y="1630440"/>
            <a:ext cx="1297080" cy="79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79640" y="2638440"/>
            <a:ext cx="1217520" cy="79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9"/>
              <p:cNvSpPr txBox="1"/>
              <p:nvPr/>
            </p:nvSpPr>
            <p:spPr>
              <a:xfrm>
                <a:off x="5292720" y="2565360"/>
                <a:ext cx="179388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9"/>
              <p:cNvSpPr txBox="1"/>
              <p:nvPr/>
            </p:nvSpPr>
            <p:spPr>
              <a:xfrm>
                <a:off x="7020000" y="2570040"/>
                <a:ext cx="192708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ct 9"/>
              <p:cNvSpPr txBox="1"/>
              <p:nvPr/>
            </p:nvSpPr>
            <p:spPr>
              <a:xfrm>
                <a:off x="1042920" y="3860640"/>
                <a:ext cx="157788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ct 9"/>
              <p:cNvSpPr txBox="1"/>
              <p:nvPr/>
            </p:nvSpPr>
            <p:spPr>
              <a:xfrm>
                <a:off x="2627280" y="3645000"/>
                <a:ext cx="266400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>
            <a:off x="4427640" y="3716280"/>
            <a:ext cx="865080" cy="792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916360" y="3716280"/>
            <a:ext cx="1439640" cy="792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9"/>
              <p:cNvSpPr txBox="1"/>
              <p:nvPr/>
            </p:nvSpPr>
            <p:spPr>
              <a:xfrm>
                <a:off x="5292720" y="3645000"/>
                <a:ext cx="176688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3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9"/>
              <p:cNvSpPr txBox="1"/>
              <p:nvPr/>
            </p:nvSpPr>
            <p:spPr>
              <a:xfrm>
                <a:off x="7018200" y="3645000"/>
                <a:ext cx="192888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>
            <a:off x="5580000" y="2637000"/>
            <a:ext cx="1441440" cy="79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9"/>
              <p:cNvSpPr txBox="1"/>
              <p:nvPr/>
            </p:nvSpPr>
            <p:spPr>
              <a:xfrm>
                <a:off x="1042920" y="4941720"/>
                <a:ext cx="157788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9"/>
              <p:cNvSpPr txBox="1"/>
              <p:nvPr/>
            </p:nvSpPr>
            <p:spPr>
              <a:xfrm>
                <a:off x="2627280" y="4726080"/>
                <a:ext cx="2736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3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4427640" y="4797360"/>
            <a:ext cx="865080" cy="792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916360" y="4797360"/>
            <a:ext cx="1439640" cy="792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9"/>
              <p:cNvSpPr txBox="1"/>
              <p:nvPr/>
            </p:nvSpPr>
            <p:spPr>
              <a:xfrm>
                <a:off x="5280120" y="4726080"/>
                <a:ext cx="179388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9"/>
              <p:cNvSpPr txBox="1"/>
              <p:nvPr/>
            </p:nvSpPr>
            <p:spPr>
              <a:xfrm>
                <a:off x="7018200" y="4726080"/>
                <a:ext cx="192888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5580000" y="3716280"/>
            <a:ext cx="1440000" cy="792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2360" y="2782800"/>
            <a:ext cx="358560" cy="503280"/>
          </a:xfrm>
          <a:custGeom>
            <a:avLst/>
            <a:gdLst>
              <a:gd name="textAreaLeft" fmla="*/ 17280 w 358560"/>
              <a:gd name="textAreaRight" fmla="*/ 341280 w 358560"/>
              <a:gd name="textAreaTop" fmla="*/ 17280 h 503280"/>
              <a:gd name="textAreaBottom" fmla="*/ 486000 h 503280"/>
            </a:gdLst>
            <a:ahLst/>
            <a:rect l="textAreaLeft" t="textAreaTop" r="textAreaRight" b="textAreaBottom"/>
            <a:pathLst>
              <a:path w="21600" h="30309">
                <a:moveTo>
                  <a:pt x="3600" y="0"/>
                </a:moveTo>
                <a:arcTo wR="3600" hR="3600" stAng="16200000" swAng="-5400000"/>
                <a:lnTo>
                  <a:pt x="0" y="26709"/>
                </a:lnTo>
                <a:arcTo wR="3600" hR="3600" stAng="10800000" swAng="-5400000"/>
                <a:lnTo>
                  <a:pt x="18000" y="303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92360" y="3860640"/>
            <a:ext cx="358560" cy="505080"/>
          </a:xfrm>
          <a:custGeom>
            <a:avLst/>
            <a:gdLst>
              <a:gd name="textAreaLeft" fmla="*/ 17280 w 358560"/>
              <a:gd name="textAreaRight" fmla="*/ 341280 w 358560"/>
              <a:gd name="textAreaTop" fmla="*/ 17280 h 505080"/>
              <a:gd name="textAreaBottom" fmla="*/ 487800 h 505080"/>
            </a:gdLst>
            <a:ahLst/>
            <a:rect l="textAreaLeft" t="textAreaTop" r="textAreaRight" b="textAreaBottom"/>
            <a:pathLst>
              <a:path w="21600" h="30418">
                <a:moveTo>
                  <a:pt x="3600" y="0"/>
                </a:moveTo>
                <a:arcTo wR="3600" hR="3600" stAng="16200000" swAng="-5400000"/>
                <a:lnTo>
                  <a:pt x="0" y="26818"/>
                </a:lnTo>
                <a:arcTo wR="3600" hR="3600" stAng="10800000" swAng="-5400000"/>
                <a:lnTo>
                  <a:pt x="18000" y="304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92360" y="4941720"/>
            <a:ext cx="360360" cy="50328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503280"/>
              <a:gd name="textAreaBottom" fmla="*/ 486000 h 503280"/>
            </a:gdLst>
            <a:ahLst/>
            <a:rect l="textAreaLeft" t="textAreaTop" r="textAreaRight" b="textAreaBottom"/>
            <a:pathLst>
              <a:path w="21600" h="30158">
                <a:moveTo>
                  <a:pt x="3600" y="0"/>
                </a:moveTo>
                <a:arcTo wR="3600" hR="3600" stAng="16200000" swAng="-5400000"/>
                <a:lnTo>
                  <a:pt x="0" y="26558"/>
                </a:lnTo>
                <a:arcTo wR="3600" hR="3600" stAng="10800000" swAng="-5400000"/>
                <a:lnTo>
                  <a:pt x="18000" y="301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1042920" y="189000"/>
            <a:ext cx="78454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ff33"/>
                </a:solidFill>
                <a:uFillTx/>
                <a:latin typeface="Times New Roman"/>
              </a:rPr>
              <a:t>Úrok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za stejné úrokovací doby </a:t>
            </a:r>
            <a:r>
              <a:rPr b="0" lang="en-US" sz="2400" spc="-1" strike="noStrike" u="sng">
                <a:solidFill>
                  <a:srgbClr val="66ff33"/>
                </a:solidFill>
                <a:uFillTx/>
                <a:latin typeface="Times New Roman"/>
              </a:rPr>
              <a:t>se nemění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a vypočítává se stále z téže původní jistiny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124000" y="1773360"/>
            <a:ext cx="50328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124000" y="2782800"/>
            <a:ext cx="50328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124000" y="3860640"/>
            <a:ext cx="50328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124000" y="4941720"/>
            <a:ext cx="50328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916360" y="1844640"/>
            <a:ext cx="360360" cy="360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64000" y="1628640"/>
            <a:ext cx="360360" cy="360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356000" y="1701720"/>
            <a:ext cx="140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vytknět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867280" y="1989000"/>
            <a:ext cx="100980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9"/>
              <p:cNvSpPr txBox="1"/>
              <p:nvPr/>
            </p:nvSpPr>
            <p:spPr>
              <a:xfrm>
                <a:off x="6620040" y="5734080"/>
                <a:ext cx="233676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9"/>
              <p:cNvSpPr txBox="1"/>
              <p:nvPr/>
            </p:nvSpPr>
            <p:spPr>
              <a:xfrm>
                <a:off x="7093080" y="5373720"/>
                <a:ext cx="16344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500"/>
                            </p:stCondLst>
                            <p:childTnLst>
                              <p:par>
                                <p:cTn id="4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000"/>
                            </p:stCondLst>
                            <p:childTnLst>
                              <p:par>
                                <p:cTn id="4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500"/>
                            </p:stCondLst>
                            <p:childTnLst>
                              <p:par>
                                <p:cTn id="5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500"/>
                            </p:stCondLst>
                            <p:childTnLst>
                              <p:par>
                                <p:cTn id="5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100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1000"/>
                            </p:stCondLst>
                            <p:childTnLst>
                              <p:par>
                                <p:cTn id="5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500"/>
                            </p:stCondLst>
                            <p:childTnLst>
                              <p:par>
                                <p:cTn id="5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2000"/>
                            </p:stCondLst>
                            <p:childTnLst>
                              <p:par>
                                <p:cTn id="5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7" name="Object 8"/>
              <p:cNvSpPr txBox="1"/>
              <p:nvPr/>
            </p:nvSpPr>
            <p:spPr>
              <a:xfrm>
                <a:off x="4643280" y="3284640"/>
                <a:ext cx="2689560" cy="11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2"/>
              <p:cNvSpPr txBox="1"/>
              <p:nvPr/>
            </p:nvSpPr>
            <p:spPr>
              <a:xfrm>
                <a:off x="1935000" y="3214800"/>
                <a:ext cx="276552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6"/>
              <p:cNvSpPr txBox="1"/>
              <p:nvPr/>
            </p:nvSpPr>
            <p:spPr>
              <a:xfrm>
                <a:off x="1979640" y="181080"/>
                <a:ext cx="232092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7"/>
              <p:cNvSpPr txBox="1"/>
              <p:nvPr/>
            </p:nvSpPr>
            <p:spPr>
              <a:xfrm>
                <a:off x="1908000" y="1117440"/>
                <a:ext cx="2391120" cy="98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8"/>
              <p:cNvSpPr txBox="1"/>
              <p:nvPr/>
            </p:nvSpPr>
            <p:spPr>
              <a:xfrm>
                <a:off x="1908000" y="2054160"/>
                <a:ext cx="246096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11"/>
              <p:cNvSpPr txBox="1"/>
              <p:nvPr/>
            </p:nvSpPr>
            <p:spPr>
              <a:xfrm>
                <a:off x="2340000" y="2852640"/>
                <a:ext cx="1839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 rot="16200000">
            <a:off x="-849960" y="2082240"/>
            <a:ext cx="4176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ednotlivé jistiny tvoří členy AP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284720" y="1989000"/>
            <a:ext cx="266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počáteční jistina je prvním členem AP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380360" y="3429000"/>
            <a:ext cx="17636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úrok je diferencí AP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908000" y="333360"/>
            <a:ext cx="459000" cy="4097520"/>
          </a:xfrm>
          <a:custGeom>
            <a:avLst/>
            <a:gdLst>
              <a:gd name="textAreaLeft" fmla="*/ 22320 w 459000"/>
              <a:gd name="textAreaRight" fmla="*/ 436680 w 459000"/>
              <a:gd name="textAreaTop" fmla="*/ 22320 h 4097520"/>
              <a:gd name="textAreaBottom" fmla="*/ 4075200 h 4097520"/>
            </a:gdLst>
            <a:ahLst/>
            <a:rect l="textAreaLeft" t="textAreaTop" r="textAreaRight" b="textAreaBottom"/>
            <a:pathLst>
              <a:path w="21600" h="192690">
                <a:moveTo>
                  <a:pt x="3600" y="0"/>
                </a:moveTo>
                <a:arcTo wR="3600" hR="3600" stAng="16200000" swAng="-5400000"/>
                <a:lnTo>
                  <a:pt x="0" y="189090"/>
                </a:lnTo>
                <a:arcTo wR="3600" hR="3600" stAng="10800000" swAng="-5400000"/>
                <a:lnTo>
                  <a:pt x="18000" y="19269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1476000" y="2349360"/>
            <a:ext cx="43164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5221440" y="2781000"/>
            <a:ext cx="1440" cy="64764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003640" y="3429000"/>
            <a:ext cx="432000" cy="172872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1728720"/>
              <a:gd name="textAreaBottom" fmla="*/ 1707840 h 1728720"/>
            </a:gdLst>
            <a:ahLst/>
            <a:rect l="textAreaLeft" t="textAreaTop" r="textAreaRight" b="textAreaBottom"/>
            <a:pathLst>
              <a:path w="21600" h="86382">
                <a:moveTo>
                  <a:pt x="3600" y="0"/>
                </a:moveTo>
                <a:arcTo wR="3600" hR="3600" stAng="16200000" swAng="-5400000"/>
                <a:lnTo>
                  <a:pt x="0" y="82782"/>
                </a:lnTo>
                <a:arcTo wR="3600" hR="3600" stAng="10800000" swAng="-5400000"/>
                <a:lnTo>
                  <a:pt x="18000" y="863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516720" y="3284640"/>
            <a:ext cx="719280" cy="1081080"/>
          </a:xfrm>
          <a:custGeom>
            <a:avLst/>
            <a:gdLst>
              <a:gd name="textAreaLeft" fmla="*/ 34920 w 719280"/>
              <a:gd name="textAreaRight" fmla="*/ 684360 w 719280"/>
              <a:gd name="textAreaTop" fmla="*/ 34920 h 1081080"/>
              <a:gd name="textAreaBottom" fmla="*/ 1046160 h 1081080"/>
            </a:gdLst>
            <a:ahLst/>
            <a:rect l="textAreaLeft" t="textAreaTop" r="textAreaRight" b="textAreaBottom"/>
            <a:pathLst>
              <a:path w="21600" h="32459">
                <a:moveTo>
                  <a:pt x="3600" y="0"/>
                </a:moveTo>
                <a:arcTo wR="3600" hR="3600" stAng="16200000" swAng="-5400000"/>
                <a:lnTo>
                  <a:pt x="0" y="28859"/>
                </a:lnTo>
                <a:arcTo wR="3600" hR="3600" stAng="10800000" swAng="-5400000"/>
                <a:lnTo>
                  <a:pt x="18000" y="3245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236000" y="3933720"/>
            <a:ext cx="431640" cy="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1116000" y="5229360"/>
            <a:ext cx="8028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ři jednoduchém úrokování roste hodnota jistiny lineárně (pozvolna)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říklady jsou velmi jednoduché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8"/>
              <p:cNvSpPr txBox="1"/>
              <p:nvPr/>
            </p:nvSpPr>
            <p:spPr>
              <a:xfrm>
                <a:off x="3276720" y="4508640"/>
                <a:ext cx="405108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P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" name=""/>
          <p:cNvSpPr/>
          <p:nvPr/>
        </p:nvSpPr>
        <p:spPr>
          <a:xfrm>
            <a:off x="6948360" y="4365720"/>
            <a:ext cx="360360" cy="64764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647640"/>
              <a:gd name="textAreaBottom" fmla="*/ 630360 h 647640"/>
            </a:gdLst>
            <a:ahLst/>
            <a:rect l="textAreaLeft" t="textAreaTop" r="textAreaRight" b="textAreaBottom"/>
            <a:pathLst>
              <a:path w="21600" h="38802">
                <a:moveTo>
                  <a:pt x="3600" y="0"/>
                </a:moveTo>
                <a:arcTo wR="3600" hR="3600" stAng="16200000" swAng="-5400000"/>
                <a:lnTo>
                  <a:pt x="0" y="35202"/>
                </a:lnTo>
                <a:arcTo wR="3600" hR="3600" stAng="10800000" swAng="-5400000"/>
                <a:lnTo>
                  <a:pt x="18000" y="388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500"/>
                            </p:stCondLst>
                            <p:childTnLst>
                              <p:par>
                                <p:cTn id="6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1500"/>
                            </p:stCondLst>
                            <p:childTnLst>
                              <p:par>
                                <p:cTn id="6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500"/>
                            </p:stCondLst>
                            <p:childTnLst>
                              <p:par>
                                <p:cTn id="6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500"/>
                            </p:stCondLst>
                            <p:childTnLst>
                              <p:par>
                                <p:cTn id="6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500"/>
                            </p:stCondLst>
                            <p:childTnLst>
                              <p:par>
                                <p:cTn id="6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6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1500"/>
                            </p:stCondLst>
                            <p:childTnLst>
                              <p:par>
                                <p:cTn id="6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320" y="259920"/>
            <a:ext cx="80773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ecff"/>
                </a:solidFill>
                <a:uFillTx/>
                <a:latin typeface="Times New Roman"/>
              </a:rPr>
              <a:t>Příklad 1:</a:t>
            </a:r>
            <a:br>
              <a:rPr sz="3000"/>
            </a:b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Jaká je tržní hodnota směnky s nominální hodnotou 120 000,- Kč po 5 letech při úročení 15 % p.a.?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42920" y="2205000"/>
            <a:ext cx="7878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ccecff"/>
                </a:solidFill>
                <a:uFillTx/>
                <a:latin typeface="Times New Roman"/>
              </a:rPr>
              <a:t>Řešení: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0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= 120 000,- Kč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 = 5 let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 = 15 % p.a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= ?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23"/>
              <p:cNvSpPr txBox="1"/>
              <p:nvPr/>
            </p:nvSpPr>
            <p:spPr>
              <a:xfrm>
                <a:off x="1116000" y="5084640"/>
                <a:ext cx="2575080" cy="102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23"/>
              <p:cNvSpPr txBox="1"/>
              <p:nvPr/>
            </p:nvSpPr>
            <p:spPr>
              <a:xfrm>
                <a:off x="3660840" y="5087880"/>
                <a:ext cx="3024000" cy="102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23"/>
              <p:cNvSpPr txBox="1"/>
              <p:nvPr/>
            </p:nvSpPr>
            <p:spPr>
              <a:xfrm>
                <a:off x="6640560" y="5303880"/>
                <a:ext cx="227808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  <m:r>
                              <m:t xml:space="preserve">,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Kč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320" y="259920"/>
            <a:ext cx="80773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ecff"/>
                </a:solidFill>
                <a:uFillTx/>
                <a:latin typeface="Times New Roman"/>
              </a:rPr>
              <a:t>Příklad 2:</a:t>
            </a:r>
            <a:br>
              <a:rPr sz="3000"/>
            </a:b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Jaká byla nominální hodnota směnky, jejíž tržní hodnota je po 10 letech 51 000,- Kč při 5 % p.a.?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42920" y="2205000"/>
            <a:ext cx="7878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ccecff"/>
                </a:solidFill>
                <a:uFillTx/>
                <a:latin typeface="Times New Roman"/>
              </a:rPr>
              <a:t>Řešení: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 = 10 let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= 51 000,- Kč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 = 5 % p.a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0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= ?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23"/>
              <p:cNvSpPr txBox="1"/>
              <p:nvPr/>
            </p:nvSpPr>
            <p:spPr>
              <a:xfrm>
                <a:off x="5292720" y="2349360"/>
                <a:ext cx="234324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23"/>
              <p:cNvSpPr txBox="1"/>
              <p:nvPr/>
            </p:nvSpPr>
            <p:spPr>
              <a:xfrm>
                <a:off x="4788000" y="3357720"/>
                <a:ext cx="302724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1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⋅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23"/>
              <p:cNvSpPr txBox="1"/>
              <p:nvPr/>
            </p:nvSpPr>
            <p:spPr>
              <a:xfrm>
                <a:off x="5292720" y="5145120"/>
                <a:ext cx="228924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  <m:r>
                              <m:t xml:space="preserve">,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č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23"/>
              <p:cNvSpPr txBox="1"/>
              <p:nvPr/>
            </p:nvSpPr>
            <p:spPr>
              <a:xfrm>
                <a:off x="4788000" y="4437000"/>
                <a:ext cx="190980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1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=</m:t>
                    </m:r>
                    <m:r>
                      <m:t xml:space="preserve">1,5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4" dur="5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9" dur="5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320" y="259920"/>
            <a:ext cx="80773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ecff"/>
                </a:solidFill>
                <a:uFillTx/>
                <a:latin typeface="Times New Roman"/>
              </a:rPr>
              <a:t>Příklad 3:</a:t>
            </a:r>
            <a:br>
              <a:rPr sz="3000"/>
            </a:b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Za kolik let vzroste hodnota směnky z 10 000,- Kč na 100 000,- Kč při 12 % p.a.?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42920" y="2205000"/>
            <a:ext cx="7878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ccecff"/>
                </a:solidFill>
                <a:uFillTx/>
                <a:latin typeface="Times New Roman"/>
              </a:rPr>
              <a:t>Řešení: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0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= 10 000,- Kč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= 100 000,- Kč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 = 12 % p.a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  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= ?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Object 23"/>
              <p:cNvSpPr txBox="1"/>
              <p:nvPr/>
            </p:nvSpPr>
            <p:spPr>
              <a:xfrm>
                <a:off x="4789440" y="2205000"/>
                <a:ext cx="234324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Object 23"/>
              <p:cNvSpPr txBox="1"/>
              <p:nvPr/>
            </p:nvSpPr>
            <p:spPr>
              <a:xfrm>
                <a:off x="4140360" y="3932280"/>
                <a:ext cx="242712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Object 23"/>
              <p:cNvSpPr txBox="1"/>
              <p:nvPr/>
            </p:nvSpPr>
            <p:spPr>
              <a:xfrm>
                <a:off x="5005440" y="6165720"/>
                <a:ext cx="133488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 let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23"/>
              <p:cNvSpPr txBox="1"/>
              <p:nvPr/>
            </p:nvSpPr>
            <p:spPr>
              <a:xfrm>
                <a:off x="4140360" y="3068640"/>
                <a:ext cx="370656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23"/>
              <p:cNvSpPr txBox="1"/>
              <p:nvPr/>
            </p:nvSpPr>
            <p:spPr>
              <a:xfrm>
                <a:off x="4500720" y="4724280"/>
                <a:ext cx="166356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23"/>
              <p:cNvSpPr txBox="1"/>
              <p:nvPr/>
            </p:nvSpPr>
            <p:spPr>
              <a:xfrm>
                <a:off x="4716360" y="5661000"/>
                <a:ext cx="13906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90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Object 23"/>
              <p:cNvSpPr txBox="1"/>
              <p:nvPr/>
            </p:nvSpPr>
            <p:spPr>
              <a:xfrm>
                <a:off x="6588000" y="4941720"/>
                <a:ext cx="790560" cy="38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23"/>
              <p:cNvSpPr txBox="1"/>
              <p:nvPr/>
            </p:nvSpPr>
            <p:spPr>
              <a:xfrm>
                <a:off x="7862760" y="3357720"/>
                <a:ext cx="125424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23"/>
              <p:cNvSpPr txBox="1"/>
              <p:nvPr/>
            </p:nvSpPr>
            <p:spPr>
              <a:xfrm>
                <a:off x="6534000" y="5661000"/>
                <a:ext cx="70812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6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500"/>
                            </p:stCondLst>
                            <p:childTnLst>
                              <p:par>
                                <p:cTn id="7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500"/>
                            </p:stCondLst>
                            <p:childTnLst>
                              <p:par>
                                <p:cTn id="8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500"/>
                            </p:stCondLst>
                            <p:childTnLst>
                              <p:par>
                                <p:cTn id="8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320" y="259920"/>
            <a:ext cx="80773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ecff"/>
                </a:solidFill>
                <a:uFillTx/>
                <a:latin typeface="Times New Roman"/>
              </a:rPr>
              <a:t>Příklad 4:</a:t>
            </a:r>
            <a:br>
              <a:rPr sz="3000"/>
            </a:b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Jak je úročena směnka, jejíž hodnota za 4 roky vzrostla 40 000,- Kč na 50 000,- Kč?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42920" y="2205000"/>
            <a:ext cx="7878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ccecff"/>
                </a:solidFill>
                <a:uFillTx/>
                <a:latin typeface="Times New Roman"/>
              </a:rPr>
              <a:t>Řešení: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  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= 4 roky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0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= 40 000,- Kč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= 50 000,- Kč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 = ?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Object 23"/>
              <p:cNvSpPr txBox="1"/>
              <p:nvPr/>
            </p:nvSpPr>
            <p:spPr>
              <a:xfrm>
                <a:off x="4859280" y="2205000"/>
                <a:ext cx="234324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23"/>
              <p:cNvSpPr txBox="1"/>
              <p:nvPr/>
            </p:nvSpPr>
            <p:spPr>
              <a:xfrm>
                <a:off x="4282920" y="3860640"/>
                <a:ext cx="229104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Object 23"/>
              <p:cNvSpPr txBox="1"/>
              <p:nvPr/>
            </p:nvSpPr>
            <p:spPr>
              <a:xfrm>
                <a:off x="4930920" y="6080040"/>
                <a:ext cx="1552320" cy="6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p</m:t>
                            </m:r>
                            <m:r>
                              <m:t xml:space="preserve">=</m:t>
                            </m:r>
                            <m:r>
                              <m:t xml:space="preserve">6,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 %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23"/>
              <p:cNvSpPr txBox="1"/>
              <p:nvPr/>
            </p:nvSpPr>
            <p:spPr>
              <a:xfrm>
                <a:off x="4346640" y="3068640"/>
                <a:ext cx="343368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23"/>
              <p:cNvSpPr txBox="1"/>
              <p:nvPr/>
            </p:nvSpPr>
            <p:spPr>
              <a:xfrm>
                <a:off x="4282920" y="4724280"/>
                <a:ext cx="188280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23"/>
              <p:cNvSpPr txBox="1"/>
              <p:nvPr/>
            </p:nvSpPr>
            <p:spPr>
              <a:xfrm>
                <a:off x="4859280" y="5589720"/>
                <a:ext cx="114480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Object 23"/>
              <p:cNvSpPr txBox="1"/>
              <p:nvPr/>
            </p:nvSpPr>
            <p:spPr>
              <a:xfrm>
                <a:off x="6546960" y="4968720"/>
                <a:ext cx="790560" cy="38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Object 23"/>
              <p:cNvSpPr txBox="1"/>
              <p:nvPr/>
            </p:nvSpPr>
            <p:spPr>
              <a:xfrm>
                <a:off x="7835760" y="3284640"/>
                <a:ext cx="130824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23"/>
              <p:cNvSpPr txBox="1"/>
              <p:nvPr/>
            </p:nvSpPr>
            <p:spPr>
              <a:xfrm>
                <a:off x="6516720" y="5589720"/>
                <a:ext cx="60012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5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0" dur="5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5" dur="5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500"/>
                            </p:stCondLst>
                            <p:childTnLst>
                              <p:par>
                                <p:cTn id="8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500"/>
                            </p:stCondLst>
                            <p:childTnLst>
                              <p:par>
                                <p:cTn id="8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500"/>
                            </p:stCondLst>
                            <p:childTnLst>
                              <p:par>
                                <p:cTn id="8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ODVÁRKO, O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, Posloupnosti a finanční matematika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. vyd. Praha : Prometheus, 2005. ISBN 8071962392. Kapitola 3, s. 41–69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Rozlišujeme dva druhy úrokování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47280" y="1484280"/>
            <a:ext cx="759636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0720" indent="-450720">
              <a:lnSpc>
                <a:spcPct val="11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dddddd"/>
                </a:solidFill>
                <a:uFillTx/>
                <a:latin typeface="Times New Roman"/>
              </a:rPr>
              <a:t>Jednoduché úrokování</a:t>
            </a:r>
            <a:endParaRPr b="0" lang="en-US" sz="3600" spc="-1" strike="noStrike">
              <a:solidFill>
                <a:srgbClr val="dddddd"/>
              </a:solidFill>
              <a:latin typeface="Arial"/>
            </a:endParaRPr>
          </a:p>
          <a:p>
            <a:pPr lvl="1" marL="1166760" indent="-536400">
              <a:lnSpc>
                <a:spcPct val="110000"/>
              </a:lnSpc>
              <a:buClr>
                <a:srgbClr val="dddddd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užití AP v praxi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1166760" indent="-536400">
              <a:lnSpc>
                <a:spcPct val="110000"/>
              </a:lnSpc>
              <a:buClr>
                <a:srgbClr val="dddddd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oužití výjimečné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1166760" indent="-536400">
              <a:lnSpc>
                <a:spcPct val="110000"/>
              </a:lnSpc>
              <a:buClr>
                <a:srgbClr val="dddddd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apř. cenné papíry, směnky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1547640" y="3860640"/>
            <a:ext cx="75963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1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dddddd"/>
                </a:solidFill>
                <a:uFillTx/>
                <a:latin typeface="Times New Roman"/>
              </a:rPr>
              <a:t>Složené úrokování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lvl="1" marL="1166760" indent="-536400">
              <a:lnSpc>
                <a:spcPct val="110000"/>
              </a:lnSpc>
              <a:buClr>
                <a:srgbClr val="dddddd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užití GP v praxi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166760" indent="-536400">
              <a:lnSpc>
                <a:spcPct val="110000"/>
              </a:lnSpc>
              <a:buClr>
                <a:srgbClr val="dddddd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v praxi daleko častěji využívané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166760" indent="-536400">
              <a:lnSpc>
                <a:spcPct val="110000"/>
              </a:lnSpc>
              <a:buClr>
                <a:srgbClr val="dddddd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apř. běžné účty, půjčk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16000" y="54936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ccecff"/>
                </a:solidFill>
                <a:uFillTx/>
                <a:latin typeface="Times New Roman"/>
              </a:rPr>
              <a:t>Nejjednodušší případ</a:t>
            </a: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, </a:t>
            </a:r>
            <a:br>
              <a:rPr sz="4400"/>
            </a:b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kterým se budeme zabývat v hodinách matematiky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16000" y="2707920"/>
            <a:ext cx="77724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lnSpc>
                <a:spcPct val="14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ravidelně na konci roku je úročena, a to buď v jednoduchém či složeném úrokování, jednorázově uložená částka, tzv. jistina.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pull dir="l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Times New Roman"/>
              </a:rPr>
              <a:t>Důležité pojmy: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73200" indent="-673200">
              <a:lnSpc>
                <a:spcPct val="90000"/>
              </a:lnSpc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úrok</a:t>
            </a: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  <a:p>
            <a:pPr marL="673200" indent="-673200">
              <a:lnSpc>
                <a:spcPct val="90000"/>
              </a:lnSpc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jistina</a:t>
            </a: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  <a:p>
            <a:pPr marL="673200" indent="-673200">
              <a:lnSpc>
                <a:spcPct val="90000"/>
              </a:lnSpc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úroková doba</a:t>
            </a: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  <a:p>
            <a:pPr marL="673200" indent="-673200">
              <a:lnSpc>
                <a:spcPct val="90000"/>
              </a:lnSpc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úrokovací období</a:t>
            </a: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  <a:p>
            <a:pPr marL="673200" indent="-673200">
              <a:lnSpc>
                <a:spcPct val="90000"/>
              </a:lnSpc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úroková míra</a:t>
            </a: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  <a:p>
            <a:pPr marL="673200" indent="-673200">
              <a:lnSpc>
                <a:spcPct val="90000"/>
              </a:lnSpc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úročitel</a:t>
            </a: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pull dir="l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5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91840" y="259920"/>
            <a:ext cx="7651800" cy="57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Úrok, ozn. </a:t>
            </a:r>
            <a:r>
              <a:rPr b="0" i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ú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08000" y="765000"/>
            <a:ext cx="72360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59640" indent="-359640">
              <a:lnSpc>
                <a:spcPct val="100000"/>
              </a:lnSpc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odměna (např. finančního ústavu) uvedená     v Kč za zapůjčenou částku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05080" y="2521080"/>
            <a:ext cx="77389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Jistina, ozn. </a:t>
            </a:r>
            <a:r>
              <a:rPr b="0" i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a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1763640" y="3139920"/>
            <a:ext cx="7309080" cy="37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45240" indent="-345240">
              <a:lnSpc>
                <a:spcPct val="100000"/>
              </a:lnSpc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zapůjčená či uložená peněžní částka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5240" indent="-345240">
              <a:lnSpc>
                <a:spcPct val="100000"/>
              </a:lnSpc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značení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5240" indent="-345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66ff33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66ff33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66ff33"/>
                </a:solidFill>
                <a:latin typeface="Times New Roman"/>
              </a:rPr>
              <a:t>0</a:t>
            </a:r>
            <a:r>
              <a:rPr b="0" lang="cs-CZ" sz="2800" spc="-1" strike="noStrike" baseline="-25000">
                <a:solidFill>
                  <a:srgbClr val="66ff33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66ff33"/>
                </a:solidFill>
                <a:latin typeface="Times New Roman"/>
              </a:rPr>
              <a:t>počáteční (původní) jistina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5240" indent="-345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velikost jistiny na konci 1. roku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5240" indent="-345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velikost jistiny na konci 2. roku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5240" indent="-345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5240" indent="-345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66ff33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66ff33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velikost jistiny na konci n-tého roku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5240" indent="-345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66ff33"/>
                </a:solidFill>
                <a:latin typeface="Times New Roman"/>
              </a:rPr>
              <a:t>konečná jistina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900000" y="1916280"/>
            <a:ext cx="74851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5200" indent="-565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dddddd"/>
                </a:solidFill>
                <a:uFillTx/>
                <a:latin typeface="Times New Roman"/>
              </a:rPr>
              <a:t>Výše úroku závisí na veličinách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87280" y="1483920"/>
            <a:ext cx="75614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Úrokovací období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47280" y="2133360"/>
            <a:ext cx="759636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5200" indent="-565200">
              <a:lnSpc>
                <a:spcPct val="100000"/>
              </a:lnSpc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jelikož se v hodinách matematiky zaměřujeme na nejjednodušší typy příkladů finanční matematiky, bude ve všech příkladech toto období  </a:t>
            </a:r>
            <a:r>
              <a:rPr b="1" i="1" lang="en-US" sz="2800" spc="-1" strike="noStrike" u="sng">
                <a:solidFill>
                  <a:srgbClr val="66ff33"/>
                </a:solidFill>
                <a:uFillTx/>
                <a:latin typeface="Times New Roman"/>
              </a:rPr>
              <a:t>jeden rok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1187280" y="4005360"/>
            <a:ext cx="76518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Úroková míra, ozn. </a:t>
            </a:r>
            <a:r>
              <a:rPr b="0" i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p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1547640" y="4653000"/>
            <a:ext cx="759636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5200" indent="-56520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výše odměny ze zapůjčené jistin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Font typeface="Times New Roman"/>
              <a:buChar char="•"/>
              <a:tabLst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za úrokovací období (1 rok, per annum: zkratka – p.a.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Font typeface="Times New Roman"/>
              <a:buChar char="•"/>
              <a:tabLst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vyjádřená v procentech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565200" indent="-56520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např. 1,5 %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.a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1187280" y="189000"/>
            <a:ext cx="75614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Úroková doba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1547640" y="836640"/>
            <a:ext cx="7596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5200" indent="-565200">
              <a:lnSpc>
                <a:spcPct val="120000"/>
              </a:lnSpc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oba, na kterou je jistina zapůjčena či uložena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2920" y="260280"/>
            <a:ext cx="79027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rocento je jedna setina ze základu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42560" y="1125000"/>
            <a:ext cx="769644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Vypočtěte: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016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0 % z 590,- Kč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01680" indent="0">
              <a:lnSpc>
                <a:spcPct val="15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20 % z 600,- Kč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01680" indent="0">
              <a:lnSpc>
                <a:spcPct val="15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25 % z 800,- Kč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01680" indent="0">
              <a:lnSpc>
                <a:spcPct val="15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7 % z 200,- Kč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990720" y="49528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Určete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% z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5"/>
              <p:cNvSpPr txBox="1"/>
              <p:nvPr/>
            </p:nvSpPr>
            <p:spPr>
              <a:xfrm>
                <a:off x="4067280" y="1557360"/>
                <a:ext cx="251460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59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9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Kč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Object 6"/>
              <p:cNvSpPr txBox="1"/>
              <p:nvPr/>
            </p:nvSpPr>
            <p:spPr>
              <a:xfrm>
                <a:off x="4067280" y="2276640"/>
                <a:ext cx="251460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60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Kč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Object 7"/>
              <p:cNvSpPr txBox="1"/>
              <p:nvPr/>
            </p:nvSpPr>
            <p:spPr>
              <a:xfrm>
                <a:off x="4067280" y="3068640"/>
                <a:ext cx="253980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80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Kč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Object 8"/>
              <p:cNvSpPr txBox="1"/>
              <p:nvPr/>
            </p:nvSpPr>
            <p:spPr>
              <a:xfrm>
                <a:off x="4016520" y="3835440"/>
                <a:ext cx="144756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9"/>
              <p:cNvSpPr txBox="1"/>
              <p:nvPr/>
            </p:nvSpPr>
            <p:spPr>
              <a:xfrm>
                <a:off x="2871720" y="5416560"/>
                <a:ext cx="145260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⋅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9"/>
              <p:cNvSpPr txBox="1"/>
              <p:nvPr/>
            </p:nvSpPr>
            <p:spPr>
              <a:xfrm>
                <a:off x="4356000" y="5373720"/>
                <a:ext cx="103824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9"/>
              <p:cNvSpPr txBox="1"/>
              <p:nvPr/>
            </p:nvSpPr>
            <p:spPr>
              <a:xfrm>
                <a:off x="5435640" y="5373720"/>
                <a:ext cx="103824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8"/>
              <p:cNvSpPr txBox="1"/>
              <p:nvPr/>
            </p:nvSpPr>
            <p:spPr>
              <a:xfrm>
                <a:off x="5580000" y="3789360"/>
                <a:ext cx="129564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8"/>
              <p:cNvSpPr txBox="1"/>
              <p:nvPr/>
            </p:nvSpPr>
            <p:spPr>
              <a:xfrm>
                <a:off x="6934320" y="4005360"/>
                <a:ext cx="22096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Kč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192320" y="396864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Úrok za stejné úrokovací doby se nemění a vypočítává se stále z téže původní jistiny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1116000" y="692280"/>
            <a:ext cx="780264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Times New Roman"/>
              </a:rPr>
              <a:t>JEDNODUCHÉ ÚROKOVÁNÍ</a:t>
            </a:r>
            <a:endParaRPr b="0" lang="en-US" sz="6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71280" y="188640"/>
            <a:ext cx="791676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ecff"/>
                </a:solidFill>
                <a:uFillTx/>
                <a:latin typeface="Times New Roman"/>
              </a:rPr>
              <a:t>Ukázkový příklad: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" name="Rectangle 22"/>
          <p:cNvSpPr/>
          <p:nvPr/>
        </p:nvSpPr>
        <p:spPr>
          <a:xfrm>
            <a:off x="966960" y="765000"/>
            <a:ext cx="8177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Jaká je tržní hodnota dluhopisu s nominální hodnotou 40 000,- Kč po 4 letech při úročení 10 % p.a.?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966960" y="1700280"/>
            <a:ext cx="8177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Zápis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7" name="Rectangle 22"/>
          <p:cNvSpPr/>
          <p:nvPr/>
        </p:nvSpPr>
        <p:spPr>
          <a:xfrm>
            <a:off x="971640" y="2276640"/>
            <a:ext cx="1984320" cy="25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0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=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 =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 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8" name="Rectangle 22"/>
          <p:cNvSpPr/>
          <p:nvPr/>
        </p:nvSpPr>
        <p:spPr>
          <a:xfrm>
            <a:off x="1763640" y="2276640"/>
            <a:ext cx="230508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40 000,- Kč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4 rok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10 % p.a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3708360" y="2997360"/>
          <a:ext cx="5257800" cy="1944360"/>
        </p:xfrm>
        <a:graphic>
          <a:graphicData uri="http://schemas.openxmlformats.org/drawingml/2006/table">
            <a:tbl>
              <a:tblPr/>
              <a:tblGrid>
                <a:gridCol w="1224000"/>
                <a:gridCol w="1008000"/>
                <a:gridCol w="1049400"/>
                <a:gridCol w="968400"/>
                <a:gridCol w="1008000"/>
              </a:tblGrid>
              <a:tr h="576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7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dddddd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>
                      <a:noFill/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dddddd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3635280" y="4292640"/>
            <a:ext cx="13226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40 00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942160" y="4292640"/>
            <a:ext cx="99216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4 00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59280" y="4149720"/>
            <a:ext cx="7077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933800" y="4292640"/>
            <a:ext cx="99216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4 00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020000" y="4292640"/>
            <a:ext cx="99216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4 00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956720" y="4292640"/>
            <a:ext cx="100800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4 00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708360" y="3068640"/>
            <a:ext cx="1222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Times New Roman"/>
              </a:rPr>
              <a:t>nominální hodnota dluhopisu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08360" y="4221000"/>
            <a:ext cx="5257800" cy="7207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3203640" y="5084640"/>
                <a:ext cx="489564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5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000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19" name="Rectangle 22"/>
          <p:cNvSpPr/>
          <p:nvPr/>
        </p:nvSpPr>
        <p:spPr>
          <a:xfrm>
            <a:off x="1042920" y="5734080"/>
            <a:ext cx="810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Za daných podmínek vzroste za 4 roky hodnota dluhopisu na 56 000,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Kč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003640" y="3573360"/>
            <a:ext cx="8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za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1. rok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12000" y="3573360"/>
            <a:ext cx="8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za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2. rok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20000" y="3573360"/>
            <a:ext cx="8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za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3. rok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028000" y="3573360"/>
            <a:ext cx="8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za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4. rok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867640" y="3068640"/>
            <a:ext cx="224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ff"/>
                </a:solidFill>
                <a:latin typeface="Times New Roman"/>
              </a:rPr>
              <a:t>úrok (10 %) / Kč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6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6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6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6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6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700"/>
                            </p:stCondLst>
                            <p:childTnLst>
                              <p:par>
                                <p:cTn id="2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7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7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7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8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8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8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8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8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8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9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9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9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9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9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0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0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0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0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0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0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1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1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1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1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9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2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2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2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2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2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3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3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3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3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8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4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4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4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4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35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500"/>
                            </p:stCondLst>
                            <p:childTnLst>
                              <p:par>
                                <p:cTn id="3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3000"/>
                            </p:stCondLst>
                            <p:childTnLst>
                              <p:par>
                                <p:cTn id="3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UserXP</cp:lastModifiedBy>
  <dcterms:modified xsi:type="dcterms:W3CDTF">2013-05-28T11:32:27Z</dcterms:modified>
  <cp:revision>96</cp:revision>
  <dc:subject/>
  <dc:title>ÚROKOVÁNÍ</dc:title>
</cp:coreProperties>
</file>