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31BD-2281-4786-92A0-82FDCCF2B1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6B52-E552-4EE7-9034-130AC0D740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0B89-C242-47F4-A5BB-CCC561AA20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3D60-94F8-41C4-9682-1EA69F3710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00E-394C-4FB3-9866-5CDE81B453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7112-341E-45E4-9BC7-CB25E7F2A14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E4C-6D22-465B-AA3C-A4958048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D80-5412-4E8F-B226-EA9840A2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468-4861-41FA-9178-B26C31A8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B82-851E-4357-B95A-6AEEF253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C537-E0B1-46DF-8AF6-53338FC4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2283-22F6-4062-9013-91AE4729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B080-7F09-4308-BC59-A8D37557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C286-CBB1-4AD7-B291-9A76E9D9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8989-C2C2-4375-94D5-7A6B354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86CE-D4D1-4020-9E86-3C84F602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253-C4C3-4900-A4F7-4A0818B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039-5CD6-467F-BF73-A4239F8A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ED03-20EB-4EF1-832E-D39C3812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C2AA-5F57-4F9A-ABD7-A9DFD2AA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26FF-6535-4CC5-91C3-BA802E6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2AF0-5E56-4265-99FD-8D2B1C5F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A381-1D42-44EB-8651-0BA2AD33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CA4-F36B-4F36-B474-67AA700E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0D0-2138-4801-B5E4-0D2C8C7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D90-19B7-4195-ABF1-B81E916A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198-4149-45A7-9156-36DBFC5B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79F-63B0-457C-9C09-5A8DEBA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5CF-2C5C-436F-828D-EB7DB1F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07E-C6A4-44E8-A433-68E7A7A2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190-AE6A-46EA-82B5-3C317474E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D81-DADE-40F8-B082-D687B75F3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42920" y="69228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jedenácti členů GP se rovná 683. Vypočítejte první a poslední člen, když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1/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42920" y="191628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24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350028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roste-li z jednoho zrna za rok průměrně 16 zrn, jaké množství zrn vyroste z jednoho zrna za 10 le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4797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e přibližně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,33 .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16286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2920" y="54936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 o šesti členech má součet všech členů roven 63 a součet sudých členů  je 42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42920" y="1700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437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42920" y="328464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sedmičlenné GP je součet prvních tří členů 26 a posledních tří 2 106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42920" y="443700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 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6/7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042920" y="242100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2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600 = 0                  vložte 5 čísel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42920" y="4579920"/>
            <a:ext cx="810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36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024 = 0                  vložte 3 čísla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42920" y="357192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pět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0; 20; 40; 80; 16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57340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tr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6; 32; 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333360"/>
            <a:ext cx="81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4 a 108 vložte 2 čísla tak, aby s danými čísly tvoři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dv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; 3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042920" y="227664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pěti členů GP, jestliže krajní sčítance tvoří čísla 6 a 1 53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342756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04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333360"/>
            <a:ext cx="810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čtyř členů GP, jestliže krajní sčítance tvoří čísla 8 a 216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422100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2 a 4 096 vložte deset čísel tak, aby s danými čísly tvořila GP. Určete součet vložený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5877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09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4292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5 a 640 vložte tolik čísel, aby s danými čísly tvořila GP a souče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vloženýc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byl 63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8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5; 10; 20; 40; 80; 160; 320; 64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339920"/>
            <a:ext cx="75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Opět použijte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ale zároveň si uvědomte, že součet všech čísel získáme sečtením vložených a krajních členů dohromady, tzn.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= 630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313992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vádr, jehož hrany tvoří GP, má povrch 78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součet hran, které procházejí jedním vrcholem, je  13 cm. Určete objem kvád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42920" y="472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 = 27 cm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72428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c = 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bc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c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zapomeňte zafixovat délku prostřední hrany, protože pak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  a  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042920" y="404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6 141, první člen je 3 a poslední 3 072. Vypočítejte počet členů součtu a kvocient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19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užijte vzorec pro součet, pro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-tý člen a nezapomeňte, že platí i „staré“ vzorce pro mocniny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42920" y="3860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16 400, poslední člen je 10 935 a kvocient 3. Vypočítejte počet členů součtu a první člen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544500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82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48608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23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Úloha má tři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413000"/>
            <a:ext cx="7596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8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1 (delší vzorec pro součet), protože         pro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by platilo 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zniklou rovnici řešte pomocí substituce: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42920" y="378936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17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2920" y="4941720"/>
            <a:ext cx="810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97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GP a příklady pro samostatné řešení (u složitějších je přiložen návod)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; Součet členů G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G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03280" y="1052640"/>
                <a:ext cx="383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979640" y="170028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413080" y="2924280"/>
                <a:ext cx="25970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340000" y="4292640"/>
                <a:ext cx="28098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940360" y="4365720"/>
                <a:ext cx="2774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867280" y="5661000"/>
                <a:ext cx="30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41 40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9" name="Rectangle 3"/>
          <p:cNvSpPr/>
          <p:nvPr/>
        </p:nvSpPr>
        <p:spPr>
          <a:xfrm>
            <a:off x="1763640" y="191628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1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63640" y="2133720"/>
                <a:ext cx="25621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35280" y="3429000"/>
                <a:ext cx="289692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63640" y="5516640"/>
                <a:ext cx="13525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3780000" y="1268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732720" y="1125360"/>
                <a:ext cx="2082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659640" y="1916280"/>
                <a:ext cx="1598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6730920" y="2924280"/>
                <a:ext cx="13622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7020000" y="3860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042920" y="189000"/>
                <a:ext cx="4162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5"/>
          <p:cNvSpPr/>
          <p:nvPr/>
        </p:nvSpPr>
        <p:spPr>
          <a:xfrm>
            <a:off x="1763640" y="102564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716360" y="407664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716360" y="4869000"/>
                <a:ext cx="1884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789440" y="5661000"/>
                <a:ext cx="1422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763640" y="1197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716360" y="1197000"/>
                <a:ext cx="14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116000" y="404640"/>
                <a:ext cx="3965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5076720" y="1700280"/>
                <a:ext cx="878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59280" y="3284640"/>
                <a:ext cx="1708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64000" y="2781360"/>
                <a:ext cx="36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5"/>
          <p:cNvSpPr/>
          <p:nvPr/>
        </p:nvSpPr>
        <p:spPr>
          <a:xfrm>
            <a:off x="1547640" y="765000"/>
            <a:ext cx="352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971640" y="189000"/>
                <a:ext cx="419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474920" y="909720"/>
                <a:ext cx="226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762200" y="1630440"/>
                <a:ext cx="1498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906560" y="2206800"/>
                <a:ext cx="1133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889280" y="2854440"/>
                <a:ext cx="117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619280" y="350208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906560" y="4149720"/>
                <a:ext cx="226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971640" y="5157720"/>
                <a:ext cx="1787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2916360" y="5157720"/>
                <a:ext cx="2303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826920" y="5689440"/>
                <a:ext cx="1271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71640" y="5661000"/>
                <a:ext cx="1544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1763280" y="4797360"/>
            <a:ext cx="57636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4797360"/>
            <a:ext cx="649080" cy="21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857920" y="189000"/>
                <a:ext cx="2882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666760" y="1484280"/>
            <a:ext cx="320292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67280" y="2060640"/>
                <a:ext cx="288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943600" y="3141720"/>
                <a:ext cx="32004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 767,968 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72120" y="4280040"/>
            <a:ext cx="376380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2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568840" y="4856040"/>
                <a:ext cx="3575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5877000"/>
                <a:ext cx="316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/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22,656 2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1187280" y="189000"/>
                <a:ext cx="4097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2340000" y="2278080"/>
                <a:ext cx="6514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31 655 7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858 993 4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732720" y="549360"/>
                <a:ext cx="2170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 5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116000" y="162864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547640" y="4437000"/>
                <a:ext cx="733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285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187280" y="3789360"/>
                <a:ext cx="429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492360" y="6021360"/>
                <a:ext cx="537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441 4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5445000"/>
                <a:ext cx="413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eometr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21Z</dcterms:modified>
  <cp:revision>324</cp:revision>
  <dc:subject/>
  <dc:title>Posloupnosti</dc:title>
</cp:coreProperties>
</file>