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CE99-9A0A-4F21-9C8A-D59CC952857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7816-05BA-46F6-A4A3-D36BE11E673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7ECB-2E49-4454-B2A5-A212F593D5A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FA3A-736B-470A-9741-3AC8CDA4306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DA49-F65E-4BF7-94C7-4FED385B750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3474-0F24-4D71-ABD5-1E82B3578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4017-1EE0-44DD-898A-E3352ECB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9D62-4818-460B-BDF8-97078C620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D6A8-CFF3-4CF3-8691-BFC7681CB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9D53-375C-4868-B445-251887563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56FC-6E24-4506-AF07-018D181B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E5F8-BCD3-4554-8A5A-1B1135A8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0F9A-5FBC-453D-A790-4F9F2BD1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8832-AD75-435B-8E4D-CC27BFBD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54A8-2B7E-499B-AA69-713C7E24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8DB9-47AF-43EB-9EAB-5298CAF3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20B8-00D5-4848-9DA9-4FD6C650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95D3-E65B-4C7A-A4C3-5B746C8D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5D0F-4F38-46D6-9EF8-911323EE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ABBE-8CB6-4368-92E4-2F79CB3A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C4FD-7C1B-4A8A-9607-5C282B2B5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C5AC-BBBF-4CCF-80FA-033A59F38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CC5A-BD6D-4032-BA36-7622F99D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7BC5-6D70-48DD-A48D-BCED2616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97D2-6952-4CA5-AB9E-328C5677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16F4-5095-49D5-939F-068F18C6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E866-7396-460B-B3FD-1AE456D0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F9E4-E23F-49EA-93FE-1570B830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A981-331C-43EE-8040-23987799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99E4-4832-496D-8BBB-B0E151D69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9319-3D6A-421C-819F-2D1A1045B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10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 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260280"/>
            <a:ext cx="5295600" cy="12956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0" name="Object 7"/>
              <p:cNvSpPr txBox="1"/>
              <p:nvPr/>
            </p:nvSpPr>
            <p:spPr>
              <a:xfrm>
                <a:off x="1042920" y="189000"/>
                <a:ext cx="31752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1" name="Line 5"/>
          <p:cNvSpPr/>
          <p:nvPr/>
        </p:nvSpPr>
        <p:spPr>
          <a:xfrm>
            <a:off x="1619280" y="1341360"/>
            <a:ext cx="2665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4932360" y="189000"/>
            <a:ext cx="4211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aždý člen AP lze vyjádřit pomocí prvního a diferen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5419800" y="1521000"/>
                <a:ext cx="3251160" cy="58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5796000" y="5877000"/>
                <a:ext cx="30686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7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7"/>
              <p:cNvSpPr txBox="1"/>
              <p:nvPr/>
            </p:nvSpPr>
            <p:spPr>
              <a:xfrm>
                <a:off x="1403280" y="2492280"/>
                <a:ext cx="5270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9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1403280" y="3645000"/>
            <a:ext cx="5256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7"/>
              <p:cNvSpPr txBox="1"/>
              <p:nvPr/>
            </p:nvSpPr>
            <p:spPr>
              <a:xfrm>
                <a:off x="1403280" y="3716280"/>
                <a:ext cx="1932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1403280" y="479736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19640" y="386064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708360" y="3860640"/>
            <a:ext cx="0" cy="71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3419640" y="457992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52720" y="4219560"/>
            <a:ext cx="1429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780000" y="4076640"/>
            <a:ext cx="288720" cy="2872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7"/>
              <p:cNvSpPr txBox="1"/>
              <p:nvPr/>
            </p:nvSpPr>
            <p:spPr>
              <a:xfrm>
                <a:off x="1835280" y="4941720"/>
                <a:ext cx="13096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7"/>
              <p:cNvSpPr txBox="1"/>
              <p:nvPr/>
            </p:nvSpPr>
            <p:spPr>
              <a:xfrm>
                <a:off x="2268360" y="5516640"/>
                <a:ext cx="10796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7"/>
              <p:cNvSpPr txBox="1"/>
              <p:nvPr/>
            </p:nvSpPr>
            <p:spPr>
              <a:xfrm>
                <a:off x="6156360" y="3716280"/>
                <a:ext cx="21607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7"/>
              <p:cNvSpPr txBox="1"/>
              <p:nvPr/>
            </p:nvSpPr>
            <p:spPr>
              <a:xfrm>
                <a:off x="7381800" y="4292640"/>
                <a:ext cx="982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3995640" y="3933720"/>
            <a:ext cx="208764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492360" y="4005000"/>
            <a:ext cx="2592360" cy="165564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0" name="Object 7"/>
              <p:cNvSpPr txBox="1"/>
              <p:nvPr/>
            </p:nvSpPr>
            <p:spPr>
              <a:xfrm>
                <a:off x="1212840" y="239760"/>
                <a:ext cx="24559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1" name="Line 5"/>
          <p:cNvSpPr/>
          <p:nvPr/>
        </p:nvSpPr>
        <p:spPr>
          <a:xfrm>
            <a:off x="1763640" y="141300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7"/>
              <p:cNvSpPr txBox="1"/>
              <p:nvPr/>
            </p:nvSpPr>
            <p:spPr>
              <a:xfrm>
                <a:off x="1763640" y="1628640"/>
                <a:ext cx="360036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9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1763640" y="2781360"/>
            <a:ext cx="36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7"/>
              <p:cNvSpPr txBox="1"/>
              <p:nvPr/>
            </p:nvSpPr>
            <p:spPr>
              <a:xfrm>
                <a:off x="1835280" y="3068640"/>
                <a:ext cx="20952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1835280" y="4221000"/>
            <a:ext cx="2089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7"/>
              <p:cNvSpPr txBox="1"/>
              <p:nvPr/>
            </p:nvSpPr>
            <p:spPr>
              <a:xfrm>
                <a:off x="3108240" y="4309920"/>
                <a:ext cx="8193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Rectangle 3"/>
          <p:cNvSpPr/>
          <p:nvPr/>
        </p:nvSpPr>
        <p:spPr>
          <a:xfrm>
            <a:off x="3059280" y="4797360"/>
            <a:ext cx="60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4140360" y="5589720"/>
            <a:ext cx="500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P není jednoznačně určena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95640" y="321300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284720" y="3213000"/>
            <a:ext cx="0" cy="71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3995640" y="393228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29080" y="3571920"/>
            <a:ext cx="1429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356000" y="3429000"/>
            <a:ext cx="289080" cy="2872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211640" y="6093000"/>
            <a:ext cx="4681440" cy="72720"/>
            <a:chOff x="4211640" y="6093000"/>
            <a:chExt cx="4681440" cy="72720"/>
          </a:xfrm>
        </p:grpSpPr>
        <p:sp>
          <p:nvSpPr>
            <p:cNvPr id="275" name=""/>
            <p:cNvSpPr/>
            <p:nvPr/>
          </p:nvSpPr>
          <p:spPr>
            <a:xfrm>
              <a:off x="4211640" y="6165720"/>
              <a:ext cx="46814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11640" y="6093000"/>
              <a:ext cx="46814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7" name="Rectangle 3"/>
          <p:cNvSpPr/>
          <p:nvPr/>
        </p:nvSpPr>
        <p:spPr>
          <a:xfrm>
            <a:off x="4067280" y="4797360"/>
            <a:ext cx="50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oustava – nekonečně mnoho řešen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Line 5"/>
          <p:cNvSpPr/>
          <p:nvPr/>
        </p:nvSpPr>
        <p:spPr>
          <a:xfrm>
            <a:off x="1763640" y="134136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7"/>
              <p:cNvSpPr txBox="1"/>
              <p:nvPr/>
            </p:nvSpPr>
            <p:spPr>
              <a:xfrm>
                <a:off x="1692360" y="1557360"/>
                <a:ext cx="363204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1692360" y="2781360"/>
            <a:ext cx="3671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7"/>
              <p:cNvSpPr txBox="1"/>
              <p:nvPr/>
            </p:nvSpPr>
            <p:spPr>
              <a:xfrm>
                <a:off x="1619280" y="2997360"/>
                <a:ext cx="15397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6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1908000" y="4076640"/>
            <a:ext cx="122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7"/>
              <p:cNvSpPr txBox="1"/>
              <p:nvPr/>
            </p:nvSpPr>
            <p:spPr>
              <a:xfrm>
                <a:off x="2050920" y="4365720"/>
                <a:ext cx="10494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Rectangle 3"/>
          <p:cNvSpPr/>
          <p:nvPr/>
        </p:nvSpPr>
        <p:spPr>
          <a:xfrm>
            <a:off x="3203640" y="4365720"/>
            <a:ext cx="594036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hodnotu prvního členu pomocí soustavy rovnic není možné dopočíta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2484360" y="5877000"/>
            <a:ext cx="665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P: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– 1,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nelze jednoznačně určit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7"/>
              <p:cNvSpPr txBox="1"/>
              <p:nvPr/>
            </p:nvSpPr>
            <p:spPr>
              <a:xfrm>
                <a:off x="1214280" y="239760"/>
                <a:ext cx="2489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4"/>
              <p:cNvSpPr txBox="1"/>
              <p:nvPr/>
            </p:nvSpPr>
            <p:spPr>
              <a:xfrm>
                <a:off x="3492360" y="2924280"/>
                <a:ext cx="115092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4"/>
              <p:cNvSpPr txBox="1"/>
              <p:nvPr/>
            </p:nvSpPr>
            <p:spPr>
              <a:xfrm>
                <a:off x="3492360" y="3605040"/>
                <a:ext cx="6480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9" name=""/>
          <p:cNvGrpSpPr/>
          <p:nvPr/>
        </p:nvGrpSpPr>
        <p:grpSpPr>
          <a:xfrm>
            <a:off x="2556000" y="6453360"/>
            <a:ext cx="6408360" cy="72720"/>
            <a:chOff x="2556000" y="6453360"/>
            <a:chExt cx="6408360" cy="72720"/>
          </a:xfrm>
        </p:grpSpPr>
        <p:sp>
          <p:nvSpPr>
            <p:cNvPr id="290" name=""/>
            <p:cNvSpPr/>
            <p:nvPr/>
          </p:nvSpPr>
          <p:spPr>
            <a:xfrm>
              <a:off x="2556000" y="6526080"/>
              <a:ext cx="6408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556000" y="6453360"/>
              <a:ext cx="6408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2" name="Object 7"/>
              <p:cNvSpPr txBox="1"/>
              <p:nvPr/>
            </p:nvSpPr>
            <p:spPr>
              <a:xfrm>
                <a:off x="1157400" y="239760"/>
                <a:ext cx="26859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3" name="Line 5"/>
          <p:cNvSpPr/>
          <p:nvPr/>
        </p:nvSpPr>
        <p:spPr>
          <a:xfrm>
            <a:off x="1835280" y="1413000"/>
            <a:ext cx="201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7"/>
              <p:cNvSpPr txBox="1"/>
              <p:nvPr/>
            </p:nvSpPr>
            <p:spPr>
              <a:xfrm>
                <a:off x="1835280" y="1700280"/>
                <a:ext cx="396072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1835280" y="2852640"/>
            <a:ext cx="3889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7"/>
              <p:cNvSpPr txBox="1"/>
              <p:nvPr/>
            </p:nvSpPr>
            <p:spPr>
              <a:xfrm>
                <a:off x="1835280" y="3068640"/>
                <a:ext cx="22590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4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1835280" y="4149720"/>
            <a:ext cx="223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7"/>
              <p:cNvSpPr txBox="1"/>
              <p:nvPr/>
            </p:nvSpPr>
            <p:spPr>
              <a:xfrm>
                <a:off x="2987640" y="4508640"/>
                <a:ext cx="10828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1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4"/>
              <p:cNvSpPr txBox="1"/>
              <p:nvPr/>
            </p:nvSpPr>
            <p:spPr>
              <a:xfrm>
                <a:off x="4284720" y="3716280"/>
                <a:ext cx="10256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7"/>
              <p:cNvSpPr txBox="1"/>
              <p:nvPr/>
            </p:nvSpPr>
            <p:spPr>
              <a:xfrm>
                <a:off x="6516720" y="3068640"/>
                <a:ext cx="21286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7"/>
              <p:cNvSpPr txBox="1"/>
              <p:nvPr/>
            </p:nvSpPr>
            <p:spPr>
              <a:xfrm>
                <a:off x="7308720" y="3571920"/>
                <a:ext cx="11779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7"/>
              <p:cNvSpPr txBox="1"/>
              <p:nvPr/>
            </p:nvSpPr>
            <p:spPr>
              <a:xfrm>
                <a:off x="7524720" y="4076640"/>
                <a:ext cx="9810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4"/>
              <p:cNvSpPr txBox="1"/>
              <p:nvPr/>
            </p:nvSpPr>
            <p:spPr>
              <a:xfrm>
                <a:off x="5364000" y="5445000"/>
                <a:ext cx="30322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1,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4211640" y="3357720"/>
            <a:ext cx="208764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211640" y="3429000"/>
            <a:ext cx="2089080" cy="129528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6" name="Object 7"/>
              <p:cNvSpPr txBox="1"/>
              <p:nvPr/>
            </p:nvSpPr>
            <p:spPr>
              <a:xfrm>
                <a:off x="1187280" y="260280"/>
                <a:ext cx="2259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7" name="Line 5"/>
          <p:cNvSpPr/>
          <p:nvPr/>
        </p:nvSpPr>
        <p:spPr>
          <a:xfrm>
            <a:off x="1692360" y="1413000"/>
            <a:ext cx="1798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7"/>
              <p:cNvSpPr txBox="1"/>
              <p:nvPr/>
            </p:nvSpPr>
            <p:spPr>
              <a:xfrm>
                <a:off x="1692360" y="1700280"/>
                <a:ext cx="356688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1692360" y="2852640"/>
            <a:ext cx="36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7"/>
              <p:cNvSpPr txBox="1"/>
              <p:nvPr/>
            </p:nvSpPr>
            <p:spPr>
              <a:xfrm>
                <a:off x="1763640" y="3068640"/>
                <a:ext cx="19972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4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1763640" y="4149720"/>
            <a:ext cx="20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7"/>
              <p:cNvSpPr txBox="1"/>
              <p:nvPr/>
            </p:nvSpPr>
            <p:spPr>
              <a:xfrm>
                <a:off x="2916360" y="4292640"/>
                <a:ext cx="9572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4"/>
              <p:cNvSpPr txBox="1"/>
              <p:nvPr/>
            </p:nvSpPr>
            <p:spPr>
              <a:xfrm>
                <a:off x="3924360" y="3716280"/>
                <a:ext cx="6112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7"/>
              <p:cNvSpPr txBox="1"/>
              <p:nvPr/>
            </p:nvSpPr>
            <p:spPr>
              <a:xfrm>
                <a:off x="6156360" y="2852640"/>
                <a:ext cx="167328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7"/>
              <p:cNvSpPr txBox="1"/>
              <p:nvPr/>
            </p:nvSpPr>
            <p:spPr>
              <a:xfrm>
                <a:off x="6804000" y="3645000"/>
                <a:ext cx="137484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7"/>
              <p:cNvSpPr txBox="1"/>
              <p:nvPr/>
            </p:nvSpPr>
            <p:spPr>
              <a:xfrm>
                <a:off x="6948360" y="4508640"/>
                <a:ext cx="11937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4"/>
              <p:cNvSpPr txBox="1"/>
              <p:nvPr/>
            </p:nvSpPr>
            <p:spPr>
              <a:xfrm>
                <a:off x="4067280" y="5516640"/>
                <a:ext cx="303372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9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3924360" y="3357720"/>
            <a:ext cx="208764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995640" y="3429000"/>
            <a:ext cx="2016360" cy="151272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0" name="Object 7"/>
              <p:cNvSpPr txBox="1"/>
              <p:nvPr/>
            </p:nvSpPr>
            <p:spPr>
              <a:xfrm>
                <a:off x="1187280" y="260280"/>
                <a:ext cx="34387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o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1" name="Line 5"/>
          <p:cNvSpPr/>
          <p:nvPr/>
        </p:nvSpPr>
        <p:spPr>
          <a:xfrm>
            <a:off x="1835280" y="1341360"/>
            <a:ext cx="280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7"/>
              <p:cNvSpPr txBox="1"/>
              <p:nvPr/>
            </p:nvSpPr>
            <p:spPr>
              <a:xfrm>
                <a:off x="1692360" y="1557360"/>
                <a:ext cx="54655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1763640" y="2708280"/>
            <a:ext cx="54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7"/>
              <p:cNvSpPr txBox="1"/>
              <p:nvPr/>
            </p:nvSpPr>
            <p:spPr>
              <a:xfrm>
                <a:off x="1763640" y="2781360"/>
                <a:ext cx="2457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6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1763640" y="3860640"/>
            <a:ext cx="244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7"/>
              <p:cNvSpPr txBox="1"/>
              <p:nvPr/>
            </p:nvSpPr>
            <p:spPr>
              <a:xfrm>
                <a:off x="2771640" y="5157720"/>
                <a:ext cx="11811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4"/>
              <p:cNvSpPr txBox="1"/>
              <p:nvPr/>
            </p:nvSpPr>
            <p:spPr>
              <a:xfrm>
                <a:off x="4284720" y="2852640"/>
                <a:ext cx="6112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7"/>
              <p:cNvSpPr txBox="1"/>
              <p:nvPr/>
            </p:nvSpPr>
            <p:spPr>
              <a:xfrm>
                <a:off x="6804000" y="3933720"/>
                <a:ext cx="1801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7"/>
              <p:cNvSpPr txBox="1"/>
              <p:nvPr/>
            </p:nvSpPr>
            <p:spPr>
              <a:xfrm>
                <a:off x="7451640" y="4508640"/>
                <a:ext cx="13762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4"/>
              <p:cNvSpPr txBox="1"/>
              <p:nvPr/>
            </p:nvSpPr>
            <p:spPr>
              <a:xfrm>
                <a:off x="5651640" y="5877000"/>
                <a:ext cx="32511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7"/>
              <p:cNvSpPr txBox="1"/>
              <p:nvPr/>
            </p:nvSpPr>
            <p:spPr>
              <a:xfrm>
                <a:off x="1763640" y="3933720"/>
                <a:ext cx="22273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2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1835280" y="5013360"/>
            <a:ext cx="2376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4"/>
              <p:cNvSpPr txBox="1"/>
              <p:nvPr/>
            </p:nvSpPr>
            <p:spPr>
              <a:xfrm>
                <a:off x="4140360" y="3933720"/>
                <a:ext cx="10080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7"/>
              <p:cNvSpPr txBox="1"/>
              <p:nvPr/>
            </p:nvSpPr>
            <p:spPr>
              <a:xfrm>
                <a:off x="2987640" y="5661000"/>
                <a:ext cx="8859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5145120" y="407844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433840" y="4078080"/>
            <a:ext cx="0" cy="718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578560" y="4437000"/>
            <a:ext cx="1429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505480" y="4294080"/>
            <a:ext cx="288720" cy="2872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51640" y="4365000"/>
            <a:ext cx="0" cy="14292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45120" y="479736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1" name="Object 7"/>
              <p:cNvSpPr txBox="1"/>
              <p:nvPr/>
            </p:nvSpPr>
            <p:spPr>
              <a:xfrm>
                <a:off x="1116000" y="333360"/>
                <a:ext cx="3176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2" name="Line 5"/>
          <p:cNvSpPr/>
          <p:nvPr/>
        </p:nvSpPr>
        <p:spPr>
          <a:xfrm>
            <a:off x="1706400" y="1434960"/>
            <a:ext cx="2592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7"/>
              <p:cNvSpPr txBox="1"/>
              <p:nvPr/>
            </p:nvSpPr>
            <p:spPr>
              <a:xfrm>
                <a:off x="1633680" y="1577880"/>
                <a:ext cx="526860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1633680" y="2730600"/>
            <a:ext cx="5329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7"/>
              <p:cNvSpPr txBox="1"/>
              <p:nvPr/>
            </p:nvSpPr>
            <p:spPr>
              <a:xfrm>
                <a:off x="1633680" y="2801880"/>
                <a:ext cx="20635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3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1633680" y="3882960"/>
            <a:ext cx="201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7"/>
              <p:cNvSpPr txBox="1"/>
              <p:nvPr/>
            </p:nvSpPr>
            <p:spPr>
              <a:xfrm>
                <a:off x="2425680" y="3954600"/>
                <a:ext cx="13431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7"/>
              <p:cNvSpPr txBox="1"/>
              <p:nvPr/>
            </p:nvSpPr>
            <p:spPr>
              <a:xfrm>
                <a:off x="2124000" y="5300640"/>
                <a:ext cx="16700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7"/>
              <p:cNvSpPr txBox="1"/>
              <p:nvPr/>
            </p:nvSpPr>
            <p:spPr>
              <a:xfrm>
                <a:off x="2627280" y="5805360"/>
                <a:ext cx="916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4"/>
              <p:cNvSpPr txBox="1"/>
              <p:nvPr/>
            </p:nvSpPr>
            <p:spPr>
              <a:xfrm>
                <a:off x="5729400" y="5894280"/>
                <a:ext cx="27399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4"/>
              <p:cNvSpPr txBox="1"/>
              <p:nvPr/>
            </p:nvSpPr>
            <p:spPr>
              <a:xfrm>
                <a:off x="3865680" y="2801880"/>
                <a:ext cx="9730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4871880" y="2948040"/>
            <a:ext cx="2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5160960" y="2947680"/>
            <a:ext cx="0" cy="718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05320" y="3306600"/>
            <a:ext cx="1429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232240" y="3164040"/>
            <a:ext cx="289080" cy="2872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78400" y="3234600"/>
            <a:ext cx="0" cy="14292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7"/>
              <p:cNvSpPr txBox="1"/>
              <p:nvPr/>
            </p:nvSpPr>
            <p:spPr>
              <a:xfrm>
                <a:off x="2714760" y="4459320"/>
                <a:ext cx="8524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4871880" y="3666960"/>
            <a:ext cx="2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9" name="Object 7"/>
              <p:cNvSpPr txBox="1"/>
              <p:nvPr/>
            </p:nvSpPr>
            <p:spPr>
              <a:xfrm>
                <a:off x="1190520" y="239760"/>
                <a:ext cx="25527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:</m:t>
                        </m:r>
                        <m:r>
                          <m:t xml:space="preserve">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0" name="Line 5"/>
          <p:cNvSpPr/>
          <p:nvPr/>
        </p:nvSpPr>
        <p:spPr>
          <a:xfrm>
            <a:off x="1763640" y="134136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7"/>
              <p:cNvSpPr txBox="1"/>
              <p:nvPr/>
            </p:nvSpPr>
            <p:spPr>
              <a:xfrm>
                <a:off x="1763640" y="1413000"/>
                <a:ext cx="3598920" cy="16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d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2" name=""/>
          <p:cNvSpPr/>
          <p:nvPr/>
        </p:nvSpPr>
        <p:spPr>
          <a:xfrm>
            <a:off x="1763640" y="3141720"/>
            <a:ext cx="367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7"/>
              <p:cNvSpPr txBox="1"/>
              <p:nvPr/>
            </p:nvSpPr>
            <p:spPr>
              <a:xfrm>
                <a:off x="1763640" y="3213000"/>
                <a:ext cx="327492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4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  <m:e>
                        <m:r>
                          <m:t xml:space="preserve">8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7"/>
              <p:cNvSpPr txBox="1"/>
              <p:nvPr/>
            </p:nvSpPr>
            <p:spPr>
              <a:xfrm>
                <a:off x="2700360" y="5661000"/>
                <a:ext cx="13111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4"/>
              <p:cNvSpPr txBox="1"/>
              <p:nvPr/>
            </p:nvSpPr>
            <p:spPr>
              <a:xfrm>
                <a:off x="5219640" y="3213000"/>
                <a:ext cx="6667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7"/>
              <p:cNvSpPr txBox="1"/>
              <p:nvPr/>
            </p:nvSpPr>
            <p:spPr>
              <a:xfrm>
                <a:off x="5364000" y="4437000"/>
                <a:ext cx="17370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7"/>
              <p:cNvSpPr txBox="1"/>
              <p:nvPr/>
            </p:nvSpPr>
            <p:spPr>
              <a:xfrm>
                <a:off x="5940360" y="4869000"/>
                <a:ext cx="12128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4"/>
              <p:cNvSpPr txBox="1"/>
              <p:nvPr/>
            </p:nvSpPr>
            <p:spPr>
              <a:xfrm>
                <a:off x="6156360" y="6095880"/>
                <a:ext cx="28130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7"/>
              <p:cNvSpPr txBox="1"/>
              <p:nvPr/>
            </p:nvSpPr>
            <p:spPr>
              <a:xfrm>
                <a:off x="1979640" y="4437000"/>
                <a:ext cx="199872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e>
                        <m:r>
                          <m:t xml:space="preserve">5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 flipV="1">
            <a:off x="3994200" y="4654080"/>
            <a:ext cx="287280" cy="1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282920" y="4654440"/>
            <a:ext cx="1800" cy="71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4427640" y="5013360"/>
            <a:ext cx="142920" cy="144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4354560" y="4870440"/>
            <a:ext cx="288720" cy="2872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500720" y="4941000"/>
            <a:ext cx="1440" cy="14292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7"/>
              <p:cNvSpPr txBox="1"/>
              <p:nvPr/>
            </p:nvSpPr>
            <p:spPr>
              <a:xfrm>
                <a:off x="2916360" y="6165720"/>
                <a:ext cx="98424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7"/>
              <p:cNvSpPr txBox="1"/>
              <p:nvPr/>
            </p:nvSpPr>
            <p:spPr>
              <a:xfrm>
                <a:off x="6084720" y="5300640"/>
                <a:ext cx="8524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1763640" y="4365720"/>
            <a:ext cx="32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979640" y="5589720"/>
            <a:ext cx="201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994200" y="5374800"/>
            <a:ext cx="287280" cy="1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0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619280" y="2781360"/>
            <a:ext cx="576360" cy="50472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Object 7"/>
              <p:cNvSpPr txBox="1"/>
              <p:nvPr/>
            </p:nvSpPr>
            <p:spPr>
              <a:xfrm>
                <a:off x="1042920" y="58680"/>
                <a:ext cx="238932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2" name="Line 5"/>
          <p:cNvSpPr/>
          <p:nvPr/>
        </p:nvSpPr>
        <p:spPr>
          <a:xfrm>
            <a:off x="1619280" y="106668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7"/>
              <p:cNvSpPr txBox="1"/>
              <p:nvPr/>
            </p:nvSpPr>
            <p:spPr>
              <a:xfrm>
                <a:off x="1547640" y="1139760"/>
                <a:ext cx="36007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1619280" y="2147760"/>
            <a:ext cx="3529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7"/>
              <p:cNvSpPr txBox="1"/>
              <p:nvPr/>
            </p:nvSpPr>
            <p:spPr>
              <a:xfrm>
                <a:off x="1619280" y="2205000"/>
                <a:ext cx="229392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5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8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7"/>
              <p:cNvSpPr txBox="1"/>
              <p:nvPr/>
            </p:nvSpPr>
            <p:spPr>
              <a:xfrm>
                <a:off x="1476360" y="4076640"/>
                <a:ext cx="367344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7"/>
              <p:cNvSpPr txBox="1"/>
              <p:nvPr/>
            </p:nvSpPr>
            <p:spPr>
              <a:xfrm>
                <a:off x="1619280" y="3284640"/>
                <a:ext cx="335916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8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7"/>
              <p:cNvSpPr txBox="1"/>
              <p:nvPr/>
            </p:nvSpPr>
            <p:spPr>
              <a:xfrm>
                <a:off x="4068720" y="2205000"/>
                <a:ext cx="2190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5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1692360" y="3284640"/>
            <a:ext cx="223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4"/>
              <p:cNvSpPr txBox="1"/>
              <p:nvPr/>
            </p:nvSpPr>
            <p:spPr>
              <a:xfrm>
                <a:off x="5076720" y="3573360"/>
                <a:ext cx="5000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7"/>
              <p:cNvSpPr txBox="1"/>
              <p:nvPr/>
            </p:nvSpPr>
            <p:spPr>
              <a:xfrm>
                <a:off x="3995640" y="4581360"/>
                <a:ext cx="326556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7"/>
              <p:cNvSpPr txBox="1"/>
              <p:nvPr/>
            </p:nvSpPr>
            <p:spPr>
              <a:xfrm>
                <a:off x="6443640" y="1989000"/>
                <a:ext cx="21607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7"/>
              <p:cNvSpPr txBox="1"/>
              <p:nvPr/>
            </p:nvSpPr>
            <p:spPr>
              <a:xfrm>
                <a:off x="7632720" y="4724280"/>
                <a:ext cx="15112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6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7"/>
              <p:cNvSpPr txBox="1"/>
              <p:nvPr/>
            </p:nvSpPr>
            <p:spPr>
              <a:xfrm>
                <a:off x="7380360" y="5157720"/>
                <a:ext cx="12492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5" name=""/>
          <p:cNvSpPr/>
          <p:nvPr/>
        </p:nvSpPr>
        <p:spPr>
          <a:xfrm flipH="1">
            <a:off x="4571640" y="2722680"/>
            <a:ext cx="2305080" cy="79200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7"/>
              <p:cNvSpPr txBox="1"/>
              <p:nvPr/>
            </p:nvSpPr>
            <p:spPr>
              <a:xfrm>
                <a:off x="1547640" y="5359320"/>
                <a:ext cx="18720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2</m:t>
                        </m:r>
                        <m:r>
                          <m:t xml:space="preserve">∓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 flipV="1">
            <a:off x="3419640" y="5648040"/>
            <a:ext cx="288720" cy="14292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19640" y="5864400"/>
            <a:ext cx="288720" cy="14256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99" name=""/>
          <p:cNvCxnSpPr>
            <a:stCxn id="380" idx="1"/>
          </p:cNvCxnSpPr>
          <p:nvPr/>
        </p:nvCxnSpPr>
        <p:spPr>
          <a:xfrm flipH="1" flipV="1" rot="10800000">
            <a:off x="1618920" y="3033360"/>
            <a:ext cx="2160" cy="714960"/>
          </a:xfrm>
          <a:prstGeom prst="curvedConnector5">
            <a:avLst>
              <a:gd name="adj1" fmla="val -14400000"/>
              <a:gd name="adj2" fmla="val 49974"/>
              <a:gd name="adj3" fmla="val -14400000"/>
            </a:avLst>
          </a:prstGeom>
          <a:ln w="9360">
            <a:solidFill>
              <a:srgbClr val="dddddd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400" name="Object 7"/>
              <p:cNvSpPr txBox="1"/>
              <p:nvPr/>
            </p:nvSpPr>
            <p:spPr>
              <a:xfrm>
                <a:off x="3708360" y="5300640"/>
                <a:ext cx="16066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1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7"/>
              <p:cNvSpPr txBox="1"/>
              <p:nvPr/>
            </p:nvSpPr>
            <p:spPr>
              <a:xfrm>
                <a:off x="3708360" y="5805360"/>
                <a:ext cx="184644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2: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7"/>
              <p:cNvSpPr txBox="1"/>
              <p:nvPr/>
            </p:nvSpPr>
            <p:spPr>
              <a:xfrm>
                <a:off x="5580000" y="5373720"/>
                <a:ext cx="11685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7"/>
              <p:cNvSpPr txBox="1"/>
              <p:nvPr/>
            </p:nvSpPr>
            <p:spPr>
              <a:xfrm>
                <a:off x="5580000" y="5805360"/>
                <a:ext cx="172872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p>
                      <m:e>
                        <m:r>
                          <m:t xml:space="preserve">d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04" name=""/>
          <p:cNvGrpSpPr/>
          <p:nvPr/>
        </p:nvGrpSpPr>
        <p:grpSpPr>
          <a:xfrm>
            <a:off x="3708360" y="5734080"/>
            <a:ext cx="3024360" cy="72720"/>
            <a:chOff x="3708360" y="5734080"/>
            <a:chExt cx="3024360" cy="72720"/>
          </a:xfrm>
        </p:grpSpPr>
        <p:sp>
          <p:nvSpPr>
            <p:cNvPr id="405" name=""/>
            <p:cNvSpPr/>
            <p:nvPr/>
          </p:nvSpPr>
          <p:spPr>
            <a:xfrm>
              <a:off x="3708360" y="5806800"/>
              <a:ext cx="3024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708360" y="5734080"/>
              <a:ext cx="3024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3708360" y="6669000"/>
            <a:ext cx="3600360" cy="72720"/>
            <a:chOff x="3708360" y="6669000"/>
            <a:chExt cx="3600360" cy="72720"/>
          </a:xfrm>
        </p:grpSpPr>
        <p:sp>
          <p:nvSpPr>
            <p:cNvPr id="408" name=""/>
            <p:cNvSpPr/>
            <p:nvPr/>
          </p:nvSpPr>
          <p:spPr>
            <a:xfrm>
              <a:off x="3708360" y="6669000"/>
              <a:ext cx="3600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708360" y="6741720"/>
              <a:ext cx="3600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6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1000"/>
                            </p:stCondLst>
                            <p:childTnLst>
                              <p:par>
                                <p:cTn id="9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500"/>
                            </p:stCondLst>
                            <p:childTnLst>
                              <p:par>
                                <p:cTn id="9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500"/>
                            </p:stCondLst>
                            <p:childTnLst>
                              <p:par>
                                <p:cTn id="9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500"/>
                            </p:stCondLst>
                            <p:childTnLst>
                              <p:par>
                                <p:cTn id="9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21–3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1–13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484280"/>
          <a:ext cx="7416720" cy="510696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itmetická posloupnost – příklady I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příklady na procvičení vztahů: mezi dvěma sousedními členy AP, mezi prvním a libovolným členem AP, mezi dvěma libovolnými členy AP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tah mezi dvěma sousedními členy AP; Vztah mezi prvním a libovolným členem AP; Vztah mezi dvěma libovolnými členy AP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187280" y="2203560"/>
            <a:ext cx="7956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AP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3068640"/>
            <a:ext cx="7956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523880" indent="-6238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zn. určete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523880" indent="-623880">
              <a:lnSpc>
                <a:spcPct val="11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kde AP začíná  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?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523880" indent="-6238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o kolik se členy liší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118728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vzorců 1. – 3. pro AP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Line 5"/>
          <p:cNvSpPr/>
          <p:nvPr/>
        </p:nvSpPr>
        <p:spPr>
          <a:xfrm>
            <a:off x="1692360" y="1413000"/>
            <a:ext cx="122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7"/>
              <p:cNvSpPr txBox="1"/>
              <p:nvPr/>
            </p:nvSpPr>
            <p:spPr>
              <a:xfrm>
                <a:off x="1116000" y="260280"/>
                <a:ext cx="1766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6" name="Rectangle 3"/>
          <p:cNvSpPr/>
          <p:nvPr/>
        </p:nvSpPr>
        <p:spPr>
          <a:xfrm>
            <a:off x="1187280" y="1557360"/>
            <a:ext cx="3745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va po sobě jdoucí člen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1619280" y="2637000"/>
                <a:ext cx="251928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1979640" y="3357720"/>
                <a:ext cx="219060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1908000" y="4078440"/>
                <a:ext cx="20448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1908000" y="4726080"/>
                <a:ext cx="13878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Rectangle 3"/>
          <p:cNvSpPr/>
          <p:nvPr/>
        </p:nvSpPr>
        <p:spPr>
          <a:xfrm>
            <a:off x="5219640" y="1557360"/>
            <a:ext cx="3745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áme dále první čl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5364000" y="2637000"/>
                <a:ext cx="350712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5364000" y="3357720"/>
                <a:ext cx="266724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5651640" y="4005360"/>
                <a:ext cx="28857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5508720" y="5229360"/>
                <a:ext cx="13888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4"/>
              <p:cNvSpPr txBox="1"/>
              <p:nvPr/>
            </p:nvSpPr>
            <p:spPr>
              <a:xfrm>
                <a:off x="5651640" y="4581360"/>
                <a:ext cx="200808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4"/>
              <p:cNvSpPr txBox="1"/>
              <p:nvPr/>
            </p:nvSpPr>
            <p:spPr>
              <a:xfrm>
                <a:off x="1403280" y="5877000"/>
                <a:ext cx="36165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8" name="Object 7"/>
              <p:cNvSpPr txBox="1"/>
              <p:nvPr/>
            </p:nvSpPr>
            <p:spPr>
              <a:xfrm>
                <a:off x="5364000" y="260280"/>
                <a:ext cx="20955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,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Line 5"/>
          <p:cNvSpPr/>
          <p:nvPr/>
        </p:nvSpPr>
        <p:spPr>
          <a:xfrm>
            <a:off x="1692360" y="1413000"/>
            <a:ext cx="1295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7"/>
              <p:cNvSpPr txBox="1"/>
              <p:nvPr/>
            </p:nvSpPr>
            <p:spPr>
              <a:xfrm>
                <a:off x="1116000" y="260280"/>
                <a:ext cx="183348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4"/>
              <p:cNvSpPr txBox="1"/>
              <p:nvPr/>
            </p:nvSpPr>
            <p:spPr>
              <a:xfrm>
                <a:off x="1619280" y="1628640"/>
                <a:ext cx="215424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1781280" y="2403360"/>
                <a:ext cx="18986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1924200" y="2906640"/>
                <a:ext cx="94932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1619280" y="3645000"/>
                <a:ext cx="24480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4"/>
              <p:cNvSpPr txBox="1"/>
              <p:nvPr/>
            </p:nvSpPr>
            <p:spPr>
              <a:xfrm>
                <a:off x="1403280" y="4797360"/>
                <a:ext cx="15350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4"/>
              <p:cNvSpPr txBox="1"/>
              <p:nvPr/>
            </p:nvSpPr>
            <p:spPr>
              <a:xfrm>
                <a:off x="1762200" y="4292640"/>
                <a:ext cx="20811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4"/>
              <p:cNvSpPr txBox="1"/>
              <p:nvPr/>
            </p:nvSpPr>
            <p:spPr>
              <a:xfrm>
                <a:off x="1332000" y="5734080"/>
                <a:ext cx="32511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68" name="Line 5"/>
          <p:cNvSpPr/>
          <p:nvPr/>
        </p:nvSpPr>
        <p:spPr>
          <a:xfrm>
            <a:off x="5940360" y="1413000"/>
            <a:ext cx="1511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4"/>
              <p:cNvSpPr txBox="1"/>
              <p:nvPr/>
            </p:nvSpPr>
            <p:spPr>
              <a:xfrm>
                <a:off x="5796000" y="1628640"/>
                <a:ext cx="226368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5580000" y="2349360"/>
                <a:ext cx="2117880" cy="5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,5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4"/>
              <p:cNvSpPr txBox="1"/>
              <p:nvPr/>
            </p:nvSpPr>
            <p:spPr>
              <a:xfrm>
                <a:off x="5508720" y="2852640"/>
                <a:ext cx="15336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,5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5724360" y="3645000"/>
                <a:ext cx="27403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5940360" y="4797360"/>
                <a:ext cx="1243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6156360" y="4292640"/>
                <a:ext cx="24462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4"/>
              <p:cNvSpPr txBox="1"/>
              <p:nvPr/>
            </p:nvSpPr>
            <p:spPr>
              <a:xfrm>
                <a:off x="5364000" y="5734080"/>
                <a:ext cx="35434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3,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Line 5"/>
          <p:cNvSpPr/>
          <p:nvPr/>
        </p:nvSpPr>
        <p:spPr>
          <a:xfrm>
            <a:off x="1835280" y="1628640"/>
            <a:ext cx="115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7"/>
              <p:cNvSpPr txBox="1"/>
              <p:nvPr/>
            </p:nvSpPr>
            <p:spPr>
              <a:xfrm>
                <a:off x="1258920" y="404640"/>
                <a:ext cx="170172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Rectangle 3"/>
          <p:cNvSpPr/>
          <p:nvPr/>
        </p:nvSpPr>
        <p:spPr>
          <a:xfrm>
            <a:off x="4500720" y="331920"/>
            <a:ext cx="3744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 zadaný první čl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4"/>
              <p:cNvSpPr txBox="1"/>
              <p:nvPr/>
            </p:nvSpPr>
            <p:spPr>
              <a:xfrm>
                <a:off x="4716360" y="2278080"/>
                <a:ext cx="25923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4"/>
              <p:cNvSpPr txBox="1"/>
              <p:nvPr/>
            </p:nvSpPr>
            <p:spPr>
              <a:xfrm>
                <a:off x="5003640" y="3068640"/>
                <a:ext cx="18622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5003640" y="3789360"/>
                <a:ext cx="1241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4572000" y="1484280"/>
                <a:ext cx="35067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1676520" y="5445000"/>
                <a:ext cx="30686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6516720" y="3860640"/>
                <a:ext cx="649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4"/>
              <p:cNvSpPr txBox="1"/>
              <p:nvPr/>
            </p:nvSpPr>
            <p:spPr>
              <a:xfrm>
                <a:off x="5076720" y="4508640"/>
                <a:ext cx="10224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Line 5"/>
          <p:cNvSpPr/>
          <p:nvPr/>
        </p:nvSpPr>
        <p:spPr>
          <a:xfrm>
            <a:off x="1692360" y="1484280"/>
            <a:ext cx="1295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7"/>
              <p:cNvSpPr txBox="1"/>
              <p:nvPr/>
            </p:nvSpPr>
            <p:spPr>
              <a:xfrm>
                <a:off x="1116000" y="260280"/>
                <a:ext cx="18669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4"/>
              <p:cNvSpPr txBox="1"/>
              <p:nvPr/>
            </p:nvSpPr>
            <p:spPr>
              <a:xfrm>
                <a:off x="1476360" y="1916280"/>
                <a:ext cx="23763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1476360" y="3284640"/>
                <a:ext cx="16448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4"/>
              <p:cNvSpPr txBox="1"/>
              <p:nvPr/>
            </p:nvSpPr>
            <p:spPr>
              <a:xfrm>
                <a:off x="1619280" y="2708280"/>
                <a:ext cx="20448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4"/>
              <p:cNvSpPr txBox="1"/>
              <p:nvPr/>
            </p:nvSpPr>
            <p:spPr>
              <a:xfrm>
                <a:off x="1258920" y="5084640"/>
                <a:ext cx="3360600" cy="12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7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4"/>
              <p:cNvSpPr txBox="1"/>
              <p:nvPr/>
            </p:nvSpPr>
            <p:spPr>
              <a:xfrm>
                <a:off x="3419640" y="3316320"/>
                <a:ext cx="64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1403280" y="3787920"/>
                <a:ext cx="153504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Line 5"/>
          <p:cNvSpPr/>
          <p:nvPr/>
        </p:nvSpPr>
        <p:spPr>
          <a:xfrm>
            <a:off x="5724360" y="1484280"/>
            <a:ext cx="122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7"/>
              <p:cNvSpPr txBox="1"/>
              <p:nvPr/>
            </p:nvSpPr>
            <p:spPr>
              <a:xfrm>
                <a:off x="5219640" y="331920"/>
                <a:ext cx="16700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4"/>
              <p:cNvSpPr txBox="1"/>
              <p:nvPr/>
            </p:nvSpPr>
            <p:spPr>
              <a:xfrm>
                <a:off x="5651640" y="1916280"/>
                <a:ext cx="22669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4"/>
              <p:cNvSpPr txBox="1"/>
              <p:nvPr/>
            </p:nvSpPr>
            <p:spPr>
              <a:xfrm>
                <a:off x="5580000" y="3284640"/>
                <a:ext cx="14986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4"/>
              <p:cNvSpPr txBox="1"/>
              <p:nvPr/>
            </p:nvSpPr>
            <p:spPr>
              <a:xfrm>
                <a:off x="5796000" y="2708280"/>
                <a:ext cx="20448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4"/>
              <p:cNvSpPr txBox="1"/>
              <p:nvPr/>
            </p:nvSpPr>
            <p:spPr>
              <a:xfrm>
                <a:off x="5508720" y="5084640"/>
                <a:ext cx="3325680" cy="12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4"/>
              <p:cNvSpPr txBox="1"/>
              <p:nvPr/>
            </p:nvSpPr>
            <p:spPr>
              <a:xfrm>
                <a:off x="7308720" y="3316320"/>
                <a:ext cx="6480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5508720" y="3787920"/>
                <a:ext cx="135072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"/>
          <p:cNvSpPr/>
          <p:nvPr/>
        </p:nvSpPr>
        <p:spPr>
          <a:xfrm>
            <a:off x="1619280" y="907920"/>
            <a:ext cx="3744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va libovolné člen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1619280" y="907920"/>
            <a:ext cx="2376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7"/>
              <p:cNvSpPr txBox="1"/>
              <p:nvPr/>
            </p:nvSpPr>
            <p:spPr>
              <a:xfrm>
                <a:off x="1042920" y="333360"/>
                <a:ext cx="29433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4"/>
              <p:cNvSpPr txBox="1"/>
              <p:nvPr/>
            </p:nvSpPr>
            <p:spPr>
              <a:xfrm>
                <a:off x="1709640" y="2743200"/>
                <a:ext cx="23367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4"/>
              <p:cNvSpPr txBox="1"/>
              <p:nvPr/>
            </p:nvSpPr>
            <p:spPr>
              <a:xfrm>
                <a:off x="1908000" y="3444840"/>
                <a:ext cx="1899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2124000" y="4092480"/>
                <a:ext cx="11318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Rectangle 3"/>
          <p:cNvSpPr/>
          <p:nvPr/>
        </p:nvSpPr>
        <p:spPr>
          <a:xfrm>
            <a:off x="5398920" y="907920"/>
            <a:ext cx="37450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áme dále první čl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4"/>
              <p:cNvSpPr txBox="1"/>
              <p:nvPr/>
            </p:nvSpPr>
            <p:spPr>
              <a:xfrm>
                <a:off x="5670720" y="2023920"/>
                <a:ext cx="32511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4"/>
              <p:cNvSpPr txBox="1"/>
              <p:nvPr/>
            </p:nvSpPr>
            <p:spPr>
              <a:xfrm>
                <a:off x="5634000" y="2743200"/>
                <a:ext cx="24843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4"/>
              <p:cNvSpPr txBox="1"/>
              <p:nvPr/>
            </p:nvSpPr>
            <p:spPr>
              <a:xfrm>
                <a:off x="5994360" y="3246480"/>
                <a:ext cx="22287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5597640" y="4813200"/>
                <a:ext cx="13525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5940360" y="4237200"/>
                <a:ext cx="18255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4"/>
              <p:cNvSpPr txBox="1"/>
              <p:nvPr/>
            </p:nvSpPr>
            <p:spPr>
              <a:xfrm>
                <a:off x="3224160" y="5587920"/>
                <a:ext cx="3103560" cy="12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1746360" y="2023920"/>
                <a:ext cx="32875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3708360" y="4113360"/>
                <a:ext cx="6476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4"/>
              <p:cNvSpPr txBox="1"/>
              <p:nvPr/>
            </p:nvSpPr>
            <p:spPr>
              <a:xfrm>
                <a:off x="2033640" y="4545000"/>
                <a:ext cx="102240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Line 5"/>
          <p:cNvSpPr/>
          <p:nvPr/>
        </p:nvSpPr>
        <p:spPr>
          <a:xfrm>
            <a:off x="1619280" y="1339920"/>
            <a:ext cx="1297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7"/>
              <p:cNvSpPr txBox="1"/>
              <p:nvPr/>
            </p:nvSpPr>
            <p:spPr>
              <a:xfrm>
                <a:off x="1042920" y="189000"/>
                <a:ext cx="1898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1547640" y="1557360"/>
                <a:ext cx="21909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4"/>
              <p:cNvSpPr txBox="1"/>
              <p:nvPr/>
            </p:nvSpPr>
            <p:spPr>
              <a:xfrm>
                <a:off x="1258920" y="2205000"/>
                <a:ext cx="24462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4"/>
              <p:cNvSpPr txBox="1"/>
              <p:nvPr/>
            </p:nvSpPr>
            <p:spPr>
              <a:xfrm>
                <a:off x="1258920" y="2708280"/>
                <a:ext cx="16430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1401840" y="3933720"/>
                <a:ext cx="226512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1690560" y="5014800"/>
                <a:ext cx="10605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1401840" y="4510080"/>
                <a:ext cx="21542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4"/>
              <p:cNvSpPr txBox="1"/>
              <p:nvPr/>
            </p:nvSpPr>
            <p:spPr>
              <a:xfrm>
                <a:off x="1114560" y="5878440"/>
                <a:ext cx="30686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7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4"/>
              <p:cNvSpPr txBox="1"/>
              <p:nvPr/>
            </p:nvSpPr>
            <p:spPr>
              <a:xfrm>
                <a:off x="1403280" y="3213000"/>
                <a:ext cx="1278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4"/>
              <p:cNvSpPr txBox="1"/>
              <p:nvPr/>
            </p:nvSpPr>
            <p:spPr>
              <a:xfrm>
                <a:off x="2987640" y="2787480"/>
                <a:ext cx="57636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Line 5"/>
          <p:cNvSpPr/>
          <p:nvPr/>
        </p:nvSpPr>
        <p:spPr>
          <a:xfrm>
            <a:off x="5437080" y="1341360"/>
            <a:ext cx="158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7"/>
              <p:cNvSpPr txBox="1"/>
              <p:nvPr/>
            </p:nvSpPr>
            <p:spPr>
              <a:xfrm>
                <a:off x="5076720" y="189000"/>
                <a:ext cx="1965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,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5364000" y="1557360"/>
                <a:ext cx="23371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4"/>
              <p:cNvSpPr txBox="1"/>
              <p:nvPr/>
            </p:nvSpPr>
            <p:spPr>
              <a:xfrm>
                <a:off x="5797440" y="2205000"/>
                <a:ext cx="22273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4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5508720" y="2708280"/>
                <a:ext cx="14238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,4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5435640" y="3933720"/>
                <a:ext cx="222876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4"/>
              <p:cNvSpPr txBox="1"/>
              <p:nvPr/>
            </p:nvSpPr>
            <p:spPr>
              <a:xfrm>
                <a:off x="5146560" y="5014800"/>
                <a:ext cx="16462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,8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4"/>
              <p:cNvSpPr txBox="1"/>
              <p:nvPr/>
            </p:nvSpPr>
            <p:spPr>
              <a:xfrm>
                <a:off x="5146560" y="4510080"/>
                <a:ext cx="2629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,4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0,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4"/>
              <p:cNvSpPr txBox="1"/>
              <p:nvPr/>
            </p:nvSpPr>
            <p:spPr>
              <a:xfrm>
                <a:off x="5075280" y="5950080"/>
                <a:ext cx="36162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0,8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0,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4"/>
              <p:cNvSpPr txBox="1"/>
              <p:nvPr/>
            </p:nvSpPr>
            <p:spPr>
              <a:xfrm>
                <a:off x="5437080" y="3213000"/>
                <a:ext cx="12780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2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4"/>
              <p:cNvSpPr txBox="1"/>
              <p:nvPr/>
            </p:nvSpPr>
            <p:spPr>
              <a:xfrm>
                <a:off x="7308720" y="2787480"/>
                <a:ext cx="5763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4:30Z</dcterms:modified>
  <cp:revision>318</cp:revision>
  <dc:subject/>
  <dc:title>Posloupnosti</dc:title>
</cp:coreProperties>
</file>