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24EB-F22E-4596-844C-5A1ED05061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9241-E0EE-49CF-A930-7C87B9A1C99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003F-ECF4-4474-AB29-FB5D0B1A43F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D592-38AC-4D1E-B814-3DE0DA20F50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2223-E06B-4D21-BC2E-89F4CEA7AB0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054-B8DE-4420-B429-ADE3DCC0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74E-A47A-4717-85CB-197B22AF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957-49AC-4925-AC46-482814C4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844-B100-46F9-8D96-FE20059E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36CE-BE30-4018-84DF-F73418A2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364B-D283-4C36-B5AE-9BAC7B69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663E-9CAE-4C1B-907B-4FC119B7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9F7A-6F97-4490-B488-390E2B8B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E437-1453-4611-AF83-A3C2709E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43D6-0C55-4224-8B65-3B91B3A1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4CFD-E03F-449E-9029-A6D52FEF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B52-5F73-4A7E-B9FD-FDD07215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AACF-302C-4E86-A434-1F687713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26ED-DC75-4B4E-B1D5-1378A0AF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C553-B84D-424A-8B7F-D530F220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952D-244E-4F4A-84E2-43E84531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42AB-5FE0-4AAA-A2DF-80EF7185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3F7-9156-4E76-8313-726BDBE8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FDE-C4AF-4445-B393-871A7DAD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71F-5820-4FCA-AE05-D3B5AE67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D07-3DC0-4D55-9199-A3C65262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BDD-9F4D-464E-88F5-8DDAC940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AB4-3FC0-4A8C-9EFA-07E229CB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54D-F1EE-49CA-A69D-65BBC7C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7465-E23F-4012-A2B1-4FF24F85E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78E1-3C35-44BD-A294-80E1F054A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900000" y="476280"/>
            <a:ext cx="7883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vycházející z názvu A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kromě prvního je aritmetickým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ůměrem sousedn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47640" y="189000"/>
                <a:ext cx="6105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pro  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1258920" y="357336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132000" y="3573360"/>
                <a:ext cx="30927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6227640" y="357336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7777080" y="378936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258920" y="4510080"/>
                <a:ext cx="1866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258920" y="544500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692360" y="6237360"/>
                <a:ext cx="1666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3780000" y="5316480"/>
            <a:ext cx="4752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5243400"/>
            <a:ext cx="0" cy="217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12000" y="5316480"/>
                <a:ext cx="390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5651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579600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629928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506920" y="5460840"/>
                <a:ext cx="39060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651672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65" name=""/>
          <p:cNvCxnSpPr>
            <a:stCxn id="257" idx="0"/>
            <a:endCxn id="260" idx="0"/>
          </p:cNvCxnSpPr>
          <p:nvPr/>
        </p:nvCxnSpPr>
        <p:spPr>
          <a:xfrm flipH="1" rot="16200000">
            <a:off x="6405480" y="4978800"/>
            <a:ext cx="5400" cy="50400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57" idx="0"/>
            <a:endCxn id="259" idx="0"/>
          </p:cNvCxnSpPr>
          <p:nvPr/>
        </p:nvCxnSpPr>
        <p:spPr>
          <a:xfrm rot="5400000">
            <a:off x="5901120" y="4978440"/>
            <a:ext cx="5400" cy="50544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14836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128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54244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64342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00364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694836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73" name=""/>
          <p:cNvCxnSpPr>
            <a:stCxn id="257" idx="0"/>
            <a:endCxn id="268" idx="0"/>
          </p:cNvCxnSpPr>
          <p:nvPr/>
        </p:nvCxnSpPr>
        <p:spPr>
          <a:xfrm flipH="1" rot="16200000">
            <a:off x="6621120" y="4763160"/>
            <a:ext cx="5400" cy="935640"/>
          </a:xfrm>
          <a:prstGeom prst="curvedConnector5">
            <a:avLst>
              <a:gd name="adj1" fmla="val -16300000"/>
              <a:gd name="adj2" fmla="val 50000"/>
              <a:gd name="adj3" fmla="val -163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57" idx="0"/>
            <a:endCxn id="267" idx="0"/>
          </p:cNvCxnSpPr>
          <p:nvPr/>
        </p:nvCxnSpPr>
        <p:spPr>
          <a:xfrm rot="5400000">
            <a:off x="5649480" y="4726800"/>
            <a:ext cx="5400" cy="1008720"/>
          </a:xfrm>
          <a:prstGeom prst="curvedConnector5">
            <a:avLst>
              <a:gd name="adj1" fmla="val -16400000"/>
              <a:gd name="adj2" fmla="val 49982"/>
              <a:gd name="adj3" fmla="val -16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3117960" y="4510080"/>
                <a:ext cx="31208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6227640" y="4510080"/>
                <a:ext cx="1589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7777080" y="472608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132000" y="5445000"/>
                <a:ext cx="2954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6227640" y="544500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7777080" y="566100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1332000" y="907920"/>
                <a:ext cx="67705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2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3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4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7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8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9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3"/>
          <p:cNvSpPr/>
          <p:nvPr/>
        </p:nvSpPr>
        <p:spPr>
          <a:xfrm>
            <a:off x="1042920" y="5661000"/>
            <a:ext cx="8101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... vztah pro součet </a:t>
            </a:r>
            <a:r>
              <a:rPr b="0" i="1" lang="en-US" sz="27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 členů AP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547640" y="552600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100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76360" y="2060640"/>
            <a:ext cx="626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47636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74072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2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24000" y="2708280"/>
            <a:ext cx="468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276720" y="1413000"/>
            <a:ext cx="237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276720" y="206064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77164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1200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276720" y="270828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355920"/>
            <a:ext cx="324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87280" y="3429000"/>
            <a:ext cx="79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oučet prvního a 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hodný se součtem druhého a před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..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tlivé sčítance obecně vyjádřím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1199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čet sčítanců se ale přitom zmenší na polovinu: 100/2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971640" y="2205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547640" y="33336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3"/>
          <p:cNvSpPr/>
          <p:nvPr/>
        </p:nvSpPr>
        <p:spPr>
          <a:xfrm>
            <a:off x="971640" y="1197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 libovolný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1547640" y="134136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1547640" y="2349360"/>
                <a:ext cx="3543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Rectangle 3"/>
          <p:cNvSpPr/>
          <p:nvPr/>
        </p:nvSpPr>
        <p:spPr>
          <a:xfrm>
            <a:off x="971640" y="371628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38632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1547640" y="3932280"/>
                <a:ext cx="48182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Rectangle 3"/>
          <p:cNvSpPr/>
          <p:nvPr/>
        </p:nvSpPr>
        <p:spPr>
          <a:xfrm>
            <a:off x="971640" y="5445000"/>
            <a:ext cx="817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ů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547640" y="5516640"/>
                <a:ext cx="3095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3095640"/>
                <a:gridCol w="4465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jednotlivých vztahů platných pro členy aritmetické posloupnosti a závěrečný přehled všech vzorců, které studenti aplikují ústně i písemně na tabuli pro konkrétní pořadí podle zadání učitel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AP; Vztahy mezi členy AP; Součet několika prvních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989000"/>
            <a:ext cx="795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284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38320" y="363600"/>
                <a:ext cx="3265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4432320" y="2766960"/>
                <a:ext cx="38084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116000" y="3500280"/>
                <a:ext cx="3295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427640" y="6021360"/>
                <a:ext cx="35845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411280" y="907920"/>
                <a:ext cx="17128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4140360" y="979560"/>
                <a:ext cx="1266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5364000" y="979560"/>
                <a:ext cx="506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2395440" y="133992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4140360" y="14112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5364000" y="1411200"/>
                <a:ext cx="570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395440" y="1771560"/>
                <a:ext cx="1744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4140360" y="184320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5364000" y="1843200"/>
                <a:ext cx="570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2419200" y="222084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4140360" y="227664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5364000" y="2276640"/>
                <a:ext cx="696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670040" y="39877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462040" y="4060800"/>
                <a:ext cx="1713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189320" y="4060800"/>
                <a:ext cx="1457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5702400" y="4132440"/>
                <a:ext cx="56988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444760" y="449280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4189320" y="4579920"/>
                <a:ext cx="1014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5702400" y="4564080"/>
                <a:ext cx="506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2444760" y="492444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4253040" y="5011560"/>
                <a:ext cx="94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5702400" y="4997520"/>
                <a:ext cx="56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2468520" y="537372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4221000" y="5429160"/>
                <a:ext cx="1013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5702400" y="5429160"/>
                <a:ext cx="728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042920" y="404640"/>
                <a:ext cx="32972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4500720" y="1052640"/>
                <a:ext cx="38383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2637000"/>
                <a:ext cx="40276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4067280" y="3645000"/>
                <a:ext cx="50767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1116000" y="5229360"/>
                <a:ext cx="3424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500720" y="5734080"/>
                <a:ext cx="3394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116000" y="242100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iferen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276720" y="1198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284720" y="1198440"/>
            <a:ext cx="45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onstantní,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203640" y="350208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508720" y="242244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rostou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zdol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643280" y="2422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g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508720" y="458136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lesají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sho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643280" y="458136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71640" y="1846440"/>
            <a:ext cx="360360" cy="86328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292572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140360" y="292536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400680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odvození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140360" y="2492280"/>
            <a:ext cx="1008000" cy="432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332000" y="260280"/>
            <a:ext cx="78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definice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908000" y="33192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908000" y="1197000"/>
                <a:ext cx="37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908000" y="177336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908000" y="2421000"/>
                <a:ext cx="1752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924200" y="3068640"/>
                <a:ext cx="1635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924200" y="3716280"/>
                <a:ext cx="17524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3780000" y="2421000"/>
                <a:ext cx="2014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6012000" y="242100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3708360" y="3068640"/>
                <a:ext cx="2189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6012000" y="306864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724200" y="3716280"/>
                <a:ext cx="2158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6012000" y="371628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libovolným člene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979640" y="5300640"/>
                <a:ext cx="3665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6084720" y="4292640"/>
                <a:ext cx="13431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627280" y="1773360"/>
            <a:ext cx="1008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360360" cy="3603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177336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1" idx="3"/>
            <a:endCxn id="194" idx="0"/>
          </p:cNvCxnSpPr>
          <p:nvPr/>
        </p:nvCxnSpPr>
        <p:spPr>
          <a:xfrm>
            <a:off x="3645000" y="2025720"/>
            <a:ext cx="1000800" cy="457920"/>
          </a:xfrm>
          <a:prstGeom prst="curvedConnector2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4000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564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2050920" y="105264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4211640" y="4078440"/>
                <a:ext cx="1314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979640" y="5300640"/>
                <a:ext cx="5040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2050920" y="1700280"/>
                <a:ext cx="1897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92240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1148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29912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01112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4348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7040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1403280" y="249228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124000" y="335592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5867280" y="1052640"/>
                <a:ext cx="1870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5881680" y="1700280"/>
                <a:ext cx="1868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573876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2784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11548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82748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5984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8676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5234040" y="249228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5954760" y="335592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mocí 2. vztahu vyjádřete dvojice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 a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15" idx="2"/>
            <a:endCxn id="216" idx="2"/>
          </p:cNvCxnSpPr>
          <p:nvPr/>
        </p:nvCxnSpPr>
        <p:spPr>
          <a:xfrm flipH="1" rot="16200000">
            <a:off x="280584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334800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17" idx="2"/>
            <a:endCxn id="218" idx="2"/>
          </p:cNvCxnSpPr>
          <p:nvPr/>
        </p:nvCxnSpPr>
        <p:spPr>
          <a:xfrm flipH="1" rot="16200000">
            <a:off x="662220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716436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08Z</dcterms:modified>
  <cp:revision>316</cp:revision>
  <dc:subject/>
  <dc:title>Posloupnosti</dc:title>
</cp:coreProperties>
</file>