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A6DA-8A56-4E25-9630-D23187B6CF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10BC-A201-41FA-8170-0FA1D442BFB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F82B-F73C-41E1-86AE-EA2AAF18F1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FB58-C694-4C56-A39E-6566DFE6D48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FC3A-EAD8-42F0-8083-FF25DEE5C2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EBCC-033C-49E0-9584-82072241394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4D64-7782-42D4-B4BD-7B3DC1FC333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048-37B6-4E40-99C0-207DAC79FA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B778-7607-41AE-A402-96CBDB3FBA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C4C8-7EC4-4A47-A705-2596ACFE81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51FA-7422-41E9-B62C-7E096B905C9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6F7A-35BE-423B-8E13-568FA75CD3C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CC20-90A8-4807-B836-ABF6BB46217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6758-41FA-400E-92A4-4C2054C48C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B87D-2429-48A2-865A-1BE49989AA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B928-F747-4362-BC11-407F80D84EE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565-DD35-4B5D-BB6F-37B43814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158-AE92-48F5-B1A3-C45E56E9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A58-E1EA-4114-AEBA-AC9AD96E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FAB-A555-4899-8C95-6CB9AA22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323-CCF9-45C6-A278-D6D0DE67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CCF-875D-42B9-835C-09CF9874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C0C-C426-4BCB-AC50-2EFF182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962-FDD4-4B33-A9D9-7D9A0872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297-1ACD-4086-9BB9-AA737988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E8B-4B64-40D3-BC63-24A611E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BB6-7C54-4370-AEE8-633A5A7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6AA-DF43-464D-B844-44D8509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1C7F-F622-47F7-94EB-1B61648AAE63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6000" y="3429000"/>
            <a:ext cx="76960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konci úrokovacího období se připíše úrok za uplynulé období a v příštím úrokovacím období se počítá úrok nejen z původní jistiny, ale také z připsaných úroků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143000" y="609480"/>
            <a:ext cx="7802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SLOŽEN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788000" y="4835520"/>
                <a:ext cx="223200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3"/>
              <p:cNvSpPr txBox="1"/>
              <p:nvPr/>
            </p:nvSpPr>
            <p:spPr>
              <a:xfrm>
                <a:off x="4716360" y="907920"/>
                <a:ext cx="138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4714920" y="2060640"/>
                <a:ext cx="11318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4284720" y="2924280"/>
                <a:ext cx="20746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4067280" y="3860640"/>
                <a:ext cx="23050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Rectangle 3"/>
          <p:cNvSpPr/>
          <p:nvPr/>
        </p:nvSpPr>
        <p:spPr>
          <a:xfrm>
            <a:off x="1187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58920" y="2492280"/>
                <a:ext cx="1800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3"/>
              <p:cNvSpPr txBox="1"/>
              <p:nvPr/>
            </p:nvSpPr>
            <p:spPr>
              <a:xfrm>
                <a:off x="1619280" y="90792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4716360" y="189000"/>
            <a:ext cx="12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2000" y="162864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340000" y="97956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907920"/>
            <a:ext cx="215640" cy="2890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9080"/>
              <a:gd name="textAreaBottom" fmla="*/ 278640 h 289080"/>
            </a:gdLst>
            <a:ahLst/>
            <a:rect l="textAreaLeft" t="textAreaTop" r="textAreaRight" b="textAreaBottom"/>
            <a:pathLst>
              <a:path w="21600" h="28944">
                <a:moveTo>
                  <a:pt x="3600" y="0"/>
                </a:moveTo>
                <a:arcTo wR="3600" hR="3600" stAng="16200000" swAng="-5400000"/>
                <a:lnTo>
                  <a:pt x="0" y="25344"/>
                </a:lnTo>
                <a:arcTo wR="3600" hR="3600" stAng="10800000" swAng="-5400000"/>
                <a:lnTo>
                  <a:pt x="18000" y="289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427640" y="1484280"/>
                <a:ext cx="138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3"/>
              <p:cNvSpPr txBox="1"/>
              <p:nvPr/>
            </p:nvSpPr>
            <p:spPr>
              <a:xfrm>
                <a:off x="2916360" y="1628640"/>
                <a:ext cx="7347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6156360" y="1528920"/>
                <a:ext cx="735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451920" y="213372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6964200" y="3141720"/>
                <a:ext cx="2179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6804000" y="40766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187280" y="189000"/>
            <a:ext cx="25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  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2916360" y="1700280"/>
                <a:ext cx="807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1403280" y="98100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1403280" y="2278080"/>
                <a:ext cx="12366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476360" y="3500280"/>
                <a:ext cx="165564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482920" y="1125360"/>
            <a:ext cx="287280" cy="360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720"/>
              <a:gd name="textAreaBottom" fmla="*/ 346680 h 360720"/>
            </a:gdLst>
            <a:ahLst/>
            <a:rect l="textAreaLeft" t="textAreaTop" r="textAreaRight" b="textAreaBottom"/>
            <a:pathLst>
              <a:path w="21600" h="27115">
                <a:moveTo>
                  <a:pt x="3600" y="0"/>
                </a:moveTo>
                <a:arcTo wR="3600" hR="3600" stAng="16200000" swAng="-5400000"/>
                <a:lnTo>
                  <a:pt x="0" y="23515"/>
                </a:lnTo>
                <a:arcTo wR="3600" hR="3600" stAng="10800000" swAng="-5400000"/>
                <a:lnTo>
                  <a:pt x="18000" y="2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1042920" y="162864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2987640" y="2421000"/>
                <a:ext cx="776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724360" y="907920"/>
                <a:ext cx="1989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788000" y="2995560"/>
                <a:ext cx="220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364000" y="3860640"/>
                <a:ext cx="23767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219640" y="4653000"/>
                <a:ext cx="324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020000" y="1052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859280" y="1844640"/>
                <a:ext cx="16272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877080" y="2060640"/>
                <a:ext cx="938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02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 jakou částku vzroste vklad 30 000,- Kč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5 let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3"/>
              <p:cNvSpPr txBox="1"/>
              <p:nvPr/>
            </p:nvSpPr>
            <p:spPr>
              <a:xfrm>
                <a:off x="1116000" y="5229360"/>
                <a:ext cx="180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312720" y="3573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7440" y="3573360"/>
            <a:ext cx="24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3"/>
              <p:cNvSpPr txBox="1"/>
              <p:nvPr/>
            </p:nvSpPr>
            <p:spPr>
              <a:xfrm>
                <a:off x="2916360" y="5229360"/>
                <a:ext cx="2660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5580000" y="5300640"/>
                <a:ext cx="2482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22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635280" y="90792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8026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troj ztrácí opotřebením každoročně 5 % své ceny. Jaká bude jeho cena za 10 let, když původně stál 11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3"/>
              <p:cNvSpPr txBox="1"/>
              <p:nvPr/>
            </p:nvSpPr>
            <p:spPr>
              <a:xfrm>
                <a:off x="1116000" y="5373720"/>
                <a:ext cx="1809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457080" y="2997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1800" y="2997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95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3"/>
              <p:cNvSpPr txBox="1"/>
              <p:nvPr/>
            </p:nvSpPr>
            <p:spPr>
              <a:xfrm>
                <a:off x="2843280" y="5445000"/>
                <a:ext cx="2732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3"/>
              <p:cNvSpPr txBox="1"/>
              <p:nvPr/>
            </p:nvSpPr>
            <p:spPr>
              <a:xfrm>
                <a:off x="5580000" y="5445000"/>
                <a:ext cx="2484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8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908000" y="765000"/>
            <a:ext cx="9352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30 000,- Kč při 1,7 % p.a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,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1042920" y="5157720"/>
                <a:ext cx="15256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3"/>
              <p:cNvSpPr txBox="1"/>
              <p:nvPr/>
            </p:nvSpPr>
            <p:spPr>
              <a:xfrm>
                <a:off x="4427640" y="5518080"/>
                <a:ext cx="2697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 833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3"/>
              <p:cNvSpPr txBox="1"/>
              <p:nvPr/>
            </p:nvSpPr>
            <p:spPr>
              <a:xfrm>
                <a:off x="2556000" y="5230800"/>
                <a:ext cx="18446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7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67308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57800" y="378936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17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16000" y="1413000"/>
            <a:ext cx="1295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by musel dnes stát přístroj, jehož hodnota by po 15 letech byla 100,-Kč? Odpisy činí 14 % p.a.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1116000" y="5084640"/>
                <a:ext cx="15256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352836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3440" y="3789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6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3"/>
              <p:cNvSpPr txBox="1"/>
              <p:nvPr/>
            </p:nvSpPr>
            <p:spPr>
              <a:xfrm>
                <a:off x="2627280" y="5157720"/>
                <a:ext cx="1596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3"/>
              <p:cNvSpPr txBox="1"/>
              <p:nvPr/>
            </p:nvSpPr>
            <p:spPr>
              <a:xfrm>
                <a:off x="4211640" y="5373720"/>
                <a:ext cx="1986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292720" y="134136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5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se jistina ztrojnásobí při 2,4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,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3203640" y="4365720"/>
                <a:ext cx="21384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1042920" y="4365720"/>
                <a:ext cx="227664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3"/>
              <p:cNvSpPr txBox="1"/>
              <p:nvPr/>
            </p:nvSpPr>
            <p:spPr>
              <a:xfrm>
                <a:off x="5292720" y="5084640"/>
                <a:ext cx="1967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3"/>
              <p:cNvSpPr txBox="1"/>
              <p:nvPr/>
            </p:nvSpPr>
            <p:spPr>
              <a:xfrm>
                <a:off x="7246800" y="5373720"/>
                <a:ext cx="18972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6708960" y="623736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46 let a 4 měsíc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57080" y="31417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2160" y="314172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4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4210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67560" y="21337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98920" y="234936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67560" y="26384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836640"/>
            <a:ext cx="1728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6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klesne hodnota stroje o čtvrtinu při každoročních odpisech 20 %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84520"/>
            <a:ext cx="249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75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0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971640" y="4540320"/>
                <a:ext cx="22762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673080" y="33163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7800" y="331632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0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2396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00640" y="23083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4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452680"/>
            <a:ext cx="152640" cy="720720"/>
          </a:xfrm>
          <a:custGeom>
            <a:avLst/>
            <a:gdLst>
              <a:gd name="textAreaLeft" fmla="*/ 0 w 152640"/>
              <a:gd name="textAreaRight" fmla="*/ 55080 w 152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00640" y="28130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3"/>
              <p:cNvSpPr txBox="1"/>
              <p:nvPr/>
            </p:nvSpPr>
            <p:spPr>
              <a:xfrm>
                <a:off x="3132000" y="4540320"/>
                <a:ext cx="2656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3"/>
              <p:cNvSpPr txBox="1"/>
              <p:nvPr/>
            </p:nvSpPr>
            <p:spPr>
              <a:xfrm>
                <a:off x="5724360" y="5261040"/>
                <a:ext cx="18288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7523280" y="5477040"/>
                <a:ext cx="162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276720" y="692280"/>
            <a:ext cx="1079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56840"/>
            <a:ext cx="77994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1116000" y="1125360"/>
            <a:ext cx="802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jakou částku vzroste za 4 roky hodnota jednorázového vkladu 40 000,- Kč při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6000" y="242100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116000" y="2997360"/>
            <a:ext cx="12952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050920" y="2997360"/>
            <a:ext cx="237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7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0 let klesla na pětinu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3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1092240" y="4610160"/>
                <a:ext cx="13636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3"/>
              <p:cNvSpPr txBox="1"/>
              <p:nvPr/>
            </p:nvSpPr>
            <p:spPr>
              <a:xfrm>
                <a:off x="1019160" y="5978520"/>
                <a:ext cx="2865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496600" y="381780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2040" y="3817800"/>
            <a:ext cx="200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63880" y="25938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7800" y="2378160"/>
            <a:ext cx="203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0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252252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8160" y="288288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5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2460600" y="461016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0,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3971880" y="4897440"/>
                <a:ext cx="12128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g>
                      <m:e>
                        <m:r>
                          <m:t xml:space="preserve">0,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3"/>
              <p:cNvSpPr txBox="1"/>
              <p:nvPr/>
            </p:nvSpPr>
            <p:spPr>
              <a:xfrm>
                <a:off x="5195880" y="4970520"/>
                <a:ext cx="139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3"/>
              <p:cNvSpPr txBox="1"/>
              <p:nvPr/>
            </p:nvSpPr>
            <p:spPr>
              <a:xfrm>
                <a:off x="3900600" y="5978520"/>
                <a:ext cx="2414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3"/>
              <p:cNvSpPr txBox="1"/>
              <p:nvPr/>
            </p:nvSpPr>
            <p:spPr>
              <a:xfrm>
                <a:off x="6276960" y="5905440"/>
                <a:ext cx="2092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484360" y="1197000"/>
            <a:ext cx="100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8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úrokovou míru poskytuje banka, když vklad 25 000,- Kč vzrostl za 8 let na hodnotu 98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5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98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8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1042920" y="4581360"/>
                <a:ext cx="13636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3"/>
              <p:cNvSpPr txBox="1"/>
              <p:nvPr/>
            </p:nvSpPr>
            <p:spPr>
              <a:xfrm>
                <a:off x="971640" y="5948280"/>
                <a:ext cx="2865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45600" y="37465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31400" y="3746520"/>
            <a:ext cx="193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3"/>
              <p:cNvSpPr txBox="1"/>
              <p:nvPr/>
            </p:nvSpPr>
            <p:spPr>
              <a:xfrm>
                <a:off x="2411280" y="4581360"/>
                <a:ext cx="16970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8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4140360" y="4941720"/>
                <a:ext cx="1303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851280" y="6021360"/>
                <a:ext cx="2351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156360" y="5950080"/>
                <a:ext cx="2254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843280" y="1197000"/>
            <a:ext cx="115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vzroste vklad 25 000,-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8 let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0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troj ztrácí opotřebením každoročně 15 % své ceny. Jaká bude jeho cena za 5 let, když původně stál 150 000,- Kč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by vzrostlo 1 000,- 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50 let při 4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152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0 46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033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6 556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50 000,-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1,2 % p.a., b) 2,3 % p.a., c)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50 000,-Kč na 200 000,-Kč při a) 1,0 % p.a., b) 2,1 % p.a., c) 3,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se jistina zdvojnásobí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ři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3 133,- Kč, b) 119 491,- Kč , c) 106 3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 let a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9 let a 4 měsíce, b) 66 let a 8 měsíců, c) 44 l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5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polovinu při každoročních odpisech 10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ceny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6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třetinu své původní hodnoty při 3,0 % p.a.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třetinu při každoročních odpisech 12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175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8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396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let a 9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8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35 % své původní hodnoty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 roky klesla o čtvrtinu 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0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úrokovou míru by musel poskytovat bankovní ústav, když by se hodnota našeho vkladu za 6 let měla ztrojnásobit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 let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,09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,14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4360" y="549360"/>
          <a:ext cx="8064360" cy="4167000"/>
        </p:xfrm>
        <a:graphic>
          <a:graphicData uri="http://schemas.openxmlformats.org/drawingml/2006/table">
            <a:tbl>
              <a:tblPr/>
              <a:tblGrid>
                <a:gridCol w="1079280"/>
                <a:gridCol w="849240"/>
                <a:gridCol w="663840"/>
                <a:gridCol w="815760"/>
                <a:gridCol w="538200"/>
                <a:gridCol w="733320"/>
                <a:gridCol w="863640"/>
                <a:gridCol w="419400"/>
                <a:gridCol w="574560"/>
                <a:gridCol w="720720"/>
                <a:gridCol w="80640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556000" y="3500280"/>
            <a:ext cx="777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219560"/>
            <a:ext cx="110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4221000"/>
            <a:ext cx="91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22100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500280"/>
            <a:ext cx="776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221000"/>
            <a:ext cx="9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3500280"/>
            <a:ext cx="581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4219560"/>
            <a:ext cx="53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42195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4219560"/>
            <a:ext cx="934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3500280"/>
            <a:ext cx="7779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3500280"/>
            <a:ext cx="621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500280"/>
            <a:ext cx="546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422100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708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9280" y="5013360"/>
                <a:ext cx="8425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6" name="Rectangle 22"/>
          <p:cNvSpPr/>
          <p:nvPr/>
        </p:nvSpPr>
        <p:spPr>
          <a:xfrm>
            <a:off x="179280" y="57340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uložená částka na hodnotu 58 564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2280"/>
            <a:ext cx="8064360" cy="792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40" y="2349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v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700280"/>
            <a:ext cx="3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1700280"/>
            <a:ext cx="3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2195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42195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5493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4005360"/>
            <a:ext cx="649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42210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složen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1116000" y="1341360"/>
                <a:ext cx="1465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2556000" y="1125360"/>
                <a:ext cx="1439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3995640" y="1125360"/>
                <a:ext cx="17636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1114560" y="2773440"/>
                <a:ext cx="1560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700360" y="2205000"/>
                <a:ext cx="39974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211640" y="1125360"/>
            <a:ext cx="1511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198520"/>
            <a:ext cx="215892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2700360" y="3490920"/>
                <a:ext cx="297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651640" y="3422520"/>
                <a:ext cx="19447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1116000" y="5157720"/>
                <a:ext cx="15638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42" name=""/>
          <p:cNvCxnSpPr>
            <a:stCxn id="137" idx="3"/>
            <a:endCxn id="138" idx="3"/>
          </p:cNvCxnSpPr>
          <p:nvPr/>
        </p:nvCxnSpPr>
        <p:spPr>
          <a:xfrm>
            <a:off x="5736960" y="1522440"/>
            <a:ext cx="937080" cy="1324800"/>
          </a:xfrm>
          <a:prstGeom prst="curvedConnector5">
            <a:avLst>
              <a:gd name="adj1" fmla="val 122867"/>
              <a:gd name="adj2" fmla="val 49986"/>
              <a:gd name="adj3" fmla="val 122867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050920" y="2773440"/>
            <a:ext cx="6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2771640" y="4437000"/>
                <a:ext cx="4329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2627280" y="1844640"/>
            <a:ext cx="1584360" cy="936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2771640" y="5734080"/>
                <a:ext cx="3149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5867280" y="5734080"/>
                <a:ext cx="19195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nejen z původní jistiny, ale také z předešle připsan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25360"/>
            <a:ext cx="29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úročení 1. vkladu je stejné jako u jednoduchého úrokov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0520"/>
            <a:ext cx="151308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19852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000" y="2198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7956720" y="6237360"/>
                <a:ext cx="3585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195640" y="3357720"/>
                <a:ext cx="34750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2268360" y="189000"/>
                <a:ext cx="2321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195640" y="1052640"/>
                <a:ext cx="2652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2195640" y="1989000"/>
                <a:ext cx="2700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2411280" y="3068640"/>
                <a:ext cx="184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8"/>
          <p:cNvSpPr/>
          <p:nvPr/>
        </p:nvSpPr>
        <p:spPr>
          <a:xfrm>
            <a:off x="1187280" y="5589720"/>
            <a:ext cx="7620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složeném úrokování roste jistina exponenciálně (rychle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633600" y="2154600"/>
            <a:ext cx="417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378936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kvocient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339840"/>
            <a:ext cx="603000" cy="4168800"/>
          </a:xfrm>
          <a:custGeom>
            <a:avLst/>
            <a:gdLst>
              <a:gd name="textAreaLeft" fmla="*/ 29160 w 603000"/>
              <a:gd name="textAreaRight" fmla="*/ 573840 w 603000"/>
              <a:gd name="textAreaTop" fmla="*/ 29160 h 4168800"/>
              <a:gd name="textAreaBottom" fmla="*/ 4139640 h 4168800"/>
            </a:gdLst>
            <a:ahLst/>
            <a:rect l="textAreaLeft" t="textAreaTop" r="textAreaRight" b="textAreaBottom"/>
            <a:pathLst>
              <a:path w="21600" h="149254">
                <a:moveTo>
                  <a:pt x="3600" y="0"/>
                </a:moveTo>
                <a:arcTo wR="3600" hR="3600" stAng="16200000" swAng="-5400000"/>
                <a:lnTo>
                  <a:pt x="0" y="145654"/>
                </a:lnTo>
                <a:arcTo wR="3600" hR="3600" stAng="10800000" swAng="-5400000"/>
                <a:lnTo>
                  <a:pt x="18000" y="149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63640" y="256536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48000" y="3068640"/>
            <a:ext cx="1584360" cy="792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3862440"/>
            <a:ext cx="432000" cy="1484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484280"/>
              <a:gd name="textAreaBottom" fmla="*/ 1463400 h 1484280"/>
            </a:gdLst>
            <a:ahLst/>
            <a:rect l="textAreaLeft" t="textAreaTop" r="textAreaRight" b="textAreaBottom"/>
            <a:pathLst>
              <a:path w="21600" h="74170">
                <a:moveTo>
                  <a:pt x="3600" y="0"/>
                </a:moveTo>
                <a:arcTo wR="3600" hR="3600" stAng="16200000" swAng="-5400000"/>
                <a:lnTo>
                  <a:pt x="0" y="70570"/>
                </a:lnTo>
                <a:arcTo wR="3600" hR="3600" stAng="10800000" swAng="-5400000"/>
                <a:lnTo>
                  <a:pt x="18000" y="741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3645000"/>
            <a:ext cx="1368360" cy="907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4076640"/>
            <a:ext cx="674640" cy="1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1415880" y="4665600"/>
                <a:ext cx="3073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708360" y="455436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2637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mortizace majetku (odpis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2880" y="1700280"/>
            <a:ext cx="7970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jadřuj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potřebení příslušné položky dlouhodobého majetku v důsledku používání (fyzický odpis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používání“ – zastarávání (morální odpis) tohoto maje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určí obdobně jako nárůst hodnoty – ale naopak z původní ceny odečítáme hodnotu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280" y="980640"/>
            <a:ext cx="716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kvocient GP pro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nárůst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čení vkla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řipisujeme úrok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ú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okles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mortizace majetk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pisujeme odpis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867280" y="1579680"/>
                <a:ext cx="23590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5940360" y="3019320"/>
                <a:ext cx="2322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87280" y="46530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elikost jistiny za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acích období pro nárůst i pokles hodnoty tak můžeme zapsat zjednodušeně pomocí hodnoty úročitel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1844640"/>
            <a:ext cx="9367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213000"/>
            <a:ext cx="93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5940360" y="5661000"/>
                <a:ext cx="2592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Ze základního vzorc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terý vyjadřuje velikost jistiny p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odvodím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áteční jistina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et let, po které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ová míra, kterou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25Z</dcterms:modified>
  <cp:revision>97</cp:revision>
  <dc:subject/>
  <dc:title>ÚROKOVÁNÍ</dc:title>
</cp:coreProperties>
</file>