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4CC5-34FC-4421-AADF-CC5FA33ECC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977A-C4D5-488E-840C-50ED0E9BF65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70AB-6AA3-41C9-9BEA-1810F1B358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5802-7166-49AF-BDEE-93FA6187A1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0C9-0BBE-4FF0-8837-75B0C1039B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FAD-F7F7-47AF-A30D-35EAD5E3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522-4651-4B00-BBCB-11451E63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791-5673-449E-887C-95257B91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69A-4B8A-4059-A1A7-55926A19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E3BC-BCC1-4AEE-BF9E-A891BA2C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9E6-01CC-40B3-94C7-AABE8950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E21F-573A-4162-BF51-8A5AC77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EECE-D116-4C65-8392-33DA7484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1726-63E3-4DA0-AAD5-0A6C5B71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252E-20F0-4F72-A8D4-C13E549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B3F7-C48D-49C3-BEC0-FF24DCA7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947-06F3-45BC-85D5-3A8D1831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2EA2-A574-40D0-8CC9-A7B45B5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1A2-824E-405E-B314-5F38E83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578-C5F7-432F-9C8D-B5C76C9F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696C-3FE7-4FC0-AE8D-737CCC2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015-064E-4C74-A972-F30A1CA8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0CF-4965-4A89-BFEB-E3345B93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5E9-9817-48FB-9667-706B50F3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17F-6BCB-4A6B-BEDE-A122927F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709-4CB5-411E-BE07-08545B1B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902-C715-4A67-A6C5-C2E8E8B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A9E-0AB3-440F-A525-F5C76F8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012-19EB-4AE8-A92F-4F820395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04C3-A231-4577-A626-750235CE74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35D9-29B3-4773-9D6E-8E9218437F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rost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042920" y="1125360"/>
            <a:ext cx="810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lastnost určíme snadno z grafu funkce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prostá, protne libovolná rovnoběžka s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jí graf nejvýše jedno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896080" y="616572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neární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je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55680" y="503064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oniometrická 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sinus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není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1114560" y="3645000"/>
            <a:ext cx="5184720" cy="865080"/>
            <a:chOff x="1114560" y="3645000"/>
            <a:chExt cx="5184720" cy="865080"/>
          </a:xfrm>
        </p:grpSpPr>
        <p:sp>
          <p:nvSpPr>
            <p:cNvPr id="276" name="Freeform 7"/>
            <p:cNvSpPr/>
            <p:nvPr/>
          </p:nvSpPr>
          <p:spPr>
            <a:xfrm>
              <a:off x="240984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Freeform 8"/>
            <p:cNvSpPr/>
            <p:nvPr/>
          </p:nvSpPr>
          <p:spPr>
            <a:xfrm flipV="1">
              <a:off x="370692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 flipV="1">
              <a:off x="111456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500220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370800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706920" y="4365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635280" y="3645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635280" y="451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969840" y="2997360"/>
            <a:ext cx="5769000" cy="1942560"/>
            <a:chOff x="969840" y="2997360"/>
            <a:chExt cx="5769000" cy="1942560"/>
          </a:xfrm>
        </p:grpSpPr>
        <p:sp>
          <p:nvSpPr>
            <p:cNvPr id="285" name="Line 16"/>
            <p:cNvSpPr/>
            <p:nvPr/>
          </p:nvSpPr>
          <p:spPr>
            <a:xfrm>
              <a:off x="969840" y="4076640"/>
              <a:ext cx="56898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 flipV="1">
              <a:off x="3706920" y="3139560"/>
              <a:ext cx="0" cy="180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636360" y="4005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708360" y="2997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6445440" y="4076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21"/>
          <p:cNvSpPr/>
          <p:nvPr/>
        </p:nvSpPr>
        <p:spPr>
          <a:xfrm>
            <a:off x="4858920" y="3500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2"/>
          <p:cNvGrpSpPr/>
          <p:nvPr/>
        </p:nvGrpSpPr>
        <p:grpSpPr>
          <a:xfrm>
            <a:off x="6732720" y="2565360"/>
            <a:ext cx="2411280" cy="3455640"/>
            <a:chOff x="6732720" y="2565360"/>
            <a:chExt cx="2411280" cy="3455640"/>
          </a:xfrm>
        </p:grpSpPr>
        <p:sp>
          <p:nvSpPr>
            <p:cNvPr id="292" name="Line 23"/>
            <p:cNvSpPr/>
            <p:nvPr/>
          </p:nvSpPr>
          <p:spPr>
            <a:xfrm>
              <a:off x="6732720" y="4797360"/>
              <a:ext cx="2411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V="1">
              <a:off x="7740720" y="2707920"/>
              <a:ext cx="0" cy="3313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766872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7813800" y="2565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7"/>
            <p:cNvSpPr/>
            <p:nvPr/>
          </p:nvSpPr>
          <p:spPr>
            <a:xfrm>
              <a:off x="8848800" y="4869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7" name="Line 28"/>
          <p:cNvSpPr/>
          <p:nvPr/>
        </p:nvSpPr>
        <p:spPr>
          <a:xfrm>
            <a:off x="1116000" y="4365720"/>
            <a:ext cx="5327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63"/>
          <p:cNvGrpSpPr/>
          <p:nvPr/>
        </p:nvGrpSpPr>
        <p:grpSpPr>
          <a:xfrm>
            <a:off x="2626920" y="4292640"/>
            <a:ext cx="144720" cy="142920"/>
            <a:chOff x="2626920" y="4292640"/>
            <a:chExt cx="144720" cy="142920"/>
          </a:xfrm>
        </p:grpSpPr>
        <p:sp>
          <p:nvSpPr>
            <p:cNvPr id="299" name="Line 64"/>
            <p:cNvSpPr/>
            <p:nvPr/>
          </p:nvSpPr>
          <p:spPr>
            <a:xfrm>
              <a:off x="2627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 flipH="1">
              <a:off x="262692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302" name="Line 64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4" name="Group 63"/>
          <p:cNvGrpSpPr/>
          <p:nvPr/>
        </p:nvGrpSpPr>
        <p:grpSpPr>
          <a:xfrm>
            <a:off x="5219280" y="4292640"/>
            <a:ext cx="144720" cy="142920"/>
            <a:chOff x="5219280" y="4292640"/>
            <a:chExt cx="144720" cy="142920"/>
          </a:xfrm>
        </p:grpSpPr>
        <p:sp>
          <p:nvSpPr>
            <p:cNvPr id="305" name="Line 64"/>
            <p:cNvSpPr/>
            <p:nvPr/>
          </p:nvSpPr>
          <p:spPr>
            <a:xfrm>
              <a:off x="5219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65"/>
            <p:cNvSpPr/>
            <p:nvPr/>
          </p:nvSpPr>
          <p:spPr>
            <a:xfrm flipH="1">
              <a:off x="5219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7" name="Group 63"/>
          <p:cNvGrpSpPr/>
          <p:nvPr/>
        </p:nvGrpSpPr>
        <p:grpSpPr>
          <a:xfrm>
            <a:off x="5940000" y="4292640"/>
            <a:ext cx="144720" cy="142920"/>
            <a:chOff x="5940000" y="4292640"/>
            <a:chExt cx="144720" cy="142920"/>
          </a:xfrm>
        </p:grpSpPr>
        <p:sp>
          <p:nvSpPr>
            <p:cNvPr id="308" name="Line 64"/>
            <p:cNvSpPr/>
            <p:nvPr/>
          </p:nvSpPr>
          <p:spPr>
            <a:xfrm>
              <a:off x="594036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65"/>
            <p:cNvSpPr/>
            <p:nvPr/>
          </p:nvSpPr>
          <p:spPr>
            <a:xfrm flipH="1">
              <a:off x="5940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0" name="Group 41"/>
          <p:cNvGrpSpPr/>
          <p:nvPr/>
        </p:nvGrpSpPr>
        <p:grpSpPr>
          <a:xfrm>
            <a:off x="1763640" y="4005360"/>
            <a:ext cx="71640" cy="431280"/>
            <a:chOff x="1763640" y="4005360"/>
            <a:chExt cx="71640" cy="431280"/>
          </a:xfrm>
        </p:grpSpPr>
        <p:sp>
          <p:nvSpPr>
            <p:cNvPr id="311" name="Line 33"/>
            <p:cNvSpPr/>
            <p:nvPr/>
          </p:nvSpPr>
          <p:spPr>
            <a:xfrm flipV="1">
              <a:off x="176364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V="1">
              <a:off x="183528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3"/>
            <p:cNvSpPr/>
            <p:nvPr/>
          </p:nvSpPr>
          <p:spPr>
            <a:xfrm flipV="1">
              <a:off x="176364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 flipV="1">
              <a:off x="183528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5" name="Line 46"/>
          <p:cNvSpPr/>
          <p:nvPr/>
        </p:nvSpPr>
        <p:spPr>
          <a:xfrm flipV="1">
            <a:off x="7164360" y="2781360"/>
            <a:ext cx="1511280" cy="3240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81440" y="364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7669080" y="3860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802908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Line 50"/>
          <p:cNvSpPr/>
          <p:nvPr/>
        </p:nvSpPr>
        <p:spPr>
          <a:xfrm flipV="1">
            <a:off x="8172360" y="472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51"/>
          <p:cNvSpPr/>
          <p:nvPr/>
        </p:nvSpPr>
        <p:spPr>
          <a:xfrm>
            <a:off x="8172360" y="3860640"/>
            <a:ext cx="0" cy="863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52"/>
          <p:cNvSpPr/>
          <p:nvPr/>
        </p:nvSpPr>
        <p:spPr>
          <a:xfrm>
            <a:off x="7740720" y="3860640"/>
            <a:ext cx="431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8309160" y="32846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</a:t>
            </a:r>
            <a:r>
              <a:rPr b="0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6732720" y="3860640"/>
            <a:ext cx="2411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7021440" y="3789000"/>
            <a:ext cx="71640" cy="1077840"/>
            <a:chOff x="7021440" y="3789000"/>
            <a:chExt cx="71640" cy="1077840"/>
          </a:xfrm>
        </p:grpSpPr>
        <p:sp>
          <p:nvSpPr>
            <p:cNvPr id="325" name="Line 33"/>
            <p:cNvSpPr/>
            <p:nvPr/>
          </p:nvSpPr>
          <p:spPr>
            <a:xfrm flipV="1">
              <a:off x="702144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34"/>
            <p:cNvSpPr/>
            <p:nvPr/>
          </p:nvSpPr>
          <p:spPr>
            <a:xfrm flipV="1">
              <a:off x="709308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33"/>
            <p:cNvSpPr/>
            <p:nvPr/>
          </p:nvSpPr>
          <p:spPr>
            <a:xfrm flipV="1">
              <a:off x="702144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4"/>
            <p:cNvSpPr/>
            <p:nvPr/>
          </p:nvSpPr>
          <p:spPr>
            <a:xfrm flipV="1">
              <a:off x="709308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9" name="Group 63"/>
          <p:cNvGrpSpPr/>
          <p:nvPr/>
        </p:nvGrpSpPr>
        <p:grpSpPr>
          <a:xfrm>
            <a:off x="8100720" y="3789360"/>
            <a:ext cx="144720" cy="142920"/>
            <a:chOff x="8100720" y="3789360"/>
            <a:chExt cx="144720" cy="142920"/>
          </a:xfrm>
        </p:grpSpPr>
        <p:sp>
          <p:nvSpPr>
            <p:cNvPr id="330" name="Line 64"/>
            <p:cNvSpPr/>
            <p:nvPr/>
          </p:nvSpPr>
          <p:spPr>
            <a:xfrm>
              <a:off x="81010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65"/>
            <p:cNvSpPr/>
            <p:nvPr/>
          </p:nvSpPr>
          <p:spPr>
            <a:xfrm flipH="1">
              <a:off x="81007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705800" cy="4260600"/>
        </p:xfrm>
        <a:graphic>
          <a:graphicData uri="http://schemas.openxmlformats.org/drawingml/2006/table">
            <a:tbl>
              <a:tblPr/>
              <a:tblGrid>
                <a:gridCol w="3529080"/>
                <a:gridCol w="417672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ezenost a period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 funkce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názorné příklad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omezená zdola, shora; Funkce omezená; Funkce periodická; Perioda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s definičním obor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ůže být na tomto obor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zdo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shor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je funkce omezená zdola a současně i shora, j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jsou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omezen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93080" y="522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zdol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1280" y="1557360"/>
            <a:ext cx="144000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332000" y="2060640"/>
            <a:ext cx="6726240" cy="4394160"/>
            <a:chOff x="1332000" y="2060640"/>
            <a:chExt cx="6726240" cy="4394160"/>
          </a:xfrm>
        </p:grpSpPr>
        <p:sp>
          <p:nvSpPr>
            <p:cNvPr id="148" name="Text Box 7"/>
            <p:cNvSpPr/>
            <p:nvPr/>
          </p:nvSpPr>
          <p:spPr>
            <a:xfrm>
              <a:off x="4141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1332000" y="2278080"/>
              <a:ext cx="6726240" cy="4176720"/>
              <a:chOff x="1332000" y="2278080"/>
              <a:chExt cx="6726240" cy="4176720"/>
            </a:xfrm>
          </p:grpSpPr>
          <p:sp>
            <p:nvSpPr>
              <p:cNvPr id="150" name="Line 9"/>
              <p:cNvSpPr/>
              <p:nvPr/>
            </p:nvSpPr>
            <p:spPr>
              <a:xfrm>
                <a:off x="392256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5146560" y="458172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 flipV="1">
                <a:off x="3994200" y="2278080"/>
                <a:ext cx="1440" cy="41767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1332000" y="4653000"/>
                <a:ext cx="6624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39974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774180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50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3997440" y="57340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5148360" y="2494080"/>
                <a:ext cx="2232000" cy="331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9" name="Text Box 18"/>
              <p:cNvSpPr/>
              <p:nvPr/>
            </p:nvSpPr>
            <p:spPr>
              <a:xfrm>
                <a:off x="6805440" y="24940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0" name="Line 19"/>
              <p:cNvSpPr/>
              <p:nvPr/>
            </p:nvSpPr>
            <p:spPr>
              <a:xfrm flipV="1">
                <a:off x="514836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1332000" y="5805720"/>
                <a:ext cx="381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Line 21"/>
          <p:cNvSpPr/>
          <p:nvPr/>
        </p:nvSpPr>
        <p:spPr>
          <a:xfrm>
            <a:off x="1332000" y="5805360"/>
            <a:ext cx="698508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380360" y="270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shor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411280" y="1557360"/>
            <a:ext cx="151308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474920" y="3286080"/>
            <a:ext cx="698472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403280" y="2133720"/>
            <a:ext cx="6726240" cy="4463640"/>
            <a:chOff x="1403280" y="2133720"/>
            <a:chExt cx="6726240" cy="4463640"/>
          </a:xfrm>
        </p:grpSpPr>
        <p:sp>
          <p:nvSpPr>
            <p:cNvPr id="169" name="Text Box 8"/>
            <p:cNvSpPr/>
            <p:nvPr/>
          </p:nvSpPr>
          <p:spPr>
            <a:xfrm>
              <a:off x="406836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V="1">
              <a:off x="406692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403280" y="5373720"/>
              <a:ext cx="662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068720" y="544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7813080" y="544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6516360" y="4221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3993840" y="3286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4068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1474560" y="3429000"/>
              <a:ext cx="6193080" cy="3097080"/>
            </a:xfrm>
            <a:custGeom>
              <a:avLst/>
              <a:gdLst/>
              <a:ahLst/>
              <a:rect l="l" t="t" r="r" b="b"/>
              <a:pathLst>
                <a:path w="3901" h="1951">
                  <a:moveTo>
                    <a:pt x="0" y="0"/>
                  </a:moveTo>
                  <a:cubicBezTo>
                    <a:pt x="412" y="7"/>
                    <a:pt x="825" y="15"/>
                    <a:pt x="1180" y="45"/>
                  </a:cubicBezTo>
                  <a:cubicBezTo>
                    <a:pt x="1535" y="75"/>
                    <a:pt x="1845" y="84"/>
                    <a:pt x="2132" y="182"/>
                  </a:cubicBezTo>
                  <a:cubicBezTo>
                    <a:pt x="2419" y="280"/>
                    <a:pt x="2608" y="340"/>
                    <a:pt x="2903" y="635"/>
                  </a:cubicBezTo>
                  <a:cubicBezTo>
                    <a:pt x="3198" y="930"/>
                    <a:pt x="3549" y="1440"/>
                    <a:pt x="3901" y="1951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332000" y="2205000"/>
            <a:ext cx="7086600" cy="4392360"/>
            <a:chOff x="1332000" y="2205000"/>
            <a:chExt cx="7086600" cy="4392360"/>
          </a:xfrm>
        </p:grpSpPr>
        <p:sp>
          <p:nvSpPr>
            <p:cNvPr id="179" name="Text Box 3"/>
            <p:cNvSpPr/>
            <p:nvPr/>
          </p:nvSpPr>
          <p:spPr>
            <a:xfrm>
              <a:off x="4860720" y="220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478800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1332000" y="5084640"/>
              <a:ext cx="705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789800" y="50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10216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6878520" y="3213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4714920" y="314316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78980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4716360" y="5732640"/>
              <a:ext cx="21456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789800" y="5661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89" name="Group 13"/>
            <p:cNvGrpSpPr/>
            <p:nvPr/>
          </p:nvGrpSpPr>
          <p:grpSpPr>
            <a:xfrm>
              <a:off x="1908000" y="3213000"/>
              <a:ext cx="5759280" cy="2448000"/>
              <a:chOff x="1908000" y="3213000"/>
              <a:chExt cx="5759280" cy="2448000"/>
            </a:xfrm>
          </p:grpSpPr>
          <p:sp>
            <p:nvSpPr>
              <p:cNvPr id="190" name="Freeform 14"/>
              <p:cNvSpPr/>
              <p:nvPr/>
            </p:nvSpPr>
            <p:spPr>
              <a:xfrm flipH="1">
                <a:off x="4787280" y="3213000"/>
                <a:ext cx="288000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flipV="1">
                <a:off x="1908000" y="4437000"/>
                <a:ext cx="287964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824040" y="1052640"/>
            <a:ext cx="8319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í taková dvě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, 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308720" y="256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89000"/>
            <a:ext cx="8132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195640" y="1628640"/>
            <a:ext cx="2016000" cy="578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1403280" y="314172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6436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403280" y="573408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ERIODIČ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16000" y="134136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i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nazývám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eriodick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s periodou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a definičním obor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který s každým bod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obsahuje také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jestliže pro každé čísl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latí            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ční hodnoty periodických funkcí se pravidelně opakuj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539640" y="2470320"/>
            <a:ext cx="8058240" cy="1082520"/>
            <a:chOff x="539640" y="2470320"/>
            <a:chExt cx="8058240" cy="1082520"/>
          </a:xfrm>
        </p:grpSpPr>
        <p:sp>
          <p:nvSpPr>
            <p:cNvPr id="202" name="Freeform 3"/>
            <p:cNvSpPr/>
            <p:nvPr/>
          </p:nvSpPr>
          <p:spPr>
            <a:xfrm>
              <a:off x="2124000" y="3119760"/>
              <a:ext cx="15861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 flipV="1">
              <a:off x="370836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flipV="1">
              <a:off x="53964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5292720" y="3119760"/>
              <a:ext cx="15843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flipV="1">
              <a:off x="6877080" y="2686320"/>
              <a:ext cx="158580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8318160" y="24703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eriodick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3708360" y="2852640"/>
            <a:ext cx="43862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8098920" y="2851200"/>
            <a:ext cx="180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H="1" flipV="1">
            <a:off x="4930920" y="2851200"/>
            <a:ext cx="144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749840" y="41497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3706920" y="2852640"/>
            <a:ext cx="12254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74072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+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763640" y="2851200"/>
            <a:ext cx="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1763640" y="285264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918160" y="2565360"/>
            <a:ext cx="76284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1403280" y="414972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–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4930920" y="4149720"/>
            <a:ext cx="3168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44364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762200" y="4149720"/>
            <a:ext cx="3168720" cy="1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34800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5006880" y="5084640"/>
            <a:ext cx="2276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635280" y="285264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6877080" y="1750680"/>
            <a:ext cx="0" cy="1366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539640" y="1268280"/>
            <a:ext cx="8526600" cy="3722760"/>
            <a:chOff x="539640" y="1268280"/>
            <a:chExt cx="8526600" cy="3722760"/>
          </a:xfrm>
        </p:grpSpPr>
        <p:sp>
          <p:nvSpPr>
            <p:cNvPr id="227" name="Line 28"/>
            <p:cNvSpPr/>
            <p:nvPr/>
          </p:nvSpPr>
          <p:spPr>
            <a:xfrm>
              <a:off x="3635280" y="2707920"/>
              <a:ext cx="2160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3635280" y="3570120"/>
              <a:ext cx="21600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539640" y="1268280"/>
              <a:ext cx="8526600" cy="3722760"/>
              <a:chOff x="539640" y="1268280"/>
              <a:chExt cx="8526600" cy="3722760"/>
            </a:xfrm>
          </p:grpSpPr>
          <p:sp>
            <p:nvSpPr>
              <p:cNvPr id="230" name="Line 31"/>
              <p:cNvSpPr/>
              <p:nvPr/>
            </p:nvSpPr>
            <p:spPr>
              <a:xfrm>
                <a:off x="539640" y="3119400"/>
                <a:ext cx="83869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Line 32"/>
              <p:cNvSpPr/>
              <p:nvPr/>
            </p:nvSpPr>
            <p:spPr>
              <a:xfrm flipV="1">
                <a:off x="3708360" y="1390320"/>
                <a:ext cx="0" cy="360072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3672000" y="306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3781080" y="1268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8749800" y="3119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3"/>
                  <p:cNvSpPr txBox="1"/>
                  <p:nvPr/>
                </p:nvSpPr>
                <p:spPr>
                  <a:xfrm>
                    <a:off x="4356000" y="3190680"/>
                    <a:ext cx="2970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3"/>
                  <p:cNvSpPr txBox="1"/>
                  <p:nvPr/>
                </p:nvSpPr>
                <p:spPr>
                  <a:xfrm>
                    <a:off x="5180040" y="3355920"/>
                    <a:ext cx="24768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3"/>
                  <p:cNvSpPr txBox="1"/>
                  <p:nvPr/>
                </p:nvSpPr>
                <p:spPr>
                  <a:xfrm>
                    <a:off x="586728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3"/>
                  <p:cNvSpPr txBox="1"/>
                  <p:nvPr/>
                </p:nvSpPr>
                <p:spPr>
                  <a:xfrm>
                    <a:off x="745164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3"/>
                  <p:cNvSpPr txBox="1"/>
                  <p:nvPr/>
                </p:nvSpPr>
                <p:spPr>
                  <a:xfrm>
                    <a:off x="2556000" y="3190680"/>
                    <a:ext cx="5191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3"/>
                  <p:cNvSpPr txBox="1"/>
                  <p:nvPr/>
                </p:nvSpPr>
                <p:spPr>
                  <a:xfrm>
                    <a:off x="1763640" y="3261960"/>
                    <a:ext cx="46980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3"/>
                  <p:cNvSpPr txBox="1"/>
                  <p:nvPr/>
                </p:nvSpPr>
                <p:spPr>
                  <a:xfrm>
                    <a:off x="1042920" y="3190680"/>
                    <a:ext cx="6667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43"/>
              <p:cNvSpPr/>
              <p:nvPr/>
            </p:nvSpPr>
            <p:spPr>
              <a:xfrm>
                <a:off x="3708720" y="2276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3710160" y="34066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5292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4500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083280" y="3068280"/>
                <a:ext cx="0" cy="21600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87708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291636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2124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1332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66764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3"/>
                  <p:cNvSpPr txBox="1"/>
                  <p:nvPr/>
                </p:nvSpPr>
                <p:spPr>
                  <a:xfrm>
                    <a:off x="6659640" y="3261960"/>
                    <a:ext cx="39528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53" name="Text Box 54"/>
          <p:cNvSpPr/>
          <p:nvPr/>
        </p:nvSpPr>
        <p:spPr>
          <a:xfrm>
            <a:off x="4716360" y="1606680"/>
            <a:ext cx="1152720" cy="392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p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= 2</a:t>
            </a:r>
            <a:r>
              <a:rPr b="0" i="1" lang="el-GR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3708360" y="203832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3708360" y="2685960"/>
            <a:ext cx="3168720" cy="863640"/>
            <a:chOff x="3708360" y="2685960"/>
            <a:chExt cx="3168720" cy="863640"/>
          </a:xfrm>
        </p:grpSpPr>
        <p:sp>
          <p:nvSpPr>
            <p:cNvPr id="256" name="Freeform 57"/>
            <p:cNvSpPr/>
            <p:nvPr/>
          </p:nvSpPr>
          <p:spPr>
            <a:xfrm flipV="1">
              <a:off x="3708360" y="268596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5292720" y="3117960"/>
              <a:ext cx="1584360" cy="43164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8" name="Group 63"/>
          <p:cNvGrpSpPr/>
          <p:nvPr/>
        </p:nvGrpSpPr>
        <p:grpSpPr>
          <a:xfrm>
            <a:off x="1690560" y="2779560"/>
            <a:ext cx="144720" cy="142920"/>
            <a:chOff x="1690560" y="2779560"/>
            <a:chExt cx="144720" cy="142920"/>
          </a:xfrm>
        </p:grpSpPr>
        <p:sp>
          <p:nvSpPr>
            <p:cNvPr id="259" name="Line 64"/>
            <p:cNvSpPr/>
            <p:nvPr/>
          </p:nvSpPr>
          <p:spPr>
            <a:xfrm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 flipH="1"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63"/>
          <p:cNvGrpSpPr/>
          <p:nvPr/>
        </p:nvGrpSpPr>
        <p:grpSpPr>
          <a:xfrm>
            <a:off x="4858920" y="2779560"/>
            <a:ext cx="144720" cy="142920"/>
            <a:chOff x="4858920" y="2779560"/>
            <a:chExt cx="144720" cy="142920"/>
          </a:xfrm>
        </p:grpSpPr>
        <p:sp>
          <p:nvSpPr>
            <p:cNvPr id="262" name="Line 64"/>
            <p:cNvSpPr/>
            <p:nvPr/>
          </p:nvSpPr>
          <p:spPr>
            <a:xfrm>
              <a:off x="485928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H="1">
              <a:off x="485892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Rectangle 65"/>
          <p:cNvSpPr/>
          <p:nvPr/>
        </p:nvSpPr>
        <p:spPr>
          <a:xfrm rot="2164200">
            <a:off x="8221680" y="2484360"/>
            <a:ext cx="431640" cy="50508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7524360" y="227664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3"/>
          <p:cNvGrpSpPr/>
          <p:nvPr/>
        </p:nvGrpSpPr>
        <p:grpSpPr>
          <a:xfrm>
            <a:off x="8027640" y="2779560"/>
            <a:ext cx="144720" cy="142920"/>
            <a:chOff x="8027640" y="2779560"/>
            <a:chExt cx="144720" cy="142920"/>
          </a:xfrm>
        </p:grpSpPr>
        <p:sp>
          <p:nvSpPr>
            <p:cNvPr id="267" name="Line 64"/>
            <p:cNvSpPr/>
            <p:nvPr/>
          </p:nvSpPr>
          <p:spPr>
            <a:xfrm>
              <a:off x="802800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 flipH="1">
              <a:off x="802764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973080" y="1484280"/>
            <a:ext cx="8170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unkc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je prost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ávě když                          pro všechna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,  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-l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pak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jednodušej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nabývá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 každé dva různé argumenty dvě různé funkční hodnot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ak tuto funkci nazývám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042920" y="54936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)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ROSTÁ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1:58:58Z</dcterms:modified>
  <cp:revision>310</cp:revision>
  <dc:subject/>
  <dc:title>FCE</dc:title>
</cp:coreProperties>
</file>