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D2BF-BFD7-4755-AF18-F147F0E130C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3B88-F87E-461B-837B-1EE16652470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B331-9588-4C54-8994-2941DC36A75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B3BA-4BD4-4F33-A45D-54FAE522C7A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B28B-BC9B-4C8F-90CE-3E07BB8FD6D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50F4-012F-4D22-BA7D-FEDAB634C3A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C405-686C-4B8E-A9B0-7395572BA84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3D8-26BC-442F-A001-317C7D12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779-FD14-41B4-9FA1-13FC9890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CF7-8858-48AE-BF3B-A64CC6FA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9DF-80B9-4126-8071-7D25C9D0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B766-B19D-4C6A-8808-D64258DF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9B49-E364-4688-8B9E-594AA788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AB12-E844-4D14-B50A-8377D7CB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5934-6B10-4D5D-AC05-9226C858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4E18-8937-4EE5-A5CD-D67E93F9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66FB-6E20-497D-B45E-2E356F01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CC66-0209-449B-9303-FD577F84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692-E3B4-4484-A5DC-C13929D3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BC22-96E7-4001-91D7-DA35B763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A37E-7ED8-40D8-8528-5D7593AB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2890-AED3-45A0-B435-07A926C4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1745-4BB9-4140-B311-13569FB5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38DD-1C6F-4140-B978-7319F5A9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D83-5B13-4717-BB9A-A23369A8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70A-91DE-40E4-A0B3-80A3EA3E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892-D51B-430D-8659-3D967119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116-568B-49D9-A65E-22071CF1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050-4AAA-4672-9EC7-D896248F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9B9-DAD7-48A5-A4DF-E34322C3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281-B25D-430D-9720-B959C130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55A3-691E-4477-AD88-4A3B3B2278B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A784-8F44-48A4-8C7A-91C72D530F6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2544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6877080" y="1700280"/>
                <a:ext cx="1655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6896160" y="2852640"/>
                <a:ext cx="22478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5" descr="kopie - 7"/>
          <p:cNvPicPr/>
          <p:nvPr/>
        </p:nvPicPr>
        <p:blipFill>
          <a:blip r:embed="rId1"/>
          <a:stretch/>
        </p:blipFill>
        <p:spPr>
          <a:xfrm>
            <a:off x="250920" y="426960"/>
            <a:ext cx="6553080" cy="605304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>
            <a:off x="468360" y="2852640"/>
            <a:ext cx="61196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116000" y="1052640"/>
            <a:ext cx="55436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64000" y="2852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564000" y="836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 flipV="1">
            <a:off x="2556000" y="1052640"/>
            <a:ext cx="0" cy="1800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639520" y="148428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611280" y="4797360"/>
            <a:ext cx="59767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3645720" y="400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012000" y="486900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604800" y="486900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5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3"/>
              <p:cNvSpPr txBox="1"/>
              <p:nvPr/>
            </p:nvSpPr>
            <p:spPr>
              <a:xfrm>
                <a:off x="6022800" y="1901880"/>
                <a:ext cx="2611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4"/>
              <p:cNvSpPr txBox="1"/>
              <p:nvPr/>
            </p:nvSpPr>
            <p:spPr>
              <a:xfrm>
                <a:off x="6084720" y="3068640"/>
                <a:ext cx="2614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1" name="Picture 5" descr="kopie - 8"/>
          <p:cNvPicPr/>
          <p:nvPr/>
        </p:nvPicPr>
        <p:blipFill>
          <a:blip r:embed="rId1"/>
          <a:stretch/>
        </p:blipFill>
        <p:spPr>
          <a:xfrm>
            <a:off x="250920" y="260280"/>
            <a:ext cx="5302080" cy="6354720"/>
          </a:xfrm>
          <a:prstGeom prst="rect">
            <a:avLst/>
          </a:prstGeom>
          <a:ln w="0">
            <a:noFill/>
          </a:ln>
        </p:spPr>
      </p:pic>
      <p:sp>
        <p:nvSpPr>
          <p:cNvPr id="262" name="Line 6"/>
          <p:cNvSpPr/>
          <p:nvPr/>
        </p:nvSpPr>
        <p:spPr>
          <a:xfrm>
            <a:off x="1908000" y="1197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4211640" y="1052640"/>
            <a:ext cx="0" cy="5256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995640" y="321300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1620000" y="321300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4067280" y="5734080"/>
            <a:ext cx="287280" cy="28872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1763640" y="2276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826920" y="5877000"/>
            <a:ext cx="446436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826920" y="2421000"/>
            <a:ext cx="446580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2772360" y="566100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2771640" y="213372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Oval 16"/>
          <p:cNvSpPr/>
          <p:nvPr/>
        </p:nvSpPr>
        <p:spPr>
          <a:xfrm>
            <a:off x="4067280" y="5734080"/>
            <a:ext cx="287280" cy="28872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Oval 17"/>
          <p:cNvSpPr/>
          <p:nvPr/>
        </p:nvSpPr>
        <p:spPr>
          <a:xfrm>
            <a:off x="1763640" y="2276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1908000" y="1989000"/>
            <a:ext cx="2303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2853720" y="112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 flipV="1">
            <a:off x="1042920" y="2421000"/>
            <a:ext cx="0" cy="3456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1116000" y="3716280"/>
            <a:ext cx="693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5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8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1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4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5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5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4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5837400" y="1916280"/>
                <a:ext cx="19238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5724360" y="2924280"/>
                <a:ext cx="3419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1" name="Picture 5" descr="kopie - 9"/>
          <p:cNvPicPr/>
          <p:nvPr/>
        </p:nvPicPr>
        <p:blipFill>
          <a:blip r:embed="rId1"/>
          <a:stretch/>
        </p:blipFill>
        <p:spPr>
          <a:xfrm>
            <a:off x="179280" y="333360"/>
            <a:ext cx="5519880" cy="617364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>
            <a:off x="3132000" y="620640"/>
            <a:ext cx="0" cy="5688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395280" y="5013360"/>
            <a:ext cx="27352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400608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4788000" y="508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388800" y="50846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Line 11"/>
          <p:cNvSpPr/>
          <p:nvPr/>
        </p:nvSpPr>
        <p:spPr>
          <a:xfrm>
            <a:off x="3132000" y="5013360"/>
            <a:ext cx="23767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324000" y="400536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1619280" y="404640"/>
            <a:ext cx="0" cy="2087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1692360" y="112536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1692360" y="40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685880" y="580536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204360" y="371628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 flipV="1">
            <a:off x="1619280" y="4005000"/>
            <a:ext cx="0" cy="2376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9"/>
          <p:cNvSpPr/>
          <p:nvPr/>
        </p:nvSpPr>
        <p:spPr>
          <a:xfrm>
            <a:off x="395280" y="242100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3203640" y="3284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485080" y="2205000"/>
            <a:ext cx="4870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9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4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0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3" dur="5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2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6515280" y="1854360"/>
                <a:ext cx="1560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6588000" y="2781360"/>
                <a:ext cx="20876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1" name="Picture 5" descr="kopie - 10"/>
          <p:cNvPicPr/>
          <p:nvPr/>
        </p:nvPicPr>
        <p:blipFill>
          <a:blip r:embed="rId1"/>
          <a:stretch/>
        </p:blipFill>
        <p:spPr>
          <a:xfrm>
            <a:off x="179280" y="398520"/>
            <a:ext cx="6264360" cy="6138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6"/>
          <p:cNvSpPr/>
          <p:nvPr/>
        </p:nvSpPr>
        <p:spPr>
          <a:xfrm>
            <a:off x="3132000" y="1916280"/>
            <a:ext cx="9352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910440" y="1844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611280" y="4797360"/>
            <a:ext cx="53290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645720" y="400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5364000" y="486900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604800" y="486900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1835280" y="2205000"/>
            <a:ext cx="1152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1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5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5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5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5940360" y="1844640"/>
                <a:ext cx="27590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6012000" y="3068640"/>
                <a:ext cx="27716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2" name="Picture 5" descr="kopie - 11"/>
          <p:cNvPicPr/>
          <p:nvPr/>
        </p:nvPicPr>
        <p:blipFill>
          <a:blip r:embed="rId1"/>
          <a:stretch/>
        </p:blipFill>
        <p:spPr>
          <a:xfrm>
            <a:off x="250920" y="260280"/>
            <a:ext cx="5551560" cy="6399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3"/>
              <p:cNvSpPr txBox="1"/>
              <p:nvPr/>
            </p:nvSpPr>
            <p:spPr>
              <a:xfrm>
                <a:off x="6516720" y="1916280"/>
                <a:ext cx="1265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6443640" y="2924280"/>
                <a:ext cx="2700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16" name="Picture 5" descr="kopie - 12"/>
          <p:cNvPicPr/>
          <p:nvPr/>
        </p:nvPicPr>
        <p:blipFill>
          <a:blip r:embed="rId1"/>
          <a:stretch/>
        </p:blipFill>
        <p:spPr>
          <a:xfrm>
            <a:off x="250920" y="476280"/>
            <a:ext cx="6192720" cy="6076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5932440" y="1822320"/>
                <a:ext cx="27432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5940360" y="2997360"/>
                <a:ext cx="27082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20" name="Picture 5" descr="kopie - 13"/>
          <p:cNvPicPr/>
          <p:nvPr/>
        </p:nvPicPr>
        <p:blipFill>
          <a:blip r:embed="rId1"/>
          <a:stretch/>
        </p:blipFill>
        <p:spPr>
          <a:xfrm>
            <a:off x="250920" y="260280"/>
            <a:ext cx="5527440" cy="6326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6084720" y="1916280"/>
                <a:ext cx="2881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6084720" y="2997360"/>
                <a:ext cx="24307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24" name="Picture 5" descr="kopie - 14"/>
          <p:cNvPicPr/>
          <p:nvPr/>
        </p:nvPicPr>
        <p:blipFill>
          <a:blip r:embed="rId1"/>
          <a:stretch/>
        </p:blipFill>
        <p:spPr>
          <a:xfrm>
            <a:off x="324000" y="333360"/>
            <a:ext cx="5564160" cy="6235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6454800" y="2117880"/>
                <a:ext cx="16207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6462720" y="3114720"/>
                <a:ext cx="25020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8" name="Picture 5" descr="kopie - 15"/>
          <p:cNvPicPr/>
          <p:nvPr/>
        </p:nvPicPr>
        <p:blipFill>
          <a:blip r:embed="rId1"/>
          <a:stretch/>
        </p:blipFill>
        <p:spPr>
          <a:xfrm>
            <a:off x="250920" y="260280"/>
            <a:ext cx="6046560" cy="6373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6012000" y="1844640"/>
                <a:ext cx="16603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4"/>
              <p:cNvSpPr txBox="1"/>
              <p:nvPr/>
            </p:nvSpPr>
            <p:spPr>
              <a:xfrm>
                <a:off x="6012000" y="2924280"/>
                <a:ext cx="27781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2" name="Picture 5" descr="kopie - 16"/>
          <p:cNvPicPr/>
          <p:nvPr/>
        </p:nvPicPr>
        <p:blipFill>
          <a:blip r:embed="rId1"/>
          <a:stretch/>
        </p:blipFill>
        <p:spPr>
          <a:xfrm>
            <a:off x="395280" y="333360"/>
            <a:ext cx="5424480" cy="6297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561080" cy="4403520"/>
        </p:xfrm>
        <a:graphic>
          <a:graphicData uri="http://schemas.openxmlformats.org/drawingml/2006/table">
            <a:tbl>
              <a:tblPr/>
              <a:tblGrid>
                <a:gridCol w="2952720"/>
                <a:gridCol w="460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iční obor a obor hodnot funkce - určení na základě grafu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vyřešené příklady určování D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, H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říklady na samostatné procvičení. Žáci využívají pracovních listů, kde pouze vyznačují důležité prvky a zaznamenávají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fin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obor funkce; Obor hodnot funkce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6588000" y="1916280"/>
                <a:ext cx="19926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6572160" y="2938320"/>
                <a:ext cx="20494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6" name="Picture 5" descr="kopie - 17"/>
          <p:cNvPicPr/>
          <p:nvPr/>
        </p:nvPicPr>
        <p:blipFill>
          <a:blip r:embed="rId1"/>
          <a:stretch/>
        </p:blipFill>
        <p:spPr>
          <a:xfrm>
            <a:off x="179280" y="189000"/>
            <a:ext cx="6177240" cy="6459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6656400" y="1916280"/>
                <a:ext cx="2487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6659640" y="2997360"/>
                <a:ext cx="1611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0" name="Picture 5" descr="kopie - 18"/>
          <p:cNvPicPr/>
          <p:nvPr/>
        </p:nvPicPr>
        <p:blipFill>
          <a:blip r:embed="rId1"/>
          <a:stretch/>
        </p:blipFill>
        <p:spPr>
          <a:xfrm>
            <a:off x="324000" y="333360"/>
            <a:ext cx="6145200" cy="6270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Definiční obor funkce, ozn. D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341360"/>
            <a:ext cx="8172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35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 grafu funkce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, která odpovídá průmětům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ch bodů funkce na os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orientace na ose: zleva doprava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928800" y="3284640"/>
            <a:ext cx="8215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Obor hodnot funkce, ozn. H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4365720"/>
            <a:ext cx="8172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35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 grafu funkce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, která odpovídá průmětům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ch bodů funkce na os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orientace na ose: zdola nahoru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50920" y="189000"/>
            <a:ext cx="88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 a obor hodnot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6300720" y="1916280"/>
                <a:ext cx="25052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6300720" y="2924280"/>
                <a:ext cx="2627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9" name="Picture 6" descr="Kopie - 1"/>
          <p:cNvPicPr/>
          <p:nvPr/>
        </p:nvPicPr>
        <p:blipFill>
          <a:blip r:embed="rId1"/>
          <a:stretch/>
        </p:blipFill>
        <p:spPr>
          <a:xfrm>
            <a:off x="250920" y="907920"/>
            <a:ext cx="5976720" cy="57261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250920" y="836640"/>
            <a:ext cx="88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Funkce je zadaná grafem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výsledek odvodíme z graf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2627280" y="1197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5148360" y="1052640"/>
            <a:ext cx="0" cy="5256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859280" y="414972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2339280" y="33908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2484360" y="544500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5003640" y="1446120"/>
            <a:ext cx="287640" cy="28908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19280" y="5589720"/>
            <a:ext cx="446400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1619280" y="1557360"/>
            <a:ext cx="44654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3636000" y="5300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843280" y="141300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2484360" y="544500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5003640" y="1413000"/>
            <a:ext cx="28764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2627280" y="5013360"/>
            <a:ext cx="25210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357444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22"/>
          <p:cNvSpPr/>
          <p:nvPr/>
        </p:nvSpPr>
        <p:spPr>
          <a:xfrm flipV="1">
            <a:off x="1763640" y="1557000"/>
            <a:ext cx="0" cy="4103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1774080" y="2276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6578640" y="1700280"/>
                <a:ext cx="2565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6588000" y="3141720"/>
                <a:ext cx="2340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0" name="Picture 5" descr="kopie - 2"/>
          <p:cNvPicPr/>
          <p:nvPr/>
        </p:nvPicPr>
        <p:blipFill>
          <a:blip r:embed="rId1"/>
          <a:stretch/>
        </p:blipFill>
        <p:spPr>
          <a:xfrm>
            <a:off x="179280" y="452520"/>
            <a:ext cx="6408720" cy="6000840"/>
          </a:xfrm>
          <a:prstGeom prst="rect">
            <a:avLst/>
          </a:prstGeom>
          <a:ln w="0">
            <a:noFill/>
          </a:ln>
        </p:spPr>
      </p:pic>
      <p:sp>
        <p:nvSpPr>
          <p:cNvPr id="171" name="Line 6"/>
          <p:cNvSpPr/>
          <p:nvPr/>
        </p:nvSpPr>
        <p:spPr>
          <a:xfrm>
            <a:off x="1116000" y="83664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5219640" y="765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1116000" y="5013360"/>
            <a:ext cx="4103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71080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59280" y="299736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756360" y="3860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971640" y="357336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5076720" y="4508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611280" y="4653000"/>
            <a:ext cx="5400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611280" y="1844640"/>
            <a:ext cx="533088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3996360" y="4292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3924360" y="155736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Oval 18"/>
          <p:cNvSpPr/>
          <p:nvPr/>
        </p:nvSpPr>
        <p:spPr>
          <a:xfrm>
            <a:off x="5076720" y="4508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Oval 19"/>
          <p:cNvSpPr/>
          <p:nvPr/>
        </p:nvSpPr>
        <p:spPr>
          <a:xfrm>
            <a:off x="2771640" y="1773360"/>
            <a:ext cx="28764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1763640" y="1844280"/>
            <a:ext cx="0" cy="2808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1774080" y="249228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6732720" y="2138400"/>
                <a:ext cx="16556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6732720" y="3146400"/>
                <a:ext cx="16999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0" name="Picture 5" descr="kopie - 3"/>
          <p:cNvPicPr/>
          <p:nvPr/>
        </p:nvPicPr>
        <p:blipFill>
          <a:blip r:embed="rId1"/>
          <a:stretch/>
        </p:blipFill>
        <p:spPr>
          <a:xfrm>
            <a:off x="250920" y="260280"/>
            <a:ext cx="6156360" cy="6329520"/>
          </a:xfrm>
          <a:prstGeom prst="rect">
            <a:avLst/>
          </a:prstGeom>
          <a:ln w="0">
            <a:noFill/>
          </a:ln>
        </p:spPr>
      </p:pic>
      <p:sp>
        <p:nvSpPr>
          <p:cNvPr id="191" name="Line 6"/>
          <p:cNvSpPr/>
          <p:nvPr/>
        </p:nvSpPr>
        <p:spPr>
          <a:xfrm>
            <a:off x="611280" y="2133720"/>
            <a:ext cx="54720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069720" y="1341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508720" y="220500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77880" y="219708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828800" y="57974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835280" y="83664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 flipV="1">
            <a:off x="1763640" y="836280"/>
            <a:ext cx="0" cy="55450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1774080" y="342900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6588000" y="1628640"/>
                <a:ext cx="1681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6588000" y="2739960"/>
                <a:ext cx="2546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02" name="Picture 5" descr="kopie - 4"/>
          <p:cNvPicPr/>
          <p:nvPr/>
        </p:nvPicPr>
        <p:blipFill>
          <a:blip r:embed="rId1"/>
          <a:stretch/>
        </p:blipFill>
        <p:spPr>
          <a:xfrm>
            <a:off x="250920" y="260280"/>
            <a:ext cx="5919840" cy="6359760"/>
          </a:xfrm>
          <a:prstGeom prst="rect">
            <a:avLst/>
          </a:prstGeom>
          <a:ln w="0">
            <a:noFill/>
          </a:ln>
        </p:spPr>
      </p:pic>
      <p:sp>
        <p:nvSpPr>
          <p:cNvPr id="203" name="Line 6"/>
          <p:cNvSpPr/>
          <p:nvPr/>
        </p:nvSpPr>
        <p:spPr>
          <a:xfrm>
            <a:off x="611280" y="4508640"/>
            <a:ext cx="5400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755640" y="2781360"/>
            <a:ext cx="533088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277440" y="4292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3276720" y="2492280"/>
            <a:ext cx="5760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332000" y="2781360"/>
            <a:ext cx="0" cy="172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342440" y="3068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39640" y="1628640"/>
            <a:ext cx="547236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3574440" y="83664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5437080" y="170028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606240" y="169236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6084720" y="1844640"/>
                <a:ext cx="1727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6084720" y="2994120"/>
                <a:ext cx="29671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6" name="Picture 5" descr="kopie - 5"/>
          <p:cNvPicPr/>
          <p:nvPr/>
        </p:nvPicPr>
        <p:blipFill>
          <a:blip r:embed="rId1"/>
          <a:stretch/>
        </p:blipFill>
        <p:spPr>
          <a:xfrm>
            <a:off x="250920" y="260280"/>
            <a:ext cx="5275080" cy="6359760"/>
          </a:xfrm>
          <a:prstGeom prst="rect">
            <a:avLst/>
          </a:prstGeom>
          <a:ln w="0">
            <a:noFill/>
          </a:ln>
        </p:spPr>
      </p:pic>
      <p:sp>
        <p:nvSpPr>
          <p:cNvPr id="217" name="Line 6"/>
          <p:cNvSpPr/>
          <p:nvPr/>
        </p:nvSpPr>
        <p:spPr>
          <a:xfrm flipV="1">
            <a:off x="755640" y="5372280"/>
            <a:ext cx="3960720" cy="144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348720" y="5084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1619280" y="404280"/>
            <a:ext cx="0" cy="49690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629720" y="213372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692360" y="40464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539640" y="1916280"/>
            <a:ext cx="4319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2494800" y="112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284720" y="198900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606240" y="19796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6084720" y="1916280"/>
                <a:ext cx="28814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6075360" y="2924280"/>
                <a:ext cx="2600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29" name="Picture 5" descr="kopie - 6"/>
          <p:cNvPicPr/>
          <p:nvPr/>
        </p:nvPicPr>
        <p:blipFill>
          <a:blip r:embed="rId1"/>
          <a:stretch/>
        </p:blipFill>
        <p:spPr>
          <a:xfrm>
            <a:off x="250920" y="260280"/>
            <a:ext cx="5653080" cy="6389640"/>
          </a:xfrm>
          <a:prstGeom prst="rect">
            <a:avLst/>
          </a:prstGeom>
          <a:ln w="0">
            <a:noFill/>
          </a:ln>
        </p:spPr>
      </p:pic>
      <p:sp>
        <p:nvSpPr>
          <p:cNvPr id="230" name="Line 6"/>
          <p:cNvSpPr/>
          <p:nvPr/>
        </p:nvSpPr>
        <p:spPr>
          <a:xfrm>
            <a:off x="2916360" y="404640"/>
            <a:ext cx="0" cy="619308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468360" y="5013360"/>
            <a:ext cx="23749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1702800" y="414972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5003640" y="508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533160" y="507672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628000" y="357336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2916360" y="5013360"/>
            <a:ext cx="28080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611280" y="342900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1619280" y="404640"/>
            <a:ext cx="0" cy="29941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1692360" y="148428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1692360" y="40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685880" y="595008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501800" y="3357720"/>
            <a:ext cx="3848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19"/>
          <p:cNvSpPr/>
          <p:nvPr/>
        </p:nvSpPr>
        <p:spPr>
          <a:xfrm flipV="1">
            <a:off x="1619280" y="3499920"/>
            <a:ext cx="0" cy="3024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5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5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9:23Z</dcterms:modified>
  <cp:revision>307</cp:revision>
  <dc:subject/>
  <dc:title>FCE</dc:title>
</cp:coreProperties>
</file>