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A02-E307-4C16-9D31-A360A65594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B691-8C68-46E7-BBA4-53A48EBDBE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D8F-33A4-425C-9116-3D665F92B9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41C4-94FA-4A09-B1BF-A7445EFB04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416-CAF9-4E4A-ACE3-DCEFD196D2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F65-0586-4169-86BD-9E0E87AD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FEA-413F-412C-ACC4-BFD46DA1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BA4-AF7A-4E49-991E-77E62995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F56-A6CD-4302-BDA3-FF556908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AF63-FA17-474C-9C00-EB35063D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0F9-78EE-4CF4-8C1F-EBDB1951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96CE-44BC-47DC-9F39-5D53138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AAC2-AA44-4805-B05F-09980863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7184-8855-432F-8F79-80888384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38FA-282A-4207-A3FC-2163EF5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1B4-0FBE-41EE-88D6-0820DFE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CE2-A1E9-47C6-9B0B-1511EB29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9EAC-A4E5-4C05-8EA4-7E6BE95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8482-0721-420D-8C24-C4A9043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2A9-EBD1-4ACA-BB71-33404D6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5282-09C9-47CB-8A6C-0CD53E00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59D4-834D-4480-88F9-3A248BE0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DE3-E11C-4932-A39E-76DA38D9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AA1-3604-448E-8FA0-DE91A22B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4AB-5408-4782-A837-439DEAA4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BB8-7074-468B-8B00-CCF0A64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770-3550-4E75-8FAF-409AC12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240-A3C7-4E42-995E-DFF0A17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09E-5C4E-4EE3-B513-6D9D42B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1A7-2295-48F6-BC5D-3A7DFC4C92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E598-8872-4740-A098-A51BA90ECF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85760" y="820800"/>
                <a:ext cx="3959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Line 5"/>
          <p:cNvSpPr/>
          <p:nvPr/>
        </p:nvSpPr>
        <p:spPr>
          <a:xfrm>
            <a:off x="1116000" y="2565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003640" y="148428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132000" y="1413000"/>
            <a:ext cx="1871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3995640" y="148428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70836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619280" y="2708280"/>
                <a:ext cx="1555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0"/>
              <p:cNvSpPr txBox="1"/>
              <p:nvPr/>
            </p:nvSpPr>
            <p:spPr>
              <a:xfrm>
                <a:off x="4067280" y="2708280"/>
                <a:ext cx="3754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588000" y="3357720"/>
                <a:ext cx="18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692360" y="5889600"/>
                <a:ext cx="38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195640" y="3429000"/>
                <a:ext cx="120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967440" y="4167360"/>
                <a:ext cx="1522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6896160" y="4815000"/>
                <a:ext cx="1203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763640" y="4365720"/>
            <a:ext cx="2886480" cy="1144440"/>
            <a:chOff x="1763640" y="4365720"/>
            <a:chExt cx="2886480" cy="1144440"/>
          </a:xfrm>
        </p:grpSpPr>
        <p:sp>
          <p:nvSpPr>
            <p:cNvPr id="304" name="Line 10"/>
            <p:cNvSpPr/>
            <p:nvPr/>
          </p:nvSpPr>
          <p:spPr>
            <a:xfrm>
              <a:off x="1763640" y="5013360"/>
              <a:ext cx="28796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3059280" y="4508640"/>
              <a:ext cx="1440" cy="6159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3"/>
                <p:cNvSpPr txBox="1"/>
                <p:nvPr/>
              </p:nvSpPr>
              <p:spPr>
                <a:xfrm>
                  <a:off x="2795760" y="5180040"/>
                  <a:ext cx="442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307" name="Přímá spojovací šipka 26"/>
            <p:cNvCxnSpPr/>
            <p:nvPr/>
          </p:nvCxnSpPr>
          <p:spPr>
            <a:xfrm flipV="1">
              <a:off x="3059280" y="4508280"/>
              <a:ext cx="1591200" cy="2160"/>
            </a:xfrm>
            <a:prstGeom prst="straightConnector1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</p:cxnSp>
        <p:sp>
          <p:nvSpPr>
            <p:cNvPr id="308" name="Oval 25"/>
            <p:cNvSpPr/>
            <p:nvPr/>
          </p:nvSpPr>
          <p:spPr>
            <a:xfrm>
              <a:off x="2987640" y="4365720"/>
              <a:ext cx="1443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3564000" y="4941720"/>
            <a:ext cx="476280" cy="648000"/>
            <a:chOff x="3564000" y="4941720"/>
            <a:chExt cx="476280" cy="648000"/>
          </a:xfrm>
        </p:grpSpPr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3564000" y="5157720"/>
                  <a:ext cx="476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Oval 13"/>
            <p:cNvSpPr/>
            <p:nvPr/>
          </p:nvSpPr>
          <p:spPr>
            <a:xfrm>
              <a:off x="3780000" y="4941720"/>
              <a:ext cx="144360" cy="142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187280" y="189000"/>
                <a:ext cx="378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116000" y="21337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003640" y="105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276720" y="909720"/>
            <a:ext cx="16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3924360" y="981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708360" y="162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979640" y="2276640"/>
                <a:ext cx="1623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"/>
              <p:cNvSpPr txBox="1"/>
              <p:nvPr/>
            </p:nvSpPr>
            <p:spPr>
              <a:xfrm>
                <a:off x="6172200" y="2290680"/>
                <a:ext cx="26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7093080" y="2924280"/>
                <a:ext cx="1782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332000" y="5805360"/>
                <a:ext cx="32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042920" y="3068640"/>
                <a:ext cx="2559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1"/>
              <p:cNvSpPr txBox="1"/>
              <p:nvPr/>
            </p:nvSpPr>
            <p:spPr>
              <a:xfrm>
                <a:off x="7524720" y="3645000"/>
                <a:ext cx="1374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7451640" y="4292640"/>
                <a:ext cx="1062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15"/>
          <p:cNvGrpSpPr/>
          <p:nvPr/>
        </p:nvGrpSpPr>
        <p:grpSpPr>
          <a:xfrm>
            <a:off x="2700360" y="4724280"/>
            <a:ext cx="392040" cy="547920"/>
            <a:chOff x="2700360" y="4724280"/>
            <a:chExt cx="392040" cy="547920"/>
          </a:xfrm>
        </p:grpSpPr>
        <mc:AlternateContent>
          <mc:Choice xmlns:a14="http://schemas.microsoft.com/office/drawing/2010/main" Requires="a14">
            <p:sp>
              <p:nvSpPr>
                <p:cNvPr id="326" name="Object 13"/>
                <p:cNvSpPr txBox="1"/>
                <p:nvPr/>
              </p:nvSpPr>
              <p:spPr>
                <a:xfrm>
                  <a:off x="2700360" y="494172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Oval 13"/>
            <p:cNvSpPr/>
            <p:nvPr/>
          </p:nvSpPr>
          <p:spPr>
            <a:xfrm>
              <a:off x="2916360" y="47242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8" name="AutoShape 8"/>
          <p:cNvSpPr/>
          <p:nvPr/>
        </p:nvSpPr>
        <p:spPr>
          <a:xfrm>
            <a:off x="3635280" y="33336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788000" y="33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1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851280" y="2349360"/>
                <a:ext cx="20318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37656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2603520" y="4365720"/>
                <a:ext cx="350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5318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Line 34"/>
          <p:cNvSpPr/>
          <p:nvPr/>
        </p:nvSpPr>
        <p:spPr>
          <a:xfrm>
            <a:off x="1955880" y="4365720"/>
            <a:ext cx="172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003640" y="2924280"/>
                <a:ext cx="1095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38"/>
          <p:cNvGrpSpPr/>
          <p:nvPr/>
        </p:nvGrpSpPr>
        <p:grpSpPr>
          <a:xfrm>
            <a:off x="2124000" y="4005360"/>
            <a:ext cx="2136960" cy="1302840"/>
            <a:chOff x="2124000" y="4005360"/>
            <a:chExt cx="2136960" cy="1302840"/>
          </a:xfrm>
        </p:grpSpPr>
        <mc:AlternateContent>
          <mc:Choice xmlns:a14="http://schemas.microsoft.com/office/drawing/2010/main" Requires="a14">
            <p:sp>
              <p:nvSpPr>
                <p:cNvPr id="337" name="Object 13"/>
                <p:cNvSpPr txBox="1"/>
                <p:nvPr/>
              </p:nvSpPr>
              <p:spPr>
                <a:xfrm>
                  <a:off x="2124000" y="4979880"/>
                  <a:ext cx="44604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40"/>
            <p:cNvSpPr/>
            <p:nvPr/>
          </p:nvSpPr>
          <p:spPr>
            <a:xfrm flipV="1">
              <a:off x="2387520" y="4147920"/>
              <a:ext cx="0" cy="79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Oval 41"/>
            <p:cNvSpPr/>
            <p:nvPr/>
          </p:nvSpPr>
          <p:spPr>
            <a:xfrm>
              <a:off x="2316240" y="400536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 flipV="1">
              <a:off x="2387520" y="4147920"/>
              <a:ext cx="1873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1" name="Skupina 110"/>
          <p:cNvGrpSpPr/>
          <p:nvPr/>
        </p:nvGrpSpPr>
        <p:grpSpPr>
          <a:xfrm>
            <a:off x="2987640" y="2924280"/>
            <a:ext cx="285840" cy="285480"/>
            <a:chOff x="2987640" y="2924280"/>
            <a:chExt cx="285840" cy="285480"/>
          </a:xfrm>
        </p:grpSpPr>
        <p:sp>
          <p:nvSpPr>
            <p:cNvPr id="342" name="Elipsa 109"/>
            <p:cNvSpPr/>
            <p:nvPr/>
          </p:nvSpPr>
          <p:spPr>
            <a:xfrm>
              <a:off x="2987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3058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V="1">
              <a:off x="3130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379520" y="4221000"/>
            <a:ext cx="2879640" cy="1101960"/>
            <a:chOff x="1379520" y="4221000"/>
            <a:chExt cx="2879640" cy="1101960"/>
          </a:xfrm>
        </p:grpSpPr>
        <p:sp>
          <p:nvSpPr>
            <p:cNvPr id="346" name="Line 10"/>
            <p:cNvSpPr/>
            <p:nvPr/>
          </p:nvSpPr>
          <p:spPr>
            <a:xfrm>
              <a:off x="1379520" y="4797360"/>
              <a:ext cx="2879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13"/>
                <p:cNvSpPr txBox="1"/>
                <p:nvPr/>
              </p:nvSpPr>
              <p:spPr>
                <a:xfrm>
                  <a:off x="1695600" y="4987800"/>
                  <a:ext cx="41904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3424320" y="4987800"/>
                  <a:ext cx="4204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32"/>
            <p:cNvSpPr/>
            <p:nvPr/>
          </p:nvSpPr>
          <p:spPr>
            <a:xfrm flipV="1">
              <a:off x="195588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188424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 flipV="1">
              <a:off x="368316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Oval 35"/>
            <p:cNvSpPr/>
            <p:nvPr/>
          </p:nvSpPr>
          <p:spPr>
            <a:xfrm>
              <a:off x="361152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058760" y="349200"/>
                <a:ext cx="331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Line 5"/>
          <p:cNvSpPr/>
          <p:nvPr/>
        </p:nvSpPr>
        <p:spPr>
          <a:xfrm>
            <a:off x="1116000" y="1197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1928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476360" y="3933720"/>
                <a:ext cx="24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57" name="Group 55"/>
          <p:cNvGrpSpPr/>
          <p:nvPr/>
        </p:nvGrpSpPr>
        <p:grpSpPr>
          <a:xfrm>
            <a:off x="1258920" y="2349360"/>
            <a:ext cx="2952720" cy="1116000"/>
            <a:chOff x="1258920" y="2349360"/>
            <a:chExt cx="2952720" cy="1116000"/>
          </a:xfrm>
        </p:grpSpPr>
        <p:sp>
          <p:nvSpPr>
            <p:cNvPr id="358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262728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255420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253044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11"/>
          <p:cNvGrpSpPr/>
          <p:nvPr/>
        </p:nvGrpSpPr>
        <p:grpSpPr>
          <a:xfrm>
            <a:off x="1258200" y="2349360"/>
            <a:ext cx="2953440" cy="720720"/>
            <a:chOff x="1258200" y="2349360"/>
            <a:chExt cx="2953440" cy="720720"/>
          </a:xfrm>
        </p:grpSpPr>
        <p:sp>
          <p:nvSpPr>
            <p:cNvPr id="363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62728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554560" y="2349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Přímá spojovací šipka 167"/>
            <p:cNvCxnSpPr>
              <a:stCxn id="364" idx="0"/>
            </p:cNvCxnSpPr>
            <p:nvPr/>
          </p:nvCxnSpPr>
          <p:spPr>
            <a:xfrm>
              <a:off x="2626920" y="2493360"/>
              <a:ext cx="15836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67" name="Přímá spojovací šipka 170"/>
            <p:cNvCxnSpPr>
              <a:stCxn id="364" idx="0"/>
            </p:cNvCxnSpPr>
            <p:nvPr/>
          </p:nvCxnSpPr>
          <p:spPr>
            <a:xfrm flipH="1">
              <a:off x="1258200" y="249336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368" name="Rectangle 3"/>
          <p:cNvSpPr/>
          <p:nvPr/>
        </p:nvSpPr>
        <p:spPr>
          <a:xfrm>
            <a:off x="1979640" y="5084640"/>
            <a:ext cx="58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ěry jsou obecně platné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328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164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332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332000" y="580536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5754600" y="3805200"/>
                <a:ext cx="18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AutoShape 8"/>
          <p:cNvSpPr/>
          <p:nvPr/>
        </p:nvSpPr>
        <p:spPr>
          <a:xfrm>
            <a:off x="5580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6"/>
          <p:cNvGrpSpPr/>
          <p:nvPr/>
        </p:nvGrpSpPr>
        <p:grpSpPr>
          <a:xfrm>
            <a:off x="5435640" y="2349360"/>
            <a:ext cx="2952720" cy="1116000"/>
            <a:chOff x="5435640" y="2349360"/>
            <a:chExt cx="2952720" cy="1116000"/>
          </a:xfrm>
        </p:grpSpPr>
        <p:sp>
          <p:nvSpPr>
            <p:cNvPr id="376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80400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673092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670716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29"/>
          <p:cNvGrpSpPr/>
          <p:nvPr/>
        </p:nvGrpSpPr>
        <p:grpSpPr>
          <a:xfrm>
            <a:off x="5435640" y="2349360"/>
            <a:ext cx="2952720" cy="720720"/>
            <a:chOff x="5435640" y="2349360"/>
            <a:chExt cx="2952720" cy="720720"/>
          </a:xfrm>
        </p:grpSpPr>
        <p:sp>
          <p:nvSpPr>
            <p:cNvPr id="381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680400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6730920" y="2349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4" name="Přímá spojovací šipka 167"/>
            <p:cNvCxnSpPr>
              <a:stCxn id="382" idx="0"/>
            </p:cNvCxnSpPr>
            <p:nvPr/>
          </p:nvCxnSpPr>
          <p:spPr>
            <a:xfrm>
              <a:off x="6804000" y="2493360"/>
              <a:ext cx="15832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5165640" y="349200"/>
                <a:ext cx="3308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6" name="Line 5"/>
          <p:cNvSpPr/>
          <p:nvPr/>
        </p:nvSpPr>
        <p:spPr>
          <a:xfrm>
            <a:off x="5221440" y="1197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579600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AutoShape 8"/>
          <p:cNvSpPr/>
          <p:nvPr/>
        </p:nvSpPr>
        <p:spPr>
          <a:xfrm>
            <a:off x="5580000" y="573408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20364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3"/>
              <p:cNvSpPr txBox="1"/>
              <p:nvPr/>
            </p:nvSpPr>
            <p:spPr>
              <a:xfrm>
                <a:off x="183528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7451640" y="2492280"/>
                <a:ext cx="331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5867280" y="2565360"/>
                <a:ext cx="3002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3" name="AutoShape 44"/>
          <p:cNvCxnSpPr>
            <a:stCxn id="371" idx="1"/>
            <a:endCxn id="372" idx="1"/>
          </p:cNvCxnSpPr>
          <p:nvPr/>
        </p:nvCxnSpPr>
        <p:spPr>
          <a:xfrm flipH="1" flipV="1" rot="10800000">
            <a:off x="1312560" y="4327920"/>
            <a:ext cx="2160" cy="188676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AutoShape 45"/>
          <p:cNvCxnSpPr>
            <a:stCxn id="374" idx="3"/>
            <a:endCxn id="388" idx="3"/>
          </p:cNvCxnSpPr>
          <p:nvPr/>
        </p:nvCxnSpPr>
        <p:spPr>
          <a:xfrm>
            <a:off x="8407440" y="4328640"/>
            <a:ext cx="2160" cy="1815480"/>
          </a:xfrm>
          <a:prstGeom prst="curvedConnector5">
            <a:avLst>
              <a:gd name="adj1" fmla="val 13100000"/>
              <a:gd name="adj2" fmla="val 50000"/>
              <a:gd name="adj3" fmla="val 131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95" name="Skupina 110"/>
          <p:cNvGrpSpPr/>
          <p:nvPr/>
        </p:nvGrpSpPr>
        <p:grpSpPr>
          <a:xfrm>
            <a:off x="2268360" y="1413000"/>
            <a:ext cx="285840" cy="285480"/>
            <a:chOff x="2268360" y="1413000"/>
            <a:chExt cx="285840" cy="285480"/>
          </a:xfrm>
        </p:grpSpPr>
        <p:sp>
          <p:nvSpPr>
            <p:cNvPr id="396" name="Elipsa 109"/>
            <p:cNvSpPr/>
            <p:nvPr/>
          </p:nvSpPr>
          <p:spPr>
            <a:xfrm>
              <a:off x="226836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33964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V="1">
              <a:off x="241128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9" name="Skupina 110"/>
          <p:cNvGrpSpPr/>
          <p:nvPr/>
        </p:nvGrpSpPr>
        <p:grpSpPr>
          <a:xfrm>
            <a:off x="6443640" y="1413000"/>
            <a:ext cx="285840" cy="285480"/>
            <a:chOff x="6443640" y="1413000"/>
            <a:chExt cx="285840" cy="285480"/>
          </a:xfrm>
        </p:grpSpPr>
        <p:sp>
          <p:nvSpPr>
            <p:cNvPr id="400" name="Elipsa 109"/>
            <p:cNvSpPr/>
            <p:nvPr/>
          </p:nvSpPr>
          <p:spPr>
            <a:xfrm>
              <a:off x="644364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651492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 flipV="1">
              <a:off x="658656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116000" y="333360"/>
                <a:ext cx="6986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Line 5"/>
          <p:cNvSpPr/>
          <p:nvPr/>
        </p:nvSpPr>
        <p:spPr>
          <a:xfrm>
            <a:off x="1117440" y="1268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1714680" y="1576440"/>
                <a:ext cx="122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572000" y="1557360"/>
                <a:ext cx="35067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7094520" y="2133720"/>
                <a:ext cx="1017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1865160" y="5718240"/>
                <a:ext cx="2071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3800" y="2997360"/>
                <a:ext cx="1192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1693800" y="2276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1468440" y="4221000"/>
            <a:ext cx="3768840" cy="1224000"/>
            <a:chOff x="1468440" y="4221000"/>
            <a:chExt cx="3768840" cy="1224000"/>
          </a:xfrm>
        </p:grpSpPr>
        <p:sp>
          <p:nvSpPr>
            <p:cNvPr id="412" name="Line 10"/>
            <p:cNvSpPr/>
            <p:nvPr/>
          </p:nvSpPr>
          <p:spPr>
            <a:xfrm>
              <a:off x="1468440" y="490068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1"/>
            <p:cNvSpPr/>
            <p:nvPr/>
          </p:nvSpPr>
          <p:spPr>
            <a:xfrm>
              <a:off x="3348000" y="436572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3276720" y="422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3"/>
                <p:cNvSpPr txBox="1"/>
                <p:nvPr/>
              </p:nvSpPr>
              <p:spPr>
                <a:xfrm>
                  <a:off x="3276720" y="5084640"/>
                  <a:ext cx="233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15"/>
            <p:cNvSpPr/>
            <p:nvPr/>
          </p:nvSpPr>
          <p:spPr>
            <a:xfrm>
              <a:off x="3348000" y="4365720"/>
              <a:ext cx="1871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833640" y="3860640"/>
            <a:ext cx="1386360" cy="1608120"/>
            <a:chOff x="3833640" y="3860640"/>
            <a:chExt cx="1386360" cy="1608120"/>
          </a:xfrm>
        </p:grpSpPr>
        <mc:AlternateContent>
          <mc:Choice xmlns:a14="http://schemas.microsoft.com/office/drawing/2010/main" Requires="a14">
            <p:sp>
              <p:nvSpPr>
                <p:cNvPr id="418" name="Object 12"/>
                <p:cNvSpPr txBox="1"/>
                <p:nvPr/>
              </p:nvSpPr>
              <p:spPr>
                <a:xfrm>
                  <a:off x="3833640" y="5132520"/>
                  <a:ext cx="2224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419" name="Přímá spojovací šipka 40"/>
            <p:cNvCxnSpPr/>
            <p:nvPr/>
          </p:nvCxnSpPr>
          <p:spPr>
            <a:xfrm>
              <a:off x="3924360" y="4005000"/>
              <a:ext cx="129600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420" name="Přímá spojovací čára 41"/>
            <p:cNvSpPr/>
            <p:nvPr/>
          </p:nvSpPr>
          <p:spPr>
            <a:xfrm>
              <a:off x="3924360" y="4005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385128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187280" y="404640"/>
                <a:ext cx="5666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Line 5"/>
          <p:cNvSpPr/>
          <p:nvPr/>
        </p:nvSpPr>
        <p:spPr>
          <a:xfrm>
            <a:off x="1122480" y="12319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1979640" y="1484280"/>
                <a:ext cx="2138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5003640" y="1484280"/>
                <a:ext cx="2840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684440" y="5265720"/>
                <a:ext cx="396864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6659640" y="306864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Rectangle 3"/>
          <p:cNvSpPr/>
          <p:nvPr/>
        </p:nvSpPr>
        <p:spPr>
          <a:xfrm>
            <a:off x="6665760" y="2238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84440" y="2386080"/>
                <a:ext cx="241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34988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3294000" y="39528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226044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26"/>
          <p:cNvGrpSpPr/>
          <p:nvPr/>
        </p:nvGrpSpPr>
        <p:grpSpPr>
          <a:xfrm>
            <a:off x="1692000" y="3860640"/>
            <a:ext cx="3816720" cy="0"/>
            <a:chOff x="1692000" y="3860640"/>
            <a:chExt cx="3816720" cy="0"/>
          </a:xfrm>
        </p:grpSpPr>
        <p:sp>
          <p:nvSpPr>
            <p:cNvPr id="434" name="Line 27"/>
            <p:cNvSpPr/>
            <p:nvPr/>
          </p:nvSpPr>
          <p:spPr>
            <a:xfrm>
              <a:off x="3997440" y="3860640"/>
              <a:ext cx="1511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92000" y="3860640"/>
              <a:ext cx="129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Skupina 110"/>
          <p:cNvGrpSpPr/>
          <p:nvPr/>
        </p:nvGrpSpPr>
        <p:grpSpPr>
          <a:xfrm>
            <a:off x="3419640" y="2205000"/>
            <a:ext cx="285480" cy="285840"/>
            <a:chOff x="3419640" y="2205000"/>
            <a:chExt cx="285480" cy="285840"/>
          </a:xfrm>
        </p:grpSpPr>
        <p:sp>
          <p:nvSpPr>
            <p:cNvPr id="437" name="Elipsa 109"/>
            <p:cNvSpPr/>
            <p:nvPr/>
          </p:nvSpPr>
          <p:spPr>
            <a:xfrm>
              <a:off x="3419640" y="220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3490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3562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692360" y="3716280"/>
            <a:ext cx="3768480" cy="1434960"/>
            <a:chOff x="1692360" y="3716280"/>
            <a:chExt cx="3768480" cy="1434960"/>
          </a:xfrm>
        </p:grpSpPr>
        <p:sp>
          <p:nvSpPr>
            <p:cNvPr id="441" name="Line 10"/>
            <p:cNvSpPr/>
            <p:nvPr/>
          </p:nvSpPr>
          <p:spPr>
            <a:xfrm>
              <a:off x="1692360" y="429408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2989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3"/>
                <p:cNvSpPr txBox="1"/>
                <p:nvPr/>
              </p:nvSpPr>
              <p:spPr>
                <a:xfrm>
                  <a:off x="2916360" y="4548240"/>
                  <a:ext cx="2253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3"/>
                <p:cNvSpPr txBox="1"/>
                <p:nvPr/>
              </p:nvSpPr>
              <p:spPr>
                <a:xfrm>
                  <a:off x="3917880" y="4500360"/>
                  <a:ext cx="23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Line 11"/>
            <p:cNvSpPr/>
            <p:nvPr/>
          </p:nvSpPr>
          <p:spPr>
            <a:xfrm>
              <a:off x="3997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3924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916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28"/>
          <p:cNvGrpSpPr/>
          <p:nvPr/>
        </p:nvGrpSpPr>
        <p:grpSpPr>
          <a:xfrm>
            <a:off x="1692360" y="3573360"/>
            <a:ext cx="3816360" cy="144720"/>
            <a:chOff x="1692360" y="3573360"/>
            <a:chExt cx="3816360" cy="144720"/>
          </a:xfrm>
        </p:grpSpPr>
        <p:sp>
          <p:nvSpPr>
            <p:cNvPr id="449" name="Line 20"/>
            <p:cNvSpPr/>
            <p:nvPr/>
          </p:nvSpPr>
          <p:spPr>
            <a:xfrm>
              <a:off x="1692360" y="371628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2916360" y="3573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971640" y="260280"/>
                <a:ext cx="799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Line 5"/>
          <p:cNvSpPr/>
          <p:nvPr/>
        </p:nvSpPr>
        <p:spPr>
          <a:xfrm>
            <a:off x="1116000" y="1197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692360" y="1628640"/>
                <a:ext cx="178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4716360" y="1628640"/>
                <a:ext cx="315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692360" y="573408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6629400" y="326556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3"/>
          <p:cNvSpPr/>
          <p:nvPr/>
        </p:nvSpPr>
        <p:spPr>
          <a:xfrm>
            <a:off x="662940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66212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1662120" y="3192480"/>
                <a:ext cx="126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0" name="Group 11"/>
          <p:cNvGrpSpPr/>
          <p:nvPr/>
        </p:nvGrpSpPr>
        <p:grpSpPr>
          <a:xfrm>
            <a:off x="2843280" y="4510080"/>
            <a:ext cx="3960720" cy="1079640"/>
            <a:chOff x="2843280" y="451008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461" name="Object 13"/>
                <p:cNvSpPr txBox="1"/>
                <p:nvPr/>
              </p:nvSpPr>
              <p:spPr>
                <a:xfrm>
                  <a:off x="4767120" y="525312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Line 13"/>
            <p:cNvSpPr/>
            <p:nvPr/>
          </p:nvSpPr>
          <p:spPr>
            <a:xfrm>
              <a:off x="4859280" y="465480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4788000" y="45100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4859280" y="465480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843280" y="506268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Line 18"/>
          <p:cNvSpPr/>
          <p:nvPr/>
        </p:nvSpPr>
        <p:spPr>
          <a:xfrm>
            <a:off x="2843280" y="4508640"/>
            <a:ext cx="3960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788000" y="4363920"/>
            <a:ext cx="142920" cy="1429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187280" y="189000"/>
                <a:ext cx="4017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Line 5"/>
          <p:cNvSpPr/>
          <p:nvPr/>
        </p:nvSpPr>
        <p:spPr>
          <a:xfrm>
            <a:off x="1116000" y="1484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1763640" y="1773360"/>
                <a:ext cx="1584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835280" y="5157720"/>
                <a:ext cx="1896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393228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843280" y="3645000"/>
                <a:ext cx="37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184320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Line 18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6" name="Skupina 110"/>
          <p:cNvGrpSpPr/>
          <p:nvPr/>
        </p:nvGrpSpPr>
        <p:grpSpPr>
          <a:xfrm>
            <a:off x="2771640" y="1844640"/>
            <a:ext cx="285840" cy="285840"/>
            <a:chOff x="2771640" y="1844640"/>
            <a:chExt cx="285840" cy="285840"/>
          </a:xfrm>
        </p:grpSpPr>
        <p:sp>
          <p:nvSpPr>
            <p:cNvPr id="477" name="Elipsa 109"/>
            <p:cNvSpPr/>
            <p:nvPr/>
          </p:nvSpPr>
          <p:spPr>
            <a:xfrm>
              <a:off x="277164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33"/>
            <p:cNvSpPr/>
            <p:nvPr/>
          </p:nvSpPr>
          <p:spPr>
            <a:xfrm>
              <a:off x="284292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34"/>
            <p:cNvSpPr/>
            <p:nvPr/>
          </p:nvSpPr>
          <p:spPr>
            <a:xfrm flipV="1">
              <a:off x="291456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11640" y="2060640"/>
                <a:ext cx="2146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508720" y="2637000"/>
                <a:ext cx="838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2" name="Group 16"/>
          <p:cNvGrpSpPr/>
          <p:nvPr/>
        </p:nvGrpSpPr>
        <p:grpSpPr>
          <a:xfrm>
            <a:off x="1187280" y="3500280"/>
            <a:ext cx="3768840" cy="1128960"/>
            <a:chOff x="1187280" y="3500280"/>
            <a:chExt cx="3768840" cy="1128960"/>
          </a:xfrm>
        </p:grpSpPr>
        <p:sp>
          <p:nvSpPr>
            <p:cNvPr id="483" name="Line 10"/>
            <p:cNvSpPr/>
            <p:nvPr/>
          </p:nvSpPr>
          <p:spPr>
            <a:xfrm>
              <a:off x="1187280" y="40784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2484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3"/>
                <p:cNvSpPr txBox="1"/>
                <p:nvPr/>
              </p:nvSpPr>
              <p:spPr>
                <a:xfrm>
                  <a:off x="2411280" y="4292640"/>
                  <a:ext cx="2257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3"/>
                <p:cNvSpPr txBox="1"/>
                <p:nvPr/>
              </p:nvSpPr>
              <p:spPr>
                <a:xfrm>
                  <a:off x="3419640" y="4292640"/>
                  <a:ext cx="201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1"/>
            <p:cNvSpPr/>
            <p:nvPr/>
          </p:nvSpPr>
          <p:spPr>
            <a:xfrm>
              <a:off x="3492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Oval 13"/>
            <p:cNvSpPr/>
            <p:nvPr/>
          </p:nvSpPr>
          <p:spPr>
            <a:xfrm>
              <a:off x="3419640" y="3500280"/>
              <a:ext cx="14436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>
              <a:off x="2411280" y="350028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Oval 24"/>
          <p:cNvSpPr/>
          <p:nvPr/>
        </p:nvSpPr>
        <p:spPr>
          <a:xfrm>
            <a:off x="3348000" y="393372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1109520" y="111240"/>
                <a:ext cx="41738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1763640" y="2060640"/>
                <a:ext cx="92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619280" y="566100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3348000" y="2060640"/>
                <a:ext cx="2149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0"/>
              <p:cNvSpPr txBox="1"/>
              <p:nvPr/>
            </p:nvSpPr>
            <p:spPr>
              <a:xfrm>
                <a:off x="5892840" y="1995480"/>
                <a:ext cx="3108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7" name="Group 8"/>
          <p:cNvGrpSpPr/>
          <p:nvPr/>
        </p:nvGrpSpPr>
        <p:grpSpPr>
          <a:xfrm>
            <a:off x="1547640" y="4365720"/>
            <a:ext cx="3960720" cy="1077480"/>
            <a:chOff x="1547640" y="4365720"/>
            <a:chExt cx="3960720" cy="1077480"/>
          </a:xfrm>
        </p:grpSpPr>
        <mc:AlternateContent>
          <mc:Choice xmlns:a14="http://schemas.microsoft.com/office/drawing/2010/main" Requires="a14">
            <p:sp>
              <p:nvSpPr>
                <p:cNvPr id="498" name="Object 13"/>
                <p:cNvSpPr txBox="1"/>
                <p:nvPr/>
              </p:nvSpPr>
              <p:spPr>
                <a:xfrm>
                  <a:off x="3473280" y="5108400"/>
                  <a:ext cx="225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Line 10"/>
            <p:cNvSpPr/>
            <p:nvPr/>
          </p:nvSpPr>
          <p:spPr>
            <a:xfrm>
              <a:off x="3563640" y="451008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11"/>
            <p:cNvSpPr/>
            <p:nvPr/>
          </p:nvSpPr>
          <p:spPr>
            <a:xfrm>
              <a:off x="3492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3563640" y="4510080"/>
              <a:ext cx="0" cy="50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572000" y="2781360"/>
                <a:ext cx="1120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7308720" y="2637000"/>
                <a:ext cx="1582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7308720" y="3357720"/>
                <a:ext cx="1384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7812000" y="4005360"/>
                <a:ext cx="95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18"/>
          <p:cNvGrpSpPr/>
          <p:nvPr/>
        </p:nvGrpSpPr>
        <p:grpSpPr>
          <a:xfrm>
            <a:off x="1547640" y="4149720"/>
            <a:ext cx="3960720" cy="1305000"/>
            <a:chOff x="1547640" y="4149720"/>
            <a:chExt cx="3960720" cy="1305000"/>
          </a:xfrm>
        </p:grpSpPr>
        <mc:AlternateContent>
          <mc:Choice xmlns:a14="http://schemas.microsoft.com/office/drawing/2010/main" Requires="a14">
            <p:sp>
              <p:nvSpPr>
                <p:cNvPr id="508" name="Object 13"/>
                <p:cNvSpPr txBox="1"/>
                <p:nvPr/>
              </p:nvSpPr>
              <p:spPr>
                <a:xfrm>
                  <a:off x="2435040" y="5126040"/>
                  <a:ext cx="395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20"/>
            <p:cNvSpPr/>
            <p:nvPr/>
          </p:nvSpPr>
          <p:spPr>
            <a:xfrm>
              <a:off x="2700360" y="4294080"/>
              <a:ext cx="28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Oval 21"/>
            <p:cNvSpPr/>
            <p:nvPr/>
          </p:nvSpPr>
          <p:spPr>
            <a:xfrm>
              <a:off x="2628720" y="4149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3" name="Oval 24"/>
          <p:cNvSpPr/>
          <p:nvPr/>
        </p:nvSpPr>
        <p:spPr>
          <a:xfrm>
            <a:off x="3419640" y="47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042920" y="189000"/>
                <a:ext cx="44863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484280" y="2060640"/>
                <a:ext cx="1484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547640" y="5734080"/>
                <a:ext cx="3125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3314880" y="2060640"/>
                <a:ext cx="221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958000" y="2011320"/>
                <a:ext cx="2976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8"/>
          <p:cNvGrpSpPr/>
          <p:nvPr/>
        </p:nvGrpSpPr>
        <p:grpSpPr>
          <a:xfrm>
            <a:off x="1547280" y="4365720"/>
            <a:ext cx="3961440" cy="1103040"/>
            <a:chOff x="1547280" y="4365720"/>
            <a:chExt cx="3961440" cy="1103040"/>
          </a:xfrm>
        </p:grpSpPr>
        <mc:AlternateContent>
          <mc:Choice xmlns:a14="http://schemas.microsoft.com/office/drawing/2010/main" Requires="a14">
            <p:sp>
              <p:nvSpPr>
                <p:cNvPr id="521" name="Object 13"/>
                <p:cNvSpPr txBox="1"/>
                <p:nvPr/>
              </p:nvSpPr>
              <p:spPr>
                <a:xfrm>
                  <a:off x="4689360" y="5132520"/>
                  <a:ext cx="2206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0"/>
            <p:cNvSpPr/>
            <p:nvPr/>
          </p:nvSpPr>
          <p:spPr>
            <a:xfrm flipH="1">
              <a:off x="1547280" y="4510080"/>
              <a:ext cx="32418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4716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4789440" y="451008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7200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7192800" y="2637000"/>
                <a:ext cx="1814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7164360" y="3357720"/>
                <a:ext cx="14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7740720" y="4005360"/>
                <a:ext cx="955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18"/>
          <p:cNvGrpSpPr/>
          <p:nvPr/>
        </p:nvGrpSpPr>
        <p:grpSpPr>
          <a:xfrm>
            <a:off x="1547640" y="4149720"/>
            <a:ext cx="3961080" cy="1319040"/>
            <a:chOff x="1547640" y="4149720"/>
            <a:chExt cx="3961080" cy="1319040"/>
          </a:xfrm>
        </p:grpSpPr>
        <mc:AlternateContent>
          <mc:Choice xmlns:a14="http://schemas.microsoft.com/office/drawing/2010/main" Requires="a14">
            <p:sp>
              <p:nvSpPr>
                <p:cNvPr id="531" name="Object 13"/>
                <p:cNvSpPr txBox="1"/>
                <p:nvPr/>
              </p:nvSpPr>
              <p:spPr>
                <a:xfrm>
                  <a:off x="2610000" y="5132520"/>
                  <a:ext cx="20304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Line 20"/>
            <p:cNvSpPr/>
            <p:nvPr/>
          </p:nvSpPr>
          <p:spPr>
            <a:xfrm>
              <a:off x="2700360" y="4294080"/>
              <a:ext cx="28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262908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05092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25"/>
          <p:cNvGrpSpPr/>
          <p:nvPr/>
        </p:nvGrpSpPr>
        <p:grpSpPr>
          <a:xfrm>
            <a:off x="3564000" y="4797360"/>
            <a:ext cx="288720" cy="728640"/>
            <a:chOff x="3564000" y="4797360"/>
            <a:chExt cx="288720" cy="728640"/>
          </a:xfrm>
        </p:grpSpPr>
        <p:sp>
          <p:nvSpPr>
            <p:cNvPr id="538" name="Oval 26"/>
            <p:cNvSpPr/>
            <p:nvPr/>
          </p:nvSpPr>
          <p:spPr>
            <a:xfrm>
              <a:off x="3564000" y="4797360"/>
              <a:ext cx="288720" cy="2876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13"/>
                <p:cNvSpPr txBox="1"/>
                <p:nvPr/>
              </p:nvSpPr>
              <p:spPr>
                <a:xfrm>
                  <a:off x="3616200" y="5199120"/>
                  <a:ext cx="2257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200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033560" y="1190520"/>
                <a:ext cx="479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Line 5"/>
          <p:cNvSpPr/>
          <p:nvPr/>
        </p:nvSpPr>
        <p:spPr>
          <a:xfrm>
            <a:off x="1116000" y="2492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800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284720" y="1268280"/>
            <a:ext cx="136692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476360" y="2924280"/>
                <a:ext cx="1974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268360" y="3789360"/>
                <a:ext cx="1389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484360" y="4653000"/>
                <a:ext cx="9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692360" y="5732640"/>
                <a:ext cx="2338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9" name="Skupina 64"/>
          <p:cNvGrpSpPr/>
          <p:nvPr/>
        </p:nvGrpSpPr>
        <p:grpSpPr>
          <a:xfrm>
            <a:off x="4500000" y="4437000"/>
            <a:ext cx="3601080" cy="1057320"/>
            <a:chOff x="4500000" y="4437000"/>
            <a:chExt cx="3601080" cy="1057320"/>
          </a:xfrm>
        </p:grpSpPr>
        <p:sp>
          <p:nvSpPr>
            <p:cNvPr id="150" name="Line 10"/>
            <p:cNvSpPr/>
            <p:nvPr/>
          </p:nvSpPr>
          <p:spPr>
            <a:xfrm>
              <a:off x="4572000" y="5014800"/>
              <a:ext cx="352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6300720" y="4582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6229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0"/>
                <p:cNvSpPr txBox="1"/>
                <p:nvPr/>
              </p:nvSpPr>
              <p:spPr>
                <a:xfrm>
                  <a:off x="6207120" y="5218200"/>
                  <a:ext cx="18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54" name="Přímá spojovací šipka 63"/>
            <p:cNvCxnSpPr>
              <a:stCxn id="152" idx="4"/>
            </p:cNvCxnSpPr>
            <p:nvPr/>
          </p:nvCxnSpPr>
          <p:spPr>
            <a:xfrm flipH="1" flipV="1">
              <a:off x="4500000" y="4579560"/>
              <a:ext cx="180108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155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096920" y="333360"/>
                <a:ext cx="613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5"/>
          <p:cNvSpPr/>
          <p:nvPr/>
        </p:nvSpPr>
        <p:spPr>
          <a:xfrm>
            <a:off x="1116000" y="15001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124000" y="981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1640" y="404640"/>
            <a:ext cx="358920" cy="5004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00400"/>
              <a:gd name="textAreaBottom" fmla="*/ 483120 h 500400"/>
            </a:gdLst>
            <a:ahLst/>
            <a:rect l="textAreaLeft" t="textAreaTop" r="textAreaRight" b="textAreaBottom"/>
            <a:pathLst>
              <a:path w="21600" h="30106">
                <a:moveTo>
                  <a:pt x="3600" y="0"/>
                </a:moveTo>
                <a:arcTo wR="3600" hR="3600" stAng="16200000" swAng="-5400000"/>
                <a:lnTo>
                  <a:pt x="0" y="26506"/>
                </a:lnTo>
                <a:arcTo wR="3600" hR="3600" stAng="10800000" swAng="-5400000"/>
                <a:lnTo>
                  <a:pt x="18000" y="3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867280" y="404640"/>
            <a:ext cx="115272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67280" y="98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482840" y="1714680"/>
                <a:ext cx="981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193920" y="1682640"/>
                <a:ext cx="2489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700520" y="2286000"/>
                <a:ext cx="14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Skupina 42"/>
          <p:cNvGrpSpPr/>
          <p:nvPr/>
        </p:nvGrpSpPr>
        <p:grpSpPr>
          <a:xfrm>
            <a:off x="1403280" y="3071880"/>
            <a:ext cx="3768840" cy="1227240"/>
            <a:chOff x="1403280" y="3071880"/>
            <a:chExt cx="3768840" cy="1227240"/>
          </a:xfrm>
        </p:grpSpPr>
        <p:sp>
          <p:nvSpPr>
            <p:cNvPr id="166" name="Line 10"/>
            <p:cNvSpPr/>
            <p:nvPr/>
          </p:nvSpPr>
          <p:spPr>
            <a:xfrm>
              <a:off x="1403280" y="37616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249720" y="3246120"/>
              <a:ext cx="0" cy="687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173400" y="307188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3"/>
                <p:cNvSpPr txBox="1"/>
                <p:nvPr/>
              </p:nvSpPr>
              <p:spPr>
                <a:xfrm>
                  <a:off x="3147840" y="4005360"/>
                  <a:ext cx="20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70" name="Přímá spojovací šipka 26"/>
            <p:cNvCxnSpPr>
              <a:stCxn id="168" idx="4"/>
            </p:cNvCxnSpPr>
            <p:nvPr/>
          </p:nvCxnSpPr>
          <p:spPr>
            <a:xfrm flipV="1">
              <a:off x="3249720" y="324144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71" name="Skupina 43"/>
          <p:cNvGrpSpPr/>
          <p:nvPr/>
        </p:nvGrpSpPr>
        <p:grpSpPr>
          <a:xfrm>
            <a:off x="1403280" y="3068640"/>
            <a:ext cx="3768840" cy="1227240"/>
            <a:chOff x="1403280" y="3068640"/>
            <a:chExt cx="3768840" cy="1227240"/>
          </a:xfrm>
        </p:grpSpPr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2238120" y="4000680"/>
                  <a:ext cx="4284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10"/>
            <p:cNvSpPr/>
            <p:nvPr/>
          </p:nvSpPr>
          <p:spPr>
            <a:xfrm>
              <a:off x="1403280" y="375876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3249720" y="3242880"/>
              <a:ext cx="0" cy="68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3173400" y="306864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6" name="Přímá spojovací šipka 38"/>
            <p:cNvCxnSpPr>
              <a:stCxn id="175" idx="4"/>
            </p:cNvCxnSpPr>
            <p:nvPr/>
          </p:nvCxnSpPr>
          <p:spPr>
            <a:xfrm flipV="1">
              <a:off x="3249720" y="323856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7" name="Oval 13"/>
            <p:cNvSpPr/>
            <p:nvPr/>
          </p:nvSpPr>
          <p:spPr>
            <a:xfrm>
              <a:off x="2318760" y="323532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8" name="Přímá spojovací šipka 40"/>
            <p:cNvCxnSpPr>
              <a:stCxn id="177" idx="4"/>
            </p:cNvCxnSpPr>
            <p:nvPr/>
          </p:nvCxnSpPr>
          <p:spPr>
            <a:xfrm>
              <a:off x="2395080" y="3407400"/>
              <a:ext cx="267120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9" name="Přímá spojovací čára 41"/>
            <p:cNvSpPr/>
            <p:nvPr/>
          </p:nvSpPr>
          <p:spPr>
            <a:xfrm>
              <a:off x="2395080" y="3407760"/>
              <a:ext cx="0" cy="513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4653000"/>
                <a:ext cx="20001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692280"/>
                <a:ext cx="624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34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4067280" y="763560"/>
            <a:ext cx="936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227640" y="763560"/>
            <a:ext cx="1008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2436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1573200" y="2260440"/>
                <a:ext cx="1506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598920" y="2228760"/>
                <a:ext cx="2382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932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28"/>
          <p:cNvGrpSpPr/>
          <p:nvPr/>
        </p:nvGrpSpPr>
        <p:grpSpPr>
          <a:xfrm>
            <a:off x="1755720" y="3905280"/>
            <a:ext cx="3768840" cy="1222200"/>
            <a:chOff x="1755720" y="3905280"/>
            <a:chExt cx="3768840" cy="1222200"/>
          </a:xfrm>
        </p:grpSpPr>
        <p:sp>
          <p:nvSpPr>
            <p:cNvPr id="191" name="Line 10"/>
            <p:cNvSpPr/>
            <p:nvPr/>
          </p:nvSpPr>
          <p:spPr>
            <a:xfrm>
              <a:off x="1755720" y="4595760"/>
              <a:ext cx="37688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3602160" y="407988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3525840" y="390528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3525840" y="4841640"/>
                  <a:ext cx="150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5" name="Přímá spojovací šipka 26"/>
            <p:cNvCxnSpPr>
              <a:stCxn id="193" idx="4"/>
            </p:cNvCxnSpPr>
            <p:nvPr/>
          </p:nvCxnSpPr>
          <p:spPr>
            <a:xfrm flipH="1" flipV="1">
              <a:off x="1762920" y="4076280"/>
              <a:ext cx="18392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96" name="Group 29"/>
          <p:cNvGrpSpPr/>
          <p:nvPr/>
        </p:nvGrpSpPr>
        <p:grpSpPr>
          <a:xfrm>
            <a:off x="1763640" y="4076640"/>
            <a:ext cx="3768480" cy="1054080"/>
            <a:chOff x="1763640" y="4076640"/>
            <a:chExt cx="37684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2630160" y="4844880"/>
                  <a:ext cx="366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Line 10"/>
            <p:cNvSpPr/>
            <p:nvPr/>
          </p:nvSpPr>
          <p:spPr>
            <a:xfrm>
              <a:off x="1763640" y="460044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679480" y="407664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00" name="Přímá spojovací šipka 40"/>
            <p:cNvCxnSpPr>
              <a:stCxn id="199" idx="4"/>
            </p:cNvCxnSpPr>
            <p:nvPr/>
          </p:nvCxnSpPr>
          <p:spPr>
            <a:xfrm>
              <a:off x="2754720" y="4249080"/>
              <a:ext cx="267084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201" name="Přímá spojovací čára 41"/>
            <p:cNvSpPr/>
            <p:nvPr/>
          </p:nvSpPr>
          <p:spPr>
            <a:xfrm>
              <a:off x="2755800" y="4249440"/>
              <a:ext cx="0" cy="513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92360" y="5373720"/>
                <a:ext cx="21762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68360" y="2997360"/>
                <a:ext cx="91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116000" y="620640"/>
                <a:ext cx="597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851280" y="620640"/>
            <a:ext cx="1081080" cy="64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940360" y="765000"/>
            <a:ext cx="100800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00364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56000" y="206064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805280" y="2131920"/>
                <a:ext cx="2347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156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619280" y="5734080"/>
                <a:ext cx="3719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1547640" y="2997360"/>
                <a:ext cx="274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80000" y="436572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2"/>
          <p:cNvGrpSpPr/>
          <p:nvPr/>
        </p:nvGrpSpPr>
        <p:grpSpPr>
          <a:xfrm>
            <a:off x="1692360" y="4221000"/>
            <a:ext cx="2952720" cy="993960"/>
            <a:chOff x="1692360" y="4221000"/>
            <a:chExt cx="2952720" cy="993960"/>
          </a:xfrm>
        </p:grpSpPr>
        <p:sp>
          <p:nvSpPr>
            <p:cNvPr id="217" name="Line 10"/>
            <p:cNvSpPr/>
            <p:nvPr/>
          </p:nvSpPr>
          <p:spPr>
            <a:xfrm>
              <a:off x="1692360" y="4773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0208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Oval 26"/>
            <p:cNvSpPr/>
            <p:nvPr/>
          </p:nvSpPr>
          <p:spPr>
            <a:xfrm>
              <a:off x="343080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271620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4492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"/>
                <p:cNvSpPr txBox="1"/>
                <p:nvPr/>
              </p:nvSpPr>
              <p:spPr>
                <a:xfrm>
                  <a:off x="2484360" y="4940280"/>
                  <a:ext cx="341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3265560" y="494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2940120" y="44197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124000" y="43657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Group 33"/>
          <p:cNvGrpSpPr/>
          <p:nvPr/>
        </p:nvGrpSpPr>
        <p:grpSpPr>
          <a:xfrm>
            <a:off x="1692360" y="3933720"/>
            <a:ext cx="2952720" cy="1293840"/>
            <a:chOff x="1692360" y="3933720"/>
            <a:chExt cx="2952720" cy="1293840"/>
          </a:xfrm>
        </p:grpSpPr>
        <p:sp>
          <p:nvSpPr>
            <p:cNvPr id="227" name="Line 10"/>
            <p:cNvSpPr/>
            <p:nvPr/>
          </p:nvSpPr>
          <p:spPr>
            <a:xfrm>
              <a:off x="1692360" y="47750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>
              <a:off x="2124360" y="4078080"/>
              <a:ext cx="0" cy="863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205272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1959120" y="4930560"/>
                  <a:ext cx="3841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Line 38"/>
            <p:cNvSpPr/>
            <p:nvPr/>
          </p:nvSpPr>
          <p:spPr>
            <a:xfrm>
              <a:off x="2124360" y="4078080"/>
              <a:ext cx="252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Line 30"/>
          <p:cNvSpPr/>
          <p:nvPr/>
        </p:nvSpPr>
        <p:spPr>
          <a:xfrm>
            <a:off x="3492360" y="4365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H="1">
            <a:off x="1692360" y="436572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Skupina 110"/>
          <p:cNvGrpSpPr/>
          <p:nvPr/>
        </p:nvGrpSpPr>
        <p:grpSpPr>
          <a:xfrm>
            <a:off x="3635280" y="2781360"/>
            <a:ext cx="285840" cy="285840"/>
            <a:chOff x="3635280" y="2781360"/>
            <a:chExt cx="285840" cy="285840"/>
          </a:xfrm>
        </p:grpSpPr>
        <p:sp>
          <p:nvSpPr>
            <p:cNvPr id="235" name="Elipsa 109"/>
            <p:cNvSpPr/>
            <p:nvPr/>
          </p:nvSpPr>
          <p:spPr>
            <a:xfrm>
              <a:off x="3635280" y="2781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33"/>
            <p:cNvSpPr/>
            <p:nvPr/>
          </p:nvSpPr>
          <p:spPr>
            <a:xfrm>
              <a:off x="3706560" y="292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34"/>
            <p:cNvSpPr/>
            <p:nvPr/>
          </p:nvSpPr>
          <p:spPr>
            <a:xfrm flipV="1">
              <a:off x="3778200" y="285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225440" y="189000"/>
                <a:ext cx="3940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5"/>
          <p:cNvSpPr/>
          <p:nvPr/>
        </p:nvSpPr>
        <p:spPr>
          <a:xfrm>
            <a:off x="1116000" y="191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889280" y="2131920"/>
                <a:ext cx="1484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763640" y="5516640"/>
                <a:ext cx="200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2" name="Group 6"/>
          <p:cNvGrpSpPr/>
          <p:nvPr/>
        </p:nvGrpSpPr>
        <p:grpSpPr>
          <a:xfrm>
            <a:off x="1260360" y="3645000"/>
            <a:ext cx="3768840" cy="1076400"/>
            <a:chOff x="1260360" y="3645000"/>
            <a:chExt cx="3768840" cy="1076400"/>
          </a:xfrm>
        </p:grpSpPr>
        <p:sp>
          <p:nvSpPr>
            <p:cNvPr id="243" name="Line 10"/>
            <p:cNvSpPr/>
            <p:nvPr/>
          </p:nvSpPr>
          <p:spPr>
            <a:xfrm>
              <a:off x="1260360" y="422100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916360" y="378936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844720" y="364500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3"/>
                <p:cNvSpPr txBox="1"/>
                <p:nvPr/>
              </p:nvSpPr>
              <p:spPr>
                <a:xfrm>
                  <a:off x="2844720" y="4437000"/>
                  <a:ext cx="15084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3205080" y="3789360"/>
                <a:ext cx="3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205000" y="39038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Line 14"/>
          <p:cNvSpPr/>
          <p:nvPr/>
        </p:nvSpPr>
        <p:spPr>
          <a:xfrm>
            <a:off x="2916360" y="378936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140360" y="260280"/>
            <a:ext cx="1008000" cy="1152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700">
                <a:moveTo>
                  <a:pt x="3600" y="0"/>
                </a:moveTo>
                <a:arcTo wR="3600" hR="3600" stAng="16200000" swAng="-5400000"/>
                <a:lnTo>
                  <a:pt x="0" y="21100"/>
                </a:lnTo>
                <a:arcTo wR="3600" hR="3600" stAng="10800000" swAng="-5400000"/>
                <a:lnTo>
                  <a:pt x="18000" y="24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2" name="Skupina 110"/>
          <p:cNvGrpSpPr/>
          <p:nvPr/>
        </p:nvGrpSpPr>
        <p:grpSpPr>
          <a:xfrm>
            <a:off x="2771640" y="2205000"/>
            <a:ext cx="285840" cy="285840"/>
            <a:chOff x="2771640" y="2205000"/>
            <a:chExt cx="285840" cy="285840"/>
          </a:xfrm>
        </p:grpSpPr>
        <p:sp>
          <p:nvSpPr>
            <p:cNvPr id="253" name="Elipsa 109"/>
            <p:cNvSpPr/>
            <p:nvPr/>
          </p:nvSpPr>
          <p:spPr>
            <a:xfrm>
              <a:off x="2771640" y="2205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842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 flipV="1">
              <a:off x="2914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4140360" y="907920"/>
            <a:ext cx="1008000" cy="42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21964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5148360" y="2349360"/>
                <a:ext cx="2311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1"/>
              <p:cNvSpPr txBox="1"/>
              <p:nvPr/>
            </p:nvSpPr>
            <p:spPr>
              <a:xfrm>
                <a:off x="6516720" y="3068640"/>
                <a:ext cx="961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Oval 24"/>
          <p:cNvSpPr/>
          <p:nvPr/>
        </p:nvSpPr>
        <p:spPr>
          <a:xfrm>
            <a:off x="2771640" y="407664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116000" y="260280"/>
                <a:ext cx="244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5724360" y="214200"/>
                <a:ext cx="1368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130400"/>
                <a:ext cx="3230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724360" y="1150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16000" y="2066760"/>
                <a:ext cx="308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5724360" y="2085840"/>
                <a:ext cx="238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16000" y="2878200"/>
                <a:ext cx="3002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5724360" y="3094200"/>
                <a:ext cx="1716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116000" y="3933720"/>
                <a:ext cx="3908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5724360" y="4006800"/>
                <a:ext cx="325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116000" y="4797360"/>
                <a:ext cx="364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724360" y="4869000"/>
                <a:ext cx="1598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116000" y="5661000"/>
                <a:ext cx="3238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5724360" y="5661000"/>
                <a:ext cx="2122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971640" y="262080"/>
                <a:ext cx="3673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236000" y="260280"/>
                <a:ext cx="1542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971640" y="1198440"/>
                <a:ext cx="541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7223040" y="981000"/>
                <a:ext cx="19209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971640" y="3933720"/>
                <a:ext cx="462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7236000" y="4003560"/>
                <a:ext cx="1717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71640" y="2133720"/>
                <a:ext cx="5506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7223040" y="2131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71640" y="3070080"/>
                <a:ext cx="583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164360" y="3068640"/>
                <a:ext cx="177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971640" y="4870440"/>
                <a:ext cx="522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7021440" y="4940280"/>
                <a:ext cx="2122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898560" y="5878440"/>
                <a:ext cx="6388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7404120" y="5950080"/>
                <a:ext cx="1739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14Z</dcterms:modified>
  <cp:revision>323</cp:revision>
  <dc:subject/>
  <dc:title>FCE</dc:title>
</cp:coreProperties>
</file>