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56EE-E9CE-4248-B3F0-F931EBD9FC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1F3E-1DF5-4714-9017-413531498FD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CA40-3641-4BCC-97FB-7309ABF2B2B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803F-F6EA-45F0-B57E-84B8D8031EA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5504-0E7C-48E2-A58C-4336BE9B114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615-F66B-4C5B-8CE9-EA6D30ED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213-9B6B-422A-A89B-32C9CF58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520-83BE-4507-A336-21363B43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2E3-863F-4D10-B7D6-D4875B5E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3825-A7BF-45EA-89FA-7D470636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CF1B-8396-46DE-86A0-1DF3BA68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3AB2-066F-4559-B9B3-577B85E6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0162-70D5-4FF6-AC6C-8E122187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9440-BEB0-4365-8758-36A1594E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091B-82BB-43BA-9EFD-FA8BE82B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608E-668D-4E34-AFC1-1947A21A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0CC-7275-4EA6-91AF-3EA18D18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270D-D354-46F1-B747-7678C66E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9CFF-7401-4786-9FBE-27F67E62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8FCA-0817-4FD7-85E4-033E8302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C5D2-018C-4FF9-B2EF-CF632820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5706-C86F-41D7-A1D1-C4331F22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6C6-B407-4746-8274-56C67718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EBB-6C33-44F5-AF93-CE9D7C52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CCE-189A-4CEB-936A-53577BD2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0E2-3473-4898-B1DB-16ACC38B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15C-15AA-4B03-9A5B-911B825A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D01-845D-4903-A96E-45E612A0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E2D-8E6C-477D-96BA-8CFEA8D9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72AF-6545-4650-8C6A-B1BA5F016C1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6A87-98B0-4995-93ED-A814B9BB9FE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logarit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1116000" y="981000"/>
                <a:ext cx="1182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1187280" y="1773360"/>
                <a:ext cx="1152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1187280" y="2565360"/>
                <a:ext cx="1151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1187280" y="3357720"/>
                <a:ext cx="11527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2556000" y="98100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2556000" y="1773360"/>
                <a:ext cx="757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2556000" y="2565360"/>
                <a:ext cx="726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2556000" y="3357720"/>
                <a:ext cx="969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187280" y="4149720"/>
                <a:ext cx="1243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2556000" y="4365720"/>
                <a:ext cx="939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4788000" y="5373720"/>
                <a:ext cx="1303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1258920" y="6021360"/>
                <a:ext cx="10605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4788000" y="981000"/>
                <a:ext cx="1454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4788000" y="1773360"/>
                <a:ext cx="16365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2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"/>
              <p:cNvSpPr txBox="1"/>
              <p:nvPr/>
            </p:nvSpPr>
            <p:spPr>
              <a:xfrm>
                <a:off x="1187280" y="5300640"/>
                <a:ext cx="909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4788000" y="3357720"/>
                <a:ext cx="768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6372360" y="537372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2556000" y="602136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6372360" y="1773360"/>
                <a:ext cx="969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2771640" y="5300640"/>
                <a:ext cx="514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4716360" y="4724280"/>
                <a:ext cx="15782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 0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4788000" y="2565360"/>
                <a:ext cx="9381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6372360" y="2565360"/>
                <a:ext cx="695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4788000" y="4076640"/>
                <a:ext cx="514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3"/>
              <p:cNvSpPr txBox="1"/>
              <p:nvPr/>
            </p:nvSpPr>
            <p:spPr>
              <a:xfrm>
                <a:off x="6535800" y="4076640"/>
                <a:ext cx="574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"/>
              <p:cNvSpPr txBox="1"/>
              <p:nvPr/>
            </p:nvSpPr>
            <p:spPr>
              <a:xfrm>
                <a:off x="6516720" y="4724280"/>
                <a:ext cx="745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4772160" y="6076800"/>
                <a:ext cx="566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6502320" y="6076800"/>
                <a:ext cx="5256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Rectangle 3"/>
          <p:cNvSpPr/>
          <p:nvPr/>
        </p:nvSpPr>
        <p:spPr>
          <a:xfrm>
            <a:off x="6516720" y="981000"/>
            <a:ext cx="2627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ní definován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516720" y="3357720"/>
            <a:ext cx="262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ní definován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7667640" y="1125360"/>
                <a:ext cx="969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5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1258920" y="907920"/>
                <a:ext cx="4335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1332000" y="4149720"/>
                <a:ext cx="39988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5435640" y="1125360"/>
                <a:ext cx="72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7740720" y="4365720"/>
                <a:ext cx="728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1258920" y="6093000"/>
                <a:ext cx="62085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log0,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log0,01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3"/>
              <p:cNvSpPr txBox="1"/>
              <p:nvPr/>
            </p:nvSpPr>
            <p:spPr>
              <a:xfrm>
                <a:off x="7885080" y="6165720"/>
                <a:ext cx="5907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1258920" y="5084640"/>
                <a:ext cx="51512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0,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7740720" y="5300640"/>
                <a:ext cx="728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3"/>
              <p:cNvSpPr txBox="1"/>
              <p:nvPr/>
            </p:nvSpPr>
            <p:spPr>
              <a:xfrm>
                <a:off x="1403280" y="1844640"/>
                <a:ext cx="1150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1403280" y="2421000"/>
                <a:ext cx="1150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2916360" y="1844640"/>
                <a:ext cx="14540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2916360" y="2852640"/>
                <a:ext cx="1272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6300720" y="1125360"/>
                <a:ext cx="908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5003640" y="1628640"/>
                <a:ext cx="2127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1533600" y="3024360"/>
                <a:ext cx="877680" cy="48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3"/>
              <p:cNvSpPr txBox="1"/>
              <p:nvPr/>
            </p:nvSpPr>
            <p:spPr>
              <a:xfrm>
                <a:off x="3060720" y="3429000"/>
                <a:ext cx="1060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6012000" y="1125360"/>
                <a:ext cx="45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7005600" y="1125360"/>
                <a:ext cx="485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4" name="Group 31"/>
          <p:cNvGrpSpPr/>
          <p:nvPr/>
        </p:nvGrpSpPr>
        <p:grpSpPr>
          <a:xfrm>
            <a:off x="2627280" y="836280"/>
            <a:ext cx="3673440" cy="287640"/>
            <a:chOff x="2627280" y="836280"/>
            <a:chExt cx="3673440" cy="287640"/>
          </a:xfrm>
        </p:grpSpPr>
        <p:sp>
          <p:nvSpPr>
            <p:cNvPr id="315" name="Line 25"/>
            <p:cNvSpPr/>
            <p:nvPr/>
          </p:nvSpPr>
          <p:spPr>
            <a:xfrm flipV="1">
              <a:off x="2627280" y="836280"/>
              <a:ext cx="0" cy="215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26"/>
            <p:cNvSpPr/>
            <p:nvPr/>
          </p:nvSpPr>
          <p:spPr>
            <a:xfrm>
              <a:off x="2627280" y="836640"/>
              <a:ext cx="3673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>
              <a:off x="6300720" y="83664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Group 32"/>
          <p:cNvGrpSpPr/>
          <p:nvPr/>
        </p:nvGrpSpPr>
        <p:grpSpPr>
          <a:xfrm>
            <a:off x="4427640" y="907920"/>
            <a:ext cx="2881080" cy="287640"/>
            <a:chOff x="4427640" y="907920"/>
            <a:chExt cx="2881080" cy="287640"/>
          </a:xfrm>
        </p:grpSpPr>
        <p:sp>
          <p:nvSpPr>
            <p:cNvPr id="319" name="Line 28"/>
            <p:cNvSpPr/>
            <p:nvPr/>
          </p:nvSpPr>
          <p:spPr>
            <a:xfrm flipV="1">
              <a:off x="4427640" y="907920"/>
              <a:ext cx="0" cy="21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4427640" y="907920"/>
              <a:ext cx="2881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7308720" y="907920"/>
              <a:ext cx="0" cy="287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7364520" y="1125360"/>
                <a:ext cx="395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argument logaritmu,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1316160" y="1881360"/>
                <a:ext cx="1730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3"/>
              <p:cNvSpPr txBox="1"/>
              <p:nvPr/>
            </p:nvSpPr>
            <p:spPr>
              <a:xfrm>
                <a:off x="1332000" y="1052640"/>
                <a:ext cx="1485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332000" y="2708280"/>
                <a:ext cx="1455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3"/>
              <p:cNvSpPr txBox="1"/>
              <p:nvPr/>
            </p:nvSpPr>
            <p:spPr>
              <a:xfrm>
                <a:off x="1332000" y="3500280"/>
                <a:ext cx="1668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,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780000" y="1052640"/>
                <a:ext cx="1182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3780000" y="1627200"/>
                <a:ext cx="14270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3780000" y="2708280"/>
                <a:ext cx="1031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3"/>
              <p:cNvSpPr txBox="1"/>
              <p:nvPr/>
            </p:nvSpPr>
            <p:spPr>
              <a:xfrm>
                <a:off x="3780000" y="3500280"/>
                <a:ext cx="97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1332000" y="4149720"/>
                <a:ext cx="1547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3"/>
              <p:cNvSpPr txBox="1"/>
              <p:nvPr/>
            </p:nvSpPr>
            <p:spPr>
              <a:xfrm>
                <a:off x="3780000" y="4292640"/>
                <a:ext cx="1304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1332000" y="5229360"/>
                <a:ext cx="112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"/>
              <p:cNvSpPr txBox="1"/>
              <p:nvPr/>
            </p:nvSpPr>
            <p:spPr>
              <a:xfrm>
                <a:off x="1332000" y="6021360"/>
                <a:ext cx="1485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3924360" y="5084640"/>
                <a:ext cx="1001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3924360" y="5734080"/>
                <a:ext cx="26114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971640" y="260280"/>
            <a:ext cx="81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základ logaritmu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,          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1116000" y="1773360"/>
                <a:ext cx="1882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Rectangle 3"/>
          <p:cNvSpPr/>
          <p:nvPr/>
        </p:nvSpPr>
        <p:spPr>
          <a:xfrm>
            <a:off x="3203640" y="3573360"/>
            <a:ext cx="3058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úloha nemá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1112760" y="2637000"/>
                <a:ext cx="191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1112760" y="3573360"/>
                <a:ext cx="1519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3059280" y="1773360"/>
                <a:ext cx="1029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3059280" y="2421000"/>
                <a:ext cx="10904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1112760" y="4365720"/>
                <a:ext cx="15494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059280" y="4365720"/>
                <a:ext cx="10904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1116000" y="5589720"/>
                <a:ext cx="1790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5724360" y="1773360"/>
                <a:ext cx="1457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5724360" y="2637000"/>
                <a:ext cx="191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3"/>
              <p:cNvSpPr txBox="1"/>
              <p:nvPr/>
            </p:nvSpPr>
            <p:spPr>
              <a:xfrm>
                <a:off x="5724360" y="3357720"/>
                <a:ext cx="1549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7684920" y="1700280"/>
                <a:ext cx="1243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"/>
              <p:cNvSpPr txBox="1"/>
              <p:nvPr/>
            </p:nvSpPr>
            <p:spPr>
              <a:xfrm>
                <a:off x="7669080" y="2421000"/>
                <a:ext cx="10908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5724360" y="4365720"/>
                <a:ext cx="1854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3"/>
              <p:cNvSpPr txBox="1"/>
              <p:nvPr/>
            </p:nvSpPr>
            <p:spPr>
              <a:xfrm>
                <a:off x="7686720" y="3573360"/>
                <a:ext cx="124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5724360" y="5589720"/>
                <a:ext cx="1608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3059280" y="5589720"/>
                <a:ext cx="1180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7686720" y="4365720"/>
                <a:ext cx="12412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7746840" y="5589720"/>
                <a:ext cx="11811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258920" y="1557360"/>
            <a:ext cx="7705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LODNER, J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obchodní akademie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. vyd. Svitavy : Svitavská tiskárna, 1998. ISBN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9781213621442 .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Část II, Kapitola 1, s. 64–6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505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logaritm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; Inverzní funkce; 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260280"/>
            <a:ext cx="609264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lastnosti logaritmické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1114560" y="2060640"/>
                <a:ext cx="49924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826920" y="1484280"/>
            <a:ext cx="781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Logaritmická funkce je inverzní k funkci exponenciální: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2195640" y="2276280"/>
            <a:ext cx="1222200" cy="93636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2555640" y="2276640"/>
            <a:ext cx="863640" cy="0"/>
          </a:xfrm>
          <a:prstGeom prst="line">
            <a:avLst/>
          </a:prstGeom>
          <a:ln w="572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86840" y="4365720"/>
            <a:ext cx="132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2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165040" y="4365720"/>
            <a:ext cx="16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3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611160" y="4365720"/>
            <a:ext cx="252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012000" y="4365720"/>
            <a:ext cx="290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00ff00"/>
                </a:solidFill>
                <a:latin typeface="Times New Roman"/>
              </a:rPr>
              <a:t>x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 x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086840" y="5516640"/>
            <a:ext cx="132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165040" y="5516640"/>
            <a:ext cx="16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3684240" y="5516640"/>
            <a:ext cx="2418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6014880" y="5518080"/>
            <a:ext cx="293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 =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7126200" y="4294080"/>
            <a:ext cx="1763640" cy="719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7054920" y="5445000"/>
            <a:ext cx="1836720" cy="719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968400" y="378936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apamatujte si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 flipV="1">
            <a:off x="5364000" y="2205000"/>
            <a:ext cx="1222560" cy="93672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4788000" y="2205000"/>
            <a:ext cx="1800000" cy="0"/>
          </a:xfrm>
          <a:prstGeom prst="line">
            <a:avLst/>
          </a:prstGeom>
          <a:ln w="572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logarit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1195560" y="1170000"/>
                <a:ext cx="15159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340000" y="1773360"/>
                <a:ext cx="118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2484360" y="2925720"/>
                <a:ext cx="849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2771640" y="1268280"/>
                <a:ext cx="6066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2340000" y="2349360"/>
                <a:ext cx="11224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4716360" y="1125360"/>
                <a:ext cx="1578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5892840" y="1744560"/>
                <a:ext cx="118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6037200" y="2897280"/>
                <a:ext cx="8492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6324480" y="123984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5907240" y="2306520"/>
                <a:ext cx="1091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1195560" y="4122720"/>
                <a:ext cx="15159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9"/>
              <p:cNvSpPr txBox="1"/>
              <p:nvPr/>
            </p:nvSpPr>
            <p:spPr>
              <a:xfrm>
                <a:off x="2354400" y="4653000"/>
                <a:ext cx="1152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2470320" y="5805360"/>
                <a:ext cx="8794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2771640" y="4221000"/>
                <a:ext cx="6066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2325600" y="5229360"/>
                <a:ext cx="1152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3"/>
              <p:cNvSpPr txBox="1"/>
              <p:nvPr/>
            </p:nvSpPr>
            <p:spPr>
              <a:xfrm>
                <a:off x="4800600" y="4179960"/>
                <a:ext cx="13636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6156360" y="4149720"/>
                <a:ext cx="514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77" name="Group 20"/>
          <p:cNvGrpSpPr/>
          <p:nvPr/>
        </p:nvGrpSpPr>
        <p:grpSpPr>
          <a:xfrm>
            <a:off x="2268360" y="1125000"/>
            <a:ext cx="1079640" cy="792360"/>
            <a:chOff x="2268360" y="1125000"/>
            <a:chExt cx="1079640" cy="792360"/>
          </a:xfrm>
        </p:grpSpPr>
        <p:sp>
          <p:nvSpPr>
            <p:cNvPr id="178" name="Line 21"/>
            <p:cNvSpPr/>
            <p:nvPr/>
          </p:nvSpPr>
          <p:spPr>
            <a:xfrm flipV="1">
              <a:off x="2268360" y="11250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9" name="Line 22"/>
            <p:cNvSpPr/>
            <p:nvPr/>
          </p:nvSpPr>
          <p:spPr>
            <a:xfrm flipH="1">
              <a:off x="2412720" y="11253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5219640" y="189000"/>
                <a:ext cx="1638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6300720" y="1052640"/>
                <a:ext cx="15462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6588000" y="2781360"/>
                <a:ext cx="1062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9"/>
              <p:cNvSpPr txBox="1"/>
              <p:nvPr/>
            </p:nvSpPr>
            <p:spPr>
              <a:xfrm>
                <a:off x="6929280" y="49860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6300720" y="2060640"/>
                <a:ext cx="15480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1403280" y="189000"/>
                <a:ext cx="1457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2556000" y="1052640"/>
                <a:ext cx="1030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2700360" y="2708280"/>
                <a:ext cx="10317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3022560" y="49860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9"/>
              <p:cNvSpPr txBox="1"/>
              <p:nvPr/>
            </p:nvSpPr>
            <p:spPr>
              <a:xfrm>
                <a:off x="2556000" y="2060640"/>
                <a:ext cx="1214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476360" y="3933720"/>
                <a:ext cx="1335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2843280" y="3933720"/>
                <a:ext cx="576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5219640" y="4005360"/>
                <a:ext cx="1971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 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6516720" y="4724280"/>
                <a:ext cx="1909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6804000" y="5950080"/>
                <a:ext cx="88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7236000" y="4076640"/>
                <a:ext cx="606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6516720" y="5373720"/>
                <a:ext cx="1427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argument logaritmu,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5348160" y="1341360"/>
                <a:ext cx="2063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6229440" y="2060640"/>
                <a:ext cx="10904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6445080" y="2565360"/>
                <a:ext cx="8794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1273320" y="1341360"/>
                <a:ext cx="1881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9"/>
              <p:cNvSpPr txBox="1"/>
              <p:nvPr/>
            </p:nvSpPr>
            <p:spPr>
              <a:xfrm>
                <a:off x="2124000" y="2205000"/>
                <a:ext cx="998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2268360" y="2852640"/>
                <a:ext cx="10321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1332000" y="4221000"/>
                <a:ext cx="1881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2195640" y="5013360"/>
                <a:ext cx="1000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2263680" y="5688000"/>
                <a:ext cx="10303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5568840" y="4091040"/>
                <a:ext cx="1760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6516720" y="4724280"/>
                <a:ext cx="7891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09" name="Group 14"/>
          <p:cNvGrpSpPr/>
          <p:nvPr/>
        </p:nvGrpSpPr>
        <p:grpSpPr>
          <a:xfrm>
            <a:off x="2411280" y="1341000"/>
            <a:ext cx="1079640" cy="792360"/>
            <a:chOff x="2411280" y="1341000"/>
            <a:chExt cx="1079640" cy="792360"/>
          </a:xfrm>
        </p:grpSpPr>
        <p:sp>
          <p:nvSpPr>
            <p:cNvPr id="210" name="Line 15"/>
            <p:cNvSpPr/>
            <p:nvPr/>
          </p:nvSpPr>
          <p:spPr>
            <a:xfrm flipV="1">
              <a:off x="2411280" y="13410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 flipH="1">
              <a:off x="2555640" y="13413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322960" y="352440"/>
                <a:ext cx="1942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6189840" y="1147680"/>
                <a:ext cx="998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8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9"/>
              <p:cNvSpPr txBox="1"/>
              <p:nvPr/>
            </p:nvSpPr>
            <p:spPr>
              <a:xfrm>
                <a:off x="6372360" y="2852640"/>
                <a:ext cx="849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201680" y="534960"/>
                <a:ext cx="1851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2268360" y="1197000"/>
                <a:ext cx="847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187280" y="2637000"/>
                <a:ext cx="2214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6300720" y="2133720"/>
                <a:ext cx="1090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9"/>
              <p:cNvSpPr txBox="1"/>
              <p:nvPr/>
            </p:nvSpPr>
            <p:spPr>
              <a:xfrm>
                <a:off x="1979640" y="3573360"/>
                <a:ext cx="11494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9"/>
              <p:cNvSpPr txBox="1"/>
              <p:nvPr/>
            </p:nvSpPr>
            <p:spPr>
              <a:xfrm>
                <a:off x="3348000" y="5445000"/>
                <a:ext cx="90972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2268360" y="4437000"/>
                <a:ext cx="10908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2195640" y="5589720"/>
                <a:ext cx="115236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5435640" y="4005360"/>
                <a:ext cx="1547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6156360" y="4508640"/>
                <a:ext cx="789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5435640" y="5589720"/>
                <a:ext cx="1487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9"/>
              <p:cNvSpPr txBox="1"/>
              <p:nvPr/>
            </p:nvSpPr>
            <p:spPr>
              <a:xfrm>
                <a:off x="6126120" y="6021360"/>
                <a:ext cx="819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e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971640" y="333360"/>
            <a:ext cx="8172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základ logaritmu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,          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5508720" y="1628640"/>
                <a:ext cx="1850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6593040" y="2416320"/>
                <a:ext cx="817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1174680" y="1635120"/>
                <a:ext cx="2125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9"/>
              <p:cNvSpPr txBox="1"/>
              <p:nvPr/>
            </p:nvSpPr>
            <p:spPr>
              <a:xfrm>
                <a:off x="2195640" y="2422440"/>
                <a:ext cx="1149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2340000" y="2924280"/>
                <a:ext cx="10634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258920" y="3789360"/>
                <a:ext cx="2003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195640" y="4653000"/>
                <a:ext cx="1030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2325600" y="5589720"/>
                <a:ext cx="9399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5508720" y="3789360"/>
                <a:ext cx="1942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9"/>
              <p:cNvSpPr txBox="1"/>
              <p:nvPr/>
            </p:nvSpPr>
            <p:spPr>
              <a:xfrm>
                <a:off x="6804000" y="5950080"/>
                <a:ext cx="1123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8" name="Rectangle 3"/>
          <p:cNvSpPr/>
          <p:nvPr/>
        </p:nvSpPr>
        <p:spPr>
          <a:xfrm>
            <a:off x="6084720" y="4437000"/>
            <a:ext cx="30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úloha nemá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5508720" y="5445000"/>
                <a:ext cx="1852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9"/>
              <p:cNvSpPr txBox="1"/>
              <p:nvPr/>
            </p:nvSpPr>
            <p:spPr>
              <a:xfrm>
                <a:off x="3708360" y="2349360"/>
                <a:ext cx="725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41" name="Line 16"/>
          <p:cNvSpPr/>
          <p:nvPr/>
        </p:nvSpPr>
        <p:spPr>
          <a:xfrm flipV="1">
            <a:off x="3419640" y="980640"/>
            <a:ext cx="3168360" cy="2087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3492360" y="4797360"/>
                <a:ext cx="725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43" name="Group 18"/>
          <p:cNvGrpSpPr/>
          <p:nvPr/>
        </p:nvGrpSpPr>
        <p:grpSpPr>
          <a:xfrm>
            <a:off x="2484360" y="1628280"/>
            <a:ext cx="1079640" cy="792360"/>
            <a:chOff x="2484360" y="1628280"/>
            <a:chExt cx="1079640" cy="792360"/>
          </a:xfrm>
        </p:grpSpPr>
        <p:sp>
          <p:nvSpPr>
            <p:cNvPr id="244" name="Line 19"/>
            <p:cNvSpPr/>
            <p:nvPr/>
          </p:nvSpPr>
          <p:spPr>
            <a:xfrm flipV="1">
              <a:off x="2484360" y="162828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Line 20"/>
            <p:cNvSpPr/>
            <p:nvPr/>
          </p:nvSpPr>
          <p:spPr>
            <a:xfrm flipH="1">
              <a:off x="2628720" y="162864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900000" y="404640"/>
                <a:ext cx="2368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9"/>
              <p:cNvSpPr txBox="1"/>
              <p:nvPr/>
            </p:nvSpPr>
            <p:spPr>
              <a:xfrm>
                <a:off x="1870200" y="1197000"/>
                <a:ext cx="1390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2301840" y="4221000"/>
                <a:ext cx="91296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3780000" y="404640"/>
                <a:ext cx="2125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9"/>
              <p:cNvSpPr txBox="1"/>
              <p:nvPr/>
            </p:nvSpPr>
            <p:spPr>
              <a:xfrm>
                <a:off x="1941480" y="1989000"/>
                <a:ext cx="1360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9"/>
              <p:cNvSpPr txBox="1"/>
              <p:nvPr/>
            </p:nvSpPr>
            <p:spPr>
              <a:xfrm>
                <a:off x="2014560" y="3141720"/>
                <a:ext cx="1298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4643280" y="1197000"/>
                <a:ext cx="1117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4873680" y="4162320"/>
                <a:ext cx="11872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9"/>
              <p:cNvSpPr txBox="1"/>
              <p:nvPr/>
            </p:nvSpPr>
            <p:spPr>
              <a:xfrm>
                <a:off x="4770360" y="1989000"/>
                <a:ext cx="11192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9"/>
              <p:cNvSpPr txBox="1"/>
              <p:nvPr/>
            </p:nvSpPr>
            <p:spPr>
              <a:xfrm>
                <a:off x="4843440" y="3127320"/>
                <a:ext cx="1057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6588000" y="189000"/>
                <a:ext cx="2033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6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"/>
              <p:cNvSpPr txBox="1"/>
              <p:nvPr/>
            </p:nvSpPr>
            <p:spPr>
              <a:xfrm>
                <a:off x="7451640" y="1052640"/>
                <a:ext cx="10875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7380360" y="2060640"/>
                <a:ext cx="1149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7667640" y="2781360"/>
                <a:ext cx="102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8532720" y="2060640"/>
                <a:ext cx="393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9"/>
              <p:cNvSpPr txBox="1"/>
              <p:nvPr/>
            </p:nvSpPr>
            <p:spPr>
              <a:xfrm>
                <a:off x="3419640" y="3284640"/>
                <a:ext cx="7254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6084720" y="3284640"/>
                <a:ext cx="7257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6:43Z</dcterms:modified>
  <cp:revision>325</cp:revision>
  <dc:subject/>
  <dc:title>FCE</dc:title>
</cp:coreProperties>
</file>