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38E-2BC0-4514-B085-0498B2F0B4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C7A-C3EF-44AD-9787-64B775C8D52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19F-7787-4BDC-85B4-F6C347A451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CA2C-A490-4C77-8EBF-F835697CE5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6691-778C-4DCF-9DEC-D55C0D0953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16A-9493-4B0D-84D3-137A4811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FEF-2A38-42FD-8555-CC26850B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667-56E1-4C45-8A37-69524EC7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01B-DC2E-4164-9913-7D21DF5F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F900-8A03-4EFD-B2F1-A4E88FF6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9F17-32E5-440F-8A39-3B5D32EB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A5A0-06DB-4BAB-A422-694D6D6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D3B3-C155-4EAB-861B-CA5F892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EB7-BF23-4ECF-86BF-05D41214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7282-6F35-41F8-BD75-673DC2FB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431-21C8-4EEC-AC55-6927E42F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90D-2E99-4C30-86A3-F2535F46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2A8-ADDD-4909-8EAE-7A82E1E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616-A502-47C8-ADE2-BE4CF5D8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7EB-077F-409F-A13A-94BDB324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192C-2C3E-4632-9A6E-CFF89789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99D-EFD3-4270-9DFD-F4B99627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5A0-BD02-443D-B5B0-52E55D63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DE3-1F0C-4256-B248-96361E19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D6B-A085-4379-BDAE-60C24A8F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6C5-6179-4397-A4B5-AAAE24C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5B6-D5C9-455D-BF44-728F833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A74-81E6-44F9-80FD-C58BA98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928-0E7D-4C7C-9328-4BB2B53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8896-42C5-485D-8DE8-9ADD11307A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800-6B82-4AC6-930A-1C3A5123D8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052640"/>
                <a:ext cx="2670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1562040" y="595008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2411280" y="3789360"/>
                <a:ext cx="1516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156360" y="3860640"/>
                <a:ext cx="130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16720" y="5877000"/>
                <a:ext cx="1608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8" name="Group 14"/>
          <p:cNvGrpSpPr/>
          <p:nvPr/>
        </p:nvGrpSpPr>
        <p:grpSpPr>
          <a:xfrm>
            <a:off x="2556000" y="980640"/>
            <a:ext cx="1079280" cy="792360"/>
            <a:chOff x="2556000" y="980640"/>
            <a:chExt cx="1079280" cy="792360"/>
          </a:xfrm>
        </p:grpSpPr>
        <p:sp>
          <p:nvSpPr>
            <p:cNvPr id="269" name="Line 15"/>
            <p:cNvSpPr/>
            <p:nvPr/>
          </p:nvSpPr>
          <p:spPr>
            <a:xfrm flipV="1">
              <a:off x="2556000" y="98064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>
              <a:off x="2699640" y="981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2914560" y="4363920"/>
                <a:ext cx="849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18"/>
          <p:cNvSpPr/>
          <p:nvPr/>
        </p:nvSpPr>
        <p:spPr>
          <a:xfrm>
            <a:off x="169056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4" name="Group 34"/>
          <p:cNvGrpSpPr/>
          <p:nvPr/>
        </p:nvGrpSpPr>
        <p:grpSpPr>
          <a:xfrm>
            <a:off x="1187280" y="5084640"/>
            <a:ext cx="2737080" cy="789120"/>
            <a:chOff x="1187280" y="5084640"/>
            <a:chExt cx="2737080" cy="789120"/>
          </a:xfrm>
        </p:grpSpPr>
        <mc:AlternateContent>
          <mc:Choice xmlns:a14="http://schemas.microsoft.com/office/drawing/2010/main" Requires="a14">
            <p:sp>
              <p:nvSpPr>
                <p:cNvPr id="275" name="Object 13"/>
                <p:cNvSpPr txBox="1"/>
                <p:nvPr/>
              </p:nvSpPr>
              <p:spPr>
                <a:xfrm>
                  <a:off x="2484360" y="5589360"/>
                  <a:ext cx="18396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3"/>
            <p:cNvSpPr/>
            <p:nvPr/>
          </p:nvSpPr>
          <p:spPr>
            <a:xfrm>
              <a:off x="2555640" y="522900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2484360" y="5084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2555640" y="522900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118728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4556160" y="1052640"/>
                <a:ext cx="3763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8"/>
          <p:cNvSpPr/>
          <p:nvPr/>
        </p:nvSpPr>
        <p:spPr>
          <a:xfrm>
            <a:off x="536256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6372360" y="4363920"/>
                <a:ext cx="1122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60"/>
          <p:cNvGrpSpPr/>
          <p:nvPr/>
        </p:nvGrpSpPr>
        <p:grpSpPr>
          <a:xfrm>
            <a:off x="5580000" y="5084640"/>
            <a:ext cx="2737080" cy="777960"/>
            <a:chOff x="5580000" y="5084640"/>
            <a:chExt cx="2737080" cy="777960"/>
          </a:xfrm>
        </p:grpSpPr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6904080" y="5599080"/>
                  <a:ext cx="128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50"/>
            <p:cNvSpPr/>
            <p:nvPr/>
          </p:nvSpPr>
          <p:spPr>
            <a:xfrm flipH="1">
              <a:off x="5580000" y="5229000"/>
              <a:ext cx="136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Oval 51"/>
            <p:cNvSpPr/>
            <p:nvPr/>
          </p:nvSpPr>
          <p:spPr>
            <a:xfrm>
              <a:off x="687708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>
              <a:off x="6948720" y="5229000"/>
              <a:ext cx="0" cy="28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>
              <a:off x="558000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5580000" y="4797360"/>
            <a:ext cx="2736720" cy="1065240"/>
            <a:chOff x="558000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293" name="Object 13"/>
                <p:cNvSpPr txBox="1"/>
                <p:nvPr/>
              </p:nvSpPr>
              <p:spPr>
                <a:xfrm>
                  <a:off x="592920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56"/>
            <p:cNvSpPr/>
            <p:nvPr/>
          </p:nvSpPr>
          <p:spPr>
            <a:xfrm>
              <a:off x="6156360" y="494028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84720" y="4797360"/>
              <a:ext cx="142920" cy="144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>
              <a:off x="6156360" y="494028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558000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8" name="Text Box 18"/>
          <p:cNvSpPr/>
          <p:nvPr/>
        </p:nvSpPr>
        <p:spPr>
          <a:xfrm>
            <a:off x="1979640" y="155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580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2050920" y="1268280"/>
            <a:ext cx="217440" cy="36036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5774">
                <a:moveTo>
                  <a:pt x="3600" y="0"/>
                </a:moveTo>
                <a:arcTo wR="3600" hR="3600" stAng="16200000" swAng="-5400000"/>
                <a:lnTo>
                  <a:pt x="0" y="32174"/>
                </a:lnTo>
                <a:arcTo wR="3600" hR="3600" stAng="10800000" swAng="-5400000"/>
                <a:lnTo>
                  <a:pt x="18000" y="35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187280" y="2852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3348000" y="148428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227640" y="285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580000" y="1268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68"/>
          <p:cNvSpPr/>
          <p:nvPr/>
        </p:nvSpPr>
        <p:spPr>
          <a:xfrm>
            <a:off x="7020000" y="1557360"/>
            <a:ext cx="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187280" y="4797360"/>
            <a:ext cx="2736720" cy="1065240"/>
            <a:chOff x="118728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53648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Line 37"/>
            <p:cNvSpPr/>
            <p:nvPr/>
          </p:nvSpPr>
          <p:spPr>
            <a:xfrm>
              <a:off x="1763640" y="4940280"/>
              <a:ext cx="21603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1692000" y="4797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1763640" y="4940280"/>
              <a:ext cx="0" cy="57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118728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971640" y="333360"/>
                <a:ext cx="409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6443640" y="5661000"/>
                <a:ext cx="2341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5940360" y="333360"/>
                <a:ext cx="244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1979640" y="981000"/>
                <a:ext cx="3033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11280" y="1557360"/>
                <a:ext cx="289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2843280" y="2133720"/>
                <a:ext cx="2355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843280" y="2784600"/>
                <a:ext cx="2238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5435640" y="285264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244000" y="2924280"/>
                <a:ext cx="736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5187960" y="335592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625840" y="4005360"/>
                <a:ext cx="23018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859280" y="4221000"/>
                <a:ext cx="144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4" name="Group 34"/>
          <p:cNvGrpSpPr/>
          <p:nvPr/>
        </p:nvGrpSpPr>
        <p:grpSpPr>
          <a:xfrm>
            <a:off x="5724360" y="1268280"/>
            <a:ext cx="2737080" cy="782640"/>
            <a:chOff x="5724360" y="1268280"/>
            <a:chExt cx="2737080" cy="782640"/>
          </a:xfrm>
        </p:grpSpPr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7011720" y="1778040"/>
                  <a:ext cx="204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Line 23"/>
            <p:cNvSpPr/>
            <p:nvPr/>
          </p:nvSpPr>
          <p:spPr>
            <a:xfrm>
              <a:off x="7092720" y="141264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7021440" y="126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7092720" y="1412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5724360" y="162864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0" name="Group 41"/>
          <p:cNvGrpSpPr/>
          <p:nvPr/>
        </p:nvGrpSpPr>
        <p:grpSpPr>
          <a:xfrm>
            <a:off x="5724360" y="981000"/>
            <a:ext cx="2736720" cy="1076400"/>
            <a:chOff x="5724360" y="981000"/>
            <a:chExt cx="2736720" cy="1076400"/>
          </a:xfrm>
        </p:grpSpPr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6064200" y="1773360"/>
                  <a:ext cx="3697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37"/>
            <p:cNvSpPr/>
            <p:nvPr/>
          </p:nvSpPr>
          <p:spPr>
            <a:xfrm>
              <a:off x="6300720" y="112392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>
              <a:off x="6229080" y="98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39"/>
            <p:cNvSpPr/>
            <p:nvPr/>
          </p:nvSpPr>
          <p:spPr>
            <a:xfrm>
              <a:off x="6300720" y="112392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40"/>
            <p:cNvSpPr/>
            <p:nvPr/>
          </p:nvSpPr>
          <p:spPr>
            <a:xfrm>
              <a:off x="5724360" y="162864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308720" y="2060640"/>
                <a:ext cx="150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Skupina 110"/>
          <p:cNvGrpSpPr/>
          <p:nvPr/>
        </p:nvGrpSpPr>
        <p:grpSpPr>
          <a:xfrm>
            <a:off x="4500720" y="2712960"/>
            <a:ext cx="285480" cy="285840"/>
            <a:chOff x="4500720" y="2712960"/>
            <a:chExt cx="285480" cy="285840"/>
          </a:xfrm>
        </p:grpSpPr>
        <p:sp>
          <p:nvSpPr>
            <p:cNvPr id="338" name="Elipsa 109"/>
            <p:cNvSpPr/>
            <p:nvPr/>
          </p:nvSpPr>
          <p:spPr>
            <a:xfrm>
              <a:off x="4500720" y="271296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4572000" y="28558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34"/>
            <p:cNvSpPr/>
            <p:nvPr/>
          </p:nvSpPr>
          <p:spPr>
            <a:xfrm flipV="1">
              <a:off x="4643640" y="27838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78800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Group 32"/>
          <p:cNvGrpSpPr/>
          <p:nvPr/>
        </p:nvGrpSpPr>
        <p:grpSpPr>
          <a:xfrm>
            <a:off x="2627280" y="5367240"/>
            <a:ext cx="2952720" cy="1051200"/>
            <a:chOff x="2627280" y="5367240"/>
            <a:chExt cx="2952720" cy="1051200"/>
          </a:xfrm>
        </p:grpSpPr>
        <p:sp>
          <p:nvSpPr>
            <p:cNvPr id="343" name="Line 10"/>
            <p:cNvSpPr/>
            <p:nvPr/>
          </p:nvSpPr>
          <p:spPr>
            <a:xfrm>
              <a:off x="2627280" y="59198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>
              <a:off x="443700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436536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65112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57948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9"/>
                <p:cNvSpPr txBox="1"/>
                <p:nvPr/>
              </p:nvSpPr>
              <p:spPr>
                <a:xfrm>
                  <a:off x="3146400" y="6029280"/>
                  <a:ext cx="887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4357440" y="6016680"/>
                  <a:ext cx="860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3875040" y="55641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98764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42"/>
          <p:cNvSpPr/>
          <p:nvPr/>
        </p:nvSpPr>
        <p:spPr>
          <a:xfrm>
            <a:off x="4427640" y="5511960"/>
            <a:ext cx="1224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Line 43"/>
          <p:cNvSpPr/>
          <p:nvPr/>
        </p:nvSpPr>
        <p:spPr>
          <a:xfrm flipH="1">
            <a:off x="2627280" y="55119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4" name="Group 44"/>
          <p:cNvGrpSpPr/>
          <p:nvPr/>
        </p:nvGrpSpPr>
        <p:grpSpPr>
          <a:xfrm>
            <a:off x="4140360" y="5157720"/>
            <a:ext cx="1584000" cy="1501560"/>
            <a:chOff x="4140360" y="5157720"/>
            <a:chExt cx="1584000" cy="1501560"/>
          </a:xfrm>
        </p:grpSpPr>
        <mc:AlternateContent>
          <mc:Choice xmlns:a14="http://schemas.microsoft.com/office/drawing/2010/main" Requires="a14">
            <p:sp>
              <p:nvSpPr>
                <p:cNvPr id="355" name="Object 13"/>
                <p:cNvSpPr txBox="1"/>
                <p:nvPr/>
              </p:nvSpPr>
              <p:spPr>
                <a:xfrm>
                  <a:off x="4140360" y="6375240"/>
                  <a:ext cx="1951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Line 37"/>
            <p:cNvSpPr/>
            <p:nvPr/>
          </p:nvSpPr>
          <p:spPr>
            <a:xfrm>
              <a:off x="4211640" y="5295600"/>
              <a:ext cx="1512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Oval 38"/>
            <p:cNvSpPr/>
            <p:nvPr/>
          </p:nvSpPr>
          <p:spPr>
            <a:xfrm>
              <a:off x="4140360" y="5157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>
              <a:off x="4211640" y="5300280"/>
              <a:ext cx="0" cy="1003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AutoShape 49"/>
          <p:cNvSpPr/>
          <p:nvPr/>
        </p:nvSpPr>
        <p:spPr>
          <a:xfrm>
            <a:off x="7308720" y="1989000"/>
            <a:ext cx="151128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logaritmováním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76360" y="1773360"/>
            <a:ext cx="76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výrazy, pak se rovnají i jejich logaritmy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1"/>
              <p:cNvSpPr txBox="1"/>
              <p:nvPr/>
            </p:nvSpPr>
            <p:spPr>
              <a:xfrm>
                <a:off x="1643040" y="3645000"/>
                <a:ext cx="571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1476360" y="4797360"/>
            <a:ext cx="766764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ujeme-li rovnici, užijeme logaritmus dekadický či přirozený, jelikož jejich hodnoty můžeme určit jednoduše pomocí každého středoškolského kalkulátor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69" name="AutoShape 6"/>
          <p:cNvCxnSpPr>
            <a:stCxn id="366" idx="2"/>
            <a:endCxn id="367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70" name="AutoShape 7"/>
          <p:cNvCxnSpPr>
            <a:stCxn id="366" idx="2"/>
            <a:endCxn id="368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03280" y="4149720"/>
                <a:ext cx="995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059280" y="4221000"/>
                <a:ext cx="529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403280" y="3500280"/>
                <a:ext cx="85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059280" y="3500280"/>
                <a:ext cx="1242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5896080" y="3484440"/>
                <a:ext cx="94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480440" y="3484440"/>
                <a:ext cx="14238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1403280" y="5589720"/>
                <a:ext cx="136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059280" y="5589720"/>
                <a:ext cx="59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403280" y="4869000"/>
                <a:ext cx="113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3059280" y="4869000"/>
                <a:ext cx="1428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910120" y="4149720"/>
                <a:ext cx="65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451640" y="4149720"/>
                <a:ext cx="1176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5940360" y="4869000"/>
                <a:ext cx="1006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7451640" y="4869000"/>
                <a:ext cx="1238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5940360" y="5516640"/>
                <a:ext cx="9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7494480" y="5518080"/>
                <a:ext cx="1424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87280" y="1125360"/>
                <a:ext cx="176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2"/>
          <p:cNvSpPr/>
          <p:nvPr/>
        </p:nvSpPr>
        <p:spPr>
          <a:xfrm>
            <a:off x="3635280" y="1125360"/>
            <a:ext cx="55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číslo 30 není mocninou čísla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rovnici logaritmuj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547640" y="2637000"/>
                <a:ext cx="23767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4356000" y="2637000"/>
                <a:ext cx="396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1363680" y="3548160"/>
                <a:ext cx="2601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268360" y="4292640"/>
                <a:ext cx="17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2340000" y="5589720"/>
                <a:ext cx="157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5364000" y="189000"/>
                <a:ext cx="2184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195560" y="476280"/>
                <a:ext cx="1895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771560" y="1341360"/>
                <a:ext cx="247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2205000"/>
                <a:ext cx="31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197080" y="2854440"/>
                <a:ext cx="20559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771640" y="3933720"/>
                <a:ext cx="2441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2787480" y="5230800"/>
                <a:ext cx="1509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299280" y="1125360"/>
                <a:ext cx="160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5722920" y="1989000"/>
                <a:ext cx="266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580000" y="2924280"/>
                <a:ext cx="28926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6515280" y="3789360"/>
                <a:ext cx="2055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6588000" y="4869000"/>
                <a:ext cx="2376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588000" y="5950080"/>
                <a:ext cx="1737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0"/>
                <a:ext cx="2954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2360" y="1125360"/>
                <a:ext cx="2922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987640" y="616572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4572000" y="576360"/>
                <a:ext cx="866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989000"/>
                <a:ext cx="260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2411280" y="2781360"/>
                <a:ext cx="2345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411280" y="3789360"/>
                <a:ext cx="228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2484360" y="4797360"/>
                <a:ext cx="2602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987640" y="5445000"/>
                <a:ext cx="2827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4572000" y="6165720"/>
                <a:ext cx="70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372360" y="6191280"/>
                <a:ext cx="1920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56–15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705800" cy="470844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a logaritmická nerovnice; Exponenciální rovnice - logaritmová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ne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1844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rovnáváme-li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ři přechodu od základů mocnin k exponentům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258920" y="981000"/>
                <a:ext cx="2028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763640" y="1700280"/>
                <a:ext cx="1387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619280" y="4508640"/>
                <a:ext cx="1655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148360" y="692280"/>
                <a:ext cx="2435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979640" y="371628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651640" y="1916280"/>
                <a:ext cx="1928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651640" y="3068640"/>
                <a:ext cx="2268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72360" y="537372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6084720" y="5877000"/>
                <a:ext cx="1622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Text Box 18"/>
          <p:cNvSpPr/>
          <p:nvPr/>
        </p:nvSpPr>
        <p:spPr>
          <a:xfrm>
            <a:off x="2771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52472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2627280" y="184464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69236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411280" y="2349360"/>
            <a:ext cx="0" cy="129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643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164360" y="3284640"/>
            <a:ext cx="360360" cy="93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6360"/>
              <a:gd name="textAreaBottom" fmla="*/ 919080 h 936360"/>
            </a:gdLst>
            <a:ahLst/>
            <a:rect l="textAreaLeft" t="textAreaTop" r="textAreaRight" b="textAreaBottom"/>
            <a:pathLst>
              <a:path w="21600" h="56091">
                <a:moveTo>
                  <a:pt x="3600" y="0"/>
                </a:moveTo>
                <a:arcTo wR="3600" hR="3600" stAng="16200000" swAng="-5400000"/>
                <a:lnTo>
                  <a:pt x="0" y="52491"/>
                </a:lnTo>
                <a:arcTo wR="3600" hR="3600" stAng="10800000" swAng="-5400000"/>
                <a:lnTo>
                  <a:pt x="18000" y="56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804000" y="4005360"/>
            <a:ext cx="0" cy="1295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03400" y="563400"/>
                <a:ext cx="1700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547640" y="141300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476360" y="3141720"/>
                <a:ext cx="1425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92360" y="2276640"/>
                <a:ext cx="850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276720" y="549360"/>
                <a:ext cx="2155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708360" y="1484280"/>
                <a:ext cx="1852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635280" y="3933720"/>
                <a:ext cx="2122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995640" y="2276640"/>
                <a:ext cx="1244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4211640" y="2852640"/>
                <a:ext cx="1182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6443640" y="47628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6877080" y="1341360"/>
                <a:ext cx="1549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6732720" y="2205000"/>
                <a:ext cx="154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6732720" y="2997360"/>
                <a:ext cx="1579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6443640" y="3933720"/>
                <a:ext cx="252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6804000" y="5877000"/>
                <a:ext cx="163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35992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31"/>
          <p:cNvGrpSpPr/>
          <p:nvPr/>
        </p:nvGrpSpPr>
        <p:grpSpPr>
          <a:xfrm>
            <a:off x="6191280" y="4653000"/>
            <a:ext cx="2844720" cy="1003320"/>
            <a:chOff x="6191280" y="4653000"/>
            <a:chExt cx="2844720" cy="1003320"/>
          </a:xfrm>
        </p:grpSpPr>
        <p:sp>
          <p:nvSpPr>
            <p:cNvPr id="179" name="Line 10"/>
            <p:cNvSpPr/>
            <p:nvPr/>
          </p:nvSpPr>
          <p:spPr>
            <a:xfrm>
              <a:off x="6191280" y="5205240"/>
              <a:ext cx="28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793476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7866000" y="4653000"/>
              <a:ext cx="13716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717732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108920" y="4653000"/>
              <a:ext cx="13752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6971040" y="5371920"/>
                  <a:ext cx="3895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7845840" y="5381640"/>
                  <a:ext cx="206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7415280" y="479736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55956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49"/>
          <p:cNvSpPr/>
          <p:nvPr/>
        </p:nvSpPr>
        <p:spPr>
          <a:xfrm>
            <a:off x="7164360" y="4797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Skupina 110"/>
          <p:cNvGrpSpPr/>
          <p:nvPr/>
        </p:nvGrpSpPr>
        <p:grpSpPr>
          <a:xfrm>
            <a:off x="8388360" y="3716280"/>
            <a:ext cx="285840" cy="285840"/>
            <a:chOff x="8388360" y="3716280"/>
            <a:chExt cx="285840" cy="285840"/>
          </a:xfrm>
        </p:grpSpPr>
        <p:sp>
          <p:nvSpPr>
            <p:cNvPr id="190" name="Elipsa 109"/>
            <p:cNvSpPr/>
            <p:nvPr/>
          </p:nvSpPr>
          <p:spPr>
            <a:xfrm>
              <a:off x="8388360" y="371628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459640" y="3859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8531280" y="3787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50920" y="260280"/>
                <a:ext cx="2154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125960" y="620640"/>
                <a:ext cx="88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1547640" y="1268280"/>
                <a:ext cx="1671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908000" y="2276640"/>
                <a:ext cx="130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2124000" y="3357720"/>
                <a:ext cx="9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547640" y="4365720"/>
                <a:ext cx="1521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1476360" y="5445000"/>
                <a:ext cx="1582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Line 14"/>
          <p:cNvSpPr/>
          <p:nvPr/>
        </p:nvSpPr>
        <p:spPr>
          <a:xfrm>
            <a:off x="37800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49323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861080" y="4869000"/>
            <a:ext cx="14256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788000" y="566100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9"/>
              <p:cNvSpPr txBox="1"/>
              <p:nvPr/>
            </p:nvSpPr>
            <p:spPr>
              <a:xfrm>
                <a:off x="5437080" y="566100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20"/>
          <p:cNvSpPr/>
          <p:nvPr/>
        </p:nvSpPr>
        <p:spPr>
          <a:xfrm>
            <a:off x="55785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508720" y="486900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42847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5221440" y="5157360"/>
            <a:ext cx="144360" cy="142920"/>
            <a:chOff x="5221440" y="5157360"/>
            <a:chExt cx="144360" cy="142920"/>
          </a:xfrm>
        </p:grpSpPr>
        <p:sp>
          <p:nvSpPr>
            <p:cNvPr id="209" name="Line 23"/>
            <p:cNvSpPr/>
            <p:nvPr/>
          </p:nvSpPr>
          <p:spPr>
            <a:xfrm>
              <a:off x="5221440" y="522936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5292720" y="515736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Line 32"/>
          <p:cNvSpPr/>
          <p:nvPr/>
        </p:nvSpPr>
        <p:spPr>
          <a:xfrm>
            <a:off x="594036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580000" y="501336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852360" y="5013360"/>
            <a:ext cx="107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572000" y="1052640"/>
            <a:ext cx="360360" cy="3528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867280" y="5950080"/>
                <a:ext cx="3033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17" name="Skupina 212"/>
          <p:cNvGrpSpPr/>
          <p:nvPr/>
        </p:nvGrpSpPr>
        <p:grpSpPr>
          <a:xfrm>
            <a:off x="2556000" y="5445000"/>
            <a:ext cx="285480" cy="285840"/>
            <a:chOff x="2556000" y="5445000"/>
            <a:chExt cx="285480" cy="285840"/>
          </a:xfrm>
        </p:grpSpPr>
        <p:sp>
          <p:nvSpPr>
            <p:cNvPr id="218" name="Elipsa 213"/>
            <p:cNvSpPr/>
            <p:nvPr/>
          </p:nvSpPr>
          <p:spPr>
            <a:xfrm>
              <a:off x="2556000" y="544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2627280" y="558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122480" y="333360"/>
                <a:ext cx="2854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835280" y="1052640"/>
                <a:ext cx="2430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835280" y="2133720"/>
                <a:ext cx="218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835280" y="2852640"/>
                <a:ext cx="1974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762200" y="3500280"/>
                <a:ext cx="227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1546200" y="4221000"/>
                <a:ext cx="2489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4"/>
          <p:cNvSpPr/>
          <p:nvPr/>
        </p:nvSpPr>
        <p:spPr>
          <a:xfrm>
            <a:off x="15462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69892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62728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8"/>
              <p:cNvSpPr txBox="1"/>
              <p:nvPr/>
            </p:nvSpPr>
            <p:spPr>
              <a:xfrm>
                <a:off x="2554200" y="5732640"/>
                <a:ext cx="2034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9"/>
              <p:cNvSpPr txBox="1"/>
              <p:nvPr/>
            </p:nvSpPr>
            <p:spPr>
              <a:xfrm>
                <a:off x="3251160" y="5721480"/>
                <a:ext cx="182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20"/>
          <p:cNvSpPr/>
          <p:nvPr/>
        </p:nvSpPr>
        <p:spPr>
          <a:xfrm>
            <a:off x="33447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327492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3705120" y="5155920"/>
            <a:ext cx="144360" cy="142920"/>
            <a:chOff x="3705120" y="5155920"/>
            <a:chExt cx="144360" cy="142920"/>
          </a:xfrm>
        </p:grpSpPr>
        <p:sp>
          <p:nvSpPr>
            <p:cNvPr id="234" name="Line 23"/>
            <p:cNvSpPr/>
            <p:nvPr/>
          </p:nvSpPr>
          <p:spPr>
            <a:xfrm>
              <a:off x="370512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377676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Line 32"/>
          <p:cNvSpPr/>
          <p:nvPr/>
        </p:nvSpPr>
        <p:spPr>
          <a:xfrm>
            <a:off x="29131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2697120" y="5013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2120760" y="5155920"/>
            <a:ext cx="144360" cy="142920"/>
            <a:chOff x="2120760" y="5155920"/>
            <a:chExt cx="144360" cy="142920"/>
          </a:xfrm>
        </p:grpSpPr>
        <p:sp>
          <p:nvSpPr>
            <p:cNvPr id="239" name="Line 23"/>
            <p:cNvSpPr/>
            <p:nvPr/>
          </p:nvSpPr>
          <p:spPr>
            <a:xfrm>
              <a:off x="212076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 flipV="1">
              <a:off x="219240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3562200" y="6021360"/>
                <a:ext cx="13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22760" y="177840"/>
                <a:ext cx="224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170760" y="1270080"/>
                <a:ext cx="2006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629400" y="2500200"/>
                <a:ext cx="933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6804000" y="3357720"/>
                <a:ext cx="851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300720" y="4292640"/>
                <a:ext cx="25783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7" name="Skupina 212"/>
          <p:cNvGrpSpPr/>
          <p:nvPr/>
        </p:nvGrpSpPr>
        <p:grpSpPr>
          <a:xfrm>
            <a:off x="3492360" y="4076640"/>
            <a:ext cx="285840" cy="285840"/>
            <a:chOff x="3492360" y="4076640"/>
            <a:chExt cx="285840" cy="285840"/>
          </a:xfrm>
        </p:grpSpPr>
        <p:sp>
          <p:nvSpPr>
            <p:cNvPr id="248" name="Elipsa 213"/>
            <p:cNvSpPr/>
            <p:nvPr/>
          </p:nvSpPr>
          <p:spPr>
            <a:xfrm>
              <a:off x="3492360" y="4076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3563640" y="4219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332000" y="333360"/>
                <a:ext cx="1687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332000" y="1413000"/>
                <a:ext cx="1854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332000" y="2565360"/>
                <a:ext cx="2414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332000" y="4076640"/>
                <a:ext cx="175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332000" y="5084640"/>
                <a:ext cx="218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5364000" y="549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364000" y="1413000"/>
                <a:ext cx="21052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5364000" y="2781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364000" y="4221000"/>
                <a:ext cx="1690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5364000" y="5516640"/>
                <a:ext cx="3318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Logaritmické nerovni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16000" y="1628640"/>
            <a:ext cx="802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Monotónnost logaritmické funkce je stejná jako monotónnost funkce exponenciální a tudíž platí obdobná pravidl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dlogaritmováním nerovnice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41:31Z</dcterms:modified>
  <cp:revision>322</cp:revision>
  <dc:subject/>
  <dc:title>FCE</dc:title>
</cp:coreProperties>
</file>