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20A5-35F5-4013-B8A3-7B6E970A277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CD2D-126E-4227-B83A-2086B2607C3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4B49-EA2E-4135-87F2-C8F730BC4D5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2461-343A-4760-A570-4CB81B01539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9A51-B229-41EF-B1BA-9ADF73E14B5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CE6B-8052-4026-924A-2569CB2A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4DAD-CED8-482E-B5D7-8CCB73ED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9FB-D268-4136-BE0A-5298A469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D9C-335F-419D-B163-62C98331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901C-59DD-43AE-A14D-ABEBF58F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1CBD-DE77-4AFA-9F02-6F5A67B2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5D24-E9C2-4C35-ACAE-16DCCD17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E3C7-72CF-4C61-B3D1-457CAD3D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5B61-E0BB-4E01-8459-CBAB9994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D77F-2AD3-4651-9640-D83EC4AF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3E0B-586D-4664-BF2F-720C1E39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15D2-9E76-4AD7-81FF-CCFAEDD6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3C41-0422-4383-9ACA-706A76A0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1F8A-5C09-40B3-A309-8AE8A9A0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979A-CC35-4EC2-A4B3-BDA4BAE3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3021-1840-4F29-B900-34E2D523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176A-CC8D-4CD9-AD5A-16B4641E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6290-D433-433A-A365-B9A98C52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F35-3B92-4CB9-8125-8CF9DBE4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68E4-3B52-4AB3-B4BA-AAB3F423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6698-CAC6-4102-836D-61F29015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1B2-0CF2-4EFF-8B1A-011C90C9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5C99-3EB6-4E2D-A484-AD287979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4D1A-EC6F-4309-9438-10C9E31A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37AA-2A1C-4339-95D2-C30CCFF1F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63B8-D46E-4402-A727-D6A362ADE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7229520" y="1844640"/>
            <a:ext cx="1584360" cy="720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971640" y="333360"/>
                <a:ext cx="50673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8308800" y="2276640"/>
            <a:ext cx="3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04080" y="693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29160" y="1844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7215120" y="142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81352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3096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8928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8308800" y="1916280"/>
                <a:ext cx="3654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300800" y="549360"/>
                <a:ext cx="5065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300800" y="2781360"/>
                <a:ext cx="5493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716440" y="1916280"/>
                <a:ext cx="5493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961920" y="3502080"/>
                <a:ext cx="47674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33" name=""/>
          <p:cNvGrpSpPr/>
          <p:nvPr/>
        </p:nvGrpSpPr>
        <p:grpSpPr>
          <a:xfrm>
            <a:off x="8237160" y="2276640"/>
            <a:ext cx="144720" cy="142560"/>
            <a:chOff x="8237160" y="2276640"/>
            <a:chExt cx="144720" cy="142560"/>
          </a:xfrm>
        </p:grpSpPr>
        <p:sp>
          <p:nvSpPr>
            <p:cNvPr id="334" name=""/>
            <p:cNvSpPr/>
            <p:nvPr/>
          </p:nvSpPr>
          <p:spPr>
            <a:xfrm>
              <a:off x="8237520" y="227664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8237160" y="227664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724800" y="627840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16680" y="4122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42120" y="5273640"/>
            <a:ext cx="35985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7227360" y="3571560"/>
            <a:ext cx="1620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26120" y="5202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243560" y="520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2916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8381880" y="5373720"/>
                <a:ext cx="2415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7286760" y="6165720"/>
                <a:ext cx="4046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5789520" y="5373720"/>
                <a:ext cx="405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46" name=""/>
          <p:cNvGrpSpPr/>
          <p:nvPr/>
        </p:nvGrpSpPr>
        <p:grpSpPr>
          <a:xfrm>
            <a:off x="7157880" y="6381720"/>
            <a:ext cx="144720" cy="142920"/>
            <a:chOff x="7157880" y="6381720"/>
            <a:chExt cx="144720" cy="142920"/>
          </a:xfrm>
        </p:grpSpPr>
        <p:sp>
          <p:nvSpPr>
            <p:cNvPr id="347" name=""/>
            <p:cNvSpPr/>
            <p:nvPr/>
          </p:nvSpPr>
          <p:spPr>
            <a:xfrm>
              <a:off x="7157880" y="6381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7157880" y="6381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6437160" y="1055520"/>
            <a:ext cx="1585800" cy="156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512" y="15525"/>
                </a:moveTo>
                <a:arcTo wR="10800" hR="10800" stAng="1556655" swAng="20002691"/>
                <a:lnTo>
                  <a:pt x="10800" y="10800"/>
                </a:lnTo>
                <a:close/>
              </a:path>
              <a:path fill="none" w="21600" h="21600">
                <a:moveTo>
                  <a:pt x="20512" y="15525"/>
                </a:moveTo>
                <a:arcTo wR="10800" hR="10800" stAng="1556655" swAng="20002691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581880" y="1700280"/>
                <a:ext cx="5601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6367320" y="4440240"/>
            <a:ext cx="1776240" cy="1645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24" y="21596"/>
                </a:moveTo>
                <a:arcTo wR="10800" hR="10800" stAng="5487855" swAng="16071491"/>
                <a:lnTo>
                  <a:pt x="10800" y="10800"/>
                </a:lnTo>
                <a:close/>
              </a:path>
              <a:path fill="none" w="21600" h="21600">
                <a:moveTo>
                  <a:pt x="10524" y="21596"/>
                </a:moveTo>
                <a:arcTo wR="10800" hR="10800" stAng="5487855" swAng="16071491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581880" y="5084640"/>
                <a:ext cx="5619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7373880" y="3860640"/>
                <a:ext cx="241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 flipH="1" flipV="1">
            <a:off x="6508800" y="549360"/>
            <a:ext cx="720720" cy="1295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7229520" y="3862080"/>
            <a:ext cx="1008000" cy="13669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971640" y="333360"/>
                <a:ext cx="52005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6581880" y="18900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04080" y="693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545080" y="1844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7215120" y="142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81352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23096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28928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8321760" y="1905120"/>
                <a:ext cx="2379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7386480" y="463680"/>
                <a:ext cx="2383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7300800" y="2768760"/>
                <a:ext cx="4762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788080" y="1905120"/>
                <a:ext cx="4762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971640" y="3789360"/>
                <a:ext cx="45338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41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41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9" name=""/>
          <p:cNvGrpSpPr/>
          <p:nvPr/>
        </p:nvGrpSpPr>
        <p:grpSpPr>
          <a:xfrm>
            <a:off x="6581520" y="765000"/>
            <a:ext cx="144720" cy="142920"/>
            <a:chOff x="6581520" y="765000"/>
            <a:chExt cx="144720" cy="142920"/>
          </a:xfrm>
        </p:grpSpPr>
        <p:sp>
          <p:nvSpPr>
            <p:cNvPr id="370" name=""/>
            <p:cNvSpPr/>
            <p:nvPr/>
          </p:nvSpPr>
          <p:spPr>
            <a:xfrm>
              <a:off x="6581880" y="765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581520" y="765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7732800" y="364500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16680" y="405144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45080" y="522936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7227360" y="3499920"/>
            <a:ext cx="1620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826120" y="5130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43560" y="513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229160" y="3357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8359920" y="5275440"/>
                <a:ext cx="183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326360" y="3875040"/>
                <a:ext cx="183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7340760" y="6138720"/>
                <a:ext cx="422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827680" y="5275440"/>
                <a:ext cx="422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3" name=""/>
          <p:cNvGrpSpPr/>
          <p:nvPr/>
        </p:nvGrpSpPr>
        <p:grpSpPr>
          <a:xfrm>
            <a:off x="7876800" y="4221000"/>
            <a:ext cx="144720" cy="142920"/>
            <a:chOff x="7876800" y="4221000"/>
            <a:chExt cx="144720" cy="142920"/>
          </a:xfrm>
        </p:grpSpPr>
        <p:sp>
          <p:nvSpPr>
            <p:cNvPr id="384" name=""/>
            <p:cNvSpPr/>
            <p:nvPr/>
          </p:nvSpPr>
          <p:spPr>
            <a:xfrm>
              <a:off x="7877160" y="4221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7876800" y="4221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6409080" y="1125360"/>
            <a:ext cx="1540800" cy="142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38" y="1058"/>
                </a:moveTo>
                <a:arcTo wR="10800" hR="10800" stAng="-6934561" swAng="6893907"/>
                <a:lnTo>
                  <a:pt x="10800" y="10800"/>
                </a:lnTo>
                <a:close/>
              </a:path>
              <a:path fill="none" w="21600" h="21600">
                <a:moveTo>
                  <a:pt x="6138" y="1058"/>
                </a:moveTo>
                <a:arcTo wR="10800" hR="10800" stAng="-6934561" swAng="6893907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7246800" y="1407960"/>
                <a:ext cx="540000" cy="3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6365880" y="4365360"/>
            <a:ext cx="1704600" cy="164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610" y="2418"/>
                </a:moveTo>
                <a:arcTo wR="10800" hR="10800" stAng="-3054528" swAng="3013874"/>
                <a:lnTo>
                  <a:pt x="10800" y="10800"/>
                </a:lnTo>
                <a:close/>
              </a:path>
              <a:path fill="none" w="21600" h="21600">
                <a:moveTo>
                  <a:pt x="17610" y="2418"/>
                </a:moveTo>
                <a:arcTo wR="10800" hR="10800" stAng="-3054528" swAng="3013874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7510320" y="4797360"/>
                <a:ext cx="4302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229520" y="1844640"/>
            <a:ext cx="1230120" cy="1152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6804000" y="5229360"/>
            <a:ext cx="425520" cy="1295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971640" y="404640"/>
                <a:ext cx="50403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8244000" y="227664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04080" y="693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45080" y="1844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7215120" y="142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81352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096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8928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8101080" y="1916280"/>
                <a:ext cx="662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7308720" y="404640"/>
                <a:ext cx="6620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7308720" y="2781360"/>
                <a:ext cx="9003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576760" y="1865160"/>
                <a:ext cx="90036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1116000" y="3789360"/>
                <a:ext cx="48736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980</m:t>
                    </m:r>
                    <m:r>
                      <m:t xml:space="preserve">°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980</m:t>
                    </m:r>
                    <m:r>
                      <m:t xml:space="preserve">°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05" name=""/>
          <p:cNvGrpSpPr/>
          <p:nvPr/>
        </p:nvGrpSpPr>
        <p:grpSpPr>
          <a:xfrm>
            <a:off x="8027640" y="2565360"/>
            <a:ext cx="144720" cy="142920"/>
            <a:chOff x="8027640" y="2565360"/>
            <a:chExt cx="144720" cy="142920"/>
          </a:xfrm>
        </p:grpSpPr>
        <p:sp>
          <p:nvSpPr>
            <p:cNvPr id="406" name=""/>
            <p:cNvSpPr/>
            <p:nvPr/>
          </p:nvSpPr>
          <p:spPr>
            <a:xfrm>
              <a:off x="8028000" y="2565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8027640" y="2565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6443640" y="6093000"/>
            <a:ext cx="3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16680" y="405144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545080" y="522936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7227360" y="3499920"/>
            <a:ext cx="1620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826120" y="5130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43560" y="513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229160" y="3357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8359920" y="5275440"/>
                <a:ext cx="183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7326360" y="3875040"/>
                <a:ext cx="183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7340760" y="6138720"/>
                <a:ext cx="422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827680" y="5275440"/>
                <a:ext cx="422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9" name=""/>
          <p:cNvGrpSpPr/>
          <p:nvPr/>
        </p:nvGrpSpPr>
        <p:grpSpPr>
          <a:xfrm>
            <a:off x="6803640" y="6237360"/>
            <a:ext cx="144720" cy="142920"/>
            <a:chOff x="6803640" y="6237360"/>
            <a:chExt cx="144720" cy="142920"/>
          </a:xfrm>
        </p:grpSpPr>
        <p:sp>
          <p:nvSpPr>
            <p:cNvPr id="420" name=""/>
            <p:cNvSpPr/>
            <p:nvPr/>
          </p:nvSpPr>
          <p:spPr>
            <a:xfrm>
              <a:off x="6804000" y="6237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803640" y="6237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410160" y="1125360"/>
            <a:ext cx="1541160" cy="142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484" y="18390"/>
                </a:moveTo>
                <a:arcTo wR="10800" hR="10800" stAng="2678890" swAng="18880456"/>
                <a:lnTo>
                  <a:pt x="10800" y="10800"/>
                </a:lnTo>
                <a:close/>
              </a:path>
              <a:path fill="none" w="21600" h="21600">
                <a:moveTo>
                  <a:pt x="18484" y="18390"/>
                </a:moveTo>
                <a:arcTo wR="10800" hR="10800" stAng="2678890" swAng="18880456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588000" y="1700280"/>
                <a:ext cx="5605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1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6365880" y="4367160"/>
            <a:ext cx="1704600" cy="164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17" y="21023"/>
                </a:moveTo>
                <a:arcTo wR="10800" hR="10800" stAng="6528932" swAng="15030414"/>
                <a:lnTo>
                  <a:pt x="10800" y="10800"/>
                </a:lnTo>
                <a:close/>
              </a:path>
              <a:path fill="none" w="21600" h="21600">
                <a:moveTo>
                  <a:pt x="7317" y="21023"/>
                </a:moveTo>
                <a:arcTo wR="10800" hR="10800" stAng="6528932" swAng="15030414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6659640" y="4797360"/>
                <a:ext cx="7538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0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773360"/>
          <a:ext cx="7416720" cy="395100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ázornění komplexních čísel pomocí charakteristik goniometrického tvar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fické znázornění komplexních čísel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5295960" cy="1295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58920" y="1989000"/>
            <a:ext cx="78850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Znázornění KČ pomocí charakteristik G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16000" y="18900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Znázorněte graficky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58920" y="836640"/>
                <a:ext cx="42670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1258920" y="198900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08000" y="2276640"/>
                <a:ext cx="10764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203640" y="2421000"/>
                <a:ext cx="1108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7588080" y="258588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2781360"/>
            <a:ext cx="3673800" cy="352908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32720" y="4005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45</a:t>
            </a:r>
            <a:r>
              <a:rPr b="0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63360" y="3649680"/>
            <a:ext cx="2021040" cy="182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588" y="2400"/>
                </a:moveTo>
                <a:arcTo wR="10800" hR="10800" stAng="-3063571" swAng="2749941"/>
                <a:lnTo>
                  <a:pt x="10800" y="10800"/>
                </a:lnTo>
                <a:close/>
              </a:path>
              <a:path fill="none" w="21600" h="21600">
                <a:moveTo>
                  <a:pt x="17588" y="2400"/>
                </a:moveTo>
                <a:arcTo wR="10800" hR="10800" stAng="-3063571" swAng="2749941"/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443640" y="2852640"/>
            <a:ext cx="1728720" cy="1656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667280" y="3213000"/>
            <a:ext cx="144720" cy="142920"/>
            <a:chOff x="7667280" y="3213000"/>
            <a:chExt cx="144720" cy="142920"/>
          </a:xfrm>
        </p:grpSpPr>
        <p:sp>
          <p:nvSpPr>
            <p:cNvPr id="153" name=""/>
            <p:cNvSpPr/>
            <p:nvPr/>
          </p:nvSpPr>
          <p:spPr>
            <a:xfrm>
              <a:off x="7667640" y="3213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7667280" y="321300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8172360" y="4581360"/>
            <a:ext cx="2890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18160" y="2565360"/>
            <a:ext cx="3589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16720" y="6021360"/>
            <a:ext cx="5443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57440" y="458136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49800" y="407844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 =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1700280"/>
            <a:ext cx="0" cy="720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0" y="1916280"/>
            <a:ext cx="215640" cy="576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067280" y="1844640"/>
            <a:ext cx="1009440" cy="6476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211640" y="2708280"/>
                <a:ext cx="1008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4" name=""/>
          <p:cNvGrpSpPr/>
          <p:nvPr/>
        </p:nvGrpSpPr>
        <p:grpSpPr>
          <a:xfrm>
            <a:off x="4356000" y="2060640"/>
            <a:ext cx="4637160" cy="4681080"/>
            <a:chOff x="4356000" y="2060640"/>
            <a:chExt cx="4637160" cy="4681080"/>
          </a:xfrm>
        </p:grpSpPr>
        <p:sp>
          <p:nvSpPr>
            <p:cNvPr id="165" name=""/>
            <p:cNvSpPr/>
            <p:nvPr/>
          </p:nvSpPr>
          <p:spPr>
            <a:xfrm>
              <a:off x="4356000" y="4510080"/>
              <a:ext cx="4535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6443640" y="2204640"/>
              <a:ext cx="0" cy="4537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676720" y="44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44720" y="443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4472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 flipH="1">
            <a:off x="4642920" y="4510080"/>
            <a:ext cx="180036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258920" y="260280"/>
                <a:ext cx="50673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258920" y="148608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692360" y="1773360"/>
                <a:ext cx="13669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763640" y="2637000"/>
                <a:ext cx="130032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4717800" y="501336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2421000"/>
            <a:ext cx="3673800" cy="3529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72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1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31680" y="3070080"/>
            <a:ext cx="2053440" cy="22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" y="9669"/>
                </a:moveTo>
                <a:arcTo wR="10800" hR="10800" stAng="-10439254" swAng="10216813"/>
                <a:lnTo>
                  <a:pt x="10800" y="10800"/>
                </a:lnTo>
                <a:close/>
              </a:path>
              <a:path fill="none" w="21600" h="21600">
                <a:moveTo>
                  <a:pt x="59" y="9669"/>
                </a:moveTo>
                <a:arcTo wR="10800" hR="10800" stAng="-10439254" swAng="10216813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355640" y="4148280"/>
            <a:ext cx="2087640" cy="1296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858920" y="5013360"/>
            <a:ext cx="144720" cy="142920"/>
            <a:chOff x="4858920" y="5013360"/>
            <a:chExt cx="144720" cy="142920"/>
          </a:xfrm>
        </p:grpSpPr>
        <p:sp>
          <p:nvSpPr>
            <p:cNvPr id="181" name=""/>
            <p:cNvSpPr/>
            <p:nvPr/>
          </p:nvSpPr>
          <p:spPr>
            <a:xfrm>
              <a:off x="4859280" y="5013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858920" y="5013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356000" y="1700280"/>
            <a:ext cx="4637160" cy="4681080"/>
            <a:chOff x="4356000" y="1700280"/>
            <a:chExt cx="4637160" cy="4681080"/>
          </a:xfrm>
        </p:grpSpPr>
        <p:sp>
          <p:nvSpPr>
            <p:cNvPr id="184" name=""/>
            <p:cNvSpPr/>
            <p:nvPr/>
          </p:nvSpPr>
          <p:spPr>
            <a:xfrm>
              <a:off x="4356000" y="4149720"/>
              <a:ext cx="4535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443640" y="1844280"/>
              <a:ext cx="0" cy="4537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67672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44720" y="4076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4472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4642920" y="4149720"/>
            <a:ext cx="1800360" cy="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059280" y="1916280"/>
                <a:ext cx="8665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,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059280" y="2924280"/>
                <a:ext cx="1199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8028000" y="4221000"/>
                <a:ext cx="5032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516720" y="2205000"/>
                <a:ext cx="5032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516720" y="5661000"/>
                <a:ext cx="7412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284720" y="4221000"/>
                <a:ext cx="7412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859280" y="3645000"/>
                <a:ext cx="936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 flipH="1" flipV="1">
            <a:off x="5431680" y="2997360"/>
            <a:ext cx="2052720" cy="21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76" y="5104"/>
                </a:moveTo>
                <a:arcTo wR="10800" hR="10800" stAng="-1909853" swAng="1596224"/>
                <a:lnTo>
                  <a:pt x="10800" y="10800"/>
                </a:lnTo>
                <a:close/>
              </a:path>
              <a:path fill="none" w="21600" h="21600">
                <a:moveTo>
                  <a:pt x="19976" y="5104"/>
                </a:moveTo>
                <a:arcTo wR="10800" hR="10800" stAng="-1909853" swAng="1596224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8920" y="148608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547640" y="1628640"/>
                <a:ext cx="11336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619280" y="2781360"/>
                <a:ext cx="20001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222880" y="227808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709720"/>
            <a:ext cx="3673440" cy="3529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0720" y="37180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25,4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19280" y="3213000"/>
            <a:ext cx="2382120" cy="25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51" y="2212"/>
                </a:moveTo>
                <a:arcTo wR="10800" hR="10800" stAng="-7639634" swAng="7417193"/>
                <a:lnTo>
                  <a:pt x="10800" y="10800"/>
                </a:lnTo>
                <a:close/>
              </a:path>
              <a:path fill="none" w="21600" h="21600">
                <a:moveTo>
                  <a:pt x="4251" y="2212"/>
                </a:moveTo>
                <a:arcTo wR="10800" hR="10800" stAng="-7639634" swAng="7417193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005080" y="2493720"/>
            <a:ext cx="1366920" cy="19429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292360" y="2925720"/>
            <a:ext cx="144720" cy="142920"/>
            <a:chOff x="5292360" y="2925720"/>
            <a:chExt cx="144720" cy="142920"/>
          </a:xfrm>
        </p:grpSpPr>
        <p:sp>
          <p:nvSpPr>
            <p:cNvPr id="207" name=""/>
            <p:cNvSpPr/>
            <p:nvPr/>
          </p:nvSpPr>
          <p:spPr>
            <a:xfrm>
              <a:off x="5292720" y="292572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292360" y="292572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284720" y="1989000"/>
            <a:ext cx="4637160" cy="4681080"/>
            <a:chOff x="4284720" y="1989000"/>
            <a:chExt cx="4637160" cy="4681080"/>
          </a:xfrm>
        </p:grpSpPr>
        <p:sp>
          <p:nvSpPr>
            <p:cNvPr id="210" name=""/>
            <p:cNvSpPr/>
            <p:nvPr/>
          </p:nvSpPr>
          <p:spPr>
            <a:xfrm>
              <a:off x="4284720" y="4438440"/>
              <a:ext cx="4535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372360" y="2133000"/>
              <a:ext cx="0" cy="4537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605440" y="436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73440" y="436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73440" y="19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698920" y="1916280"/>
                <a:ext cx="1008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564000" y="2781360"/>
                <a:ext cx="14666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8029440" y="4510080"/>
                <a:ext cx="3175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516720" y="2349360"/>
                <a:ext cx="3175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445080" y="5805360"/>
                <a:ext cx="55584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284720" y="4510080"/>
                <a:ext cx="557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187280" y="318960"/>
                <a:ext cx="61214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°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°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022400" y="260280"/>
                <a:ext cx="4860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403280" y="1916280"/>
                <a:ext cx="966960" cy="66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403280" y="2708280"/>
                <a:ext cx="1567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835280" y="907920"/>
                <a:ext cx="4167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5940360" y="260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60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59280" y="260280"/>
            <a:ext cx="1079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71640" y="260280"/>
            <a:ext cx="10083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26160" y="537372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2421000"/>
            <a:ext cx="3673800" cy="3529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08720" y="4149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00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31680" y="3071880"/>
            <a:ext cx="2053440" cy="22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0323"/>
                </a:moveTo>
                <a:arcTo wR="10800" hR="10800" stAng="-10648022" swAng="10425580"/>
                <a:lnTo>
                  <a:pt x="10800" y="10800"/>
                </a:lnTo>
                <a:close/>
              </a:path>
              <a:path fill="none" w="21600" h="21600">
                <a:moveTo>
                  <a:pt x="11" y="10323"/>
                </a:moveTo>
                <a:arcTo wR="10800" hR="10800" stAng="-10648022" swAng="10425580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43640" y="4148280"/>
            <a:ext cx="1297080" cy="22334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308720" y="5661000"/>
            <a:ext cx="144720" cy="142920"/>
            <a:chOff x="7308720" y="5661000"/>
            <a:chExt cx="144720" cy="142920"/>
          </a:xfrm>
        </p:grpSpPr>
        <p:sp>
          <p:nvSpPr>
            <p:cNvPr id="235" name=""/>
            <p:cNvSpPr/>
            <p:nvPr/>
          </p:nvSpPr>
          <p:spPr>
            <a:xfrm>
              <a:off x="7308720" y="566100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7308720" y="566100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356000" y="1700280"/>
            <a:ext cx="4637160" cy="4681080"/>
            <a:chOff x="4356000" y="1700280"/>
            <a:chExt cx="4637160" cy="4681080"/>
          </a:xfrm>
        </p:grpSpPr>
        <p:sp>
          <p:nvSpPr>
            <p:cNvPr id="238" name=""/>
            <p:cNvSpPr/>
            <p:nvPr/>
          </p:nvSpPr>
          <p:spPr>
            <a:xfrm>
              <a:off x="4356000" y="4149720"/>
              <a:ext cx="4535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6443640" y="1844280"/>
              <a:ext cx="0" cy="4537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7672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44720" y="4076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4472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 flipH="1" flipV="1">
            <a:off x="5432400" y="2999520"/>
            <a:ext cx="2052360" cy="21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19" y="1166"/>
                </a:moveTo>
                <a:arcTo wR="10800" hR="10800" stAng="-7011973" swAng="6698343"/>
                <a:lnTo>
                  <a:pt x="10800" y="10800"/>
                </a:lnTo>
                <a:close/>
              </a:path>
              <a:path fill="none" w="21600" h="21600">
                <a:moveTo>
                  <a:pt x="5919" y="1166"/>
                </a:moveTo>
                <a:arcTo wR="10800" hR="10800" stAng="-7011973" swAng="6698343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58920" y="1486080"/>
            <a:ext cx="788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72360" y="4221000"/>
            <a:ext cx="2890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18160" y="2205000"/>
            <a:ext cx="3589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16720" y="5661000"/>
            <a:ext cx="5443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57440" y="422100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 flipH="1">
            <a:off x="5651640" y="5300640"/>
            <a:ext cx="1296720" cy="1152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042920" y="333360"/>
                <a:ext cx="41673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6588000" y="144360"/>
            <a:ext cx="3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22920" y="693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48360" y="1844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6934320" y="142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53236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4980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48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8028000" y="1917720"/>
                <a:ext cx="26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7093080" y="476280"/>
                <a:ext cx="26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020000" y="2781360"/>
                <a:ext cx="476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506920" y="1917720"/>
                <a:ext cx="476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042920" y="3500280"/>
                <a:ext cx="453384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63" name=""/>
          <p:cNvGrpSpPr/>
          <p:nvPr/>
        </p:nvGrpSpPr>
        <p:grpSpPr>
          <a:xfrm>
            <a:off x="6875280" y="620640"/>
            <a:ext cx="144720" cy="142920"/>
            <a:chOff x="6875280" y="620640"/>
            <a:chExt cx="144720" cy="142920"/>
          </a:xfrm>
        </p:grpSpPr>
        <p:sp>
          <p:nvSpPr>
            <p:cNvPr id="264" name=""/>
            <p:cNvSpPr/>
            <p:nvPr/>
          </p:nvSpPr>
          <p:spPr>
            <a:xfrm>
              <a:off x="6875640" y="620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875280" y="6206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651640" y="573408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35520" y="4122720"/>
            <a:ext cx="244980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60960" y="5273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6946920" y="3571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544960" y="5202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2760" y="520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4800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8053560" y="5334120"/>
                <a:ext cx="2365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7020000" y="3933720"/>
                <a:ext cx="2365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7032600" y="6197760"/>
                <a:ext cx="4762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519880" y="5334120"/>
                <a:ext cx="4762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7" name=""/>
          <p:cNvGrpSpPr/>
          <p:nvPr/>
        </p:nvGrpSpPr>
        <p:grpSpPr>
          <a:xfrm>
            <a:off x="6011640" y="6021360"/>
            <a:ext cx="144720" cy="142920"/>
            <a:chOff x="6011640" y="6021360"/>
            <a:chExt cx="144720" cy="142920"/>
          </a:xfrm>
        </p:grpSpPr>
        <p:sp>
          <p:nvSpPr>
            <p:cNvPr id="278" name=""/>
            <p:cNvSpPr/>
            <p:nvPr/>
          </p:nvSpPr>
          <p:spPr>
            <a:xfrm>
              <a:off x="6012000" y="6021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011640" y="6021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964120" y="1052640"/>
            <a:ext cx="1704600" cy="156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751" y="178"/>
                </a:moveTo>
                <a:arcTo wR="10800" hR="10800" stAng="-4775587" swAng="4734933"/>
                <a:lnTo>
                  <a:pt x="10800" y="10800"/>
                </a:lnTo>
                <a:close/>
              </a:path>
              <a:path fill="none" w="21600" h="21600">
                <a:moveTo>
                  <a:pt x="12751" y="178"/>
                </a:moveTo>
                <a:arcTo wR="10800" hR="10800" stAng="-4775587" swAng="4734933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020000" y="1407960"/>
                <a:ext cx="431640" cy="3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6084720" y="4437000"/>
            <a:ext cx="1704960" cy="164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41" y="18313"/>
                </a:moveTo>
                <a:arcTo wR="10800" hR="10800" stAng="8155378" swAng="13403968"/>
                <a:lnTo>
                  <a:pt x="10800" y="10800"/>
                </a:lnTo>
                <a:close/>
              </a:path>
              <a:path fill="none" w="21600" h="21600">
                <a:moveTo>
                  <a:pt x="3041" y="18313"/>
                </a:moveTo>
                <a:arcTo wR="10800" hR="10800" stAng="8155378" swAng="13403968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6380280" y="4797360"/>
                <a:ext cx="5601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 flipH="1" flipV="1">
            <a:off x="5435640" y="1125360"/>
            <a:ext cx="1512720" cy="719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042920" y="404640"/>
                <a:ext cx="38005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5651640" y="692280"/>
            <a:ext cx="3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22920" y="693720"/>
            <a:ext cx="244944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48360" y="1844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6934320" y="142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53236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4980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0848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8067600" y="1917720"/>
                <a:ext cx="184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020000" y="476280"/>
                <a:ext cx="255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047000" y="2781360"/>
                <a:ext cx="422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533920" y="1917720"/>
                <a:ext cx="422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16000" y="3573360"/>
                <a:ext cx="333360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8" name=""/>
          <p:cNvGrpSpPr/>
          <p:nvPr/>
        </p:nvGrpSpPr>
        <p:grpSpPr>
          <a:xfrm>
            <a:off x="5795640" y="1268280"/>
            <a:ext cx="144720" cy="142920"/>
            <a:chOff x="5795640" y="1268280"/>
            <a:chExt cx="144720" cy="142920"/>
          </a:xfrm>
        </p:grpSpPr>
        <p:sp>
          <p:nvSpPr>
            <p:cNvPr id="299" name=""/>
            <p:cNvSpPr/>
            <p:nvPr/>
          </p:nvSpPr>
          <p:spPr>
            <a:xfrm>
              <a:off x="5796000" y="126828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795640" y="126828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364000" y="4724280"/>
            <a:ext cx="3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35520" y="4122720"/>
            <a:ext cx="2449800" cy="230508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60960" y="5273640"/>
            <a:ext cx="35989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6946920" y="3571560"/>
            <a:ext cx="158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544960" y="5202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62760" y="520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4800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8101080" y="5373720"/>
                <a:ext cx="2412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005600" y="6165720"/>
                <a:ext cx="405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508720" y="5373720"/>
                <a:ext cx="4046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1" name=""/>
          <p:cNvGrpSpPr/>
          <p:nvPr/>
        </p:nvGrpSpPr>
        <p:grpSpPr>
          <a:xfrm>
            <a:off x="5651280" y="5229360"/>
            <a:ext cx="144720" cy="142920"/>
            <a:chOff x="5651280" y="5229360"/>
            <a:chExt cx="144720" cy="142920"/>
          </a:xfrm>
        </p:grpSpPr>
        <p:sp>
          <p:nvSpPr>
            <p:cNvPr id="312" name=""/>
            <p:cNvSpPr/>
            <p:nvPr/>
          </p:nvSpPr>
          <p:spPr>
            <a:xfrm>
              <a:off x="5651640" y="5229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5651280" y="5229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034320" y="1054080"/>
            <a:ext cx="1706040" cy="156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" y="5690"/>
                </a:moveTo>
                <a:arcTo wR="10800" hR="10800" stAng="-9105538" swAng="9064884"/>
                <a:lnTo>
                  <a:pt x="10800" y="10800"/>
                </a:lnTo>
                <a:close/>
              </a:path>
              <a:path fill="none" w="21600" h="21600">
                <a:moveTo>
                  <a:pt x="1286" y="5690"/>
                </a:moveTo>
                <a:arcTo wR="10800" hR="10800" stAng="-9105538" swAng="9064884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659640" y="1268280"/>
                <a:ext cx="5396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6084360" y="4437000"/>
            <a:ext cx="1776600" cy="164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" y="10446"/>
                </a:moveTo>
                <a:arcTo wR="10800" hR="10800" stAng="-10687143" swAng="10646489"/>
                <a:lnTo>
                  <a:pt x="10800" y="10800"/>
                </a:lnTo>
                <a:close/>
              </a:path>
              <a:path fill="none" w="21600" h="21600">
                <a:moveTo>
                  <a:pt x="6" y="10446"/>
                </a:moveTo>
                <a:arcTo wR="10800" hR="10800" stAng="-10687143" swAng="10646489"/>
              </a:path>
            </a:pathLst>
          </a:custGeom>
          <a:noFill/>
          <a:ln w="28440">
            <a:solidFill>
              <a:srgbClr val="dddddd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89640" y="4797360"/>
                <a:ext cx="5396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7093080" y="3860640"/>
                <a:ext cx="241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4:29Z</dcterms:modified>
  <cp:revision>295</cp:revision>
  <dc:subject/>
  <dc:title>KČ</dc:title>
</cp:coreProperties>
</file>