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2BEB-FD0D-4663-A119-EFEAA175AA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C7E8-0220-4433-B3EB-FC472D62EA2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FA41-06C1-4037-8DF7-13C207BFEBC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FEB3-D775-417E-881E-F64D9C6AF86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74CD-4DF6-45BB-B84E-252EB30744D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8A2-B2AE-4118-8C0C-7024A826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5E5-57D3-458D-9967-30F4442B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1A2-DE8C-42A0-BCA4-880C6051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537-4F47-40CC-92FB-7D8ECB3C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8E2B-9B94-427D-9550-E62B2110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4265-5E16-4E7B-B40B-8271C2B8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8AFC-2600-423C-80D3-9BA8C767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BB33-DA48-4311-BC8A-861AD24B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FD89-4793-414C-B1B8-502E061D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9E6D-B2A9-4462-B89B-4F8563DC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722B-DDC8-422B-87E6-D5CB0C18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9D7-F614-4BF4-A249-DAE832DE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C67E-5EF5-4CFF-B9FE-732A5581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F1AD-2931-4C09-B05C-D109284C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987B-51C5-425F-9C43-A8024881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62FE-1F21-411C-B648-0F63546F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A0FA-95C7-4F92-AFD4-3E22891A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6E60-590F-40E4-959B-9CA0865D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C17-6325-4C64-AE70-308150B0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1A2-ECD3-445F-BE9D-AFF346A3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EA9-B031-499D-ACA6-2816008E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DC1-2561-4E21-B1A8-93E4967D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323-4913-44C0-B70A-25624F0C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D4D-1DFF-4827-8143-9C41C4A5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FAD0-2226-4665-844E-86C30EDE8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7E1A-95BA-43E1-8201-A4843CC10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187280" y="836640"/>
                <a:ext cx="15242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16000" y="18900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Řešení rovnice v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763640" y="1555920"/>
                <a:ext cx="10461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917960" y="1555920"/>
                <a:ext cx="11066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356000" y="836640"/>
                <a:ext cx="15843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27280" y="2421000"/>
                <a:ext cx="5140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150920" y="3500280"/>
                <a:ext cx="7813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116000" y="4726080"/>
                <a:ext cx="78138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187280" y="6021360"/>
                <a:ext cx="7677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2484360" y="1627200"/>
            <a:ext cx="3598920" cy="749520"/>
            <a:chOff x="2484360" y="1627200"/>
            <a:chExt cx="3598920" cy="749520"/>
          </a:xfrm>
        </p:grpSpPr>
        <p:sp>
          <p:nvSpPr>
            <p:cNvPr id="257" name=""/>
            <p:cNvSpPr/>
            <p:nvPr/>
          </p:nvSpPr>
          <p:spPr>
            <a:xfrm>
              <a:off x="2484360" y="1627200"/>
              <a:ext cx="358560" cy="50472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51280" y="1700280"/>
              <a:ext cx="432000" cy="43020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7" idx="5"/>
              <a:endCxn id="258" idx="3"/>
            </p:cNvCxnSpPr>
            <p:nvPr/>
          </p:nvCxnSpPr>
          <p:spPr>
            <a:xfrm flipH="1" rot="16200000">
              <a:off x="4247640" y="618840"/>
              <a:ext cx="10440" cy="2924640"/>
            </a:xfrm>
            <a:prstGeom prst="curvedConnector5">
              <a:avLst>
                <a:gd name="adj1" fmla="val 2982142"/>
                <a:gd name="adj2" fmla="val 49993"/>
                <a:gd name="adj3" fmla="val 2982142"/>
              </a:avLst>
            </a:prstGeom>
            <a:ln w="2844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60" name=""/>
          <p:cNvGrpSpPr/>
          <p:nvPr/>
        </p:nvGrpSpPr>
        <p:grpSpPr>
          <a:xfrm>
            <a:off x="1908000" y="1184760"/>
            <a:ext cx="3454200" cy="731160"/>
            <a:chOff x="1908000" y="1184760"/>
            <a:chExt cx="3454200" cy="731160"/>
          </a:xfrm>
        </p:grpSpPr>
        <p:sp>
          <p:nvSpPr>
            <p:cNvPr id="261" name=""/>
            <p:cNvSpPr/>
            <p:nvPr/>
          </p:nvSpPr>
          <p:spPr>
            <a:xfrm>
              <a:off x="1908000" y="1555920"/>
              <a:ext cx="287280" cy="36000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74920" y="1555920"/>
              <a:ext cx="287280" cy="36000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1" idx="7"/>
              <a:endCxn id="262" idx="1"/>
            </p:cNvCxnSpPr>
            <p:nvPr/>
          </p:nvCxnSpPr>
          <p:spPr>
            <a:xfrm flipH="1" rot="16200000">
              <a:off x="3633840" y="103680"/>
              <a:ext cx="2880" cy="2966040"/>
            </a:xfrm>
            <a:prstGeom prst="curvedConnector5">
              <a:avLst>
                <a:gd name="adj1" fmla="val -15900000"/>
                <a:gd name="adj2" fmla="val 50000"/>
                <a:gd name="adj3" fmla="val -15900000"/>
              </a:avLst>
            </a:prstGeom>
            <a:ln w="284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7678800" y="2519280"/>
                <a:ext cx="10764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7812000" y="2997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zor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17800" y="4749840"/>
            <a:ext cx="1150920" cy="865080"/>
          </a:xfrm>
          <a:custGeom>
            <a:avLst/>
            <a:gdLst/>
            <a:ahLst/>
            <a:rect l="l" t="t" r="r" b="b"/>
            <a:pathLst>
              <a:path w="664" h="476">
                <a:moveTo>
                  <a:pt x="45" y="38"/>
                </a:moveTo>
                <a:cubicBezTo>
                  <a:pt x="7" y="61"/>
                  <a:pt x="0" y="136"/>
                  <a:pt x="45" y="174"/>
                </a:cubicBezTo>
                <a:cubicBezTo>
                  <a:pt x="90" y="212"/>
                  <a:pt x="257" y="220"/>
                  <a:pt x="317" y="265"/>
                </a:cubicBezTo>
                <a:cubicBezTo>
                  <a:pt x="377" y="310"/>
                  <a:pt x="355" y="416"/>
                  <a:pt x="408" y="446"/>
                </a:cubicBezTo>
                <a:cubicBezTo>
                  <a:pt x="461" y="476"/>
                  <a:pt x="604" y="476"/>
                  <a:pt x="634" y="446"/>
                </a:cubicBezTo>
                <a:cubicBezTo>
                  <a:pt x="664" y="416"/>
                  <a:pt x="642" y="303"/>
                  <a:pt x="589" y="265"/>
                </a:cubicBezTo>
                <a:cubicBezTo>
                  <a:pt x="536" y="227"/>
                  <a:pt x="370" y="258"/>
                  <a:pt x="317" y="220"/>
                </a:cubicBezTo>
                <a:cubicBezTo>
                  <a:pt x="264" y="182"/>
                  <a:pt x="317" y="76"/>
                  <a:pt x="272" y="38"/>
                </a:cubicBezTo>
                <a:cubicBezTo>
                  <a:pt x="227" y="0"/>
                  <a:pt x="83" y="15"/>
                  <a:pt x="45" y="38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52960" y="4654440"/>
            <a:ext cx="1536480" cy="115092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2844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356000" y="1341360"/>
                <a:ext cx="19573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300720" y="1341360"/>
                <a:ext cx="5828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076720" y="2637000"/>
                <a:ext cx="23878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7451640" y="2924280"/>
                <a:ext cx="1506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148360" y="4365720"/>
                <a:ext cx="254952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667640" y="4653000"/>
                <a:ext cx="1479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1042920" y="5734080"/>
            <a:ext cx="8101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buClr>
                <a:srgbClr val="0099cc"/>
              </a:buClr>
              <a:buSzPct val="150000"/>
              <a:buFont typeface="Wingdings" charset="2"/>
              <a:buChar char="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Vycházeli jsme z AT (zadání rovnice), tudíž výsledky x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opět převedeme z GT na A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69228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73440" y="8366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06640" y="1341360"/>
            <a:ext cx="328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73440" y="24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05560" y="292428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73440" y="4149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05560" y="465444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cos24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in24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8840" y="115920"/>
            <a:ext cx="791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os(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in(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0, 1,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66720" y="83664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3000" y="83664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66720" y="2421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2280" y="242100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66720" y="41497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2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82280" y="41497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24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16000" y="981000"/>
            <a:ext cx="8028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Závě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V oboru komplexních čísel jsme nalezli všechny tři kořeny zadané rovnice: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rvní z kořenů je reálný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alší dva imaginár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0000" y="189000"/>
            <a:ext cx="82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Znázornění kořenů  </a:t>
            </a: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ccec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v Gaussově rovině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141300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635280" y="4437000"/>
                <a:ext cx="7923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716360" y="4869000"/>
                <a:ext cx="7938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932360" y="3645000"/>
                <a:ext cx="7938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4005360"/>
                <a:ext cx="7095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1116000" y="436572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716360" y="1458720"/>
            <a:ext cx="0" cy="53989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02920" y="42400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51280" y="431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59880" y="3645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84360" y="2133720"/>
            <a:ext cx="446400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203640" y="1844640"/>
            <a:ext cx="1512720" cy="24940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484360" y="436572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268360" y="4437000"/>
                <a:ext cx="503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 flipH="1" flipV="1" rot="10800000">
            <a:off x="3023280" y="2711880"/>
            <a:ext cx="3323880" cy="325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13" y="1327"/>
                </a:moveTo>
                <a:arcTo wR="10800" hR="10800" stAng="-7122267" swAng="7169642"/>
                <a:lnTo>
                  <a:pt x="10800" y="10800"/>
                </a:lnTo>
                <a:close/>
              </a:path>
              <a:path fill="none" w="21600" h="21600">
                <a:moveTo>
                  <a:pt x="5613" y="1327"/>
                </a:moveTo>
                <a:arcTo wR="10800" hR="10800" stAng="-7122267" swAng="7169642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788000" y="6308640"/>
                <a:ext cx="503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804000" y="450864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788000" y="1916280"/>
                <a:ext cx="264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 flipH="1" flipV="1" rot="10800000">
            <a:off x="3026520" y="2698560"/>
            <a:ext cx="3321000" cy="324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46" y="20063"/>
                </a:moveTo>
                <a:arcTo wR="10800" hR="10800" stAng="7256701" swAng="7084064"/>
                <a:lnTo>
                  <a:pt x="10800" y="10800"/>
                </a:lnTo>
                <a:close/>
              </a:path>
              <a:path fill="none" w="21600" h="21600">
                <a:moveTo>
                  <a:pt x="5246" y="20063"/>
                </a:moveTo>
                <a:arcTo wR="10800" hR="10800" stAng="7256701" swAng="7084064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360" y="4365720"/>
            <a:ext cx="1439640" cy="2303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9520" y="1557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54800" y="5877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 rot="10800000">
            <a:off x="3028320" y="2725200"/>
            <a:ext cx="331740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954"/>
                </a:moveTo>
                <a:arcTo wR="10800" hR="10800" stAng="49171" swAng="7160381"/>
                <a:lnTo>
                  <a:pt x="10800" y="10800"/>
                </a:lnTo>
                <a:close/>
              </a:path>
              <a:path fill="none" w="21600" h="21600">
                <a:moveTo>
                  <a:pt x="21599" y="10954"/>
                </a:moveTo>
                <a:arcTo wR="10800" hR="10800" stAng="49171" swAng="7160381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64000" y="2421000"/>
            <a:ext cx="3384360" cy="194472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2421000"/>
            <a:ext cx="0" cy="381636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564000" y="4365360"/>
            <a:ext cx="3384360" cy="187164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89800" y="1268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876720" y="4292640"/>
            <a:ext cx="144720" cy="142920"/>
            <a:chOff x="6876720" y="4292640"/>
            <a:chExt cx="144720" cy="142920"/>
          </a:xfrm>
        </p:grpSpPr>
        <p:sp>
          <p:nvSpPr>
            <p:cNvPr id="319" name=""/>
            <p:cNvSpPr/>
            <p:nvPr/>
          </p:nvSpPr>
          <p:spPr>
            <a:xfrm>
              <a:off x="6877080" y="4292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876720" y="4292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92360" y="2349360"/>
            <a:ext cx="144720" cy="142920"/>
            <a:chOff x="3492360" y="2349360"/>
            <a:chExt cx="144720" cy="142920"/>
          </a:xfrm>
        </p:grpSpPr>
        <p:sp>
          <p:nvSpPr>
            <p:cNvPr id="322" name=""/>
            <p:cNvSpPr/>
            <p:nvPr/>
          </p:nvSpPr>
          <p:spPr>
            <a:xfrm>
              <a:off x="349236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492360" y="23493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492360" y="6165720"/>
            <a:ext cx="144720" cy="142920"/>
            <a:chOff x="3492360" y="6165720"/>
            <a:chExt cx="144720" cy="142920"/>
          </a:xfrm>
        </p:grpSpPr>
        <p:sp>
          <p:nvSpPr>
            <p:cNvPr id="325" name=""/>
            <p:cNvSpPr/>
            <p:nvPr/>
          </p:nvSpPr>
          <p:spPr>
            <a:xfrm>
              <a:off x="349236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492360" y="6165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041840" y="765000"/>
            <a:ext cx="791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os(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in(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99ff"/>
                </a:solidFill>
                <a:latin typeface="Times New Roman"/>
              </a:rPr>
              <a:t>120</a:t>
            </a:r>
            <a:r>
              <a:rPr b="0" lang="cs-CZ" sz="2800" spc="-1" strike="noStrike">
                <a:solidFill>
                  <a:srgbClr val="ff99ff"/>
                </a:solidFill>
                <a:latin typeface="Symbol"/>
                <a:ea typeface="Symbol"/>
              </a:rPr>
              <a:t>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0, 1,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poznámk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 řešení binomické rovnice dospějete, když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dodržíte postu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který jsme uplatnili při odvození vztahu (vzorce) pro kořeny binomické rovnice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eb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44784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přímo dosadít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do odvozeného </a:t>
            </a: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vzorc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(vztahu) pro kořeny binomické rovni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84280"/>
          <a:ext cx="7416720" cy="51498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 – odvození řeš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odvození obecného vztahu a znázornění kořenů binomické rovnice jako vrcholů pravidelných rovinných útvarů. Rozdíl řeše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í v oboru reálných a komplexníc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ísel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cká rovnice; Kořeny binomické rovnice; Grafické znázornění kořenů binomické rov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Binomická rovni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87280" y="333360"/>
            <a:ext cx="77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Binomickou rovnic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956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 nazývá rovnice tvaru:                       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kde 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867280" y="1031760"/>
                <a:ext cx="2160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2556000" y="1833480"/>
            <a:ext cx="3884400" cy="604800"/>
            <a:chOff x="2556000" y="1833480"/>
            <a:chExt cx="3884400" cy="60480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556000" y="1833480"/>
                  <a:ext cx="125100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∈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3851280" y="1846080"/>
                  <a:ext cx="117648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076720" y="1846080"/>
                  <a:ext cx="136368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∈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"/>
          <p:cNvSpPr/>
          <p:nvPr/>
        </p:nvSpPr>
        <p:spPr>
          <a:xfrm>
            <a:off x="1187280" y="2421000"/>
            <a:ext cx="7956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stup řešení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epišt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spcBef>
                <a:spcPts val="300"/>
              </a:spcBef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vědomíme si, že rovnice má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kořen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eparujem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-tou mocninu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Č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řevedeme z AT na GT – včetně period funkcí sinus a kosinus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95400" indent="-365040">
              <a:lnSpc>
                <a:spcPct val="105000"/>
              </a:lnSpc>
              <a:buClr>
                <a:srgbClr val="dddddd"/>
              </a:buClr>
              <a:buFont typeface="Times New Roman"/>
              <a:buAutoNum type="arabicParenR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ici odmocníme – opakem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-té mocniny j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-tá odmocnin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528920" indent="-354240">
              <a:lnSpc>
                <a:spcPct val="105000"/>
              </a:lnSpc>
              <a:buClr>
                <a:srgbClr val="dddddd"/>
              </a:buClr>
              <a:buFont typeface="Times New Roman"/>
              <a:buAutoNum type="alphaLcParenR"/>
              <a:tabLst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 levé straně získáme hodnotu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528920" indent="-354240">
              <a:lnSpc>
                <a:spcPct val="105000"/>
              </a:lnSpc>
              <a:buClr>
                <a:srgbClr val="dddddd"/>
              </a:buClr>
              <a:buFont typeface="Times New Roman"/>
              <a:buAutoNum type="alphaLcParenR"/>
              <a:tabLst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 pravé straně odmocníme KČ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omocí Moivreovy věty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0920" y="404640"/>
                <a:ext cx="17668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26920" y="1341360"/>
                <a:ext cx="9874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835280" y="2133720"/>
                <a:ext cx="60530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00000" y="3284640"/>
                <a:ext cx="6481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55520" y="4233960"/>
                <a:ext cx="66978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79280" y="5445000"/>
                <a:ext cx="8785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835280" y="1384200"/>
                <a:ext cx="13683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26920" y="2133720"/>
                <a:ext cx="9874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2771640" y="549360"/>
            <a:ext cx="63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koř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68360" y="212760"/>
            <a:ext cx="4464000" cy="839520"/>
            <a:chOff x="468360" y="212760"/>
            <a:chExt cx="4464000" cy="839520"/>
          </a:xfrm>
        </p:grpSpPr>
        <p:sp>
          <p:nvSpPr>
            <p:cNvPr id="161" name=""/>
            <p:cNvSpPr/>
            <p:nvPr/>
          </p:nvSpPr>
          <p:spPr>
            <a:xfrm>
              <a:off x="468360" y="476280"/>
              <a:ext cx="287280" cy="33084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639720"/>
              <a:ext cx="360360" cy="41256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1" idx="7"/>
              <a:endCxn id="162" idx="1"/>
            </p:cNvCxnSpPr>
            <p:nvPr/>
          </p:nvCxnSpPr>
          <p:spPr>
            <a:xfrm flipH="1" rot="16200000">
              <a:off x="2581200" y="-1366560"/>
              <a:ext cx="175320" cy="3912480"/>
            </a:xfrm>
            <a:prstGeom prst="curvedConnector5">
              <a:avLst>
                <a:gd name="adj1" fmla="val -165432"/>
                <a:gd name="adj2" fmla="val 49995"/>
                <a:gd name="adj3" fmla="val -165432"/>
              </a:avLst>
            </a:prstGeom>
            <a:ln w="3816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64" name=""/>
          <p:cNvSpPr/>
          <p:nvPr/>
        </p:nvSpPr>
        <p:spPr>
          <a:xfrm>
            <a:off x="3851280" y="1312920"/>
            <a:ext cx="52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lze zapsat v 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1312920"/>
            <a:ext cx="637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samostatním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x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40720" y="1312920"/>
            <a:ext cx="14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0920" y="1341360"/>
            <a:ext cx="1225800" cy="57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08720" y="1341360"/>
            <a:ext cx="505080" cy="57492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574920"/>
              <a:gd name="textAreaBottom" fmla="*/ 550440 h 574920"/>
            </a:gdLst>
            <a:ahLst/>
            <a:rect l="textAreaLeft" t="textAreaTop" r="textAreaRight" b="textAreaBottom"/>
            <a:pathLst>
              <a:path w="21600" h="24585">
                <a:moveTo>
                  <a:pt x="3600" y="0"/>
                </a:moveTo>
                <a:arcTo wR="3600" hR="3600" stAng="16200000" swAng="-5400000"/>
                <a:lnTo>
                  <a:pt x="0" y="20985"/>
                </a:lnTo>
                <a:arcTo wR="3600" hR="3600" stAng="10800000" swAng="-5400000"/>
                <a:lnTo>
                  <a:pt x="18000" y="24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2133720"/>
            <a:ext cx="5761080" cy="574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56720" y="1341360"/>
            <a:ext cx="576000" cy="57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172360" y="2133720"/>
                <a:ext cx="6573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835280" y="2781360"/>
            <a:ext cx="73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opakem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-té mocniny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-tá odmocnin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3860640"/>
            <a:ext cx="73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umocňujeme-li součin, umocňujeme každého z činitel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4941720"/>
            <a:ext cx="73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užijeme Moivreovu vět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3284640"/>
            <a:ext cx="360360" cy="576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513">
                <a:moveTo>
                  <a:pt x="3600" y="0"/>
                </a:moveTo>
                <a:arcTo wR="3600" hR="3600" stAng="16200000" swAng="-5400000"/>
                <a:lnTo>
                  <a:pt x="0" y="30913"/>
                </a:lnTo>
                <a:arcTo wR="3600" hR="3600" stAng="10800000" swAng="-5400000"/>
                <a:lnTo>
                  <a:pt x="18000" y="345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3284640"/>
            <a:ext cx="5256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5445000"/>
            <a:ext cx="1368360" cy="936720"/>
          </a:xfrm>
          <a:custGeom>
            <a:avLst/>
            <a:gdLst/>
            <a:ahLst/>
            <a:rect l="l" t="t" r="r" b="b"/>
            <a:pathLst>
              <a:path w="664" h="476">
                <a:moveTo>
                  <a:pt x="45" y="38"/>
                </a:moveTo>
                <a:cubicBezTo>
                  <a:pt x="7" y="61"/>
                  <a:pt x="0" y="136"/>
                  <a:pt x="45" y="174"/>
                </a:cubicBezTo>
                <a:cubicBezTo>
                  <a:pt x="90" y="212"/>
                  <a:pt x="257" y="220"/>
                  <a:pt x="317" y="265"/>
                </a:cubicBezTo>
                <a:cubicBezTo>
                  <a:pt x="377" y="310"/>
                  <a:pt x="355" y="416"/>
                  <a:pt x="408" y="446"/>
                </a:cubicBezTo>
                <a:cubicBezTo>
                  <a:pt x="461" y="476"/>
                  <a:pt x="604" y="476"/>
                  <a:pt x="634" y="446"/>
                </a:cubicBezTo>
                <a:cubicBezTo>
                  <a:pt x="664" y="416"/>
                  <a:pt x="642" y="303"/>
                  <a:pt x="589" y="265"/>
                </a:cubicBezTo>
                <a:cubicBezTo>
                  <a:pt x="536" y="227"/>
                  <a:pt x="370" y="258"/>
                  <a:pt x="317" y="220"/>
                </a:cubicBezTo>
                <a:cubicBezTo>
                  <a:pt x="264" y="182"/>
                  <a:pt x="317" y="76"/>
                  <a:pt x="272" y="38"/>
                </a:cubicBezTo>
                <a:cubicBezTo>
                  <a:pt x="227" y="0"/>
                  <a:pt x="83" y="15"/>
                  <a:pt x="45" y="38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5445000"/>
            <a:ext cx="1392120" cy="936720"/>
          </a:xfrm>
          <a:custGeom>
            <a:avLst/>
            <a:gdLst/>
            <a:ahLst/>
            <a:rect l="l" t="t" r="r" b="b"/>
            <a:pathLst>
              <a:path w="968" h="725">
                <a:moveTo>
                  <a:pt x="106" y="106"/>
                </a:moveTo>
                <a:cubicBezTo>
                  <a:pt x="46" y="212"/>
                  <a:pt x="0" y="575"/>
                  <a:pt x="106" y="650"/>
                </a:cubicBezTo>
                <a:cubicBezTo>
                  <a:pt x="212" y="725"/>
                  <a:pt x="605" y="650"/>
                  <a:pt x="741" y="559"/>
                </a:cubicBezTo>
                <a:cubicBezTo>
                  <a:pt x="877" y="468"/>
                  <a:pt x="968" y="197"/>
                  <a:pt x="923" y="106"/>
                </a:cubicBezTo>
                <a:cubicBezTo>
                  <a:pt x="878" y="15"/>
                  <a:pt x="605" y="23"/>
                  <a:pt x="469" y="15"/>
                </a:cubicBezTo>
                <a:cubicBezTo>
                  <a:pt x="333" y="7"/>
                  <a:pt x="166" y="0"/>
                  <a:pt x="106" y="106"/>
                </a:cubicBezTo>
                <a:close/>
              </a:path>
            </a:pathLst>
          </a:custGeom>
          <a:noFill/>
          <a:ln w="572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16000" y="260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Znázornění čísla </a:t>
            </a:r>
            <a:r>
              <a:rPr b="0" i="1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x</a:t>
            </a:r>
            <a:r>
              <a:rPr b="0" i="1" lang="cs-CZ" sz="4000" spc="-1" strike="noStrike" u="sng" baseline="-25000">
                <a:solidFill>
                  <a:srgbClr val="ccecff"/>
                </a:solidFill>
                <a:uFillTx/>
                <a:latin typeface="Times New Roman"/>
              </a:rPr>
              <a:t>k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 v Gaussově rovině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4508640"/>
            <a:ext cx="80280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1360" indent="-44136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ým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-úhelníkem je pr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63000" indent="-3452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3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63000" indent="-3452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4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63000" indent="-3452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5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0" y="5040360"/>
            <a:ext cx="59040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ovnostranný trojúhelník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0" y="5543640"/>
            <a:ext cx="59040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čtverec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048360"/>
            <a:ext cx="586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3360" indent="-42336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ravidelný pětiúhelník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981000"/>
            <a:ext cx="80280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oře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, ...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 – 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binomické rovnice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lež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r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gt;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2 v Gaussově rovině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e vrcholech pravidelného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-úhelníku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vepsaného do kružnic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e středem v počátku               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1528920"/>
                <a:tab algn="l" pos="2060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 poloměrem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292720" y="3141720"/>
                <a:ext cx="12240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140360" y="3573360"/>
                <a:ext cx="1161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140360" y="2565360"/>
                <a:ext cx="866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492360" y="3068640"/>
                <a:ext cx="866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148360" y="2924280"/>
                <a:ext cx="866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40360" y="3357720"/>
                <a:ext cx="46188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348000" y="4076640"/>
                <a:ext cx="10382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116000" y="4076640"/>
            <a:ext cx="6840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16360" y="1196640"/>
            <a:ext cx="0" cy="53989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02920" y="39783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8980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1280" y="404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71640" y="260280"/>
                <a:ext cx="81723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671160" y="234936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1844640"/>
            <a:ext cx="4464000" cy="4464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16360" y="2781360"/>
            <a:ext cx="2735280" cy="129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659280" y="3068640"/>
            <a:ext cx="144720" cy="142920"/>
            <a:chOff x="6659280" y="3068640"/>
            <a:chExt cx="144720" cy="142920"/>
          </a:xfrm>
        </p:grpSpPr>
        <p:sp>
          <p:nvSpPr>
            <p:cNvPr id="202" name=""/>
            <p:cNvSpPr/>
            <p:nvPr/>
          </p:nvSpPr>
          <p:spPr>
            <a:xfrm>
              <a:off x="6659640" y="3068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659280" y="3068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H="1">
            <a:off x="2484360" y="4076640"/>
            <a:ext cx="2232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57480" y="4121280"/>
                <a:ext cx="847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 flipH="1" flipV="1" rot="10800000">
            <a:off x="3121920" y="2486160"/>
            <a:ext cx="3324960" cy="325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353" y="5762"/>
                </a:moveTo>
                <a:arcTo wR="10800" hR="10800" stAng="-1668277" swAng="1571075"/>
                <a:lnTo>
                  <a:pt x="10800" y="10800"/>
                </a:lnTo>
                <a:close/>
              </a:path>
              <a:path fill="none" w="21600" h="21600">
                <a:moveTo>
                  <a:pt x="20353" y="5762"/>
                </a:moveTo>
                <a:arcTo wR="10800" hR="10800" stAng="-1668277" swAng="1571075"/>
              </a:path>
            </a:pathLst>
          </a:custGeom>
          <a:noFill/>
          <a:ln w="28440">
            <a:solidFill>
              <a:srgbClr val="66ff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821120" y="5921280"/>
                <a:ext cx="847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669000" y="4121280"/>
                <a:ext cx="6098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788000" y="1484280"/>
                <a:ext cx="609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835280" y="1052640"/>
            <a:ext cx="1800000" cy="3168360"/>
          </a:xfrm>
          <a:prstGeom prst="line">
            <a:avLst/>
          </a:prstGeom>
          <a:ln w="2844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47640" y="333360"/>
            <a:ext cx="505080" cy="7174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717480"/>
              <a:gd name="textAreaBottom" fmla="*/ 693000 h 717480"/>
            </a:gdLst>
            <a:ahLst/>
            <a:rect l="textAreaLeft" t="textAreaTop" r="textAreaRight" b="textAreaBottom"/>
            <a:pathLst>
              <a:path w="21600" h="30677">
                <a:moveTo>
                  <a:pt x="3600" y="0"/>
                </a:moveTo>
                <a:arcTo wR="3600" hR="3600" stAng="16200000" swAng="-5400000"/>
                <a:lnTo>
                  <a:pt x="0" y="27077"/>
                </a:lnTo>
                <a:arcTo wR="3600" hR="3600" stAng="10800000" swAng="-5400000"/>
                <a:lnTo>
                  <a:pt x="18000" y="30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00360" y="333360"/>
            <a:ext cx="504720" cy="7174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17480"/>
              <a:gd name="textAreaBottom" fmla="*/ 693000 h 717480"/>
            </a:gdLst>
            <a:ahLst/>
            <a:rect l="textAreaLeft" t="textAreaTop" r="textAreaRight" b="textAreaBottom"/>
            <a:pathLst>
              <a:path w="21600" h="30699">
                <a:moveTo>
                  <a:pt x="3600" y="0"/>
                </a:moveTo>
                <a:arcTo wR="3600" hR="3600" stAng="16200000" swAng="-5400000"/>
                <a:lnTo>
                  <a:pt x="0" y="27099"/>
                </a:lnTo>
                <a:arcTo wR="3600" hR="3600" stAng="10800000" swAng="-5400000"/>
                <a:lnTo>
                  <a:pt x="18000" y="30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1052640"/>
            <a:ext cx="2521080" cy="2808000"/>
          </a:xfrm>
          <a:prstGeom prst="line">
            <a:avLst/>
          </a:prstGeom>
          <a:ln w="284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 rot="10800000">
            <a:off x="3127320" y="2477160"/>
            <a:ext cx="3320640" cy="32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41" y="563"/>
                </a:moveTo>
                <a:arcTo wR="10800" hR="10800" stAng="-4285414" swAng="2586779"/>
                <a:lnTo>
                  <a:pt x="10800" y="10800"/>
                </a:lnTo>
                <a:close/>
              </a:path>
              <a:path fill="none" w="21600" h="21600">
                <a:moveTo>
                  <a:pt x="14241" y="563"/>
                </a:moveTo>
                <a:arcTo wR="10800" hR="10800" stAng="-4285414" swAng="258677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716360" y="1267920"/>
            <a:ext cx="1079640" cy="2808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91520" y="14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35280" y="1916280"/>
            <a:ext cx="144720" cy="142560"/>
            <a:chOff x="5435280" y="1916280"/>
            <a:chExt cx="144720" cy="142560"/>
          </a:xfrm>
        </p:grpSpPr>
        <p:sp>
          <p:nvSpPr>
            <p:cNvPr id="218" name=""/>
            <p:cNvSpPr/>
            <p:nvPr/>
          </p:nvSpPr>
          <p:spPr>
            <a:xfrm>
              <a:off x="543564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43528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419640" y="333360"/>
            <a:ext cx="865080" cy="717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1052640"/>
            <a:ext cx="1584360" cy="1871640"/>
          </a:xfrm>
          <a:prstGeom prst="line">
            <a:avLst/>
          </a:prstGeom>
          <a:ln w="28440">
            <a:solidFill>
              <a:srgbClr val="ff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492360" y="1412640"/>
            <a:ext cx="1224000" cy="2663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46800" y="12682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708000" y="1989000"/>
            <a:ext cx="144720" cy="142920"/>
            <a:chOff x="3708000" y="1989000"/>
            <a:chExt cx="144720" cy="142920"/>
          </a:xfrm>
        </p:grpSpPr>
        <p:sp>
          <p:nvSpPr>
            <p:cNvPr id="225" name=""/>
            <p:cNvSpPr/>
            <p:nvPr/>
          </p:nvSpPr>
          <p:spPr>
            <a:xfrm>
              <a:off x="3708360" y="1989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708000" y="1989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H="1" flipV="1" rot="10800000">
            <a:off x="3128040" y="2498400"/>
            <a:ext cx="3318840" cy="32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98" y="1077"/>
                </a:moveTo>
                <a:arcTo wR="10800" hR="10800" stAng="-6948455" swAng="2620919"/>
                <a:lnTo>
                  <a:pt x="10800" y="10800"/>
                </a:lnTo>
                <a:close/>
              </a:path>
              <a:path fill="none" w="21600" h="21600">
                <a:moveTo>
                  <a:pt x="6098" y="1077"/>
                </a:moveTo>
                <a:arcTo wR="10800" hR="10800" stAng="-6948455" swAng="2620919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618920" y="2923920"/>
            <a:ext cx="3097080" cy="1152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7160" y="249228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555640" y="3213000"/>
            <a:ext cx="144720" cy="142920"/>
            <a:chOff x="2555640" y="3213000"/>
            <a:chExt cx="144720" cy="142920"/>
          </a:xfrm>
        </p:grpSpPr>
        <p:sp>
          <p:nvSpPr>
            <p:cNvPr id="231" name=""/>
            <p:cNvSpPr/>
            <p:nvPr/>
          </p:nvSpPr>
          <p:spPr>
            <a:xfrm>
              <a:off x="255600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55564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H="1" flipV="1" rot="10800000">
            <a:off x="3125160" y="2498760"/>
            <a:ext cx="3324960" cy="325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7" y="6804"/>
                </a:moveTo>
                <a:arcTo wR="10800" hR="10800" stAng="-9496899" swAng="2548875"/>
                <a:lnTo>
                  <a:pt x="10800" y="10800"/>
                </a:lnTo>
                <a:close/>
              </a:path>
              <a:path fill="none" w="21600" h="21600">
                <a:moveTo>
                  <a:pt x="767" y="6804"/>
                </a:moveTo>
                <a:arcTo wR="10800" hR="10800" stAng="-9496899" swAng="2548875"/>
              </a:path>
            </a:pathLst>
          </a:custGeom>
          <a:noFill/>
          <a:ln w="28440">
            <a:solidFill>
              <a:srgbClr val="ff99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 rot="10800000">
            <a:off x="2048400" y="1347120"/>
            <a:ext cx="5182200" cy="52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3"/>
                </a:moveTo>
                <a:arcTo wR="10800" hR="10800" stAng="-10344417" swAng="536284"/>
                <a:lnTo>
                  <a:pt x="10800" y="10800"/>
                </a:lnTo>
                <a:close/>
              </a:path>
              <a:path fill="none" w="21600" h="21600">
                <a:moveTo>
                  <a:pt x="95" y="9373"/>
                </a:moveTo>
                <a:arcTo wR="10800" hR="10800" stAng="-10344417" swAng="536284"/>
              </a:path>
            </a:pathLst>
          </a:cu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357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alší koř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58920" y="1484280"/>
            <a:ext cx="7489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Porovnejte řešení rovni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v oboru čísel reálných: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v oboru čísel komplexních: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227640" y="1341360"/>
                <a:ext cx="2203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979640" y="1052640"/>
                <a:ext cx="20048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116000" y="333360"/>
            <a:ext cx="80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Řešení rovnice v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27280" y="1989000"/>
                <a:ext cx="13683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435640" y="1125360"/>
            <a:ext cx="370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vnice má 3 koře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859280" y="1989000"/>
                <a:ext cx="7873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ad>
                          <m:deg>
                            <m:r>
                              <m:t xml:space="preserve">3</m:t>
                            </m:r>
                          </m:deg>
                          <m:e/>
                        </m:ra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916360" y="2997360"/>
                <a:ext cx="1141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042920" y="4076640"/>
            <a:ext cx="8101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Závě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804960" indent="-27000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alezli jsme pouze jeden ze tří kořenů dané rovnice, který je reálný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804960" indent="-270000">
              <a:lnSpc>
                <a:spcPct val="11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–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bývající dva kořeny zřejmě nejsou reálné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95640" y="1052640"/>
            <a:ext cx="360360" cy="504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5" idx="7"/>
            <a:endCxn id="241" idx="1"/>
          </p:cNvCxnSpPr>
          <p:nvPr/>
        </p:nvCxnSpPr>
        <p:spPr>
          <a:xfrm flipH="1" rot="16200000">
            <a:off x="3782520" y="-167760"/>
            <a:ext cx="374040" cy="2932920"/>
          </a:xfrm>
          <a:prstGeom prst="curvedConnector5">
            <a:avLst>
              <a:gd name="adj1" fmla="val -19556"/>
              <a:gd name="adj2" fmla="val 30603"/>
              <a:gd name="adj3" fmla="val -19556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6:12Z</dcterms:modified>
  <cp:revision>296</cp:revision>
  <dc:subject/>
  <dc:title>KČ</dc:title>
</cp:coreProperties>
</file>