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0A8-328A-4CA0-A448-478CE3454A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4677-BD06-44E1-861F-36B7276536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C3D-27B4-4642-9C57-BBDAA8E703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EF6-BFE9-4BFA-A9B7-6AEB64C248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56CC-3840-4DD4-8AE8-5D7477171D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E0D-5375-4D2F-B24D-F3B5B453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28F-87D6-49BF-95B0-BD7C869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D7B-A018-4EB5-B2B0-EEC6303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843-6C5F-4C95-BDD1-D62221D2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714-3A24-4EFE-8EFE-A206A0E1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5686-2DF2-4EA8-8591-2C780EC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084-BCE3-4DE9-987F-862AA496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1193-D069-42B0-95EE-ABC13F36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9C6E-A51F-456C-B28C-CFE6095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EA73-D596-4714-8399-FCC459A9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7CE8-BAA2-47BA-9119-1DBFF492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E39-B0D9-461E-BF84-F715CBD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BAF-DE13-4F94-8BA7-3DC4692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5237-7344-4EC8-AD3D-B288C31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F9F-9B95-44A4-8AB7-2147922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B460-7993-4C22-9A73-4282FD96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7DD8-19DD-4060-A340-A140E89C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34D-EFDB-42AF-91E3-99851FC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C36-BC48-491D-BD3F-48C3A22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F4B-7058-4DDF-8AE9-AEC13361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E95-954E-441B-86E2-530EA66F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A73-C1A8-4573-A150-BD9A95D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13A-33D1-4AC7-B06B-12AEE10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2C7-55C6-4607-AC51-10BEE40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EA99-C206-45D3-A14F-0095BA7B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7585-C370-4BFE-97F5-299EB51F7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476280"/>
                <a:ext cx="5900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87640" y="2349360"/>
                <a:ext cx="4840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3502080"/>
                <a:ext cx="5948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059280" y="494172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987640" y="1557360"/>
                <a:ext cx="593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60280"/>
                <a:ext cx="5400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3640" y="2781360"/>
                <a:ext cx="4808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3640" y="4005360"/>
                <a:ext cx="56847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3640" y="5300640"/>
                <a:ext cx="386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03640" y="1514520"/>
                <a:ext cx="5329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71640" y="549360"/>
                <a:ext cx="64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68360" y="1700280"/>
                <a:ext cx="5807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°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68360" y="4005360"/>
                <a:ext cx="6080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5157720"/>
                <a:ext cx="5383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05080" y="2900520"/>
                <a:ext cx="677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92240" y="189000"/>
                <a:ext cx="4600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00600" y="1052640"/>
                <a:ext cx="4233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33720" y="1844640"/>
                <a:ext cx="4467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40200" y="2637000"/>
                <a:ext cx="3040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16000" y="3500280"/>
                <a:ext cx="467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86240" y="4365720"/>
                <a:ext cx="4567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5157720"/>
                <a:ext cx="530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92360" y="5877000"/>
                <a:ext cx="39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65320" y="260280"/>
                <a:ext cx="473400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51280" y="1557360"/>
                <a:ext cx="43005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51280" y="2924280"/>
                <a:ext cx="482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51280" y="4292640"/>
                <a:ext cx="4129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5300640"/>
                <a:ext cx="3270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65320" y="189000"/>
                <a:ext cx="51670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19640" y="1484280"/>
                <a:ext cx="51004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19640" y="2852640"/>
                <a:ext cx="52545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19640" y="4149720"/>
                <a:ext cx="462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19640" y="5373720"/>
                <a:ext cx="39304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92240" y="189000"/>
                <a:ext cx="56674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916360" y="1484280"/>
                <a:ext cx="5472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916360" y="2781360"/>
                <a:ext cx="5949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987640" y="4076640"/>
                <a:ext cx="5946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5300640"/>
                <a:ext cx="48542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4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7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60280"/>
                <a:ext cx="4934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635280" y="1484280"/>
                <a:ext cx="4399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564000" y="4076640"/>
                <a:ext cx="54212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64000" y="5300640"/>
                <a:ext cx="37972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564000" y="2565360"/>
                <a:ext cx="46911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71440" y="260280"/>
                <a:ext cx="4667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484280"/>
                <a:ext cx="4138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26040" y="4091040"/>
                <a:ext cx="45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91120" y="5334120"/>
                <a:ext cx="34336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54400" y="2565360"/>
                <a:ext cx="3908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27080" y="26028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1549440"/>
                <a:ext cx="4608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736800" y="4076640"/>
                <a:ext cx="49896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736800" y="5300640"/>
                <a:ext cx="3434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664080" y="2565360"/>
                <a:ext cx="4298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324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vreova věta; 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260280"/>
                <a:ext cx="496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1773360"/>
                <a:ext cx="5234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2997360"/>
                <a:ext cx="52005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5084640"/>
                <a:ext cx="6334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1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4200480" y="1052640"/>
            <a:ext cx="4943520" cy="5557680"/>
            <a:chOff x="4200480" y="1052640"/>
            <a:chExt cx="4943520" cy="555768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4211640" y="1052640"/>
                  <a:ext cx="37558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211640" y="2492280"/>
                  <a:ext cx="454644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211640" y="4076640"/>
                  <a:ext cx="405288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00480" y="5950080"/>
                  <a:ext cx="4943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26</m:t>
                          </m:r>
                          <m:r>
                            <m:t xml:space="preserve">°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38240" y="2602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773360"/>
                <a:ext cx="54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42920" y="3284640"/>
                <a:ext cx="556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042920" y="4724280"/>
                <a:ext cx="52675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3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3" name=""/>
          <p:cNvGrpSpPr/>
          <p:nvPr/>
        </p:nvGrpSpPr>
        <p:grpSpPr>
          <a:xfrm>
            <a:off x="4970520" y="907920"/>
            <a:ext cx="3921120" cy="5705640"/>
            <a:chOff x="4970520" y="907920"/>
            <a:chExt cx="3921120" cy="57056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003640" y="907920"/>
                  <a:ext cx="38880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3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970520" y="2492280"/>
                  <a:ext cx="37576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148360" y="4005360"/>
                  <a:ext cx="34272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5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148360" y="5589720"/>
                  <a:ext cx="346068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260280"/>
                <a:ext cx="420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134136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1640" y="2852640"/>
                <a:ext cx="4267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4727520" y="404640"/>
            <a:ext cx="4416480" cy="6307200"/>
            <a:chOff x="4727520" y="404640"/>
            <a:chExt cx="4416480" cy="630720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783400" y="404640"/>
                  <a:ext cx="336060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02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867280" y="1484280"/>
                  <a:ext cx="240516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584680" y="2924280"/>
                  <a:ext cx="35593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4727520" y="5589720"/>
                  <a:ext cx="4416480" cy="11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042920" y="4292640"/>
                <a:ext cx="54342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260280"/>
            <a:ext cx="791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ivreova vět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všechna přirozená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87600" y="1701720"/>
                <a:ext cx="729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42920" y="27082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09960" y="3429000"/>
                <a:ext cx="4334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2080" y="4740120"/>
                <a:ext cx="3584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3284640"/>
                <a:ext cx="3700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4005360"/>
                <a:ext cx="360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8000" y="4869000"/>
                <a:ext cx="41511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41680" y="5948280"/>
                <a:ext cx="2886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16720" y="5877000"/>
                <a:ext cx="24591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27640" y="17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1989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198900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8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4724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724360" y="3429000"/>
                <a:ext cx="3002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3429000"/>
                <a:ext cx="2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9" name=""/>
          <p:cNvCxnSpPr>
            <a:endCxn id="154" idx="0"/>
          </p:cNvCxnSpPr>
          <p:nvPr/>
        </p:nvCxnSpPr>
        <p:spPr>
          <a:xfrm>
            <a:off x="4788000" y="1773360"/>
            <a:ext cx="335016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160" name=""/>
          <p:cNvCxnSpPr>
            <a:endCxn id="153" idx="0"/>
          </p:cNvCxnSpPr>
          <p:nvPr/>
        </p:nvCxnSpPr>
        <p:spPr>
          <a:xfrm>
            <a:off x="4788000" y="1773360"/>
            <a:ext cx="1297440" cy="202320"/>
          </a:xfrm>
          <a:prstGeom prst="curvedConnector2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596360" y="4869000"/>
                <a:ext cx="3776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427640" y="594828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360" y="6400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2</a:t>
            </a:r>
            <a:r>
              <a:rPr b="0" lang="cs-CZ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16000" y="836640"/>
                <a:ext cx="4800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557360"/>
                <a:ext cx="466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64000" y="2278080"/>
                <a:ext cx="5267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3078000"/>
                <a:ext cx="4535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1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87280" y="3933720"/>
                <a:ext cx="473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4653000"/>
                <a:ext cx="4500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5373720"/>
                <a:ext cx="5100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6168960"/>
                <a:ext cx="4249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189000"/>
                <a:ext cx="5400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19640" y="981000"/>
                <a:ext cx="5233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19640" y="1628640"/>
                <a:ext cx="5533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564000" y="3003480"/>
                <a:ext cx="4392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116000" y="3730680"/>
                <a:ext cx="4968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4508640"/>
                <a:ext cx="4867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10040" y="5229360"/>
                <a:ext cx="6033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32000" y="5950080"/>
                <a:ext cx="4734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2355840"/>
                <a:ext cx="4680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42920" y="189000"/>
                <a:ext cx="54673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1444680"/>
                <a:ext cx="532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03640" y="2708280"/>
                <a:ext cx="5700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3640" y="5084640"/>
                <a:ext cx="43336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03640" y="3933720"/>
                <a:ext cx="4633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16000" y="3068640"/>
                <a:ext cx="554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22680" y="3860640"/>
                <a:ext cx="5700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4653000"/>
                <a:ext cx="6234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843280" y="6099120"/>
                <a:ext cx="5002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60280"/>
                <a:ext cx="4800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907920"/>
                <a:ext cx="4567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92360" y="1628640"/>
                <a:ext cx="525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92360" y="2303640"/>
                <a:ext cx="439272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373720"/>
                <a:ext cx="5900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404640"/>
                <a:ext cx="4834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64000" y="2133720"/>
                <a:ext cx="43210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286080"/>
                <a:ext cx="5222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64000" y="465300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564000" y="1341360"/>
                <a:ext cx="4967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01680" y="476280"/>
                <a:ext cx="523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529080" y="2205000"/>
                <a:ext cx="4709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25840" y="3357720"/>
                <a:ext cx="561816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78400" y="4724280"/>
                <a:ext cx="380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40240" y="1413000"/>
                <a:ext cx="533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°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°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39Z</dcterms:modified>
  <cp:revision>299</cp:revision>
  <dc:subject/>
  <dc:title>KČ</dc:title>
</cp:coreProperties>
</file>