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368-46AC-4BDA-B8FE-E9F2C1CD1E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505B-F866-4360-9B38-3FC8CC79B5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2B3-137A-4649-99F6-FF6502ABA2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2457-0B6E-4E0F-B303-26A2DAA264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7E3-C4E5-4530-BFCE-AE8CF14D574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A65-B5F3-4483-9716-2816A16D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E62-AC21-4AB1-AB92-3FB614FA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05D-6738-446F-8CEE-01B8859A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C04-41CA-43E6-BD06-1A9D2EC2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B940-91CD-4E26-A38C-5AAE526D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74D-1AFE-460F-A79A-BBCBC84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140F-29B6-49B5-8158-E15DC90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6548-F406-46C3-9CCE-84B03E8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BDC-C464-4177-BA38-E0A315E4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B4DD-A253-40CC-9E30-6E6D0554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3DA-1D23-4094-B6B9-B70EBD6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DD9-B1EA-470B-9957-0758B5F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14B1-7C7A-48C2-B9F2-88A91C2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D48-BD59-461B-8ED9-26AA060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5DCA-4507-46C8-A68C-05CBDE3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2A0-1AF1-43CD-86A6-F15298A5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823F-D7DD-41D9-B3D3-D8F4F73D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BF1-1324-47CC-BC3F-B1602697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D5B-23DF-49CA-AB08-A689658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74D-F49D-4D81-BB3E-991144B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C3D-CD81-4431-BB69-7A0A5D7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A2F-7E5D-45F7-AF4F-912FDDD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3C6-296D-4DBD-BFCB-5C5BEA4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C97-058D-42E1-8D60-141DD59D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16F7-3ABC-4330-803E-C8B221AB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12F2-F7F7-4DFF-8FF7-7A543DE7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16000" y="260280"/>
                <a:ext cx="2066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318360" y="2387520"/>
                <a:ext cx="2624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24210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5280" y="3357720"/>
                <a:ext cx="20383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82560" y="4508640"/>
                <a:ext cx="2360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35280" y="5950080"/>
                <a:ext cx="2511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3724200" y="23875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3068640"/>
            <a:ext cx="0" cy="115236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979640" y="1052640"/>
                <a:ext cx="4962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°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0000" y="42210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69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26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571640" y="4292640"/>
            <a:ext cx="576720" cy="503280"/>
            <a:chOff x="4571640" y="4292640"/>
            <a:chExt cx="576720" cy="503280"/>
          </a:xfrm>
        </p:grpSpPr>
        <p:sp>
          <p:nvSpPr>
            <p:cNvPr id="316" name=""/>
            <p:cNvSpPr/>
            <p:nvPr/>
          </p:nvSpPr>
          <p:spPr>
            <a:xfrm>
              <a:off x="4572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57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4328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4365720"/>
            <a:ext cx="647640" cy="1152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24">
                <a:moveTo>
                  <a:pt x="3600" y="0"/>
                </a:moveTo>
                <a:arcTo wR="3600" hR="3600" stAng="16200000" swAng="-5400000"/>
                <a:lnTo>
                  <a:pt x="0" y="34824"/>
                </a:lnTo>
                <a:arcTo wR="3600" hR="3600" stAng="10800000" swAng="-5400000"/>
                <a:lnTo>
                  <a:pt x="18000" y="38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</p:cNvCxnSpPr>
          <p:nvPr/>
        </p:nvCxnSpPr>
        <p:spPr>
          <a:xfrm flipH="1" flipV="1" rot="5400000">
            <a:off x="343044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260280"/>
                <a:ext cx="233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07280" y="2387520"/>
                <a:ext cx="256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58920" y="2421000"/>
                <a:ext cx="242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03280" y="3357720"/>
                <a:ext cx="2075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403280" y="4508640"/>
                <a:ext cx="217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877000"/>
                <a:ext cx="2548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r>
                      <m:t xml:space="preserve">°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3781440" y="238752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299736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8000" y="1125360"/>
                <a:ext cx="474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  <m:r>
                          <m:t xml:space="preserve">°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79736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53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08´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940000" y="4292640"/>
            <a:ext cx="576720" cy="503280"/>
            <a:chOff x="5940000" y="4292640"/>
            <a:chExt cx="576720" cy="503280"/>
          </a:xfrm>
        </p:grpSpPr>
        <p:sp>
          <p:nvSpPr>
            <p:cNvPr id="335" name=""/>
            <p:cNvSpPr/>
            <p:nvPr/>
          </p:nvSpPr>
          <p:spPr>
            <a:xfrm>
              <a:off x="594036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0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7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042920" y="260280"/>
                <a:ext cx="2633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30960" y="2347920"/>
                <a:ext cx="281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494000" y="3284640"/>
                <a:ext cx="2257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741320" y="5626080"/>
                <a:ext cx="2946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686040" y="2347920"/>
            <a:ext cx="2605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48360" y="2997360"/>
            <a:ext cx="0" cy="12254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903320" y="907920"/>
                <a:ext cx="722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211280" y="4292640"/>
            <a:ext cx="576720" cy="503280"/>
            <a:chOff x="4211280" y="4292640"/>
            <a:chExt cx="576720" cy="503280"/>
          </a:xfrm>
        </p:grpSpPr>
        <p:sp>
          <p:nvSpPr>
            <p:cNvPr id="353" name=""/>
            <p:cNvSpPr/>
            <p:nvPr/>
          </p:nvSpPr>
          <p:spPr>
            <a:xfrm>
              <a:off x="4211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21128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22400" y="2276640"/>
                <a:ext cx="268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698920" y="4797360"/>
            <a:ext cx="360360" cy="4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890">
                <a:moveTo>
                  <a:pt x="3600" y="0"/>
                </a:moveTo>
                <a:arcTo wR="3600" hR="3600" stAng="16200000" swAng="-5400000"/>
                <a:lnTo>
                  <a:pt x="0" y="22290"/>
                </a:lnTo>
                <a:arcTo wR="3600" hR="3600" stAng="10800000" swAng="-5400000"/>
                <a:lnTo>
                  <a:pt x="18000" y="25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365720"/>
            <a:ext cx="648000" cy="115236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152360"/>
              <a:gd name="textAreaBottom" fmla="*/ 1121040 h 1152360"/>
            </a:gdLst>
            <a:ahLst/>
            <a:rect l="textAreaLeft" t="textAreaTop" r="textAreaRight" b="textAreaBottom"/>
            <a:pathLst>
              <a:path w="21600" h="38403">
                <a:moveTo>
                  <a:pt x="3600" y="0"/>
                </a:moveTo>
                <a:arcTo wR="3600" hR="3600" stAng="16200000" swAng="-5400000"/>
                <a:lnTo>
                  <a:pt x="0" y="34803"/>
                </a:lnTo>
                <a:arcTo wR="3600" hR="3600" stAng="10800000" swAng="-5400000"/>
                <a:lnTo>
                  <a:pt x="18000" y="38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0" y="5157720"/>
            <a:ext cx="5745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6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912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82520" y="210960"/>
                <a:ext cx="24004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143680" y="2852640"/>
                <a:ext cx="3889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276200" y="3284640"/>
                <a:ext cx="2257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258920" y="4581360"/>
                <a:ext cx="2179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655640" y="5734080"/>
                <a:ext cx="3382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8000" y="2205000"/>
            <a:ext cx="2749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206064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03640" y="2852640"/>
            <a:ext cx="0" cy="1513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700280" y="836640"/>
                <a:ext cx="7443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356000" y="4292640"/>
            <a:ext cx="464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4869000"/>
            <a:ext cx="23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3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372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116000" y="2205000"/>
                <a:ext cx="2289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2554200" y="486900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7640" y="4508640"/>
            <a:ext cx="504720" cy="1081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81080"/>
              <a:gd name="textAreaBottom" fmla="*/ 1056600 h 1081080"/>
            </a:gdLst>
            <a:ahLst/>
            <a:rect l="textAreaLeft" t="textAreaTop" r="textAreaRight" b="textAreaBottom"/>
            <a:pathLst>
              <a:path w="21600" h="46248">
                <a:moveTo>
                  <a:pt x="3600" y="0"/>
                </a:moveTo>
                <a:arcTo wR="3600" hR="3600" stAng="16200000" swAng="-5400000"/>
                <a:lnTo>
                  <a:pt x="0" y="42648"/>
                </a:lnTo>
                <a:arcTo wR="3600" hR="3600" stAng="10800000" swAng="-5400000"/>
                <a:lnTo>
                  <a:pt x="18000" y="46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229360"/>
            <a:ext cx="7178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2"/>
          </p:cNvCxnSpPr>
          <p:nvPr/>
        </p:nvCxnSpPr>
        <p:spPr>
          <a:xfrm flipH="1" flipV="1" rot="5400000">
            <a:off x="3141360" y="4245120"/>
            <a:ext cx="662760" cy="1477080"/>
          </a:xfrm>
          <a:prstGeom prst="curvedConnector5">
            <a:avLst>
              <a:gd name="adj1" fmla="val -59945"/>
              <a:gd name="adj2" fmla="val 34007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16000" y="836640"/>
                <a:ext cx="2633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42920" y="4869000"/>
                <a:ext cx="3200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042920" y="2997360"/>
                <a:ext cx="2766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627440" y="476280"/>
            <a:ext cx="4516560" cy="6041880"/>
            <a:chOff x="4627440" y="476280"/>
            <a:chExt cx="4516560" cy="604188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4660920" y="47628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3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660920" y="4797360"/>
                  <a:ext cx="44830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4627440" y="2637000"/>
                  <a:ext cx="451656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58840" y="1268280"/>
                <a:ext cx="2067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216080" y="5734080"/>
                <a:ext cx="1833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106640" y="3405240"/>
                <a:ext cx="2681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4232160" y="836640"/>
            <a:ext cx="4911840" cy="6021360"/>
            <a:chOff x="4232160" y="836640"/>
            <a:chExt cx="4911840" cy="602136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4232160" y="836640"/>
                  <a:ext cx="4911840" cy="17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4363920" y="5070600"/>
                  <a:ext cx="4780080" cy="17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84720" y="2637000"/>
                  <a:ext cx="4614840" cy="23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3" name="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182600" y="404640"/>
                <a:ext cx="23004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98440" y="5084640"/>
                <a:ext cx="25005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11400" y="1773360"/>
                <a:ext cx="2701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197000" y="3429000"/>
                <a:ext cx="1874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,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3635280" y="836640"/>
            <a:ext cx="5508720" cy="6021360"/>
            <a:chOff x="3635280" y="836640"/>
            <a:chExt cx="5508720" cy="6021360"/>
          </a:xfrm>
        </p:grpSpPr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708360" y="836640"/>
                  <a:ext cx="5241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7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3672000" y="5832360"/>
                  <a:ext cx="54720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01</m:t>
                          </m:r>
                          <m:r>
                            <m:t xml:space="preserve">°</m:t>
                          </m:r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672000" y="2276640"/>
                  <a:ext cx="54720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224</m:t>
                          </m:r>
                          <m:r>
                            <m:t xml:space="preserve">°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3635280" y="3645000"/>
                  <a:ext cx="468180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8,4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π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π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216080" y="620640"/>
                <a:ext cx="153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38320" y="2852640"/>
                <a:ext cx="2477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116000" y="5589720"/>
                <a:ext cx="216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152960" y="333360"/>
            <a:ext cx="4991040" cy="6524640"/>
            <a:chOff x="4152960" y="333360"/>
            <a:chExt cx="4991040" cy="652464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4356000" y="333360"/>
                  <a:ext cx="408780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265640" y="2205000"/>
                  <a:ext cx="4878360" cy="23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5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152960" y="5133960"/>
                  <a:ext cx="4714920" cy="17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0</m:t>
                              </m:r>
                              <m:r>
                                <m:t xml:space="preserve">°</m:t>
                              </m:r>
                            </m:e>
                          </m:d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7,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866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imaginárního; Argument komplexního čísla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imaginárn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neleží na souřadných osác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2781360"/>
                <a:ext cx="237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372360" y="3860640"/>
                <a:ext cx="23112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2122560" y="2684520"/>
            <a:ext cx="1728720" cy="26654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1677960"/>
            <a:ext cx="4084200" cy="5040000"/>
            <a:chOff x="1258920" y="1677960"/>
            <a:chExt cx="4084200" cy="5040000"/>
          </a:xfrm>
        </p:grpSpPr>
        <p:sp>
          <p:nvSpPr>
            <p:cNvPr id="148" name=""/>
            <p:cNvSpPr/>
            <p:nvPr/>
          </p:nvSpPr>
          <p:spPr>
            <a:xfrm flipV="1">
              <a:off x="1258920" y="5349240"/>
              <a:ext cx="403200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22560" y="1893600"/>
              <a:ext cx="0" cy="482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5640" y="16779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5440" y="5349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000" y="535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3777840" y="2612880"/>
            <a:ext cx="144720" cy="142920"/>
            <a:chOff x="3777840" y="2612880"/>
            <a:chExt cx="144720" cy="142920"/>
          </a:xfrm>
        </p:grpSpPr>
        <p:sp>
          <p:nvSpPr>
            <p:cNvPr id="154" name="Line 64"/>
            <p:cNvSpPr/>
            <p:nvPr/>
          </p:nvSpPr>
          <p:spPr>
            <a:xfrm>
              <a:off x="377820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H="1">
              <a:off x="3777840" y="26128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07840" y="1989000"/>
            <a:ext cx="137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684520"/>
            <a:ext cx="0" cy="2736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560" y="2684520"/>
            <a:ext cx="180036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360" y="53499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29000" y="2397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22560" y="268452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8720" y="333216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915640" y="4629960"/>
            <a:ext cx="142560" cy="17287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993480" y="2684520"/>
            <a:ext cx="144360" cy="26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0120" y="5445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840" y="37180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981000"/>
                <a:ext cx="4794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203640" y="981000"/>
            <a:ext cx="431640" cy="576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36">
                <a:moveTo>
                  <a:pt x="3600" y="0"/>
                </a:moveTo>
                <a:arcTo wR="3600" hR="3600" stAng="16200000" swAng="-5400000"/>
                <a:lnTo>
                  <a:pt x="0" y="25236"/>
                </a:lnTo>
                <a:arcTo wR="3600" hR="3600" stAng="10800000" swAng="-5400000"/>
                <a:lnTo>
                  <a:pt x="18000" y="28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5351400"/>
            <a:ext cx="3168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24000" y="1700280"/>
            <a:ext cx="2374920" cy="3673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199400"/>
            <a:ext cx="2304720" cy="227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6" y="1771"/>
                </a:moveTo>
                <a:arcTo wR="10800" hR="10800" stAng="-3403182" swAng="3403182"/>
                <a:lnTo>
                  <a:pt x="10800" y="10800"/>
                </a:lnTo>
                <a:close/>
              </a:path>
              <a:path fill="none" w="21600" h="21600">
                <a:moveTo>
                  <a:pt x="16726" y="1771"/>
                </a:moveTo>
                <a:arcTo wR="10800" hR="10800" stAng="-3403182" swAng="3403182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3400" y="46944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981000"/>
            <a:ext cx="287280" cy="576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6360"/>
              <a:gd name="textAreaBottom" fmla="*/ 562320 h 576360"/>
            </a:gdLst>
            <a:ahLst/>
            <a:rect l="textAreaLeft" t="textAreaTop" r="textAreaRight" b="textAreaBottom"/>
            <a:pathLst>
              <a:path w="21600" h="43308">
                <a:moveTo>
                  <a:pt x="3600" y="0"/>
                </a:moveTo>
                <a:arcTo wR="3600" hR="3600" stAng="16200000" swAng="-5400000"/>
                <a:lnTo>
                  <a:pt x="0" y="39708"/>
                </a:lnTo>
                <a:arcTo wR="3600" hR="3600" stAng="10800000" swAng="-5400000"/>
                <a:lnTo>
                  <a:pt x="18000" y="43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981000"/>
            <a:ext cx="358560" cy="57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360"/>
              <a:gd name="textAreaBottom" fmla="*/ 559080 h 576360"/>
            </a:gdLst>
            <a:ahLst/>
            <a:rect l="textAreaLeft" t="textAreaTop" r="textAreaRight" b="textAreaBottom"/>
            <a:pathLst>
              <a:path w="21600" h="34707">
                <a:moveTo>
                  <a:pt x="3600" y="0"/>
                </a:moveTo>
                <a:arcTo wR="3600" hR="3600" stAng="16200000" swAng="-5400000"/>
                <a:lnTo>
                  <a:pt x="0" y="31107"/>
                </a:lnTo>
                <a:arcTo wR="3600" hR="3600" stAng="10800000" swAng="-5400000"/>
                <a:lnTo>
                  <a:pt x="18000" y="34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124000" y="2708280"/>
            <a:ext cx="1728720" cy="26654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1846440"/>
          <a:ext cx="7777440" cy="718920"/>
        </p:xfrm>
        <a:graphic>
          <a:graphicData uri="http://schemas.openxmlformats.org/drawingml/2006/table">
            <a:tbl>
              <a:tblPr/>
              <a:tblGrid>
                <a:gridCol w="1511640"/>
                <a:gridCol w="1081080"/>
                <a:gridCol w="1296720"/>
                <a:gridCol w="1295640"/>
                <a:gridCol w="1288800"/>
                <a:gridCol w="130356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´</a:t>
                      </a:r>
                      <a:r>
                        <a:rPr b="0" i="1" lang="en-US" sz="1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 (stupně)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°/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1827360"/>
                <a:ext cx="261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73840" y="1817640"/>
                <a:ext cx="261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267680" y="1827360"/>
                <a:ext cx="261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564400" y="1817640"/>
                <a:ext cx="263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187280" y="2565360"/>
          <a:ext cx="7772400" cy="792000"/>
        </p:xfrm>
        <a:graphic>
          <a:graphicData uri="http://schemas.openxmlformats.org/drawingml/2006/table">
            <a:tbl>
              <a:tblPr/>
              <a:tblGrid>
                <a:gridCol w="1511640"/>
                <a:gridCol w="1079280"/>
                <a:gridCol w="1295280"/>
                <a:gridCol w="1295640"/>
                <a:gridCol w="1295280"/>
                <a:gridCol w="1295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sin</a:t>
                      </a:r>
                      <a:r>
                        <a:rPr b="1" i="1" lang="en-US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x´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44000" y="2709720"/>
                <a:ext cx="26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59280" y="2781360"/>
                <a:ext cx="2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35640" y="2565360"/>
                <a:ext cx="495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04000" y="2565360"/>
                <a:ext cx="476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84720" y="2565360"/>
                <a:ext cx="296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16000" y="3357720"/>
            <a:ext cx="802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II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 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6360"/>
                <a:tab algn="l" pos="1328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V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.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 = 2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´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Hodnoty goniometrické funkce sinu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2. roční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57340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ostatní úhly určíte pomocí kalkulátor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98100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88000" indent="-28800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tabulkové hodnoty“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48000" y="1989000"/>
                <a:ext cx="282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6157800" y="3502080"/>
            <a:ext cx="1845720" cy="1972440"/>
            <a:chOff x="6157800" y="3502080"/>
            <a:chExt cx="1845720" cy="1972440"/>
          </a:xfrm>
        </p:grpSpPr>
        <p:sp>
          <p:nvSpPr>
            <p:cNvPr id="193" name=""/>
            <p:cNvSpPr/>
            <p:nvPr/>
          </p:nvSpPr>
          <p:spPr>
            <a:xfrm>
              <a:off x="6516360" y="3935520"/>
              <a:ext cx="1150560" cy="1152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2720" y="3935520"/>
              <a:ext cx="0" cy="1150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6360" y="4511520"/>
              <a:ext cx="1150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16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006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0964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1800" y="444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980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7052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780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5440" y="5014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20920" y="450864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356000" y="429264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4869000"/>
            <a:ext cx="358920" cy="431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972">
                <a:moveTo>
                  <a:pt x="3600" y="0"/>
                </a:moveTo>
                <a:arcTo wR="3600" hR="3600" stAng="16200000" swAng="-5400000"/>
                <a:lnTo>
                  <a:pt x="0" y="22372"/>
                </a:lnTo>
                <a:arcTo wR="3600" hR="3600" stAng="10800000" swAng="-5400000"/>
                <a:lnTo>
                  <a:pt x="18000" y="25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4869000"/>
            <a:ext cx="16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4437000"/>
            <a:ext cx="576360" cy="1152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720"/>
              <a:gd name="textAreaBottom" fmla="*/ 1124640 h 1152720"/>
            </a:gdLst>
            <a:ahLst/>
            <a:rect l="textAreaLeft" t="textAreaTop" r="textAreaRight" b="textAreaBottom"/>
            <a:pathLst>
              <a:path w="21600" h="43187">
                <a:moveTo>
                  <a:pt x="3600" y="0"/>
                </a:moveTo>
                <a:arcTo wR="3600" hR="3600" stAng="16200000" swAng="-5400000"/>
                <a:lnTo>
                  <a:pt x="0" y="39587"/>
                </a:lnTo>
                <a:arcTo wR="3600" hR="3600" stAng="10800000" swAng="-5400000"/>
                <a:lnTo>
                  <a:pt x="18000" y="43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229360"/>
            <a:ext cx="64764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907920"/>
                <a:ext cx="1943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156360" y="2565360"/>
                <a:ext cx="259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25360" y="2637000"/>
                <a:ext cx="235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03280" y="3429000"/>
                <a:ext cx="2075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63640" y="5661000"/>
                <a:ext cx="34228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564000" y="2565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49228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3141720"/>
            <a:ext cx="0" cy="12222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35280" y="4365720"/>
            <a:ext cx="576720" cy="503280"/>
            <a:chOff x="5435280" y="4365720"/>
            <a:chExt cx="576720" cy="503280"/>
          </a:xfrm>
        </p:grpSpPr>
        <p:sp>
          <p:nvSpPr>
            <p:cNvPr id="219" name=""/>
            <p:cNvSpPr/>
            <p:nvPr/>
          </p:nvSpPr>
          <p:spPr>
            <a:xfrm>
              <a:off x="543564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35280" y="436572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35280" y="1341360"/>
                <a:ext cx="7308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06" idx="2"/>
            <a:endCxn id="205" idx="1"/>
          </p:cNvCxnSpPr>
          <p:nvPr/>
        </p:nvCxnSpPr>
        <p:spPr>
          <a:xfrm flipH="1" flipV="1" rot="5400000">
            <a:off x="3285720" y="424512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88040" y="2492280"/>
                <a:ext cx="23115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03280" y="335772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78200" y="1528920"/>
                <a:ext cx="3241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43280" y="263700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140360" y="2565360"/>
            <a:ext cx="1079280" cy="1079280"/>
            <a:chOff x="4140360" y="2565360"/>
            <a:chExt cx="1079280" cy="1079280"/>
          </a:xfrm>
        </p:grpSpPr>
        <p:sp>
          <p:nvSpPr>
            <p:cNvPr id="229" name=""/>
            <p:cNvSpPr/>
            <p:nvPr/>
          </p:nvSpPr>
          <p:spPr>
            <a:xfrm flipV="1">
              <a:off x="4643280" y="256536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360" y="314136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042920" y="333360"/>
                <a:ext cx="236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88000" y="2421000"/>
                <a:ext cx="2338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20920" y="3284640"/>
                <a:ext cx="23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741320" y="5626080"/>
                <a:ext cx="2948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780000" y="2421000"/>
            <a:ext cx="2604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141720"/>
            <a:ext cx="0" cy="10810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87480" y="907920"/>
                <a:ext cx="725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356000" y="422100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60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43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87280" y="2349360"/>
                <a:ext cx="26830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620040" y="2349360"/>
                <a:ext cx="2311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3284640"/>
                <a:ext cx="17589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5157720"/>
            <a:ext cx="576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8000" y="1052640"/>
                <a:ext cx="3241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643280" y="2781360"/>
            <a:ext cx="5032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55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42920" y="26028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540480" y="227664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3284640"/>
                <a:ext cx="2075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781280" y="5661000"/>
                <a:ext cx="291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995640" y="2276640"/>
            <a:ext cx="260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2924280"/>
            <a:ext cx="0" cy="12967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951200" y="907920"/>
                <a:ext cx="7192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355640" y="4292640"/>
            <a:ext cx="576720" cy="503280"/>
            <a:chOff x="4355640" y="4292640"/>
            <a:chExt cx="576720" cy="503280"/>
          </a:xfrm>
        </p:grpSpPr>
        <p:sp>
          <p:nvSpPr>
            <p:cNvPr id="267" name=""/>
            <p:cNvSpPr/>
            <p:nvPr/>
          </p:nvSpPr>
          <p:spPr>
            <a:xfrm>
              <a:off x="435600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55640" y="4292640"/>
              <a:ext cx="576360" cy="503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2276640"/>
                <a:ext cx="2970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. nebo 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4797360"/>
            <a:ext cx="16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4797360"/>
            <a:ext cx="358920" cy="432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432000"/>
              <a:gd name="textAreaBottom" fmla="*/ 414720 h 432000"/>
            </a:gdLst>
            <a:ahLst/>
            <a:rect l="textAreaLeft" t="textAreaTop" r="textAreaRight" b="textAreaBottom"/>
            <a:pathLst>
              <a:path w="21600" h="25994">
                <a:moveTo>
                  <a:pt x="3600" y="0"/>
                </a:moveTo>
                <a:arcTo wR="3600" hR="3600" stAng="16200000" swAng="-5400000"/>
                <a:lnTo>
                  <a:pt x="0" y="22394"/>
                </a:lnTo>
                <a:arcTo wR="3600" hR="3600" stAng="10800000" swAng="-5400000"/>
                <a:lnTo>
                  <a:pt x="18000" y="2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2" idx="2"/>
          </p:cNvCxnSpPr>
          <p:nvPr/>
        </p:nvCxnSpPr>
        <p:spPr>
          <a:xfrm flipH="1" flipV="1" rot="5400000">
            <a:off x="328572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4140360" y="227664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278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140360" y="2781360"/>
            <a:ext cx="50292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20920" y="4435560"/>
                <a:ext cx="23619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500720" y="4221000"/>
            <a:ext cx="4643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III. nebo IV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4797360"/>
            <a:ext cx="161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´= 45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º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042920" y="260280"/>
                <a:ext cx="2133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372360" y="2349360"/>
                <a:ext cx="2590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68560" y="2422440"/>
                <a:ext cx="235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76360" y="3213000"/>
                <a:ext cx="20750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11440" y="5661000"/>
                <a:ext cx="29844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618000" y="2349360"/>
            <a:ext cx="2604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.. III. kvadran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2133720"/>
            <a:ext cx="795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2924280"/>
            <a:ext cx="0" cy="1296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835280" y="974880"/>
                <a:ext cx="730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5866920" y="4292640"/>
            <a:ext cx="576720" cy="503280"/>
            <a:chOff x="5866920" y="4292640"/>
            <a:chExt cx="576720" cy="503280"/>
          </a:xfrm>
        </p:grpSpPr>
        <p:sp>
          <p:nvSpPr>
            <p:cNvPr id="294" name=""/>
            <p:cNvSpPr/>
            <p:nvPr/>
          </p:nvSpPr>
          <p:spPr>
            <a:xfrm>
              <a:off x="586728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866920" y="4292640"/>
              <a:ext cx="576360" cy="503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771640" y="4797360"/>
            <a:ext cx="287640" cy="43200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27">
                <a:moveTo>
                  <a:pt x="3600" y="0"/>
                </a:moveTo>
                <a:arcTo wR="3600" hR="3600" stAng="16200000" swAng="-5400000"/>
                <a:lnTo>
                  <a:pt x="0" y="28827"/>
                </a:lnTo>
                <a:arcTo wR="3600" hR="3600" stAng="10800000" swAng="-5400000"/>
                <a:lnTo>
                  <a:pt x="18000" y="3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4365720"/>
            <a:ext cx="576360" cy="1152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152360"/>
              <a:gd name="textAreaBottom" fmla="*/ 1124280 h 11523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5157720"/>
            <a:ext cx="7192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2"/>
          </p:cNvCxnSpPr>
          <p:nvPr/>
        </p:nvCxnSpPr>
        <p:spPr>
          <a:xfrm flipH="1" flipV="1" rot="5400000">
            <a:off x="3322440" y="4173480"/>
            <a:ext cx="662760" cy="1477080"/>
          </a:xfrm>
          <a:prstGeom prst="curvedConnector5">
            <a:avLst>
              <a:gd name="adj1" fmla="val -59945"/>
              <a:gd name="adj2" fmla="val 37298"/>
              <a:gd name="adj3" fmla="val -59945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grpSp>
        <p:nvGrpSpPr>
          <p:cNvPr id="300" name=""/>
          <p:cNvGrpSpPr/>
          <p:nvPr/>
        </p:nvGrpSpPr>
        <p:grpSpPr>
          <a:xfrm>
            <a:off x="4140360" y="2205000"/>
            <a:ext cx="1079280" cy="1079280"/>
            <a:chOff x="4140360" y="2205000"/>
            <a:chExt cx="1079280" cy="1079280"/>
          </a:xfrm>
        </p:grpSpPr>
        <p:sp>
          <p:nvSpPr>
            <p:cNvPr id="301" name=""/>
            <p:cNvSpPr/>
            <p:nvPr/>
          </p:nvSpPr>
          <p:spPr>
            <a:xfrm flipV="1">
              <a:off x="4643280" y="220500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40360" y="2781000"/>
              <a:ext cx="1079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5:04Z</dcterms:modified>
  <cp:revision>299</cp:revision>
  <dc:subject/>
  <dc:title>KČ</dc:title>
</cp:coreProperties>
</file>