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8C59-E633-4A95-B91E-CE732B7224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238-F46B-4F75-8283-BAEE5BA685C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8B3B-B536-48FD-B28C-B1085EC853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A729-11B2-42B9-9B20-D454E44C2B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D4B6-D282-4DAB-872A-CEAD58CCF71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C85-149D-4BCC-B211-6B488E8E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74F-F37D-4195-A875-5B88959E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424-D4AD-441F-932C-631B0245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77F-2C7F-4041-90A5-4361A066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1F24-C75A-4D7B-B533-506AD988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C3AB-663D-4139-B496-683DA3FF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FB7-06CA-4EF6-9922-BD190144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C0A2-8EEF-40CC-8A69-06FC04FE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9E7-CA8F-4A01-8598-D2EAAC4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31B-F2B9-43CA-894F-619C278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02C-C9ED-4BDB-8BDF-9DA53D57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DE8-39A3-4761-BB06-31398FC1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2A37-EFF0-425A-8DC6-9A874ABC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53BC-A82A-4980-9CB9-1BDA032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EB6D-1463-4C34-9C36-FEE215D4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4A7F-8B4E-4DEC-8DE8-5C39828F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1F82-70DC-4964-97B8-5A045140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524-04B5-41B6-8E50-87897A1C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EB4-2416-464F-9DFC-7A67687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C91-E737-484E-BF29-3626D819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680-4B1A-4F6E-9C39-F912F03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092-AF32-463E-B696-1320B36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5CD-73D0-48B2-9BB9-1BD8C78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ADD-CFEB-461A-8D9E-71E014D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BE0-557A-4E54-9D59-5C2294A8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D95C-9893-4412-B7C2-8B8D20F3F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364000" y="1484280"/>
                <a:ext cx="2078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451640" y="1484280"/>
                <a:ext cx="13892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19640" y="3284640"/>
                <a:ext cx="2309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523280" y="3284640"/>
                <a:ext cx="162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580000" y="5372280"/>
                <a:ext cx="2001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596360" y="5372280"/>
                <a:ext cx="668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024200" y="260280"/>
            <a:ext cx="79905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3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3440" y="112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1700280"/>
            <a:ext cx="38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3440" y="2852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350028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465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5300640"/>
            <a:ext cx="43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95080" y="112536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53920" y="112536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95080" y="285264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53920" y="28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5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95080" y="46530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53920" y="46512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7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71640" y="981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9000" y="260280"/>
            <a:ext cx="8024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6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6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cs-CZ" sz="26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6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6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580000" y="4508640"/>
                <a:ext cx="86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851280" y="2852640"/>
                <a:ext cx="863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08720" y="342900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457440" y="4003560"/>
                <a:ext cx="633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43640" y="1989000"/>
            <a:ext cx="576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716360" y="2421000"/>
            <a:ext cx="2448000" cy="158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308320" y="4076640"/>
                <a:ext cx="423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 flipH="1" flipV="1" rot="10800000">
            <a:off x="3053520" y="238392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1" y="4892"/>
                </a:moveTo>
                <a:arcTo wR="10800" hR="10800" stAng="-1989850" swAng="1892649"/>
                <a:lnTo>
                  <a:pt x="10800" y="10800"/>
                </a:lnTo>
                <a:close/>
              </a:path>
              <a:path fill="none" w="21600" h="21600">
                <a:moveTo>
                  <a:pt x="19841" y="4892"/>
                </a:moveTo>
                <a:arcTo wR="10800" hR="10800" stAng="-1989850" swAng="1892649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59280" y="6021360"/>
                <a:ext cx="4240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915240" y="4076640"/>
                <a:ext cx="185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827600" y="1627200"/>
                <a:ext cx="18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H="1" flipV="1" rot="10800000">
            <a:off x="3059280" y="23774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1" y="4828"/>
                </a:moveTo>
                <a:arcTo wR="10800" hR="10800" stAng="-8785924" swAng="6754492"/>
                <a:lnTo>
                  <a:pt x="10800" y="10800"/>
                </a:lnTo>
                <a:close/>
              </a:path>
              <a:path fill="none" w="21600" h="21600">
                <a:moveTo>
                  <a:pt x="1801" y="4828"/>
                </a:moveTo>
                <a:arcTo wR="10800" hR="10800" stAng="-8785924" swAng="6754492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123640" y="2349000"/>
            <a:ext cx="2592360" cy="16542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95880" y="1989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4003560"/>
            <a:ext cx="0" cy="2378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1880" y="6021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 rot="10800000">
            <a:off x="3060000" y="2396160"/>
            <a:ext cx="3310920" cy="326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5" y="21599"/>
                </a:moveTo>
                <a:arcTo wR="10800" hR="10800" stAng="5439703" swAng="7336439"/>
                <a:lnTo>
                  <a:pt x="10800" y="10800"/>
                </a:lnTo>
                <a:close/>
              </a:path>
              <a:path fill="none" w="21600" h="21600">
                <a:moveTo>
                  <a:pt x="10675" y="21599"/>
                </a:moveTo>
                <a:arcTo wR="10800" hR="10800" stAng="5439703" swAng="733643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43280" y="2781360"/>
            <a:ext cx="18730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2781360"/>
            <a:ext cx="381780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716360" y="2781360"/>
            <a:ext cx="1943280" cy="3456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588000" y="2708280"/>
            <a:ext cx="144720" cy="142920"/>
            <a:chOff x="6588000" y="2708280"/>
            <a:chExt cx="144720" cy="142920"/>
          </a:xfrm>
        </p:grpSpPr>
        <p:sp>
          <p:nvSpPr>
            <p:cNvPr id="358" name=""/>
            <p:cNvSpPr/>
            <p:nvPr/>
          </p:nvSpPr>
          <p:spPr>
            <a:xfrm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58800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771640" y="2708280"/>
            <a:ext cx="144720" cy="142920"/>
            <a:chOff x="2771640" y="2708280"/>
            <a:chExt cx="144720" cy="142920"/>
          </a:xfrm>
        </p:grpSpPr>
        <p:sp>
          <p:nvSpPr>
            <p:cNvPr id="361" name=""/>
            <p:cNvSpPr/>
            <p:nvPr/>
          </p:nvSpPr>
          <p:spPr>
            <a:xfrm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71640" y="27082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643280" y="6165720"/>
            <a:ext cx="144720" cy="142920"/>
            <a:chOff x="4643280" y="6165720"/>
            <a:chExt cx="144720" cy="142920"/>
          </a:xfrm>
        </p:grpSpPr>
        <p:sp>
          <p:nvSpPr>
            <p:cNvPr id="364" name=""/>
            <p:cNvSpPr/>
            <p:nvPr/>
          </p:nvSpPr>
          <p:spPr>
            <a:xfrm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64328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rot="14683800">
            <a:off x="3020400" y="2162520"/>
            <a:ext cx="3625920" cy="384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95" y="21353"/>
                </a:moveTo>
                <a:arcTo wR="10800" hR="10800" stAng="4663874" swAng="7748153"/>
                <a:lnTo>
                  <a:pt x="10800" y="10800"/>
                </a:lnTo>
                <a:close/>
              </a:path>
              <a:path fill="none" w="21600" h="21600">
                <a:moveTo>
                  <a:pt x="13095" y="21353"/>
                </a:moveTo>
                <a:arcTo wR="10800" hR="10800" stAng="4663874" swAng="774815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042920" y="333360"/>
                <a:ext cx="3465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619280" y="1125360"/>
                <a:ext cx="2390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27640" y="1197000"/>
                <a:ext cx="3301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042920" y="3860640"/>
                <a:ext cx="7558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69840" y="5013360"/>
                <a:ext cx="817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116000" y="6093000"/>
                <a:ext cx="77659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56000" y="2565360"/>
                <a:ext cx="4589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427640" y="1916280"/>
                <a:ext cx="4443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042920" y="907920"/>
                <a:ext cx="2979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619280" y="1484280"/>
                <a:ext cx="312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88000" y="1197000"/>
                <a:ext cx="1971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732720" y="1413000"/>
                <a:ext cx="1110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71640" y="765000"/>
            <a:ext cx="78469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2205000"/>
                <a:ext cx="300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3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619280" y="2708280"/>
                <a:ext cx="3349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932360" y="2708280"/>
                <a:ext cx="2585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613640" y="2711520"/>
                <a:ext cx="1530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3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332000" y="3933720"/>
                <a:ext cx="344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716360" y="3933720"/>
                <a:ext cx="293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7613640" y="3933720"/>
                <a:ext cx="153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042920" y="3429000"/>
                <a:ext cx="3154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038240" y="176040"/>
                <a:ext cx="79660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861320" y="1484280"/>
                <a:ext cx="1282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042920" y="4653000"/>
                <a:ext cx="3102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63640" y="5157720"/>
                <a:ext cx="3424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6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19640" y="5157720"/>
                <a:ext cx="2662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934400" y="5159520"/>
                <a:ext cx="1209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,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5805360"/>
                <a:ext cx="3127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763640" y="6237360"/>
                <a:ext cx="34257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48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219640" y="6237360"/>
                <a:ext cx="273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935840" y="6165720"/>
                <a:ext cx="12081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,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157800" y="297036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971640" y="836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16000" y="189000"/>
                <a:ext cx="8028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078520" y="45543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133800" y="333072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781440" y="462600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997440" y="2538360"/>
                <a:ext cx="690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149800" y="3112920"/>
                <a:ext cx="716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360600" y="3903840"/>
                <a:ext cx="684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44720" y="3903840"/>
            <a:ext cx="684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645080" y="102384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1280" y="3805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18160" y="808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79640" y="3876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80600" y="1457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3080" y="1671480"/>
            <a:ext cx="4535280" cy="446436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645080" y="1241280"/>
            <a:ext cx="1584360" cy="266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413080" y="3903840"/>
            <a:ext cx="223200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09680" y="3976560"/>
                <a:ext cx="478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 flipH="1" flipV="1" rot="10800000">
            <a:off x="2982240" y="228420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39" y="1529"/>
                </a:moveTo>
                <a:arcTo wR="10800" hR="10800" stAng="-3548637" swAng="3451436"/>
                <a:lnTo>
                  <a:pt x="10800" y="10800"/>
                </a:lnTo>
                <a:close/>
              </a:path>
              <a:path fill="none" w="21600" h="21600">
                <a:moveTo>
                  <a:pt x="16339" y="1529"/>
                </a:moveTo>
                <a:arcTo wR="10800" hR="10800" stAng="-3548637" swAng="345143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068720" y="5994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805440" y="3976560"/>
                <a:ext cx="2635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716360" y="1527120"/>
                <a:ext cx="2653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 flipH="1" flipV="1" rot="10800000">
            <a:off x="2989440" y="2282040"/>
            <a:ext cx="33184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53" y="3486"/>
                </a:moveTo>
                <a:arcTo wR="10800" hR="10800" stAng="-8242524" swAng="4563101"/>
                <a:lnTo>
                  <a:pt x="10800" y="10800"/>
                </a:lnTo>
                <a:close/>
              </a:path>
              <a:path fill="none" w="21600" h="21600">
                <a:moveTo>
                  <a:pt x="2853" y="3486"/>
                </a:moveTo>
                <a:arcTo wR="10800" hR="10800" stAng="-8242524" swAng="456310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269800" y="1746000"/>
            <a:ext cx="2374920" cy="21574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13320" y="1601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836360" y="3903840"/>
            <a:ext cx="2808360" cy="12985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92600" y="4194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 rot="10800000">
            <a:off x="2989080" y="229752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9" y="15294"/>
                </a:moveTo>
                <a:arcTo wR="10800" hR="10800" stAng="9324636" swAng="4035172"/>
                <a:lnTo>
                  <a:pt x="10800" y="10800"/>
                </a:lnTo>
                <a:close/>
              </a:path>
              <a:path fill="none" w="21600" h="21600">
                <a:moveTo>
                  <a:pt x="979" y="15294"/>
                </a:moveTo>
                <a:arcTo wR="10800" hR="10800" stAng="9324636" swAng="4035172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5080" y="3903840"/>
            <a:ext cx="214200" cy="27651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2600" y="59230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 rot="10800000">
            <a:off x="2987280" y="23061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43" y="21581"/>
                </a:moveTo>
                <a:arcTo wR="10800" hR="10800" stAng="5195292" swAng="4190073"/>
                <a:lnTo>
                  <a:pt x="10800" y="10800"/>
                </a:lnTo>
                <a:close/>
              </a:path>
              <a:path fill="none" w="21600" h="21600">
                <a:moveTo>
                  <a:pt x="11443" y="21581"/>
                </a:moveTo>
                <a:arcTo wR="10800" hR="10800" stAng="5195292" swAng="419007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9080" y="4410000"/>
            <a:ext cx="2089080" cy="1728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629080" y="2421000"/>
            <a:ext cx="358560" cy="227628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89440" y="1962000"/>
            <a:ext cx="2808000" cy="432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29080" y="4842000"/>
            <a:ext cx="2160360" cy="1296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917440" y="2322360"/>
            <a:ext cx="144720" cy="142920"/>
            <a:chOff x="2917440" y="2322360"/>
            <a:chExt cx="144720" cy="142920"/>
          </a:xfrm>
        </p:grpSpPr>
        <p:sp>
          <p:nvSpPr>
            <p:cNvPr id="435" name=""/>
            <p:cNvSpPr/>
            <p:nvPr/>
          </p:nvSpPr>
          <p:spPr>
            <a:xfrm>
              <a:off x="291780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17440" y="2322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57080" y="4770360"/>
            <a:ext cx="144720" cy="142920"/>
            <a:chOff x="2557080" y="4770360"/>
            <a:chExt cx="144720" cy="142920"/>
          </a:xfrm>
        </p:grpSpPr>
        <p:sp>
          <p:nvSpPr>
            <p:cNvPr id="438" name=""/>
            <p:cNvSpPr/>
            <p:nvPr/>
          </p:nvSpPr>
          <p:spPr>
            <a:xfrm>
              <a:off x="255744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557080" y="4770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717800" y="6066000"/>
            <a:ext cx="144720" cy="142560"/>
            <a:chOff x="4717800" y="6066000"/>
            <a:chExt cx="144720" cy="142560"/>
          </a:xfrm>
        </p:grpSpPr>
        <p:sp>
          <p:nvSpPr>
            <p:cNvPr id="441" name=""/>
            <p:cNvSpPr/>
            <p:nvPr/>
          </p:nvSpPr>
          <p:spPr>
            <a:xfrm>
              <a:off x="471816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717800" y="606600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H="1" flipV="1" rot="10800000">
            <a:off x="2547720" y="1944360"/>
            <a:ext cx="4047480" cy="406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1" y="1640"/>
                </a:moveTo>
                <a:arcTo wR="10800" hR="10800" stAng="-3480785" swAng="4079497"/>
                <a:lnTo>
                  <a:pt x="10800" y="10800"/>
                </a:lnTo>
                <a:close/>
              </a:path>
              <a:path fill="none" w="21600" h="21600">
                <a:moveTo>
                  <a:pt x="16521" y="1640"/>
                </a:moveTo>
                <a:arcTo wR="10800" hR="10800" stAng="-3480785" swAng="407949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5080" y="3905280"/>
            <a:ext cx="302400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 rot="10800000">
            <a:off x="3007080" y="2250720"/>
            <a:ext cx="3323520" cy="331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70" y="13448"/>
                </a:moveTo>
                <a:arcTo wR="10800" hR="10800" stAng="851548" swAng="4344455"/>
                <a:lnTo>
                  <a:pt x="10800" y="10800"/>
                </a:lnTo>
                <a:close/>
              </a:path>
              <a:path fill="none" w="21600" h="21600">
                <a:moveTo>
                  <a:pt x="21270" y="13448"/>
                </a:moveTo>
                <a:arcTo wR="10800" hR="10800" stAng="851548" swAng="4344455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61680" y="4265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7440" y="1962000"/>
            <a:ext cx="1081080" cy="24480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725800" y="1889280"/>
            <a:ext cx="144720" cy="142560"/>
            <a:chOff x="5725800" y="1889280"/>
            <a:chExt cx="144720" cy="142560"/>
          </a:xfrm>
        </p:grpSpPr>
        <p:sp>
          <p:nvSpPr>
            <p:cNvPr id="449" name=""/>
            <p:cNvSpPr/>
            <p:nvPr/>
          </p:nvSpPr>
          <p:spPr>
            <a:xfrm>
              <a:off x="572616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725800" y="1889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805440" y="4338720"/>
            <a:ext cx="144720" cy="142920"/>
            <a:chOff x="6805440" y="4338720"/>
            <a:chExt cx="144720" cy="142920"/>
          </a:xfrm>
        </p:grpSpPr>
        <p:sp>
          <p:nvSpPr>
            <p:cNvPr id="452" name=""/>
            <p:cNvSpPr/>
            <p:nvPr/>
          </p:nvSpPr>
          <p:spPr>
            <a:xfrm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805440" y="4338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116000" y="549360"/>
                <a:ext cx="25592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604880" y="1844640"/>
                <a:ext cx="7539120" cy="399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19280" y="1700280"/>
                <a:ext cx="6808680" cy="37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668600" y="1700280"/>
                <a:ext cx="74754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187280" y="476280"/>
                <a:ext cx="2556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619280" y="1773360"/>
                <a:ext cx="725184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116000" y="476280"/>
                <a:ext cx="2276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692360" y="1773360"/>
                <a:ext cx="6773760" cy="35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 a grafického znázornění kořenů v Gaussově rovině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028880" y="476280"/>
                <a:ext cx="2452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692360" y="1700280"/>
                <a:ext cx="6807240" cy="41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6056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776240" y="1700280"/>
                <a:ext cx="718848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971640" y="476280"/>
                <a:ext cx="24494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47640" y="1916280"/>
                <a:ext cx="7596360" cy="34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7:</m:t>
                            </m:r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=</m:t>
                                  </m:r>
                                </m:e>
                              </m:acc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3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042920" y="476280"/>
                <a:ext cx="3463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827360" y="1341360"/>
                <a:ext cx="73166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42920" y="3429000"/>
                <a:ext cx="3463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733400" y="4365720"/>
                <a:ext cx="7410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619280" y="1411200"/>
                <a:ext cx="7524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71640" y="476280"/>
                <a:ext cx="2975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971640" y="3500280"/>
                <a:ext cx="29750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619280" y="4437000"/>
                <a:ext cx="7232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1413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900000" y="189000"/>
            <a:ext cx="82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Řešte v C rovnice a jejich kořeny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znázorněte v Gaussově rovině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340000" y="2131920"/>
                <a:ext cx="1641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140360" y="2114640"/>
                <a:ext cx="480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71640" y="3429000"/>
                <a:ext cx="799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4724280"/>
                <a:ext cx="8202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42920" y="5950080"/>
                <a:ext cx="804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81200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1320" y="4653000"/>
            <a:ext cx="143964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6240" y="4629240"/>
            <a:ext cx="1152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2060640"/>
            <a:ext cx="1368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448720" y="2169360"/>
            <a:ext cx="358560" cy="28728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475640" y="4869720"/>
            <a:ext cx="28728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3"/>
            <a:endCxn id="153" idx="4"/>
          </p:cNvCxnSpPr>
          <p:nvPr/>
        </p:nvCxnSpPr>
        <p:spPr>
          <a:xfrm flipV="1" rot="10800000">
            <a:off x="1463040" y="2187360"/>
            <a:ext cx="1050120" cy="2824560"/>
          </a:xfrm>
          <a:prstGeom prst="curvedConnector5">
            <a:avLst>
              <a:gd name="adj1" fmla="val 161865"/>
              <a:gd name="adj2" fmla="val 49993"/>
              <a:gd name="adj3" fmla="val 161865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413000"/>
            <a:ext cx="3502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4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080" y="300996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3440" y="4005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57992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22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29600" y="128520"/>
            <a:ext cx="7989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4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544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2440" y="83664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544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100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5440" y="4005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1000" y="400536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2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344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5440" y="558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11000" y="558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00720" y="119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732720" y="141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16360" y="2781360"/>
                <a:ext cx="2446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13600" y="299736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16360" y="4363920"/>
                <a:ext cx="24480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093080" y="4579920"/>
                <a:ext cx="2003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88000" y="5877000"/>
                <a:ext cx="2224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20000" y="6093000"/>
                <a:ext cx="179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009800" y="6118200"/>
            <a:ext cx="38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4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12000" y="4219560"/>
                <a:ext cx="691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71640" y="7761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9240" y="115920"/>
            <a:ext cx="7989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4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9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, 2, 3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48000" y="328464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16360" y="4795920"/>
                <a:ext cx="692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16360" y="2635200"/>
                <a:ext cx="69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64000" y="3355920"/>
                <a:ext cx="71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19640" y="400356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23520" y="16272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16360" y="1916280"/>
            <a:ext cx="2087640" cy="208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07664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flipH="1" flipV="1" rot="10800000">
            <a:off x="3053520" y="2383560"/>
            <a:ext cx="332496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261203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261203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88000" y="6093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877080" y="4076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88000" y="1627200"/>
                <a:ext cx="264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 flipV="1" rot="10800000">
            <a:off x="3059640" y="2377440"/>
            <a:ext cx="331956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4" y="2883"/>
                </a:moveTo>
                <a:arcTo wR="10800" hR="10800" stAng="-7971639" swAng="5189766"/>
                <a:lnTo>
                  <a:pt x="10800" y="10800"/>
                </a:lnTo>
                <a:close/>
              </a:path>
              <a:path fill="none" w="21600" h="21600">
                <a:moveTo>
                  <a:pt x="3454" y="2883"/>
                </a:moveTo>
                <a:arcTo wR="10800" hR="10800" stAng="-7971639" swAng="5189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55640" y="1771560"/>
            <a:ext cx="2160360" cy="2232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880" y="1555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916360" y="4003560"/>
            <a:ext cx="1800000" cy="201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916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 rot="10800000">
            <a:off x="3060360" y="2397600"/>
            <a:ext cx="331740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56" y="18718"/>
                </a:moveTo>
                <a:arcTo wR="10800" hR="10800" stAng="7970826" swAng="5625317"/>
                <a:lnTo>
                  <a:pt x="10800" y="10800"/>
                </a:lnTo>
                <a:close/>
              </a:path>
              <a:path fill="none" w="21600" h="21600">
                <a:moveTo>
                  <a:pt x="3456" y="18718"/>
                </a:moveTo>
                <a:arcTo wR="10800" hR="10800" stAng="7970826" swAng="562531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003560"/>
            <a:ext cx="2232000" cy="2305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23520" y="55879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3058560" y="2401560"/>
            <a:ext cx="332352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8" y="18715"/>
                </a:moveTo>
                <a:arcTo wR="10800" hR="10800" stAng="2827826" swAng="5071111"/>
                <a:lnTo>
                  <a:pt x="10800" y="10800"/>
                </a:lnTo>
                <a:close/>
              </a:path>
              <a:path fill="none" w="21600" h="21600">
                <a:moveTo>
                  <a:pt x="18148" y="18715"/>
                </a:moveTo>
                <a:arcTo wR="10800" hR="10800" stAng="2827826" swAng="507111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2419200"/>
            <a:ext cx="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24192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5661000"/>
            <a:ext cx="309708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227640" y="2347920"/>
            <a:ext cx="144720" cy="142920"/>
            <a:chOff x="6227640" y="2347920"/>
            <a:chExt cx="144720" cy="142920"/>
          </a:xfrm>
        </p:grpSpPr>
        <p:sp>
          <p:nvSpPr>
            <p:cNvPr id="217" name=""/>
            <p:cNvSpPr/>
            <p:nvPr/>
          </p:nvSpPr>
          <p:spPr>
            <a:xfrm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2764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32000" y="2347920"/>
            <a:ext cx="144720" cy="142920"/>
            <a:chOff x="3132000" y="2347920"/>
            <a:chExt cx="144720" cy="142920"/>
          </a:xfrm>
        </p:grpSpPr>
        <p:sp>
          <p:nvSpPr>
            <p:cNvPr id="220" name=""/>
            <p:cNvSpPr/>
            <p:nvPr/>
          </p:nvSpPr>
          <p:spPr>
            <a:xfrm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132000" y="234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32000" y="5587920"/>
            <a:ext cx="144720" cy="142920"/>
            <a:chOff x="3132000" y="5587920"/>
            <a:chExt cx="144720" cy="142920"/>
          </a:xfrm>
        </p:grpSpPr>
        <p:sp>
          <p:nvSpPr>
            <p:cNvPr id="223" name=""/>
            <p:cNvSpPr/>
            <p:nvPr/>
          </p:nvSpPr>
          <p:spPr>
            <a:xfrm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3200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227640" y="5587920"/>
            <a:ext cx="144720" cy="142920"/>
            <a:chOff x="6227640" y="5587920"/>
            <a:chExt cx="144720" cy="142920"/>
          </a:xfrm>
        </p:grpSpPr>
        <p:sp>
          <p:nvSpPr>
            <p:cNvPr id="226" name=""/>
            <p:cNvSpPr/>
            <p:nvPr/>
          </p:nvSpPr>
          <p:spPr>
            <a:xfrm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227640" y="55879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 rot="10800000">
            <a:off x="2618280" y="2044440"/>
            <a:ext cx="4048200" cy="406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16" y="3143"/>
                </a:moveTo>
                <a:arcTo wR="10800" hR="10800" stAng="-2709238" swAng="5339366"/>
                <a:lnTo>
                  <a:pt x="10800" y="10800"/>
                </a:lnTo>
                <a:close/>
              </a:path>
              <a:path fill="none" w="21600" h="21600">
                <a:moveTo>
                  <a:pt x="18416" y="3143"/>
                </a:moveTo>
                <a:arcTo wR="10800" hR="10800" stAng="-2709238" swAng="53393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971640" y="189000"/>
                <a:ext cx="2360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38560" y="1341360"/>
                <a:ext cx="1671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116000" y="357192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200240" y="4797360"/>
                <a:ext cx="75754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01600" y="5910120"/>
                <a:ext cx="8042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79640" y="836640"/>
                <a:ext cx="1523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572000" y="2133720"/>
                <a:ext cx="3087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211640" y="1557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zápor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2000" y="306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4797360"/>
            <a:ext cx="1295280" cy="107964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797360"/>
            <a:ext cx="1296720" cy="960480"/>
          </a:xfrm>
          <a:custGeom>
            <a:avLst/>
            <a:gdLst/>
            <a:ahLst/>
            <a:rect l="l" t="t" r="r" b="b"/>
            <a:pathLst>
              <a:path w="861" h="605">
                <a:moveTo>
                  <a:pt x="68" y="60"/>
                </a:moveTo>
                <a:cubicBezTo>
                  <a:pt x="15" y="120"/>
                  <a:pt x="0" y="287"/>
                  <a:pt x="113" y="378"/>
                </a:cubicBezTo>
                <a:cubicBezTo>
                  <a:pt x="226" y="469"/>
                  <a:pt x="635" y="605"/>
                  <a:pt x="748" y="605"/>
                </a:cubicBezTo>
                <a:cubicBezTo>
                  <a:pt x="861" y="605"/>
                  <a:pt x="809" y="424"/>
                  <a:pt x="794" y="378"/>
                </a:cubicBezTo>
                <a:cubicBezTo>
                  <a:pt x="779" y="332"/>
                  <a:pt x="703" y="340"/>
                  <a:pt x="658" y="332"/>
                </a:cubicBezTo>
                <a:cubicBezTo>
                  <a:pt x="613" y="324"/>
                  <a:pt x="552" y="347"/>
                  <a:pt x="522" y="332"/>
                </a:cubicBezTo>
                <a:cubicBezTo>
                  <a:pt x="492" y="317"/>
                  <a:pt x="484" y="280"/>
                  <a:pt x="476" y="242"/>
                </a:cubicBezTo>
                <a:cubicBezTo>
                  <a:pt x="468" y="204"/>
                  <a:pt x="483" y="144"/>
                  <a:pt x="476" y="106"/>
                </a:cubicBezTo>
                <a:cubicBezTo>
                  <a:pt x="469" y="68"/>
                  <a:pt x="499" y="23"/>
                  <a:pt x="431" y="15"/>
                </a:cubicBezTo>
                <a:cubicBezTo>
                  <a:pt x="363" y="7"/>
                  <a:pt x="121" y="0"/>
                  <a:pt x="68" y="60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2484000" y="1555920"/>
            <a:ext cx="358920" cy="2156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1762560" y="5085360"/>
            <a:ext cx="287640" cy="2858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341360"/>
            <a:ext cx="1511280" cy="935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4"/>
            <a:endCxn id="241" idx="4"/>
          </p:cNvCxnSpPr>
          <p:nvPr/>
        </p:nvCxnSpPr>
        <p:spPr>
          <a:xfrm flipV="1" rot="10800000">
            <a:off x="1750320" y="1663200"/>
            <a:ext cx="791280" cy="3564720"/>
          </a:xfrm>
          <a:prstGeom prst="curvedConnector5">
            <a:avLst>
              <a:gd name="adj1" fmla="val 127309"/>
              <a:gd name="adj2" fmla="val 49994"/>
              <a:gd name="adj3" fmla="val 127309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643280" y="1989000"/>
                <a:ext cx="26686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267680" y="2060640"/>
                <a:ext cx="1876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971640" y="1197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716360" y="4437000"/>
                <a:ext cx="2436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164360" y="4437000"/>
                <a:ext cx="1644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76360" y="189000"/>
                <a:ext cx="27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135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1800" y="1413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220500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13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3440" y="141300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60120" y="1413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47640" y="2133720"/>
                <a:ext cx="249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73440" y="3933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4726080"/>
            <a:ext cx="4537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=   </a:t>
            </a:r>
            <a:r>
              <a:rPr b="0" lang="en-US" sz="26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(cos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sin315</a:t>
            </a:r>
            <a:r>
              <a:rPr b="0" lang="en-US" sz="26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95080" y="393372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13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69560" y="3933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31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619280" y="4653000"/>
                <a:ext cx="24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76360" y="189000"/>
                <a:ext cx="304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971640" y="105264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38520" y="260280"/>
            <a:ext cx="8076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7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7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700" spc="-1" strike="noStrike">
                <a:solidFill>
                  <a:srgbClr val="66ff33"/>
                </a:solidFill>
                <a:latin typeface="Times New Roman"/>
              </a:rPr>
              <a:t>135</a:t>
            </a:r>
            <a:r>
              <a:rPr b="0" lang="cs-CZ" sz="27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7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700" spc="-1" strike="noStrike">
                <a:solidFill>
                  <a:srgbClr val="ff99ff"/>
                </a:solidFill>
                <a:latin typeface="Times New Roman"/>
              </a:rPr>
              <a:t>180</a:t>
            </a:r>
            <a:r>
              <a:rPr b="0" lang="cs-CZ" sz="27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7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dddddd"/>
                </a:solidFill>
                <a:latin typeface="Times New Roman"/>
              </a:rPr>
              <a:t> = 0, 1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51640" y="4149720"/>
                <a:ext cx="938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51280" y="4941720"/>
                <a:ext cx="936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2924280"/>
                <a:ext cx="89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132000" y="3213000"/>
                <a:ext cx="7606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116000" y="400356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6360" y="1123920"/>
            <a:ext cx="0" cy="5399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02920" y="3905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9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5128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788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84360" y="1771560"/>
            <a:ext cx="453564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771640" y="1989000"/>
            <a:ext cx="1944720" cy="2014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84360" y="400356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268360" y="414972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H="1" flipV="1" rot="10800000">
            <a:off x="3053520" y="2387160"/>
            <a:ext cx="33260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64" y="2874"/>
                </a:moveTo>
                <a:arcTo wR="10800" hR="10800" stAng="-7967118" swAng="7869916"/>
                <a:lnTo>
                  <a:pt x="10800" y="10800"/>
                </a:lnTo>
                <a:close/>
              </a:path>
              <a:path fill="none" w="21600" h="21600">
                <a:moveTo>
                  <a:pt x="3464" y="2874"/>
                </a:moveTo>
                <a:arcTo wR="10800" hR="10800" stAng="-7967118" swAng="7869916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88000" y="5877000"/>
                <a:ext cx="557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77080" y="407664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788000" y="1484280"/>
                <a:ext cx="3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H="1" flipV="1" rot="10800000">
            <a:off x="3058920" y="2379240"/>
            <a:ext cx="332028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95" y="21596"/>
                </a:moveTo>
                <a:arcTo wR="10800" hR="10800" stAng="5497190" swAng="8147509"/>
                <a:lnTo>
                  <a:pt x="10800" y="10800"/>
                </a:lnTo>
                <a:close/>
              </a:path>
              <a:path fill="none" w="21600" h="21600">
                <a:moveTo>
                  <a:pt x="10495" y="21596"/>
                </a:moveTo>
                <a:arcTo wR="10800" hR="10800" stAng="5497190" swAng="814750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4003560"/>
            <a:ext cx="1943280" cy="20178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5160" y="530064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10800000">
            <a:off x="2779560" y="2133000"/>
            <a:ext cx="3879000" cy="368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4" y="0"/>
                </a:moveTo>
                <a:arcTo wR="10800" hR="10800" stAng="-5414668" swAng="8297766"/>
                <a:lnTo>
                  <a:pt x="10800" y="10800"/>
                </a:lnTo>
                <a:close/>
              </a:path>
              <a:path fill="none" w="21600" h="21600">
                <a:moveTo>
                  <a:pt x="10754" y="0"/>
                </a:moveTo>
                <a:arcTo wR="10800" hR="10800" stAng="-5414668" swAng="8297766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 rot="10800000">
            <a:off x="3100320" y="2252520"/>
            <a:ext cx="3321720" cy="33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75" y="18872"/>
                </a:moveTo>
                <a:arcTo wR="10800" hR="10800" stAng="2901907" swAng="2592957"/>
                <a:lnTo>
                  <a:pt x="10800" y="10800"/>
                </a:lnTo>
                <a:close/>
              </a:path>
              <a:path fill="none" w="21600" h="21600">
                <a:moveTo>
                  <a:pt x="17975" y="18872"/>
                </a:moveTo>
                <a:arcTo wR="10800" hR="10800" stAng="2901907" swAng="2592957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0800000">
            <a:off x="2785680" y="2131560"/>
            <a:ext cx="3877200" cy="36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3" y="2810"/>
                </a:moveTo>
                <a:arcTo wR="10800" hR="10800" stAng="-7937273" swAng="2509183"/>
                <a:lnTo>
                  <a:pt x="10800" y="10800"/>
                </a:lnTo>
                <a:close/>
              </a:path>
              <a:path fill="none" w="21600" h="21600">
                <a:moveTo>
                  <a:pt x="3533" y="2810"/>
                </a:moveTo>
                <a:arcTo wR="10800" hR="10800" stAng="-7937273" swAng="2509183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419200"/>
            <a:ext cx="3097080" cy="3241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132000" y="2349360"/>
            <a:ext cx="144720" cy="142920"/>
            <a:chOff x="3132000" y="2349360"/>
            <a:chExt cx="144720" cy="142920"/>
          </a:xfrm>
        </p:grpSpPr>
        <p:sp>
          <p:nvSpPr>
            <p:cNvPr id="290" name=""/>
            <p:cNvSpPr/>
            <p:nvPr/>
          </p:nvSpPr>
          <p:spPr>
            <a:xfrm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3200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27640" y="5589720"/>
            <a:ext cx="144720" cy="142920"/>
            <a:chOff x="6227640" y="5589720"/>
            <a:chExt cx="144720" cy="142920"/>
          </a:xfrm>
        </p:grpSpPr>
        <p:sp>
          <p:nvSpPr>
            <p:cNvPr id="293" name=""/>
            <p:cNvSpPr/>
            <p:nvPr/>
          </p:nvSpPr>
          <p:spPr>
            <a:xfrm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227640" y="558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16000" y="333360"/>
                <a:ext cx="2001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124000" y="982800"/>
                <a:ext cx="9558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4653000"/>
                <a:ext cx="7777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87280" y="5950080"/>
                <a:ext cx="7705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116000" y="3284640"/>
                <a:ext cx="7813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51280" y="1844640"/>
                <a:ext cx="2546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492360" y="105264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ryze imaginární KČ kla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12000" y="278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268360" y="1052280"/>
            <a:ext cx="358920" cy="21600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1727280" y="4833720"/>
            <a:ext cx="287280" cy="214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43280" y="981000"/>
            <a:ext cx="1008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3" idx="4"/>
            <a:endCxn id="304" idx="4"/>
          </p:cNvCxnSpPr>
          <p:nvPr/>
        </p:nvCxnSpPr>
        <p:spPr>
          <a:xfrm flipV="1" rot="10800000">
            <a:off x="1751760" y="1159560"/>
            <a:ext cx="573840" cy="3781800"/>
          </a:xfrm>
          <a:prstGeom prst="curvedConnector5">
            <a:avLst>
              <a:gd name="adj1" fmla="val 265913"/>
              <a:gd name="adj2" fmla="val 50000"/>
              <a:gd name="adj3" fmla="val 265913"/>
            </a:avLst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29Z</dcterms:modified>
  <cp:revision>297</cp:revision>
  <dc:subject/>
  <dc:title>KČ</dc:title>
</cp:coreProperties>
</file>