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1E9A-3685-49C7-B15E-D7B6D0A2A7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6CDF-50F7-49B3-9C6A-BEDDA90451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8D26-D775-43D7-8ED3-EB88C14673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CD93-B25A-442E-A9CB-3EABAD1932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7832-DFBB-4AED-A378-082592BAFA1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39A-04C7-484C-BB35-3606C12B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35F-7F7C-4B24-BA06-BA74DDD1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B60-CF62-4C28-B5C2-0D47FD1C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78C-E0E3-4883-8B6A-148FBE79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6898-2342-4D5A-AE80-985A0AAE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5B8D-5459-493C-B9D3-772F7C2E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0033-8940-40CF-8B71-462518DF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CFEC-48D4-472B-8F4A-12F38764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EF30-C7EC-4035-BB9C-B101458A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BE99-70B9-4782-992A-FE21D15C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73FD-1DB1-4C79-8771-7DAA51DB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7D5-FA25-49D8-80C4-6B700211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A804-D63C-451B-8203-61B0E49C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459D-1BAE-442F-B6D0-4B67F305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EF11-6176-4792-959E-5B4AD7AE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89FC-41D8-4B7A-B94A-D9E78CF4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217D-A402-4A0D-9042-09812D13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50C-F16F-4F12-BA34-211104F0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161-2BE6-4600-A149-047A0878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593-513A-467E-B7A1-98FDC08B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4CA-1B94-4096-8BAE-A5288A1D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E64-BC14-4568-BE4E-7BC468C6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718-8205-4310-973F-7BED7EB8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535-5226-4CAA-B84C-5D8A45E4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271F-B779-4329-914E-0A2EBA02E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241B-BDA3-4F00-BAF3-E58F25010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116000" y="189000"/>
            <a:ext cx="8028000" cy="6048360"/>
            <a:chOff x="1116000" y="189000"/>
            <a:chExt cx="8028000" cy="6048360"/>
          </a:xfrm>
        </p:grpSpPr>
        <p:sp>
          <p:nvSpPr>
            <p:cNvPr id="235" name=""/>
            <p:cNvSpPr/>
            <p:nvPr/>
          </p:nvSpPr>
          <p:spPr>
            <a:xfrm>
              <a:off x="1116000" y="189000"/>
              <a:ext cx="802800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ccecff"/>
                  </a:solidFill>
                  <a:latin typeface="Times New Roman"/>
                </a:rPr>
                <a:t>Příklad</a:t>
              </a:r>
              <a:r>
                <a:rPr b="0" lang="en-US" sz="30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Je-li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1 – 2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b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3 +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c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5 – 4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– 3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, e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7,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vypočtěte: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16000" y="1773360"/>
              <a:ext cx="266400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+ b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+ c + d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– b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b – a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c – a + d – e =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 + e – d – c = 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340000" y="1773360"/>
            <a:ext cx="68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1773360"/>
            <a:ext cx="37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2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2349360"/>
            <a:ext cx="6156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08720" y="2349360"/>
            <a:ext cx="18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4 – 9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2997360"/>
            <a:ext cx="687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2997360"/>
            <a:ext cx="406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3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96360" y="2997360"/>
            <a:ext cx="154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4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3500280"/>
            <a:ext cx="687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4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645000"/>
            <a:ext cx="41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1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24720" y="3645000"/>
            <a:ext cx="16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4 +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4292640"/>
            <a:ext cx="55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32000" y="4941720"/>
            <a:ext cx="60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4941720"/>
            <a:ext cx="190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13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5589720"/>
            <a:ext cx="55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7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6021360"/>
            <a:ext cx="60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4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7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+ 5 +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20000" y="6165720"/>
            <a:ext cx="21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80496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3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in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981000"/>
            <a:ext cx="75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 . 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 (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1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+ 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76360" y="558972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96360" y="2349360"/>
            <a:ext cx="360360" cy="2876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80360" y="1773360"/>
            <a:ext cx="358560" cy="5760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76000"/>
              <a:gd name="textAreaBottom" fmla="*/ 558720 h 576000"/>
            </a:gdLst>
            <a:ahLst/>
            <a:rect l="textAreaLeft" t="textAreaTop" r="textAreaRight" b="textAreaBottom"/>
            <a:pathLst>
              <a:path w="21600" h="34686">
                <a:moveTo>
                  <a:pt x="3600" y="0"/>
                </a:moveTo>
                <a:arcTo wR="3600" hR="3600" stAng="16200000" swAng="-5400000"/>
                <a:lnTo>
                  <a:pt x="0" y="31086"/>
                </a:lnTo>
                <a:arcTo wR="3600" hR="3600" stAng="10800000" swAng="-5400000"/>
                <a:lnTo>
                  <a:pt x="18000" y="34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4724280"/>
            <a:ext cx="2232000" cy="577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4724280"/>
            <a:ext cx="2737080" cy="577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5229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92360" y="522936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00000" y="189000"/>
            <a:ext cx="82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Je-li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,  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ypočtět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1989000"/>
            <a:ext cx="26640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b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 . c . d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b – e . c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79640" y="1989000"/>
            <a:ext cx="71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516000" y="1989000"/>
            <a:ext cx="8636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60720" y="15606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2781360"/>
            <a:ext cx="68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59280" y="522936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– 7(– 5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1989000"/>
            <a:ext cx="45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1989000"/>
            <a:ext cx="18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1 + 7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0920" y="3645000"/>
            <a:ext cx="7093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1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(1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+ 1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780000" y="2997360"/>
            <a:ext cx="2232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3440" y="3429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00720" y="3429000"/>
            <a:ext cx="0" cy="4334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645000"/>
            <a:ext cx="3635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12 – 3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2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236000" y="3789360"/>
            <a:ext cx="100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53080" y="33577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08720" y="4294080"/>
            <a:ext cx="3635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40000"/>
              </a:lnSpc>
              <a:tabLst>
                <a:tab algn="l" pos="0"/>
                <a:tab algn="l" pos="272880"/>
                <a:tab algn="l" pos="35568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8 + 39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27280" y="6021360"/>
            <a:ext cx="65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3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6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35 +28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6021360"/>
            <a:ext cx="19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132000" y="5300640"/>
            <a:ext cx="237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508720" y="5300640"/>
            <a:ext cx="2016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59280" y="6093000"/>
            <a:ext cx="2520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580000" y="6093000"/>
            <a:ext cx="1656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5732640"/>
            <a:ext cx="0" cy="360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43640" y="5732640"/>
            <a:ext cx="0" cy="3603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788000" y="6093000"/>
            <a:ext cx="792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05080" y="56610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564000" y="3860640"/>
            <a:ext cx="1944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84000" y="3860640"/>
            <a:ext cx="1081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42920" y="260280"/>
            <a:ext cx="75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Mocniny imaginárního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126828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žíváme algebraické vzorce známé již ze Z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03280" y="2131920"/>
                <a:ext cx="4027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±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76360" y="2781360"/>
                <a:ext cx="54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±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258920" y="371628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76360" y="4653000"/>
                <a:ext cx="13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771640" y="4653000"/>
                <a:ext cx="2079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788000" y="4653000"/>
                <a:ext cx="15271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995640" y="465300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68360" y="4221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573200" y="5965920"/>
                <a:ext cx="1104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771640" y="5950080"/>
                <a:ext cx="2795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86480" y="5942160"/>
                <a:ext cx="1396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140360" y="5950080"/>
            <a:ext cx="792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12720" y="55166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2360" y="5950080"/>
            <a:ext cx="64764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79960" y="551664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580000" y="5589360"/>
            <a:ext cx="432000" cy="14436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992920" y="5300640"/>
                <a:ext cx="315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116000" y="981000"/>
                <a:ext cx="2592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116000" y="2565360"/>
                <a:ext cx="2467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116000" y="4076640"/>
                <a:ext cx="244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116000" y="5516640"/>
                <a:ext cx="27147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2627280" y="1700280"/>
            <a:ext cx="1963800" cy="5013360"/>
            <a:chOff x="2627280" y="1700280"/>
            <a:chExt cx="1963800" cy="5013360"/>
          </a:xfrm>
        </p:grpSpPr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2627280" y="1700280"/>
                  <a:ext cx="122076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2771640" y="3284640"/>
                  <a:ext cx="12556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771640" y="4724280"/>
                  <a:ext cx="18194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771640" y="6237360"/>
                  <a:ext cx="16606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9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 (zapište v AT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197320" y="981000"/>
                <a:ext cx="3486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124600" y="2565360"/>
                <a:ext cx="3917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197320" y="4076640"/>
                <a:ext cx="345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268960" y="5445000"/>
                <a:ext cx="2962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7093080" y="1700280"/>
            <a:ext cx="1858320" cy="5005440"/>
            <a:chOff x="7093080" y="1700280"/>
            <a:chExt cx="1858320" cy="500544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7093080" y="1700280"/>
                  <a:ext cx="1596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7135560" y="3284640"/>
                  <a:ext cx="125208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7165800" y="4797360"/>
                  <a:ext cx="1785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7165800" y="6093000"/>
                  <a:ext cx="17236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87280" y="981000"/>
                <a:ext cx="1513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187280" y="2421000"/>
                <a:ext cx="1541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187280" y="3933720"/>
                <a:ext cx="1544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187280" y="5373720"/>
                <a:ext cx="1729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) reálnou, b) imaginární část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593720" y="1700280"/>
            <a:ext cx="2246400" cy="4937040"/>
            <a:chOff x="1593720" y="1700280"/>
            <a:chExt cx="2246400" cy="4937040"/>
          </a:xfrm>
        </p:grpSpPr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1593720" y="1700280"/>
                  <a:ext cx="16909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1619280" y="3213000"/>
                  <a:ext cx="197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1619280" y="4653000"/>
                  <a:ext cx="194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1619280" y="6093000"/>
                  <a:ext cx="22208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121360" y="981000"/>
                <a:ext cx="1760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76720" y="2421000"/>
                <a:ext cx="1573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076720" y="4005360"/>
                <a:ext cx="2162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5148360" y="5373720"/>
                <a:ext cx="2778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5580000" y="1700280"/>
            <a:ext cx="2379600" cy="4937040"/>
            <a:chOff x="5580000" y="1700280"/>
            <a:chExt cx="2379600" cy="493704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5580000" y="1700280"/>
                  <a:ext cx="23796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5630760" y="3213000"/>
                  <a:ext cx="2065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651640" y="4653000"/>
                  <a:ext cx="165888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724360" y="6093000"/>
                  <a:ext cx="19386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332000" y="2602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Mocniny imaginární jednotk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3573360"/>
            <a:ext cx="7272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Mocniny imaginární jednotky nabývají pouze </a:t>
            </a:r>
            <a:r>
              <a:rPr b="0" lang="en-US" sz="3000" spc="-1" strike="noStrike" u="sng">
                <a:solidFill>
                  <a:srgbClr val="dddddd"/>
                </a:solidFill>
                <a:uFillTx/>
                <a:latin typeface="Times New Roman"/>
              </a:rPr>
              <a:t>čtyř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různé hodnoty, které se opakují stále ve stejném pořadí: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+ 1, + 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i,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–1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,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–</a:t>
            </a:r>
            <a:r>
              <a:rPr b="0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 i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ro úpravu lze užít dva postupy. Zvažte, který je pro vás jednodušší a ten si zapišt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08000" y="1052640"/>
                <a:ext cx="115272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140360" y="981000"/>
                <a:ext cx="392724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56000" y="1052640"/>
            <a:ext cx="576000" cy="24476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2447640"/>
              <a:gd name="textAreaBottom" fmla="*/ 2419560 h 2447640"/>
            </a:gdLst>
            <a:ahLst/>
            <a:rect l="textAreaLeft" t="textAreaTop" r="textAreaRight" b="textAreaBottom"/>
            <a:pathLst>
              <a:path w="21600" h="91743">
                <a:moveTo>
                  <a:pt x="3600" y="0"/>
                </a:moveTo>
                <a:arcTo wR="3600" hR="3600" stAng="16200000" swAng="-5400000"/>
                <a:lnTo>
                  <a:pt x="0" y="88143"/>
                </a:lnTo>
                <a:arcTo wR="3600" hR="3600" stAng="10800000" swAng="-5400000"/>
                <a:lnTo>
                  <a:pt x="18000" y="91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260280"/>
            <a:ext cx="727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1. způsob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8280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635280" y="1125360"/>
                <a:ext cx="1198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602400" y="1844640"/>
                <a:ext cx="2541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492360" y="333360"/>
                <a:ext cx="2156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332000" y="2997360"/>
                <a:ext cx="5535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39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332000" y="3933720"/>
                <a:ext cx="5570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359000" y="4869000"/>
                <a:ext cx="76406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332000" y="5877000"/>
                <a:ext cx="73231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443640" y="404640"/>
                <a:ext cx="24303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458040" y="1052640"/>
                <a:ext cx="240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 flipV="1">
            <a:off x="2771640" y="980640"/>
            <a:ext cx="2448000" cy="208764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95640" y="1052640"/>
            <a:ext cx="0" cy="180000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1699920"/>
            <a:ext cx="0" cy="1368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16360" y="1700280"/>
            <a:ext cx="432000" cy="1512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64000" y="981000"/>
            <a:ext cx="1513080" cy="216072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588000" y="981000"/>
            <a:ext cx="2051280" cy="208764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987640" y="2491920"/>
            <a:ext cx="5327640" cy="2521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284720" y="2492280"/>
            <a:ext cx="2806560" cy="2521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1197000"/>
            <a:ext cx="287280" cy="28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066920" y="1052640"/>
            <a:ext cx="865080" cy="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11280" y="3141720"/>
            <a:ext cx="287640" cy="287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4360" y="1700280"/>
            <a:ext cx="71892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3068640"/>
            <a:ext cx="936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2997360"/>
            <a:ext cx="9367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35280" y="314172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03640" y="3213000"/>
            <a:ext cx="50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314172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72360" y="3068640"/>
            <a:ext cx="936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48360" y="981000"/>
            <a:ext cx="1584360" cy="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235640" y="2492280"/>
            <a:ext cx="865080" cy="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501336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92360" y="5013360"/>
            <a:ext cx="1150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1187280" y="189000"/>
            <a:ext cx="7812360" cy="1653480"/>
            <a:chOff x="1187280" y="189000"/>
            <a:chExt cx="7812360" cy="1653480"/>
          </a:xfrm>
        </p:grpSpPr>
        <p:sp>
          <p:nvSpPr>
            <p:cNvPr id="386" name=""/>
            <p:cNvSpPr/>
            <p:nvPr/>
          </p:nvSpPr>
          <p:spPr>
            <a:xfrm>
              <a:off x="1187280" y="189000"/>
              <a:ext cx="7274160" cy="16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1884240"/>
                  <a:tab algn="l" pos="49370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ccecff"/>
                  </a:solidFill>
                  <a:uFillTx/>
                  <a:latin typeface="Times New Roman"/>
                </a:rPr>
                <a:t>2. způsob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a)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c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1884240"/>
                  <a:tab algn="l" pos="49370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b) 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d)</a:t>
              </a:r>
              <a:r>
                <a:rPr b="0" lang="en-US" sz="3200" spc="-1" strike="noStrike">
                  <a:solidFill>
                    <a:srgbClr val="ccecff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3708360" y="1125360"/>
                  <a:ext cx="11667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3708360" y="404640"/>
                  <a:ext cx="123048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6732720" y="404640"/>
                  <a:ext cx="123012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732720" y="1125360"/>
                  <a:ext cx="226692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258920" y="2349360"/>
                <a:ext cx="272556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8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258920" y="4581360"/>
                <a:ext cx="269568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=+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5837400" y="2319480"/>
                <a:ext cx="269388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796000" y="4581360"/>
                <a:ext cx="247644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=+</m:t>
                                </m:r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2124000" y="35002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2997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32720" y="35002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24000" y="580536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5734080"/>
            <a:ext cx="360360" cy="360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01080" y="2997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64000" y="5229360"/>
            <a:ext cx="287280" cy="433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3080"/>
              <a:gd name="textAreaBottom" fmla="*/ 419040 h 433080"/>
            </a:gdLst>
            <a:ahLst/>
            <a:rect l="textAreaLeft" t="textAreaTop" r="textAreaRight" b="textAreaBottom"/>
            <a:pathLst>
              <a:path w="21600" h="32549">
                <a:moveTo>
                  <a:pt x="3600" y="0"/>
                </a:moveTo>
                <a:arcTo wR="3600" hR="3600" stAng="16200000" swAng="-5400000"/>
                <a:lnTo>
                  <a:pt x="0" y="28949"/>
                </a:lnTo>
                <a:arcTo wR="3600" hR="3600" stAng="10800000" swAng="-5400000"/>
                <a:lnTo>
                  <a:pt x="18000" y="325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85080" y="5229360"/>
            <a:ext cx="287280" cy="433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3080"/>
              <a:gd name="textAreaBottom" fmla="*/ 419040 h 433080"/>
            </a:gdLst>
            <a:ahLst/>
            <a:rect l="textAreaLeft" t="textAreaTop" r="textAreaRight" b="textAreaBottom"/>
            <a:pathLst>
              <a:path w="21600" h="32549">
                <a:moveTo>
                  <a:pt x="3600" y="0"/>
                </a:moveTo>
                <a:arcTo wR="3600" hR="3600" stAng="16200000" swAng="-5400000"/>
                <a:lnTo>
                  <a:pt x="0" y="28949"/>
                </a:lnTo>
                <a:arcTo wR="3600" hR="3600" stAng="10800000" swAng="-5400000"/>
                <a:lnTo>
                  <a:pt x="18000" y="325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25892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1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85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40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96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54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86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0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05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5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7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2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2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0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77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5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00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8436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1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mocniny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51134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í operace s komplexními čísl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í úkony s komplexními čísly: Rovnost komplexních čísel; Součet a rozdíl komplexních čísel; Součin a podíl komplexních čísel; Mocniny imaginární jednotk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258920" y="907920"/>
            <a:ext cx="788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= – 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– 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– i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58920" y="907920"/>
            <a:ext cx="590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3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.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...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počtět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32000" y="2637000"/>
            <a:ext cx="7812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76360" y="4626000"/>
            <a:ext cx="766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..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7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8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96360" y="907920"/>
            <a:ext cx="154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= 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3640" y="2637000"/>
            <a:ext cx="4140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– 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76360" y="5950080"/>
            <a:ext cx="7667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25 . (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64000" y="5950080"/>
            <a:ext cx="3780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25 .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32720" y="5950080"/>
            <a:ext cx="2411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V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díl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979640" y="907920"/>
                <a:ext cx="38466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1116000" y="2276640"/>
            <a:ext cx="802800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POZOR!!!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Aby se jednalo o podíl KČ, musí být KČ (imag. jednotka) ve jmenovateli zlomk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Vyřešit podíl KČ znamená „odstranit imaginární jednotku ze jmenovatele zlomku“    – obdobná úprava jako u usměrňování zlomků (učivo 1. ročníku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46040" indent="-446040">
              <a:lnSpc>
                <a:spcPct val="120000"/>
              </a:lnSpc>
              <a:spcBef>
                <a:spcPts val="1874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71640" y="33336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Vydělte KČ (zapište KČ v AT)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116000" y="2349360"/>
                <a:ext cx="13827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484360" y="2349360"/>
                <a:ext cx="525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133640" y="3860640"/>
                <a:ext cx="1250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340000" y="3860640"/>
                <a:ext cx="525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182600" y="5446800"/>
                <a:ext cx="12510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340000" y="5445000"/>
                <a:ext cx="501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2700360" y="234936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6000" y="386064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57440" y="5445000"/>
            <a:ext cx="360360" cy="1008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08360"/>
              <a:gd name="textAreaBottom" fmla="*/ 991080 h 1008360"/>
            </a:gdLst>
            <a:ahLst/>
            <a:rect l="textAreaLeft" t="textAreaTop" r="textAreaRight" b="textAreaBottom"/>
            <a:pathLst>
              <a:path w="21600" h="60402">
                <a:moveTo>
                  <a:pt x="3600" y="0"/>
                </a:moveTo>
                <a:arcTo wR="3600" hR="3600" stAng="16200000" swAng="-5400000"/>
                <a:lnTo>
                  <a:pt x="0" y="56802"/>
                </a:lnTo>
                <a:arcTo wR="3600" hR="3600" stAng="10800000" swAng="-5400000"/>
                <a:lnTo>
                  <a:pt x="18000" y="60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71640" y="134136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ryze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01800" y="191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132000" y="2349360"/>
                <a:ext cx="18734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950000" y="2276640"/>
                <a:ext cx="15127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443640" y="2349360"/>
                <a:ext cx="1184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596360" y="2637000"/>
                <a:ext cx="1349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987640" y="3860640"/>
                <a:ext cx="17431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643280" y="3789360"/>
                <a:ext cx="15112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156360" y="3860640"/>
                <a:ext cx="12812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80360" y="3860640"/>
                <a:ext cx="1511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1763640" y="2924280"/>
            <a:ext cx="432000" cy="4334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72">
                <a:moveTo>
                  <a:pt x="3600" y="0"/>
                </a:moveTo>
                <a:arcTo wR="3600" hR="3600" stAng="16200000" swAng="-5400000"/>
                <a:lnTo>
                  <a:pt x="0" y="18072"/>
                </a:lnTo>
                <a:arcTo wR="3600" hR="3600" stAng="10800000" swAng="-5400000"/>
                <a:lnTo>
                  <a:pt x="18000" y="21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4437000"/>
            <a:ext cx="432000" cy="4334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72">
                <a:moveTo>
                  <a:pt x="3600" y="0"/>
                </a:moveTo>
                <a:arcTo wR="3600" hR="3600" stAng="16200000" swAng="-5400000"/>
                <a:lnTo>
                  <a:pt x="0" y="18072"/>
                </a:lnTo>
                <a:arcTo wR="3600" hR="3600" stAng="10800000" swAng="-5400000"/>
                <a:lnTo>
                  <a:pt x="18000" y="21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619280" y="6021360"/>
            <a:ext cx="720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2916360" y="5445000"/>
                <a:ext cx="1662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572000" y="5373720"/>
                <a:ext cx="14428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012000" y="5445000"/>
                <a:ext cx="1536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481880" y="5445000"/>
                <a:ext cx="1662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971640" y="134136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ryze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7440" y="342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5744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554920" y="134136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042920" y="1484280"/>
                <a:ext cx="1400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484360" y="1484280"/>
                <a:ext cx="12430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7389720" y="1557360"/>
                <a:ext cx="17542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26028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783080" y="2565360"/>
            <a:ext cx="3583440" cy="880920"/>
            <a:chOff x="1783080" y="2565360"/>
            <a:chExt cx="3583440" cy="880920"/>
          </a:xfrm>
        </p:grpSpPr>
        <p:sp>
          <p:nvSpPr>
            <p:cNvPr id="455" name=""/>
            <p:cNvSpPr/>
            <p:nvPr/>
          </p:nvSpPr>
          <p:spPr>
            <a:xfrm>
              <a:off x="2556000" y="2852640"/>
              <a:ext cx="223200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83080" y="2925720"/>
              <a:ext cx="35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+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.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 =  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 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556000" y="256536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788000" y="256536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771640" y="1484280"/>
            <a:ext cx="922320" cy="1008000"/>
          </a:xfrm>
          <a:custGeom>
            <a:avLst/>
            <a:gdLst>
              <a:gd name="textAreaLeft" fmla="*/ 45000 w 922320"/>
              <a:gd name="textAreaRight" fmla="*/ 877320 w 922320"/>
              <a:gd name="textAreaTop" fmla="*/ 45000 h 1008000"/>
              <a:gd name="textAreaBottom" fmla="*/ 963000 h 1008000"/>
            </a:gdLst>
            <a:ahLst/>
            <a:rect l="textAreaLeft" t="textAreaTop" r="textAreaRight" b="textAreaBottom"/>
            <a:pathLst>
              <a:path w="21600" h="23606">
                <a:moveTo>
                  <a:pt x="3600" y="0"/>
                </a:moveTo>
                <a:arcTo wR="3600" hR="3600" stAng="16200000" swAng="-5400000"/>
                <a:lnTo>
                  <a:pt x="0" y="20006"/>
                </a:lnTo>
                <a:arcTo wR="3600" hR="3600" stAng="10800000" swAng="-5400000"/>
                <a:lnTo>
                  <a:pt x="18000" y="23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57840" y="1916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54920" y="1916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60720" y="10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26028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dělíme-li KČ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maginárním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475640" y="2060640"/>
            <a:ext cx="9349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851280" y="1413000"/>
                <a:ext cx="197496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796000" y="1557360"/>
                <a:ext cx="16556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54920" y="414972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058760" y="4292640"/>
                <a:ext cx="13683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00200" y="4292640"/>
                <a:ext cx="1211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877080" y="5445000"/>
                <a:ext cx="156348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1" name=""/>
          <p:cNvGrpSpPr/>
          <p:nvPr/>
        </p:nvGrpSpPr>
        <p:grpSpPr>
          <a:xfrm>
            <a:off x="1785240" y="5373720"/>
            <a:ext cx="4214520" cy="880920"/>
            <a:chOff x="1785240" y="5373720"/>
            <a:chExt cx="4214520" cy="880920"/>
          </a:xfrm>
        </p:grpSpPr>
        <p:sp>
          <p:nvSpPr>
            <p:cNvPr id="472" name=""/>
            <p:cNvSpPr/>
            <p:nvPr/>
          </p:nvSpPr>
          <p:spPr>
            <a:xfrm>
              <a:off x="2556000" y="5661000"/>
              <a:ext cx="3095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85240" y="5734080"/>
              <a:ext cx="421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.(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ff99cc"/>
                  </a:solidFill>
                  <a:latin typeface="Times New Roman"/>
                </a:rPr>
                <a:t>+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 b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) =         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99cc"/>
                  </a:solidFill>
                  <a:latin typeface="Times New Roman"/>
                </a:rPr>
                <a:t> – </a:t>
              </a:r>
              <a:r>
                <a:rPr b="0" i="1" lang="en-US" sz="2800" spc="-1" strike="noStrike">
                  <a:solidFill>
                    <a:srgbClr val="ff99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ff99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556000" y="537372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5651640" y="5373720"/>
              <a:ext cx="0" cy="280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2771640" y="4292640"/>
            <a:ext cx="922320" cy="1008000"/>
          </a:xfrm>
          <a:custGeom>
            <a:avLst/>
            <a:gdLst>
              <a:gd name="textAreaLeft" fmla="*/ 45000 w 922320"/>
              <a:gd name="textAreaRight" fmla="*/ 877320 w 922320"/>
              <a:gd name="textAreaTop" fmla="*/ 45000 h 1008000"/>
              <a:gd name="textAreaBottom" fmla="*/ 963000 h 1008000"/>
            </a:gdLst>
            <a:ahLst/>
            <a:rect l="textAreaLeft" t="textAreaTop" r="textAreaRight" b="textAreaBottom"/>
            <a:pathLst>
              <a:path w="21600" h="23606">
                <a:moveTo>
                  <a:pt x="3600" y="0"/>
                </a:moveTo>
                <a:arcTo wR="3600" hR="3600" stAng="16200000" swAng="-5400000"/>
                <a:lnTo>
                  <a:pt x="0" y="20006"/>
                </a:lnTo>
                <a:arcTo wR="3600" hR="3600" stAng="10800000" swAng="-5400000"/>
                <a:lnTo>
                  <a:pt x="18000" y="23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57840" y="4724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54920" y="4724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60720" y="38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475640" y="4869000"/>
            <a:ext cx="934920" cy="43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780000" y="4221000"/>
                <a:ext cx="29937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804000" y="4365720"/>
                <a:ext cx="17510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 flipH="1">
            <a:off x="4788000" y="1484280"/>
            <a:ext cx="9381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89080" y="105264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+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076720" y="4292640"/>
            <a:ext cx="9381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9800" y="3860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116000" y="404640"/>
                <a:ext cx="12034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116000" y="1917720"/>
                <a:ext cx="14493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187280" y="3645000"/>
                <a:ext cx="12970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168560" y="5302080"/>
                <a:ext cx="16351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1" name=""/>
          <p:cNvGrpSpPr/>
          <p:nvPr/>
        </p:nvGrpSpPr>
        <p:grpSpPr>
          <a:xfrm>
            <a:off x="2732040" y="404640"/>
            <a:ext cx="1762200" cy="5654880"/>
            <a:chOff x="2732040" y="404640"/>
            <a:chExt cx="1762200" cy="5654880"/>
          </a:xfrm>
        </p:grpSpPr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2778120" y="404640"/>
                  <a:ext cx="16686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771640" y="2205000"/>
                  <a:ext cx="126684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732040" y="3645000"/>
                  <a:ext cx="17622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2962440" y="5589720"/>
                  <a:ext cx="117288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095800" y="476280"/>
                <a:ext cx="1451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5265720" y="1989000"/>
                <a:ext cx="1357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153040" y="3716280"/>
                <a:ext cx="1574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348160" y="5373720"/>
                <a:ext cx="1481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00" name=""/>
          <p:cNvGrpSpPr/>
          <p:nvPr/>
        </p:nvGrpSpPr>
        <p:grpSpPr>
          <a:xfrm>
            <a:off x="6804000" y="476280"/>
            <a:ext cx="2082960" cy="5938920"/>
            <a:chOff x="6804000" y="476280"/>
            <a:chExt cx="2082960" cy="5938920"/>
          </a:xfrm>
        </p:grpSpPr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6877080" y="1989000"/>
                  <a:ext cx="16686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6804000" y="476280"/>
                  <a:ext cx="204012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6877080" y="3716280"/>
                  <a:ext cx="200988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7020000" y="5373720"/>
                  <a:ext cx="163512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403280" y="1052640"/>
                <a:ext cx="14209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332000" y="2565360"/>
                <a:ext cx="145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403280" y="4005360"/>
                <a:ext cx="1297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a) reálnou, b) imaginární část KČ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788000" y="1054080"/>
            <a:ext cx="2441520" cy="5079960"/>
            <a:chOff x="4788000" y="1054080"/>
            <a:chExt cx="2441520" cy="5079960"/>
          </a:xfrm>
        </p:grpSpPr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4807080" y="1054080"/>
                  <a:ext cx="184788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"/>
                <p:cNvSpPr txBox="1"/>
                <p:nvPr/>
              </p:nvSpPr>
              <p:spPr>
                <a:xfrm>
                  <a:off x="4788000" y="2565360"/>
                  <a:ext cx="2441520" cy="10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88000" y="4005360"/>
                  <a:ext cx="20970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4859280" y="5589720"/>
                  <a:ext cx="15955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1403280" y="5373720"/>
                <a:ext cx="2440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258920" y="549360"/>
                <a:ext cx="35211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187280" y="2133720"/>
                <a:ext cx="3794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87280" y="3573360"/>
                <a:ext cx="32734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58920" y="5300640"/>
                <a:ext cx="26542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648400" y="549360"/>
            <a:ext cx="2693880" cy="5840280"/>
            <a:chOff x="5648400" y="549360"/>
            <a:chExt cx="2693880" cy="5840280"/>
          </a:xfrm>
        </p:grpSpPr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5651640" y="549360"/>
                  <a:ext cx="21906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5651640" y="2133720"/>
                  <a:ext cx="269064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5648400" y="4005360"/>
                  <a:ext cx="20970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5740560" y="5334120"/>
                  <a:ext cx="190656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,  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četní operace (úkony) s KČ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1484280"/>
            <a:ext cx="7956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vnos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in KČ a čísla reálnéh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e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zdíl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učin KČ  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četně mocnin imaginární jednotk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díl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76500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Početní operace definujeme pro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989000"/>
            <a:ext cx="7956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vě komplexní čísl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b = b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 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, b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C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eálné číslo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k 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8900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ovnos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981000"/>
            <a:ext cx="74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1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1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rovnají se příslušné části KČ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70972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Určete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, y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 tak, aby platilo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29080" y="5734080"/>
                <a:ext cx="936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71640" y="6237360"/>
                <a:ext cx="738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908000" y="4653000"/>
            <a:ext cx="1729080" cy="1008000"/>
            <a:chOff x="1908000" y="4653000"/>
            <a:chExt cx="1729080" cy="100800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908000" y="4653000"/>
                  <a:ext cx="167652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1908000" y="5661000"/>
              <a:ext cx="172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00720" y="5156280"/>
                <a:ext cx="1506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19640" y="6164280"/>
                <a:ext cx="766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2411280" y="3716280"/>
            <a:ext cx="2810160" cy="579600"/>
            <a:chOff x="2411280" y="3716280"/>
            <a:chExt cx="2810160" cy="579600"/>
          </a:xfrm>
        </p:grpSpPr>
        <p:sp>
          <p:nvSpPr>
            <p:cNvPr id="156" name=""/>
            <p:cNvSpPr/>
            <p:nvPr/>
          </p:nvSpPr>
          <p:spPr>
            <a:xfrm>
              <a:off x="2411280" y="4292640"/>
              <a:ext cx="280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46000" y="3716280"/>
              <a:ext cx="112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219640" y="3789360"/>
              <a:ext cx="1800" cy="496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411280" y="3789360"/>
              <a:ext cx="1800" cy="496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995640" y="3789360"/>
            <a:ext cx="1727280" cy="938520"/>
            <a:chOff x="3995640" y="3789360"/>
            <a:chExt cx="1727280" cy="938520"/>
          </a:xfrm>
        </p:grpSpPr>
        <p:sp>
          <p:nvSpPr>
            <p:cNvPr id="161" name=""/>
            <p:cNvSpPr/>
            <p:nvPr/>
          </p:nvSpPr>
          <p:spPr>
            <a:xfrm>
              <a:off x="3995640" y="4724280"/>
              <a:ext cx="17272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17640" y="4148280"/>
              <a:ext cx="112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66ff33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66ff33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66ff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995640" y="3789360"/>
              <a:ext cx="0" cy="9367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722920" y="3789360"/>
              <a:ext cx="0" cy="9367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003640" y="5661000"/>
                <a:ext cx="1022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948360" y="5950080"/>
                <a:ext cx="1978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1260000" y="3068640"/>
            <a:ext cx="4692960" cy="825120"/>
            <a:chOff x="1260000" y="3068640"/>
            <a:chExt cx="4692960" cy="82512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751040" y="3355920"/>
                  <a:ext cx="42019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260000" y="3068640"/>
              <a:ext cx="497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35280" y="4797360"/>
            <a:ext cx="558360" cy="581400"/>
            <a:chOff x="3635280" y="4797360"/>
            <a:chExt cx="558360" cy="581400"/>
          </a:xfrm>
        </p:grpSpPr>
        <p:sp>
          <p:nvSpPr>
            <p:cNvPr id="171" name=""/>
            <p:cNvSpPr/>
            <p:nvPr/>
          </p:nvSpPr>
          <p:spPr>
            <a:xfrm flipV="1">
              <a:off x="3851280" y="4869000"/>
              <a:ext cx="0" cy="504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635280" y="4869000"/>
              <a:ext cx="216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35280" y="5373720"/>
              <a:ext cx="216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81440" y="4797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ddddd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093080" y="692280"/>
                <a:ext cx="731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1332720" y="333360"/>
            <a:ext cx="5096520" cy="5936760"/>
            <a:chOff x="1332720" y="333360"/>
            <a:chExt cx="5096520" cy="5936760"/>
          </a:xfrm>
        </p:grpSpPr>
        <p:grpSp>
          <p:nvGrpSpPr>
            <p:cNvPr id="177" name=""/>
            <p:cNvGrpSpPr/>
            <p:nvPr/>
          </p:nvGrpSpPr>
          <p:grpSpPr>
            <a:xfrm>
              <a:off x="1332720" y="333360"/>
              <a:ext cx="4664880" cy="830160"/>
              <a:chOff x="1332720" y="333360"/>
              <a:chExt cx="4664880" cy="830160"/>
            </a:xfrm>
          </p:grpSpPr>
          <mc:AlternateContent>
            <mc:Choice xmlns:a14="http://schemas.microsoft.com/office/drawing/2010/main" Requires="a14">
              <p:sp>
                <p:nvSpPr>
                  <p:cNvPr id="178" name=""/>
                  <p:cNvSpPr txBox="1"/>
                  <p:nvPr/>
                </p:nvSpPr>
                <p:spPr>
                  <a:xfrm>
                    <a:off x="1979640" y="549360"/>
                    <a:ext cx="4017960" cy="61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9" name=""/>
              <p:cNvSpPr/>
              <p:nvPr/>
            </p:nvSpPr>
            <p:spPr>
              <a:xfrm>
                <a:off x="1332720" y="333360"/>
                <a:ext cx="52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b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333080" y="1557360"/>
              <a:ext cx="5058360" cy="830160"/>
              <a:chOff x="1333080" y="1557360"/>
              <a:chExt cx="5058360" cy="830160"/>
            </a:xfrm>
          </p:grpSpPr>
          <mc:AlternateContent>
            <mc:Choice xmlns:a14="http://schemas.microsoft.com/office/drawing/2010/main" Requires="a14">
              <p:sp>
                <p:nvSpPr>
                  <p:cNvPr id="181" name=""/>
                  <p:cNvSpPr txBox="1"/>
                  <p:nvPr/>
                </p:nvSpPr>
                <p:spPr>
                  <a:xfrm>
                    <a:off x="1908000" y="1773360"/>
                    <a:ext cx="4483440" cy="614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2" name=""/>
              <p:cNvSpPr/>
              <p:nvPr/>
            </p:nvSpPr>
            <p:spPr>
              <a:xfrm>
                <a:off x="1333080" y="1557360"/>
                <a:ext cx="49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c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332720" y="2852640"/>
              <a:ext cx="5096520" cy="830520"/>
              <a:chOff x="1332720" y="2852640"/>
              <a:chExt cx="5096520" cy="830520"/>
            </a:xfrm>
          </p:grpSpPr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1979640" y="3068640"/>
                    <a:ext cx="4449600" cy="61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5" name=""/>
              <p:cNvSpPr/>
              <p:nvPr/>
            </p:nvSpPr>
            <p:spPr>
              <a:xfrm>
                <a:off x="1332720" y="2852640"/>
                <a:ext cx="52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d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1332720" y="4149720"/>
              <a:ext cx="4956480" cy="865080"/>
              <a:chOff x="1332720" y="4149720"/>
              <a:chExt cx="4956480" cy="865080"/>
            </a:xfrm>
          </p:grpSpPr>
          <mc:AlternateContent>
            <mc:Choice xmlns:a14="http://schemas.microsoft.com/office/drawing/2010/main" Requires="a14">
              <p:sp>
                <p:nvSpPr>
                  <p:cNvPr id="187" name=""/>
                  <p:cNvSpPr txBox="1"/>
                  <p:nvPr/>
                </p:nvSpPr>
                <p:spPr>
                  <a:xfrm>
                    <a:off x="1906200" y="4437000"/>
                    <a:ext cx="438300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8" name=""/>
              <p:cNvSpPr/>
              <p:nvPr/>
            </p:nvSpPr>
            <p:spPr>
              <a:xfrm>
                <a:off x="1332720" y="4149720"/>
                <a:ext cx="497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e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404000" y="5445000"/>
              <a:ext cx="4026960" cy="825120"/>
              <a:chOff x="1404000" y="5445000"/>
              <a:chExt cx="4026960" cy="825120"/>
            </a:xfrm>
          </p:grpSpPr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1977840" y="5662440"/>
                    <a:ext cx="345312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1" name=""/>
              <p:cNvSpPr/>
              <p:nvPr/>
            </p:nvSpPr>
            <p:spPr>
              <a:xfrm>
                <a:off x="1404000" y="5445000"/>
                <a:ext cx="452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ddddd"/>
                    </a:solidFill>
                    <a:latin typeface="Times New Roman"/>
                  </a:rPr>
                  <a:t>f)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093080" y="1916280"/>
                <a:ext cx="731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093080" y="3213000"/>
                <a:ext cx="931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093080" y="4581360"/>
                <a:ext cx="103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93080" y="5805360"/>
                <a:ext cx="10983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00000" y="189000"/>
            <a:ext cx="82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in čísla reálného a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981000"/>
            <a:ext cx="72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 . 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 .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k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58920" y="2660760"/>
            <a:ext cx="7885080" cy="930240"/>
            <a:chOff x="1258920" y="2660760"/>
            <a:chExt cx="7885080" cy="930240"/>
          </a:xfrm>
        </p:grpSpPr>
        <p:sp>
          <p:nvSpPr>
            <p:cNvPr id="199" name=""/>
            <p:cNvSpPr/>
            <p:nvPr/>
          </p:nvSpPr>
          <p:spPr>
            <a:xfrm>
              <a:off x="1258920" y="2709720"/>
              <a:ext cx="7885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ccecff"/>
                  </a:solidFill>
                  <a:latin typeface="Times New Roman"/>
                </a:rPr>
                <a:t>Příklad</a:t>
              </a:r>
              <a:r>
                <a:rPr b="0" lang="en-US" sz="3000" spc="-1" strike="noStrike">
                  <a:solidFill>
                    <a:srgbClr val="ccecff"/>
                  </a:solidFill>
                  <a:latin typeface="Times New Roman"/>
                </a:rPr>
                <a:t>: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Určete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k . 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je-li 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= 1 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 2</a:t>
              </a:r>
              <a:r>
                <a:rPr b="0" i="1" lang="en-US" sz="30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dddddd"/>
                  </a:solidFill>
                  <a:latin typeface="Times New Roman"/>
                </a:rPr>
                <a:t>,                     .</a:t>
              </a:r>
              <a:endParaRPr b="0" lang="en-US" sz="3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7020000" y="2660760"/>
                  <a:ext cx="194472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58920" y="3716280"/>
                <a:ext cx="868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476360" y="4365720"/>
                <a:ext cx="65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03280" y="4941720"/>
                <a:ext cx="747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76360" y="6021360"/>
                <a:ext cx="657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5508720" y="3571920"/>
            <a:ext cx="363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... KČ opačné k dané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1773360"/>
            <a:ext cx="766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268360" y="3716280"/>
                <a:ext cx="1886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40360" y="3716280"/>
                <a:ext cx="1376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68360" y="4365720"/>
                <a:ext cx="568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68360" y="4941720"/>
                <a:ext cx="17956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067280" y="4941720"/>
                <a:ext cx="1197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92720" y="4941720"/>
                <a:ext cx="1076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268360" y="6021360"/>
                <a:ext cx="17053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95640" y="6021360"/>
                <a:ext cx="1166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58920" y="3716280"/>
                <a:ext cx="868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5580000" y="1125360"/>
            <a:ext cx="57636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1125360"/>
            <a:ext cx="93672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6922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27640" y="692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16000" y="549360"/>
            <a:ext cx="802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II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čet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1486080"/>
            <a:ext cx="716436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4653000"/>
            <a:ext cx="759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3502080"/>
            <a:ext cx="1440000" cy="574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3500280"/>
            <a:ext cx="1944720" cy="57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0686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58920" y="306864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V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ozdíl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907920"/>
            <a:ext cx="7667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Č opačné k dané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37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rozdíl KČ lze vnímat jako souče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(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) =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=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+ (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5805360"/>
            <a:ext cx="76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ýsledkem je opět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5080" y="4943520"/>
            <a:ext cx="129564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4941720"/>
            <a:ext cx="1801800" cy="5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60720" y="53737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eálná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53737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58Z</dcterms:modified>
  <cp:revision>295</cp:revision>
  <dc:subject/>
  <dc:title>KČ</dc:title>
</cp:coreProperties>
</file>