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B9C3-5E22-4F95-874E-61243F4C8D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089A-29AE-4EDD-9B88-D3BCD080CA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D8BE-8F84-41D4-9C13-8C91A164BC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A10F-B90F-46F4-BA45-F12DA189EC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1B74-F8C9-44FB-B882-1DF7D7C90F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484-2124-4D5F-8AEB-C986A211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313-0B43-4322-9E1E-ABC0600C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D8F-1A9D-4FF6-8D42-6629C779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1FD-3115-453E-8BC1-316C3FB0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3BCD-AE35-49A1-A588-85547ADE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01F1-6CCB-433E-9D4E-870DCD9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1014-9CA0-4E49-96D3-D6F7FD4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8FBC-754F-423E-99B0-993BF3DD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9F0D-5CB3-42A0-8220-1FEE7B11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0CA-CAD5-4934-89C1-491E296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D809-F26A-4A5A-8A0C-EF6E504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C67-2FBF-48A0-9E6E-8A25E903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F7C4-3D25-401C-A38B-C24A810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4C50-BC8B-4154-994E-9007925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F59-F239-4365-8A78-2FFC4197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2ABF-6158-445D-BF34-CBA76EC4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43A8-B96F-439E-A7B0-47125B02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0DA-3D56-4502-A031-9C786DF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E08-6B0D-4953-A795-E5395BAF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2F1-A420-4C29-996A-4DAFBBB3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328-39DC-4DBB-A3D2-75D48CC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B43-920F-45EE-BDE0-8CD9D5A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146-EA80-4C9F-94D6-4E7B6171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FA6-3BDC-49AC-ADD6-94D3E296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5E25-EFB7-4826-A46A-792D1C1E1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865A-5707-41F0-818E-C5C9A234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16000" y="260280"/>
            <a:ext cx="802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pište dané KČ pomocí hodnoty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ákladního argument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62080" y="1989000"/>
                <a:ext cx="5603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1258920" y="4005360"/>
            <a:ext cx="7885080" cy="721440"/>
            <a:chOff x="1258920" y="4005360"/>
            <a:chExt cx="7885080" cy="721440"/>
          </a:xfrm>
        </p:grpSpPr>
        <p:sp>
          <p:nvSpPr>
            <p:cNvPr id="238" name=""/>
            <p:cNvSpPr/>
            <p:nvPr/>
          </p:nvSpPr>
          <p:spPr>
            <a:xfrm>
              <a:off x="1258920" y="400536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4160" y="4078440"/>
              <a:ext cx="5104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 440 : 360 = 4 – 4 = 0 . 360 = 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2997360"/>
                <a:ext cx="34671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58000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198900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8720" y="19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635280" y="3428640"/>
            <a:ext cx="266544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932000" y="3428640"/>
            <a:ext cx="1368360" cy="8636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87280" y="333360"/>
                <a:ext cx="5537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90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1258920" y="2062080"/>
            <a:ext cx="7885080" cy="719640"/>
            <a:chOff x="1258920" y="2062080"/>
            <a:chExt cx="7885080" cy="719640"/>
          </a:xfrm>
        </p:grpSpPr>
        <p:sp>
          <p:nvSpPr>
            <p:cNvPr id="248" name=""/>
            <p:cNvSpPr/>
            <p:nvPr/>
          </p:nvSpPr>
          <p:spPr>
            <a:xfrm>
              <a:off x="1258920" y="206208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9280" y="2133360"/>
              <a:ext cx="5946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900 : 360 = 2,5 – 2 = 0,5 . 360 = 18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0920" y="1125360"/>
                <a:ext cx="44672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308720" y="33336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187280" y="3573360"/>
                <a:ext cx="5301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38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1258920" y="5877000"/>
            <a:ext cx="7885080" cy="721440"/>
            <a:chOff x="1258920" y="5877000"/>
            <a:chExt cx="7885080" cy="721440"/>
          </a:xfrm>
        </p:grpSpPr>
        <p:sp>
          <p:nvSpPr>
            <p:cNvPr id="254" name=""/>
            <p:cNvSpPr/>
            <p:nvPr/>
          </p:nvSpPr>
          <p:spPr>
            <a:xfrm>
              <a:off x="1258920" y="5877000"/>
              <a:ext cx="7885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76360" y="5950080"/>
              <a:ext cx="70182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380 : 360 = 1,0556 – 1 = 0,0556 . 360 = 20“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79640" y="4581360"/>
                <a:ext cx="39337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°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724360" y="40464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04640"/>
            <a:ext cx="86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3716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60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3787920"/>
            <a:ext cx="79200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3787920"/>
            <a:ext cx="7905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427640" y="1628640"/>
            <a:ext cx="223200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66920" y="1628640"/>
            <a:ext cx="79236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3995640" y="5229000"/>
            <a:ext cx="367200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508360" y="5229000"/>
            <a:ext cx="2158920" cy="936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404640"/>
                <a:ext cx="563724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8000" y="1844640"/>
                <a:ext cx="44564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5156280"/>
                <a:ext cx="23464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51280" y="476280"/>
            <a:ext cx="792000" cy="10810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80">
                <a:moveTo>
                  <a:pt x="3600" y="0"/>
                </a:moveTo>
                <a:arcTo wR="3600" hR="3600" stAng="16200000" swAng="-5400000"/>
                <a:lnTo>
                  <a:pt x="0" y="25880"/>
                </a:lnTo>
                <a:arcTo wR="3600" hR="3600" stAng="10800000" swAng="-5400000"/>
                <a:lnTo>
                  <a:pt x="18000" y="29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76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476280"/>
            <a:ext cx="792360" cy="1081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1080"/>
              <a:gd name="textAreaBottom" fmla="*/ 1042560 h 1081080"/>
            </a:gdLst>
            <a:ahLst/>
            <a:rect l="textAreaLeft" t="textAreaTop" r="textAreaRight" b="textAreaBottom"/>
            <a:pathLst>
              <a:path w="21600" h="29467">
                <a:moveTo>
                  <a:pt x="3600" y="0"/>
                </a:moveTo>
                <a:arcTo wR="3600" hR="3600" stAng="16200000" swAng="-5400000"/>
                <a:lnTo>
                  <a:pt x="0" y="25867"/>
                </a:lnTo>
                <a:arcTo wR="3600" hR="3600" stAng="10800000" swAng="-5400000"/>
                <a:lnTo>
                  <a:pt x="18000" y="29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58920" y="3645000"/>
            <a:ext cx="7885080" cy="1015920"/>
            <a:chOff x="1258920" y="3645000"/>
            <a:chExt cx="7885080" cy="10159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1563840" y="3789360"/>
                  <a:ext cx="7310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3716280"/>
            <a:ext cx="718920" cy="936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936720"/>
              <a:gd name="textAreaBottom" fmla="*/ 901800 h 936720"/>
            </a:gdLst>
            <a:ahLst/>
            <a:rect l="textAreaLeft" t="textAreaTop" r="textAreaRight" b="textAreaBottom"/>
            <a:pathLst>
              <a:path w="21600" h="28141">
                <a:moveTo>
                  <a:pt x="3600" y="0"/>
                </a:moveTo>
                <a:arcTo wR="3600" hR="3600" stAng="16200000" swAng="-5400000"/>
                <a:lnTo>
                  <a:pt x="0" y="24541"/>
                </a:lnTo>
                <a:arcTo wR="3600" hR="3600" stAng="10800000" swAng="-5400000"/>
                <a:lnTo>
                  <a:pt x="18000" y="281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51280" y="2997000"/>
            <a:ext cx="289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51280" y="2997000"/>
            <a:ext cx="187308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76280"/>
                <a:ext cx="4489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8000" y="1844640"/>
                <a:ext cx="33084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04880" y="4941720"/>
                <a:ext cx="2374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258920" y="3645000"/>
            <a:ext cx="7885080" cy="942840"/>
            <a:chOff x="1258920" y="3645000"/>
            <a:chExt cx="7885080" cy="94284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1619280" y="3716280"/>
                  <a:ext cx="5526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násobky jsou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1258920" y="36450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987640" y="404640"/>
            <a:ext cx="720720" cy="11527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152720"/>
              <a:gd name="textAreaBottom" fmla="*/ 1117800 h 1152720"/>
            </a:gdLst>
            <a:ahLst/>
            <a:rect l="textAreaLeft" t="textAreaTop" r="textAreaRight" b="textAreaBottom"/>
            <a:pathLst>
              <a:path w="21600" h="34541">
                <a:moveTo>
                  <a:pt x="3600" y="0"/>
                </a:moveTo>
                <a:arcTo wR="3600" hR="3600" stAng="16200000" swAng="-5400000"/>
                <a:lnTo>
                  <a:pt x="0" y="30941"/>
                </a:lnTo>
                <a:arcTo wR="3600" hR="3600" stAng="10800000" swAng="-5400000"/>
                <a:lnTo>
                  <a:pt x="18000" y="34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6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4640"/>
            <a:ext cx="792360" cy="1152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152720"/>
              <a:gd name="textAreaBottom" fmla="*/ 1114200 h 1152720"/>
            </a:gdLst>
            <a:ahLst/>
            <a:rect l="textAreaLeft" t="textAreaTop" r="textAreaRight" b="textAreaBottom"/>
            <a:pathLst>
              <a:path w="21600" h="31419">
                <a:moveTo>
                  <a:pt x="3600" y="0"/>
                </a:moveTo>
                <a:arcTo wR="3600" hR="3600" stAng="16200000" swAng="-5400000"/>
                <a:lnTo>
                  <a:pt x="0" y="27819"/>
                </a:lnTo>
                <a:arcTo wR="3600" hR="3600" stAng="10800000" swAng="-5400000"/>
                <a:lnTo>
                  <a:pt x="18000" y="31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3716280"/>
            <a:ext cx="574560" cy="93672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35207">
                <a:moveTo>
                  <a:pt x="3600" y="0"/>
                </a:moveTo>
                <a:arcTo wR="3600" hR="3600" stAng="16200000" swAng="-5400000"/>
                <a:lnTo>
                  <a:pt x="0" y="31607"/>
                </a:lnTo>
                <a:arcTo wR="3600" hR="3600" stAng="10800000" swAng="-5400000"/>
                <a:lnTo>
                  <a:pt x="18000" y="35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2781000"/>
            <a:ext cx="431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08360" y="2781000"/>
            <a:ext cx="1079640" cy="2158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235160" y="693720"/>
                <a:ext cx="5400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7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44880" y="1773360"/>
                <a:ext cx="3983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692360" y="4348080"/>
                <a:ext cx="176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1258920" y="3268800"/>
            <a:ext cx="7885080" cy="750600"/>
            <a:chOff x="1258920" y="3268800"/>
            <a:chExt cx="7885080" cy="75060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1706400" y="3556080"/>
                  <a:ext cx="4507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,  násobky jsou: 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8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1258920" y="3268800"/>
              <a:ext cx="788508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67280" y="76500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4360" y="76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765000"/>
            <a:ext cx="647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3573360"/>
            <a:ext cx="50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19640" y="2349360"/>
            <a:ext cx="86508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19640" y="2349360"/>
            <a:ext cx="2232000" cy="19432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187280" y="549360"/>
                <a:ext cx="6007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64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187280" y="2637000"/>
                <a:ext cx="445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4" name=""/>
          <p:cNvGrpSpPr/>
          <p:nvPr/>
        </p:nvGrpSpPr>
        <p:grpSpPr>
          <a:xfrm>
            <a:off x="3851280" y="1197000"/>
            <a:ext cx="5292720" cy="5262480"/>
            <a:chOff x="3851280" y="1197000"/>
            <a:chExt cx="5292720" cy="526248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924360" y="1197000"/>
                  <a:ext cx="493704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,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984480" y="5302080"/>
                  <a:ext cx="515952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15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851280" y="3284640"/>
                  <a:ext cx="36417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87280" y="4365720"/>
                <a:ext cx="61423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395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16000" y="549360"/>
                <a:ext cx="5365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085760" y="2384280"/>
                <a:ext cx="4657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6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1" name=""/>
          <p:cNvGrpSpPr/>
          <p:nvPr/>
        </p:nvGrpSpPr>
        <p:grpSpPr>
          <a:xfrm>
            <a:off x="4284720" y="1197000"/>
            <a:ext cx="4859280" cy="5111640"/>
            <a:chOff x="4284720" y="1197000"/>
            <a:chExt cx="4859280" cy="5111640"/>
          </a:xfrm>
        </p:grpSpPr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284720" y="1197000"/>
                  <a:ext cx="4306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4289400" y="5661000"/>
                  <a:ext cx="48546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311720" y="3284640"/>
                  <a:ext cx="48322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t xml:space="preserve">°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16000" y="4869000"/>
                <a:ext cx="56689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870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116000" y="260280"/>
                <a:ext cx="44546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042920" y="2565360"/>
                <a:ext cx="56023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4416480" y="1197000"/>
            <a:ext cx="4727520" cy="5256360"/>
            <a:chOff x="4416480" y="1197000"/>
            <a:chExt cx="4727520" cy="525636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427640" y="1197000"/>
                  <a:ext cx="318600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500720" y="5805360"/>
                  <a:ext cx="40050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416480" y="3645000"/>
                  <a:ext cx="472752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16000" y="5084640"/>
                <a:ext cx="522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8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16000" y="404640"/>
                <a:ext cx="5264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116000" y="1916280"/>
                <a:ext cx="570384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4356000" y="1054080"/>
            <a:ext cx="4788000" cy="5803920"/>
            <a:chOff x="4356000" y="1054080"/>
            <a:chExt cx="4788000" cy="580392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4356000" y="1054080"/>
                  <a:ext cx="40258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π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427640" y="5699160"/>
                  <a:ext cx="4481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4381560" y="2997360"/>
                  <a:ext cx="47624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16000" y="4581360"/>
                <a:ext cx="519588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45403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ou teoretickou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 a základní argument komplexního čísla; Orientovaný úhel; Stupňová a oblouková mí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gument KČ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40464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rientovaný úh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268280"/>
            <a:ext cx="810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stavuje v rovině uspořádanou dvojici polopřímek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1339920" indent="-5335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spořádanou dvojici polopřímek chápeme tak, že jedna z nich j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nazýváme j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, a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976400" indent="-45720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ruhou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azýváme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covým ramene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rientovaného úhl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36840" y="3141720"/>
            <a:ext cx="1379520" cy="210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3240" y="43927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2205000"/>
            <a:ext cx="4613400" cy="4464000"/>
            <a:chOff x="1619280" y="2205000"/>
            <a:chExt cx="4613400" cy="4464000"/>
          </a:xfrm>
        </p:grpSpPr>
        <p:sp>
          <p:nvSpPr>
            <p:cNvPr id="148" name=""/>
            <p:cNvSpPr/>
            <p:nvPr/>
          </p:nvSpPr>
          <p:spPr>
            <a:xfrm>
              <a:off x="1619280" y="5229360"/>
              <a:ext cx="4525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48000" y="2421000"/>
              <a:ext cx="0" cy="42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9440" y="2205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0520" y="5135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780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348000" y="5229360"/>
            <a:ext cx="280836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4" name="Skupina 110"/>
          <p:cNvGrpSpPr/>
          <p:nvPr/>
        </p:nvGrpSpPr>
        <p:grpSpPr>
          <a:xfrm>
            <a:off x="4932360" y="4076640"/>
            <a:ext cx="358920" cy="358920"/>
            <a:chOff x="4932360" y="4076640"/>
            <a:chExt cx="358920" cy="358920"/>
          </a:xfrm>
        </p:grpSpPr>
        <p:sp>
          <p:nvSpPr>
            <p:cNvPr id="155" name="Elipsa 109"/>
            <p:cNvSpPr/>
            <p:nvPr/>
          </p:nvSpPr>
          <p:spPr>
            <a:xfrm>
              <a:off x="4932360" y="4076640"/>
              <a:ext cx="358920" cy="358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5022000" y="4255920"/>
              <a:ext cx="18144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V="1">
              <a:off x="5112000" y="4166280"/>
              <a:ext cx="0" cy="17928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20847600">
            <a:off x="4194360" y="3673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2040" y="5661000"/>
            <a:ext cx="56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66ff"/>
                </a:solidFill>
                <a:uFillTx/>
                <a:latin typeface="Times New Roman"/>
              </a:rPr>
              <a:t>počáteční rameno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!!!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vždy kladná část souřadné osy 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0560" y="263700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oncové rameno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orientova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9080" y="4795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6360" y="5156280"/>
            <a:ext cx="144720" cy="142920"/>
            <a:chOff x="3276360" y="5156280"/>
            <a:chExt cx="144720" cy="142920"/>
          </a:xfrm>
        </p:grpSpPr>
        <p:sp>
          <p:nvSpPr>
            <p:cNvPr id="163" name=""/>
            <p:cNvSpPr/>
            <p:nvPr/>
          </p:nvSpPr>
          <p:spPr>
            <a:xfrm>
              <a:off x="327672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6360" y="515628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333360"/>
            <a:ext cx="7845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elikost orientovaného úhlu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197000"/>
            <a:ext cx="8101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vádíme v míř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stupňov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je 1 stupeň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l-GR" sz="2800" spc="-1" strike="noStrike">
                <a:solidFill>
                  <a:srgbClr val="dddddd"/>
                </a:solidFill>
                <a:latin typeface="Symbol"/>
                <a:ea typeface="Symbol"/>
              </a:rPr>
              <a:t>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rigonometrie pravoúhlého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53352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AutoNum type="alphaL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loukov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otka 1 radiá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hel nejčastěji označen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2073240" indent="-457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oniometrické funkce obecného úhl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6000" y="33336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kladní argumen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341360"/>
            <a:ext cx="78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0040" indent="-41004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likost každého orientovaného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ze vyjádřit pomoc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kladní velikost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úhlu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6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stupň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7760" indent="-4039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 obloukovou mír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10040" indent="-4100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1528920"/>
                <a:tab algn="l" pos="241632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pro každé celé čísl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5373720"/>
                <a:ext cx="56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189000"/>
            <a:ext cx="8101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~</a:t>
            </a:r>
            <a:r>
              <a:rPr b="1" lang="cs-CZ" sz="40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172e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 baseline="-25000">
                <a:solidFill>
                  <a:srgbClr val="00172e"/>
                </a:solidFill>
                <a:latin typeface="Times New Roman"/>
              </a:rPr>
              <a:t>Z</a:t>
            </a:r>
            <a:br>
              <a:rPr sz="4000"/>
            </a:br>
            <a:r>
              <a:rPr b="1" lang="cs-CZ" sz="2800" spc="-1" strike="noStrike">
                <a:solidFill>
                  <a:srgbClr val="00172e"/>
                </a:solidFill>
                <a:latin typeface="Times New Roman"/>
              </a:rPr>
              <a:t>k vyjádření KČ lze vždy použít základní argumen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5589720"/>
            <a:ext cx="6012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ice počátečního a koncového ramene obou úhlů je stejná: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~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268280"/>
            <a:ext cx="8101080" cy="0"/>
          </a:xfrm>
          <a:prstGeom prst="line">
            <a:avLst/>
          </a:prstGeom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3214800"/>
            <a:ext cx="75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1640" y="838080"/>
            <a:ext cx="6340320" cy="5472000"/>
            <a:chOff x="971640" y="838080"/>
            <a:chExt cx="6340320" cy="5472000"/>
          </a:xfrm>
        </p:grpSpPr>
        <p:sp>
          <p:nvSpPr>
            <p:cNvPr id="175" name=""/>
            <p:cNvSpPr/>
            <p:nvPr/>
          </p:nvSpPr>
          <p:spPr>
            <a:xfrm>
              <a:off x="971640" y="3862440"/>
              <a:ext cx="6264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059280" y="1053720"/>
              <a:ext cx="144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2160" y="83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9800" y="3789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8720" y="37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33577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66ff"/>
                </a:solidFill>
                <a:latin typeface="Times New Roman"/>
              </a:rPr>
              <a:t>počáteční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9440" y="8366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oncové ramen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280" y="2494080"/>
            <a:ext cx="3024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337190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337190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060720" y="1269720"/>
            <a:ext cx="1727280" cy="260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996640"/>
            <a:ext cx="1901160" cy="18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7" y="1612"/>
                </a:moveTo>
                <a:arcTo wR="10800" hR="10800" stAng="-3497382" swAng="3301881"/>
                <a:lnTo>
                  <a:pt x="10800" y="10800"/>
                </a:lnTo>
                <a:close/>
              </a:path>
              <a:path fill="none" w="21600" h="21600">
                <a:moveTo>
                  <a:pt x="16477" y="1612"/>
                </a:moveTo>
                <a:arcTo wR="10800" hR="10800" stAng="-3497382" swAng="3301881"/>
              </a:path>
            </a:pathLst>
          </a:custGeom>
          <a:noFill/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92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5480" y="2059560"/>
            <a:ext cx="3172680" cy="34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0760" y="1915200"/>
            <a:ext cx="3462480" cy="37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KČ vyjadřujeme vždy pomocí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3862440"/>
            <a:ext cx="41752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0760" y="2349360"/>
            <a:ext cx="3317400" cy="331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" y="10201"/>
                </a:moveTo>
                <a:arcTo wR="10800" hR="10800" stAng="-10609385" swAng="10427361"/>
                <a:lnTo>
                  <a:pt x="10800" y="10800"/>
                </a:lnTo>
                <a:close/>
              </a:path>
              <a:path fill="none" w="21600" h="21600">
                <a:moveTo>
                  <a:pt x="17" y="10201"/>
                </a:moveTo>
                <a:arcTo wR="10800" hR="10800" stAng="-10609385" swAng="10427361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7840" y="2206800"/>
            <a:ext cx="36054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27" y="1582"/>
                </a:moveTo>
                <a:arcTo wR="10800" hR="10800" stAng="-3515867" swAng="3333842"/>
                <a:lnTo>
                  <a:pt x="10800" y="10800"/>
                </a:lnTo>
                <a:close/>
              </a:path>
              <a:path fill="none" w="21600" h="21600">
                <a:moveTo>
                  <a:pt x="16427" y="1582"/>
                </a:moveTo>
                <a:arcTo wR="10800" hR="10800" stAng="-3515867" swAng="3333842"/>
              </a:path>
            </a:pathLst>
          </a:custGeom>
          <a:noFill/>
          <a:ln w="2844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36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125360"/>
            <a:ext cx="8101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7120" indent="-6271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1 50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6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1 50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6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4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 500 : 360 = 4,1667 – 4 = 0,1667 . 360 = 6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50000"/>
              </a:lnSpc>
              <a:spcBef>
                <a:spcPts val="2001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2 04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24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tože 2 04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= 24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5.36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27120" indent="-6271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 040 : 360 = 5,6667 – 5 = 0,6667 . 360 = 240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3213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635280" y="2565360"/>
            <a:ext cx="93528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48360" y="5661000"/>
            <a:ext cx="2735280" cy="432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06560" y="5013360"/>
            <a:ext cx="934920" cy="216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189000"/>
            <a:ext cx="791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k 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311120" y="5805360"/>
                <a:ext cx="7832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042920" y="1052640"/>
            <a:ext cx="7777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42920" y="1125360"/>
            <a:ext cx="8101080" cy="1727280"/>
            <a:chOff x="1042920" y="1125360"/>
            <a:chExt cx="8101080" cy="1727280"/>
          </a:xfrm>
        </p:grpSpPr>
        <p:sp>
          <p:nvSpPr>
            <p:cNvPr id="203" name=""/>
            <p:cNvSpPr/>
            <p:nvPr/>
          </p:nvSpPr>
          <p:spPr>
            <a:xfrm>
              <a:off x="1042920" y="1125360"/>
              <a:ext cx="81010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10000"/>
                </a:lnSpc>
                <a:spcBef>
                  <a:spcPts val="799"/>
                </a:spcBef>
                <a:tabLst>
                  <a:tab algn="l" pos="0"/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například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627120" indent="-627120">
                <a:lnSpc>
                  <a:spcPct val="150000"/>
                </a:lnSpc>
                <a:spcBef>
                  <a:spcPts val="799"/>
                </a:spcBef>
                <a:buClr>
                  <a:srgbClr val="dddddd"/>
                </a:buClr>
                <a:buSzPct val="80000"/>
                <a:buFont typeface="Times New Roman"/>
                <a:buAutoNum type="arabicParenR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,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92360" y="1773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771640" y="1773360"/>
                  <a:ext cx="594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600360" y="1844640"/>
                  <a:ext cx="552924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42920" y="4483080"/>
            <a:ext cx="8101080" cy="1177920"/>
            <a:chOff x="1042920" y="4483080"/>
            <a:chExt cx="8101080" cy="1177920"/>
          </a:xfrm>
        </p:grpSpPr>
        <p:sp>
          <p:nvSpPr>
            <p:cNvPr id="209" name=""/>
            <p:cNvSpPr/>
            <p:nvPr/>
          </p:nvSpPr>
          <p:spPr>
            <a:xfrm>
              <a:off x="1042920" y="4483080"/>
              <a:ext cx="81010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7120" indent="-627120">
                <a:lnSpc>
                  <a:spcPct val="150000"/>
                </a:lnSpc>
                <a:spcBef>
                  <a:spcPts val="2001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6719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~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 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692360" y="4554360"/>
                  <a:ext cx="75096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843280" y="4554360"/>
                  <a:ext cx="59364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622680" y="4627440"/>
                  <a:ext cx="55213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tože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1692360" y="5589360"/>
              <a:ext cx="172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55760" y="3068640"/>
                <a:ext cx="7788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násobky jsou:  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451640" y="2924280"/>
            <a:ext cx="649440" cy="936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566100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22766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5086440"/>
            <a:ext cx="360360" cy="50472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6237360"/>
            <a:ext cx="360360" cy="360360"/>
          </a:xfrm>
          <a:prstGeom prst="flowChartAlternateProcess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1844640"/>
            <a:ext cx="64908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184464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773360"/>
            <a:ext cx="505080" cy="93636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59280" y="1484280"/>
            <a:ext cx="4681440" cy="287280"/>
            <a:chOff x="3059280" y="1484280"/>
            <a:chExt cx="4681440" cy="287280"/>
          </a:xfrm>
        </p:grpSpPr>
        <p:sp>
          <p:nvSpPr>
            <p:cNvPr id="225" name=""/>
            <p:cNvSpPr/>
            <p:nvPr/>
          </p:nvSpPr>
          <p:spPr>
            <a:xfrm flipV="1">
              <a:off x="7740720" y="148428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59280" y="148428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148428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88000" y="4581360"/>
            <a:ext cx="576360" cy="9367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581360"/>
            <a:ext cx="503280" cy="936720"/>
          </a:xfrm>
          <a:prstGeom prst="flowChartAlternateProcess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59280" y="4221000"/>
            <a:ext cx="4681440" cy="287280"/>
            <a:chOff x="3059280" y="4221000"/>
            <a:chExt cx="4681440" cy="287280"/>
          </a:xfrm>
        </p:grpSpPr>
        <p:sp>
          <p:nvSpPr>
            <p:cNvPr id="232" name=""/>
            <p:cNvSpPr/>
            <p:nvPr/>
          </p:nvSpPr>
          <p:spPr>
            <a:xfrm flipV="1">
              <a:off x="7740720" y="4221000"/>
              <a:ext cx="0" cy="28728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59280" y="4221000"/>
              <a:ext cx="468144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9280" y="4221000"/>
              <a:ext cx="0" cy="21600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4:12Z</dcterms:modified>
  <cp:revision>295</cp:revision>
  <dc:subject/>
  <dc:title>KČ</dc:title>
</cp:coreProperties>
</file>