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F108-0360-4ADB-ACFB-A9913635BBD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DE5A-6073-419A-A3C6-1C15F8D9DB6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5485-2EE7-48BB-9487-E32A2FFCD11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028E-87DE-46BC-B438-E162F5A7F2F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F1EA-41E9-473F-98D4-A31374C3B8B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ADB8-BD1F-4606-8168-EB03B005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1F49-C12D-4788-A4E5-470F9F36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55B2-00B2-4CDF-B958-9EC8F78A0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EB26-2D0A-4A69-893B-83FCA8CF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2006-A063-4DDA-B16D-D4FE0135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537B-8414-410D-A47A-110CDCBE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AF4C-0803-4FD0-8A24-91C77AF8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62F6-E744-451F-9989-39485255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4176-FBB5-489A-AE7B-1256A2AD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0B21-AD92-4836-8FEE-675E99D4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CCD5-4CCE-471F-862F-BFCF8032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0DB5-2723-440D-AA3F-72459AB6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1E9C-4EC9-4BAD-83AB-2F367CAB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5AE7-B7F1-40E6-BABB-9A258CEC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F0CF-E1EC-4460-A184-5A26EC23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13D9-9146-466E-B5FE-0CD68415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11B7-C5FD-43FC-A98E-2E26CF8D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5CC9-78DE-4EED-AF3D-DB619D9D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D361-832B-4A4A-BA6E-117EAE44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C6D0-5085-4D89-B305-D2A9CD55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13EC-E7CC-4170-B760-B07B4F42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D265-B7E9-4514-8627-C76A4C67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9B11-F2FB-42A6-8473-CD863476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2777-A344-4306-9B44-DAF09E58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D163-3956-488E-A9A5-CE87AA9E6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4BC5-FA66-4412-99D2-ACE713495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476360" y="620640"/>
                <a:ext cx="177480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301760" y="1946160"/>
                <a:ext cx="187632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332000" y="3789360"/>
                <a:ext cx="24573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332000" y="5157720"/>
                <a:ext cx="201276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489560" y="3571920"/>
                <a:ext cx="46544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500720" y="5157720"/>
                <a:ext cx="375912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500720" y="620640"/>
                <a:ext cx="38862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489560" y="1916280"/>
                <a:ext cx="386856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332000" y="692280"/>
                <a:ext cx="214956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332000" y="2205000"/>
                <a:ext cx="22176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,1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1332000" y="3860640"/>
                <a:ext cx="19112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6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332000" y="5415120"/>
                <a:ext cx="201276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,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4427640" y="1916280"/>
                <a:ext cx="43844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,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427640" y="620640"/>
                <a:ext cx="39700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,8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4427640" y="3824280"/>
                <a:ext cx="38862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6,8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427640" y="5084640"/>
                <a:ext cx="407340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,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81500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vod zápisu komplexního čísla z algebraického tvaru na tvar goniometrický – komplexní čísla reálná a ryze imaginár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pis komplexního čísla – reálného, ryze imaginárního; Souřadná os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Převod AT na G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378936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KČ reálná a ryze imaginární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42920" y="18720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Č reálné kladné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981000"/>
            <a:ext cx="81010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obrazy těchto KČ leží v kladné části osy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4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0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0 rad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 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+ 4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476360" y="5516640"/>
                <a:ext cx="71928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146" name=""/>
          <p:cNvGrpSpPr/>
          <p:nvPr/>
        </p:nvGrpSpPr>
        <p:grpSpPr>
          <a:xfrm>
            <a:off x="4572000" y="1628640"/>
            <a:ext cx="3868560" cy="3743280"/>
            <a:chOff x="4572000" y="1628640"/>
            <a:chExt cx="3868560" cy="3743280"/>
          </a:xfrm>
        </p:grpSpPr>
        <p:sp>
          <p:nvSpPr>
            <p:cNvPr id="147" name=""/>
            <p:cNvSpPr/>
            <p:nvPr/>
          </p:nvSpPr>
          <p:spPr>
            <a:xfrm>
              <a:off x="4572000" y="3571560"/>
              <a:ext cx="38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443640" y="1844640"/>
              <a:ext cx="0" cy="3527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16720" y="16286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02880" y="35002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45080" y="3500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2" name="Group 63"/>
          <p:cNvGrpSpPr/>
          <p:nvPr/>
        </p:nvGrpSpPr>
        <p:grpSpPr>
          <a:xfrm>
            <a:off x="7453080" y="3500280"/>
            <a:ext cx="144720" cy="142920"/>
            <a:chOff x="7453080" y="3500280"/>
            <a:chExt cx="144720" cy="142920"/>
          </a:xfrm>
        </p:grpSpPr>
        <p:sp>
          <p:nvSpPr>
            <p:cNvPr id="153" name="Line 64"/>
            <p:cNvSpPr/>
            <p:nvPr/>
          </p:nvSpPr>
          <p:spPr>
            <a:xfrm>
              <a:off x="7453440" y="350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4" name="Line 65"/>
            <p:cNvSpPr/>
            <p:nvPr/>
          </p:nvSpPr>
          <p:spPr>
            <a:xfrm flipH="1">
              <a:off x="7453080" y="350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7310160" y="36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3571920"/>
            <a:ext cx="19447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45080" y="3573360"/>
            <a:ext cx="19447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6907680" y="2891520"/>
            <a:ext cx="152280" cy="1081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35240" y="277956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2720" y="5445000"/>
            <a:ext cx="360360" cy="792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792360"/>
              <a:gd name="textAreaBottom" fmla="*/ 775080 h 792360"/>
            </a:gdLst>
            <a:ahLst/>
            <a:rect l="textAreaLeft" t="textAreaTop" r="textAreaRight" b="textAreaBottom"/>
            <a:pathLst>
              <a:path w="21600" h="47468">
                <a:moveTo>
                  <a:pt x="3600" y="0"/>
                </a:moveTo>
                <a:arcTo wR="3600" hR="3600" stAng="16200000" swAng="-5400000"/>
                <a:lnTo>
                  <a:pt x="0" y="43868"/>
                </a:lnTo>
                <a:arcTo wR="3600" hR="3600" stAng="10800000" swAng="-5400000"/>
                <a:lnTo>
                  <a:pt x="18000" y="474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5445000"/>
            <a:ext cx="597708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8000" y="61945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52680" y="61945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92720" y="4221000"/>
            <a:ext cx="54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počáteční rameno</a:t>
            </a:r>
            <a:r>
              <a:rPr b="0" lang="cs-CZ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=</a:t>
            </a:r>
            <a:r>
              <a:rPr b="0" lang="cs-CZ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ncové rameno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1628640"/>
            <a:ext cx="288144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859280" y="2421000"/>
            <a:ext cx="1441440" cy="19447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187280" y="5516640"/>
                <a:ext cx="78156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042920" y="18900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Č reálné záporné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981000"/>
            <a:ext cx="81010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obrazy těchto KČ leží v záporné části osy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4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180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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rad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 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+ 2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572000" y="1628640"/>
            <a:ext cx="3868560" cy="3743280"/>
            <a:chOff x="4572000" y="1628640"/>
            <a:chExt cx="3868560" cy="3743280"/>
          </a:xfrm>
        </p:grpSpPr>
        <p:sp>
          <p:nvSpPr>
            <p:cNvPr id="171" name=""/>
            <p:cNvSpPr/>
            <p:nvPr/>
          </p:nvSpPr>
          <p:spPr>
            <a:xfrm>
              <a:off x="4572000" y="3571560"/>
              <a:ext cx="38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443640" y="1844640"/>
              <a:ext cx="0" cy="3527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16720" y="16286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02880" y="35002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45080" y="3500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6" name="Group 63"/>
          <p:cNvGrpSpPr/>
          <p:nvPr/>
        </p:nvGrpSpPr>
        <p:grpSpPr>
          <a:xfrm>
            <a:off x="5435280" y="3500280"/>
            <a:ext cx="144720" cy="142920"/>
            <a:chOff x="5435280" y="3500280"/>
            <a:chExt cx="144720" cy="142920"/>
          </a:xfrm>
        </p:grpSpPr>
        <p:sp>
          <p:nvSpPr>
            <p:cNvPr id="177" name="Line 64"/>
            <p:cNvSpPr/>
            <p:nvPr/>
          </p:nvSpPr>
          <p:spPr>
            <a:xfrm>
              <a:off x="5435640" y="350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Line 65"/>
            <p:cNvSpPr/>
            <p:nvPr/>
          </p:nvSpPr>
          <p:spPr>
            <a:xfrm flipH="1">
              <a:off x="5435280" y="350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149440" y="378936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43640" y="3573360"/>
            <a:ext cx="19447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500360" y="3573360"/>
            <a:ext cx="1944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 rot="16200000">
            <a:off x="5899680" y="3324240"/>
            <a:ext cx="152280" cy="934920"/>
          </a:xfrm>
          <a:custGeom>
            <a:avLst/>
            <a:gdLst>
              <a:gd name="textAreaLeft" fmla="*/ 97200 w 152280"/>
              <a:gd name="textAreaRight" fmla="*/ 152640 w 15228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25800" y="378936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5445000"/>
            <a:ext cx="504720" cy="79236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792360"/>
              <a:gd name="textAreaBottom" fmla="*/ 767880 h 792360"/>
            </a:gdLst>
            <a:ahLst/>
            <a:rect l="textAreaLeft" t="textAreaTop" r="textAreaRight" b="textAreaBottom"/>
            <a:pathLst>
              <a:path w="21600" h="33901">
                <a:moveTo>
                  <a:pt x="3600" y="0"/>
                </a:moveTo>
                <a:arcTo wR="3600" hR="3600" stAng="16200000" swAng="-5400000"/>
                <a:lnTo>
                  <a:pt x="0" y="30301"/>
                </a:lnTo>
                <a:arcTo wR="3600" hR="3600" stAng="10800000" swAng="-5400000"/>
                <a:lnTo>
                  <a:pt x="18000" y="339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5445000"/>
            <a:ext cx="665964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77520" y="616572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38520" y="61657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50920" y="1628640"/>
            <a:ext cx="324180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5292360" y="2420640"/>
            <a:ext cx="934920" cy="6476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6000" y="2924280"/>
            <a:ext cx="1294920" cy="1272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1011"/>
                </a:moveTo>
                <a:arcTo wR="10800" hR="10800" stAng="10732961" swAng="10867039"/>
                <a:lnTo>
                  <a:pt x="10800" y="10800"/>
                </a:lnTo>
                <a:close/>
              </a:path>
              <a:path fill="none" w="21600" h="21600">
                <a:moveTo>
                  <a:pt x="2" y="11011"/>
                </a:moveTo>
                <a:arcTo wR="10800" hR="10800" stAng="10732961" swAng="10867039"/>
              </a:path>
            </a:pathLst>
          </a:custGeom>
          <a:noFill/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05880" y="2990880"/>
            <a:ext cx="80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80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332000" y="5084640"/>
                <a:ext cx="765468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1042920" y="18900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Č ryze imaginární kladné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42920" y="981000"/>
            <a:ext cx="81010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obrazy těchto KČ leží v kladné části osy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4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90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    rad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 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+ 3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572000" y="1628640"/>
            <a:ext cx="3868560" cy="3743280"/>
            <a:chOff x="4572000" y="1628640"/>
            <a:chExt cx="3868560" cy="3743280"/>
          </a:xfrm>
        </p:grpSpPr>
        <p:sp>
          <p:nvSpPr>
            <p:cNvPr id="196" name=""/>
            <p:cNvSpPr/>
            <p:nvPr/>
          </p:nvSpPr>
          <p:spPr>
            <a:xfrm>
              <a:off x="4572000" y="3571560"/>
              <a:ext cx="38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443640" y="1844640"/>
              <a:ext cx="0" cy="3527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16720" y="16286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02880" y="35002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45080" y="3500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1" name="Group 63"/>
          <p:cNvGrpSpPr/>
          <p:nvPr/>
        </p:nvGrpSpPr>
        <p:grpSpPr>
          <a:xfrm>
            <a:off x="6372000" y="2349360"/>
            <a:ext cx="144720" cy="142920"/>
            <a:chOff x="6372000" y="2349360"/>
            <a:chExt cx="144720" cy="142920"/>
          </a:xfrm>
        </p:grpSpPr>
        <p:sp>
          <p:nvSpPr>
            <p:cNvPr id="202" name="Line 64"/>
            <p:cNvSpPr/>
            <p:nvPr/>
          </p:nvSpPr>
          <p:spPr>
            <a:xfrm>
              <a:off x="6372360" y="234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Line 65"/>
            <p:cNvSpPr/>
            <p:nvPr/>
          </p:nvSpPr>
          <p:spPr>
            <a:xfrm flipH="1">
              <a:off x="6372000" y="234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6517800" y="213372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43640" y="3573360"/>
            <a:ext cx="19447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6443640" y="1844640"/>
            <a:ext cx="1440" cy="17287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6156360" y="2420280"/>
            <a:ext cx="144360" cy="115236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81080" y="270828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8000" y="5084640"/>
            <a:ext cx="360360" cy="1224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224000"/>
              <a:gd name="textAreaBottom" fmla="*/ 1206720 h 1224000"/>
            </a:gdLst>
            <a:ahLst/>
            <a:rect l="textAreaLeft" t="textAreaTop" r="textAreaRight" b="textAreaBottom"/>
            <a:pathLst>
              <a:path w="21600" h="73315">
                <a:moveTo>
                  <a:pt x="3600" y="0"/>
                </a:moveTo>
                <a:arcTo wR="3600" hR="3600" stAng="16200000" swAng="-5400000"/>
                <a:lnTo>
                  <a:pt x="0" y="69715"/>
                </a:lnTo>
                <a:arcTo wR="3600" hR="3600" stAng="10800000" swAng="-5400000"/>
                <a:lnTo>
                  <a:pt x="18000" y="73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56000" y="5084640"/>
            <a:ext cx="6408720" cy="1224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66520" y="63388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38520" y="63388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1628640"/>
            <a:ext cx="324180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292720" y="2420640"/>
            <a:ext cx="1295280" cy="6476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23280" y="2852640"/>
            <a:ext cx="1440720" cy="141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4000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400001"/>
              </a:path>
            </a:pathLst>
          </a:custGeom>
          <a:noFill/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98280" y="2997360"/>
            <a:ext cx="6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90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067280" y="1557360"/>
                <a:ext cx="361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5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258920" y="5157720"/>
                <a:ext cx="77184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1042920" y="18900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Č ryze imaginární záporné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42920" y="981000"/>
            <a:ext cx="81010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obrazy těchto KČ leží v záporné části osy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4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270</a:t>
            </a:r>
            <a:r>
              <a:rPr b="0" lang="cs-CZ" sz="34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=      rad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= 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 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+ 2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0" y="1628640"/>
            <a:ext cx="3868560" cy="3743280"/>
            <a:chOff x="4572000" y="1628640"/>
            <a:chExt cx="3868560" cy="3743280"/>
          </a:xfrm>
        </p:grpSpPr>
        <p:sp>
          <p:nvSpPr>
            <p:cNvPr id="222" name=""/>
            <p:cNvSpPr/>
            <p:nvPr/>
          </p:nvSpPr>
          <p:spPr>
            <a:xfrm>
              <a:off x="4572000" y="3571560"/>
              <a:ext cx="38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443640" y="1844640"/>
              <a:ext cx="0" cy="3527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16720" y="16286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02880" y="35002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45080" y="3500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7" name="Group 63"/>
          <p:cNvGrpSpPr/>
          <p:nvPr/>
        </p:nvGrpSpPr>
        <p:grpSpPr>
          <a:xfrm>
            <a:off x="6372000" y="4508640"/>
            <a:ext cx="144720" cy="142560"/>
            <a:chOff x="6372000" y="4508640"/>
            <a:chExt cx="144720" cy="142560"/>
          </a:xfrm>
        </p:grpSpPr>
        <p:sp>
          <p:nvSpPr>
            <p:cNvPr id="228" name="Line 64"/>
            <p:cNvSpPr/>
            <p:nvPr/>
          </p:nvSpPr>
          <p:spPr>
            <a:xfrm>
              <a:off x="6372360" y="4508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Line 65"/>
            <p:cNvSpPr/>
            <p:nvPr/>
          </p:nvSpPr>
          <p:spPr>
            <a:xfrm flipH="1">
              <a:off x="6372000" y="4508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725440" y="4292640"/>
            <a:ext cx="6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43640" y="3573360"/>
            <a:ext cx="19447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443640" y="3573360"/>
            <a:ext cx="1440" cy="1440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6515280" y="3573360"/>
            <a:ext cx="142560" cy="1008000"/>
          </a:xfrm>
          <a:custGeom>
            <a:avLst/>
            <a:gdLst>
              <a:gd name="textAreaLeft" fmla="*/ 91080 w 142560"/>
              <a:gd name="textAreaRight" fmla="*/ 142920 w 1425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60720" y="378936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763640" y="5084640"/>
            <a:ext cx="576360" cy="122400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224000"/>
              <a:gd name="textAreaBottom" fmla="*/ 1195920 h 1224000"/>
            </a:gdLst>
            <a:ahLst/>
            <a:rect l="textAreaLeft" t="textAreaTop" r="textAreaRight" b="textAreaBottom"/>
            <a:pathLst>
              <a:path w="21600" h="45856">
                <a:moveTo>
                  <a:pt x="3600" y="0"/>
                </a:moveTo>
                <a:arcTo wR="3600" hR="3600" stAng="16200000" swAng="-5400000"/>
                <a:lnTo>
                  <a:pt x="0" y="42256"/>
                </a:lnTo>
                <a:arcTo wR="3600" hR="3600" stAng="10800000" swAng="-5400000"/>
                <a:lnTo>
                  <a:pt x="18000" y="458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56000" y="5084640"/>
            <a:ext cx="6408720" cy="1224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95240" y="63388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8520" y="63388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50920" y="1628640"/>
            <a:ext cx="345780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5292720" y="2421000"/>
            <a:ext cx="574560" cy="7207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51640" y="2781360"/>
            <a:ext cx="1588680" cy="156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43"/>
                </a:moveTo>
                <a:arcTo wR="10800" hR="10800" stAng="10786231" swAng="10813769"/>
                <a:lnTo>
                  <a:pt x="10800" y="10800"/>
                </a:lnTo>
                <a:close/>
              </a:path>
              <a:path fill="none" w="21600" h="21600">
                <a:moveTo>
                  <a:pt x="0" y="10843"/>
                </a:moveTo>
                <a:arcTo wR="10800" hR="10800" stAng="10786231" swAng="10813769"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77560" y="3068640"/>
            <a:ext cx="80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270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284720" y="1557360"/>
                <a:ext cx="5014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 flipH="1" flipV="1">
            <a:off x="5653080" y="2793600"/>
            <a:ext cx="1560960" cy="156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5" y="0"/>
                </a:moveTo>
                <a:arcTo wR="10800" hR="10800" stAng="-5414387" swAng="5602805"/>
                <a:lnTo>
                  <a:pt x="10800" y="10800"/>
                </a:lnTo>
                <a:close/>
              </a:path>
              <a:path fill="none" w="21600" h="21600">
                <a:moveTo>
                  <a:pt x="10755" y="0"/>
                </a:moveTo>
                <a:arcTo wR="10800" hR="10800" stAng="-5414387" swAng="5602805"/>
              </a:path>
            </a:pathLst>
          </a:custGeom>
          <a:noFill/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500"/>
                            </p:stCondLst>
                            <p:childTnLst>
                              <p:par>
                                <p:cTn id="3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16000" y="189000"/>
            <a:ext cx="802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Zapište daná KČ v G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258920" y="1197000"/>
                <a:ext cx="13669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187280" y="2349360"/>
                <a:ext cx="17179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3645000"/>
                <a:ext cx="14018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258920" y="5086440"/>
                <a:ext cx="16826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643280" y="1197000"/>
                <a:ext cx="30243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643280" y="2276640"/>
                <a:ext cx="311004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643280" y="3357720"/>
                <a:ext cx="311004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643280" y="4797360"/>
                <a:ext cx="34862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332000" y="981000"/>
                <a:ext cx="18079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332000" y="2492280"/>
                <a:ext cx="17064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403280" y="3933720"/>
                <a:ext cx="16383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403280" y="5373720"/>
                <a:ext cx="15699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427640" y="620640"/>
                <a:ext cx="42498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427640" y="2421000"/>
                <a:ext cx="37242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532400" y="3860640"/>
                <a:ext cx="3781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498920" y="5084640"/>
                <a:ext cx="390384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4:45Z</dcterms:modified>
  <cp:revision>298</cp:revision>
  <dc:subject/>
  <dc:title>KČ</dc:title>
</cp:coreProperties>
</file>