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8679-B0C8-433B-88E7-D9312A1BB9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EC15-355C-460C-B4EB-F20606C3AD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7390-6B3F-4774-BE14-77AB2610CF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4ABF-3FB0-4684-93D9-4CF96C84FF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7A0-7DA0-4006-AB7E-DEACF60341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BC6-61C6-4802-AFDF-367A19C2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E89-1FD5-4E2A-9027-D7C9D8C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E10-E60B-4AFA-9A11-5C13E374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570-196C-4298-A7E8-EACE73EC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1D93-71C9-4A5E-B0F5-ACC60A43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989F-9D3E-427A-9095-15810C57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1BE0-B0F5-490C-B249-BD2B154B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F414-6540-4452-A837-C2F407E4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A3B3-087D-4591-A4F3-00665045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DBE8-E4A2-4B54-A4F3-E722316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7327-1122-4414-BFBD-5E05729A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49E-197B-4ABF-AD7A-DD644C2D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1F6C-C89D-4B05-A6FC-BD28E2A6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9FC2-478F-46E6-9F39-6D18B17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56F8-938F-44D3-9433-527042C0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508B-5B7D-42E0-AFCC-A1341365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C7F-312F-4900-9FE4-BBBB1DB7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556-7057-48B8-9CDD-32B2DC01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6D0-E0BB-4597-A094-8ECFEF06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D17-4EDB-4099-B3AA-85ED6342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DA6-6FAC-430E-ADE9-B904406E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351-FE85-4448-99CC-52BFBF3A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493-2A7F-4417-983D-3C8E2D0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CAC-CF03-4703-91C5-8BD6AF90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E6DA-1282-4C9E-95B3-DA45A9F5F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5334-65FE-456F-8DC6-2E9A0CCC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9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Č zapisujeme dvěma způsoby a tudíž používám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algebra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972720" indent="-34884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tvar goniometrický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ázornění komplexní čís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1700280"/>
            <a:ext cx="795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Č znázorňujeme jak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bod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901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vektory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Gaussovy roviny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dddddd"/>
                </a:solidFill>
                <a:uFillTx/>
                <a:latin typeface="Times New Roman"/>
              </a:rPr>
              <a:t>Gaussova rovin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0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ortogonální soustava souřadných os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87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komplexních čís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1989000"/>
            <a:ext cx="7701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yze imaginár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5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KČ reálná ( R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C 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ETRÁNEK, O.; CALDA, E.; HEBÁK, P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4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4. ISBN 8071960403. Kapitola 1, s. 9–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1, s. 11–4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51688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xní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Zavedení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r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komplexníc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zopakuje známé číselné obory. Vysvětlí nutnost zavedení nového číselného oboru na konkrétním příkladu. Seznámí se základními druhy komplexních čísel, způsoby zápisu a znázorněním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elné obory; Potřeba komplexních čísel; Imaginární jednotka; Zápis, znázornění a druhy komplexních čísel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117440" y="4681440"/>
            <a:ext cx="4695840" cy="2017800"/>
            <a:chOff x="1117440" y="4681440"/>
            <a:chExt cx="4695840" cy="2017800"/>
          </a:xfrm>
        </p:grpSpPr>
        <p:sp>
          <p:nvSpPr>
            <p:cNvPr id="142" name=""/>
            <p:cNvSpPr/>
            <p:nvPr/>
          </p:nvSpPr>
          <p:spPr>
            <a:xfrm>
              <a:off x="1349280" y="4681440"/>
              <a:ext cx="4464000" cy="20178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7440" y="6021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19280" y="4765680"/>
            <a:ext cx="3168720" cy="1800360"/>
            <a:chOff x="1619280" y="4765680"/>
            <a:chExt cx="3168720" cy="1800360"/>
          </a:xfrm>
        </p:grpSpPr>
        <p:sp>
          <p:nvSpPr>
            <p:cNvPr id="145" name=""/>
            <p:cNvSpPr/>
            <p:nvPr/>
          </p:nvSpPr>
          <p:spPr>
            <a:xfrm>
              <a:off x="1619280" y="4765680"/>
              <a:ext cx="3168720" cy="180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9600" y="5558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4908600"/>
            <a:ext cx="2305080" cy="1295280"/>
            <a:chOff x="1763640" y="4908600"/>
            <a:chExt cx="2305080" cy="1295280"/>
          </a:xfrm>
        </p:grpSpPr>
        <p:sp>
          <p:nvSpPr>
            <p:cNvPr id="148" name=""/>
            <p:cNvSpPr/>
            <p:nvPr/>
          </p:nvSpPr>
          <p:spPr>
            <a:xfrm>
              <a:off x="1763640" y="4908600"/>
              <a:ext cx="2305080" cy="1295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4960" y="5340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1125360"/>
            <a:ext cx="8172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 2; 3;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cel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 – 2; – 1; 0; 1; 2 ..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zlomk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Q =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p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Z; q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: p/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iracionální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konstanty, odmocnin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37680" indent="0">
              <a:lnSpc>
                <a:spcPct val="110000"/>
              </a:lnSpc>
              <a:buNone/>
              <a:tabLst>
                <a:tab algn="l" pos="0"/>
                <a:tab algn="l" pos="723960"/>
                <a:tab algn="l" pos="1434960"/>
                <a:tab algn="l" pos="34113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álná čís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 = (– ∞; +∞ 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24000" y="5052960"/>
            <a:ext cx="1079640" cy="792000"/>
            <a:chOff x="2124000" y="5052960"/>
            <a:chExt cx="1079640" cy="792000"/>
          </a:xfrm>
        </p:grpSpPr>
        <p:sp>
          <p:nvSpPr>
            <p:cNvPr id="153" name=""/>
            <p:cNvSpPr/>
            <p:nvPr/>
          </p:nvSpPr>
          <p:spPr>
            <a:xfrm>
              <a:off x="2124000" y="5052960"/>
              <a:ext cx="1079640" cy="7920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8720" y="5197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00000" y="189000"/>
            <a:ext cx="8059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ývoj a přehled číselných oborů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61080" y="5197320"/>
            <a:ext cx="720720" cy="863640"/>
            <a:chOff x="4861080" y="5197320"/>
            <a:chExt cx="720720" cy="863640"/>
          </a:xfrm>
        </p:grpSpPr>
        <p:sp>
          <p:nvSpPr>
            <p:cNvPr id="157" name=""/>
            <p:cNvSpPr/>
            <p:nvPr/>
          </p:nvSpPr>
          <p:spPr>
            <a:xfrm>
              <a:off x="4861080" y="5197320"/>
              <a:ext cx="720720" cy="86364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8880" y="53416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172e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58136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515628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5877000"/>
            <a:ext cx="32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450720"/>
                <a:tab algn="l" pos="982800"/>
                <a:tab algn="l" pos="1433520"/>
                <a:tab algn="l" pos="1882800"/>
                <a:tab algn="l" pos="2333520"/>
                <a:tab algn="l" pos="278460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 I = 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187280" y="1197000"/>
            <a:ext cx="7772400" cy="944640"/>
            <a:chOff x="1187280" y="1197000"/>
            <a:chExt cx="7772400" cy="944640"/>
          </a:xfrm>
        </p:grpSpPr>
        <p:sp>
          <p:nvSpPr>
            <p:cNvPr id="164" name=""/>
            <p:cNvSpPr/>
            <p:nvPr/>
          </p:nvSpPr>
          <p:spPr>
            <a:xfrm>
              <a:off x="1187280" y="1341360"/>
              <a:ext cx="77724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ddddd"/>
                  </a:solidFill>
                  <a:latin typeface="Times New Roman"/>
                </a:rPr>
                <a:t>Řešte rovnici:</a:t>
              </a:r>
              <a:endParaRPr b="0" lang="en-US" sz="3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067280" y="1197000"/>
                  <a:ext cx="367164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" name=""/>
          <p:cNvSpPr/>
          <p:nvPr/>
        </p:nvSpPr>
        <p:spPr>
          <a:xfrm>
            <a:off x="1187280" y="2637000"/>
            <a:ext cx="7956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dná se o úplnou kvadratickou rovnic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učivo 1. ročníku), kterou můžeme řeši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zkladem na součin pomocí Vietových vzorců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15840" indent="-2854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zorcem pro kořeny s diskriminantem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8900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Příklad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87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ietovy vzor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87280" y="1268280"/>
            <a:ext cx="7700760" cy="5195520"/>
            <a:chOff x="1187280" y="1268280"/>
            <a:chExt cx="7700760" cy="5195520"/>
          </a:xfrm>
        </p:grpSpPr>
        <p:sp>
          <p:nvSpPr>
            <p:cNvPr id="170" name=""/>
            <p:cNvSpPr/>
            <p:nvPr/>
          </p:nvSpPr>
          <p:spPr>
            <a:xfrm>
              <a:off x="1187280" y="1268280"/>
              <a:ext cx="770076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buClr>
                  <a:srgbClr val="0099cc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V </a:t>
              </a:r>
              <a:r>
                <a:rPr b="0" i="1" lang="en-US" sz="32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normované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 kvadratické rovnici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marL="446040" indent="-446040">
                <a:lnSpc>
                  <a:spcPct val="12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platí vztah mezi kořen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ddddd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 a koeficienty (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p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dddddd"/>
                  </a:solidFill>
                  <a:latin typeface="Times New Roman"/>
                </a:rPr>
                <a:t>q</a:t>
              </a:r>
              <a:r>
                <a:rPr b="0" lang="en-US" sz="3200" spc="-1" strike="noStrike">
                  <a:solidFill>
                    <a:srgbClr val="dddddd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in kořenů rovnice dává hodnotu absolutního člen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972720" indent="-348840">
                <a:lnSpc>
                  <a:spcPct val="120000"/>
                </a:lnSpc>
                <a:spcBef>
                  <a:spcPts val="1749"/>
                </a:spcBef>
                <a:buClr>
                  <a:srgbClr val="dddddd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součet kořenů rovnice dává opačnou hodnotu lineárního koeficientu: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836360" y="1953720"/>
                  <a:ext cx="303552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px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221080" y="4508280"/>
                  <a:ext cx="2063880" cy="65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5724360" y="5803560"/>
                  <a:ext cx="2570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3419640" y="2060640"/>
            <a:ext cx="72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2060640"/>
            <a:ext cx="71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96760" y="260280"/>
            <a:ext cx="806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kořeny s diskriminantem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1125360"/>
            <a:ext cx="82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V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becné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 kvadratické rovnic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počteme hodnotu výrazu, který řídí počet kořenů rovnice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skrimina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318360" y="1052640"/>
                <a:ext cx="2825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16720" y="2349360"/>
                <a:ext cx="2216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258920" y="3213000"/>
            <a:ext cx="7885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kladný,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436760" indent="-449280">
              <a:lnSpc>
                <a:spcPct val="120000"/>
              </a:lnSpc>
              <a:buClr>
                <a:srgbClr val="dddddd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ůzné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é koř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365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2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nulový,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má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5589720"/>
            <a:ext cx="78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20000"/>
              </a:lnSpc>
              <a:buClr>
                <a:srgbClr val="ccecff"/>
              </a:buClr>
              <a:buSzPct val="80000"/>
              <a:buFont typeface="Times New Roman"/>
              <a:buAutoNum type="arabicParenR" startAt="3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je záporný,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79160" indent="-431280">
              <a:lnSpc>
                <a:spcPct val="120000"/>
              </a:lnSpc>
              <a:buClr>
                <a:srgbClr val="ccecff"/>
              </a:buClr>
              <a:buFont typeface="Times New Roman"/>
              <a:buChar char="•"/>
              <a:tabLst>
                <a:tab algn="l" pos="420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vnice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nemá reálný koř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189000"/>
            <a:ext cx="7988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rátíme se k řešení zadané kvadratické rovnic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71640" y="71280"/>
                <a:ext cx="3384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042920" y="692280"/>
            <a:ext cx="810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D = (– 10)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– 4.1.29 = 100 – 116 =  – 16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vnice nemá v oboru reálných čísel řešen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 u="sng">
                <a:solidFill>
                  <a:srgbClr val="ffff00"/>
                </a:solidFill>
                <a:uFillTx/>
                <a:latin typeface="Times New Roman"/>
              </a:rPr>
              <a:t>Hledáme jiný početní postup a nový číselný obor</a:t>
            </a:r>
            <a:r>
              <a:rPr b="1" i="1" lang="cs-CZ" sz="3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dddddd"/>
                </a:solidFill>
                <a:latin typeface="Times New Roman"/>
              </a:rPr>
              <a:t>ve kterém bychom řešení nalezli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63700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vyjdeme z nejjednodušší rovnice tohoto typu (rovnice nemá v R řešení):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0360" y="3068640"/>
                <a:ext cx="1440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116000" y="371808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předpokládáme, že jejím kořenem je jisté číslo, které nazveme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imaginární jednotkou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96360" y="4292640"/>
                <a:ext cx="720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116000" y="4726080"/>
            <a:ext cx="8028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latníme předpoklad a dosadíme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236000" y="4797360"/>
                <a:ext cx="1368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67640" y="5300640"/>
                <a:ext cx="114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116000" y="5776920"/>
            <a:ext cx="802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pravíme rovnici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– 10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29 = 0 do tvaru, který odpovídá tvaru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+ 1 = 0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227280" y="3573360"/>
            <a:ext cx="1584360" cy="71928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3718080"/>
            <a:ext cx="1224000" cy="115092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5346720"/>
            <a:ext cx="1296720" cy="5302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56000" y="260280"/>
                <a:ext cx="25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042920" y="835200"/>
                <a:ext cx="4135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14560" y="1411200"/>
                <a:ext cx="2284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35280" y="1987560"/>
                <a:ext cx="1575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301920" y="2635200"/>
                <a:ext cx="1944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36840" y="3282840"/>
                <a:ext cx="28386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381560" y="3932280"/>
                <a:ext cx="12049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940360" y="1484280"/>
                <a:ext cx="2654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76840" y="4579920"/>
                <a:ext cx="1728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52840" y="5227560"/>
                <a:ext cx="1481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356000" y="5950080"/>
                <a:ext cx="4427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z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187280" y="1987560"/>
            <a:ext cx="4418280" cy="244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32440" y="2349360"/>
                <a:ext cx="3211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094280" y="2058840"/>
            <a:ext cx="576000" cy="57636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643280" y="314172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2635200"/>
            <a:ext cx="863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13372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820000" y="2924280"/>
            <a:ext cx="0" cy="217440"/>
          </a:xfrm>
          <a:prstGeom prst="line">
            <a:avLst/>
          </a:prstGeom>
          <a:ln w="381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3280" y="2133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989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řešení ryze kvadratických rovnic v 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236016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Řešením kvadratických rovnic, jejichž diskriminant je záporný, budou obdobné výrazy, které se nazývají </a:t>
            </a: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mplexní čísla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40:54Z</dcterms:modified>
  <cp:revision>294</cp:revision>
  <dc:subject/>
  <dc:title>KČ</dc:title>
</cp:coreProperties>
</file>