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878-5E2A-4F00-816F-DAC934054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D98-333D-400D-B8CC-324961A3D5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4D8-3080-4B10-8535-F3469BC9C3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F63-8709-4B27-8803-D4124EB880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6169-B336-4191-8662-2E1FBA9859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92E7-A5E1-45A2-BE5B-C47D65F02BB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B91-BA48-4650-92E8-6CE6E86C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EDB-ADA8-4878-949D-6DD8E838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991-C382-4C27-AF83-15051054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99F-7290-4362-B7EE-9F6FF4DC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C2A-08A4-421E-BC88-A5BA73A9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6DD-6E70-4F31-92C3-65B3A7C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C806-7DC1-45E2-A4F1-B36C00C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E32C-3133-40B7-BA5A-EAABB10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D63D-C022-4272-8389-349E735D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5A1-5EA8-43F6-85FD-F75C0F1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48D-C6C2-443E-BB57-8717CEC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A51-73C0-4402-BFFC-4DC376D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EA5-BC73-42AD-8C02-E17B00A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2AA3-77AD-4067-B9E6-317A57F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8D05-11CB-44C6-B36C-498A85A5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6E5-F6F2-4D89-BAEF-19E2C196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3F9-A0D3-4D49-9DDF-EEB86774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937-B40B-4FCD-9663-8A3A94C1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BA7-A5B0-4E65-A995-4C68165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3A7-6A1B-4146-AD8C-A92E4A48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55F-55B9-459A-997F-1D9E375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EFC-C145-4AD3-A8D2-1F6C391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59E-8485-4505-B96C-FFDF99E6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92A-F93C-4025-A5C2-E3D7C65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8B51-10EB-4136-B244-AF6C8189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DC90-93E6-42F7-8275-7B2489D1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58920" y="260280"/>
                <a:ext cx="178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1773360"/>
                <a:ext cx="1692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58920" y="2924280"/>
                <a:ext cx="2663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4292640"/>
                <a:ext cx="31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58920" y="5589720"/>
                <a:ext cx="4886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7093080" y="692280"/>
            <a:ext cx="1317600" cy="5924520"/>
            <a:chOff x="7093080" y="692280"/>
            <a:chExt cx="1317600" cy="59245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380360" y="692280"/>
                  <a:ext cx="1969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7236000" y="1557360"/>
                  <a:ext cx="70632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093080" y="2924280"/>
                  <a:ext cx="12175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93080" y="4292640"/>
                  <a:ext cx="12459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64360" y="5661000"/>
                  <a:ext cx="124632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klad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87280" y="260280"/>
                <a:ext cx="3414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484280"/>
                <a:ext cx="2945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87280" y="2708280"/>
                <a:ext cx="2913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187280" y="3789360"/>
                <a:ext cx="3195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87280" y="4869000"/>
                <a:ext cx="36658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5950080"/>
                <a:ext cx="2600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5435640" y="476280"/>
            <a:ext cx="3708360" cy="5948280"/>
            <a:chOff x="5435640" y="476280"/>
            <a:chExt cx="3708360" cy="59482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35640" y="476280"/>
                  <a:ext cx="13460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435640" y="1557360"/>
                  <a:ext cx="1158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481720" y="2637000"/>
                  <a:ext cx="36622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08720" y="3789360"/>
                  <a:ext cx="1753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−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5508720" y="4581360"/>
                  <a:ext cx="325584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580000" y="5950080"/>
                  <a:ext cx="10018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imaginární složku 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87280" y="549360"/>
                <a:ext cx="285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1628640"/>
                <a:ext cx="39466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187280" y="3213000"/>
                <a:ext cx="269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187280" y="4437000"/>
                <a:ext cx="34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71440" y="5661000"/>
                <a:ext cx="3697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42040" y="549360"/>
            <a:ext cx="3801960" cy="5689440"/>
            <a:chOff x="5342040" y="549360"/>
            <a:chExt cx="3801960" cy="56894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5342040" y="549360"/>
                  <a:ext cx="15336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364000" y="1773360"/>
                  <a:ext cx="200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508720" y="5661000"/>
                  <a:ext cx="16272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435640" y="4437000"/>
                  <a:ext cx="300492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  <m:r>
                        <m:t xml:space="preserve">∪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5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mělo reálnou složku zápornou a současně imaginární složku nezápornou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620640"/>
                <a:ext cx="2883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87280" y="1628640"/>
                <a:ext cx="3791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87280" y="3213000"/>
                <a:ext cx="332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4437000"/>
                <a:ext cx="3197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87280" y="5445000"/>
                <a:ext cx="4668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5232240" y="498600"/>
            <a:ext cx="3911760" cy="5771880"/>
            <a:chOff x="5232240" y="498600"/>
            <a:chExt cx="3911760" cy="57718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232240" y="498600"/>
                  <a:ext cx="1752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170760" y="5589720"/>
                  <a:ext cx="29732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⟩</m:t>
                      </m:r>
                      <m:r>
                        <m:t xml:space="preserve">∪</m:t>
                      </m:r>
                      <m:r>
                        <m:t xml:space="preserve">⟨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5364000" y="3068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292720" y="1557360"/>
                  <a:ext cx="1784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92720" y="4365720"/>
                  <a:ext cx="17524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⟨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42920" y="1484280"/>
            <a:ext cx="8101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6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tak, aby KČ bylo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yze imaginárn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) reál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03480" y="620640"/>
                <a:ext cx="4448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87280" y="2205000"/>
                <a:ext cx="491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87280" y="3645000"/>
                <a:ext cx="3695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58920" y="5157720"/>
                <a:ext cx="435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746760" y="620640"/>
            <a:ext cx="1936800" cy="5837400"/>
            <a:chOff x="6746760" y="620640"/>
            <a:chExt cx="1936800" cy="583740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775560" y="620640"/>
                  <a:ext cx="187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761160" y="220500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2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46760" y="3789360"/>
                  <a:ext cx="16146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75560" y="5373720"/>
                  <a:ext cx="1908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</m:e>
                        <m:e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234936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7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ro která reálná čísla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, y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platí rovnost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705440" cy="5315040"/>
        </p:xfrm>
        <a:graphic>
          <a:graphicData uri="http://schemas.openxmlformats.org/drawingml/2006/table">
            <a:tbl>
              <a:tblPr/>
              <a:tblGrid>
                <a:gridCol w="2834640"/>
                <a:gridCol w="487080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vičení - algebraický tvar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říklady (zadání a výsledky), které jsou vybrány průřezově z celé kapitol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pis a znázornění komplexního čísla; Reálná a imaginární část komplexního čísla; Číslo opačné a komplexně sdružené ke komplexnímu číslu; Vzdálenost komplexního čísla od počátku; Početní úkony s komplexními čísly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87280" y="692280"/>
                <a:ext cx="375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187280" y="1916280"/>
                <a:ext cx="448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87280" y="3213000"/>
                <a:ext cx="4042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87280" y="4508640"/>
                <a:ext cx="7394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6877080" y="620640"/>
            <a:ext cx="1166760" cy="5692680"/>
            <a:chOff x="6877080" y="620640"/>
            <a:chExt cx="1166760" cy="5692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877080" y="620640"/>
                  <a:ext cx="93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948360" y="1916280"/>
                  <a:ext cx="10954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948360" y="321300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020000" y="5157720"/>
                  <a:ext cx="9079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16000" y="765000"/>
                <a:ext cx="54500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87280" y="2421000"/>
                <a:ext cx="4040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4437000"/>
                <a:ext cx="61722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236000" y="1197000"/>
            <a:ext cx="1282680" cy="4970520"/>
            <a:chOff x="7236000" y="1197000"/>
            <a:chExt cx="1282680" cy="497052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236000" y="1197000"/>
                  <a:ext cx="9698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±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236000" y="2852640"/>
                  <a:ext cx="1282680" cy="115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308720" y="5589720"/>
                  <a:ext cx="9399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2349360"/>
            <a:ext cx="78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8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bsolutní hodnotu KČ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87280" y="404640"/>
                <a:ext cx="1816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187280" y="18446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141720"/>
                <a:ext cx="444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87280" y="4365720"/>
                <a:ext cx="419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58920" y="5373720"/>
                <a:ext cx="2851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6372360" y="333360"/>
            <a:ext cx="1627200" cy="5897520"/>
            <a:chOff x="6372360" y="333360"/>
            <a:chExt cx="1627200" cy="5897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372360" y="333360"/>
                  <a:ext cx="13143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372360" y="1844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6372360" y="3068640"/>
                  <a:ext cx="15969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372360" y="4221000"/>
                  <a:ext cx="16272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6443640" y="5516640"/>
                  <a:ext cx="12524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9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KČ opačné a komplexně sdružené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87280" y="620640"/>
                <a:ext cx="40071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58920" y="2492280"/>
                <a:ext cx="2944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3600" y="4581360"/>
                <a:ext cx="2695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6084720" y="620640"/>
            <a:ext cx="1971720" cy="5192640"/>
            <a:chOff x="6084720" y="620640"/>
            <a:chExt cx="1971720" cy="5192640"/>
          </a:xfrm>
        </p:grpSpPr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6084720" y="620640"/>
                  <a:ext cx="19717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6084720" y="2637000"/>
                  <a:ext cx="178452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6227640" y="4724280"/>
                  <a:ext cx="1503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87280" y="1125360"/>
                <a:ext cx="441828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87280" y="3284640"/>
                <a:ext cx="2600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6084720" y="1197000"/>
            <a:ext cx="2294280" cy="4265640"/>
            <a:chOff x="6084720" y="1197000"/>
            <a:chExt cx="2294280" cy="42656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156360" y="1197000"/>
                  <a:ext cx="2222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84720" y="3284640"/>
                  <a:ext cx="2192400" cy="21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42920" y="234936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10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tak, aby KČ byla komplexní jednotka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58920" y="692280"/>
                <a:ext cx="2097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58920" y="2708280"/>
                <a:ext cx="209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332000" y="4508640"/>
                <a:ext cx="2254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5364000" y="907920"/>
            <a:ext cx="3780000" cy="4365720"/>
            <a:chOff x="5364000" y="907920"/>
            <a:chExt cx="3780000" cy="436572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435640" y="907920"/>
                  <a:ext cx="146988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5364000" y="2852640"/>
              <a:ext cx="378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tabLst>
                  <a:tab algn="l" pos="0"/>
                  <a:tab algn="l" pos="135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úloha nemá řešení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508720" y="4797360"/>
                  <a:ext cx="115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114800"/>
            <a:ext cx="75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lgebraický tvar komplexního čísl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197000"/>
            <a:ext cx="81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Zapište dané KČ v AT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sestrojte jeho obraz v Gaussově rovině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vypočtěte jeho vzdálenost od počátku, určete KČ opačné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KČ komplexně sdružené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987640" y="1312920"/>
            <a:ext cx="5818320" cy="1569960"/>
            <a:chOff x="2987640" y="1312920"/>
            <a:chExt cx="5818320" cy="156996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2040" y="1412640"/>
                  <a:ext cx="1322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535880" y="1312920"/>
                  <a:ext cx="12700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05640" y="1441440"/>
                  <a:ext cx="8985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987640" y="2421000"/>
                  <a:ext cx="17463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776920" y="2449440"/>
                  <a:ext cx="1322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350028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987640" y="4581360"/>
            <a:ext cx="5127480" cy="1974960"/>
            <a:chOff x="2987640" y="4581360"/>
            <a:chExt cx="5127480" cy="197496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071520" y="4654440"/>
                  <a:ext cx="169416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897600" y="4581360"/>
                  <a:ext cx="121752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209920" y="4654440"/>
                  <a:ext cx="142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987640" y="5662440"/>
                  <a:ext cx="17190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3760" y="5662440"/>
                  <a:ext cx="1693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404640"/>
                <a:ext cx="51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7280" y="333360"/>
                <a:ext cx="1943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132000" y="1528920"/>
            <a:ext cx="5592960" cy="1282680"/>
            <a:chOff x="3132000" y="1528920"/>
            <a:chExt cx="5592960" cy="128268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254400" y="1628640"/>
                  <a:ext cx="134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610400" y="1528920"/>
                  <a:ext cx="1114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595840" y="1657440"/>
                  <a:ext cx="1111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132000" y="2349360"/>
                  <a:ext cx="140364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37320" y="2378160"/>
                  <a:ext cx="1349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58920" y="3645000"/>
                <a:ext cx="1849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3132000" y="4840200"/>
            <a:ext cx="4929480" cy="1282680"/>
            <a:chOff x="3132000" y="4840200"/>
            <a:chExt cx="4929480" cy="1282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176640" y="4941720"/>
                  <a:ext cx="148284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950160" y="4840200"/>
                  <a:ext cx="11113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73800" y="4970520"/>
                  <a:ext cx="900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132000" y="5661000"/>
                  <a:ext cx="1508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78480" y="5689440"/>
                  <a:ext cx="14828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87280" y="404640"/>
                <a:ext cx="4135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00240" y="1528920"/>
            <a:ext cx="5870880" cy="1282680"/>
            <a:chOff x="3000240" y="1528920"/>
            <a:chExt cx="5870880" cy="128268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122640" y="1628640"/>
                  <a:ext cx="1614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464600" y="1528920"/>
                  <a:ext cx="1406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16640" y="1657440"/>
                  <a:ext cx="1270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000240" y="2349360"/>
                  <a:ext cx="166860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5605560" y="2378160"/>
                  <a:ext cx="1612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3716280"/>
                <a:ext cx="41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040200" y="4840200"/>
            <a:ext cx="5180040" cy="1282680"/>
            <a:chOff x="3040200" y="4840200"/>
            <a:chExt cx="5180040" cy="128268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3097080" y="4941720"/>
                  <a:ext cx="16416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792840" y="4840200"/>
                  <a:ext cx="1427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9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81640" y="4970520"/>
                  <a:ext cx="1085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040200" y="5661000"/>
                  <a:ext cx="16938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411880" y="5689440"/>
                  <a:ext cx="16160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484280"/>
            <a:ext cx="785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Zapište KČ v AT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16000" y="1341360"/>
                <a:ext cx="66740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042920" y="3068640"/>
                <a:ext cx="6799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16000" y="4869000"/>
                <a:ext cx="2819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6000" y="5734080"/>
                <a:ext cx="3602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7164360" y="260280"/>
            <a:ext cx="1812960" cy="6121440"/>
            <a:chOff x="7164360" y="260280"/>
            <a:chExt cx="1812960" cy="61214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164360" y="260280"/>
                  <a:ext cx="17524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451640" y="2492280"/>
                  <a:ext cx="15256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7524720" y="4149720"/>
                  <a:ext cx="8208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7524720" y="5013360"/>
                  <a:ext cx="622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7667640" y="5950080"/>
                  <a:ext cx="2826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16000" y="260280"/>
                <a:ext cx="3790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33Z</dcterms:modified>
  <cp:revision>298</cp:revision>
  <dc:subject/>
  <dc:title>KČ</dc:title>
</cp:coreProperties>
</file>