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88C-DEEA-44C6-A7B9-2992EBEBEC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085-209C-48DA-8325-DD4F935868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326-2D66-47BA-B825-18DED00A21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6E5-8DC0-431D-86FE-E3D49BEC90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79A-38D9-4D05-9F84-16B796935A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5C86-C687-4947-AFCB-42850248CB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8E7-AFF0-4189-A28D-EBD7E665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BFF-4D2C-4AB9-ADF6-6C44D91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C1B-AB69-435A-8CF1-28E91FBD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532-37E4-4BE1-9EF7-71B6B90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A23-3900-441E-8DFF-AAC5B223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DD42-F842-465A-A141-DAFD77B0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A410-5454-4953-A8C7-25623CF0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34C-9312-4827-9918-08FE9F7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267-DC5E-4A72-BE4E-B9C3E44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4E71-1111-488D-92DC-2415C0C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DE0D-5D03-47FB-92FB-1318E85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875-F424-4C18-92A6-6FED3E14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A20-C391-4C67-A9F5-054CCB9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130-B852-4FA3-90E5-CFBF665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51C5-78E5-42C2-9E9F-1EE2A3E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310-9A30-4EEF-8257-F6B13372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B46-C41F-4F1E-BDF3-5957D640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64A-598D-4AA2-8DB1-1960A663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546-2070-4D46-9B1D-9DACECD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C5B-74DA-43DC-8BAC-56A990E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26E-385C-4E83-90A4-655C616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45C-152E-4772-B33A-EF522BA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2C7-CE57-4831-AA5B-CB22912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C4B-5992-4E9D-AE44-DA701F3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0BD-F102-481D-A51B-32CD2718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E51F-B0A8-456A-8A8D-43C206CA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1640" y="26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a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eálná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333360"/>
            <a:ext cx="521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reálnou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28040" indent="-42804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reálné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42920" y="1773360"/>
            <a:ext cx="5693040" cy="4938480"/>
            <a:chOff x="1042920" y="1773360"/>
            <a:chExt cx="5693040" cy="4938480"/>
          </a:xfrm>
        </p:grpSpPr>
        <p:sp>
          <p:nvSpPr>
            <p:cNvPr id="365" name=""/>
            <p:cNvSpPr/>
            <p:nvPr/>
          </p:nvSpPr>
          <p:spPr>
            <a:xfrm>
              <a:off x="4703760" y="2859120"/>
              <a:ext cx="0" cy="1827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5360" y="2859120"/>
              <a:ext cx="9684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9920" y="241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643280" y="2803680"/>
              <a:ext cx="120960" cy="110880"/>
              <a:chOff x="4643280" y="2803680"/>
              <a:chExt cx="120960" cy="1108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643280" y="2803680"/>
                <a:ext cx="120960" cy="11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42920" y="4686480"/>
              <a:ext cx="558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40040" y="1940040"/>
              <a:ext cx="5040" cy="468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7840" y="177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19520" y="462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5080" y="274788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81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232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36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376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328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244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5200" y="4629240"/>
              <a:ext cx="0" cy="110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682800" y="64562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682800" y="601200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682800" y="557064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2800" y="51292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82800" y="418788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682800" y="374508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82800" y="33019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82800" y="2416320"/>
              <a:ext cx="12060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82800" y="2859120"/>
              <a:ext cx="1206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764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978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7848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6320" y="474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6800" y="4076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6800" y="363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6800" y="319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230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4720" y="63435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4720" y="59022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4720" y="5460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4720" y="50198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2400" y="47401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496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580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63520" y="47419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3640" y="3745080"/>
              <a:ext cx="0" cy="93960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3640" y="3745080"/>
              <a:ext cx="14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242800" y="3689280"/>
              <a:ext cx="120960" cy="109440"/>
              <a:chOff x="2242800" y="3689280"/>
              <a:chExt cx="120960" cy="109440"/>
            </a:xfrm>
          </p:grpSpPr>
          <p:sp>
            <p:nvSpPr>
              <p:cNvPr id="417" name=""/>
              <p:cNvSpPr/>
              <p:nvPr/>
            </p:nvSpPr>
            <p:spPr>
              <a:xfrm>
                <a:off x="224316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242800" y="36892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022840" y="330192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3160" y="4686480"/>
              <a:ext cx="0" cy="8841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3160" y="5570640"/>
              <a:ext cx="2392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65600" y="562608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283760" y="5514840"/>
              <a:ext cx="119520" cy="109800"/>
              <a:chOff x="1283760" y="5514840"/>
              <a:chExt cx="119520" cy="109800"/>
            </a:xfrm>
          </p:grpSpPr>
          <p:sp>
            <p:nvSpPr>
              <p:cNvPr id="424" name=""/>
              <p:cNvSpPr/>
              <p:nvPr/>
            </p:nvSpPr>
            <p:spPr>
              <a:xfrm>
                <a:off x="128412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283760" y="5514840"/>
                <a:ext cx="11916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183280" y="4686480"/>
              <a:ext cx="0" cy="132552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5080" y="6012000"/>
              <a:ext cx="143820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124600" y="5958000"/>
              <a:ext cx="118800" cy="109440"/>
              <a:chOff x="5124600" y="5958000"/>
              <a:chExt cx="118800" cy="109440"/>
            </a:xfrm>
          </p:grpSpPr>
          <p:sp>
            <p:nvSpPr>
              <p:cNvPr id="429" name=""/>
              <p:cNvSpPr/>
              <p:nvPr/>
            </p:nvSpPr>
            <p:spPr>
              <a:xfrm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124600" y="5958000"/>
                <a:ext cx="1188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896720" y="60688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682800" y="4130640"/>
              <a:ext cx="120960" cy="109440"/>
              <a:chOff x="3682800" y="4130640"/>
              <a:chExt cx="120960" cy="109440"/>
            </a:xfrm>
          </p:grpSpPr>
          <p:sp>
            <p:nvSpPr>
              <p:cNvPr id="433" name=""/>
              <p:cNvSpPr/>
              <p:nvPr/>
            </p:nvSpPr>
            <p:spPr>
              <a:xfrm>
                <a:off x="36831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368280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227400" y="396540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082920" y="4629240"/>
              <a:ext cx="120960" cy="109440"/>
              <a:chOff x="6082920" y="4629240"/>
              <a:chExt cx="120960" cy="109440"/>
            </a:xfrm>
          </p:grpSpPr>
          <p:sp>
            <p:nvSpPr>
              <p:cNvPr id="437" name=""/>
              <p:cNvSpPr/>
              <p:nvPr/>
            </p:nvSpPr>
            <p:spPr>
              <a:xfrm>
                <a:off x="608328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0829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803200" y="41832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3440" y="307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82800" y="3246480"/>
              <a:ext cx="120960" cy="109440"/>
              <a:chOff x="3682800" y="3246480"/>
              <a:chExt cx="120960" cy="109440"/>
            </a:xfrm>
          </p:grpSpPr>
          <p:sp>
            <p:nvSpPr>
              <p:cNvPr id="442" name=""/>
              <p:cNvSpPr/>
              <p:nvPr/>
            </p:nvSpPr>
            <p:spPr>
              <a:xfrm>
                <a:off x="368316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682800" y="324648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3760" y="4629240"/>
              <a:ext cx="120960" cy="109440"/>
              <a:chOff x="2723760" y="4629240"/>
              <a:chExt cx="120960" cy="10944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12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723760" y="46292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625120" y="424980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4187880"/>
              <a:ext cx="0" cy="55224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744720" y="4187880"/>
              <a:ext cx="47772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920" y="3689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163760" y="4130640"/>
              <a:ext cx="120960" cy="109440"/>
              <a:chOff x="4163760" y="4130640"/>
              <a:chExt cx="120960" cy="109440"/>
            </a:xfrm>
          </p:grpSpPr>
          <p:sp>
            <p:nvSpPr>
              <p:cNvPr id="452" name=""/>
              <p:cNvSpPr/>
              <p:nvPr/>
            </p:nvSpPr>
            <p:spPr>
              <a:xfrm>
                <a:off x="416412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163760" y="413064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3132000" y="49417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682800" y="5072040"/>
              <a:ext cx="120960" cy="111240"/>
              <a:chOff x="3682800" y="5072040"/>
              <a:chExt cx="120960" cy="111240"/>
            </a:xfrm>
          </p:grpSpPr>
          <p:sp>
            <p:nvSpPr>
              <p:cNvPr id="456" name=""/>
              <p:cNvSpPr/>
              <p:nvPr/>
            </p:nvSpPr>
            <p:spPr>
              <a:xfrm>
                <a:off x="368316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682800" y="5072040"/>
                <a:ext cx="120600" cy="111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782800" y="2416320"/>
              <a:ext cx="0" cy="22683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2416320"/>
              <a:ext cx="95256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41960" y="1973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723760" y="2360520"/>
              <a:ext cx="120960" cy="109800"/>
              <a:chOff x="2723760" y="2360520"/>
              <a:chExt cx="120960" cy="109800"/>
            </a:xfrm>
          </p:grpSpPr>
          <p:sp>
            <p:nvSpPr>
              <p:cNvPr id="462" name=""/>
              <p:cNvSpPr/>
              <p:nvPr/>
            </p:nvSpPr>
            <p:spPr>
              <a:xfrm>
                <a:off x="272412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723760" y="2360520"/>
                <a:ext cx="120600" cy="109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63760" y="4686480"/>
              <a:ext cx="0" cy="176976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3760" y="6456240"/>
              <a:ext cx="473040" cy="0"/>
            </a:xfrm>
            <a:prstGeom prst="line">
              <a:avLst/>
            </a:prstGeom>
            <a:ln w="28440">
              <a:solidFill>
                <a:srgbClr val="ddddd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2880" y="616572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203280" y="6400800"/>
              <a:ext cx="120960" cy="109440"/>
              <a:chOff x="3203280" y="6400800"/>
              <a:chExt cx="120960" cy="109440"/>
            </a:xfrm>
          </p:grpSpPr>
          <p:sp>
            <p:nvSpPr>
              <p:cNvPr id="468" name=""/>
              <p:cNvSpPr/>
              <p:nvPr/>
            </p:nvSpPr>
            <p:spPr>
              <a:xfrm>
                <a:off x="320364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203280" y="6400800"/>
                <a:ext cx="120600" cy="109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2627280" y="4149720"/>
            <a:ext cx="504720" cy="100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123">
                <a:moveTo>
                  <a:pt x="3600" y="0"/>
                </a:moveTo>
                <a:arcTo wR="3600" hR="3600" stAng="16200000" swAng="-5400000"/>
                <a:lnTo>
                  <a:pt x="0" y="39523"/>
                </a:lnTo>
                <a:arcTo wR="3600" hR="3600" stAng="10800000" swAng="-5400000"/>
                <a:lnTo>
                  <a:pt x="18000" y="431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414972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55600" y="26028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–2,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765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ryze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83664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pouze imaginární čá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na imaginární ose (osa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49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8000" y="400536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141720"/>
            <a:ext cx="71928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600" y="765000"/>
            <a:ext cx="798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–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 h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1341360"/>
            <a:ext cx="457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jí obě část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brazy leží mimo os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7640" y="2421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3213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5445000"/>
            <a:ext cx="504720" cy="6480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27">
                <a:moveTo>
                  <a:pt x="3600" y="0"/>
                </a:moveTo>
                <a:arcTo wR="3600" hR="3600" stAng="16200000" swAng="-5400000"/>
                <a:lnTo>
                  <a:pt x="0" y="24127"/>
                </a:lnTo>
                <a:arcTo wR="3600" hR="3600" stAng="10800000" swAng="-5400000"/>
                <a:lnTo>
                  <a:pt x="18000" y="27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32360" y="5877000"/>
            <a:ext cx="504720" cy="6476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12">
                <a:moveTo>
                  <a:pt x="3600" y="0"/>
                </a:moveTo>
                <a:arcTo wR="3600" hR="3600" stAng="16200000" swAng="-5400000"/>
                <a:lnTo>
                  <a:pt x="0" y="24112"/>
                </a:lnTo>
                <a:arcTo wR="3600" hR="3600" stAng="10800000" swAng="-5400000"/>
                <a:lnTo>
                  <a:pt x="18000" y="27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5640" y="3716280"/>
            <a:ext cx="505080" cy="647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692">
                <a:moveTo>
                  <a:pt x="3600" y="0"/>
                </a:moveTo>
                <a:arcTo wR="3600" hR="3600" stAng="16200000" swAng="-5400000"/>
                <a:lnTo>
                  <a:pt x="0" y="24092"/>
                </a:lnTo>
                <a:arcTo wR="3600" hR="3600" stAng="10800000" swAng="-5400000"/>
                <a:lnTo>
                  <a:pt x="18000" y="27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1989000"/>
            <a:ext cx="505080" cy="64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8000"/>
              <a:gd name="textAreaBottom" fmla="*/ 623520 h 648000"/>
            </a:gdLst>
            <a:ahLst/>
            <a:rect l="textAreaLeft" t="textAreaTop" r="textAreaRight" b="textAreaBottom"/>
            <a:pathLst>
              <a:path w="21600" h="27708">
                <a:moveTo>
                  <a:pt x="3600" y="0"/>
                </a:moveTo>
                <a:arcTo wR="3600" hR="3600" stAng="16200000" swAng="-5400000"/>
                <a:lnTo>
                  <a:pt x="0" y="24108"/>
                </a:lnTo>
                <a:arcTo wR="3600" hR="3600" stAng="10800000" swAng="-5400000"/>
                <a:lnTo>
                  <a:pt x="18000" y="27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1640" y="6165720"/>
            <a:ext cx="649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1268280"/>
            <a:ext cx="7988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2 +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3 +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5 – 2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3 –3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1 + 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, m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2 + 5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 = –1 – 4</a:t>
            </a:r>
            <a:r>
              <a:rPr b="0" i="1" lang="en-US" sz="3200" spc="-1" strike="noStrike">
                <a:solidFill>
                  <a:srgbClr val="ff99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1268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0640" indent="-62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imaginárn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2421000"/>
            <a:ext cx="80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dané KČ 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bylo a) reálné, b) ryze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258920" y="1092240"/>
                <a:ext cx="375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690560" y="2676600"/>
                <a:ext cx="2130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89360" y="3119400"/>
                <a:ext cx="1033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364000" y="2421000"/>
                <a:ext cx="2067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938920" y="3573360"/>
                <a:ext cx="1503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515280" y="4216320"/>
                <a:ext cx="971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258920" y="981000"/>
                <a:ext cx="360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05640" y="2365200"/>
                <a:ext cx="2662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5651640" y="3284640"/>
                <a:ext cx="2725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92360" y="2276640"/>
                <a:ext cx="2035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27440" y="3468600"/>
                <a:ext cx="876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451640" y="4149720"/>
                <a:ext cx="1158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836720" y="404352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187280" y="1125360"/>
                <a:ext cx="422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87840" y="2349360"/>
                <a:ext cx="2222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692360" y="2421000"/>
                <a:ext cx="24732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984320" y="3473280"/>
                <a:ext cx="222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796000" y="537372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013120" y="4292640"/>
                <a:ext cx="2471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5435640" y="321300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lze rozložit na souč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35640" y="3789360"/>
            <a:ext cx="37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řeny neexistuj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011240" y="906480"/>
                <a:ext cx="4919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05480" y="2130480"/>
                <a:ext cx="2189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659640" y="5300640"/>
                <a:ext cx="11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347840" y="2421000"/>
                <a:ext cx="3162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547640" y="3429000"/>
                <a:ext cx="294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920960" y="4292640"/>
                <a:ext cx="2655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6443640" y="4292640"/>
                <a:ext cx="13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6012000" y="3357720"/>
                <a:ext cx="1657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1042920" y="765000"/>
                <a:ext cx="4919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987800" y="1917720"/>
                <a:ext cx="3222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403280" y="2060640"/>
                <a:ext cx="2129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627280" y="3933720"/>
                <a:ext cx="96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433600" y="2997360"/>
                <a:ext cx="115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508720" y="29973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580000" y="3860640"/>
                <a:ext cx="1908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526000" y="4979880"/>
                <a:ext cx="2532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258920" y="260280"/>
                <a:ext cx="5923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35280" y="4768920"/>
                <a:ext cx="322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92360" y="1268280"/>
                <a:ext cx="31622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268360" y="5634000"/>
                <a:ext cx="3848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195640" y="3357720"/>
                <a:ext cx="27525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  <m:r>
                      <m:rPr>
                        <m:lit/>
                        <m:nor/>
                      </m:rPr>
                      <m:t xml:space="preserve">;   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1989000"/>
                <a:ext cx="375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2565360"/>
                <a:ext cx="2220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2195640" y="6137280"/>
            <a:ext cx="33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Úloha nemá řešen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hodnotu reálného parametru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tak, aby KČ měl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reálnou složku nezápornou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 imaginární složku kladno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187280" y="549360"/>
                <a:ext cx="3759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430280" y="1916280"/>
                <a:ext cx="197316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484360" y="3933720"/>
                <a:ext cx="9399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359320" y="2171880"/>
                <a:ext cx="213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195640" y="4724280"/>
                <a:ext cx="156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08000" y="3141720"/>
                <a:ext cx="147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659640" y="2997360"/>
                <a:ext cx="1128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659640" y="3645000"/>
                <a:ext cx="10033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84720" y="4941720"/>
                <a:ext cx="2035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634160" cy="5149800"/>
        </p:xfrm>
        <a:graphic>
          <a:graphicData uri="http://schemas.openxmlformats.org/drawingml/2006/table">
            <a:tbl>
              <a:tblPr/>
              <a:tblGrid>
                <a:gridCol w="3097080"/>
                <a:gridCol w="453708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gebraický tvar komplexníh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řešené i neřešené příklady s výsledky, včetně názorného postupu. Příklady jsou sestaveny tak, aby si žáci procvičili novou látku, ale také zopakovali řešení rovnic a nerovnic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ický tvar komplexního čísla – reálná a imaginární část; Komplexní číslo – ryze imaginární, imaginární, reáln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260280"/>
                <a:ext cx="4103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187280" y="1557360"/>
                <a:ext cx="2160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84720" y="1700280"/>
                <a:ext cx="2381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763640" y="5373720"/>
                <a:ext cx="181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495440" y="2637000"/>
                <a:ext cx="168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6438960" y="234936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614920" y="5516640"/>
                <a:ext cx="3194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54" name=""/>
          <p:cNvGrpSpPr/>
          <p:nvPr/>
        </p:nvGrpSpPr>
        <p:grpSpPr>
          <a:xfrm>
            <a:off x="1332000" y="4076640"/>
            <a:ext cx="3095640" cy="1150920"/>
            <a:chOff x="1332000" y="4076640"/>
            <a:chExt cx="3095640" cy="1150920"/>
          </a:xfrm>
        </p:grpSpPr>
        <p:sp>
          <p:nvSpPr>
            <p:cNvPr id="555" name=""/>
            <p:cNvSpPr/>
            <p:nvPr/>
          </p:nvSpPr>
          <p:spPr>
            <a:xfrm>
              <a:off x="1332000" y="421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1979640" y="4508280"/>
                  <a:ext cx="4082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3132360" y="44352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26872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48360" y="407664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0836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0720" y="393228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700360" y="3787920"/>
            <a:ext cx="289080" cy="288720"/>
            <a:chOff x="2700360" y="3787920"/>
            <a:chExt cx="289080" cy="288720"/>
          </a:xfrm>
        </p:grpSpPr>
        <p:sp>
          <p:nvSpPr>
            <p:cNvPr id="563" name=""/>
            <p:cNvSpPr/>
            <p:nvPr/>
          </p:nvSpPr>
          <p:spPr>
            <a:xfrm>
              <a:off x="2700360" y="393228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44720" y="3787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924360" y="1628640"/>
                <a:ext cx="888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516720" y="3141720"/>
                <a:ext cx="14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7" name=""/>
          <p:cNvGrpSpPr/>
          <p:nvPr/>
        </p:nvGrpSpPr>
        <p:grpSpPr>
          <a:xfrm>
            <a:off x="5796000" y="4076640"/>
            <a:ext cx="3095640" cy="824040"/>
            <a:chOff x="5796000" y="4076640"/>
            <a:chExt cx="3095640" cy="824040"/>
          </a:xfrm>
        </p:grpSpPr>
        <p:sp>
          <p:nvSpPr>
            <p:cNvPr id="568" name=""/>
            <p:cNvSpPr/>
            <p:nvPr/>
          </p:nvSpPr>
          <p:spPr>
            <a:xfrm>
              <a:off x="5796000" y="421956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443640" y="450864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73272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12000" y="4076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7667640" y="4508640"/>
                  <a:ext cx="2808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093080" y="393372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244000" y="3789360"/>
            <a:ext cx="288720" cy="288720"/>
            <a:chOff x="8244000" y="3789360"/>
            <a:chExt cx="288720" cy="288720"/>
          </a:xfrm>
        </p:grpSpPr>
        <p:sp>
          <p:nvSpPr>
            <p:cNvPr id="575" name=""/>
            <p:cNvSpPr/>
            <p:nvPr/>
          </p:nvSpPr>
          <p:spPr>
            <a:xfrm>
              <a:off x="8244000" y="393372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800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084720" y="3789360"/>
            <a:ext cx="289080" cy="288720"/>
            <a:chOff x="6084720" y="3789360"/>
            <a:chExt cx="289080" cy="288720"/>
          </a:xfrm>
        </p:grpSpPr>
        <p:sp>
          <p:nvSpPr>
            <p:cNvPr id="578" name=""/>
            <p:cNvSpPr/>
            <p:nvPr/>
          </p:nvSpPr>
          <p:spPr>
            <a:xfrm>
              <a:off x="6084720" y="393372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3789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700360" y="1628640"/>
            <a:ext cx="289080" cy="288720"/>
            <a:chOff x="2700360" y="1628640"/>
            <a:chExt cx="289080" cy="288720"/>
          </a:xfrm>
        </p:grpSpPr>
        <p:sp>
          <p:nvSpPr>
            <p:cNvPr id="581" name=""/>
            <p:cNvSpPr/>
            <p:nvPr/>
          </p:nvSpPr>
          <p:spPr>
            <a:xfrm>
              <a:off x="270036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472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885080" y="1628640"/>
            <a:ext cx="289080" cy="288720"/>
            <a:chOff x="7885080" y="1628640"/>
            <a:chExt cx="289080" cy="288720"/>
          </a:xfrm>
        </p:grpSpPr>
        <p:sp>
          <p:nvSpPr>
            <p:cNvPr id="584" name=""/>
            <p:cNvSpPr/>
            <p:nvPr/>
          </p:nvSpPr>
          <p:spPr>
            <a:xfrm>
              <a:off x="7885080" y="1773000"/>
              <a:ext cx="289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29440" y="162864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042920" y="260280"/>
                <a:ext cx="551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258920" y="1125360"/>
                <a:ext cx="3036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651640" y="1052640"/>
                <a:ext cx="2882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257480" y="5475240"/>
                <a:ext cx="33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  <m:r>
                      <m:t xml:space="preserve">∪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940360" y="1773360"/>
                <a:ext cx="2635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796000" y="486900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888160" y="2492280"/>
                <a:ext cx="163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5867280" y="3716280"/>
            <a:ext cx="3095640" cy="824040"/>
            <a:chOff x="5867280" y="3716280"/>
            <a:chExt cx="3095640" cy="824040"/>
          </a:xfrm>
        </p:grpSpPr>
        <p:sp>
          <p:nvSpPr>
            <p:cNvPr id="594" name=""/>
            <p:cNvSpPr/>
            <p:nvPr/>
          </p:nvSpPr>
          <p:spPr>
            <a:xfrm>
              <a:off x="5867280" y="385920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6514920" y="4148280"/>
                  <a:ext cx="5047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680400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3280" y="371628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7781760" y="4160880"/>
                  <a:ext cx="195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9" name=""/>
          <p:cNvSpPr/>
          <p:nvPr/>
        </p:nvSpPr>
        <p:spPr>
          <a:xfrm>
            <a:off x="7164360" y="3573360"/>
            <a:ext cx="2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315280" y="3429000"/>
            <a:ext cx="289080" cy="288720"/>
            <a:chOff x="8315280" y="3429000"/>
            <a:chExt cx="289080" cy="288720"/>
          </a:xfrm>
        </p:grpSpPr>
        <p:sp>
          <p:nvSpPr>
            <p:cNvPr id="601" name=""/>
            <p:cNvSpPr/>
            <p:nvPr/>
          </p:nvSpPr>
          <p:spPr>
            <a:xfrm>
              <a:off x="8315280" y="3573360"/>
              <a:ext cx="28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5964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56360" y="3429000"/>
            <a:ext cx="288720" cy="288720"/>
            <a:chOff x="6156360" y="3429000"/>
            <a:chExt cx="288720" cy="288720"/>
          </a:xfrm>
        </p:grpSpPr>
        <p:sp>
          <p:nvSpPr>
            <p:cNvPr id="604" name=""/>
            <p:cNvSpPr/>
            <p:nvPr/>
          </p:nvSpPr>
          <p:spPr>
            <a:xfrm>
              <a:off x="6156360" y="357336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342900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1619280" y="2060640"/>
                <a:ext cx="3024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619280" y="2708280"/>
                <a:ext cx="255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8" name=""/>
          <p:cNvGrpSpPr/>
          <p:nvPr/>
        </p:nvGrpSpPr>
        <p:grpSpPr>
          <a:xfrm>
            <a:off x="1546200" y="4435560"/>
            <a:ext cx="3095640" cy="1009080"/>
            <a:chOff x="1546200" y="4435560"/>
            <a:chExt cx="3095640" cy="1009080"/>
          </a:xfrm>
        </p:grpSpPr>
        <p:sp>
          <p:nvSpPr>
            <p:cNvPr id="609" name=""/>
            <p:cNvSpPr/>
            <p:nvPr/>
          </p:nvSpPr>
          <p:spPr>
            <a:xfrm>
              <a:off x="1546200" y="4578120"/>
              <a:ext cx="309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2194200" y="4724280"/>
                  <a:ext cx="465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248292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2560" y="4435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418200" y="4868640"/>
                  <a:ext cx="2808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4" name=""/>
          <p:cNvSpPr/>
          <p:nvPr/>
        </p:nvSpPr>
        <p:spPr>
          <a:xfrm>
            <a:off x="2843280" y="4292640"/>
            <a:ext cx="28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994200" y="4148280"/>
            <a:ext cx="288720" cy="288720"/>
            <a:chOff x="3994200" y="4148280"/>
            <a:chExt cx="288720" cy="288720"/>
          </a:xfrm>
        </p:grpSpPr>
        <p:sp>
          <p:nvSpPr>
            <p:cNvPr id="616" name=""/>
            <p:cNvSpPr/>
            <p:nvPr/>
          </p:nvSpPr>
          <p:spPr>
            <a:xfrm>
              <a:off x="399420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3820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35280" y="4148280"/>
            <a:ext cx="288720" cy="288720"/>
            <a:chOff x="1835280" y="4148280"/>
            <a:chExt cx="288720" cy="288720"/>
          </a:xfrm>
        </p:grpSpPr>
        <p:sp>
          <p:nvSpPr>
            <p:cNvPr id="619" name=""/>
            <p:cNvSpPr/>
            <p:nvPr/>
          </p:nvSpPr>
          <p:spPr>
            <a:xfrm>
              <a:off x="1835280" y="4292640"/>
              <a:ext cx="28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79280" y="414828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780000" y="981000"/>
            <a:ext cx="288720" cy="288720"/>
            <a:chOff x="3780000" y="981000"/>
            <a:chExt cx="288720" cy="288720"/>
          </a:xfrm>
        </p:grpSpPr>
        <p:sp>
          <p:nvSpPr>
            <p:cNvPr id="622" name=""/>
            <p:cNvSpPr/>
            <p:nvPr/>
          </p:nvSpPr>
          <p:spPr>
            <a:xfrm>
              <a:off x="378000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400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956720" y="981000"/>
            <a:ext cx="288720" cy="288720"/>
            <a:chOff x="7956720" y="981000"/>
            <a:chExt cx="288720" cy="288720"/>
          </a:xfrm>
        </p:grpSpPr>
        <p:sp>
          <p:nvSpPr>
            <p:cNvPr id="625" name=""/>
            <p:cNvSpPr/>
            <p:nvPr/>
          </p:nvSpPr>
          <p:spPr>
            <a:xfrm>
              <a:off x="7956720" y="1125360"/>
              <a:ext cx="28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0720" y="981000"/>
              <a:ext cx="0" cy="288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3454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lgebraický tvar komplexního čísla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Algebraický tvar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(AT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87280" y="1341360"/>
            <a:ext cx="7701120" cy="792360"/>
            <a:chOff x="1187280" y="1341360"/>
            <a:chExt cx="7701120" cy="792360"/>
          </a:xfrm>
        </p:grpSpPr>
        <p:sp>
          <p:nvSpPr>
            <p:cNvPr id="144" name=""/>
            <p:cNvSpPr/>
            <p:nvPr/>
          </p:nvSpPr>
          <p:spPr>
            <a:xfrm>
              <a:off x="1187280" y="1341360"/>
              <a:ext cx="7701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se nazývá zápis:                           , kde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140360" y="1341360"/>
                  <a:ext cx="23763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47640" y="2349360"/>
            <a:ext cx="7452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álná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7040" indent="-437040">
              <a:lnSpc>
                <a:spcPct val="120000"/>
              </a:lnSpc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82800"/>
                <a:tab algn="l" pos="160956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maginární část KČ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R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774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2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 slova latinského původu překlád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omplex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lože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3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imaginární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yslné, zdánlivé, neskuteč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620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30000"/>
              </a:lnSpc>
              <a:tabLst>
                <a:tab algn="l" pos="0"/>
                <a:tab algn="l" pos="98280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brazem KČ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a = 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v Gaussově rovině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bod 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763560"/>
            <a:ext cx="433440" cy="576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reálná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76356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8560" y="2602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imaginární čá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341360"/>
            <a:ext cx="722520" cy="4391280"/>
          </a:xfrm>
          <a:prstGeom prst="line">
            <a:avLst/>
          </a:prstGeom>
          <a:ln w="3816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8560" y="551664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= reálná os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1280" y="1341360"/>
            <a:ext cx="647640" cy="23036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220500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imaginární osa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5516640"/>
            <a:ext cx="3816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27640" y="2421000"/>
            <a:ext cx="0" cy="39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51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00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860640"/>
            <a:ext cx="0" cy="1800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84720" y="3860640"/>
            <a:ext cx="11397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33680" y="3213000"/>
            <a:ext cx="2038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72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64000" y="3789360"/>
            <a:ext cx="144720" cy="142920"/>
            <a:chOff x="5364000" y="3789360"/>
            <a:chExt cx="144720" cy="142920"/>
          </a:xfrm>
        </p:grpSpPr>
        <p:sp>
          <p:nvSpPr>
            <p:cNvPr id="168" name=""/>
            <p:cNvSpPr/>
            <p:nvPr/>
          </p:nvSpPr>
          <p:spPr>
            <a:xfrm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64000" y="3789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229000" y="5589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500280"/>
            <a:ext cx="6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KČ rozlišujeme a v AT zapisujem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197000"/>
            <a:ext cx="8028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eálná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5; ...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ryze imaginární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0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spcBef>
                <a:spcPts val="2801"/>
              </a:spcBef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Č imaginární: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+ i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a =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...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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 –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636280" indent="-2636280">
              <a:lnSpc>
                <a:spcPct val="110000"/>
              </a:lnSpc>
              <a:tabLst>
                <a:tab algn="l" pos="0"/>
                <a:tab algn="l" pos="484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razy jsou body, které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eleží na souřadných osá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9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421000"/>
            <a:ext cx="8028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) Sestrojte v Gaussově rovině obrazy KČ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 Vyberte, která ze zadaných KČ jsou            a) reálná, b) ryze imaginární, c) imaginárn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6000" y="4005360"/>
            <a:ext cx="802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 +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1 –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4005360"/>
            <a:ext cx="60120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5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0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1;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0; – 1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542160" indent="-542160">
              <a:lnSpc>
                <a:spcPct val="130000"/>
              </a:lnSpc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2; 5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1; –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052640"/>
            <a:ext cx="3024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4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– 3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183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186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234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44880" y="20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189000"/>
            <a:ext cx="8132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3668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 = 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i="1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052640"/>
            <a:ext cx="2017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 2 + 4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3 +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– 5 – 2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6840" indent="-456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 – 3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052640"/>
            <a:ext cx="1908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2; 4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3;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– 5; – 2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000" spc="-1" strike="noStrike">
                <a:solidFill>
                  <a:srgbClr val="ffff00"/>
                </a:solidFill>
                <a:latin typeface="Times New Roman"/>
              </a:rPr>
              <a:t>3; – 3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378900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4941720"/>
            <a:ext cx="29415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243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8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003280" y="5516640"/>
            <a:ext cx="1800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249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59016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400536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05360"/>
            <a:ext cx="18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3862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27640" y="141300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65560" y="1413000"/>
            <a:ext cx="11620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4160" y="83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56000" y="1341360"/>
            <a:ext cx="144720" cy="142920"/>
            <a:chOff x="6156000" y="1341360"/>
            <a:chExt cx="144720" cy="142920"/>
          </a:xfrm>
        </p:grpSpPr>
        <p:sp>
          <p:nvSpPr>
            <p:cNvPr id="258" name=""/>
            <p:cNvSpPr/>
            <p:nvPr/>
          </p:nvSpPr>
          <p:spPr>
            <a:xfrm>
              <a:off x="615636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156000" y="134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35280" y="0"/>
            <a:ext cx="6799320" cy="6858000"/>
            <a:chOff x="1835280" y="0"/>
            <a:chExt cx="6799320" cy="6858000"/>
          </a:xfrm>
        </p:grpSpPr>
        <p:sp>
          <p:nvSpPr>
            <p:cNvPr id="261" name=""/>
            <p:cNvSpPr/>
            <p:nvPr/>
          </p:nvSpPr>
          <p:spPr>
            <a:xfrm>
              <a:off x="1835280" y="3789360"/>
              <a:ext cx="669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76720" y="216000"/>
              <a:ext cx="0" cy="664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9440" y="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8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5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720" y="126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4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00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51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764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716280"/>
              <a:ext cx="0" cy="144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003640" y="666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003640" y="609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03640" y="551664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3640" y="4941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03640" y="436572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003640" y="314172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003640" y="256536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03640" y="1989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003640" y="836640"/>
              <a:ext cx="1447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003640" y="1413000"/>
              <a:ext cx="1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016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924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488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32520" y="386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724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7240" y="242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7240" y="1846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7240" y="69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16320" y="64738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6320" y="59500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537372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16320" y="47973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6320" y="422280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243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7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852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2396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240" y="386244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18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348000" y="2565360"/>
            <a:ext cx="0" cy="12225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2565360"/>
            <a:ext cx="1789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360" y="2492280"/>
            <a:ext cx="144720" cy="142920"/>
            <a:chOff x="3276360" y="2492280"/>
            <a:chExt cx="144720" cy="142920"/>
          </a:xfrm>
        </p:grpSpPr>
        <p:sp>
          <p:nvSpPr>
            <p:cNvPr id="309" name=""/>
            <p:cNvSpPr/>
            <p:nvPr/>
          </p:nvSpPr>
          <p:spPr>
            <a:xfrm>
              <a:off x="327672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76360" y="249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61080" y="1989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5640" y="3789360"/>
            <a:ext cx="0" cy="1152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941720"/>
            <a:ext cx="2869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0160" y="501336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3640" y="4869000"/>
            <a:ext cx="144720" cy="142560"/>
            <a:chOff x="2123640" y="4869000"/>
            <a:chExt cx="144720" cy="142560"/>
          </a:xfrm>
        </p:grpSpPr>
        <p:sp>
          <p:nvSpPr>
            <p:cNvPr id="316" name=""/>
            <p:cNvSpPr/>
            <p:nvPr/>
          </p:nvSpPr>
          <p:spPr>
            <a:xfrm>
              <a:off x="21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123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04000" y="3789360"/>
            <a:ext cx="0" cy="1727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5516640"/>
            <a:ext cx="1727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321" name="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509520" y="5589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3068640"/>
            <a:ext cx="144720" cy="142920"/>
            <a:chOff x="5003640" y="3068640"/>
            <a:chExt cx="144720" cy="142920"/>
          </a:xfrm>
        </p:grpSpPr>
        <p:sp>
          <p:nvSpPr>
            <p:cNvPr id="325" name=""/>
            <p:cNvSpPr/>
            <p:nvPr/>
          </p:nvSpPr>
          <p:spPr>
            <a:xfrm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003640" y="3068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02880" y="285264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329" name="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742520" y="3213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17002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03640" y="1916280"/>
            <a:ext cx="144720" cy="142560"/>
            <a:chOff x="5003640" y="1916280"/>
            <a:chExt cx="144720" cy="142560"/>
          </a:xfrm>
        </p:grpSpPr>
        <p:sp>
          <p:nvSpPr>
            <p:cNvPr id="334" name=""/>
            <p:cNvSpPr/>
            <p:nvPr/>
          </p:nvSpPr>
          <p:spPr>
            <a:xfrm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003640" y="191628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0920" y="3716280"/>
            <a:ext cx="144720" cy="142920"/>
            <a:chOff x="3850920" y="3716280"/>
            <a:chExt cx="144720" cy="142920"/>
          </a:xfrm>
        </p:grpSpPr>
        <p:sp>
          <p:nvSpPr>
            <p:cNvPr id="337" name=""/>
            <p:cNvSpPr/>
            <p:nvPr/>
          </p:nvSpPr>
          <p:spPr>
            <a:xfrm>
              <a:off x="3851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850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85344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141720"/>
            <a:ext cx="0" cy="71892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76360" y="3141720"/>
            <a:ext cx="57492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5760" y="249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79640" y="3068640"/>
            <a:ext cx="144720" cy="142920"/>
            <a:chOff x="5579640" y="3068640"/>
            <a:chExt cx="144720" cy="142920"/>
          </a:xfrm>
        </p:grpSpPr>
        <p:sp>
          <p:nvSpPr>
            <p:cNvPr id="344" name=""/>
            <p:cNvSpPr/>
            <p:nvPr/>
          </p:nvSpPr>
          <p:spPr>
            <a:xfrm>
              <a:off x="558000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79640" y="306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2880" y="40766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03640" y="4292640"/>
            <a:ext cx="144720" cy="142920"/>
            <a:chOff x="5003640" y="4292640"/>
            <a:chExt cx="144720" cy="142920"/>
          </a:xfrm>
        </p:grpSpPr>
        <p:sp>
          <p:nvSpPr>
            <p:cNvPr id="348" name=""/>
            <p:cNvSpPr/>
            <p:nvPr/>
          </p:nvSpPr>
          <p:spPr>
            <a:xfrm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003640" y="429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924360" y="836640"/>
            <a:ext cx="0" cy="2951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24360" y="836640"/>
            <a:ext cx="114120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1720" y="260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52720" y="765000"/>
            <a:ext cx="144720" cy="142920"/>
            <a:chOff x="3852720" y="765000"/>
            <a:chExt cx="144720" cy="142920"/>
          </a:xfrm>
        </p:grpSpPr>
        <p:sp>
          <p:nvSpPr>
            <p:cNvPr id="354" name=""/>
            <p:cNvSpPr/>
            <p:nvPr/>
          </p:nvSpPr>
          <p:spPr>
            <a:xfrm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5272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00720" y="3789360"/>
            <a:ext cx="0" cy="23036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6093000"/>
            <a:ext cx="56664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6880" y="580536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427280" y="6021360"/>
            <a:ext cx="144720" cy="142920"/>
            <a:chOff x="4427280" y="6021360"/>
            <a:chExt cx="144720" cy="142920"/>
          </a:xfrm>
        </p:grpSpPr>
        <p:sp>
          <p:nvSpPr>
            <p:cNvPr id="360" name=""/>
            <p:cNvSpPr/>
            <p:nvPr/>
          </p:nvSpPr>
          <p:spPr>
            <a:xfrm>
              <a:off x="442764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27280" y="602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1:14Z</dcterms:modified>
  <cp:revision>296</cp:revision>
  <dc:subject/>
  <dc:title>KČ</dc:title>
</cp:coreProperties>
</file>