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FF9D-3AA1-47B9-9226-F374927D1A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4572-4986-4FFC-98CD-78E3D774E3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7A40-0528-4DF7-9DC2-02261D5BCC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E458-5D5E-4929-8B8F-217ACA69B1C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A809-4862-4B48-8586-914270F6DA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4EF-9CA8-4E18-894F-F7AE4B97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29C-A455-4406-95E5-22F88CB7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996-BD47-44B3-B0BA-580F002F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0AA-C5B4-4A02-9BAD-F26AF917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4C63-8F7B-4ACD-AFEC-53950E3B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868A-5F03-4830-9EC1-E8D30B78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6CDF-42D6-499E-A0EB-BBF51605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12B8-89DC-468E-9A1D-F839EF3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931F-5C2C-4805-86B6-D376857B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A6DB-350F-4241-8E39-07AD0530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39F7-288D-454C-A063-AE5A899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E6F-D4AC-4B85-8279-83FD60C0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FA01-8F2D-4B83-BC9D-43C0DD1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4B71-81AF-4E16-A362-36CBD14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E9D7-61FC-488F-B83A-2E4C1861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69D5-09E0-43EB-9AE3-C325938B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74B7-27C7-428F-8CCB-34B05D85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C37-16B6-416D-B69A-1476B351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548-CFB3-4B08-B355-251ED4D4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FEE-7E30-4646-9A38-C2FD3641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B74-868E-40BC-9FFE-A39E7D6B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058-B6BA-4097-9C0B-D03E6BB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4F5-D63F-4FDE-8369-9F9E6D0F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38B-C0D7-4054-A5BA-9AE43740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CBB9-2603-4C7F-B503-79B8098E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F0D9-4EA9-42B8-99C8-574927685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042920" y="981000"/>
                <a:ext cx="496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A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042920" y="2421000"/>
                <a:ext cx="45007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042920" y="3762360"/>
                <a:ext cx="4033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42920" y="5229360"/>
                <a:ext cx="49341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6110280" y="907920"/>
            <a:ext cx="3033720" cy="5519880"/>
            <a:chOff x="6110280" y="907920"/>
            <a:chExt cx="3033720" cy="551988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6110280" y="907920"/>
                  <a:ext cx="303372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6156360" y="2781360"/>
                  <a:ext cx="12859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6227640" y="3795840"/>
                  <a:ext cx="128592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227640" y="530064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42920" y="549360"/>
                <a:ext cx="51008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42920" y="1700280"/>
                <a:ext cx="4200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042920" y="3429000"/>
                <a:ext cx="6426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6000" y="5157720"/>
                <a:ext cx="47340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6732720" y="549360"/>
            <a:ext cx="2411280" cy="5735520"/>
            <a:chOff x="6732720" y="549360"/>
            <a:chExt cx="2411280" cy="57355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732720" y="549360"/>
                  <a:ext cx="21096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5</m:t>
                      </m:r>
                      <m:r>
                        <m:t xml:space="preserve">−</m:t>
                      </m:r>
                      <m:r>
                        <m:t xml:space="preserve">3,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6754680" y="1779480"/>
                  <a:ext cx="13845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6804000" y="4149720"/>
                  <a:ext cx="2340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7</m:t>
                      </m:r>
                      <m:r>
                        <m:t xml:space="preserve">+</m:t>
                      </m:r>
                      <m:r>
                        <m:t xml:space="preserve">4,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6804000" y="5157720"/>
                  <a:ext cx="23400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187280" y="260280"/>
                <a:ext cx="44341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42920" y="1484280"/>
                <a:ext cx="52578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16000" y="3141720"/>
                <a:ext cx="47512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16000" y="4869000"/>
                <a:ext cx="61009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9" name=""/>
          <p:cNvGrpSpPr/>
          <p:nvPr/>
        </p:nvGrpSpPr>
        <p:grpSpPr>
          <a:xfrm>
            <a:off x="6659640" y="476280"/>
            <a:ext cx="2484360" cy="5715000"/>
            <a:chOff x="6659640" y="476280"/>
            <a:chExt cx="2484360" cy="571500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659640" y="476280"/>
                  <a:ext cx="135072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6732720" y="1773360"/>
                  <a:ext cx="184608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6659640" y="3141720"/>
                  <a:ext cx="227484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770520" y="5661000"/>
                  <a:ext cx="2373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  <m:r>
                        <m:t xml:space="preserve">+</m:t>
                      </m:r>
                      <m:r>
                        <m:t xml:space="preserve">5,8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277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goniometrického tvaru na tvar algebraick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GT na 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tu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197000"/>
            <a:ext cx="8028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rgument KČ převeďte z obloukové míry na stupňovou pro lepší srozumitelnost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hodnoty goniometrických funkcí kosinus a sinus pomo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abulek – pro hodnoty argumentu 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45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6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9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jejich násobk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3520" indent="-53316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lkulátoru – pro zbylé hodnoty argumen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násobte tyto hodnoty vzdáleností KČ od počátk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35280" y="2494080"/>
                <a:ext cx="3382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771640" y="1125360"/>
            <a:ext cx="360360" cy="93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5280"/>
              <a:gd name="textAreaBottom" fmla="*/ 918000 h 935280"/>
            </a:gdLst>
            <a:ahLst/>
            <a:rect l="textAreaLeft" t="textAreaTop" r="textAreaRight" b="textAreaBottom"/>
            <a:pathLst>
              <a:path w="21600" h="56026">
                <a:moveTo>
                  <a:pt x="3600" y="0"/>
                </a:moveTo>
                <a:arcTo wR="3600" hR="3600" stAng="16200000" swAng="-5400000"/>
                <a:lnTo>
                  <a:pt x="0" y="52426"/>
                </a:lnTo>
                <a:arcTo wR="3600" hR="3600" stAng="10800000" swAng="-5400000"/>
                <a:lnTo>
                  <a:pt x="18000" y="56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2494080"/>
            <a:ext cx="64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060640"/>
            <a:ext cx="0" cy="431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2349360"/>
            <a:ext cx="115236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314172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2349360"/>
            <a:ext cx="1079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779640" y="3141720"/>
            <a:ext cx="431640" cy="122400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89000"/>
            <a:ext cx="810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40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52360" y="1066680"/>
                <a:ext cx="3630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484360" y="350028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6560" y="4367160"/>
                <a:ext cx="22240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43320" y="4367160"/>
                <a:ext cx="141912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859360" y="4727520"/>
                <a:ext cx="1776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219564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4365720"/>
            <a:ext cx="431640" cy="115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636">
                <a:moveTo>
                  <a:pt x="3600" y="0"/>
                </a:moveTo>
                <a:arcTo wR="3600" hR="3600" stAng="16200000" swAng="-5400000"/>
                <a:lnTo>
                  <a:pt x="0" y="54036"/>
                </a:lnTo>
                <a:arcTo wR="3600" hR="3600" stAng="10800000" swAng="-5400000"/>
                <a:lnTo>
                  <a:pt x="18000" y="57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71640" y="189000"/>
                <a:ext cx="4290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63640" y="1557360"/>
                <a:ext cx="3997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763640" y="2924280"/>
                <a:ext cx="20289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03640" y="2852640"/>
                <a:ext cx="771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987640" y="26028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55736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2682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1413000"/>
            <a:ext cx="1152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220500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1413000"/>
            <a:ext cx="1152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29242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635280" y="2205000"/>
            <a:ext cx="72072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40160" y="234936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tabulková hodnota – MFCHT, str. 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780000" y="2924280"/>
                <a:ext cx="1287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63640" y="5229360"/>
                <a:ext cx="50626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6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3</m:t>
                            </m:r>
                          </m:e>
                        </m:d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42920" y="4005360"/>
                <a:ext cx="5483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987640" y="407664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5300640"/>
            <a:ext cx="1296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4581360"/>
            <a:ext cx="0" cy="719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076640"/>
            <a:ext cx="129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5300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4581360"/>
            <a:ext cx="0" cy="71928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20160" y="465300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... není tabulková hodnota – kalkulá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63640" y="6093000"/>
                <a:ext cx="27417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0720" y="6019920"/>
                <a:ext cx="20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,2</m:t>
                            </m:r>
                            <m:r>
                              <m:t xml:space="preserve">−</m:t>
                            </m:r>
                            <m:r>
                              <m:t xml:space="preserve">1,8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16000" y="3429000"/>
                <a:ext cx="46069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835280" y="4437000"/>
                <a:ext cx="4235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189000"/>
                <a:ext cx="4516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35280" y="1246320"/>
                <a:ext cx="4235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03240" y="1712880"/>
                <a:ext cx="38592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796000" y="2046240"/>
                <a:ext cx="1512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08000" y="5300640"/>
                <a:ext cx="321660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48360" y="5353200"/>
                <a:ext cx="1855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451640" y="2158920"/>
                <a:ext cx="1692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202520" y="5661000"/>
                <a:ext cx="19414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16000" y="3141720"/>
                <a:ext cx="4886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35280" y="4221000"/>
                <a:ext cx="4545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835280" y="5300640"/>
                <a:ext cx="38289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651640" y="5445000"/>
                <a:ext cx="17128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451640" y="5445000"/>
                <a:ext cx="1368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116000" y="260280"/>
                <a:ext cx="4079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549360"/>
                <a:ext cx="3579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08000" y="1197000"/>
                <a:ext cx="28306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88000" y="1197000"/>
                <a:ext cx="15364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77080" y="1557360"/>
                <a:ext cx="1776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42920" y="544500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53172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 příkladů je zřejmé, že je mnohem snadnější převést zápis KČ z AT na GT než-li naopak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87280" y="2652840"/>
                <a:ext cx="54007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79640" y="3645000"/>
                <a:ext cx="4829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116000" y="260280"/>
                <a:ext cx="57103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35280" y="1341360"/>
                <a:ext cx="3967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71</m:t>
                        </m:r>
                      </m:e>
                    </m:d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867280" y="1341360"/>
                <a:ext cx="25448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  <m:r>
                      <m:t xml:space="preserve">i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4149720"/>
                <a:ext cx="40672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084720" y="4149720"/>
                <a:ext cx="20671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916280"/>
                <a:ext cx="1773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,8</m:t>
                            </m:r>
                            <m:r>
                              <m:t xml:space="preserve">+</m:t>
                            </m:r>
                            <m:r>
                              <m:t xml:space="preserve">0,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35280" y="765000"/>
                <a:ext cx="4741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,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21Z</dcterms:modified>
  <cp:revision>295</cp:revision>
  <dc:subject/>
  <dc:title>KČ</dc:title>
</cp:coreProperties>
</file>