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76D7-A6D8-438E-ACC1-05E7A7D3D1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4E5F-20BE-4D0D-8E2B-A3077A6135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58C9-0D13-4C32-BB7F-D45FB7F1E6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7384-90C7-44CA-BA4F-47056C91EE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FC05-2C26-4479-BE06-F791F86511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93F-E283-4141-892E-68CF9CF0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326-C9FF-4F2D-B463-8578BE31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99C-7F24-4040-AB2C-4FAC1D9C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15B-5B3E-404E-8C44-2A4DB467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AC45-A2DC-4F2C-8C45-2DB3175C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F86A-202E-4584-AA2B-CA9C92DE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B8CD-D23C-472D-8BDC-0FB52E04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4D5B-C4AC-4CD1-834C-35229DFB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B6D-0632-44BC-B22A-C5592341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4FC1-2DBA-4EC3-8F6E-9A2C8E73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0BBB-85BC-496D-AE4B-91D6537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207-1D1C-4252-AD56-E7DF1866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4085-38FC-432C-B646-3546797E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20B9-15D8-463D-A88F-B8D3CA82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0D97-4290-478A-9693-DA8BAF5F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6264-6B27-45D8-885C-04E443AC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4FB0-5ED0-49AB-AE3E-07A8DEE6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71A-197E-455E-A033-9279995B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AC6-7F6B-4BA5-8071-785C46C1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1E4-4968-455C-B4DB-3C5B632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AF8-7D76-43FE-848B-CC8ABD02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6AA-DA6F-49E6-9998-6DF2B12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136-F327-4999-9EF8-46C8FD0E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034-2A87-4501-B4F0-3A3BC9B8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28C-4DEC-47C4-9C8E-8B4B2EBCD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31A6-1E04-45E2-AA76-B1C8EB42A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042920" y="170028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042920" y="333360"/>
                <a:ext cx="2316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042920" y="3357720"/>
                <a:ext cx="18525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042920" y="4869000"/>
                <a:ext cx="24084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2987640" y="1052640"/>
            <a:ext cx="1500120" cy="5592240"/>
            <a:chOff x="2987640" y="1052640"/>
            <a:chExt cx="1500120" cy="5592240"/>
          </a:xfrm>
        </p:grpSpPr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987640" y="1052640"/>
                  <a:ext cx="97020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2987640" y="2276280"/>
                  <a:ext cx="147024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2987640" y="4005000"/>
                  <a:ext cx="15001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2987640" y="5589360"/>
                  <a:ext cx="1062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932360" y="189000"/>
                <a:ext cx="2038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1628640"/>
                <a:ext cx="182268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003640" y="3284640"/>
                <a:ext cx="18226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859280" y="4724280"/>
                <a:ext cx="32130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451640" y="692280"/>
            <a:ext cx="1692360" cy="6014880"/>
            <a:chOff x="7451640" y="692280"/>
            <a:chExt cx="1692360" cy="6014880"/>
          </a:xfrm>
        </p:grpSpPr>
        <mc:AlternateContent>
          <mc:Choice xmlns:a14="http://schemas.microsoft.com/office/drawing/2010/main" Requires="a14">
            <p:sp>
              <p:nvSpPr>
                <p:cNvPr id="444" name=""/>
                <p:cNvSpPr txBox="1"/>
                <p:nvPr/>
              </p:nvSpPr>
              <p:spPr>
                <a:xfrm>
                  <a:off x="7451640" y="692280"/>
                  <a:ext cx="1501920" cy="11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8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451640" y="2276640"/>
                  <a:ext cx="140832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7451640" y="3429000"/>
                  <a:ext cx="131148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7458120" y="5516640"/>
                  <a:ext cx="1685880" cy="11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z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, je-li dané KČ komplexní jednotka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1042920" y="1989000"/>
                <a:ext cx="1932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3213000"/>
                <a:ext cx="1811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971640" y="4363920"/>
                <a:ext cx="1784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42920" y="1197000"/>
                <a:ext cx="2311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+</m:t>
                    </m:r>
                    <m:r>
                      <m:t xml:space="preserve">0,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3564000" y="1052640"/>
                <a:ext cx="2544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8388360" y="103356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564000" y="191628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8388360" y="2060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3068640"/>
                <a:ext cx="2165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3213000"/>
                <a:ext cx="154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388360" y="3284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771640" y="4363920"/>
                <a:ext cx="1051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068720" y="4221000"/>
                <a:ext cx="169560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8388360" y="436572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n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589720"/>
                <a:ext cx="19018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2916360" y="5589720"/>
                <a:ext cx="15764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859280" y="5516640"/>
                <a:ext cx="18129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8388360" y="5732640"/>
            <a:ext cx="75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an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156360" y="1052640"/>
                <a:ext cx="760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020000" y="112536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364000" y="1916280"/>
                <a:ext cx="1405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732720" y="1916280"/>
                <a:ext cx="10238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740720" y="2205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732720" y="3068640"/>
                <a:ext cx="1052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740720" y="3429000"/>
                <a:ext cx="496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651640" y="4221000"/>
                <a:ext cx="134604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877080" y="4221000"/>
                <a:ext cx="876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740720" y="4508640"/>
                <a:ext cx="496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732720" y="5516640"/>
                <a:ext cx="906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7667640" y="5805360"/>
                <a:ext cx="498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bylo komplexní jednotk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187280" y="404640"/>
                <a:ext cx="23814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476360" y="1773360"/>
                <a:ext cx="36972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059280" y="3284640"/>
                <a:ext cx="2066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500720" y="333360"/>
                <a:ext cx="12841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780000" y="4581360"/>
                <a:ext cx="1595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588000" y="1916280"/>
                <a:ext cx="144144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659640" y="3141720"/>
                <a:ext cx="15667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804000" y="4437000"/>
                <a:ext cx="1724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258920" y="155736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42920" y="3933720"/>
                <a:ext cx="5448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427640" y="4941720"/>
                <a:ext cx="203508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427640" y="6093000"/>
                <a:ext cx="2222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7093080" y="1916280"/>
                <a:ext cx="150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7164360" y="2708280"/>
                <a:ext cx="1409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7164360" y="3789360"/>
                <a:ext cx="12542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7380360" y="4797360"/>
                <a:ext cx="11588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7451640" y="5765760"/>
                <a:ext cx="1316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116000" y="260280"/>
                <a:ext cx="3822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1484280"/>
                <a:ext cx="5202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971640" y="2781360"/>
                <a:ext cx="55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51640" y="260280"/>
                <a:ext cx="27255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356000" y="3860640"/>
                <a:ext cx="20354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356000" y="5084640"/>
                <a:ext cx="2190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7093080" y="4221000"/>
                <a:ext cx="1566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08720" y="4941720"/>
                <a:ext cx="15354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5796000" y="59500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116000" y="333360"/>
                <a:ext cx="2506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1476360" y="1700280"/>
                <a:ext cx="4041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276720" y="3213000"/>
                <a:ext cx="22240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359240" y="333360"/>
                <a:ext cx="15667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132000" y="4653000"/>
                <a:ext cx="2408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588000" y="2924280"/>
                <a:ext cx="1441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732720" y="4005360"/>
                <a:ext cx="1628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77080" y="5229360"/>
                <a:ext cx="1974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229440" y="1989000"/>
                <a:ext cx="1563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561080" cy="5172120"/>
        </p:xfrm>
        <a:graphic>
          <a:graphicData uri="http://schemas.openxmlformats.org/drawingml/2006/table">
            <a:tbl>
              <a:tblPr/>
              <a:tblGrid>
                <a:gridCol w="3246480"/>
                <a:gridCol w="431460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olutní hodnota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bsolutní hodnot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; Vlastnosti absolutní hodnot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ího čísla; Komplexní jednotka; Vzdálenost komplexního čísla od počátk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63640" y="1052640"/>
            <a:ext cx="73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zdálenost KČ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od počátku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e vyjádřena vždy kladným reálným číslem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56360" y="3645000"/>
                <a:ext cx="2519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56360" y="4941720"/>
                <a:ext cx="282096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Absolutní hodnota KČ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04000" y="189000"/>
                <a:ext cx="5335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871600" y="2849400"/>
            <a:ext cx="294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ythagorova věta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3284640"/>
            <a:ext cx="1728720" cy="273672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03280" y="2349360"/>
            <a:ext cx="3650760" cy="4192560"/>
            <a:chOff x="1403280" y="2349360"/>
            <a:chExt cx="3650760" cy="4192560"/>
          </a:xfrm>
        </p:grpSpPr>
        <p:sp>
          <p:nvSpPr>
            <p:cNvPr id="149" name=""/>
            <p:cNvSpPr/>
            <p:nvPr/>
          </p:nvSpPr>
          <p:spPr>
            <a:xfrm>
              <a:off x="1403280" y="6021360"/>
              <a:ext cx="35985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833480" y="2565000"/>
              <a:ext cx="1440" cy="3887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6560" y="2349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6360" y="6021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6000" y="594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4" name="Group 63"/>
          <p:cNvGrpSpPr/>
          <p:nvPr/>
        </p:nvGrpSpPr>
        <p:grpSpPr>
          <a:xfrm>
            <a:off x="3492360" y="3213000"/>
            <a:ext cx="144720" cy="142920"/>
            <a:chOff x="3492360" y="3213000"/>
            <a:chExt cx="144720" cy="142920"/>
          </a:xfrm>
        </p:grpSpPr>
        <p:sp>
          <p:nvSpPr>
            <p:cNvPr id="155" name="Line 64"/>
            <p:cNvSpPr/>
            <p:nvPr/>
          </p:nvSpPr>
          <p:spPr>
            <a:xfrm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65"/>
            <p:cNvSpPr/>
            <p:nvPr/>
          </p:nvSpPr>
          <p:spPr>
            <a:xfrm flipH="1">
              <a:off x="3492360" y="3213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92200" y="2637000"/>
            <a:ext cx="1310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3284640"/>
            <a:ext cx="19080" cy="2833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92000" y="3284640"/>
            <a:ext cx="1871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8080" y="6093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8640" y="2924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0520" y="39798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2627280" y="5299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635280" y="3284640"/>
            <a:ext cx="144720" cy="27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4520" y="6093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7560" y="4365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35280" y="3284640"/>
            <a:ext cx="1708200" cy="2736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7164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lastnosti absolutní hodnoty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1052640"/>
            <a:ext cx="8028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, která mají stejnou vzdálenost od počátku</a:t>
            </a:r>
            <a:r>
              <a:rPr b="0" lang="cs-CZ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nekonečně mnoh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0;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4 leží na souřadných osá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03280" y="5877000"/>
                <a:ext cx="3517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03280" y="5084640"/>
                <a:ext cx="1079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"/>
          <p:cNvGrpSpPr/>
          <p:nvPr/>
        </p:nvGrpSpPr>
        <p:grpSpPr>
          <a:xfrm>
            <a:off x="4140360" y="1714680"/>
            <a:ext cx="4781520" cy="5142960"/>
            <a:chOff x="4140360" y="1714680"/>
            <a:chExt cx="4781520" cy="5142960"/>
          </a:xfrm>
        </p:grpSpPr>
        <p:sp>
          <p:nvSpPr>
            <p:cNvPr id="173" name=""/>
            <p:cNvSpPr/>
            <p:nvPr/>
          </p:nvSpPr>
          <p:spPr>
            <a:xfrm>
              <a:off x="4140360" y="479736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6576480" y="1885680"/>
              <a:ext cx="11160" cy="4971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0544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89440" y="1714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18520" y="479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716360" y="2997360"/>
            <a:ext cx="3733920" cy="352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588000" y="3298320"/>
            <a:ext cx="1008360" cy="14986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227280" y="3009960"/>
            <a:ext cx="360360" cy="18590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859280" y="4076640"/>
            <a:ext cx="1728720" cy="72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32000" y="4797360"/>
            <a:ext cx="165564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4797360"/>
            <a:ext cx="1656000" cy="792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5440" y="51703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2720" y="3730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7080" y="329868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5080" y="4235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08360" y="52419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Group 63"/>
          <p:cNvGrpSpPr/>
          <p:nvPr/>
        </p:nvGrpSpPr>
        <p:grpSpPr>
          <a:xfrm>
            <a:off x="4787640" y="4005360"/>
            <a:ext cx="144720" cy="142920"/>
            <a:chOff x="4787640" y="4005360"/>
            <a:chExt cx="144720" cy="142920"/>
          </a:xfrm>
        </p:grpSpPr>
        <p:sp>
          <p:nvSpPr>
            <p:cNvPr id="190" name="Line 64"/>
            <p:cNvSpPr/>
            <p:nvPr/>
          </p:nvSpPr>
          <p:spPr>
            <a:xfrm>
              <a:off x="478800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4787640" y="400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2" name="Group 63"/>
          <p:cNvGrpSpPr/>
          <p:nvPr/>
        </p:nvGrpSpPr>
        <p:grpSpPr>
          <a:xfrm>
            <a:off x="6156000" y="2938320"/>
            <a:ext cx="144720" cy="142920"/>
            <a:chOff x="6156000" y="2938320"/>
            <a:chExt cx="144720" cy="142920"/>
          </a:xfrm>
        </p:grpSpPr>
        <p:sp>
          <p:nvSpPr>
            <p:cNvPr id="193" name="Line 64"/>
            <p:cNvSpPr/>
            <p:nvPr/>
          </p:nvSpPr>
          <p:spPr>
            <a:xfrm>
              <a:off x="615636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65"/>
            <p:cNvSpPr/>
            <p:nvPr/>
          </p:nvSpPr>
          <p:spPr>
            <a:xfrm flipH="1">
              <a:off x="6156000" y="29383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3"/>
          <p:cNvGrpSpPr/>
          <p:nvPr/>
        </p:nvGrpSpPr>
        <p:grpSpPr>
          <a:xfrm>
            <a:off x="4858920" y="5516640"/>
            <a:ext cx="144720" cy="142920"/>
            <a:chOff x="4858920" y="5516640"/>
            <a:chExt cx="144720" cy="142920"/>
          </a:xfrm>
        </p:grpSpPr>
        <p:sp>
          <p:nvSpPr>
            <p:cNvPr id="196" name="Line 64"/>
            <p:cNvSpPr/>
            <p:nvPr/>
          </p:nvSpPr>
          <p:spPr>
            <a:xfrm>
              <a:off x="485928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65"/>
            <p:cNvSpPr/>
            <p:nvPr/>
          </p:nvSpPr>
          <p:spPr>
            <a:xfrm flipH="1">
              <a:off x="4858920" y="5516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8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199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63"/>
          <p:cNvGrpSpPr/>
          <p:nvPr/>
        </p:nvGrpSpPr>
        <p:grpSpPr>
          <a:xfrm>
            <a:off x="8172360" y="5516640"/>
            <a:ext cx="144720" cy="142920"/>
            <a:chOff x="8172360" y="5516640"/>
            <a:chExt cx="144720" cy="142920"/>
          </a:xfrm>
        </p:grpSpPr>
        <p:sp>
          <p:nvSpPr>
            <p:cNvPr id="202" name="Line 64"/>
            <p:cNvSpPr/>
            <p:nvPr/>
          </p:nvSpPr>
          <p:spPr>
            <a:xfrm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8172360" y="55166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6588000" y="3284640"/>
            <a:ext cx="1008360" cy="1512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6160" y="37306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27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63000" y="55576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63"/>
          <p:cNvGrpSpPr/>
          <p:nvPr/>
        </p:nvGrpSpPr>
        <p:grpSpPr>
          <a:xfrm>
            <a:off x="8386560" y="4765680"/>
            <a:ext cx="144720" cy="142920"/>
            <a:chOff x="8386560" y="4765680"/>
            <a:chExt cx="144720" cy="142920"/>
          </a:xfrm>
        </p:grpSpPr>
        <p:sp>
          <p:nvSpPr>
            <p:cNvPr id="209" name="Line 64"/>
            <p:cNvSpPr/>
            <p:nvPr/>
          </p:nvSpPr>
          <p:spPr>
            <a:xfrm>
              <a:off x="838692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65"/>
            <p:cNvSpPr/>
            <p:nvPr/>
          </p:nvSpPr>
          <p:spPr>
            <a:xfrm flipH="1">
              <a:off x="8386560" y="47656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516360" y="2924280"/>
            <a:ext cx="144720" cy="142920"/>
            <a:chOff x="6516360" y="292428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651672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6516360" y="2924280"/>
              <a:ext cx="14436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4" name="Group 63"/>
          <p:cNvGrpSpPr/>
          <p:nvPr/>
        </p:nvGrpSpPr>
        <p:grpSpPr>
          <a:xfrm>
            <a:off x="4643280" y="4724280"/>
            <a:ext cx="144720" cy="142920"/>
            <a:chOff x="4643280" y="4724280"/>
            <a:chExt cx="144720" cy="142920"/>
          </a:xfrm>
        </p:grpSpPr>
        <p:sp>
          <p:nvSpPr>
            <p:cNvPr id="215" name="Line 64"/>
            <p:cNvSpPr/>
            <p:nvPr/>
          </p:nvSpPr>
          <p:spPr>
            <a:xfrm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 flipH="1">
              <a:off x="4643280" y="4724280"/>
              <a:ext cx="144720" cy="14292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6516360" y="6453360"/>
            <a:ext cx="144720" cy="142560"/>
            <a:chOff x="6516360" y="6453360"/>
            <a:chExt cx="144720" cy="142560"/>
          </a:xfrm>
        </p:grpSpPr>
        <p:sp>
          <p:nvSpPr>
            <p:cNvPr id="218" name="Line 64"/>
            <p:cNvSpPr/>
            <p:nvPr/>
          </p:nvSpPr>
          <p:spPr>
            <a:xfrm>
              <a:off x="651672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65"/>
            <p:cNvSpPr/>
            <p:nvPr/>
          </p:nvSpPr>
          <p:spPr>
            <a:xfrm flipH="1">
              <a:off x="6516360" y="6453360"/>
              <a:ext cx="144360" cy="1425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6000" y="4437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proto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580000" y="3357720"/>
            <a:ext cx="1944720" cy="2879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49080" y="62784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3" name="Group 63"/>
          <p:cNvGrpSpPr/>
          <p:nvPr/>
        </p:nvGrpSpPr>
        <p:grpSpPr>
          <a:xfrm>
            <a:off x="6516360" y="4724280"/>
            <a:ext cx="144720" cy="142920"/>
            <a:chOff x="6516360" y="4724280"/>
            <a:chExt cx="144720" cy="142920"/>
          </a:xfrm>
        </p:grpSpPr>
        <p:sp>
          <p:nvSpPr>
            <p:cNvPr id="224" name="Line 64"/>
            <p:cNvSpPr/>
            <p:nvPr/>
          </p:nvSpPr>
          <p:spPr>
            <a:xfrm>
              <a:off x="651672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65"/>
            <p:cNvSpPr/>
            <p:nvPr/>
          </p:nvSpPr>
          <p:spPr>
            <a:xfrm flipH="1">
              <a:off x="6516360" y="472428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59636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63"/>
          <p:cNvGrpSpPr/>
          <p:nvPr/>
        </p:nvGrpSpPr>
        <p:grpSpPr>
          <a:xfrm>
            <a:off x="7524360" y="6165720"/>
            <a:ext cx="144720" cy="142920"/>
            <a:chOff x="7524360" y="6165720"/>
            <a:chExt cx="144720" cy="142920"/>
          </a:xfrm>
        </p:grpSpPr>
        <p:sp>
          <p:nvSpPr>
            <p:cNvPr id="228" name="Line 64"/>
            <p:cNvSpPr/>
            <p:nvPr/>
          </p:nvSpPr>
          <p:spPr>
            <a:xfrm>
              <a:off x="7524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65"/>
            <p:cNvSpPr/>
            <p:nvPr/>
          </p:nvSpPr>
          <p:spPr>
            <a:xfrm flipH="1">
              <a:off x="7524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38144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6453360"/>
            <a:ext cx="2890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20360" y="2708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3284640"/>
            <a:ext cx="0" cy="29527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Group 63"/>
          <p:cNvGrpSpPr/>
          <p:nvPr/>
        </p:nvGrpSpPr>
        <p:grpSpPr>
          <a:xfrm>
            <a:off x="5508360" y="3213000"/>
            <a:ext cx="144720" cy="142920"/>
            <a:chOff x="5508360" y="3213000"/>
            <a:chExt cx="144720" cy="142920"/>
          </a:xfrm>
        </p:grpSpPr>
        <p:sp>
          <p:nvSpPr>
            <p:cNvPr id="235" name="Line 64"/>
            <p:cNvSpPr/>
            <p:nvPr/>
          </p:nvSpPr>
          <p:spPr>
            <a:xfrm>
              <a:off x="550872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 flipH="1">
              <a:off x="5508360" y="32130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508720" y="2852640"/>
            <a:ext cx="2872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16720" y="4797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9" name="Group 63"/>
          <p:cNvGrpSpPr/>
          <p:nvPr/>
        </p:nvGrpSpPr>
        <p:grpSpPr>
          <a:xfrm>
            <a:off x="5508360" y="6165720"/>
            <a:ext cx="144720" cy="142920"/>
            <a:chOff x="5508360" y="6165720"/>
            <a:chExt cx="144720" cy="142920"/>
          </a:xfrm>
        </p:grpSpPr>
        <p:sp>
          <p:nvSpPr>
            <p:cNvPr id="240" name="Line 64"/>
            <p:cNvSpPr/>
            <p:nvPr/>
          </p:nvSpPr>
          <p:spPr>
            <a:xfrm>
              <a:off x="550872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 flipH="1">
              <a:off x="5508360" y="616572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7524360" y="3227400"/>
            <a:ext cx="144720" cy="142920"/>
            <a:chOff x="7524360" y="3227400"/>
            <a:chExt cx="144720" cy="142920"/>
          </a:xfrm>
        </p:grpSpPr>
        <p:sp>
          <p:nvSpPr>
            <p:cNvPr id="243" name="Line 64"/>
            <p:cNvSpPr/>
            <p:nvPr/>
          </p:nvSpPr>
          <p:spPr>
            <a:xfrm>
              <a:off x="752472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65"/>
            <p:cNvSpPr/>
            <p:nvPr/>
          </p:nvSpPr>
          <p:spPr>
            <a:xfrm flipH="1">
              <a:off x="7524360" y="322740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87280" y="1125360"/>
            <a:ext cx="7956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, jehož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dálenos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d počátku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je jedn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dnotka (cm, mm, ....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Č, jejichž obrazy leží na kružnici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0;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3650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 z nich leží na souřadných osách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;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333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Komplexní jednotk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219640" y="1844640"/>
                <a:ext cx="1147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2987640" y="3429000"/>
            <a:ext cx="3918240" cy="3284280"/>
            <a:chOff x="2987640" y="3429000"/>
            <a:chExt cx="3918240" cy="3284280"/>
          </a:xfrm>
        </p:grpSpPr>
        <p:sp>
          <p:nvSpPr>
            <p:cNvPr id="249" name=""/>
            <p:cNvSpPr/>
            <p:nvPr/>
          </p:nvSpPr>
          <p:spPr>
            <a:xfrm>
              <a:off x="2987640" y="5300640"/>
              <a:ext cx="3816360" cy="1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8000" y="3571560"/>
              <a:ext cx="0" cy="3141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944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8000" y="342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16360" y="5229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562200" y="4149720"/>
            <a:ext cx="2449800" cy="2232000"/>
          </a:xfrm>
          <a:prstGeom prst="ellipse">
            <a:avLst/>
          </a:prstGeom>
          <a:noFill/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63"/>
          <p:cNvGrpSpPr/>
          <p:nvPr/>
        </p:nvGrpSpPr>
        <p:grpSpPr>
          <a:xfrm>
            <a:off x="5938560" y="5229360"/>
            <a:ext cx="144720" cy="142920"/>
            <a:chOff x="5938560" y="5229360"/>
            <a:chExt cx="144720" cy="142920"/>
          </a:xfrm>
        </p:grpSpPr>
        <p:sp>
          <p:nvSpPr>
            <p:cNvPr id="256" name="Line 64"/>
            <p:cNvSpPr/>
            <p:nvPr/>
          </p:nvSpPr>
          <p:spPr>
            <a:xfrm>
              <a:off x="5938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 flipH="1">
              <a:off x="5938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25800" y="580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63"/>
          <p:cNvGrpSpPr/>
          <p:nvPr/>
        </p:nvGrpSpPr>
        <p:grpSpPr>
          <a:xfrm>
            <a:off x="4714560" y="4078440"/>
            <a:ext cx="144720" cy="142560"/>
            <a:chOff x="4714560" y="4078440"/>
            <a:chExt cx="144720" cy="142560"/>
          </a:xfrm>
        </p:grpSpPr>
        <p:sp>
          <p:nvSpPr>
            <p:cNvPr id="260" name="Line 64"/>
            <p:cNvSpPr/>
            <p:nvPr/>
          </p:nvSpPr>
          <p:spPr>
            <a:xfrm>
              <a:off x="471492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H="1">
              <a:off x="4714560" y="40784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63"/>
          <p:cNvGrpSpPr/>
          <p:nvPr/>
        </p:nvGrpSpPr>
        <p:grpSpPr>
          <a:xfrm>
            <a:off x="4714560" y="6310440"/>
            <a:ext cx="144720" cy="142920"/>
            <a:chOff x="4714560" y="6310440"/>
            <a:chExt cx="144720" cy="142920"/>
          </a:xfrm>
        </p:grpSpPr>
        <p:sp>
          <p:nvSpPr>
            <p:cNvPr id="263" name="Line 64"/>
            <p:cNvSpPr/>
            <p:nvPr/>
          </p:nvSpPr>
          <p:spPr>
            <a:xfrm>
              <a:off x="471492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65"/>
            <p:cNvSpPr/>
            <p:nvPr/>
          </p:nvSpPr>
          <p:spPr>
            <a:xfrm flipH="1">
              <a:off x="4714560" y="6310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3"/>
          <p:cNvGrpSpPr/>
          <p:nvPr/>
        </p:nvGrpSpPr>
        <p:grpSpPr>
          <a:xfrm>
            <a:off x="3490560" y="5229360"/>
            <a:ext cx="144720" cy="142920"/>
            <a:chOff x="3490560" y="5229360"/>
            <a:chExt cx="144720" cy="142920"/>
          </a:xfrm>
        </p:grpSpPr>
        <p:sp>
          <p:nvSpPr>
            <p:cNvPr id="266" name="Line 64"/>
            <p:cNvSpPr/>
            <p:nvPr/>
          </p:nvSpPr>
          <p:spPr>
            <a:xfrm>
              <a:off x="349092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65"/>
            <p:cNvSpPr/>
            <p:nvPr/>
          </p:nvSpPr>
          <p:spPr>
            <a:xfrm flipH="1">
              <a:off x="34905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988360" y="5229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4160" y="371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200" y="6134040"/>
            <a:ext cx="4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5440" y="45799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788000" y="4292640"/>
            <a:ext cx="576000" cy="100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určete vzdálenost KČ od počátku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1197000"/>
            <a:ext cx="266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1268280"/>
            <a:ext cx="230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00720" y="1413000"/>
                <a:ext cx="19080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059280" y="206064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00720" y="2133720"/>
                <a:ext cx="2257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059280" y="285264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500720" y="2924280"/>
                <a:ext cx="27414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059280" y="414972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00720" y="4221000"/>
                <a:ext cx="2336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3059280" y="4869000"/>
            <a:ext cx="230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500720" y="5013360"/>
                <a:ext cx="1881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3059280" y="5661000"/>
            <a:ext cx="230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18003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–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572000" y="5805360"/>
                <a:ext cx="2319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667640" y="1413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8634240" y="1484280"/>
                <a:ext cx="509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00720" y="1413000"/>
                <a:ext cx="1343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732720" y="2205000"/>
                <a:ext cx="1154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885080" y="2205000"/>
                <a:ext cx="88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236000" y="2924280"/>
                <a:ext cx="1558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308720" y="342900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229600" y="342900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804000" y="4221000"/>
                <a:ext cx="1182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028000" y="4221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443640" y="5013360"/>
                <a:ext cx="939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451640" y="5084640"/>
                <a:ext cx="511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877080" y="5877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740720" y="5950080"/>
                <a:ext cx="509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042920" y="4941720"/>
            <a:ext cx="748980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140360" y="1486080"/>
            <a:ext cx="4781520" cy="4424040"/>
            <a:chOff x="4140360" y="1486080"/>
            <a:chExt cx="4781520" cy="4424040"/>
          </a:xfrm>
        </p:grpSpPr>
        <p:sp>
          <p:nvSpPr>
            <p:cNvPr id="304" name=""/>
            <p:cNvSpPr/>
            <p:nvPr/>
          </p:nvSpPr>
          <p:spPr>
            <a:xfrm>
              <a:off x="4140360" y="384984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588360" y="163044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05440" y="3849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944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18520" y="384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09" name="Group 63"/>
            <p:cNvGrpSpPr/>
            <p:nvPr/>
          </p:nvGrpSpPr>
          <p:grpSpPr>
            <a:xfrm>
              <a:off x="8561160" y="5649840"/>
              <a:ext cx="144720" cy="142920"/>
              <a:chOff x="8561160" y="5649840"/>
              <a:chExt cx="144720" cy="142920"/>
            </a:xfrm>
          </p:grpSpPr>
          <p:sp>
            <p:nvSpPr>
              <p:cNvPr id="310" name="Line 64"/>
              <p:cNvSpPr/>
              <p:nvPr/>
            </p:nvSpPr>
            <p:spPr>
              <a:xfrm>
                <a:off x="856152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Line 65"/>
              <p:cNvSpPr/>
              <p:nvPr/>
            </p:nvSpPr>
            <p:spPr>
              <a:xfrm flipH="1">
                <a:off x="8561160" y="564984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1116000" y="260280"/>
            <a:ext cx="802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                            je-li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635280" y="260280"/>
                <a:ext cx="2702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716360" y="2120760"/>
            <a:ext cx="3733920" cy="34689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8027640" y="2781360"/>
            <a:ext cx="144720" cy="142920"/>
            <a:chOff x="8027640" y="2781360"/>
            <a:chExt cx="144720" cy="142920"/>
          </a:xfrm>
        </p:grpSpPr>
        <p:sp>
          <p:nvSpPr>
            <p:cNvPr id="316" name="Line 64"/>
            <p:cNvSpPr/>
            <p:nvPr/>
          </p:nvSpPr>
          <p:spPr>
            <a:xfrm>
              <a:off x="802800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65"/>
            <p:cNvSpPr/>
            <p:nvPr/>
          </p:nvSpPr>
          <p:spPr>
            <a:xfrm flipH="1">
              <a:off x="8027640" y="2781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63280" y="3286080"/>
            <a:ext cx="13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86160" y="4870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58764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4000" y="220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0108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3" name="Group 63"/>
          <p:cNvGrpSpPr/>
          <p:nvPr/>
        </p:nvGrpSpPr>
        <p:grpSpPr>
          <a:xfrm>
            <a:off x="8027640" y="4797360"/>
            <a:ext cx="144720" cy="142920"/>
            <a:chOff x="8027640" y="4797360"/>
            <a:chExt cx="144720" cy="142920"/>
          </a:xfrm>
        </p:grpSpPr>
        <p:sp>
          <p:nvSpPr>
            <p:cNvPr id="324" name="Line 64"/>
            <p:cNvSpPr/>
            <p:nvPr/>
          </p:nvSpPr>
          <p:spPr>
            <a:xfrm>
              <a:off x="802800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Line 65"/>
            <p:cNvSpPr/>
            <p:nvPr/>
          </p:nvSpPr>
          <p:spPr>
            <a:xfrm flipH="1">
              <a:off x="8027640" y="479736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95780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8000" y="2379600"/>
            <a:ext cx="289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720" y="48704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1080" y="50148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63"/>
          <p:cNvGrpSpPr/>
          <p:nvPr/>
        </p:nvGrpSpPr>
        <p:grpSpPr>
          <a:xfrm>
            <a:off x="5003640" y="4797360"/>
            <a:ext cx="144720" cy="142920"/>
            <a:chOff x="5003640" y="4797360"/>
            <a:chExt cx="144720" cy="142920"/>
          </a:xfrm>
        </p:grpSpPr>
        <p:sp>
          <p:nvSpPr>
            <p:cNvPr id="332" name="Line 64"/>
            <p:cNvSpPr/>
            <p:nvPr/>
          </p:nvSpPr>
          <p:spPr>
            <a:xfrm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5"/>
            <p:cNvSpPr/>
            <p:nvPr/>
          </p:nvSpPr>
          <p:spPr>
            <a:xfrm flipH="1">
              <a:off x="5003640" y="4797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4" name="Group 63"/>
          <p:cNvGrpSpPr/>
          <p:nvPr/>
        </p:nvGrpSpPr>
        <p:grpSpPr>
          <a:xfrm>
            <a:off x="5003640" y="2781360"/>
            <a:ext cx="144720" cy="142920"/>
            <a:chOff x="5003640" y="2781360"/>
            <a:chExt cx="144720" cy="142920"/>
          </a:xfrm>
        </p:grpSpPr>
        <p:sp>
          <p:nvSpPr>
            <p:cNvPr id="335" name="Line 64"/>
            <p:cNvSpPr/>
            <p:nvPr/>
          </p:nvSpPr>
          <p:spPr>
            <a:xfrm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5"/>
            <p:cNvSpPr/>
            <p:nvPr/>
          </p:nvSpPr>
          <p:spPr>
            <a:xfrm flipH="1">
              <a:off x="5003640" y="2781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V="1">
            <a:off x="6588000" y="2854440"/>
            <a:ext cx="1513080" cy="1008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187280" y="1125360"/>
                <a:ext cx="2291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492360" y="1125360"/>
                <a:ext cx="1276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788000" y="1197000"/>
                <a:ext cx="785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32000" y="5805360"/>
                <a:ext cx="40608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810108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76720" y="378936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29800" y="386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898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516360" y="4870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516360" y="2854440"/>
            <a:ext cx="144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4160" y="3862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18520" y="4726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07636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01080" y="2854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587640" y="2854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76720" y="3862440"/>
            <a:ext cx="0" cy="1008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76360" y="4870440"/>
            <a:ext cx="1513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99680" y="2131920"/>
            <a:ext cx="1748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–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2600" y="2852640"/>
            <a:ext cx="2183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24880" y="3500280"/>
            <a:ext cx="1774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8 +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6960" y="369720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67200" y="4076640"/>
            <a:ext cx="2157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8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6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96960" y="4273560"/>
            <a:ext cx="2872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98680" y="26877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9400" indent="-1229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 Určete KČ, která leží na souřadných osách a jejichž vzdálenost od počátku je 5j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6732720" y="5281560"/>
                <a:ext cx="16635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±</m:t>
                            </m:r>
                            <m:r>
                              <m:t xml:space="preserve">5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620720" y="1773360"/>
            <a:ext cx="4781520" cy="4424040"/>
            <a:chOff x="1620720" y="1773360"/>
            <a:chExt cx="4781520" cy="4424040"/>
          </a:xfrm>
        </p:grpSpPr>
        <p:sp>
          <p:nvSpPr>
            <p:cNvPr id="365" name=""/>
            <p:cNvSpPr/>
            <p:nvPr/>
          </p:nvSpPr>
          <p:spPr>
            <a:xfrm>
              <a:off x="1620720" y="4137120"/>
              <a:ext cx="47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068720" y="1917720"/>
              <a:ext cx="0" cy="42796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85800" y="4137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6980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98880" y="413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70" name="Group 63"/>
            <p:cNvGrpSpPr/>
            <p:nvPr/>
          </p:nvGrpSpPr>
          <p:grpSpPr>
            <a:xfrm>
              <a:off x="6041520" y="5937120"/>
              <a:ext cx="144720" cy="142920"/>
              <a:chOff x="6041520" y="5937120"/>
              <a:chExt cx="144720" cy="142920"/>
            </a:xfrm>
          </p:grpSpPr>
          <p:sp>
            <p:nvSpPr>
              <p:cNvPr id="371" name="Line 64"/>
              <p:cNvSpPr/>
              <p:nvPr/>
            </p:nvSpPr>
            <p:spPr>
              <a:xfrm>
                <a:off x="604188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2" name="Line 65"/>
              <p:cNvSpPr/>
              <p:nvPr/>
            </p:nvSpPr>
            <p:spPr>
              <a:xfrm flipH="1">
                <a:off x="6041520" y="5937120"/>
                <a:ext cx="144360" cy="142920"/>
              </a:xfrm>
              <a:prstGeom prst="line">
                <a:avLst/>
              </a:prstGeom>
              <a:ln w="38160">
                <a:solidFill>
                  <a:srgbClr val="0017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2197080" y="2408400"/>
            <a:ext cx="3733920" cy="346860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4" name="Group 63"/>
          <p:cNvGrpSpPr/>
          <p:nvPr/>
        </p:nvGrpSpPr>
        <p:grpSpPr>
          <a:xfrm>
            <a:off x="3995640" y="2349360"/>
            <a:ext cx="144720" cy="142920"/>
            <a:chOff x="3995640" y="2349360"/>
            <a:chExt cx="144720" cy="142920"/>
          </a:xfrm>
        </p:grpSpPr>
        <p:sp>
          <p:nvSpPr>
            <p:cNvPr id="375" name="Line 64"/>
            <p:cNvSpPr/>
            <p:nvPr/>
          </p:nvSpPr>
          <p:spPr>
            <a:xfrm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65"/>
            <p:cNvSpPr/>
            <p:nvPr/>
          </p:nvSpPr>
          <p:spPr>
            <a:xfrm flipH="1">
              <a:off x="3995640" y="2349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915640" y="2997360"/>
            <a:ext cx="11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5440" y="4149720"/>
            <a:ext cx="3848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3"/>
          <p:cNvGrpSpPr/>
          <p:nvPr/>
        </p:nvGrpSpPr>
        <p:grpSpPr>
          <a:xfrm>
            <a:off x="5867280" y="4076640"/>
            <a:ext cx="144720" cy="142920"/>
            <a:chOff x="5867280" y="4076640"/>
            <a:chExt cx="144720" cy="142920"/>
          </a:xfrm>
        </p:grpSpPr>
        <p:sp>
          <p:nvSpPr>
            <p:cNvPr id="380" name="Line 64"/>
            <p:cNvSpPr/>
            <p:nvPr/>
          </p:nvSpPr>
          <p:spPr>
            <a:xfrm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5"/>
            <p:cNvSpPr/>
            <p:nvPr/>
          </p:nvSpPr>
          <p:spPr>
            <a:xfrm flipH="1">
              <a:off x="5867280" y="407664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212720" y="2133720"/>
            <a:ext cx="4975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627280" y="3068280"/>
            <a:ext cx="1441440" cy="10810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8720" y="4149720"/>
            <a:ext cx="58896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5" name="Group 63"/>
          <p:cNvGrpSpPr/>
          <p:nvPr/>
        </p:nvGrpSpPr>
        <p:grpSpPr>
          <a:xfrm>
            <a:off x="2123640" y="4076640"/>
            <a:ext cx="144720" cy="142920"/>
            <a:chOff x="2123640" y="4076640"/>
            <a:chExt cx="144720" cy="142920"/>
          </a:xfrm>
        </p:grpSpPr>
        <p:sp>
          <p:nvSpPr>
            <p:cNvPr id="386" name="Line 64"/>
            <p:cNvSpPr/>
            <p:nvPr/>
          </p:nvSpPr>
          <p:spPr>
            <a:xfrm>
              <a:off x="212400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65"/>
            <p:cNvSpPr/>
            <p:nvPr/>
          </p:nvSpPr>
          <p:spPr>
            <a:xfrm flipH="1">
              <a:off x="2123640" y="4076640"/>
              <a:ext cx="14436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141080" y="5516640"/>
            <a:ext cx="7016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63"/>
          <p:cNvGrpSpPr/>
          <p:nvPr/>
        </p:nvGrpSpPr>
        <p:grpSpPr>
          <a:xfrm>
            <a:off x="3995640" y="5805360"/>
            <a:ext cx="144720" cy="142920"/>
            <a:chOff x="3995640" y="5805360"/>
            <a:chExt cx="144720" cy="142920"/>
          </a:xfrm>
        </p:grpSpPr>
        <p:sp>
          <p:nvSpPr>
            <p:cNvPr id="390" name="Line 64"/>
            <p:cNvSpPr/>
            <p:nvPr/>
          </p:nvSpPr>
          <p:spPr>
            <a:xfrm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65"/>
            <p:cNvSpPr/>
            <p:nvPr/>
          </p:nvSpPr>
          <p:spPr>
            <a:xfrm flipH="1">
              <a:off x="3995640" y="5805360"/>
              <a:ext cx="144720" cy="14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bsolutní hodnotu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116000" y="907920"/>
                <a:ext cx="600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332000" y="2637000"/>
                <a:ext cx="20905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692360" y="1628640"/>
                <a:ext cx="50641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042920" y="3860640"/>
                <a:ext cx="567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03280" y="5734080"/>
                <a:ext cx="1938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692360" y="4653000"/>
                <a:ext cx="403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6877080" y="1700280"/>
                <a:ext cx="1212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556000" y="981000"/>
            <a:ext cx="1584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56000" y="1628640"/>
            <a:ext cx="1511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40360" y="981000"/>
            <a:ext cx="143964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67280" y="1628640"/>
            <a:ext cx="1728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981000"/>
            <a:ext cx="792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162864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72360" y="981000"/>
            <a:ext cx="792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00720" y="1628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56000" y="1628640"/>
            <a:ext cx="792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01440" y="2060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218920" y="1628640"/>
            <a:ext cx="576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2144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21080" y="2637000"/>
                <a:ext cx="1030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500720" y="2637000"/>
                <a:ext cx="1060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782880" y="30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6.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724360" y="4724280"/>
                <a:ext cx="2578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2195640" y="3932280"/>
            <a:ext cx="1512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4653000"/>
            <a:ext cx="1224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67280" y="3932280"/>
            <a:ext cx="18730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80000" y="4653000"/>
            <a:ext cx="936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5636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48360" y="465300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626560" y="4653000"/>
            <a:ext cx="7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0144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067280" y="4653000"/>
            <a:ext cx="576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68360" y="5084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7524720" y="5229360"/>
                <a:ext cx="14256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348000" y="5734080"/>
                <a:ext cx="1060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427640" y="5734080"/>
                <a:ext cx="11811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709800" y="6165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.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2:14Z</dcterms:modified>
  <cp:revision>296</cp:revision>
  <dc:subject/>
  <dc:title>KČ</dc:title>
</cp:coreProperties>
</file>