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9C1B-502E-4D9D-B1AB-683C092038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6E79-6EBF-4AE8-A674-4FC417957AA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E79B-C8C7-4D70-A40B-4D0CB6CB6FB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E2D0-7A61-4169-8478-A7E721AF19B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136B-E40F-4E36-9782-62A6EE5621F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C1C-B7AC-46B9-9BBE-FEA2EB2F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9FE7-1104-48A7-91BB-A069DA65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1A8-0646-4D0F-BF49-5E0CC8A2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4FB-A8B2-415C-A7E5-7EC4180B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00D2-9F7A-4550-A8B5-CDCB77E6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3B74-9547-4D9E-A4FC-C46039A7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E1D6-BCC1-406F-8599-1546B9C8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0A64-5AAC-4C74-8F12-A91F25A9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94ED-A6E3-4BF4-8C1F-0723F82E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7022-5F85-45AE-BBC6-26231C81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61FD-CAC7-45F4-8D3E-5D7DB649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007-0BF2-4C2D-95FA-72CC595E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1656-8A10-438C-BC54-EFE9E877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73C8-C8DA-411A-921F-EAA57D65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26E9-8DF3-42CA-8383-773C3C8E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BFD5-9CFB-44A5-A5F6-180B7AB3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DC0D-51AF-4B28-8131-528BA2BF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DD1-DD48-4CDD-B005-7AF72B1E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F582-F09C-4E1D-A0A0-4CDE0898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5E9-E324-4F1D-8432-B50D56D1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B78F-D914-42BF-A32B-BA50D9DA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88F8-BAC6-4B99-A3CF-304B2E22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9EC9-4C9A-4AFD-A431-0E5E1054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EE03-6A9B-4485-9172-9DC83A5C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779B-F2E4-4797-B999-495C37057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B07F-D100-4D07-8A6B-E0715188A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371600" y="189000"/>
                <a:ext cx="310032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420920" y="1843200"/>
                <a:ext cx="27334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36760" y="3571920"/>
                <a:ext cx="2700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392120" y="4724280"/>
                <a:ext cx="2933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62" name=""/>
          <p:cNvGrpSpPr/>
          <p:nvPr/>
        </p:nvGrpSpPr>
        <p:grpSpPr>
          <a:xfrm>
            <a:off x="5364000" y="765000"/>
            <a:ext cx="1710000" cy="5226120"/>
            <a:chOff x="5364000" y="765000"/>
            <a:chExt cx="1710000" cy="5226120"/>
          </a:xfrm>
        </p:grpSpPr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5364000" y="1987560"/>
                  <a:ext cx="1710000" cy="11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5435640" y="3645000"/>
                  <a:ext cx="105264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sup>
                      </m:sSup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5364000" y="4869000"/>
                  <a:ext cx="1710000" cy="11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5506920" y="765000"/>
                  <a:ext cx="52560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476360" y="476280"/>
                <a:ext cx="2166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465200" y="2060640"/>
                <a:ext cx="21002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6</m:t>
                        </m:r>
                      </m:deg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29</m:t>
                        </m:r>
                        <m:r>
                          <m:t xml:space="preserve">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65200" y="3284640"/>
                <a:ext cx="306720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70" name=""/>
          <p:cNvGrpSpPr/>
          <p:nvPr/>
        </p:nvGrpSpPr>
        <p:grpSpPr>
          <a:xfrm>
            <a:off x="5292720" y="620640"/>
            <a:ext cx="2192400" cy="5483160"/>
            <a:chOff x="5292720" y="620640"/>
            <a:chExt cx="2192400" cy="548316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5292720" y="620640"/>
                  <a:ext cx="217008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5348160" y="1741320"/>
                  <a:ext cx="2136960" cy="11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5508720" y="3357720"/>
                  <a:ext cx="1774800" cy="11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5764320" y="4981680"/>
                  <a:ext cx="1446120" cy="11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476360" y="4941720"/>
                <a:ext cx="24670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cniny imaginárních komplexních 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šší mocniny dvojčlenu; Algebraický tvar a goniometrický tvar komplexního čísla;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71640" y="189000"/>
            <a:ext cx="79167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četní operace v G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1052640"/>
            <a:ext cx="8172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394488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šechny početní operace, které jsme odvodili a procvičili v AT lze odvodit také pro GT, ale sčítat, odečítat, násobit či dělit je mnohem jednodušší v 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595520" y="5307120"/>
                <a:ext cx="70405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umocníme:</m:t>
                            </m:r>
                          </m:e>
                        </m:acc>
                      </m:e>
                    </m:eqArr>
                    <m:r>
                      <m:rPr>
                        <m:lit/>
                        <m:nor/>
                      </m:rPr>
                      <m:t xml:space="preserve">Moivreova  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971640" y="1052640"/>
            <a:ext cx="81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0040" indent="-320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394488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V GT se soustředíme pouze na </a:t>
            </a:r>
            <a:r>
              <a:rPr b="0" lang="cs-CZ" sz="3000" spc="-1" strike="noStrike" u="sng">
                <a:solidFill>
                  <a:srgbClr val="dddddd"/>
                </a:solidFill>
                <a:uFillTx/>
                <a:latin typeface="Times New Roman"/>
              </a:rPr>
              <a:t>mocniny KČ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      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(cos</a:t>
            </a:r>
            <a:r>
              <a:rPr b="0" lang="el-GR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+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in</a:t>
            </a:r>
            <a:r>
              <a:rPr b="0" lang="el-GR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0040" indent="-320040"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394488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známk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      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; 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…algebraické vzorce: AT 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4,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5, 6, ...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... Moivreova věta: G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4653000"/>
            <a:ext cx="81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3944880"/>
                <a:tab algn="l" pos="511812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ostup úpravy zapíšeme schematicky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Vypočtět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116000" y="765000"/>
                <a:ext cx="233352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564000" y="836640"/>
                <a:ext cx="50338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92360" y="2421000"/>
                <a:ext cx="54720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92360" y="3141720"/>
                <a:ext cx="51260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258920" y="515772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92360" y="1628640"/>
                <a:ext cx="50673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692360" y="3645000"/>
                <a:ext cx="433692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012000" y="3933720"/>
                <a:ext cx="2859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788000" y="5877000"/>
                <a:ext cx="22478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308720" y="6093000"/>
                <a:ext cx="1633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58920" y="5300640"/>
                <a:ext cx="16732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692360" y="907920"/>
            <a:ext cx="1439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58920" y="5227560"/>
            <a:ext cx="16574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132000" y="5300640"/>
                <a:ext cx="274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[</m:t>
                    </m:r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6021360"/>
                <a:ext cx="3240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908000" y="1484280"/>
            <a:ext cx="0" cy="3745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67280" y="6021360"/>
            <a:ext cx="288720" cy="576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576360"/>
              <a:gd name="textAreaBottom" fmla="*/ 562320 h 576360"/>
            </a:gdLst>
            <a:ahLst/>
            <a:rect l="textAreaLeft" t="textAreaTop" r="textAreaRight" b="textAreaBottom"/>
            <a:pathLst>
              <a:path w="21600" h="43092">
                <a:moveTo>
                  <a:pt x="3600" y="0"/>
                </a:moveTo>
                <a:arcTo wR="3600" hR="3600" stAng="16200000" swAng="-5400000"/>
                <a:lnTo>
                  <a:pt x="0" y="39492"/>
                </a:lnTo>
                <a:arcTo wR="3600" hR="3600" stAng="10800000" swAng="-5400000"/>
                <a:lnTo>
                  <a:pt x="18000" y="43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7280" y="907920"/>
            <a:ext cx="288720" cy="576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576360"/>
              <a:gd name="textAreaBottom" fmla="*/ 562320 h 576360"/>
            </a:gdLst>
            <a:ahLst/>
            <a:rect l="textAreaLeft" t="textAreaTop" r="textAreaRight" b="textAreaBottom"/>
            <a:pathLst>
              <a:path w="21600" h="43092">
                <a:moveTo>
                  <a:pt x="3600" y="0"/>
                </a:moveTo>
                <a:arcTo wR="3600" hR="3600" stAng="16200000" swAng="-5400000"/>
                <a:lnTo>
                  <a:pt x="0" y="39492"/>
                </a:lnTo>
                <a:arcTo wR="3600" hR="3600" stAng="10800000" swAng="-5400000"/>
                <a:lnTo>
                  <a:pt x="18000" y="43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211640" y="1483920"/>
            <a:ext cx="0" cy="4537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508360" y="1483920"/>
            <a:ext cx="2950920" cy="4537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7380360" y="1483920"/>
            <a:ext cx="1079280" cy="4537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44000" y="6021360"/>
            <a:ext cx="649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907920"/>
            <a:ext cx="792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90792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765000"/>
            <a:ext cx="432000" cy="4320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85080" y="836640"/>
            <a:ext cx="432000" cy="4316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18440" y="1916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Moivreova v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08720" y="2708280"/>
            <a:ext cx="18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ff33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 baseline="-25000">
                <a:solidFill>
                  <a:srgbClr val="66ff33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 360</a:t>
            </a:r>
            <a:r>
              <a:rPr b="0" lang="cs-CZ" sz="24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116000" y="404640"/>
                <a:ext cx="18334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059280" y="333360"/>
                <a:ext cx="52624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059280" y="2292480"/>
                <a:ext cx="50799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059280" y="3213000"/>
                <a:ext cx="4698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1258920" y="501336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403280" y="5145120"/>
                <a:ext cx="2292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92400" y="1357200"/>
                <a:ext cx="55008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10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59280" y="4076640"/>
                <a:ext cx="28256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940360" y="4076640"/>
                <a:ext cx="12495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332000" y="5877000"/>
                <a:ext cx="24080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067280" y="5157720"/>
                <a:ext cx="21492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211640" y="5661000"/>
                <a:ext cx="28098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164360" y="5935680"/>
                <a:ext cx="1719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1763640" y="549360"/>
            <a:ext cx="720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5084640"/>
            <a:ext cx="1224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981000"/>
            <a:ext cx="0" cy="4032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5878440"/>
            <a:ext cx="576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2360" y="476280"/>
            <a:ext cx="7192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419640" y="1052280"/>
            <a:ext cx="504720" cy="4824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5219280" y="1052280"/>
            <a:ext cx="3313080" cy="4824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6948000" y="1052280"/>
            <a:ext cx="1584360" cy="4824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72360" y="5877000"/>
            <a:ext cx="720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47628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47628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56000" y="404640"/>
            <a:ext cx="431640" cy="4320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24720" y="333360"/>
            <a:ext cx="432000" cy="4316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042920" y="189000"/>
                <a:ext cx="290052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140360" y="549360"/>
                <a:ext cx="44780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140360" y="2421000"/>
                <a:ext cx="38336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258920" y="436572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403280" y="4437000"/>
                <a:ext cx="29322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+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877080" y="3357720"/>
                <a:ext cx="14446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388360" y="3357720"/>
                <a:ext cx="5605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140360" y="1484280"/>
                <a:ext cx="39877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40360" y="3284640"/>
                <a:ext cx="2754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47640" y="5661000"/>
                <a:ext cx="23828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284720" y="5229360"/>
                <a:ext cx="282096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380360" y="5950080"/>
                <a:ext cx="159696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692360" y="333360"/>
            <a:ext cx="1871640" cy="1150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56000" y="1484280"/>
            <a:ext cx="0" cy="30970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4000" y="189000"/>
            <a:ext cx="431640" cy="4316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56720" y="549360"/>
            <a:ext cx="431640" cy="4316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5877000"/>
            <a:ext cx="360360" cy="576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534">
                <a:moveTo>
                  <a:pt x="3600" y="0"/>
                </a:moveTo>
                <a:arcTo wR="3600" hR="3600" stAng="16200000" swAng="-5400000"/>
                <a:lnTo>
                  <a:pt x="0" y="30934"/>
                </a:lnTo>
                <a:arcTo wR="3600" hR="3600" stAng="10800000" swAng="-5400000"/>
                <a:lnTo>
                  <a:pt x="18000" y="345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620640"/>
            <a:ext cx="216000" cy="576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576360"/>
              <a:gd name="textAreaBottom" fmla="*/ 565920 h 576360"/>
            </a:gdLst>
            <a:ahLst/>
            <a:rect l="textAreaLeft" t="textAreaTop" r="textAreaRight" b="textAreaBottom"/>
            <a:pathLst>
              <a:path w="21600" h="57576">
                <a:moveTo>
                  <a:pt x="3600" y="0"/>
                </a:moveTo>
                <a:arcTo wR="3600" hR="3600" stAng="16200000" swAng="-5400000"/>
                <a:lnTo>
                  <a:pt x="0" y="53976"/>
                </a:lnTo>
                <a:arcTo wR="3600" hR="3600" stAng="10800000" swAng="-5400000"/>
                <a:lnTo>
                  <a:pt x="18000" y="575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708360" y="1197000"/>
            <a:ext cx="934920" cy="4680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5866920" y="1197000"/>
            <a:ext cx="2737080" cy="4680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7596360" y="1197000"/>
            <a:ext cx="1008000" cy="4680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17080" y="5877000"/>
            <a:ext cx="647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620640"/>
            <a:ext cx="647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4360" y="620640"/>
            <a:ext cx="647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900000" y="189000"/>
                <a:ext cx="290052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635280" y="549360"/>
                <a:ext cx="49006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635280" y="2565360"/>
                <a:ext cx="4262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68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68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1258920" y="450864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547640" y="4513320"/>
                <a:ext cx="288000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I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074000" y="3068640"/>
                <a:ext cx="207000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635280" y="1484280"/>
                <a:ext cx="43149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635280" y="3429000"/>
                <a:ext cx="35388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476360" y="5664240"/>
                <a:ext cx="24098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211640" y="5234040"/>
                <a:ext cx="30859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343640" y="5950080"/>
                <a:ext cx="17924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042920" y="476280"/>
                <a:ext cx="15336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700360" y="404640"/>
                <a:ext cx="47070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700360" y="2276640"/>
                <a:ext cx="531000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700360" y="3213000"/>
                <a:ext cx="4305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24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3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258920" y="515772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476360" y="5229360"/>
                <a:ext cx="1511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700360" y="1197000"/>
                <a:ext cx="476712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700360" y="4076640"/>
                <a:ext cx="26305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9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5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476360" y="5805360"/>
                <a:ext cx="24890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356000" y="5589720"/>
                <a:ext cx="28130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308720" y="5877000"/>
                <a:ext cx="16304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971640" y="404640"/>
                <a:ext cx="23000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492360" y="476280"/>
                <a:ext cx="47404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492360" y="2349360"/>
                <a:ext cx="44244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492360" y="3284640"/>
                <a:ext cx="4108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85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1116000" y="5156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116000" y="5300640"/>
                <a:ext cx="22669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I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92360" y="1197000"/>
                <a:ext cx="51674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492360" y="4076640"/>
                <a:ext cx="289404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7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0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116000" y="5948280"/>
                <a:ext cx="34923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788000" y="5732640"/>
                <a:ext cx="284004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7553160" y="6019920"/>
                <a:ext cx="1590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5:56Z</dcterms:modified>
  <cp:revision>300</cp:revision>
  <dc:subject/>
  <dc:title>KČ</dc:title>
</cp:coreProperties>
</file>