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7935-B8E9-43BD-BDD2-938AEB704C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558-7D35-4C75-98AD-8B61C62ED1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079-95C4-46BC-AB96-0260931E6C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CB2-7B6E-410C-A13D-7AAFD95342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687-9D16-4E7A-B2C8-F629406444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EAC-62DB-4805-903E-ECCF0FE0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273-2727-4DB9-9027-7DB404B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B41-3292-4494-AA94-3506C787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631-48E3-4951-A07E-204EEFCC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F21E-B195-4948-A030-56B5C605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1E6D-B363-455F-8B90-06A3A90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087E-3708-4AD2-9387-6530598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B882-1BD7-4DDA-B01A-FAA60A8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D56-A94D-4092-A0B4-9BF56C1C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874E-94CB-47F8-B308-6A1B7F6B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E127-4085-42A0-8BFB-221BF72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CCD-FFAA-4D6E-AA05-8DB9C202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9AB-F7E9-4A0E-939D-B9904748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8EC-BF9A-4BE6-A8E6-5008832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42D-E41D-443D-85C3-2A02EB3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F69-6CD3-4E18-8B1A-8CD4A763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790-928E-41A6-9C6F-7242E081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A69-41AE-4850-A64A-707FF33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85C-D2E1-4807-AB4A-D00E0909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338-84E0-49BC-8BF5-7E4EE7C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18A-20FB-436C-8AE9-B7CF986C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60E-1D8F-41C5-957C-38EF502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710-6436-4638-91F8-67BDEE4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896-F949-4EF6-B514-83FB1BF0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9F4D-4FE6-43CF-9C4D-CA864B51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498-4A31-41D1-BFDF-F3749E52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7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1258920" y="2133720"/>
                <a:ext cx="2805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333440" y="4040280"/>
                <a:ext cx="2813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1332000" y="4941720"/>
                <a:ext cx="1184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1332000" y="5805360"/>
                <a:ext cx="1778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971640" y="404640"/>
                <a:ext cx="342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6"/>
              <p:cNvSpPr txBox="1"/>
              <p:nvPr/>
            </p:nvSpPr>
            <p:spPr>
              <a:xfrm>
                <a:off x="4932360" y="47628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2" name="Group 28"/>
          <p:cNvGrpSpPr/>
          <p:nvPr/>
        </p:nvGrpSpPr>
        <p:grpSpPr>
          <a:xfrm>
            <a:off x="3492360" y="2781360"/>
            <a:ext cx="265320" cy="218880"/>
            <a:chOff x="3492360" y="2781360"/>
            <a:chExt cx="265320" cy="218880"/>
          </a:xfrm>
        </p:grpSpPr>
        <p:sp>
          <p:nvSpPr>
            <p:cNvPr id="383" name="Line 29"/>
            <p:cNvSpPr/>
            <p:nvPr/>
          </p:nvSpPr>
          <p:spPr>
            <a:xfrm>
              <a:off x="3625200" y="278136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30"/>
            <p:cNvSpPr/>
            <p:nvPr/>
          </p:nvSpPr>
          <p:spPr>
            <a:xfrm>
              <a:off x="3492360" y="289116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Line 31"/>
          <p:cNvSpPr/>
          <p:nvPr/>
        </p:nvSpPr>
        <p:spPr>
          <a:xfrm>
            <a:off x="6227640" y="29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32"/>
          <p:cNvGrpSpPr/>
          <p:nvPr/>
        </p:nvGrpSpPr>
        <p:grpSpPr>
          <a:xfrm>
            <a:off x="1763640" y="2997360"/>
            <a:ext cx="6481800" cy="936360"/>
            <a:chOff x="1763640" y="2997360"/>
            <a:chExt cx="6481800" cy="936360"/>
          </a:xfrm>
        </p:grpSpPr>
        <p:sp>
          <p:nvSpPr>
            <p:cNvPr id="387" name="Line 33"/>
            <p:cNvSpPr/>
            <p:nvPr/>
          </p:nvSpPr>
          <p:spPr>
            <a:xfrm>
              <a:off x="1763640" y="310824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4859280" y="299736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35"/>
                <p:cNvSpPr txBox="1"/>
                <p:nvPr/>
              </p:nvSpPr>
              <p:spPr>
                <a:xfrm>
                  <a:off x="4416480" y="3284640"/>
                  <a:ext cx="9097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1403280" y="476280"/>
            <a:ext cx="219240" cy="431640"/>
          </a:xfrm>
          <a:custGeom>
            <a:avLst/>
            <a:gdLst>
              <a:gd name="textAreaLeft" fmla="*/ 10440 w 219240"/>
              <a:gd name="textAreaRight" fmla="*/ 208800 w 21924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2492">
                <a:moveTo>
                  <a:pt x="3600" y="0"/>
                </a:moveTo>
                <a:arcTo wR="3600" hR="3600" stAng="16200000" swAng="-5400000"/>
                <a:lnTo>
                  <a:pt x="0" y="38892"/>
                </a:lnTo>
                <a:arcTo wR="3600" hR="3600" stAng="10800000" swAng="-5400000"/>
                <a:lnTo>
                  <a:pt x="18000" y="42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476280"/>
            <a:ext cx="129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476280"/>
            <a:ext cx="431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4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4067280" y="2133720"/>
                <a:ext cx="2530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659640" y="2205000"/>
                <a:ext cx="104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843280" y="2997360"/>
            <a:ext cx="216000" cy="21564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059280" y="765000"/>
            <a:ext cx="2736720" cy="2232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4284720" y="4005360"/>
                <a:ext cx="2616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282920" y="4941720"/>
                <a:ext cx="150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4211640" y="5805360"/>
                <a:ext cx="2714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77344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96000" y="4941720"/>
                <a:ext cx="1406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7236000" y="5157720"/>
                <a:ext cx="420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39"/>
          <p:cNvSpPr/>
          <p:nvPr/>
        </p:nvSpPr>
        <p:spPr>
          <a:xfrm>
            <a:off x="5508720" y="836640"/>
            <a:ext cx="36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+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0 – 1)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+ 0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Rectangle 39"/>
          <p:cNvSpPr/>
          <p:nvPr/>
        </p:nvSpPr>
        <p:spPr>
          <a:xfrm>
            <a:off x="7956720" y="1700280"/>
            <a:ext cx="11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203640" y="981000"/>
                <a:ext cx="45370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1187280" y="333360"/>
                <a:ext cx="257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8"/>
              <p:cNvSpPr txBox="1"/>
              <p:nvPr/>
            </p:nvSpPr>
            <p:spPr>
              <a:xfrm>
                <a:off x="1258920" y="3213000"/>
                <a:ext cx="2943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3132000" y="3860640"/>
                <a:ext cx="5351760" cy="28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:</m:t>
                            </m:r>
                            <m:r>
                              <m:t xml:space="preserve">3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89000"/>
                <a:ext cx="4368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187280" y="3573360"/>
                <a:ext cx="4187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3203640" y="722160"/>
                <a:ext cx="439272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203640" y="4103640"/>
                <a:ext cx="568944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1187280" y="260280"/>
                <a:ext cx="306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1187280" y="3716280"/>
                <a:ext cx="373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3276720" y="836640"/>
                <a:ext cx="539892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2195640" y="4581360"/>
                <a:ext cx="6948360" cy="18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∓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úloha  nemá  řešení  pro  žádné 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187280" y="620640"/>
                <a:ext cx="476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2627280" y="1341360"/>
                <a:ext cx="633564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2205000"/>
          <a:ext cx="7416720" cy="3894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parametr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;  Diskriminant; Parametr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700280"/>
            <a:ext cx="79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hodněte, pro které hodnoty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jí dané kvadrat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dva reálné kořeny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jeden tzv. dvojnásobný reálný kořen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 imaginární kořeny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723960" indent="-723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ajděte tyto koře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042920" y="33336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parametrem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16"/>
              <p:cNvSpPr txBox="1"/>
              <p:nvPr/>
            </p:nvSpPr>
            <p:spPr>
              <a:xfrm>
                <a:off x="6948360" y="1197000"/>
                <a:ext cx="1683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900000" y="260280"/>
                <a:ext cx="303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1332000" y="981000"/>
                <a:ext cx="2152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101600" y="3213000"/>
            <a:ext cx="5894640" cy="482760"/>
            <a:chOff x="1101600" y="3213000"/>
            <a:chExt cx="5894640" cy="482760"/>
          </a:xfrm>
        </p:grpSpPr>
        <mc:AlternateContent>
          <mc:Choice xmlns:a14="http://schemas.microsoft.com/office/drawing/2010/main" Requires="a14">
            <p:sp>
              <p:nvSpPr>
                <p:cNvPr id="147" name="Object 17"/>
                <p:cNvSpPr txBox="1"/>
                <p:nvPr/>
              </p:nvSpPr>
              <p:spPr>
                <a:xfrm>
                  <a:off x="1101600" y="3213000"/>
                  <a:ext cx="13035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8"/>
                <p:cNvSpPr txBox="1"/>
                <p:nvPr/>
              </p:nvSpPr>
              <p:spPr>
                <a:xfrm>
                  <a:off x="3924360" y="3213000"/>
                  <a:ext cx="13032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9"/>
                <p:cNvSpPr txBox="1"/>
                <p:nvPr/>
              </p:nvSpPr>
              <p:spPr>
                <a:xfrm>
                  <a:off x="5724360" y="3213000"/>
                  <a:ext cx="1271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D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403280" y="3860640"/>
                <a:ext cx="18478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7"/>
              <p:cNvSpPr txBox="1"/>
              <p:nvPr/>
            </p:nvSpPr>
            <p:spPr>
              <a:xfrm>
                <a:off x="4356000" y="3862440"/>
                <a:ext cx="1000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6012000" y="3860640"/>
                <a:ext cx="1644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Group 40"/>
          <p:cNvGrpSpPr/>
          <p:nvPr/>
        </p:nvGrpSpPr>
        <p:grpSpPr>
          <a:xfrm>
            <a:off x="3132000" y="1700280"/>
            <a:ext cx="265320" cy="218880"/>
            <a:chOff x="3132000" y="1700280"/>
            <a:chExt cx="265320" cy="218880"/>
          </a:xfrm>
        </p:grpSpPr>
        <p:sp>
          <p:nvSpPr>
            <p:cNvPr id="154" name="Line 41"/>
            <p:cNvSpPr/>
            <p:nvPr/>
          </p:nvSpPr>
          <p:spPr>
            <a:xfrm>
              <a:off x="3264840" y="1700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3132000" y="1810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6" name="Line 43"/>
          <p:cNvSpPr/>
          <p:nvPr/>
        </p:nvSpPr>
        <p:spPr>
          <a:xfrm>
            <a:off x="6516720" y="184464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763640" y="1989000"/>
            <a:ext cx="6481800" cy="936360"/>
            <a:chOff x="1763640" y="1989000"/>
            <a:chExt cx="6481800" cy="936360"/>
          </a:xfrm>
        </p:grpSpPr>
        <p:sp>
          <p:nvSpPr>
            <p:cNvPr id="158" name="Line 31"/>
            <p:cNvSpPr/>
            <p:nvPr/>
          </p:nvSpPr>
          <p:spPr>
            <a:xfrm>
              <a:off x="1763640" y="209988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4859280" y="198900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34"/>
                <p:cNvSpPr txBox="1"/>
                <p:nvPr/>
              </p:nvSpPr>
              <p:spPr>
                <a:xfrm>
                  <a:off x="4340160" y="2276280"/>
                  <a:ext cx="1063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148360" y="406440"/>
                <a:ext cx="87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5940360" y="333360"/>
                <a:ext cx="157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453440" y="476280"/>
                <a:ext cx="1030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3492360" y="981000"/>
                <a:ext cx="1425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4284720" y="5300640"/>
                <a:ext cx="1307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1403280" y="5300640"/>
                <a:ext cx="2668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8"/>
              <p:cNvSpPr txBox="1"/>
              <p:nvPr/>
            </p:nvSpPr>
            <p:spPr>
              <a:xfrm>
                <a:off x="5940360" y="5300640"/>
                <a:ext cx="277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7524720" y="1628640"/>
                <a:ext cx="1582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H="1">
            <a:off x="6948000" y="1628640"/>
            <a:ext cx="792360" cy="216000"/>
          </a:xfrm>
          <a:prstGeom prst="line">
            <a:avLst/>
          </a:prstGeom>
          <a:ln w="284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1700280"/>
            <a:ext cx="433440" cy="287280"/>
          </a:xfrm>
          <a:prstGeom prst="ellipse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1332000" y="5229360"/>
                <a:ext cx="23032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4211640" y="5300640"/>
                <a:ext cx="1440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940360" y="5157720"/>
                <a:ext cx="24256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84720" y="2276640"/>
            <a:ext cx="11509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3860640"/>
            <a:ext cx="11509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860640"/>
            <a:ext cx="1944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860640"/>
            <a:ext cx="172728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1989000"/>
            <a:ext cx="108108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88000" y="3068640"/>
            <a:ext cx="0" cy="217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88000" y="1989000"/>
            <a:ext cx="0" cy="12240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781360"/>
            <a:ext cx="0" cy="9349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2627280" y="2060640"/>
                <a:ext cx="100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6732720" y="2060640"/>
                <a:ext cx="84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76720" y="5300640"/>
            <a:ext cx="503280" cy="9349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934920"/>
              <a:gd name="textAreaBottom" fmla="*/ 910440 h 934920"/>
            </a:gdLst>
            <a:ahLst/>
            <a:rect l="textAreaLeft" t="textAreaTop" r="textAreaRight" b="textAreaBottom"/>
            <a:pathLst>
              <a:path w="21600" h="40112">
                <a:moveTo>
                  <a:pt x="3600" y="0"/>
                </a:moveTo>
                <a:arcTo wR="3600" hR="3600" stAng="16200000" swAng="-5400000"/>
                <a:lnTo>
                  <a:pt x="0" y="36512"/>
                </a:lnTo>
                <a:arcTo wR="3600" hR="3600" stAng="10800000" swAng="-5400000"/>
                <a:lnTo>
                  <a:pt x="18000" y="401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7640" y="5216400"/>
            <a:ext cx="1536480" cy="109080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5445000"/>
            <a:ext cx="1008000" cy="28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5445000"/>
            <a:ext cx="93492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5229360"/>
            <a:ext cx="1536840" cy="1090440"/>
          </a:xfrm>
          <a:custGeom>
            <a:avLst/>
            <a:gdLst/>
            <a:ahLst/>
            <a:rect l="l" t="t" r="r" b="b"/>
            <a:pathLst>
              <a:path w="968" h="687">
                <a:moveTo>
                  <a:pt x="68" y="53"/>
                </a:moveTo>
                <a:cubicBezTo>
                  <a:pt x="0" y="106"/>
                  <a:pt x="53" y="302"/>
                  <a:pt x="68" y="370"/>
                </a:cubicBezTo>
                <a:cubicBezTo>
                  <a:pt x="83" y="438"/>
                  <a:pt x="91" y="446"/>
                  <a:pt x="159" y="461"/>
                </a:cubicBezTo>
                <a:cubicBezTo>
                  <a:pt x="227" y="476"/>
                  <a:pt x="423" y="431"/>
                  <a:pt x="476" y="461"/>
                </a:cubicBezTo>
                <a:cubicBezTo>
                  <a:pt x="529" y="491"/>
                  <a:pt x="416" y="612"/>
                  <a:pt x="476" y="642"/>
                </a:cubicBezTo>
                <a:cubicBezTo>
                  <a:pt x="536" y="672"/>
                  <a:pt x="771" y="687"/>
                  <a:pt x="839" y="642"/>
                </a:cubicBezTo>
                <a:cubicBezTo>
                  <a:pt x="907" y="597"/>
                  <a:pt x="968" y="423"/>
                  <a:pt x="885" y="370"/>
                </a:cubicBezTo>
                <a:cubicBezTo>
                  <a:pt x="802" y="317"/>
                  <a:pt x="408" y="378"/>
                  <a:pt x="340" y="325"/>
                </a:cubicBezTo>
                <a:cubicBezTo>
                  <a:pt x="272" y="272"/>
                  <a:pt x="521" y="98"/>
                  <a:pt x="476" y="53"/>
                </a:cubicBezTo>
                <a:cubicBezTo>
                  <a:pt x="431" y="8"/>
                  <a:pt x="136" y="0"/>
                  <a:pt x="68" y="53"/>
                </a:cubicBez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2060640"/>
            <a:ext cx="0" cy="3384360"/>
          </a:xfrm>
          <a:prstGeom prst="line">
            <a:avLst/>
          </a:prstGeom>
          <a:ln w="28440">
            <a:solidFill>
              <a:srgbClr val="ff66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5640" y="1628640"/>
            <a:ext cx="136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94172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</a:rPr>
              <a:t>opačné výrazy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6237360"/>
            <a:ext cx="19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6237360"/>
            <a:ext cx="19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Times New Roman"/>
              </a:rPr>
              <a:t>stejné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71640" y="404640"/>
                <a:ext cx="2878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3492360" y="1052640"/>
                <a:ext cx="1100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1403280" y="3357720"/>
                <a:ext cx="3748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3"/>
              <p:cNvSpPr txBox="1"/>
              <p:nvPr/>
            </p:nvSpPr>
            <p:spPr>
              <a:xfrm>
                <a:off x="1403280" y="5084640"/>
                <a:ext cx="174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6012000" y="5013360"/>
                <a:ext cx="2544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Group 20"/>
          <p:cNvGrpSpPr/>
          <p:nvPr/>
        </p:nvGrpSpPr>
        <p:grpSpPr>
          <a:xfrm>
            <a:off x="1763640" y="2205000"/>
            <a:ext cx="6481800" cy="576360"/>
            <a:chOff x="1763640" y="2205000"/>
            <a:chExt cx="6481800" cy="576360"/>
          </a:xfrm>
        </p:grpSpPr>
        <p:sp>
          <p:nvSpPr>
            <p:cNvPr id="204" name="Line 15"/>
            <p:cNvSpPr/>
            <p:nvPr/>
          </p:nvSpPr>
          <p:spPr>
            <a:xfrm>
              <a:off x="1763640" y="231552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354996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5996520" y="2205000"/>
              <a:ext cx="0" cy="219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18"/>
                <p:cNvSpPr txBox="1"/>
                <p:nvPr/>
              </p:nvSpPr>
              <p:spPr>
                <a:xfrm>
                  <a:off x="2874600" y="2426400"/>
                  <a:ext cx="141732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19"/>
                <p:cNvSpPr txBox="1"/>
                <p:nvPr/>
              </p:nvSpPr>
              <p:spPr>
                <a:xfrm>
                  <a:off x="5256000" y="2426400"/>
                  <a:ext cx="14158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Group 27"/>
          <p:cNvGrpSpPr/>
          <p:nvPr/>
        </p:nvGrpSpPr>
        <p:grpSpPr>
          <a:xfrm>
            <a:off x="7126200" y="1916280"/>
            <a:ext cx="265320" cy="218880"/>
            <a:chOff x="7126200" y="1916280"/>
            <a:chExt cx="265320" cy="218880"/>
          </a:xfrm>
        </p:grpSpPr>
        <p:sp>
          <p:nvSpPr>
            <p:cNvPr id="210" name="Line 21"/>
            <p:cNvSpPr/>
            <p:nvPr/>
          </p:nvSpPr>
          <p:spPr>
            <a:xfrm>
              <a:off x="725868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7126200" y="202608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2629080" y="1916280"/>
            <a:ext cx="264960" cy="218880"/>
            <a:chOff x="2629080" y="1916280"/>
            <a:chExt cx="264960" cy="218880"/>
          </a:xfrm>
        </p:grpSpPr>
        <p:sp>
          <p:nvSpPr>
            <p:cNvPr id="213" name="Line 23"/>
            <p:cNvSpPr/>
            <p:nvPr/>
          </p:nvSpPr>
          <p:spPr>
            <a:xfrm>
              <a:off x="2761560" y="191628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2629080" y="202608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Line 26"/>
          <p:cNvSpPr/>
          <p:nvPr/>
        </p:nvSpPr>
        <p:spPr>
          <a:xfrm>
            <a:off x="4678200" y="202572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476280"/>
            <a:ext cx="216000" cy="431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431640"/>
              <a:gd name="textAreaBottom" fmla="*/ 421200 h 431640"/>
            </a:gdLst>
            <a:ahLst/>
            <a:rect l="textAreaLeft" t="textAreaTop" r="textAreaRight" b="textAreaBottom"/>
            <a:pathLst>
              <a:path w="21600" h="43128">
                <a:moveTo>
                  <a:pt x="3600" y="0"/>
                </a:moveTo>
                <a:arcTo wR="3600" hR="3600" stAng="16200000" swAng="-5400000"/>
                <a:lnTo>
                  <a:pt x="0" y="39528"/>
                </a:lnTo>
                <a:arcTo wR="3600" hR="3600" stAng="10800000" swAng="-5400000"/>
                <a:lnTo>
                  <a:pt x="18000" y="43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76280"/>
            <a:ext cx="505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1403280" y="1052640"/>
                <a:ext cx="2090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1052640"/>
                <a:ext cx="2309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7524720" y="1052640"/>
                <a:ext cx="1430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835280" y="5589720"/>
                <a:ext cx="1150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763640" y="3933720"/>
                <a:ext cx="2463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6300720" y="5516640"/>
                <a:ext cx="2411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2987640" y="5516640"/>
                <a:ext cx="1104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∓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067280" y="5516640"/>
                <a:ext cx="936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732720" y="1341360"/>
            <a:ext cx="718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284640"/>
            <a:ext cx="3384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84464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184464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084640"/>
            <a:ext cx="1368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42100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941720"/>
            <a:ext cx="2160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464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9"/>
          <p:cNvSpPr/>
          <p:nvPr/>
        </p:nvSpPr>
        <p:spPr>
          <a:xfrm>
            <a:off x="6659640" y="1052640"/>
            <a:ext cx="248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klad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71640" y="189000"/>
                <a:ext cx="333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403280" y="1989000"/>
                <a:ext cx="3273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258920" y="4365720"/>
                <a:ext cx="1368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4"/>
              <p:cNvSpPr txBox="1"/>
              <p:nvPr/>
            </p:nvSpPr>
            <p:spPr>
              <a:xfrm>
                <a:off x="1371600" y="893880"/>
                <a:ext cx="324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1763640" y="3429000"/>
                <a:ext cx="24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39"/>
          <p:cNvSpPr/>
          <p:nvPr/>
        </p:nvSpPr>
        <p:spPr>
          <a:xfrm>
            <a:off x="1258920" y="587700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, 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1692360" y="4869000"/>
                <a:ext cx="40291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4643280" y="1989000"/>
                <a:ext cx="2062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6804000" y="2133720"/>
                <a:ext cx="7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5400000">
            <a:off x="5436360" y="2204280"/>
            <a:ext cx="71280" cy="936720"/>
          </a:xfrm>
          <a:custGeom>
            <a:avLst/>
            <a:gdLst>
              <a:gd name="textAreaLeft" fmla="*/ 0 w 71280"/>
              <a:gd name="textAreaRight" fmla="*/ 2556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27"/>
          <p:cNvGrpSpPr/>
          <p:nvPr/>
        </p:nvGrpSpPr>
        <p:grpSpPr>
          <a:xfrm>
            <a:off x="5364000" y="2781360"/>
            <a:ext cx="193680" cy="216000"/>
            <a:chOff x="5364000" y="2781360"/>
            <a:chExt cx="193680" cy="216000"/>
          </a:xfrm>
        </p:grpSpPr>
        <p:sp>
          <p:nvSpPr>
            <p:cNvPr id="251" name="Line 21"/>
            <p:cNvSpPr/>
            <p:nvPr/>
          </p:nvSpPr>
          <p:spPr>
            <a:xfrm>
              <a:off x="5460840" y="278136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2"/>
            <p:cNvSpPr/>
            <p:nvPr/>
          </p:nvSpPr>
          <p:spPr>
            <a:xfrm>
              <a:off x="5364000" y="2889720"/>
              <a:ext cx="1936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332000" y="907920"/>
            <a:ext cx="288720" cy="50328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503280"/>
              <a:gd name="textAreaBottom" fmla="*/ 489240 h 503280"/>
            </a:gdLst>
            <a:ahLst/>
            <a:rect l="textAreaLeft" t="textAreaTop" r="textAreaRight" b="textAreaBottom"/>
            <a:pathLst>
              <a:path w="21600" h="37632">
                <a:moveTo>
                  <a:pt x="3600" y="0"/>
                </a:moveTo>
                <a:arcTo wR="3600" hR="3600" stAng="16200000" swAng="-5400000"/>
                <a:lnTo>
                  <a:pt x="0" y="34032"/>
                </a:lnTo>
                <a:arcTo wR="3600" hR="3600" stAng="10800000" swAng="-5400000"/>
                <a:lnTo>
                  <a:pt x="18000" y="37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90792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90792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14842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8"/>
              <p:cNvSpPr txBox="1"/>
              <p:nvPr/>
            </p:nvSpPr>
            <p:spPr>
              <a:xfrm>
                <a:off x="4211640" y="3429000"/>
                <a:ext cx="203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H="1">
            <a:off x="2771280" y="1773360"/>
            <a:ext cx="3816360" cy="2735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6732720" y="3068640"/>
            <a:ext cx="19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neexistu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93080" y="155736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2492280"/>
            <a:ext cx="0" cy="576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971640" y="404640"/>
                <a:ext cx="3058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403280" y="4724280"/>
                <a:ext cx="146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6156360" y="4724280"/>
                <a:ext cx="15429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Group 20"/>
          <p:cNvGrpSpPr/>
          <p:nvPr/>
        </p:nvGrpSpPr>
        <p:grpSpPr>
          <a:xfrm>
            <a:off x="1763640" y="2060640"/>
            <a:ext cx="6481800" cy="543960"/>
            <a:chOff x="1763640" y="2060640"/>
            <a:chExt cx="6481800" cy="543960"/>
          </a:xfrm>
        </p:grpSpPr>
        <p:sp>
          <p:nvSpPr>
            <p:cNvPr id="268" name="Line 15"/>
            <p:cNvSpPr/>
            <p:nvPr/>
          </p:nvSpPr>
          <p:spPr>
            <a:xfrm>
              <a:off x="1763640" y="217080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354996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5996520" y="2060640"/>
              <a:ext cx="0" cy="219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18"/>
                <p:cNvSpPr txBox="1"/>
                <p:nvPr/>
              </p:nvSpPr>
              <p:spPr>
                <a:xfrm>
                  <a:off x="3152880" y="2310840"/>
                  <a:ext cx="860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19"/>
                <p:cNvSpPr txBox="1"/>
                <p:nvPr/>
              </p:nvSpPr>
              <p:spPr>
                <a:xfrm>
                  <a:off x="5546160" y="2310840"/>
                  <a:ext cx="835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7"/>
          <p:cNvGrpSpPr/>
          <p:nvPr/>
        </p:nvGrpSpPr>
        <p:grpSpPr>
          <a:xfrm>
            <a:off x="7126200" y="1771560"/>
            <a:ext cx="265320" cy="219240"/>
            <a:chOff x="7126200" y="1771560"/>
            <a:chExt cx="265320" cy="219240"/>
          </a:xfrm>
        </p:grpSpPr>
        <p:sp>
          <p:nvSpPr>
            <p:cNvPr id="274" name="Line 21"/>
            <p:cNvSpPr/>
            <p:nvPr/>
          </p:nvSpPr>
          <p:spPr>
            <a:xfrm>
              <a:off x="725868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7126200" y="188172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2629080" y="1771560"/>
            <a:ext cx="264960" cy="219240"/>
            <a:chOff x="2629080" y="1771560"/>
            <a:chExt cx="264960" cy="219240"/>
          </a:xfrm>
        </p:grpSpPr>
        <p:sp>
          <p:nvSpPr>
            <p:cNvPr id="277" name="Line 23"/>
            <p:cNvSpPr/>
            <p:nvPr/>
          </p:nvSpPr>
          <p:spPr>
            <a:xfrm>
              <a:off x="2761560" y="1771560"/>
              <a:ext cx="0" cy="219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2629080" y="1881720"/>
              <a:ext cx="2649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26"/>
          <p:cNvSpPr/>
          <p:nvPr/>
        </p:nvSpPr>
        <p:spPr>
          <a:xfrm>
            <a:off x="4678200" y="1881360"/>
            <a:ext cx="266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476280"/>
            <a:ext cx="433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5280" y="5516640"/>
                <a:ext cx="984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6499080" y="5203800"/>
                <a:ext cx="22892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63640" y="2995560"/>
            <a:ext cx="252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1700280"/>
            <a:ext cx="50328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1700280"/>
            <a:ext cx="504720" cy="36036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4724280"/>
            <a:ext cx="1079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27664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21400" y="462744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700280"/>
            <a:ext cx="504720" cy="3603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332000" y="1052640"/>
                <a:ext cx="240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80000" y="1052640"/>
                <a:ext cx="1688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151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403280" y="3068640"/>
                <a:ext cx="2849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63640" y="3571920"/>
                <a:ext cx="2668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4427640" y="3571920"/>
                <a:ext cx="1822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3348000" y="5013360"/>
                <a:ext cx="1727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348000" y="5854680"/>
                <a:ext cx="1671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 flipV="1">
            <a:off x="2916360" y="5589720"/>
            <a:ext cx="360360" cy="287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594828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42920" y="404640"/>
                <a:ext cx="366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403280" y="981000"/>
                <a:ext cx="2833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00080" y="3789360"/>
                <a:ext cx="3295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971640" y="4848120"/>
                <a:ext cx="2670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965160" y="5958000"/>
                <a:ext cx="286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14"/>
          <p:cNvGrpSpPr/>
          <p:nvPr/>
        </p:nvGrpSpPr>
        <p:grpSpPr>
          <a:xfrm>
            <a:off x="6300720" y="2421000"/>
            <a:ext cx="265320" cy="218880"/>
            <a:chOff x="6300720" y="2421000"/>
            <a:chExt cx="265320" cy="218880"/>
          </a:xfrm>
        </p:grpSpPr>
        <p:sp>
          <p:nvSpPr>
            <p:cNvPr id="312" name="Line 15"/>
            <p:cNvSpPr/>
            <p:nvPr/>
          </p:nvSpPr>
          <p:spPr>
            <a:xfrm>
              <a:off x="6433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630072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17"/>
          <p:cNvGrpSpPr/>
          <p:nvPr/>
        </p:nvGrpSpPr>
        <p:grpSpPr>
          <a:xfrm>
            <a:off x="2268360" y="2421000"/>
            <a:ext cx="265320" cy="218880"/>
            <a:chOff x="2268360" y="2421000"/>
            <a:chExt cx="265320" cy="218880"/>
          </a:xfrm>
        </p:grpSpPr>
        <p:sp>
          <p:nvSpPr>
            <p:cNvPr id="315" name="Line 18"/>
            <p:cNvSpPr/>
            <p:nvPr/>
          </p:nvSpPr>
          <p:spPr>
            <a:xfrm>
              <a:off x="2401200" y="2421000"/>
              <a:ext cx="0" cy="218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2268360" y="2530800"/>
              <a:ext cx="265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Line 20"/>
          <p:cNvSpPr/>
          <p:nvPr/>
        </p:nvSpPr>
        <p:spPr>
          <a:xfrm>
            <a:off x="4245120" y="2530440"/>
            <a:ext cx="2664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6321600" y="1628640"/>
                <a:ext cx="282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7415280" y="2060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0" name="Group 29"/>
          <p:cNvGrpSpPr/>
          <p:nvPr/>
        </p:nvGrpSpPr>
        <p:grpSpPr>
          <a:xfrm>
            <a:off x="1330200" y="2709720"/>
            <a:ext cx="6481800" cy="857160"/>
            <a:chOff x="1330200" y="2709720"/>
            <a:chExt cx="6481800" cy="857160"/>
          </a:xfrm>
        </p:grpSpPr>
        <p:sp>
          <p:nvSpPr>
            <p:cNvPr id="321" name="Line 8"/>
            <p:cNvSpPr/>
            <p:nvPr/>
          </p:nvSpPr>
          <p:spPr>
            <a:xfrm>
              <a:off x="1330200" y="2820960"/>
              <a:ext cx="648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311616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563800" y="2709720"/>
              <a:ext cx="0" cy="2206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12"/>
                <p:cNvSpPr txBox="1"/>
                <p:nvPr/>
              </p:nvSpPr>
              <p:spPr>
                <a:xfrm>
                  <a:off x="4903560" y="2854080"/>
                  <a:ext cx="16891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28"/>
                <p:cNvSpPr txBox="1"/>
                <p:nvPr/>
              </p:nvSpPr>
              <p:spPr>
                <a:xfrm>
                  <a:off x="2466720" y="2854080"/>
                  <a:ext cx="1665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B</m:t>
                      </m:r>
                      <m:r>
                        <m:t xml:space="preserve">: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76280"/>
            <a:ext cx="289080" cy="4316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39">
                <a:moveTo>
                  <a:pt x="3600" y="0"/>
                </a:moveTo>
                <a:arcTo wR="3600" hR="3600" stAng="16200000" swAng="-5400000"/>
                <a:lnTo>
                  <a:pt x="0" y="28639"/>
                </a:lnTo>
                <a:arcTo wR="3600" hR="3600" stAng="10800000" swAng="-5400000"/>
                <a:lnTo>
                  <a:pt x="18000" y="32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76280"/>
            <a:ext cx="6494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7628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1440" y="18900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8900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211640" y="981000"/>
                <a:ext cx="2144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6372360" y="981000"/>
                <a:ext cx="2008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7522920" y="837720"/>
            <a:ext cx="145800" cy="1295640"/>
          </a:xfrm>
          <a:custGeom>
            <a:avLst/>
            <a:gdLst>
              <a:gd name="textAreaLeft" fmla="*/ 0 w 145800"/>
              <a:gd name="textAreaRight" fmla="*/ 52560 w 1458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50"/>
                </a:lnTo>
                <a:cubicBezTo>
                  <a:pt x="10800" y="9450"/>
                  <a:pt x="16200" y="10350"/>
                  <a:pt x="21600" y="10350"/>
                </a:cubicBezTo>
                <a:cubicBezTo>
                  <a:pt x="16200" y="10350"/>
                  <a:pt x="10800" y="11250"/>
                  <a:pt x="10800" y="121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284720" y="3716280"/>
                <a:ext cx="2806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7093080" y="3716280"/>
                <a:ext cx="2050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4284720" y="4941720"/>
                <a:ext cx="882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796000" y="4508640"/>
                <a:ext cx="14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5796000" y="5157720"/>
                <a:ext cx="1442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284720" y="5950080"/>
                <a:ext cx="2390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5364000" y="4941360"/>
            <a:ext cx="36036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5300640"/>
            <a:ext cx="360360" cy="216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900000" y="260280"/>
                <a:ext cx="3211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1332000" y="2173320"/>
                <a:ext cx="2833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1332000" y="765000"/>
                <a:ext cx="3695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2284560" y="1542960"/>
                <a:ext cx="3089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8"/>
              <p:cNvSpPr txBox="1"/>
              <p:nvPr/>
            </p:nvSpPr>
            <p:spPr>
              <a:xfrm>
                <a:off x="1187280" y="37162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1187280" y="5445000"/>
                <a:ext cx="1489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ba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2197080" y="155736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720" y="1557360"/>
            <a:ext cx="430200" cy="504720"/>
          </a:xfrm>
          <a:custGeom>
            <a:avLst/>
            <a:gdLst>
              <a:gd name="textAreaLeft" fmla="*/ 20880 w 430200"/>
              <a:gd name="textAreaRight" fmla="*/ 409320 w 43020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155736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9708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4560" y="1270080"/>
            <a:ext cx="336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270080"/>
            <a:ext cx="336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867280" y="2173320"/>
                <a:ext cx="137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140360" y="2173320"/>
                <a:ext cx="1787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39"/>
          <p:cNvSpPr/>
          <p:nvPr/>
        </p:nvSpPr>
        <p:spPr>
          <a:xfrm>
            <a:off x="6659640" y="876240"/>
            <a:ext cx="24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iskriminant bude vždy nezápor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236000" y="22766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39"/>
          <p:cNvSpPr/>
          <p:nvPr/>
        </p:nvSpPr>
        <p:spPr>
          <a:xfrm>
            <a:off x="6877080" y="2965320"/>
            <a:ext cx="126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NB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08720" y="1739880"/>
            <a:ext cx="0" cy="503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2747880"/>
            <a:ext cx="0" cy="289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8"/>
              <p:cNvSpPr txBox="1"/>
              <p:nvPr/>
            </p:nvSpPr>
            <p:spPr>
              <a:xfrm>
                <a:off x="3276720" y="3413160"/>
                <a:ext cx="2374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8"/>
              <p:cNvSpPr txBox="1"/>
              <p:nvPr/>
            </p:nvSpPr>
            <p:spPr>
              <a:xfrm>
                <a:off x="5580000" y="4005360"/>
                <a:ext cx="16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276720" y="5229360"/>
                <a:ext cx="18000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39"/>
          <p:cNvSpPr/>
          <p:nvPr/>
        </p:nvSpPr>
        <p:spPr>
          <a:xfrm>
            <a:off x="1116000" y="6021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úloha nemá řešení pro žádný reálný paramet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8"/>
              <p:cNvSpPr txBox="1"/>
              <p:nvPr/>
            </p:nvSpPr>
            <p:spPr>
              <a:xfrm>
                <a:off x="3276720" y="4338720"/>
                <a:ext cx="2009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5435640" y="4508280"/>
            <a:ext cx="216000" cy="21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35640" y="4795920"/>
            <a:ext cx="216000" cy="217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8"/>
              <p:cNvSpPr txBox="1"/>
              <p:nvPr/>
            </p:nvSpPr>
            <p:spPr>
              <a:xfrm>
                <a:off x="7308720" y="4005360"/>
                <a:ext cx="1043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8"/>
              <p:cNvSpPr txBox="1"/>
              <p:nvPr/>
            </p:nvSpPr>
            <p:spPr>
              <a:xfrm>
                <a:off x="8369280" y="4149720"/>
                <a:ext cx="774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8"/>
              <p:cNvSpPr txBox="1"/>
              <p:nvPr/>
            </p:nvSpPr>
            <p:spPr>
              <a:xfrm>
                <a:off x="5580000" y="4724280"/>
                <a:ext cx="1719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8"/>
              <p:cNvSpPr txBox="1"/>
              <p:nvPr/>
            </p:nvSpPr>
            <p:spPr>
              <a:xfrm>
                <a:off x="7380360" y="4724280"/>
                <a:ext cx="604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8"/>
              <p:cNvSpPr txBox="1"/>
              <p:nvPr/>
            </p:nvSpPr>
            <p:spPr>
              <a:xfrm>
                <a:off x="8101080" y="4941720"/>
                <a:ext cx="41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H="1">
            <a:off x="2626920" y="1484280"/>
            <a:ext cx="4249800" cy="2232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700360" y="1557360"/>
            <a:ext cx="4176720" cy="3959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40Z</dcterms:modified>
  <cp:revision>295</cp:revision>
  <dc:subject/>
  <dc:title>KČ</dc:title>
</cp:coreProperties>
</file>