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E07A-F890-4725-9FE9-01B34902C7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CE52-DDD7-45C3-BF63-DAAC007B10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2571-D53C-4B0D-82D7-56DE216B552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F18D-DB78-4FE7-B114-204228F31E0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79E0-60D7-4705-9B2D-E3C46B56F3D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35B-1030-4482-B904-CBCC3EB0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C6F-5AEE-40DB-8E96-5B5D7A6B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06F-205A-40A9-AAF0-C1DE8F16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0C0-4521-47C5-9139-A186455F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6DBB-C12B-451C-85A2-9CE5189D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9D1B-B25C-43C2-890A-0AE99AC3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D403-715A-4761-BD2D-E51D2E49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73A1-3086-4EAA-95C2-BF1F9398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85C5-2102-4991-A86C-8D93EA65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F338-0B03-49FB-8EA6-E651063F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ECC0-ED8E-4F16-AB2D-FE84C9FB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022-9CD4-4D42-BE6C-65BB283F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0610-7CCC-46E9-A4E0-12AD991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CB9C-05F5-4010-A935-497565EB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08AE-CE58-4F00-A0D1-E15421C2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680B-78CC-4223-8E87-038D07AF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88D5-0978-4E54-B5C8-CB11E1FD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1A2-B6D0-478E-8AD3-A058D440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29E-A91C-4A64-800F-71C3B193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774-3EE4-406B-A35F-02D21843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0AC-70B2-414E-AA5B-91B198BF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63F-EC27-4EFA-899F-4A87BC8B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D49-57E8-41A2-9B96-9DDD031A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63D-0B6B-4868-8932-E29559E8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94E8-CE12-4E69-98E2-2E55F674C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2F7D-8CE7-4971-8B11-36D720B74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opačné KČ k dané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476360" y="1557360"/>
                <a:ext cx="165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76360" y="2205000"/>
                <a:ext cx="182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76360" y="2852640"/>
                <a:ext cx="1820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995640" y="1557360"/>
                <a:ext cx="2149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021200" y="2227320"/>
                <a:ext cx="1917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052880" y="2873520"/>
                <a:ext cx="1887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405080" y="3568680"/>
                <a:ext cx="1622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476360" y="422100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333440" y="4797360"/>
                <a:ext cx="1225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95640" y="3573360"/>
                <a:ext cx="2151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067280" y="4221000"/>
                <a:ext cx="13557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924360" y="4797360"/>
                <a:ext cx="1322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373040" y="5445000"/>
                <a:ext cx="1424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924360" y="5445000"/>
                <a:ext cx="194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05080" y="6165720"/>
                <a:ext cx="1622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981600" y="6146640"/>
                <a:ext cx="1914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844640"/>
          <a:ext cx="7416720" cy="450360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la komplexně sdružená a opačn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ně sdružená a opačná komplexní čísla; Reálná a imaginární část komplexního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, v jakém vzájemném vztahu jsou obrazy daných dvojic KČ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zobrazte je nejprve v Gaussově rovině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4 + 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 – 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3 – 4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 + 4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6400"/>
                <a:tab algn="l" pos="214776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 2 + 5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2 + 5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18900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a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4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189000"/>
            <a:ext cx="52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76500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3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3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765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počátku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341360"/>
            <a:ext cx="31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2 +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–2 +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1341360"/>
            <a:ext cx="52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712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souměrné podle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6720" y="4076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6960" y="4964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924000" y="3068640"/>
            <a:ext cx="1368360" cy="165564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484000" y="4797360"/>
            <a:ext cx="1366920" cy="158292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3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57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6028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189000"/>
            <a:ext cx="3816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83664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765000"/>
            <a:ext cx="468144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41300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97360"/>
            <a:ext cx="0" cy="18414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24000" y="2997360"/>
            <a:ext cx="1439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53080" y="32846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+ 2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4740120"/>
            <a:ext cx="5580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84760" y="2030040"/>
            <a:ext cx="4680" cy="46832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22200" y="186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89440" y="466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1780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2795760"/>
            <a:ext cx="2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272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4667400"/>
            <a:ext cx="0" cy="144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850920" y="64533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50920" y="60357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50920" y="558972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50920" y="517212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50920" y="4308480"/>
            <a:ext cx="12060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50920" y="387684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50920" y="344340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850920" y="2563920"/>
            <a:ext cx="12060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50920" y="2997360"/>
            <a:ext cx="1206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2108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236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580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02160" y="4740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5800" y="409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5800" y="3659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25800" y="322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25800" y="242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25800" y="632448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5800" y="58928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5800" y="54594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5800" y="502776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7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7308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380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8720" y="47401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3860640"/>
            <a:ext cx="0" cy="8668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876840"/>
            <a:ext cx="1942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797360"/>
            <a:ext cx="0" cy="16560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6453360"/>
            <a:ext cx="14558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4724280"/>
            <a:ext cx="0" cy="86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5589720"/>
            <a:ext cx="1942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39640" y="6396120"/>
            <a:ext cx="120960" cy="109440"/>
            <a:chOff x="2339640" y="6396120"/>
            <a:chExt cx="120960" cy="109440"/>
          </a:xfrm>
        </p:grpSpPr>
        <p:sp>
          <p:nvSpPr>
            <p:cNvPr id="213" name=""/>
            <p:cNvSpPr/>
            <p:nvPr/>
          </p:nvSpPr>
          <p:spPr>
            <a:xfrm>
              <a:off x="2340000" y="6396120"/>
              <a:ext cx="120600" cy="109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339640" y="6396120"/>
              <a:ext cx="120600" cy="109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859280" y="2579760"/>
            <a:ext cx="0" cy="213660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000" y="2563920"/>
            <a:ext cx="934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579760"/>
            <a:ext cx="0" cy="21970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563920"/>
            <a:ext cx="952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42920" y="2508120"/>
            <a:ext cx="119520" cy="109800"/>
            <a:chOff x="2842920" y="2508120"/>
            <a:chExt cx="119520" cy="109800"/>
          </a:xfrm>
        </p:grpSpPr>
        <p:sp>
          <p:nvSpPr>
            <p:cNvPr id="220" name=""/>
            <p:cNvSpPr/>
            <p:nvPr/>
          </p:nvSpPr>
          <p:spPr>
            <a:xfrm>
              <a:off x="2843280" y="2508120"/>
              <a:ext cx="119160" cy="10980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842920" y="2508120"/>
              <a:ext cx="119160" cy="10980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787640" y="2508120"/>
            <a:ext cx="120960" cy="111240"/>
            <a:chOff x="4787640" y="2508120"/>
            <a:chExt cx="120960" cy="111240"/>
          </a:xfrm>
        </p:grpSpPr>
        <p:sp>
          <p:nvSpPr>
            <p:cNvPr id="223" name=""/>
            <p:cNvSpPr/>
            <p:nvPr/>
          </p:nvSpPr>
          <p:spPr>
            <a:xfrm>
              <a:off x="4788000" y="2508120"/>
              <a:ext cx="120600" cy="1112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787640" y="2508120"/>
              <a:ext cx="120600" cy="1112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92360" y="2924280"/>
            <a:ext cx="120960" cy="110880"/>
            <a:chOff x="5292360" y="2924280"/>
            <a:chExt cx="120960" cy="110880"/>
          </a:xfrm>
        </p:grpSpPr>
        <p:sp>
          <p:nvSpPr>
            <p:cNvPr id="226" name=""/>
            <p:cNvSpPr/>
            <p:nvPr/>
          </p:nvSpPr>
          <p:spPr>
            <a:xfrm>
              <a:off x="5292720" y="2924280"/>
              <a:ext cx="120600" cy="110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292360" y="2924280"/>
              <a:ext cx="120600" cy="110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95640" y="3803760"/>
            <a:ext cx="120960" cy="110880"/>
            <a:chOff x="5795640" y="3803760"/>
            <a:chExt cx="120960" cy="110880"/>
          </a:xfrm>
        </p:grpSpPr>
        <p:sp>
          <p:nvSpPr>
            <p:cNvPr id="229" name=""/>
            <p:cNvSpPr/>
            <p:nvPr/>
          </p:nvSpPr>
          <p:spPr>
            <a:xfrm>
              <a:off x="5796000" y="380376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795640" y="380376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95640" y="5516640"/>
            <a:ext cx="120960" cy="110880"/>
            <a:chOff x="5795640" y="5516640"/>
            <a:chExt cx="120960" cy="110880"/>
          </a:xfrm>
        </p:grpSpPr>
        <p:sp>
          <p:nvSpPr>
            <p:cNvPr id="232" name=""/>
            <p:cNvSpPr/>
            <p:nvPr/>
          </p:nvSpPr>
          <p:spPr>
            <a:xfrm>
              <a:off x="5796000" y="551664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795640" y="5516640"/>
              <a:ext cx="120600" cy="11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652720" y="5589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– 2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7080" y="25653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3 + 4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8160" y="1989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2 + 5</a:t>
            </a:r>
            <a:r>
              <a:rPr b="0" i="1" lang="en-US" sz="2800" spc="-1" strike="noStrike">
                <a:solidFill>
                  <a:srgbClr val="ff66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9440" y="198900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2 + 5</a:t>
            </a:r>
            <a:r>
              <a:rPr b="0" i="1" lang="en-US" sz="2800" spc="-1" strike="noStrike">
                <a:solidFill>
                  <a:srgbClr val="ff66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720" y="61657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3 – 4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6920" y="386064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472428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96040" y="3213000"/>
            <a:ext cx="3522960" cy="9471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33"/>
                </a:solidFill>
                <a:latin typeface="Times New Roman"/>
              </a:rPr>
              <a:t>KČ opačn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symetrická podle počátku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411280" y="2997360"/>
            <a:ext cx="2952720" cy="3456000"/>
          </a:xfrm>
          <a:prstGeom prst="line">
            <a:avLst/>
          </a:prstGeom>
          <a:ln w="7632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8200" y="4005360"/>
            <a:ext cx="3025800" cy="14850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KČ komplexně sdružená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(symetrická podle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916000" y="2563920"/>
            <a:ext cx="934920" cy="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924000" y="2563920"/>
            <a:ext cx="934920" cy="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780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1272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867280" y="3860280"/>
            <a:ext cx="0" cy="172908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16000" y="26028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omplexně sdružená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87280" y="1268280"/>
            <a:ext cx="7705800" cy="3168720"/>
            <a:chOff x="1187280" y="1268280"/>
            <a:chExt cx="7705800" cy="3168720"/>
          </a:xfrm>
        </p:grpSpPr>
        <p:sp>
          <p:nvSpPr>
            <p:cNvPr id="251" name=""/>
            <p:cNvSpPr/>
            <p:nvPr/>
          </p:nvSpPr>
          <p:spPr>
            <a:xfrm>
              <a:off x="1187280" y="1268280"/>
              <a:ext cx="770580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Nechť je dáno KČ: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     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a = a</a:t>
              </a:r>
              <a:r>
                <a:rPr b="0" lang="en-US" sz="3600" spc="-1" strike="noStrike" baseline="-25000">
                  <a:solidFill>
                    <a:srgbClr val="dddddd"/>
                  </a:solidFill>
                  <a:latin typeface="Times New Roman"/>
                </a:rPr>
                <a:t>1 </a:t>
              </a:r>
              <a:r>
                <a:rPr b="0" lang="en-US" sz="3600" spc="-1" strike="noStrike">
                  <a:solidFill>
                    <a:srgbClr val="dddddd"/>
                  </a:solidFill>
                  <a:latin typeface="Times New Roman"/>
                </a:rPr>
                <a:t>+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600" spc="-1" strike="noStrike" baseline="-25000">
                  <a:solidFill>
                    <a:srgbClr val="dddddd"/>
                  </a:solidFill>
                  <a:latin typeface="Times New Roman"/>
                </a:rPr>
                <a:t>2 </a:t>
              </a:r>
              <a:r>
                <a:rPr b="0" i="1" lang="en-US" sz="36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ak KČ k němu komplexně sdružené označujeme      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882000" indent="-882000">
                <a:lnSpc>
                  <a:spcPct val="150000"/>
                </a:lnSpc>
                <a:tabLst>
                  <a:tab algn="l" pos="0"/>
                  <a:tab algn="l" pos="2511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a lze je zapsat:                           .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4284720" y="3068640"/>
                  <a:ext cx="4255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4932360" y="3718080"/>
                  <a:ext cx="235908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1332000" y="5950080"/>
            <a:ext cx="7416720" cy="581400"/>
            <a:chOff x="1332000" y="5950080"/>
            <a:chExt cx="7416720" cy="581400"/>
          </a:xfrm>
        </p:grpSpPr>
        <p:sp>
          <p:nvSpPr>
            <p:cNvPr id="255" name=""/>
            <p:cNvSpPr/>
            <p:nvPr/>
          </p:nvSpPr>
          <p:spPr>
            <a:xfrm>
              <a:off x="1332000" y="5950080"/>
              <a:ext cx="741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689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poznámka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... čtěte „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s pruhem“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635280" y="6021360"/>
                  <a:ext cx="4255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7" name=""/>
          <p:cNvSpPr/>
          <p:nvPr/>
        </p:nvSpPr>
        <p:spPr>
          <a:xfrm>
            <a:off x="5724360" y="1486080"/>
            <a:ext cx="432000" cy="7189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35934">
                <a:moveTo>
                  <a:pt x="3600" y="0"/>
                </a:moveTo>
                <a:arcTo wR="3600" hR="3600" stAng="16200000" swAng="-5400000"/>
                <a:lnTo>
                  <a:pt x="0" y="32334"/>
                </a:lnTo>
                <a:arcTo wR="3600" hR="3600" stAng="10800000" swAng="-5400000"/>
                <a:lnTo>
                  <a:pt x="18000" y="35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1486080"/>
            <a:ext cx="79236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4581360"/>
            <a:ext cx="29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eálné části tvoří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hodná čísl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458136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imaginární části tvoří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508720" y="4437000"/>
            <a:ext cx="28728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730560" y="4437000"/>
            <a:ext cx="289080" cy="21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4360" y="3645000"/>
            <a:ext cx="432000" cy="7189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718920"/>
              <a:gd name="textAreaBottom" fmla="*/ 698040 h 718920"/>
            </a:gdLst>
            <a:ahLst/>
            <a:rect l="textAreaLeft" t="textAreaTop" r="textAreaRight" b="textAreaBottom"/>
            <a:pathLst>
              <a:path w="21600" h="35934">
                <a:moveTo>
                  <a:pt x="3600" y="0"/>
                </a:moveTo>
                <a:arcTo wR="3600" hR="3600" stAng="16200000" swAng="-5400000"/>
                <a:lnTo>
                  <a:pt x="0" y="32334"/>
                </a:lnTo>
                <a:arcTo wR="3600" hR="3600" stAng="10800000" swAng="-5400000"/>
                <a:lnTo>
                  <a:pt x="18000" y="35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3645000"/>
            <a:ext cx="86544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komplexně sdružené KČ k dané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1557360"/>
                <a:ext cx="165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76360" y="2205000"/>
                <a:ext cx="182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76360" y="2852640"/>
                <a:ext cx="1820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148360" y="1557360"/>
                <a:ext cx="1687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116680" y="2195640"/>
                <a:ext cx="1885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148360" y="2873520"/>
                <a:ext cx="1854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405080" y="3568680"/>
                <a:ext cx="1622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476360" y="422100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333440" y="4797360"/>
                <a:ext cx="1225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076720" y="3521160"/>
                <a:ext cx="16542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148360" y="4241880"/>
                <a:ext cx="109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078520" y="4749840"/>
                <a:ext cx="122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373040" y="5445000"/>
                <a:ext cx="1424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76720" y="5465880"/>
                <a:ext cx="14194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05080" y="6165720"/>
                <a:ext cx="1622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076720" y="6113520"/>
                <a:ext cx="1881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987640" y="6165720"/>
                <a:ext cx="15224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4221000"/>
                <a:ext cx="1054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556000" y="4797360"/>
                <a:ext cx="1555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32000" y="191628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vojice komplexně sdružených KČ tvoří kořeny kvadratických rovnic, jejichž diskriminant je záporný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549360"/>
            <a:ext cx="784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191628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800280"/>
                <a:tab algn="l" pos="2514600"/>
                <a:tab algn="l" pos="385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vojice komplexně sdružených KČ tvoří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kořen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kvadratických rovnic, jejichž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skrimina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záporný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187280" y="4292640"/>
            <a:ext cx="7956720" cy="1584000"/>
            <a:chOff x="1187280" y="4292640"/>
            <a:chExt cx="7956720" cy="1584000"/>
          </a:xfrm>
        </p:grpSpPr>
        <p:sp>
          <p:nvSpPr>
            <p:cNvPr id="290" name=""/>
            <p:cNvSpPr/>
            <p:nvPr/>
          </p:nvSpPr>
          <p:spPr>
            <a:xfrm>
              <a:off x="7020000" y="5300640"/>
              <a:ext cx="216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87280" y="4292640"/>
              <a:ext cx="795672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150000"/>
                </a:lnSpc>
                <a:buClr>
                  <a:srgbClr val="0099cc"/>
                </a:buClr>
                <a:buSzPct val="80000"/>
                <a:buFont typeface="Wingdings" charset="2"/>
                <a:buChar char=""/>
                <a:tabLst>
                  <a:tab algn="l" pos="2236680"/>
                  <a:tab algn="l" pos="3594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například, je-l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= 3 – 5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538200" indent="-538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2236680"/>
                  <a:tab algn="l" pos="3594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otom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 = 3 + 5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i = 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99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42920" y="76500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druhý kořen kvadratické rovnice, je-l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25600" y="1508040"/>
                <a:ext cx="1755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403280" y="2133720"/>
                <a:ext cx="17208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03280" y="2781360"/>
                <a:ext cx="16891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003560" y="1508040"/>
                <a:ext cx="1819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97160" y="3500280"/>
                <a:ext cx="1590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403280" y="4149720"/>
                <a:ext cx="1425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415880" y="4781520"/>
                <a:ext cx="10605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403280" y="5445000"/>
                <a:ext cx="2021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403280" y="6093000"/>
                <a:ext cx="1093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027320" y="2133720"/>
                <a:ext cx="1754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95640" y="2781360"/>
                <a:ext cx="1984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995640" y="3500280"/>
                <a:ext cx="1621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067280" y="4149720"/>
                <a:ext cx="1222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067280" y="5445000"/>
                <a:ext cx="2049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069800" y="4724280"/>
            <a:ext cx="45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nelze jednoznačně urč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69800" y="6021360"/>
            <a:ext cx="45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nelze jednoznačně urč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16000" y="26028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pačná KČ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87280" y="1557360"/>
            <a:ext cx="770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echť je dáno KČ: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     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  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ak KČ k němu opačné označujeme  –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846000" indent="-846000">
              <a:lnSpc>
                <a:spcPct val="15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lze je zapsat: 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 =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1773360"/>
            <a:ext cx="79236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16720" y="1773360"/>
            <a:ext cx="79200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4438800"/>
            <a:ext cx="29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eálné části tvoří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72360" y="458136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imaginární části tvoří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čísla opač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508720" y="4149360"/>
            <a:ext cx="35856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6804000" y="4149360"/>
            <a:ext cx="21600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3213000"/>
            <a:ext cx="79236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53080" y="18446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16720" y="3213000"/>
            <a:ext cx="792000" cy="792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792360"/>
              <a:gd name="textAreaBottom" fmla="*/ 753840 h 79236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40Z</dcterms:modified>
  <cp:revision>295</cp:revision>
  <dc:subject/>
  <dc:title>KČ</dc:title>
</cp:coreProperties>
</file>